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wmf" ContentType="image/x-wmf"/>
  <Override PartName="/ppt/media/image7.jpeg" ContentType="image/jpeg"/>
  <Override PartName="/ppt/media/image25.jpeg" ContentType="image/jpeg"/>
  <Override PartName="/ppt/media/image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37.png" ContentType="image/png"/>
  <Override PartName="/ppt/media/image48.jpeg" ContentType="image/jpeg"/>
  <Override PartName="/ppt/media/image38.wmf" ContentType="image/x-wmf"/>
  <Override PartName="/ppt/media/image28.jpeg" ContentType="image/jpeg"/>
  <Override PartName="/ppt/media/image40.jpeg" ContentType="image/jpeg"/>
  <Override PartName="/ppt/media/image44.png" ContentType="image/png"/>
  <Override PartName="/ppt/media/image41.jpeg" ContentType="image/jpeg"/>
  <Override PartName="/ppt/media/image45.png" ContentType="image/png"/>
  <Override PartName="/ppt/media/image46.jpeg" ContentType="image/jpeg"/>
  <Override PartName="/ppt/media/image47.png" ContentType="image/png"/>
  <Override PartName="/ppt/media/image49.jpeg" ContentType="image/jpeg"/>
  <Override PartName="/ppt/media/image31.jpeg" ContentType="image/jpeg"/>
  <Override PartName="/ppt/media/image32.jpeg" ContentType="image/jpeg"/>
  <Override PartName="/ppt/media/image51.png" ContentType="image/png"/>
  <Override PartName="/ppt/media/image30.jpeg" ContentType="image/jpeg"/>
  <Override PartName="/ppt/media/image35.png" ContentType="image/png"/>
  <Override PartName="/ppt/media/image43.jpeg" ContentType="image/jpeg"/>
  <Override PartName="/ppt/media/image5.png" ContentType="image/png"/>
  <Override PartName="/ppt/media/image29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53.wmf" ContentType="image/x-wmf"/>
  <Override PartName="/ppt/media/image13.png" ContentType="image/png"/>
  <Override PartName="/ppt/media/image4.png" ContentType="image/png"/>
  <Override PartName="/ppt/media/image34.png" ContentType="image/png"/>
  <Override PartName="/ppt/media/image12.jpeg" ContentType="image/jpeg"/>
  <Override PartName="/ppt/media/image9.jpeg" ContentType="image/jpeg"/>
  <Override PartName="/ppt/media/image36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7FCC-B3CC-4E4A-A076-6933CD253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electronic devices used in daily life involve input or outp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ng to the information in a computer always involves input or outp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devices translate our knowledge into computer langu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devices present computer language in a format we can underst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 and mark recognition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 – used by banks to read magnetically encoded charac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R – specially preprinted characters are read by OCR devices such as wand scan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MR (also called mark sensing) – devices sense the presence or absence of marks, common for test sc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devices create or capture original imag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ital camera –  similar to traditional cameras except images are recorded digitally on disk or camera’s memo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ital video camera – records motion digitally on a  disk or camera’s 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take still photos as we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-cams – specialized digital video cameras that capture images and send them to a computer to broadcast over the 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peech into digital code; most common device is the microphone; gaining in popularity are the portable digital voice recorders used with voice recognition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 recognition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phone, bundled with sound card and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oice recognition systems must be trained for user’s 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an translate from one language to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 bar in Microsoft Wo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 command mode – allows the user to select menu items, toolbars, and dialog box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tation mode – allows the user to dictate text directly into a Word 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I – a standard that allows musical instruments to connect to the system unit using MIDI por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s machine-readable information into people-readable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most common output types – text, graphics, audio, and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itors are commonly called display screens and the output is referred to as soft co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s indicate screen quality (resolution).  Some monitors are used on the desktop, others are por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 – one of the most important features; images are formed on a monitor by a series of dots or pixels (picture elemen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t pitch – the distance between each pixel; most newer monitors have a dot pitch of .31 mm (31/10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a millimeter) or 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esh rate – indicates how often a displayed image is updated or redrawn on the monitor; most monitors operate at a rate of 75 hertz which means that the monitor is redrawn 75 times each second; flickering indicates that the monitor rates are lower than 75 hert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– or viewable size is measured by the diagonal length of a monitor’s viewing are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sizes are 15, 17, 19, and 21 inch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hode-Ray Tubes – similar to television technology; are bulk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t-Panel Monitors – or liquid display (LCD) moni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sive-matrix or dual-scan – images created by scanning the entire sc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ve-matrix or thin film transistor (TFT) – each pixel is individually activ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Book – also called e-book readers; handheld, book sized; cost less than publishing and delivery of printed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projectors – similar to slide projectors; extension of 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DTV – merger of microcomputer and TV called PC/TV; output is digital so can freeze video sequences to create high-quality sti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ters translate information that has been processed by the system unit and present the information on pap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is called hard co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 – measures the clarity of images produc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in dpi (dots per in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rinters use an average of 1200 dpi; the higher the dpi, the better the quality of image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 capability – more expensive to print in color; usually have the option to print in either color or b/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 – measured in the number of pages printed per minu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15 pages per minute is the average for a single color page (black); 5 to 10 pages per minute for col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 – used to store printing instructions and documents waiting to be prin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jor types of printers:  ink-jet, laser, and thermal; most people are familiar with th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kjet printers spray ink at high speed onto the surface of pap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er printers uses a laser light beam to produce imag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pensive than ink jet pr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printers – uses heat elements to produce images on heat sensitive pap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produce high quality art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t-matrix – slow and not used much any more; poor quality but faster than some of newer pr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nois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expens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ters – special purpose for maps, images, architectural &amp; engineering draw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 printers – designed to print photographs from digital came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ble printers – usually small/lightweight and designed to work with a notebook computers; may be ink-jet or laser printer that prints in either b/w or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870C-68C0-401C-A770-12CA262D6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devices produce sounds for peop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ed to a sound card in the system un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 output is quite common; creating voice output is not as difficult as recognizing and interpreting voice 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ation devices include fax machines, multifunction devices, Internet telephones, and termi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telephone – specialized input and output devices for receiving and sending voice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 to the system unit through a USB po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phony – the transmission of telephone calls over computer networ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n as Voice over 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Internet rather than tra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tele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service provi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 c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softw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al is an input and output device that connects to a mainframe or a host compu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als – input and output device connecting users to mainframe comp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mb terminal –  no processor or local sto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lligent terminal – CPU, memory and storage; Net PC, or Net Personal Compu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terminal – low cost alternative to intelligent term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terminal – or Web terminal or Web appliance, accesses and displays Web pages on a television 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earchers have begun human trials that allow humans to control machines with their though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 machine interface is currently pursued as a way to allow those with certain disabilities to become functio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tudents turn to the end of Chapter 7 in their textbooks to view the same “Open-Ended” questions/sta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tudents turn to the end of Chapter 7 in their textbooks to view the same “Open-Ended” questions/sta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devices are hardware used to translate words, sounds, images, and actions that people understand into a form that the computer can underst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allows user to put their information into computer langu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are keyboard, mouse, “light” pens, and increasingly voic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boards come in a variety of des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ge from full-sized to miniature and from rigid to flex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itio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xible – fold or roll up fore easy packing or sto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gonomic keyboards – similar to traditio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board arrangement is not rectangular and a palm rest is provid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l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DA -  miniature keybo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eric key pad – used to enter numbers and arithmetic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ggle ke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 L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ation keys – perform an action when used with other key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RL k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DF83-4B64-440B-9B7C-52D61F682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 entry creates machine-readable data that can go directly to the CPU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ing devices mouse, joystick, touch screen, light pen, and styl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– traditional type; left/right button and mouse 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– has no moving par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ts and senses light to detect mouse mov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used on any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dless – battery power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radio waves or infrared light wav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ystick – input for computer gam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ch Screen – a kind of monitor with a clear plastic outer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y to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ly used at restaurants, ATMs, and information cent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en – a light sensitive pen-like 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s tablets – use a special graphics surface or tablet and a stylus; record sketches and tracings of maps and other drawing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by artist, mapmakers, and engine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ylus – uses pressure to draw images on a screen; interacts with a computer through handwriting recognition softw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ers move across text and imag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ces convert scanned data into a form the system unit can proc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  <a:tab algn="l" pos="9701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– known as a sca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  <a:tab algn="l" pos="9701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light, dark, and colored areas that make up individual letters or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  <a:tab algn="l" pos="9701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  <a:tab algn="l" pos="9701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tbed – much like a copy mach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  <a:tab algn="l" pos="9701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ble – typically a handheld device that slides across the image making direct conta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  <a:tab algn="l" pos="9701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 Code Rea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  <a:tab algn="l" pos="9701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ee these devices at the grocery s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  <a:tab algn="l" pos="9701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d scanner or platform sca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  <a:tab algn="l" pos="9701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s bar codes or vertical zebra striped marks printed on product contain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  <a:tab algn="l" pos="9701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s have a UPC (Universal Product C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C2853-92B4-4EA5-9C35-FBB0CF3D74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676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171E2-6833-4F77-900B-DAB7B0224A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55FE9-BF6B-47FB-B6C4-FD4B5AE289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3A75E-F628-42BE-8C77-1203B739A9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2C3DC-ECF4-4A4B-86D6-F2ED1E2C16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676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FF53A-7736-4A49-93F0-2D4CA4E92E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82384-61BD-457E-BC5B-4F23DE1046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CAC91-3BC6-4213-93D6-091E75B9EF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36634-52EC-495E-89EF-9FDF869223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F3C03-79BD-4E18-9DF8-A859EB27C5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BB162-5E66-44D9-AC63-FF4E9985D6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C4361-DC1E-4FDC-8483-7EDF085A9D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96503" b="86773"/>
          <a:stretch/>
        </p:blipFill>
        <p:spPr>
          <a:xfrm flipH="1" rot="5400000">
            <a:off x="4419360" y="2133000"/>
            <a:ext cx="304920" cy="9144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086240" y="6477120"/>
            <a:ext cx="1981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7-</a:t>
            </a:r>
            <a:fld id="{E4DB9A2A-8613-4651-90E8-21DA6C9062B7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7"/>
          <a:stretch/>
        </p:blipFill>
        <p:spPr>
          <a:xfrm>
            <a:off x="7686720" y="0"/>
            <a:ext cx="1380960" cy="41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rcRect l="0" t="0" r="96503" b="86773"/>
          <a:stretch/>
        </p:blipFill>
        <p:spPr>
          <a:xfrm flipH="1" rot="5400000">
            <a:off x="4419360" y="2133000"/>
            <a:ext cx="304920" cy="9144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6553080"/>
            <a:ext cx="9144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 Technology Education</a:t>
            </a: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© 2006 by the McGraw-Hill Companies, Inc.  All rights reserved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5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66"/>
              </a:buClr>
              <a:buSzPct val="5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1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2.png"/><Relationship Id="rId7" Type="http://schemas.openxmlformats.org/officeDocument/2006/relationships/image" Target="../media/image14.png"/><Relationship Id="rId8" Type="http://schemas.openxmlformats.org/officeDocument/2006/relationships/slide" Target="slide15.xml"/><Relationship Id="rId9" Type="http://schemas.openxmlformats.org/officeDocument/2006/relationships/image" Target="../media/image14.png"/><Relationship Id="rId10" Type="http://schemas.openxmlformats.org/officeDocument/2006/relationships/slide" Target="slide17.xml"/><Relationship Id="rId11" Type="http://schemas.openxmlformats.org/officeDocument/2006/relationships/image" Target="../media/image14.png"/><Relationship Id="rId12" Type="http://schemas.openxmlformats.org/officeDocument/2006/relationships/image" Target="../media/image11.jpeg"/><Relationship Id="rId13" Type="http://schemas.openxmlformats.org/officeDocument/2006/relationships/image" Target="../media/image38.wmf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39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2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41.jpeg"/><Relationship Id="rId11" Type="http://schemas.openxmlformats.org/officeDocument/2006/relationships/image" Target="../media/image42.jpeg"/><Relationship Id="rId12" Type="http://schemas.openxmlformats.org/officeDocument/2006/relationships/image" Target="../media/image43.jpeg"/><Relationship Id="rId13" Type="http://schemas.openxmlformats.org/officeDocument/2006/relationships/image" Target="../media/image44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45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4.png"/><Relationship Id="rId9" Type="http://schemas.openxmlformats.org/officeDocument/2006/relationships/image" Target="../media/image34.png"/><Relationship Id="rId10" Type="http://schemas.openxmlformats.org/officeDocument/2006/relationships/image" Target="../media/image34.png"/><Relationship Id="rId11" Type="http://schemas.openxmlformats.org/officeDocument/2006/relationships/image" Target="../media/image46.jpeg"/><Relationship Id="rId12" Type="http://schemas.openxmlformats.org/officeDocument/2006/relationships/image" Target="../media/image12.jpeg"/><Relationship Id="rId13" Type="http://schemas.openxmlformats.org/officeDocument/2006/relationships/image" Target="../media/image47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33.png"/><Relationship Id="rId9" Type="http://schemas.openxmlformats.org/officeDocument/2006/relationships/image" Target="../media/image49.jpe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50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" Target="slide5.xml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" Target="slide9.xml"/><Relationship Id="rId9" Type="http://schemas.openxmlformats.org/officeDocument/2006/relationships/image" Target="../media/image14.png"/><Relationship Id="rId10" Type="http://schemas.openxmlformats.org/officeDocument/2006/relationships/slide" Target="slide11.xml"/><Relationship Id="rId11" Type="http://schemas.openxmlformats.org/officeDocument/2006/relationships/image" Target="../media/image14.pn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1.jpeg"/><Relationship Id="rId9" Type="http://schemas.openxmlformats.org/officeDocument/2006/relationships/image" Target="../media/image22.png"/><Relationship Id="rId10" Type="http://schemas.openxmlformats.org/officeDocument/2006/relationships/image" Target="../media/image23.jpe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391520" y="380880"/>
            <a:ext cx="1447560" cy="2469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551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5400a8"/>
                </a:solidFill>
                <a:latin typeface="Arial Narrow"/>
              </a:rPr>
              <a:t>7</a:t>
            </a:r>
            <a:endParaRPr b="0" lang="en-US" sz="15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6201200">
            <a:off x="6249240" y="15224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fafff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91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391520" y="5562720"/>
            <a:ext cx="1380960" cy="4190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181480" y="30481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fafff"/>
                </a:solidFill>
                <a:latin typeface="Arial"/>
              </a:rPr>
              <a:t>INPUT AND OUTPUT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50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63680" y="263520"/>
            <a:ext cx="4608360" cy="585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Scanning Device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Page 2 of 2)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Character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mark recognition devic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canners that recognize special characters &amp; marks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Magnetic ink character recognition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(MICR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Optical-character recognition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(OCR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Optical-mark recognition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(OMR)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6934320" y="3505320"/>
            <a:ext cx="1638360" cy="24620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200400" y="60958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Times New Roman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85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07E43-B1BB-46C2-8B90-5FEA1FEA5A5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Image Capturing Device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Page 1 of 3)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Digital camer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mages recorded digitally on a disk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mages can be downloaded to a computer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Digital video camera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Records motion digitally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an take still images as wel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WebCam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pecialized digital video camera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Broadcast images over the Internet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0"/>
          <a:stretch/>
        </p:blipFill>
        <p:spPr>
          <a:xfrm>
            <a:off x="6858000" y="3200400"/>
            <a:ext cx="2031840" cy="3041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1"/>
          <a:stretch/>
        </p:blipFill>
        <p:spPr>
          <a:xfrm>
            <a:off x="7010280" y="1371600"/>
            <a:ext cx="1905120" cy="1143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8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AFA26-4053-401F-856B-CF78A1F946C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Audio-Input Devices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Page 2 of 3)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228600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Voi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Voice recognition system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Using the language bar in Microsoft Word you can switch between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voice command mode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dictation mode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to enter text and commands into documen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98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685800" y="3962520"/>
            <a:ext cx="5943600" cy="2133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87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6553080" y="3733920"/>
            <a:ext cx="1247760" cy="19904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477120" y="5715000"/>
            <a:ext cx="2971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Times New Roman"/>
              </a:rPr>
              <a:t>Portable Digital Voice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Times New Roman"/>
              </a:rPr>
              <a:t>Recorder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05320" y="2895480"/>
            <a:ext cx="609480" cy="1143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BACA3-DF31-45D0-A358-47636DF4F24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Audio-Input Devices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Page 3 of 3)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34340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MIDI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 - Musical Instrument Digital Interface is a standard that allows musical instruments to connect to the system unit in the form of encoded digital signals representing musical sound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57600" y="60199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629400" y="3200400"/>
            <a:ext cx="1257480" cy="25621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809880" y="464832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Yamaha MIDI Silent Cell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9880" y="518148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Yamaha MIDI Silent Cell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90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E61CA-BC6B-4199-9F21-53115FC4C90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What is Output?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Processed data or informa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ypes of outpu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ex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raphic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udio &amp; vide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Output devic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  <a:hlinkClick r:id="rId8" action="ppaction://hlinksldjump"/>
              </a:rPr>
              <a:t>Monito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  <a:hlinkClick r:id="rId10" action="ppaction://hlinksldjump"/>
              </a:rPr>
              <a:t>Printe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Other Devic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2"/>
          <a:stretch/>
        </p:blipFill>
        <p:spPr>
          <a:xfrm>
            <a:off x="4419720" y="3048120"/>
            <a:ext cx="2676240" cy="22302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3"/>
          <a:stretch/>
        </p:blipFill>
        <p:spPr>
          <a:xfrm>
            <a:off x="6858000" y="4038480"/>
            <a:ext cx="1690560" cy="18288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90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A5195-AE91-41DC-894E-B8CF67748CF6}" type="slidenum">
              <a:t>14</a:t>
            </a:fld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Monitor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Page 1 of 2)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Known as screens or display screen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Output referred to as soft copy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eatures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Resolution-pixel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Dot pitch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Refresh ra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Size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8"/>
          <a:stretch/>
        </p:blipFill>
        <p:spPr>
          <a:xfrm>
            <a:off x="4343400" y="2819520"/>
            <a:ext cx="3587760" cy="2949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9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C65D0-23C3-4436-B268-91BB6BFF713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905520" y="2666880"/>
            <a:ext cx="1462320" cy="22100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Monitor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Page 2 of 2)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41972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Cathode-ray tube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CR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Flat-pan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Require less power to opera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Portable and thinner than CR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Other monitor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E-book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Data projecto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High-definition television (HDTV)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0"/>
          <a:stretch/>
        </p:blipFill>
        <p:spPr>
          <a:xfrm>
            <a:off x="6248520" y="4191120"/>
            <a:ext cx="1511280" cy="11649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9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601992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1"/>
          <a:stretch/>
        </p:blipFill>
        <p:spPr>
          <a:xfrm>
            <a:off x="7467480" y="1371600"/>
            <a:ext cx="1447920" cy="15336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2"/>
          <a:stretch/>
        </p:blipFill>
        <p:spPr>
          <a:xfrm>
            <a:off x="6172200" y="1600200"/>
            <a:ext cx="1257480" cy="12477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3"/>
          <a:stretch/>
        </p:blipFill>
        <p:spPr>
          <a:xfrm>
            <a:off x="7315200" y="5029200"/>
            <a:ext cx="1828800" cy="148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1DC6E-344E-4B2C-865E-68F6BCEF6D2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Printer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Page 1 of 2)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ranslates information that has been processed by the system uni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Output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referred to as hard cop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eatur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Resolu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Color capabilit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Spe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Memor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93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8"/>
          <a:stretch/>
        </p:blipFill>
        <p:spPr>
          <a:xfrm>
            <a:off x="3581280" y="3505320"/>
            <a:ext cx="5181840" cy="238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0B923-9EEC-4902-8C88-1591CBBA2FF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Printer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Page 2 of 2)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nk-jet printer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Laser print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ersonal laser printe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hared laser printers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rmal print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Other printe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Dot-matrix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lotte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hoto printe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ortable printe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1"/>
          <a:stretch/>
        </p:blipFill>
        <p:spPr>
          <a:xfrm>
            <a:off x="4419720" y="3962520"/>
            <a:ext cx="3255840" cy="19652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94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2"/>
          <a:stretch/>
        </p:blipFill>
        <p:spPr>
          <a:xfrm>
            <a:off x="5867280" y="1219320"/>
            <a:ext cx="2371680" cy="23716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3"/>
          <a:stretch/>
        </p:blipFill>
        <p:spPr>
          <a:xfrm>
            <a:off x="7315200" y="3124080"/>
            <a:ext cx="1409760" cy="13906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581280" y="60958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Times New Roman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D7BB5-1ADB-46E7-85DA-560EC0013CA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920880"/>
            <a:ext cx="89917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Audio-Output Device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ranslates audio information from the computer into sounds that people can understan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ommon devic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peake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Headphon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5105520" y="2666880"/>
            <a:ext cx="2328840" cy="35816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9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05320" y="601992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96091-C32B-433F-9FFB-7DBBE464C8F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09880" y="4343400"/>
            <a:ext cx="2371680" cy="1876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ompetencies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Page 1 of 2)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fine inpu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scribe keyboard entry, pointing devices, &amp; scanning devic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iscuss image capturing devices, digitizing devices, &amp; audio input devic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2514600" y="4724280"/>
            <a:ext cx="1374840" cy="1752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5562720" y="4572000"/>
            <a:ext cx="2171520" cy="1457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78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B2A4A-CDE0-4004-B842-D96365155AA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ombination  Input and Output Device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any devices combine input and output capabilit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Fax machin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Multifunction devic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Internet telephon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known as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 Telephon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 Voice-over IP (VoIP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Three approach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Terminal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9"/>
          <a:stretch/>
        </p:blipFill>
        <p:spPr>
          <a:xfrm>
            <a:off x="5638680" y="2666880"/>
            <a:ext cx="2084400" cy="26100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9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F7326-0293-444E-810C-132EB15DD4CF}" type="slidenum">
              <a:t>20</a:t>
            </a:fld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Internet Telephone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534520" cy="472464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mputer-to comput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lace free phone calls when using a computer to send and also to receive via the Interne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oftware is available for free or very low co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mputer-to traditional telephon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lace the call from a computer to a phone using an Internet phone service provider that supplies the software for a small monthly fee and/or airtime fe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raditional telephone-to-traditional telephon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ubscription to an Internet phone service provider that supplies a special hardware adapter to connect a traditional phone to the Internet with a fee connected to servi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29000" y="59436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Times New Roman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97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9B7A7-C73A-45B3-800E-7843DF3F65D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Terminal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n input and output devic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onnects to a mainframe or serv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ypes of terminal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Dumb terminal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Intelligent termin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Network termin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Internet termin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97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8"/>
          <a:stretch/>
        </p:blipFill>
        <p:spPr>
          <a:xfrm>
            <a:off x="4800600" y="3429000"/>
            <a:ext cx="3581280" cy="22924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429000" y="60199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Times New Roman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2F172-C1A0-4D44-A4B5-BD0DD70843E4}" type="slidenum">
              <a:t>22</a:t>
            </a:fld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A Look to the Future</a:t>
            </a:r>
            <a:br>
              <a:rPr sz="4000"/>
            </a:b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lectronic Translators May Be in Your Future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lectronic Interpretation may soon exist to provide personal interpretation for foreign languages and imag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rototype portable handheld electronic interpreters are currently in a testing phase at the U.S. Office of Naval Researc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Creating is labor intensive using both linguists and programme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99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5257800" y="1828800"/>
            <a:ext cx="2847960" cy="406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50009-8633-4A00-A068-DCC32CBCE51A}" type="slidenum">
              <a:t>23</a:t>
            </a:fld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Discussion Question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Page 1 of 2)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fine input and output device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scribe the different types of pointing, scanning, image capturing, and audio-input device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scribe the three categories of output device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0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7543800" y="533520"/>
            <a:ext cx="1366920" cy="80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83D86-8194-4451-865A-7E5ACE60CC9B}" type="slidenum">
              <a:t>24</a:t>
            </a:fld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6" dur="1" fill="hold"/>
                                  <p:tgtEl>
                                    <p:spTgt spid="2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Discussion Question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Page 2 of 2)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fine input and output device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What are combination input and output devices?  Describe four such device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0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7467480" y="533520"/>
            <a:ext cx="1366920" cy="80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05819-9024-4C3B-A84E-95A1ED3FAF9A}" type="slidenum">
              <a:t>25</a:t>
            </a:fld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4" dur="1" fill="hold"/>
                                  <p:tgtEl>
                                    <p:spTgt spid="2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ompetencies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Page 2 of 2)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fine outpu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scribe monitors, printers, and audio output devic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iscuss combination input &amp; output devic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209680" y="3886200"/>
            <a:ext cx="2676600" cy="2230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3733920" y="4419720"/>
            <a:ext cx="1761840" cy="1761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5334120" y="4191120"/>
            <a:ext cx="2428920" cy="1600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78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B6F75-CFC8-42A9-87C6-6E6E5DE018B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What is Input?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ny data or instructions used by a comput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Input devic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Hardwar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5" action="ppaction://hlinksldjump"/>
              </a:rPr>
              <a:t>Keyboard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Pointing devic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8" action="ppaction://hlinksldjump"/>
              </a:rPr>
              <a:t>Scanne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10" action="ppaction://hlinksldjump"/>
              </a:rPr>
              <a:t>Other device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ranslates data into a form that the system unit can proces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2"/>
          <a:stretch/>
        </p:blipFill>
        <p:spPr>
          <a:xfrm>
            <a:off x="4114800" y="2514600"/>
            <a:ext cx="2511360" cy="1650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3"/>
          <a:stretch/>
        </p:blipFill>
        <p:spPr>
          <a:xfrm>
            <a:off x="6248520" y="3048120"/>
            <a:ext cx="2023920" cy="19746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80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BC8EF-8D62-433E-8758-BA0AB8687B17}" type="slidenum">
              <a:t>4</a:t>
            </a:fld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Keyboard Entry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Page 1 of 2)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Keyboard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Traditional keyboard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Flexible keyboard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Ergonomic keyboard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Wireless keyboard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PDA keyboard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eatur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ypewriter keyboard with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numeric keypa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pecial purpose key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Toggle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 and </a:t>
            </a: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combination keys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1"/>
          <a:stretch/>
        </p:blipFill>
        <p:spPr>
          <a:xfrm>
            <a:off x="4876920" y="2438280"/>
            <a:ext cx="1752480" cy="10652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2"/>
          <a:stretch/>
        </p:blipFill>
        <p:spPr>
          <a:xfrm>
            <a:off x="7696080" y="4419720"/>
            <a:ext cx="1052640" cy="17985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3"/>
          <a:stretch/>
        </p:blipFill>
        <p:spPr>
          <a:xfrm>
            <a:off x="6095880" y="3352680"/>
            <a:ext cx="1828800" cy="10954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80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28B2C-D603-4976-BE11-E612E837A4C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Traditional Keyboard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Page 2 of 2)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6370920" cy="3760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200400" y="57150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8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216FA-BF0B-44B1-9FCF-1ED21711EBF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920880"/>
            <a:ext cx="89917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Pointing Device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Page 1 of 2)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41972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Mous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Mechanic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Optical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Cordless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                                          or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wireles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Joystick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Touch Screen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Light Pen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8"/>
          <a:stretch/>
        </p:blipFill>
        <p:spPr>
          <a:xfrm>
            <a:off x="4495680" y="1219320"/>
            <a:ext cx="4648320" cy="1630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124080" y="6019920"/>
            <a:ext cx="2895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4572000" y="4267080"/>
            <a:ext cx="2162160" cy="1704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0"/>
          <a:stretch/>
        </p:blipFill>
        <p:spPr>
          <a:xfrm>
            <a:off x="6477120" y="3124080"/>
            <a:ext cx="2238120" cy="30006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1"/>
          <a:stretch/>
        </p:blipFill>
        <p:spPr>
          <a:xfrm>
            <a:off x="3886200" y="2514600"/>
            <a:ext cx="1460520" cy="1523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82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C3B15-4704-42C2-BB24-8BD5D73BDB8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Digitizing Device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Page 2 of 2)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8534520" cy="411480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Graphics Tablets</a:t>
            </a:r>
            <a:br>
              <a:rPr sz="3200"/>
            </a:b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Stylu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952880" y="1295280"/>
            <a:ext cx="2981520" cy="2114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6781680" y="3124080"/>
            <a:ext cx="1895760" cy="24768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84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81280" y="60199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B5560-DDCA-48E2-B3AD-FFF65EBA3E9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Scanning Device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Page 1 of 2)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19112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Optical scanner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Flatb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Portable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Bar code reader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Handheld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wand readers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or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platform scanne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ntain photoelectric cells that read bar code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7"/>
          <a:stretch/>
        </p:blipFill>
        <p:spPr>
          <a:xfrm>
            <a:off x="6095880" y="1219320"/>
            <a:ext cx="2438640" cy="16318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8"/>
          <a:stretch/>
        </p:blipFill>
        <p:spPr>
          <a:xfrm>
            <a:off x="4495680" y="2514600"/>
            <a:ext cx="2248200" cy="1467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9"/>
          <a:stretch/>
        </p:blipFill>
        <p:spPr>
          <a:xfrm>
            <a:off x="6705720" y="2971800"/>
            <a:ext cx="1942920" cy="12682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84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727A5-3E21-46A8-9410-771E00CEA64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1T16:08:26Z</dcterms:created>
  <dc:creator>McGraw-Hill Higher Education</dc:creator>
  <dc:description/>
  <dc:language>en-US</dc:language>
  <cp:lastModifiedBy>MHE</cp:lastModifiedBy>
  <dcterms:modified xsi:type="dcterms:W3CDTF">2005-01-19T18:52:39Z</dcterms:modified>
  <cp:revision>209</cp:revision>
  <dc:subject/>
  <dc:title>PowerPoint Presentation</dc:title>
</cp:coreProperties>
</file>