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wmf" ContentType="image/x-wmf"/>
  <Override PartName="/ppt/media/image7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7.png" ContentType="image/png"/>
  <Override PartName="/ppt/media/image48.jpeg" ContentType="image/jpeg"/>
  <Override PartName="/ppt/media/image38.wmf" ContentType="image/x-wmf"/>
  <Override PartName="/ppt/media/image28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png" ContentType="image/png"/>
  <Override PartName="/ppt/media/image46.jpeg" ContentType="image/jpeg"/>
  <Override PartName="/ppt/media/image47.png" ContentType="image/png"/>
  <Override PartName="/ppt/media/image49.jpeg" ContentType="image/jpeg"/>
  <Override PartName="/ppt/media/image31.jpeg" ContentType="image/jpeg"/>
  <Override PartName="/ppt/media/image32.jpeg" ContentType="image/jpeg"/>
  <Override PartName="/ppt/media/image51.png" ContentType="image/png"/>
  <Override PartName="/ppt/media/image30.jpeg" ContentType="image/jpeg"/>
  <Override PartName="/ppt/media/image35.png" ContentType="image/pn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53.wmf" ContentType="image/x-wmf"/>
  <Override PartName="/ppt/media/image13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9.jpeg" ContentType="image/jpeg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5ACA-4DAD-4C96-894A-699A522AA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lectronic devices used in daily life involve input or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ng to the information in a computer always involves input or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evices translate our knowledge into computer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devices present computer language in a format we can under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 and mark recognition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 – used by banks to read magnetically encoded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R – specially preprinted characters are read by OCR devices such as wand sca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R (also called mark sensing) – devices sense the presence or absence of marks, common for test sc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evices create or capture original im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camera –  similar to traditional cameras except images are recorded digitally on disk or camera’s mem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video camera – records motion digitally on a  disk or camera’s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still photos as we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cams – specialized digital video cameras that capture images and send them to a computer to broadcast over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peech into digital code; most common device is the microphone; gaining in popularity are the portable digital voice recorders used with voice recogni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recogni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phone, bundled with sound card and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oice recognition systems must be trained for user’s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n translate from one language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bar in Microsoft W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command mode – allows the user to select menu items, toolbars, and dialog box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ion mode – allows the user to dictate text directly into a Word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I – a standard that allows musical instruments to connect to the system unit using MIDI por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machine-readable information into people-readabl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ost common output types – text, graphics, audio, and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s are commonly called display screens and the output is referred to as sof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s indicate screen quality (resolution).  Some monitors are used on the desktop, others are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 – one of the most important features; images are formed on a monitor by a series of dots or pixels (picture ele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 pitch – the distance between each pixel; most newer monitors have a dot pitch of .31 mm (31/1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a millimeter)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esh rate – indicates how often a displayed image is updated or redrawn on the monitor; most monitors operate at a rate of 75 hertz which means that the monitor is redrawn 75 times each second; flickering indicates that the monitor rates are lower than 75 hert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– or viewable size is measured by the diagonal length of a monitor’s viewing ar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izes are 15, 17, 19, and 21 inc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-Ray Tubes – similar to television technology; are bulk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-Panel Monitors – or liquid display (LCD) mon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-matrix or dual-scan – images created by scanning the entire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-matrix or thin film transistor (TFT) – each pixel is individually activ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ook – also called e-book readers; handheld, book sized; cost less than publishing and delivery of printe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projectors – similar to slide projectors; extension of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TV – merger of microcomputer and TV called PC/TV; output is digital so can freeze video sequences to create high-quality sti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ers translate information that has been processed by the system unit and present the information on pa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is called hard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 – measures the clarity of images produc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pi (dots per in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nters use an average of 1200 dpi; the higher the dpi, the better the quality of image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capability – more expensive to print in color; usually have the option to print in either color or b/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– measured in the number of pages printed per min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5 pages per minute is the average for a single color page (black); 5 to 10 pages per minute for col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– used to store printing instructions and documents waiting to be prin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types of printers:  ink-jet, laser, and thermal; most people are familiar with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kjet printers spray ink at high speed onto the surface of pa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er printers uses a laser light beam to produce im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than ink jet pr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inters – uses heat elements to produce images on heat sensitive pa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produce high quality art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-matrix – slow and not used much any more; poor quality but faster than some of newer pr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nois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ters – special purpose for maps, images, architectural &amp; engineering draw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printers – designed to print photographs from digital came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printers – usually small/lightweight and designed to work with a notebook computers; may be ink-jet or laser printer that prints in either b/w or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F316-839C-4D4E-AC1A-9AD7FF4F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evices produce sounds for peo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to a sound card in the system 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output is quite common; creating voice output is not as difficult as recognizing and interpreting voice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 devices include fax machines, multifunction devices, Internet telephones, and ter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telephone – specialized input and output devices for receiving and sending voice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 to the system unit through a USB 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phony – the transmission of telephone calls over computer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Voice over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Internet rather than tra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tel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is an input and output device that connects to a mainframe or a host compu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s – input and output device connecting users to mainframe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mb terminal –  no processor or local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t terminal – CPU, memory and storage; Net PC, or Net Personal Compu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terminal – low cost alternative to intelligent 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terminal – or Web terminal or Web appliance, accesses and displays Web pages on a television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ers have begun human trials that allow humans to control machines with their though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machine interface is currently pursued as a way to allow those with certain disabilities to become func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7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7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evices are hardware used to translate words, sounds, images, and actions that people understand into a form that the computer can underst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allows user to put their information into computer langu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are keyboard, mouse, “light” pens, and increasingly voi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boards come in a variety of de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from full-sized to miniature and from rigid to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– fold or roll up fore easy packing o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gonomic keyboards – similar to tradi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board arrangement is not rectangular and a palm rest is provi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A -  miniature key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ic key pad – used to enter numbers and arithmet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ggle k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 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 keys – perform an action when used with other key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RL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3BC0-F61C-4E59-826F-894B9048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entry creates machine-readable data that can go directly to the CP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devices mouse, joystick, touch screen, light pen, and styl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– traditional type; left/right button and mous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– has no moving par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s and senses light to detect mouse mov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on any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less – battery pow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radio waves or infrared light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ystick – input for computer g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Screen – a kind of monitor with a clear plastic 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used at restaurants, ATMs, and information cen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n – a light sensitive pen-like 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tablets – use a special graphics surface or tablet and a stylus; record sketches and tracings of maps and other draw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artist, mapmakers, and engin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us – uses pressure to draw images on a screen; interacts with a computer through handwriting recognition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s move across text and im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s convert scanned data into a form the system unit ca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– known as a 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light, dark, and colored areas that make up individual letters o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bed – much like a copy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– typically a handheld device that slides across the image making direct conta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 Code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ee these devices at the grocery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d scanner or platform 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s bar codes or vertical zebra striped marks printed on product contain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 have a UPC (Universal Product 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510F-2B97-4131-8989-CC43B8A9C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D061-1357-4A16-B4F4-9BACB3CCD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70B0-ECDD-4ABC-831C-56EB9E74B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3504-C76F-4E11-862C-C227B5815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3D16-1384-4845-B912-66172665C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5798-91B2-43DC-AFCE-DB9918297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C431-3A17-4EAC-8A0F-B90DB52CF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E45B-EC91-457B-89C5-660E7B0AB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1B3D-FF74-4590-AE3D-137D00515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006F-BF11-4453-9317-9BFA8C1D6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807C-C403-4795-A6A6-3C19A7BF1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BCAB-B0EC-4370-85B7-0F53F6CC8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8624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7-</a:t>
            </a:r>
            <a:fld id="{4D3B85B9-D932-492A-B3D2-1473DE16AD3C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55308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5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14.png"/><Relationship Id="rId8" Type="http://schemas.openxmlformats.org/officeDocument/2006/relationships/slide" Target="slide15.xml"/><Relationship Id="rId9" Type="http://schemas.openxmlformats.org/officeDocument/2006/relationships/image" Target="../media/image14.png"/><Relationship Id="rId10" Type="http://schemas.openxmlformats.org/officeDocument/2006/relationships/slide" Target="slide17.xml"/><Relationship Id="rId11" Type="http://schemas.openxmlformats.org/officeDocument/2006/relationships/image" Target="../media/image14.png"/><Relationship Id="rId12" Type="http://schemas.openxmlformats.org/officeDocument/2006/relationships/image" Target="../media/image11.jpeg"/><Relationship Id="rId13" Type="http://schemas.openxmlformats.org/officeDocument/2006/relationships/image" Target="../media/image38.wmf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image" Target="../media/image43.jpe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46.jpeg"/><Relationship Id="rId12" Type="http://schemas.openxmlformats.org/officeDocument/2006/relationships/image" Target="../media/image12.jpeg"/><Relationship Id="rId13" Type="http://schemas.openxmlformats.org/officeDocument/2006/relationships/image" Target="../media/image47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3.pn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" Target="slide5.xml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" Target="slide9.xml"/><Relationship Id="rId9" Type="http://schemas.openxmlformats.org/officeDocument/2006/relationships/image" Target="../media/image14.png"/><Relationship Id="rId10" Type="http://schemas.openxmlformats.org/officeDocument/2006/relationships/slide" Target="slide11.xml"/><Relationship Id="rId11" Type="http://schemas.openxmlformats.org/officeDocument/2006/relationships/image" Target="../media/image14.pn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jpe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7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1200">
            <a:off x="6249240" y="1522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81480" y="3048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INPUT AND OUTPU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cann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haracter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ark recognition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canners that recognize special characters &amp; marks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agnetic ink character recogni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MICR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tical-character recogni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OCR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tical-mark recogni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OMR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6934320" y="3505320"/>
            <a:ext cx="1638360" cy="2462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00400" y="6095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8878-49C5-42E4-9E90-81C2EFF39B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mage Captur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3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gital came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mages recorded digitally on a disk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mages can be downloaded to a comput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gital video camera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cords motion digitall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n take still images as wel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ebCa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pecialized digital video camer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roadcast images over the Interne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6858000" y="3200400"/>
            <a:ext cx="2031840" cy="304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7010280" y="1371600"/>
            <a:ext cx="1905120" cy="114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6852-E68A-45FC-B843-A6FCDCF54BC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udio-Input Devices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3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2860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oice recognition syste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ing the language bar in Microsoft Word you can switch between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oice command mode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dictation mode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to enter text and commands into docu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85800" y="3962520"/>
            <a:ext cx="5943600" cy="2133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553080" y="3733920"/>
            <a:ext cx="1247760" cy="1990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5715000"/>
            <a:ext cx="2971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Portable Digital Voice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Record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895480"/>
            <a:ext cx="60948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7991-292F-4192-B9AF-BE30A26BBE2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udio-Input Devices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3 of 3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ID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- Musical Instrument Digital Interface is a standard that allows musical instruments to connect to the system unit in the form of encoded digital signals representing musical soun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3200400"/>
            <a:ext cx="1257480" cy="2562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9880" y="4648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amaha MIDI Silent Cell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51814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Yamaha MIDI Silent Cel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B5D0-525F-4276-852B-E6547DCABD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hat is Output?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ocessed data or inform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outpu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raph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udio &amp; vide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ut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8" action="ppaction://hlinksldjump"/>
              </a:rPr>
              <a:t>Monit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0" action="ppaction://hlinksldjump"/>
              </a:rPr>
              <a:t>Prin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ther De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419720" y="3048120"/>
            <a:ext cx="2676240" cy="2230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6858000" y="4038480"/>
            <a:ext cx="169056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A4F9-6EF6-4E6F-B7E5-376B6D69469B}" type="slidenum">
              <a:t>14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onitor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Known as screens or display scree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utput referred to as soft copy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eatur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solution-pixe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ot pitc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fresh r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iz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4343400" y="2819520"/>
            <a:ext cx="3587760" cy="2949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955B-C7C7-4ED3-AA13-8C9477ABE8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05520" y="2666880"/>
            <a:ext cx="1462320" cy="22100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onitor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4197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athode-ray tub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R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Flat-pan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quire less power to oper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ortable and thinner than CR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ther moni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-book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ata project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igh-definition television (HDTV)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6248520" y="4191120"/>
            <a:ext cx="1511280" cy="1164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60199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467480" y="1371600"/>
            <a:ext cx="1447920" cy="1533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1257480" cy="1247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3"/>
          <a:stretch/>
        </p:blipFill>
        <p:spPr>
          <a:xfrm>
            <a:off x="7315200" y="5029200"/>
            <a:ext cx="1828800" cy="14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5C20-8DE7-41A8-8EC8-1BE0229F3D0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inter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lates information that has been processed by the system un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Output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ferred to as hard cop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eat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sol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lor capabi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pe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emo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581280" y="3505320"/>
            <a:ext cx="5181840" cy="238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DA6D-435B-4ADA-BDF1-C00C53615C9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inter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k-jet print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ser prin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ersonal laser prin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hared laser printer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mal prin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ther prin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ot-matr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ot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hoto prin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ortable prin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>
            <a:off x="4419720" y="3962520"/>
            <a:ext cx="3255840" cy="1965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5867280" y="1219320"/>
            <a:ext cx="23716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3"/>
          <a:stretch/>
        </p:blipFill>
        <p:spPr>
          <a:xfrm>
            <a:off x="7315200" y="3124080"/>
            <a:ext cx="1409760" cy="1390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81280" y="60958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690F-3C8B-4EC3-A8F9-2C685355C61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920880"/>
            <a:ext cx="8991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udio-Output Devic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lates audio information from the computer into sounds that people can understan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mon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peak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eadph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105520" y="2666880"/>
            <a:ext cx="2328840" cy="3581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60199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2CD3-9DB7-40E0-B6A8-9F573561F54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4343400"/>
            <a:ext cx="2371680" cy="1876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inpu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keyboard entry, pointing devices, &amp; scanning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image capturing devices, digitizing devices, &amp; audio in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514600" y="4724280"/>
            <a:ext cx="137484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5562720" y="4572000"/>
            <a:ext cx="2171520" cy="1457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CACE-E654-4673-9632-F7D1519BB22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bination  Input and Output Devic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ny devices combine input and output capabil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ax machi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ultifunction de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et teleph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known as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Telephon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Voice-over IP (VoIP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Three approach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Termin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5638680" y="2666880"/>
            <a:ext cx="2084400" cy="2610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80B6-4403-4053-BBEC-6CBA5F194CF7}" type="slidenum">
              <a:t>20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nternet Telephon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72464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uter-to compu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ce free phone calls when using a computer to send and also to receive via the Intern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ftware is available for free or very low co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uter-to traditional teleph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ce the call from a computer to a phone using an Internet phone service provider that supplies the software for a small monthly fee and/or airtime fe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ditional telephone-to-traditional teleph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ubscription to an Internet phone service provider that supplies a special hardware adapter to connect a traditional phone to the Internet with a fee connected to serv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5943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F6F3-3CEB-4FFD-BFE4-68432508188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ermina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 input and output devi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nects to a mainframe or serv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termin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umb termina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lligent termi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Network termi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et termi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4800600" y="3429000"/>
            <a:ext cx="3581280" cy="2292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429000" y="6019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30F1-5F16-4C1D-90B1-114D23F58EAC}" type="slidenum">
              <a:t>22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lectronic Translators May Be in Your Future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lectronic Interpretation may soon exist to provide personal interpretation for foreign languages and ima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totype portable handheld electronic interpreters are currently in a testing phase at the U.S. Office of Naval Resear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eating is labor intensive using both linguists and programm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257800" y="1828800"/>
            <a:ext cx="284796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FE62-2CEF-4D9C-8E53-B8B34F444CB5}" type="slidenum">
              <a:t>23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input and output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different types of pointing, scanning, image capturing, and audio-input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three categories of output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0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7543800" y="533520"/>
            <a:ext cx="1366920" cy="80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AA3C-8B60-45ED-A285-EABCB6CAC233}" type="slidenum">
              <a:t>24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input and output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at are combination input and output devices?  Describe four such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0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467480" y="533520"/>
            <a:ext cx="1366920" cy="80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FAC6-BA50-4EB5-A926-6D5C9F0F1FC0}" type="slidenum">
              <a:t>25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outpu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monitors, printers, and audio out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combination input &amp; out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209680" y="3886200"/>
            <a:ext cx="2676600" cy="2230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733920" y="4419720"/>
            <a:ext cx="1761840" cy="1761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334120" y="41911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C2D8-1EAD-4986-9BDE-6E2CFF3EFD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hat is Input?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y data or instructions used by a compu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 action="ppaction://hlinksldjump"/>
              </a:rPr>
              <a:t>Keyboar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ointing devi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8" action="ppaction://hlinksldjump"/>
              </a:rPr>
              <a:t>Scann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0" action="ppaction://hlinksldjump"/>
              </a:rPr>
              <a:t>Other devic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nslates data into a form that the system unit can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4114800" y="2514600"/>
            <a:ext cx="2511360" cy="1650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6248520" y="3048120"/>
            <a:ext cx="2023920" cy="1974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DD20-9B95-496A-899B-B7BEAC32FB95}" type="slidenum">
              <a:t>4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Keyboard Entry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Keyboa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Traditional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lexible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rgonomic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DA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ypewriter keyboard with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umeric keyp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pecial purpose key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Toggle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combination keys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4876920" y="2438280"/>
            <a:ext cx="1752480" cy="1065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7696080" y="4419720"/>
            <a:ext cx="1052640" cy="1798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6095880" y="3352680"/>
            <a:ext cx="1828800" cy="1095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337E-B984-4D1A-9F72-8EAD0DCE7F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raditional Keyboard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370920" cy="3760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00400" y="57150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025C-5794-44B7-BE05-D0F8082B4A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920880"/>
            <a:ext cx="8991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oint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u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tica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rdles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or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Joysti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ouch Screen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Light Pen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4495680" y="1219320"/>
            <a:ext cx="4648320" cy="163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124080" y="6019920"/>
            <a:ext cx="2895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4572000" y="4267080"/>
            <a:ext cx="2162160" cy="1704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6477120" y="3124080"/>
            <a:ext cx="2238120" cy="3000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886200" y="251460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572C-32C7-4D58-A9CD-BB7361617D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gitiz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1148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raphics Tablets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tylu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2981520" cy="2114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781680" y="3124080"/>
            <a:ext cx="1895760" cy="2476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6019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3202-ACD6-4C54-B73F-1833E97F39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cann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911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Optical scann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latb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ortabl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Bar code read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ndhel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and reader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latform scann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tain photoelectric cells that read bar cod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6095880" y="1219320"/>
            <a:ext cx="2438640" cy="1631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48200" cy="146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6705720" y="2971800"/>
            <a:ext cx="1942920" cy="1268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802E-DED2-4049-ACD0-FAC82492C3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MHE</cp:lastModifiedBy>
  <dcterms:modified xsi:type="dcterms:W3CDTF">2005-01-19T18:52:39Z</dcterms:modified>
  <cp:revision>209</cp:revision>
  <dc:subject/>
  <dc:title>PowerPoint Presentation</dc:title>
</cp:coreProperties>
</file>