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FEE-CC5C-48AD-826D-B2D9A932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E99-B41C-49DD-B53C-38D3098B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873-02F8-449F-B8D8-7C290C13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C31-51A4-43A8-834B-0F3964B8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DDB-5B2B-4BF9-AFCA-D216FF0D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A41-3003-4E4A-8772-17C5960C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AA5-6AEC-47E6-B3E4-ECD12575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4C7-1706-4F22-999A-4D3BF516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A4F-5AF4-4546-8D0B-73C5EEE4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885-385E-4992-B14E-EA9F54D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F7F-43AA-4E18-A84B-41AD9DF0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447-F1CE-402E-B4F3-5220CAD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DC98-AFBA-4957-85FB-4668A9786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75040" y="650880"/>
            <a:ext cx="8776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cell cycl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rol of the cell cycl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ss of control- canc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is cell differentiation and why does it happen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is a stem cell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is cloning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mplications of clon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ImageLibrary1-17\12-CellCycle\12-12-CellCycleControl-L.gif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2890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46400" y="4100400"/>
            <a:ext cx="829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 phase drives G1 cell into mitosis, even thoug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 phase has not occurr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 + G1: G1 cell starts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 phase + G2: G2 will not undergo DNA synthe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039680" y="36684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arly 1970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22920" y="457200"/>
            <a:ext cx="847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. G1 varies the most among cell typ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rst of several checkpoints is see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etermines whether a cell will grow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ngle-celled organisms grow if enough nutrie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re prese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lticellular organisms must grow in a controll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ay: growth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itogens stimulate cells to go into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47480" y="519120"/>
            <a:ext cx="8085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ny growth factors have been describ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 they work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ind to tyrosine kinase recep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ctivate Ras pathway (a small membrane 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tein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scade of phosphorylation reactions, follow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y transcrip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passes into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06400" y="366840"/>
            <a:ext cx="76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I. G2 checkpoint (between G2 and M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NA synthesis must be complete and correc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may be arrested at this poi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s checkpoint tends to be more importa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 certain types of cells, e.g., fertiliz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rog eggs and certain strains of yeas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37720" y="442800"/>
            <a:ext cx="774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clin-dependent kinases (Cdk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rst discovered in  yeas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fferent kinds of cyclins; levels oscillate at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fferent stages of cycl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rol mechanism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ailability of cyclins vari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dk must be phosphorylat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clin and Cdk must be bound together to b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05160" y="747720"/>
            <a:ext cx="781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itial cyclin-Cdk complex is inactiv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series of phosphorylation and dephos-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horylation steps make it activ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mplex is called MPF (mitosis-promo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actor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esent in both mitosis and meio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ighly conserv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ImageLibrary1-17\12-CellCycle\12-14-G2CellCycleControl-L.gif"/>
          <p:cNvPicPr/>
          <p:nvPr/>
        </p:nvPicPr>
        <p:blipFill>
          <a:blip r:embed="rId1"/>
          <a:stretch/>
        </p:blipFill>
        <p:spPr>
          <a:xfrm>
            <a:off x="2576520" y="571680"/>
            <a:ext cx="39909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84400" y="3998880"/>
            <a:ext cx="24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PF activates 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mplex tha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grades cyclin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33280" y="366840"/>
            <a:ext cx="8645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1 checkpoint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b prevents cell moving into S phase by bind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 a transcription facto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en Rb is phoshporylated it cannot bind so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can move into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53 prevents damaged from dividing (by inhibit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b pathway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bnormalities in both genes are associated wi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ereditary forms of canc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46560" y="214200"/>
            <a:ext cx="767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II. Spindle assembly checkpoint, betwee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taphase and ana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cycle can be arrested if spindle fibers ar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t attached properly to chromatid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content\ch06\0048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23640" y="208080"/>
            <a:ext cx="8447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divis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karyotes- binary fiss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ne bacterium divides into two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ne circular chromosome replica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eforehan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wo identical daughter cells for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n take as little as 15 minu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NA is replicated before cell divis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atic cells- mito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wo identical daughter cell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rm cells- meio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ametes (sperm and eggs) whic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use to form a zygot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akes much long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85360" y="747720"/>
            <a:ext cx="7386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growth is usually tightly regulat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rols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act inhibition- cells will grow to 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rtain densit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nite number of cell divisio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atekeeper genes”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to-oncogenes- stimulate grow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make growth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respond to growth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2680" y="138240"/>
            <a:ext cx="809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ypes of proto-oncogen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owth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ceptors (G protein and tyrosine kinase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Kinas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dk-kinas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tant forms, oncogenes that promote cancer,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ave been identified in every categor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39720" y="671400"/>
            <a:ext cx="786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umor suppressors- inhibit cell grow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ncers occur when cells grow out of contro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vade and damage tissu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s themselves may not func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perl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es this happen? Mutations accumulat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 DN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58360" y="595440"/>
            <a:ext cx="8127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mutations occur in control genes, they can’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gulate cell grow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defects in particular genes are associat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ith specific cance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RCA-1 tumor suppressor gene associated wi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inherited breast cance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53- tumor suppressor- associated with man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lon, bladder, breast, brain, lung cance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(about half of all cancers!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content\ch06\0050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10360" y="519120"/>
            <a:ext cx="7910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about this “cell destruction”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amaged cell undergoes apoptosi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(programmed cell death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netically regulated- cell has genes that bo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mote and inhibit dea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es programmed cell death differ from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ath by injury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WINDOWS\DESKTOP\My Documents\immunofigs\kuby\CH02-J~1.ZIP\CH02-JPEG\F02-03.JPG"/>
          <p:cNvPicPr/>
          <p:nvPr/>
        </p:nvPicPr>
        <p:blipFill>
          <a:blip r:embed="rId1"/>
          <a:stretch/>
        </p:blipFill>
        <p:spPr>
          <a:xfrm>
            <a:off x="1614600" y="571680"/>
            <a:ext cx="59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88080" y="747720"/>
            <a:ext cx="8018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heritance of “cancer gene”: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ach cell has 2 copies of p53. If both becom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amaged, they lose control of cell growth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you inherit one “damaged” copy, you’re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alfway there!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utations occur over time- cancer is more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mmon in older peopl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ost cancer is NOT inherited; environmenta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amage causes most canc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45120" y="519120"/>
            <a:ext cx="7562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sorts of things cause this damage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xi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emical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ur bodies have many processes that repai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amaged DNA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82760" y="595440"/>
            <a:ext cx="7457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oid sun exposur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oid smoking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at moderately; consume fiber. Some food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y help prevent cancer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arly detection (especially important if you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ave a family history of cancer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26" descr="D:\ImageLibrary1-17\12-CellCycle\12-10-BinaryFission-L3.gif"/>
          <p:cNvPicPr/>
          <p:nvPr/>
        </p:nvPicPr>
        <p:blipFill>
          <a:blip r:embed="rId1"/>
          <a:stretch/>
        </p:blipFill>
        <p:spPr>
          <a:xfrm>
            <a:off x="2781360" y="571680"/>
            <a:ext cx="3581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01560" y="519120"/>
            <a:ext cx="783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s more is known about mechanisms of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ncontrolled cell growth, new treatme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rategies will emerg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emotherap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mmunotherap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Kinase inhibi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ngiogenesis inhibito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ne replacemen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6"/>
          <p:cNvSpPr/>
          <p:nvPr/>
        </p:nvSpPr>
        <p:spPr>
          <a:xfrm>
            <a:off x="534600" y="442800"/>
            <a:ext cx="8361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ukaryotic cells have several chromosom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umber varies among species (p. 138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umans have 46 (23 pairs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ploid organisms have pairs of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hromosome structure is complex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much of that chromosome actually contain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netic information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content\ch06\0355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content\CH03\0068l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24760" y="442800"/>
            <a:ext cx="7907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long does the cell cycle last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pends on the cel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em cells, embryonic cells- a few hour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(embryonic cells don’t really have G1 an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2- why?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cells divide very slowl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cells divide when induce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9720" y="595440"/>
            <a:ext cx="7538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 division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s grow during inter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NA is replicated during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vision of nucleus during M phase (mitosis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vision of cytoplasm (cytokinesis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grammed cell death (apoptosis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lls divide only a certain number of tim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nd then die (Hayflick limit)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ole of telomeres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36920" y="442800"/>
            <a:ext cx="7805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ntrol of cell cycle- by special proteins and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zymes that act as switche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1 checkpoint- stop, pause or go into S phase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me cells stop permanently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2 checkpoint- will cell divide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 checkpoint- formation of new cells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8:28:13Z</dcterms:created>
  <dc:creator>HCDuser</dc:creator>
  <dc:description/>
  <dc:language>en-US</dc:language>
  <cp:lastModifiedBy>Registered User</cp:lastModifiedBy>
  <dcterms:modified xsi:type="dcterms:W3CDTF">2012-10-03T09:00:17Z</dcterms:modified>
  <cp:revision>6</cp:revision>
  <dc:subject/>
  <dc:title>PowerPoint Presentation</dc:title>
</cp:coreProperties>
</file>