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B2D-F73A-43F4-A5C7-AF98104C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C96-6F59-4FF7-B219-4CCA3E6E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302-4C2A-43E6-AA5A-C2984AA2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5CE-851F-4974-BAAB-4DA15ED6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4F9-1C01-4E90-8759-AAAD9487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91A-2EF5-4F75-9BEA-15C59D33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E76-0457-4711-9064-169EB1D4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765-067A-437B-B7D3-374AC8AB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88B-0972-42F9-81A2-159209BA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045-DF3C-4D87-ABCD-90D3DF12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E0E-A84C-4A78-9FC1-D7EC878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48E-D751-4EBD-8F2D-5BD54FC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3A73-6A8A-4183-8D46-B1B8A0A8C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75040" y="650880"/>
            <a:ext cx="8776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cell cycl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rol of the cell cycl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ss of control- canc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is cell differentiation and why does it happen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is a stem cell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is cloning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mplications of clon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ImageLibrary1-17\12-CellCycle\12-12-CellCycleControl-L.gif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2890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46400" y="4100400"/>
            <a:ext cx="829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 phase drives G1 cell into mitosis, even thoug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 phase has not occurr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 + G1: G1 cell starts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 phase + G2: G2 will not undergo DNA synthe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039680" y="36684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arly 1970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22920" y="457200"/>
            <a:ext cx="847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. G1 varies the most among cell typ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rst of several checkpoints is see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etermines whether a cell will grow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ngle-celled organisms grow if enough nutri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re prese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lticellular organisms must grow in a controll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y: growth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itogens stimulate cells to go into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47480" y="519120"/>
            <a:ext cx="8085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y growth factors have been describ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 they work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ind to tyrosine kinase recep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ctivate Ras pathway (a small membrane 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tein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scade of phosphorylation reactions, follow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y transcri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passes into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06400" y="366840"/>
            <a:ext cx="76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I. G2 checkpoint (between G2 and M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NA synthesis must be complete and correc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may be arrested at this poi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s checkpoint tends to be more importa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 certain types of cells, e.g., fertiliz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rog eggs and certain strains of yeas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37720" y="442800"/>
            <a:ext cx="7742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clin-dependent kinases (Cdk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rst discovered in  yeas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fferent kinds of cyclins; levels oscillate at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fferent stages of cycl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rol mechanis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ailability of cyclins vari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dk must be phosphorylat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clin and Cdk must be bound together to b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05160" y="747720"/>
            <a:ext cx="781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itial cyclin-Cdk complex is inactiv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series of phosphorylation and dephos-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horylation steps make it activ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mplex is called MPF (mitosis-promot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actor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esent in both mitosis and meio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ighly conserv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ImageLibrary1-17\12-CellCycle\12-14-G2CellCycleControl-L.gif"/>
          <p:cNvPicPr/>
          <p:nvPr/>
        </p:nvPicPr>
        <p:blipFill>
          <a:blip r:embed="rId1"/>
          <a:stretch/>
        </p:blipFill>
        <p:spPr>
          <a:xfrm>
            <a:off x="2576520" y="571680"/>
            <a:ext cx="399096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84400" y="3998880"/>
            <a:ext cx="24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PF activates 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mplex tha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grades cycl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33280" y="366840"/>
            <a:ext cx="8645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1 checkpoi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b prevents cell moving into S phase by bind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 a transcription facto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en Rb is phoshporylated it cannot bind so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can move into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53 prevents damaged from dividing (by inhibit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b pathw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bnormalities in both genes are associated wi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ereditary forms of canc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46560" y="214200"/>
            <a:ext cx="767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II. Spindle assembly checkpoint, betwee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phase and ana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cycle can be arrested if spindle fibers ar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t attached properly to chromatid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content\ch06\0048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23640" y="208080"/>
            <a:ext cx="8447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divis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karyotes- binary fiss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ne bacterium divides into two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ne circular chromosome replic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eforehan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wo identical daughter cells for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n take as little as 15 minu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NA is replicated before cell divis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atic cells- mito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wo identical daughter cell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rm cells- meio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ametes (sperm and eggs) whic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use to form a zygot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akes much long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85360" y="747720"/>
            <a:ext cx="7386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growth is usually tightly regulat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rols: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act inhibition- cells will grow to 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rtain densit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nite number of cell divis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atekeeper genes”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to-oncogenes- stimulate grow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make growth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respond to growth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2680" y="138240"/>
            <a:ext cx="809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ypes of proto-oncogen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rowth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ceptors (G protein and tyrosine kinase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Kinas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dk-kinas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tant forms, oncogenes that promote cancer,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ave been identified in every categor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39720" y="671400"/>
            <a:ext cx="786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umor suppressors- inhibit cell grow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ncers occur when cells grow out of contro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vade and damage tissu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s themselves may not fun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perl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es this happen? Mutations accumulat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 DN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58360" y="595440"/>
            <a:ext cx="812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f mutations occur in control genes, they can’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gulate cell grow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defects in particular genes are associat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ith specific cance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RCA-1 tumor suppressor gene associated wi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inherited breast cance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53- tumor suppressor- associated with man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lon, bladder, breast, brain, lung cance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(about half of all cancers!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content\ch06\0050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10360" y="519120"/>
            <a:ext cx="7910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about this “cell destruction”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amaged cell undergoes apopto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(programmed cell death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netically regulated- cell has genes that bo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mote and inhibit dea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es programmed cell death differ fro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ath by injury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WINDOWS\DESKTOP\My Documents\immunofigs\kuby\CH02-J~1.ZIP\CH02-JPEG\F02-03.JPG"/>
          <p:cNvPicPr/>
          <p:nvPr/>
        </p:nvPicPr>
        <p:blipFill>
          <a:blip r:embed="rId1"/>
          <a:stretch/>
        </p:blipFill>
        <p:spPr>
          <a:xfrm>
            <a:off x="1614600" y="571680"/>
            <a:ext cx="59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88080" y="747720"/>
            <a:ext cx="8018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heritance of “cancer gene”: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ach cell has 2 copies of p53. If both becom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amaged, they lose control of cell grow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f you inherit one “damaged” copy, you’re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alfway there!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tations occur over time- cancer is more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mmon in older peopl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st cancer is NOT inherited; environmenta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amage causes most canc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45120" y="519120"/>
            <a:ext cx="7562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sorts of things cause this damage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emical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ur bodies have many processes that repai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amaged DN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82760" y="595440"/>
            <a:ext cx="7457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oid sun exposur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oid smok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at moderately; consume fiber. Some food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y help prevent cancer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arly detection (especially important if you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ave a family history of cancer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26" descr="D:\ImageLibrary1-17\12-CellCycle\12-10-BinaryFission-L3.gif"/>
          <p:cNvPicPr/>
          <p:nvPr/>
        </p:nvPicPr>
        <p:blipFill>
          <a:blip r:embed="rId1"/>
          <a:stretch/>
        </p:blipFill>
        <p:spPr>
          <a:xfrm>
            <a:off x="2781360" y="571680"/>
            <a:ext cx="3581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01560" y="519120"/>
            <a:ext cx="7832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s more is known about mechanisms of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ncontrolled cell growth, new treatme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rategies will emerg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emotherap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mmunotherap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Kinase inhibi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ngiogenesis inhibi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ne replaceme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6"/>
          <p:cNvSpPr/>
          <p:nvPr/>
        </p:nvSpPr>
        <p:spPr>
          <a:xfrm>
            <a:off x="534600" y="442800"/>
            <a:ext cx="8361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ukaryotic cells have several chromosom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umber varies among species (p. 138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umans have 46 (23 pairs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ploid organisms have pairs of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osome structure is complex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much of that chromosome actually contai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netic information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content\ch06\0355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content\CH03\0068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24760" y="442800"/>
            <a:ext cx="7907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long does the cell cycle last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pends on the cel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em cells, embryonic cells- a few hou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(embryonic cells don’t really have G1 an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2- why?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cells divide very slowl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cells divide when induc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9720" y="595440"/>
            <a:ext cx="7538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divis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s grow during inter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NA is replicated during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vision of nucleus during M phase (mitosis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vision of cytoplasm (cytokinesis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grammed cell death (apoptosis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s divide only a certain number of tim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nd then die (Hayflick limit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ole of telomeres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36920" y="442800"/>
            <a:ext cx="7805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rol of cell cycle- by special proteins an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zymes that act as switch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1 checkpoint- stop, pause or go into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cells stop permanentl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2 checkpoint- will cell divide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 checkpoint- formation of new cell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8:28:13Z</dcterms:created>
  <dc:creator>HCDuser</dc:creator>
  <dc:description/>
  <dc:language>en-US</dc:language>
  <cp:lastModifiedBy>Registered User</cp:lastModifiedBy>
  <dcterms:modified xsi:type="dcterms:W3CDTF">2012-10-03T09:00:17Z</dcterms:modified>
  <cp:revision>6</cp:revision>
  <dc:subject/>
  <dc:title>PowerPoint Presentation</dc:title>
</cp:coreProperties>
</file>