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wmf" ContentType="image/x-wmf"/>
  <Override PartName="/ppt/media/image27.jpeg" ContentType="image/jpeg"/>
  <Override PartName="/ppt/media/image10.png" ContentType="image/png"/>
  <Override PartName="/ppt/media/image5.wmf" ContentType="image/x-wmf"/>
  <Override PartName="/ppt/media/image31.png" ContentType="image/png"/>
  <Override PartName="/ppt/media/image29.png" ContentType="image/png"/>
  <Override PartName="/ppt/media/image35.png" ContentType="image/png"/>
  <Override PartName="/ppt/media/image9.png" ContentType="image/png"/>
  <Override PartName="/ppt/media/image37.wmf" ContentType="image/x-wmf"/>
  <Override PartName="/ppt/media/image38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wmf" ContentType="image/x-wmf"/>
  <Override PartName="/ppt/media/image24.wmf" ContentType="image/x-wmf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18B-C1CC-4A91-BD2E-385F45B9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6DE-7D6B-4301-9DBE-A9863910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D70-01EC-485F-8EFA-0211E31A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AFB-08CD-4881-B5C6-D009EA92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6E0C-9672-420B-AB2D-01696BF9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A2BF-3240-403B-AE46-019DC770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BCE5-40D8-4BEA-8C33-E02A24B6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F50E-3C82-4B6F-B53F-106F9FB6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B4AC-B0F3-4A14-8660-C2B89194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DE09-971C-4D30-A061-1EFB9ECF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0161-9DA7-4814-A94D-C89E11D5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49B-46E9-4C20-973D-7D16A3CB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5653-EFA4-4380-85A9-28E61A3F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A2BF-7A5B-4863-87B6-F1762CFF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EBFE-D8F3-439D-89BB-7B9671CA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5859-CBB9-4FA6-BF9A-B1781EEB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7730-C46F-44F7-AD07-BFF756C6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B3C-AFCA-4EB3-BD09-EDC5DDBF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ABC-F6C3-4B68-8693-804E0D99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B28A-5640-45CA-A6D6-C94AB342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9CB-CB8D-472E-84F0-BDB1FA2E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281-CA95-42DF-9ECD-41C83137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F82-04B4-4BFE-B81C-EFAF6DEF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D3C-160E-49A8-A3A8-36191B39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8B60-8B54-4065-8612-B3DDB6019D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C792-2D27-4154-9E50-EE09A2D9E4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llular Respi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living things nee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in the form o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Foo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chemic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energy=</a:t>
            </a: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bd00060_" descr=""/>
          <p:cNvPicPr/>
          <p:nvPr/>
        </p:nvPicPr>
        <p:blipFill>
          <a:blip r:embed="rId1"/>
          <a:stretch/>
        </p:blipFill>
        <p:spPr>
          <a:xfrm>
            <a:off x="1182600" y="21700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U08_09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044f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iz-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anaerobic gyl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2017800"/>
            <a:ext cx="5181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in the cell does gylcolysis occu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te of glucose in the beginning of gylcolysi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“it takes energy to make energy”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uch net ATP is ma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else is ma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types of ferment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86400" y="2017800"/>
            <a:ext cx="3657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uctose (isom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st 2 ATP ge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= 2 A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2 +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tate or alcoh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U08_04a" descr=""/>
          <p:cNvPicPr/>
          <p:nvPr/>
        </p:nvPicPr>
        <p:blipFill>
          <a:blip r:embed="rId1"/>
          <a:stretch/>
        </p:blipFill>
        <p:spPr>
          <a:xfrm>
            <a:off x="1676520" y="0"/>
            <a:ext cx="601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ochondrial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mpartmen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ner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tsa folds=…wh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uter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id…wh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bd10807_" descr=""/>
          <p:cNvPicPr/>
          <p:nvPr/>
        </p:nvPicPr>
        <p:blipFill>
          <a:blip r:embed="rId1"/>
          <a:stretch/>
        </p:blipFill>
        <p:spPr>
          <a:xfrm>
            <a:off x="1405080" y="2017800"/>
            <a:ext cx="3363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itochond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uble membr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it’s own DNA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produce in cell…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osymbiont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evolu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S02_10b" descr=""/>
          <p:cNvPicPr/>
          <p:nvPr/>
        </p:nvPicPr>
        <p:blipFill>
          <a:blip r:embed="rId1"/>
          <a:stretch/>
        </p:blipFill>
        <p:spPr>
          <a:xfrm>
            <a:off x="1143000" y="297000"/>
            <a:ext cx="758016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U08_05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c018f2" descr=""/>
          <p:cNvPicPr/>
          <p:nvPr/>
        </p:nvPicPr>
        <p:blipFill>
          <a:blip r:embed="rId1"/>
          <a:stretch/>
        </p:blipFill>
        <p:spPr>
          <a:xfrm>
            <a:off x="0" y="2533680"/>
            <a:ext cx="9144000" cy="4324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sible evolution of mitochondria-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endosymbio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82600" y="20178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02_10a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U08_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E04_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U08_03c" descr=""/>
          <p:cNvPicPr/>
          <p:nvPr/>
        </p:nvPicPr>
        <p:blipFill>
          <a:blip r:embed="rId1"/>
          <a:stretch/>
        </p:blipFill>
        <p:spPr>
          <a:xfrm>
            <a:off x="1295280" y="0"/>
            <a:ext cx="78487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ate of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YRUV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n into mit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n down t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E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2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s to large protein Coenzyme A t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acetyl Coenzym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S02_12" descr=""/>
          <p:cNvPicPr/>
          <p:nvPr/>
        </p:nvPicPr>
        <p:blipFill>
          <a:blip r:embed="rId1"/>
          <a:stretch/>
        </p:blipFill>
        <p:spPr>
          <a:xfrm>
            <a:off x="1371600" y="0"/>
            <a:ext cx="510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09_07" descr=""/>
          <p:cNvPicPr/>
          <p:nvPr/>
        </p:nvPicPr>
        <p:blipFill>
          <a:blip r:embed="rId1"/>
          <a:stretch/>
        </p:blipFill>
        <p:spPr>
          <a:xfrm>
            <a:off x="1523880" y="0"/>
            <a:ext cx="591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TCA or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KREBS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NADH &amp; FAD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more AT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bd07162_" descr=""/>
          <p:cNvPicPr/>
          <p:nvPr/>
        </p:nvPicPr>
        <p:blipFill>
          <a:blip r:embed="rId1"/>
          <a:stretch/>
        </p:blipFill>
        <p:spPr>
          <a:xfrm>
            <a:off x="1182600" y="2478240"/>
            <a:ext cx="381024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rebs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iz-Krebs cycle (TCA cycl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49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 reactan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produc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do we mean by nonmembrane react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NADH?  FAD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CoA and why is it import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23920" y="20178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yruvate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ATP, CO2, NADH, F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zymes not 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carr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cort molecule to Krebs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4400" spc="-1" strike="noStrike" baseline="30000">
                <a:solidFill>
                  <a:srgbClr val="333399"/>
                </a:solidFill>
                <a:latin typeface="Tahoma"/>
              </a:rPr>
              <a:t>rd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alternative pathwa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itochondri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ee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AD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duced in previous reac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ke more A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ts more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bd04912_" descr=""/>
          <p:cNvPicPr/>
          <p:nvPr/>
        </p:nvPicPr>
        <p:blipFill>
          <a:blip r:embed="rId1"/>
          <a:stretch/>
        </p:blipFill>
        <p:spPr>
          <a:xfrm>
            <a:off x="1440000" y="2017800"/>
            <a:ext cx="329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041f1" descr=""/>
          <p:cNvPicPr/>
          <p:nvPr/>
        </p:nvPicPr>
        <p:blipFill>
          <a:blip r:embed="rId1"/>
          <a:stretch/>
        </p:blipFill>
        <p:spPr>
          <a:xfrm>
            <a:off x="1600200" y="0"/>
            <a:ext cx="47005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990720" y="2057400"/>
            <a:ext cx="236196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AD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H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ADH?? FADH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NERGY CARRI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arrier to…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bd10428_" descr=""/>
          <p:cNvPicPr/>
          <p:nvPr/>
        </p:nvPicPr>
        <p:blipFill>
          <a:blip r:embed="rId1"/>
          <a:stretch/>
        </p:blipFill>
        <p:spPr>
          <a:xfrm>
            <a:off x="1182600" y="2933640"/>
            <a:ext cx="38102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S02_14" descr=""/>
          <p:cNvPicPr/>
          <p:nvPr/>
        </p:nvPicPr>
        <p:blipFill>
          <a:blip r:embed="rId1"/>
          <a:stretch/>
        </p:blipFill>
        <p:spPr>
          <a:xfrm>
            <a:off x="1295280" y="0"/>
            <a:ext cx="75438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c041f1" descr=""/>
          <p:cNvPicPr/>
          <p:nvPr/>
        </p:nvPicPr>
        <p:blipFill>
          <a:blip r:embed="rId1"/>
          <a:stretch/>
        </p:blipFill>
        <p:spPr>
          <a:xfrm>
            <a:off x="1600200" y="0"/>
            <a:ext cx="470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 Transport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S (cytochrome chain) is a series of reduction/oxidation re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nzym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ded in mitochondrial membra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h02837j" descr=""/>
          <p:cNvPicPr/>
          <p:nvPr/>
        </p:nvPicPr>
        <p:blipFill>
          <a:blip r:embed="rId1"/>
          <a:stretch/>
        </p:blipFill>
        <p:spPr>
          <a:xfrm>
            <a:off x="1182600" y="2600280"/>
            <a:ext cx="38102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TS--Chemiosm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Ox reactions pump H+ out of matrix to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compar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+ = acid…aha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bd05188_" descr=""/>
          <p:cNvPicPr/>
          <p:nvPr/>
        </p:nvPicPr>
        <p:blipFill>
          <a:blip r:embed="rId1"/>
          <a:stretch/>
        </p:blipFill>
        <p:spPr>
          <a:xfrm>
            <a:off x="1452600" y="2017800"/>
            <a:ext cx="327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miosm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+ can only “fall” back into matrix th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pecial enzyme/protein compl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P SYNTHASE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ess what that makes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…how much ATP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043f4" descr=""/>
          <p:cNvPicPr/>
          <p:nvPr/>
        </p:nvPicPr>
        <p:blipFill>
          <a:blip r:embed="rId1"/>
          <a:stretch/>
        </p:blipFill>
        <p:spPr>
          <a:xfrm>
            <a:off x="-609480" y="1066680"/>
            <a:ext cx="9753480" cy="5046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5867280" y="533520"/>
            <a:ext cx="2286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c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043f5" descr=""/>
          <p:cNvPicPr/>
          <p:nvPr/>
        </p:nvPicPr>
        <p:blipFill>
          <a:blip r:embed="rId1"/>
          <a:stretch/>
        </p:blipFill>
        <p:spPr>
          <a:xfrm>
            <a:off x="-457200" y="762120"/>
            <a:ext cx="9982080" cy="5648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57200" y="3200400"/>
            <a:ext cx="3581280" cy="16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P synth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U08_05b" descr="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041f4" descr=""/>
          <p:cNvPicPr/>
          <p:nvPr/>
        </p:nvPicPr>
        <p:blipFill>
          <a:blip r:embed="rId1"/>
          <a:stretch/>
        </p:blipFill>
        <p:spPr>
          <a:xfrm>
            <a:off x="0" y="1440"/>
            <a:ext cx="8915400" cy="6856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762120" y="1523880"/>
            <a:ext cx="7924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much ATP?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62120" y="304920"/>
            <a:ext cx="5105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TS mak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09_06" descr=""/>
          <p:cNvPicPr/>
          <p:nvPr/>
        </p:nvPicPr>
        <p:blipFill>
          <a:blip r:embed="rId1"/>
          <a:stretch/>
        </p:blipFill>
        <p:spPr>
          <a:xfrm>
            <a:off x="1828800" y="0"/>
            <a:ext cx="568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466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U08_02" descr=""/>
          <p:cNvPicPr/>
          <p:nvPr/>
        </p:nvPicPr>
        <p:blipFill>
          <a:blip r:embed="rId1"/>
          <a:stretch/>
        </p:blipFill>
        <p:spPr>
          <a:xfrm>
            <a:off x="0" y="209556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ukaryote vs Prokaryot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ycolytic pathw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c041f5" descr="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31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228600" y="685800"/>
            <a:ext cx="2971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ytoplasm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8600" y="3733920"/>
            <a:ext cx="3657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tochondri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ves to carbo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76920" y="2017800"/>
            <a:ext cx="40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a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2X calories/gm) but produc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ket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te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duces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mmoni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utilize some of each but in small amou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BD08911_" descr=""/>
          <p:cNvPicPr/>
          <p:nvPr/>
        </p:nvPicPr>
        <p:blipFill>
          <a:blip r:embed="rId1"/>
          <a:stretch/>
        </p:blipFill>
        <p:spPr>
          <a:xfrm>
            <a:off x="1182600" y="2281320"/>
            <a:ext cx="381024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are virtually all living things aerobes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’s lotsa O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ATP/gluco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ve enzymes (SOD, catalase, e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BD06529_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8102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Qui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eacta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aerobic respiration??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rodu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Equ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the three respiratory sta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n the cell do each occu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are the </a:t>
            </a: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product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of eac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y is oxygen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uch ATP is produced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erobic gylcolysi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erobic glycolysi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the 2 types of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er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karyot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mitochondria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 enzymes break down glucose-A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glucose=2 A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2 needed so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NAEROBI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,however…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bd05176_" descr=""/>
          <p:cNvPicPr/>
          <p:nvPr/>
        </p:nvPicPr>
        <p:blipFill>
          <a:blip r:embed="rId1"/>
          <a:stretch/>
        </p:blipFill>
        <p:spPr>
          <a:xfrm>
            <a:off x="1182600" y="2171880"/>
            <a:ext cx="38102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U08_04b" descr=""/>
          <p:cNvPicPr/>
          <p:nvPr/>
        </p:nvPicPr>
        <p:blipFill>
          <a:blip r:embed="rId1"/>
          <a:stretch/>
        </p:blipFill>
        <p:spPr>
          <a:xfrm>
            <a:off x="0" y="100332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U08_04d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U08_11a" descr=""/>
          <p:cNvPicPr/>
          <p:nvPr/>
        </p:nvPicPr>
        <p:blipFill>
          <a:blip r:embed="rId1"/>
          <a:stretch/>
        </p:blipFill>
        <p:spPr>
          <a:xfrm>
            <a:off x="1219320" y="0"/>
            <a:ext cx="673416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U08_10" descr=""/>
          <p:cNvPicPr/>
          <p:nvPr/>
        </p:nvPicPr>
        <p:blipFill>
          <a:blip r:embed="rId1"/>
          <a:stretch/>
        </p:blipFill>
        <p:spPr>
          <a:xfrm>
            <a:off x="914400" y="0"/>
            <a:ext cx="792468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2:30:10Z</dcterms:created>
  <dc:creator>terry shaw</dc:creator>
  <dc:description/>
  <dc:language>en-US</dc:language>
  <cp:lastModifiedBy>ZonaNet</cp:lastModifiedBy>
  <dcterms:modified xsi:type="dcterms:W3CDTF">2008-05-02T21:57:37Z</dcterms:modified>
  <cp:revision>20</cp:revision>
  <dc:subject/>
  <dc:title>PowerPoint Presentation</dc:title>
</cp:coreProperties>
</file>