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wmf" ContentType="image/x-wmf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8.wmf" ContentType="image/x-wmf"/>
  <Override PartName="/ppt/media/image27.jpeg" ContentType="image/jpeg"/>
  <Override PartName="/ppt/media/image10.png" ContentType="image/png"/>
  <Override PartName="/ppt/media/image5.wmf" ContentType="image/x-wmf"/>
  <Override PartName="/ppt/media/image31.png" ContentType="image/png"/>
  <Override PartName="/ppt/media/image29.png" ContentType="image/png"/>
  <Override PartName="/ppt/media/image35.png" ContentType="image/png"/>
  <Override PartName="/ppt/media/image9.png" ContentType="image/png"/>
  <Override PartName="/ppt/media/image37.wmf" ContentType="image/x-wmf"/>
  <Override PartName="/ppt/media/image38.wmf" ContentType="image/x-wmf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wmf" ContentType="image/x-wmf"/>
  <Override PartName="/ppt/media/image24.wmf" ContentType="image/x-wmf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CB0C-515F-4C30-8DE8-A8E730C6B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2B2A-4A74-497F-8A68-E4BD0A16B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200F-6A58-4E1C-97F8-04C6C8F0D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C7A2-C8F2-4D19-9E17-39E54374E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D7C92-E6C8-4462-974F-B261E7DB1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9737C-347C-49A9-B758-923FD9665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3192D-2294-46A2-B5C8-8900A6A34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58424-6283-4ED6-8BB9-2C6CD4C2F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8CDAB-F15D-4860-87E1-80D1F622B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F9374-DFD1-4527-8732-51834BAE5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DDEDC-9320-4400-BB59-190CC234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ED2F-655B-49E0-BAD2-76BD7A47D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C0D68-A0D9-4F7A-859F-0005AEDB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E3760-FE15-4701-A43A-0113A6FD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A6123-001F-4D30-BA0A-AE6216D2A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1C8B2-ED4A-4A92-9BF2-64D1813CE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EBC96-513B-47F1-BAD2-77D9471E0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F4A7-A8F1-4FB9-9499-A1E98517D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0E4A-F8A8-4BDE-B419-B25877ED7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F3AE-7ACB-4B7B-B3D9-DCA46B088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25F9-DD5F-45DE-B20C-BD3D54E3A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E8C2-C024-4E9A-B64E-3BA21811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8E4B-C76C-4615-A460-25ACC740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C3E7-46B6-4974-B341-EF6B450E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623F9-DD7C-44A1-AA40-B77A2800A6D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D2B84-5363-4025-9270-C38351552CF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ellular Respi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living things need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ergy in the form of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ahoma"/>
              </a:rPr>
              <a:t>Foo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chemical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energy=</a:t>
            </a:r>
            <a:r>
              <a:rPr b="1" i="1" lang="en-US" sz="4800" spc="-1" strike="noStrike">
                <a:solidFill>
                  <a:srgbClr val="000000"/>
                </a:solidFill>
                <a:latin typeface="Tahoma"/>
              </a:rPr>
              <a:t>ATP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bd00060_" descr=""/>
          <p:cNvPicPr/>
          <p:nvPr/>
        </p:nvPicPr>
        <p:blipFill>
          <a:blip r:embed="rId1"/>
          <a:stretch/>
        </p:blipFill>
        <p:spPr>
          <a:xfrm>
            <a:off x="1182600" y="217008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U08_09" descr=""/>
          <p:cNvPicPr/>
          <p:nvPr/>
        </p:nvPicPr>
        <p:blipFill>
          <a:blip r:embed="rId1"/>
          <a:stretch/>
        </p:blipFill>
        <p:spPr>
          <a:xfrm>
            <a:off x="0" y="0"/>
            <a:ext cx="9601200" cy="65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c044f1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iz-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anaerobic gylco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2017800"/>
            <a:ext cx="5181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 in the cell does gylcolysis occu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te of glucose in the beginning of gylcolysi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ain “it takes energy to make energy”?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much net ATP is mad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else is mad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 types of fermentati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486400" y="2017800"/>
            <a:ext cx="36576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ytopla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uctose (isom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est 2 ATP ge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= 2 A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2 + NAD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tate or alcoh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U08_04a" descr=""/>
          <p:cNvPicPr/>
          <p:nvPr/>
        </p:nvPicPr>
        <p:blipFill>
          <a:blip r:embed="rId1"/>
          <a:stretch/>
        </p:blipFill>
        <p:spPr>
          <a:xfrm>
            <a:off x="1676520" y="0"/>
            <a:ext cx="6010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itochondrial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mpartmen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nn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nner=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RI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tsa folds=…wh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uter=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id…wh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bd10807_" descr=""/>
          <p:cNvPicPr/>
          <p:nvPr/>
        </p:nvPicPr>
        <p:blipFill>
          <a:blip r:embed="rId1"/>
          <a:stretch/>
        </p:blipFill>
        <p:spPr>
          <a:xfrm>
            <a:off x="1405080" y="2017800"/>
            <a:ext cx="3363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Mitochondr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uble membr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 it’s own DNA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produce in cell…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osymbiont?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evoluti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S02_10b" descr=""/>
          <p:cNvPicPr/>
          <p:nvPr/>
        </p:nvPicPr>
        <p:blipFill>
          <a:blip r:embed="rId1"/>
          <a:stretch/>
        </p:blipFill>
        <p:spPr>
          <a:xfrm>
            <a:off x="1143000" y="297000"/>
            <a:ext cx="7580160" cy="65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U08_05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c018f2" descr=""/>
          <p:cNvPicPr/>
          <p:nvPr/>
        </p:nvPicPr>
        <p:blipFill>
          <a:blip r:embed="rId1"/>
          <a:stretch/>
        </p:blipFill>
        <p:spPr>
          <a:xfrm>
            <a:off x="0" y="2533680"/>
            <a:ext cx="9144000" cy="4324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sible evolution of mitochondria-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endosymbio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182600" y="2017800"/>
            <a:ext cx="3810240" cy="41148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S02_10a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U08_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E04_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U08_03c" descr=""/>
          <p:cNvPicPr/>
          <p:nvPr/>
        </p:nvPicPr>
        <p:blipFill>
          <a:blip r:embed="rId1"/>
          <a:stretch/>
        </p:blipFill>
        <p:spPr>
          <a:xfrm>
            <a:off x="1295280" y="0"/>
            <a:ext cx="784872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Fate of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YRUVA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ken into mitochond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oken down to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CET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2 produc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nds to large protein Coenzyme A to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e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acetyl Coenzyme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S02_12" descr=""/>
          <p:cNvPicPr/>
          <p:nvPr/>
        </p:nvPicPr>
        <p:blipFill>
          <a:blip r:embed="rId1"/>
          <a:stretch/>
        </p:blipFill>
        <p:spPr>
          <a:xfrm>
            <a:off x="1371600" y="0"/>
            <a:ext cx="5106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R09_07" descr=""/>
          <p:cNvPicPr/>
          <p:nvPr/>
        </p:nvPicPr>
        <p:blipFill>
          <a:blip r:embed="rId1"/>
          <a:stretch/>
        </p:blipFill>
        <p:spPr>
          <a:xfrm>
            <a:off x="1523880" y="0"/>
            <a:ext cx="591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TCA or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KREBS CYC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O2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NADH &amp; FADH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ahoma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more ATP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bd07162_" descr=""/>
          <p:cNvPicPr/>
          <p:nvPr/>
        </p:nvPicPr>
        <p:blipFill>
          <a:blip r:embed="rId1"/>
          <a:stretch/>
        </p:blipFill>
        <p:spPr>
          <a:xfrm>
            <a:off x="1182600" y="2478240"/>
            <a:ext cx="3810240" cy="31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rebs Cyc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iz-Krebs cycle (TCA cycl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360" y="2017800"/>
            <a:ext cx="4992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are the reactant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produce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do we mean by nonmembrane reaction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NADH?  FADH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CoA and why is it importan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23920" y="201780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yruvate (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 ATP, CO2, NADH, FAD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zymes not embe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ergy carr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cort molecule to Krebs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en-US" sz="4400" spc="-1" strike="noStrike" baseline="30000">
                <a:solidFill>
                  <a:srgbClr val="333399"/>
                </a:solidFill>
                <a:latin typeface="Tahoma"/>
              </a:rPr>
              <a:t>rd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alternative pathway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Mitochondri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O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ee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NAD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FAD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duced in previous reac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make more A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ts more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bd04912_" descr=""/>
          <p:cNvPicPr/>
          <p:nvPr/>
        </p:nvPicPr>
        <p:blipFill>
          <a:blip r:embed="rId1"/>
          <a:stretch/>
        </p:blipFill>
        <p:spPr>
          <a:xfrm>
            <a:off x="1440000" y="2017800"/>
            <a:ext cx="3294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c041f1" descr=""/>
          <p:cNvPicPr/>
          <p:nvPr/>
        </p:nvPicPr>
        <p:blipFill>
          <a:blip r:embed="rId1"/>
          <a:stretch/>
        </p:blipFill>
        <p:spPr>
          <a:xfrm>
            <a:off x="1600200" y="0"/>
            <a:ext cx="470052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990720" y="2057400"/>
            <a:ext cx="2361960" cy="26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NAD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AH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NADH?? FADH?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ENERGY CARRIER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FAD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arrier to…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" name="bd10428_" descr=""/>
          <p:cNvPicPr/>
          <p:nvPr/>
        </p:nvPicPr>
        <p:blipFill>
          <a:blip r:embed="rId1"/>
          <a:stretch/>
        </p:blipFill>
        <p:spPr>
          <a:xfrm>
            <a:off x="1182600" y="2933640"/>
            <a:ext cx="381024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S02_14" descr=""/>
          <p:cNvPicPr/>
          <p:nvPr/>
        </p:nvPicPr>
        <p:blipFill>
          <a:blip r:embed="rId1"/>
          <a:stretch/>
        </p:blipFill>
        <p:spPr>
          <a:xfrm>
            <a:off x="1295280" y="0"/>
            <a:ext cx="75438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c041f1" descr=""/>
          <p:cNvPicPr/>
          <p:nvPr/>
        </p:nvPicPr>
        <p:blipFill>
          <a:blip r:embed="rId1"/>
          <a:stretch/>
        </p:blipFill>
        <p:spPr>
          <a:xfrm>
            <a:off x="1600200" y="0"/>
            <a:ext cx="4700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 Transport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S (cytochrome chain) is a series of reduction/oxidation re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Enzym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ded in mitochondrial membra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ph02837j" descr=""/>
          <p:cNvPicPr/>
          <p:nvPr/>
        </p:nvPicPr>
        <p:blipFill>
          <a:blip r:embed="rId1"/>
          <a:stretch/>
        </p:blipFill>
        <p:spPr>
          <a:xfrm>
            <a:off x="1182600" y="2600280"/>
            <a:ext cx="381024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TS--Chemiosmo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Ox reactions pump H+ out of matrix to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compart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+ = acid…aha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0" name="bd05188_" descr=""/>
          <p:cNvPicPr/>
          <p:nvPr/>
        </p:nvPicPr>
        <p:blipFill>
          <a:blip r:embed="rId1"/>
          <a:stretch/>
        </p:blipFill>
        <p:spPr>
          <a:xfrm>
            <a:off x="1452600" y="2017800"/>
            <a:ext cx="3270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emiosmo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+ can only “fall” back into matrix thr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pecial enzyme/protein comple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TP SYNTHASE…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ess what that makes?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t…how much ATP?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c043f4" descr=""/>
          <p:cNvPicPr/>
          <p:nvPr/>
        </p:nvPicPr>
        <p:blipFill>
          <a:blip r:embed="rId1"/>
          <a:stretch/>
        </p:blipFill>
        <p:spPr>
          <a:xfrm>
            <a:off x="-609480" y="1066680"/>
            <a:ext cx="9753480" cy="50468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5867280" y="533520"/>
            <a:ext cx="22860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ci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c043f5" descr=""/>
          <p:cNvPicPr/>
          <p:nvPr/>
        </p:nvPicPr>
        <p:blipFill>
          <a:blip r:embed="rId1"/>
          <a:stretch/>
        </p:blipFill>
        <p:spPr>
          <a:xfrm>
            <a:off x="-457200" y="762120"/>
            <a:ext cx="9982080" cy="56480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457200" y="3200400"/>
            <a:ext cx="3581280" cy="163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TP synthas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U08_05b" descr=""/>
          <p:cNvPicPr/>
          <p:nvPr/>
        </p:nvPicPr>
        <p:blipFill>
          <a:blip r:embed="rId1"/>
          <a:stretch/>
        </p:blipFill>
        <p:spPr>
          <a:xfrm>
            <a:off x="0" y="228600"/>
            <a:ext cx="8839080" cy="68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c041f4" descr=""/>
          <p:cNvPicPr/>
          <p:nvPr/>
        </p:nvPicPr>
        <p:blipFill>
          <a:blip r:embed="rId1"/>
          <a:stretch/>
        </p:blipFill>
        <p:spPr>
          <a:xfrm>
            <a:off x="0" y="1440"/>
            <a:ext cx="8915400" cy="68565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762120" y="1523880"/>
            <a:ext cx="792468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ow much ATP??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762120" y="304920"/>
            <a:ext cx="51051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TS make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R09_06" descr=""/>
          <p:cNvPicPr/>
          <p:nvPr/>
        </p:nvPicPr>
        <p:blipFill>
          <a:blip r:embed="rId1"/>
          <a:stretch/>
        </p:blipFill>
        <p:spPr>
          <a:xfrm>
            <a:off x="1828800" y="0"/>
            <a:ext cx="5684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lyco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04664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U08_02" descr=""/>
          <p:cNvPicPr/>
          <p:nvPr/>
        </p:nvPicPr>
        <p:blipFill>
          <a:blip r:embed="rId1"/>
          <a:stretch/>
        </p:blipFill>
        <p:spPr>
          <a:xfrm>
            <a:off x="0" y="2095560"/>
            <a:ext cx="9144000" cy="47624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ukaryote vs Prokaryote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lycolytic pathway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c041f5" descr=""/>
          <p:cNvPicPr/>
          <p:nvPr/>
        </p:nvPicPr>
        <p:blipFill>
          <a:blip r:embed="rId1"/>
          <a:stretch/>
        </p:blipFill>
        <p:spPr>
          <a:xfrm>
            <a:off x="1905120" y="0"/>
            <a:ext cx="7238880" cy="6831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>
            <a:off x="228600" y="685800"/>
            <a:ext cx="29718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ytoplasm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28600" y="3733920"/>
            <a:ext cx="36576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itochondria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ternatives to carbo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876920" y="2017800"/>
            <a:ext cx="407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Fa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2X calories/gm) but produc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ket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rotei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duces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mmoni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utilize some of each but in small amou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BD08911_" descr=""/>
          <p:cNvPicPr/>
          <p:nvPr/>
        </p:nvPicPr>
        <p:blipFill>
          <a:blip r:embed="rId1"/>
          <a:stretch/>
        </p:blipFill>
        <p:spPr>
          <a:xfrm>
            <a:off x="1182600" y="2281320"/>
            <a:ext cx="3810240" cy="35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y are virtually all living things aerobes?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’s lotsa O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tochond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ATP/glucos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ve enzymes (SOD, catalase, et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3" name="BD06529_" descr=""/>
          <p:cNvPicPr/>
          <p:nvPr/>
        </p:nvPicPr>
        <p:blipFill>
          <a:blip r:embed="rId1"/>
          <a:stretch/>
        </p:blipFill>
        <p:spPr>
          <a:xfrm>
            <a:off x="609480" y="2514600"/>
            <a:ext cx="381024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Quiz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320" y="762120"/>
            <a:ext cx="8077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reacta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aerobic respiration??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Produc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? 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Equ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 the three respiratory stag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f01"/>
                </a:solidFill>
                <a:latin typeface="Tahoma"/>
              </a:rPr>
              <a:t>Wher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in the cell do each occu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at are the </a:t>
            </a:r>
            <a:r>
              <a:rPr b="1" lang="en-US" sz="2800" spc="-1" strike="noStrike">
                <a:solidFill>
                  <a:srgbClr val="ffcf01"/>
                </a:solidFill>
                <a:latin typeface="Tahoma"/>
              </a:rPr>
              <a:t>product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of each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hy is oxygen need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much ATP is produced b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erobic gylcolysi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erobic glycolysi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 the 2 types of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erment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?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karyote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mitochondria?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e enzymes break down glucose-A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 glucose=2 A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2 needed so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ANAEROBIC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,however…??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bd05176_" descr=""/>
          <p:cNvPicPr/>
          <p:nvPr/>
        </p:nvPicPr>
        <p:blipFill>
          <a:blip r:embed="rId1"/>
          <a:stretch/>
        </p:blipFill>
        <p:spPr>
          <a:xfrm>
            <a:off x="1182600" y="2171880"/>
            <a:ext cx="381024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U08_04b" descr=""/>
          <p:cNvPicPr/>
          <p:nvPr/>
        </p:nvPicPr>
        <p:blipFill>
          <a:blip r:embed="rId1"/>
          <a:stretch/>
        </p:blipFill>
        <p:spPr>
          <a:xfrm>
            <a:off x="0" y="1003320"/>
            <a:ext cx="914400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U08_04d" descr=""/>
          <p:cNvPicPr/>
          <p:nvPr/>
        </p:nvPicPr>
        <p:blipFill>
          <a:blip r:embed="rId1"/>
          <a:stretch/>
        </p:blipFill>
        <p:spPr>
          <a:xfrm>
            <a:off x="1143000" y="0"/>
            <a:ext cx="8001000" cy="69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U08_11a" descr=""/>
          <p:cNvPicPr/>
          <p:nvPr/>
        </p:nvPicPr>
        <p:blipFill>
          <a:blip r:embed="rId1"/>
          <a:stretch/>
        </p:blipFill>
        <p:spPr>
          <a:xfrm>
            <a:off x="1219320" y="0"/>
            <a:ext cx="6734160" cy="72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U08_10" descr=""/>
          <p:cNvPicPr/>
          <p:nvPr/>
        </p:nvPicPr>
        <p:blipFill>
          <a:blip r:embed="rId1"/>
          <a:stretch/>
        </p:blipFill>
        <p:spPr>
          <a:xfrm>
            <a:off x="914400" y="0"/>
            <a:ext cx="7924680" cy="69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2:30:10Z</dcterms:created>
  <dc:creator>terry shaw</dc:creator>
  <dc:description/>
  <dc:language>en-US</dc:language>
  <cp:lastModifiedBy>ZonaNet</cp:lastModifiedBy>
  <dcterms:modified xsi:type="dcterms:W3CDTF">2008-05-02T21:57:37Z</dcterms:modified>
  <cp:revision>20</cp:revision>
  <dc:subject/>
  <dc:title>PowerPoint Presentation</dc:title>
</cp:coreProperties>
</file>