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4.wmf" ContentType="image/x-wmf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535-668F-41CB-9416-B9F531DB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D78-A67C-4F0B-A7D1-E2B7F94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DF9-ABFD-489C-836C-2AEE587D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822-B2F5-491B-A8FF-F836C62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18AA-4682-4B16-80D7-5F347F18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8BBB-860B-412A-A7F6-5DF073E2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B1A-4732-4D69-9662-6EC990C1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78C0-0ADB-442B-855B-EBB8421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F5D2-9699-460A-8FA3-1A51424C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13AD-6F57-446C-8C46-A93516DF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AB57-9200-431A-A7BC-018ACA03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165-2E85-4831-AFA6-E61FC2EA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FFA-F1F7-4C48-AB0B-1C85F04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956E-23E7-43AC-8A28-2151E16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3C36-14D8-468D-A611-C4B6AF5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F75-71D6-4DF3-84D9-E8A3F28F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0DB1-4B1B-4E5B-B9C7-C2E9D7E4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C69-59EE-4C0A-9E56-E5DB30AB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3F9-3BC6-4FC8-BB1E-E42F0D7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684-F8CC-44CF-9ADB-E6E8000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0D6-40B6-4032-BABA-849C5E2B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8C6-680A-45A5-BBC9-9F1DCC6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40D-CC5F-4EAF-807F-CCBE4C9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5DC-C8EE-4E7B-A684-9BB47F5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CE49-43A8-443B-BC0C-E2F385F321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C272-494B-4855-9037-8722C95F93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hyperlink" Target="http://vcell.ndsu.nodak.edu/animations/etc/movie.htm" TargetMode="External"/><Relationship Id="rId6" Type="http://schemas.openxmlformats.org/officeDocument/2006/relationships/hyperlink" Target="http://vcell.ndsu.nodak.edu/animations/etc/movie.htm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0.jpeg"/><Relationship Id="rId6" Type="http://schemas.openxmlformats.org/officeDocument/2006/relationships/hyperlink" Target="http://vcell.ndsu.nodak.edu/animations/atpgradient/movie.htm" TargetMode="External"/><Relationship Id="rId7" Type="http://schemas.openxmlformats.org/officeDocument/2006/relationships/hyperlink" Target="http://vcell.ndsu.nodak.edu/animations/atpgradient/movie.htm" TargetMode="Externa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nors B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re do the 4 parts of Cellular Respiration take place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86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ycolysi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ytos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xidation of Pyruvat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ri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Krebs Cycle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ri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n Transport Chain and Cheimiosmotic Phosphoryl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ist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114800" y="1447920"/>
            <a:ext cx="468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rts of the Mitochondr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37520" y="30492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aerobic Respiration (no oxygen required, cytoplas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240" y="762120"/>
            <a:ext cx="25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lyco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ubstrate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98600" y="762120"/>
            <a:ext cx="47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uco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ATP (Net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0520" y="1905120"/>
            <a:ext cx="62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erobic Respiration (oxygen required, mitochondr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0920" y="2362320"/>
            <a:ext cx="229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 Oxi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yruva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18680" y="2438280"/>
            <a:ext cx="424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240" y="3581280"/>
            <a:ext cx="25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rebs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ubstrate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94920" y="3657600"/>
            <a:ext cx="3792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8040" y="4800600"/>
            <a:ext cx="25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chemiosmot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560" y="4952880"/>
            <a:ext cx="4752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 NAD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3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xyg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7320" y="6172200"/>
            <a:ext cx="26863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tal: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36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TP is made in two ways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ubstrate Level Phosphoryl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(glycolysis &amp; Krebs cycl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hemiosmotic Phosphoryl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(electron transport chai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ubstrate-Level Phosphoryl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ergy and phosphate are transferred to ADP using an enzyme, to form ATP.  Phosphate comes from one of the intermediate molecules produced from the breakdown of gluco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450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Glucose (C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) is split to make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2 Pyruvates (C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: ATP energy used to phosphorylate glucose (stored energy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: phosphorylated glucose broken down into two C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sugar phosphat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: the sugar phosphates are oxidized to yield electrons and H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ions which are donated to 2 NAD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2 NADH (stored electron and hydrogen for the Electron Transport Chain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4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th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: The energy from oxidation is used to make 4 ATP molecules (net 2 ATP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SzPct val="1935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Times New Roman"/>
              </a:rPr>
              <a:t>This is substrate level phosphorylation because an enzyme transfers phosphate to ADP making ATP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SzPct val="1935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Times New Roman"/>
              </a:rPr>
              <a:t>Glycolysis produces very little ATP energy, most energy is still stored in Pyruvate molecule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105520" y="838080"/>
            <a:ext cx="3695760" cy="5867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79440" y="838080"/>
            <a:ext cx="387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uco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ATP (Net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xidation of Pyruvate /Transition Reac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098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When Oxygen is prese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2 Pyruvates go to the matrix where they are converted into 2 Acetyl CoA (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ltienzyme complex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ach Pyruvate releases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o form Aceta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nd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cetate is oxidized and gives electrons and 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ons to   2 NAD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2 NADH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3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r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Acetate is combined with Coenzyme A to produce 2 Acetyl CoA molecul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NADH’s carry electrons and hydrogens to the Electron Transport Chain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962520" y="2057400"/>
            <a:ext cx="495288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1440" y="990720"/>
            <a:ext cx="424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Krebs Cycle / Citric Acid Cycl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8 Enzymatic Steps in Matrix of Mitochondria:  Break down and Oxidize each Acetyl CoA (2-C’s) to release 2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d yield electrons and 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ons to          3 NAD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+ 1 FA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3 NADH + FAD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his yields energy to produce ATP by substrate level phosphorylatio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first step of the Krebs cycle combines Oxaloacetate (4 C’s) with Acetyl CoA to form Citric Acid, then the remaining 7 steps ultimately recycle oxalaceta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wo Turn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of the Krebs Cycle are required to break down both Acetyl Coenzyme A molecul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Krebs cycle produces some chemical energy in the form of ATP but most of the chemical energy is in the form of NADH and FAD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which then go on to the Electron Transport Chai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4038840" cy="586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51720" y="762120"/>
            <a:ext cx="3792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lectron Transport Chai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DH and FAD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duced earlier, go to the Electron Transport Cha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DH and FAD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elease electrons to carriers/proteins embedded in the membrane of the cristae. As the electrons are transferred,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ons are pumped from the matrix to the intermembrane space up the concentration gradient.  Electrons are passed along a series of 9 carriers until they are ultimately donated to an Oxygen molecul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½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 2 electrons + 2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(from NADH and FAD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O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rcRect l="0" t="0" r="25238" b="0"/>
          <a:stretch/>
        </p:blipFill>
        <p:spPr>
          <a:xfrm>
            <a:off x="4191120" y="914400"/>
            <a:ext cx="4800600" cy="5648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8600" y="762120"/>
            <a:ext cx="4267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 NAD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3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xyg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001000" y="4343400"/>
            <a:ext cx="990720" cy="762120"/>
          </a:xfrm>
          <a:prstGeom prst="rtTriangle">
            <a:avLst/>
          </a:prstGeom>
          <a:solidFill>
            <a:srgbClr val="e1c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8120" y="6613560"/>
            <a:ext cx="3431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vcell.ndsu.nodak.edu/animations/etc/movi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hemiosmotic Phosphoryl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ydrogen ions travel down their concentration gradient through a channel protein coupled with an enzyme calle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TP Syntha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 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ons move into the matrix, energy is released and used to combine ADP + P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ydrogens are recycled and pumped back across the cristae using the Electron Transport Chai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P diffuses out of the mitochondria through channel proteins to be used by the cel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990720" y="685800"/>
            <a:ext cx="7086600" cy="3429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727440" y="6458040"/>
            <a:ext cx="395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vcell.ndsu.nodak.edu/animations/atpgradient/movi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P Synth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subunit complex with 4 par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to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spins as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ons flo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tato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holds the rotor and knob complex together in the crist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nternal Ro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extends between rotor and knob, spins when rotor spins which then turns the kno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Knob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contains 3 catalytic sites that when turned change shape and activate the enzyme used to make AT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43640" y="1295280"/>
            <a:ext cx="352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83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ocess of converting food energy into ATP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+ 6 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6 C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 + 6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O + 36 AT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33520" y="4400640"/>
            <a:ext cx="1828800" cy="2000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172200" y="4097160"/>
            <a:ext cx="25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590920" y="3759120"/>
            <a:ext cx="34290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view ATP Produc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 Glycolysi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) Oxidation of Pyruvat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No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3) The Krebs Cycl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) The Electron Transport Chain and Chemiosmotic Phosphorylatio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ch NADH produces 2-3 ATP so    10 NADH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28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ch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duces 2 ATP so        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tal = 36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Glucose = 686 k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TP = 7.3 k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Glucos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36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ow efficient are cells at converting glucose into AT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38% of the energy from glucose yields ATP, therefore 62% wasted as heat  (used to maintain body temperature or is dissipate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x. Most efficient Cars: only 25% of the energy from gasoline is used to move the car, 75% hea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5248440" y="1143000"/>
            <a:ext cx="3895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ll Types of Molecules can be used  to form ATP by Cell Respiration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ins, Carbohydrates, and Lipids must first be broken down into their monomers and absorbed in the small intesti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omers may be further broken down into intermediate molecules before entering different parts of Cell respiration to ultimately form AT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284800" y="167652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naerobic Respiration: Ferment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there is NO oxygen, then cells can make ATP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er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thout oxygen, Oxidation of Pyruvate and the Electron Transport Chain do not oper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lucose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yruvate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Lactat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AD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lycolysi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 NADH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duction Rx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 ATP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Alcohol +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rmentation yields a net gain of 2 ATP by substrate level phosphorylation for every 1 Glucose. (Inefficien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wo Forms of Ferment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ctic Acid Fermentation (animal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cohol Fermentation (yeas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230880" y="3581280"/>
            <a:ext cx="2913120" cy="3429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0" y="52578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209680" y="5257800"/>
            <a:ext cx="2210040" cy="1473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419720" y="4343400"/>
            <a:ext cx="1863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hy are both Photosynthesis and Cell Respiration important to Ecosystems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ght is the ultimate source of energy for all ecosyste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s cycle and Energy flow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otosynthesis and cellular respiration are opposite rea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952880" y="1371600"/>
            <a:ext cx="3944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y do plants need both chloroplasts and mitochondria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loroplasts use energy from the sun to make gluco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tochondria convert glucose to ATP—the energy currency of the c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944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TP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Adenosine Triphosph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-Carbon sugar (Rib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itrogenous base (Adenin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 Phosphate grou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ergy currency of the ce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hemical bonds that link the phosphate groups together are high energy bo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a phosphate group is removed to form ADP and P, small packets of energy are rele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648320" y="1676520"/>
            <a:ext cx="4267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is ATP use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 ATP is broken down, it gives off usable energy to power chemical work and gives off some nonusable energy as he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nthesizing molecules for growth and reprod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port work – active transport, endocytosis, and exocyto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chanical work – muscle contraction, cilia and flagella movement, organelle mov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85800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591080" y="2381400"/>
            <a:ext cx="44766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y use ATP energy and not energy from glucose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aking down glucose yields too much energy for cellular reactions and most of the energy would be wasted as he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Glucose = 686 k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TP = 7.3 k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Gluc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How efficient are cells at converting glucose into ATP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% of the energy from glucose yields ATP, therefore 62% wasted as he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ellular Respiration is a Redox Reac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6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6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6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xid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loss of electrons or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du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gain of electrons or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is oxidized when electrons and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passed to coenzymes NA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FAD before reducing or passing them to oxyg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is oxidiz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ries of smaller ste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 that smaller packets of energy are released to make ATP, rather than one large explosion of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7524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1143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981080"/>
            <a:ext cx="3124080" cy="380880"/>
            <a:chOff x="3657600" y="1981080"/>
            <a:chExt cx="3124080" cy="380880"/>
          </a:xfrm>
        </p:grpSpPr>
        <p:sp>
          <p:nvSpPr>
            <p:cNvPr id="187" name=""/>
            <p:cNvSpPr/>
            <p:nvPr/>
          </p:nvSpPr>
          <p:spPr>
            <a:xfrm>
              <a:off x="3657600" y="198108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600" y="236196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781680" y="20574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838080"/>
            <a:ext cx="3657600" cy="685800"/>
            <a:chOff x="1600200" y="838080"/>
            <a:chExt cx="3657600" cy="685800"/>
          </a:xfrm>
        </p:grpSpPr>
        <p:sp>
          <p:nvSpPr>
            <p:cNvPr id="191" name=""/>
            <p:cNvSpPr/>
            <p:nvPr/>
          </p:nvSpPr>
          <p:spPr>
            <a:xfrm flipV="1">
              <a:off x="1600200" y="1142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114264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89200" y="83808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Oxidatio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18800" y="23623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Redu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248520" y="243828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ell Respiration can be divided into 4 Part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 Glycoly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 Oxidation of Pyruvate / Transition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) The Krebs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) The Electron Transport Chain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osmotic Phosphory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57909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0:57:59Z</dcterms:created>
  <dc:creator> </dc:creator>
  <dc:description/>
  <dc:language>en-US</dc:language>
  <cp:lastModifiedBy>ZonaNet</cp:lastModifiedBy>
  <dcterms:modified xsi:type="dcterms:W3CDTF">2008-05-02T20:00:08Z</dcterms:modified>
  <cp:revision>41</cp:revision>
  <dc:subject/>
  <dc:title>Cellular Respiration</dc:title>
</cp:coreProperties>
</file>