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892-FE61-415F-964B-A3C38873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D1A-59BD-42E7-8390-9F48B70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91B-3715-4910-9B6B-811CA9B4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D81-EF54-4EF0-BE0D-B58A43E0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A22-485B-449B-9413-A355050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4BF-1E9C-4863-A10B-A667496D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E22-4AFC-4256-B759-DEB61AF2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54B-C520-4E9C-A19C-9CD9264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B2C-80CC-4328-9A9B-5943BDEB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D6C-EACE-48AF-B23A-F2C6607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254-FCF3-4BB5-9F4A-A3DABD65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F2D-9645-43E9-B73F-833030E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D2C-0967-45CA-9D65-F40F8ED3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lar.hw.ac.uk/site/biology/activity3.asp?outline=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instruct1.cit.cornell.edu/Courses/biomi290/MOVIES/GLYCOLYSIS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hyperlink" Target="http://instruct1.cit.cornell.edu/Courses/biomi290/MOVIES/GLYCOLYSIS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8.xm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cd.ie/Biochemistry/IUBMB-Nicholson/atpase.html" TargetMode="External"/><Relationship Id="rId3" Type="http://schemas.openxmlformats.org/officeDocument/2006/relationships/hyperlink" Target="http://www2.nl.edu/jste/Knadets.swf" TargetMode="External"/><Relationship Id="rId4" Type="http://schemas.openxmlformats.org/officeDocument/2006/relationships/hyperlink" Target="http://www2.nl.edu/jste/Kfadets.swf" TargetMode="External"/><Relationship Id="rId5" Type="http://schemas.openxmlformats.org/officeDocument/2006/relationships/hyperlink" Target="http://highered.mcgraw-hill.com/sites/dl/free/0072437316/120071/bio11.swf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image" Target="../media/image17.jpeg"/><Relationship Id="rId10" Type="http://schemas.openxmlformats.org/officeDocument/2006/relationships/image" Target="../media/image2.jpeg"/><Relationship Id="rId11" Type="http://schemas.openxmlformats.org/officeDocument/2006/relationships/hyperlink" Target="http://science.nhmccd.edu/biol/tutorial.html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0240" y="2071800"/>
            <a:ext cx="384336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39400" y="342720"/>
            <a:ext cx="68137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  <a:hlinkClick r:id="rId2"/>
              </a:rPr>
              <a:t>Cellular Respir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y Shelley Penrod and RM Ch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4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6160" y="2860560"/>
            <a:ext cx="4857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8600" y="5630400"/>
            <a:ext cx="52880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lycolysis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9760" y="41338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4105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560" y="44514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13400" y="544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7240" y="53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15760" y="56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8106200">
            <a:off x="1964880" y="1671840"/>
            <a:ext cx="127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P + 2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7991600">
            <a:off x="3123360" y="1662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H    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7886000">
            <a:off x="4627080" y="1908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12560" y="57261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return to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951400">
            <a:off x="1809720" y="1918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7744400">
            <a:off x="2723760" y="1692360"/>
            <a:ext cx="9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093 -0.00208 E">
                                      <p:cBhvr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7080" y="-360"/>
            <a:ext cx="79725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yruvic Acid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erobic or 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95560" y="946080"/>
            <a:ext cx="6873840" cy="488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15280" y="9493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720" y="2952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06600" y="3206520"/>
            <a:ext cx="1378080" cy="14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000" y="29224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161040" y="3155760"/>
            <a:ext cx="957240" cy="14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12080" y="29559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 of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4800" y="4100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3240" y="4361040"/>
            <a:ext cx="914400" cy="14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44600" y="41482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48600" y="3973680"/>
            <a:ext cx="258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les(lactic ac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st (alcoh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823000" y="4137120"/>
            <a:ext cx="623880" cy="23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7680" y="4376880"/>
            <a:ext cx="654120" cy="12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71560" y="0"/>
            <a:ext cx="7943760" cy="2847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850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13179" r="0" b="0"/>
          <a:stretch/>
        </p:blipFill>
        <p:spPr>
          <a:xfrm>
            <a:off x="1157400" y="3017880"/>
            <a:ext cx="6172200" cy="300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56240" y="26701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71720" y="41655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86000" y="5427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act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0800" y="6038640"/>
            <a:ext cx="82152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  <a:hlinkClick r:id="rId4"/>
              </a:rPr>
              <a:t>Anaerob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Respiration Fer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991600">
            <a:off x="3779280" y="33984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    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7606400">
            <a:off x="5251320" y="572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81640" y="426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62680" y="504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244800">
            <a:off x="3775320" y="3261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H   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7996400">
            <a:off x="4686120" y="35676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P +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62560" y="17460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7800" y="3412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6560" y="68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09840" y="268920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ctic Acid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19 L -0.45573 0.39144 E">
                                      <p:cBhvr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10312 0.53542 E">
                                      <p:cBhvr>
                                        <p:cTn id="16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48555E-006 L -0.04445 -0.5096 E">
                                      <p:cBhvr>
                                        <p:cTn id="19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85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71560" y="0"/>
            <a:ext cx="7943760" cy="284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4862" t="12235" r="10787" b="0"/>
          <a:stretch/>
        </p:blipFill>
        <p:spPr>
          <a:xfrm>
            <a:off x="871560" y="2701800"/>
            <a:ext cx="5715000" cy="2766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18244800">
            <a:off x="3789720" y="3121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H   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7991600">
            <a:off x="3762000" y="2826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    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74176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99080" y="369396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0800" y="6038640"/>
            <a:ext cx="82152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  <a:hlinkClick r:id="rId4"/>
              </a:rPr>
              <a:t>Anaerob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Respiration Fer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7606400">
            <a:off x="5251320" y="572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0120" y="42181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77320" y="4241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996400">
            <a:off x="4686120" y="35676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P +P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86800" y="35607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94720" y="5006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tha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62560" y="17460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7800" y="3412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A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6560" y="68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80320" y="240336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cohol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-0.54166 0.33658 E">
                                      <p:cBhvr>
                                        <p:cTn id="26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-0.02268 L -0.0026 0.44815 E">
                                      <p:cBhvr>
                                        <p:cTn id="27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-0.05416 L -0.13507 -0.43657 E">
                                      <p:cBhvr>
                                        <p:cTn id="29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76640" y="0"/>
            <a:ext cx="5067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9600" y="0"/>
            <a:ext cx="5864400" cy="92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483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8360" y="965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120" y="125568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0" y="42307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91240" y="27082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64120" y="380520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095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77440" y="40957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cet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37920" y="419724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xaloacetic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11960" y="20829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it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27040" y="3608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6680" y="13572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79560" y="26859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98120" y="319572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18360" y="511812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09320" y="173520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ADH 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33880" y="3122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41960" y="436104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0" y="9795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4640" y="120492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6360" y="419724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xaloacetic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6680" y="29844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89400" y="57261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return to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rcRect l="7093" t="0" r="0" b="26142"/>
          <a:stretch/>
        </p:blipFill>
        <p:spPr>
          <a:xfrm>
            <a:off x="0" y="0"/>
            <a:ext cx="3035160" cy="204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274320" y="8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0040" y="1200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7040" y="1549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20720" y="838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6320" y="118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2160" y="1592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12840" y="3714840"/>
            <a:ext cx="617400" cy="60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66800" y="2927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421000" y="2984400"/>
            <a:ext cx="990360" cy="701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11120" y="3052800"/>
            <a:ext cx="561960" cy="71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80" y="4232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nd 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4200" y="3454560"/>
            <a:ext cx="174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rebs Cycle (T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itric Acid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5240" y="3013200"/>
            <a:ext cx="473004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CoA recycles for 2</a:t>
            </a:r>
            <a:r>
              <a:rPr b="1" lang="en-US" sz="20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Pyruvic Aci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turn of the Krebs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08 -0.0467 L 0.22239 -0.28763 E">
                                      <p:cBhvr>
                                        <p:cTn id="42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8 0.00856 L 0.22865 -0.28301 E">
                                      <p:cBhvr>
                                        <p:cTn id="43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0.08577 -0.30012 E">
                                      <p:cBhvr>
                                        <p:cTn id="44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24 -0.28773 L -0.13021 -0.16968 E">
                                      <p:cBhvr>
                                        <p:cTn id="44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1527" r="0" b="0"/>
          <a:stretch/>
        </p:blipFill>
        <p:spPr>
          <a:xfrm>
            <a:off x="0" y="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85840" y="2109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20" y="47304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8640" y="16336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24120" y="21859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40" y="312912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P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Synt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420048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7480" y="49579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85840" y="5493960"/>
            <a:ext cx="7058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  <a:hlinkClick r:id="rId5"/>
              </a:rPr>
              <a:t>Electr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ransport Chain –Oxidative Phosphory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71720" y="1677960"/>
            <a:ext cx="6818040" cy="2633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042920" y="184140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Glycolysi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33560" y="237168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Glycolysis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08840" y="17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15400" y="177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32680" y="230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21720" y="23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02800" y="230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21400" y="2732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Pyruvic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95840" y="31384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Krebs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560" y="269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0480" y="27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19800" y="320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11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99480" y="320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23240" y="340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13320" y="272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0040" y="339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09560" y="315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39520" y="36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888840" y="4595760"/>
            <a:ext cx="8255160" cy="712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59720" y="230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3880" y="44719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0" y="171360"/>
            <a:ext cx="861840" cy="6686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316960" y="571824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Handouts and Web PowerPoi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280" y="174240"/>
            <a:ext cx="844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mmary of Maximum Energy Yield from the Oxidation of One Molecule of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4:35:02Z</dcterms:created>
  <dc:creator> RM Chute</dc:creator>
  <dc:description>Drawings by Shelley Penrod</dc:description>
  <dc:language>en-US</dc:language>
  <cp:lastModifiedBy> </cp:lastModifiedBy>
  <dcterms:modified xsi:type="dcterms:W3CDTF">2007-04-08T15:20:22Z</dcterms:modified>
  <cp:revision>11</cp:revision>
  <dc:subject/>
  <dc:title>Cellular Respiration  by Shelley Penrod and RM Chute</dc:title>
</cp:coreProperties>
</file>