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CC9C-4084-4C87-A239-5B20259AB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7010-210A-447C-B3E1-2A8B0ACE9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023A-2522-4CFD-9F49-8AAE92F32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F708-CC31-43B4-85E0-BC3B4E30D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64103-A09F-4F10-88EF-7875F5E99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365AF-3B29-45D9-BBF0-02C9961EF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9F6AD-0B21-4DB5-BC87-4F8CEECB9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DB382-8E45-4B2E-9E1A-DC6106270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F6F83-89ED-489C-87D0-3EBE1651A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C0322-BC5D-4495-91C7-BE875D377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0E611-5040-4081-8209-67993D6C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433F-E452-4DFC-8C66-DD05A0775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EF20A-DEB8-4266-87C6-8EED8B80D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94B10-68CA-47BB-80FA-0C49F6BD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9B639-9825-42E3-95A4-4167C5ED1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CE022-E775-4819-B2A7-338ED20B9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C75A9-6DAB-4B6D-9BD4-5C9DD32CE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BFA8-8B61-46C3-B114-0CDEB048E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3D2C-3690-4AA2-9FC1-CEEE19129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5A5F-C42E-4479-A847-90CAA70C1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4DE9-2E36-4704-BF08-F2ACD3529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10F2-EA9D-41E0-AD3A-44EEC132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658A-4220-42B6-A4FA-4E0C7D17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FBB1-4CAB-4685-BA86-3540B7FA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95FE2-FE68-4FD4-97A5-B5FB407B1B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FD2E6-2DAA-4E44-9886-09403B39E0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17144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ellular Respiration: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Harvesting Chemical Energy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ciples of energy conser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cess of cellular 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ed metabolic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1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6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6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+ 6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lycolysi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abolic path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plit suga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ucose + 2ATP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pyruvates + 4ATP + 2NAD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 in cytos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erobic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step path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680" y="14400"/>
            <a:ext cx="8128080" cy="6095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680" y="14400"/>
            <a:ext cx="8128080" cy="6095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termediate Reaction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(Oxidative Decarboxylation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 if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re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Pyruvate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2 NADH + 2 Ace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aches acetate to CoA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cetyl C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128080" cy="6095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Krebs Cycl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mitochondrial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idation of acetyl CoA to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s include: 2 ATP + 6 NADH + 2 FAD + 4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 step path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680" y="14400"/>
            <a:ext cx="8128080" cy="6095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Electron Transport Chai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bedded in the inner mitochondrial membr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ETC molecules are prot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ary ATP generating path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s ATP via Substrate Level Phosphorylation and Chemiosm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680" y="14400"/>
            <a:ext cx="8128080" cy="6095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hemiosmosis: the energy coupling mechanism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 flow actively transports H+ from the matrix into the intermembrane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w of H+ “down the gradient” thru the ATP synthase complex generates 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2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7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ermentation and Respir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 are ope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abolic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rment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usually anaerob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partially degrades sug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ular respir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aerob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ltimate e- acce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TP Synthase:  A molecular mil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e of: rotor, stator, rod, and kn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fig. 9.14 on page 17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523880" y="0"/>
            <a:ext cx="8128080" cy="6095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gulation of Cell Respir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edback mech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steric enzyme-phosphofructo-    kin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trate and ATP are the inhibi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P and AMP are allosteric activ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742000" y="1981080"/>
            <a:ext cx="2597040" cy="4114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lated Metabolic Processes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(The versatility of catabolism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use proteins, fats and polysacchar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omers of fats and proteins enter pathways at various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result in generation of energy or biosynthesis of new molec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276720" y="838080"/>
            <a:ext cx="4114800" cy="5181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80" y="14400"/>
            <a:ext cx="8128080" cy="6095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dox React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ction: gain of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ation: loss of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ular respiration is a redox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983120" y="2133720"/>
            <a:ext cx="3809880" cy="1823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enzymes are intermediate energy carrier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nd in all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st enzymes in energy trans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D and F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 with H+ and e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coenzymes a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itam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0760" cy="4352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219320" y="762120"/>
            <a:ext cx="7543800" cy="5333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ellular Respir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yco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bs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 transport ch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680" y="14400"/>
            <a:ext cx="8128080" cy="6095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3T18:19:24Z</dcterms:created>
  <dc:creator>BlugeD</dc:creator>
  <dc:description/>
  <dc:language>en-US</dc:language>
  <cp:lastModifiedBy>BlugeD</cp:lastModifiedBy>
  <dcterms:modified xsi:type="dcterms:W3CDTF">2007-10-16T13:25:41Z</dcterms:modified>
  <cp:revision>16</cp:revision>
  <dc:subject/>
  <dc:title>Chapter 9 Cellular Respiration: Harvesting Chemical Energy</dc:title>
</cp:coreProperties>
</file>