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0D5-3734-43F1-9A4C-EC29AB86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7E0-717F-4724-A10D-E707798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50C-8FC7-41B8-BBCB-75E72960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461-1311-4B26-817D-9E6634D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741-D205-494D-8489-5346D40C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0E3-36F5-44C1-8F28-48D62BE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D0B-0881-4440-9180-BA460D1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82BF-9361-4B9C-B903-EC6ABEF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63EC-FFD5-46BC-ABC3-6446DCC4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2F0-7018-41AD-B699-4F2B7D0F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4DD-8701-45B6-954E-28EFA00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AF6-2CD3-40B9-9ACB-F2EB73C9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439-EDFD-472D-8C12-D489BF7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33C-3CF1-49F3-80D2-953E17A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8613-9F4F-414F-9444-046BBF1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897-3CAB-4BBD-8177-A09F8CAE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8626-D54D-47CF-B4F7-6063CF87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FE-8304-4755-B120-DA4CFDD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6A5-F717-45FD-85BC-45BB080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09F-5DE9-432C-90A5-3B2D1A4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89A-4642-4853-AD15-B7F4FC3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02D-F52D-44F8-89FE-6336037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519-1878-476E-A688-B57FD9F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E5C-6D56-443E-983E-7345A120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9FE-2073-4724-BA05-B1686939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953-6E0C-4312-B5DD-1E3B28ED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171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ellular Respiration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rvesting Chemical Energ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energy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metabol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6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+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bolic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lit sug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+ 2ATP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s + 4ATP + 2N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step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te Reac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Oxidative Decarboxyla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 NADH + 2 Ace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s acetate to Co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rebs Cy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itochondrial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acetyl CoA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include: 2 ATP + 6 NADH + 2 FAD + 4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step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Electron Transport Cha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in the inner mitochondria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TC molecules a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TP generating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TP via Substrate Level Phosphorylation and 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emiosmosis: the energy coupling mechan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flow actively transports H+ from the matrix into the intermembran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H+ “down the gradient” thru the ATP synthase complex generates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ermentation and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ope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bolic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usually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partially degrades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e-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P Synthase:  A molecular mil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f: rotor, stator, rod, and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. 9.14 on page 1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ulation of Cell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steric enzyme-phosphofructo-    k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ate and ATP are th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 and AMP are allosteric acti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42000" y="1981080"/>
            <a:ext cx="259704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lated Metabolic Process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The versatility of catabolism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proteins, fats and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ers of fats and proteins enter pathways at variou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generation of energy or biosynthesis of new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4114800" cy="51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ox Rea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tion: gain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ation: loss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 is a redox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83120" y="2133720"/>
            <a:ext cx="3809880" cy="182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enzymes are intermediate energy carri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l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enzymes in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 and F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with H+ and 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enzym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0760" cy="43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ellular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8:19:24Z</dcterms:created>
  <dc:creator>BlugeD</dc:creator>
  <dc:description/>
  <dc:language>en-US</dc:language>
  <cp:lastModifiedBy>BlugeD</cp:lastModifiedBy>
  <dcterms:modified xsi:type="dcterms:W3CDTF">2007-10-16T13:25:41Z</dcterms:modified>
  <cp:revision>16</cp:revision>
  <dc:subject/>
  <dc:title>Chapter 9 Cellular Respiration: Harvesting Chemical Energy</dc:title>
</cp:coreProperties>
</file>