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D96-6439-4610-BEAC-C76403CC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93B-4446-4194-A657-B95A3AAF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2DB-4C90-4B33-8187-5E827ADE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40AD-E0D3-4CC6-BEBE-7A7BEB73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DCC-807F-4959-BC6D-56EA0722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A35-12C7-4A95-BF22-8C97A638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62D-7D5C-4A4A-80BC-6F36B595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558-7031-457D-B17B-7C10777D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8149-D4BC-4B35-9ABF-59E13635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FD3-F81F-4D4D-BE3A-83F51C05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F43-D46E-4C7A-9887-CFFB0BF6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0D79-AA15-4236-84D6-311EE0E7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F160-00A2-4494-8168-9E466AA29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ellular respi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lular Respir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making of ATP through the breakdown of f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obic Cellular Resp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r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685800" y="1828800"/>
            <a:ext cx="7772400" cy="2057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5557" r="0" b="5557"/>
          <a:stretch/>
        </p:blipFill>
        <p:spPr>
          <a:xfrm>
            <a:off x="5867280" y="4952880"/>
            <a:ext cx="20764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Stages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2880" y="1676160"/>
            <a:ext cx="3810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obic cellular respiration has 4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ytos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eb’s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mitochondrial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 Transport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inner membrane of mitochond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2080" y="1676520"/>
            <a:ext cx="440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6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6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+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0" b="11793"/>
          <a:stretch/>
        </p:blipFill>
        <p:spPr>
          <a:xfrm>
            <a:off x="380880" y="2362320"/>
            <a:ext cx="4343400" cy="1500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0" t="0" r="0" b="11190"/>
          <a:stretch/>
        </p:blipFill>
        <p:spPr>
          <a:xfrm>
            <a:off x="304920" y="4297320"/>
            <a:ext cx="46479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the Mitochond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ganelle with an outer and inner membra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Krebs cycle takes place in the matrix of the mitochondr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ace bordered by the inner membra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ectron Transport Chain takes place across the inner membra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tween the matrix and intermembrane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7840" y="1285920"/>
            <a:ext cx="424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organelle produces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ity of ATP for the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4495680" cy="276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-1525680" y="565200"/>
          <a:ext cx="9144000" cy="5173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" descr=""/>
          <p:cNvPicPr/>
          <p:nvPr/>
        </p:nvPicPr>
        <p:blipFill>
          <a:blip r:embed="rId2"/>
          <a:srcRect l="6350" t="0" r="0" b="46975"/>
          <a:stretch/>
        </p:blipFill>
        <p:spPr>
          <a:xfrm>
            <a:off x="6629400" y="4591080"/>
            <a:ext cx="228600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343040" y="15238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art of cellular respiration takes place in the cell cytopla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lucose molecule gets converted into 2 pyruvate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requiring and energy releasing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net yield is 2 ATP and 2 NA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zymes help along the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rebs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a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yruvate (carbohydrate) molecule is completely oxidized into carbon diox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released from these reactions results in the formation of 1 ATP molecule but 3 NADH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0560" y="4994280"/>
            <a:ext cx="443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vely, 2 ATP and 6 NAD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made from the 2 pyruvates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DH will be used in the electr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ch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n Transport Ch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s NAD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24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the electr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 chain,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moved against a gradi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nergy needed to do this is supplied by electrons carried by NAD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0" b="9008"/>
          <a:stretch/>
        </p:blipFill>
        <p:spPr>
          <a:xfrm>
            <a:off x="228600" y="3962520"/>
            <a:ext cx="4495680" cy="2452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0" t="0" r="0" b="9439"/>
          <a:stretch/>
        </p:blipFill>
        <p:spPr>
          <a:xfrm>
            <a:off x="228600" y="1752480"/>
            <a:ext cx="42670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along the inner membrane of the mitochond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oss of electrons from NADH result in the addition of energy to protein pumps in the memebrane resulting in a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ing moved from the inside to the outside of the inner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happens many times creating an imbalance (gradient)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4572000" y="1752480"/>
            <a:ext cx="4343400" cy="405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06280" y="5832360"/>
            <a:ext cx="33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pulls electron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m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along the inner membrane of the mitochond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14440" y="14479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P is made as H+ ions are allowed back into the matrix of the mitochondria by a different protein (ATP synthase)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energy released by the “rush” of 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used by this enzyme to make ATP (kind of like a rush of water in a stream being used to turn a water wheel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440" y="5029200"/>
            <a:ext cx="399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imately, aerobic respir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s ~36 ATP molecul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each individu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molec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228600" y="1371600"/>
            <a:ext cx="38098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0" r="0" b="4696"/>
          <a:stretch/>
        </p:blipFill>
        <p:spPr>
          <a:xfrm>
            <a:off x="1143000" y="149400"/>
            <a:ext cx="731520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we need oxyg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411480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gen is required by any organism that has mitochondria because it is used to keep the Electron Transport Chain r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gen pulls of electrons from the chain and combines with 2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form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6468" r="0" b="56367"/>
          <a:stretch/>
        </p:blipFill>
        <p:spPr>
          <a:xfrm>
            <a:off x="1676520" y="1106640"/>
            <a:ext cx="56386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Metabo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role of ATP and how it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what goes on during the three stages of aerobic cellular respiration that lead to the production of ATP: glycolysis, Krebs cycle, and the electron transport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and explain the summary equation for aerobic cellular respi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f we did not have oxyg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rees and bacteria to make oxygen, we would still be able to make ATP from sugar (just not as mu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s of glycolysis called fermentation reactions are used  to release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2760" y="1981080"/>
            <a:ext cx="3078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rmentation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reactions produ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ATP per glucose molecule and must regenerate 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ing in the formation of eith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anol and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tic Acid  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209556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other foo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0145"/>
          <a:stretch/>
        </p:blipFill>
        <p:spPr>
          <a:xfrm>
            <a:off x="1371600" y="990720"/>
            <a:ext cx="6400800" cy="23619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3428640"/>
            <a:ext cx="85341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s, Carbs and Fats can all be utilized for energy following hydr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ino Acids are converted to intermediates including pyruvate, 2-, and 4-carbon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s enter glycolysis at the beginning or in the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s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ycerol enters as 3-carbon molec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tty acids enter as 2-Carbon molecu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location and structure of mitochondria. Understand its function in cellular 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ze the reactions of glycolysis (what goes 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role of Oxygen in the electron transport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 describe fer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ze that multiple energy sources can “fuel” cellular resp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ta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m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hemical processes occurring in an organism at on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rned with the management of material and energy resources within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tions can break down big molecules into smaller units or build larger molecules from smaller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546880" y="1676520"/>
            <a:ext cx="3292200" cy="4114800"/>
            <a:chOff x="5546880" y="1676520"/>
            <a:chExt cx="3292200" cy="41148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5546880" y="1676520"/>
              <a:ext cx="32922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 txBox="1"/>
            <p:nvPr/>
          </p:nvSpPr>
          <p:spPr>
            <a:xfrm>
              <a:off x="5546880" y="1676520"/>
              <a:ext cx="32922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abolic (Biosynthetic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thw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ways that consume energy to build larger, complicated molecules from simpler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6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+ l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6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 dioxide, a low energy molecule, gets converted into carbohydrate, a high energy molecu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3276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taboli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thw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44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ways that release energy by breaking down complex molecules into simpler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6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6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+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bohydrate, a high energy molecule, gets “digested” into carbon dioxide, a low energy molec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s use released energy to make 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994040"/>
            <a:ext cx="38098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molecule used to shuttle energy between catabolic and anabolic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is released from ATP through the loss of phosphate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6036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otide with three phosphate groups attached to the ribose sug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4544"/>
          <a:stretch/>
        </p:blipFill>
        <p:spPr>
          <a:xfrm>
            <a:off x="457200" y="1295280"/>
            <a:ext cx="3325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is released from ATP through the loss of phosphate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53249" r="0" b="0"/>
          <a:stretch/>
        </p:blipFill>
        <p:spPr>
          <a:xfrm>
            <a:off x="1143000" y="914400"/>
            <a:ext cx="6934320" cy="1998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0" b="51592"/>
          <a:stretch/>
        </p:blipFill>
        <p:spPr>
          <a:xfrm>
            <a:off x="1447920" y="4038480"/>
            <a:ext cx="6286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ry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TP gives a phosphate group to another molecule it is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sphory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sphorylated molecules have “more” energy and can do the work of th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make ATP?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10554"/>
          <a:stretch/>
        </p:blipFill>
        <p:spPr>
          <a:xfrm>
            <a:off x="685800" y="1676520"/>
            <a:ext cx="777240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721400" y="556272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06:20:45Z</dcterms:created>
  <dc:creator>Montgomery College</dc:creator>
  <dc:description/>
  <dc:language>en-US</dc:language>
  <cp:lastModifiedBy>JAMES SNIEZEK</cp:lastModifiedBy>
  <cp:lastPrinted>2004-02-23T11:56:57Z</cp:lastPrinted>
  <dcterms:modified xsi:type="dcterms:W3CDTF">2006-08-06T11:00:18Z</dcterms:modified>
  <cp:revision>18</cp:revision>
  <dc:subject/>
  <dc:title>Cellular Respiration</dc:title>
</cp:coreProperties>
</file>