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E4E-710F-4F6A-A302-A95D83CB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F3C-F5DE-4694-96E3-0F35A4DD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E7A-6B58-4BB3-AC44-B9DF7276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743-99AF-4A43-A72E-1B51FDBC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D4B-98A0-4914-BBD5-37C9DDEF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BF4-BE1C-4512-961E-74149C63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4DE-46E6-48C1-93C2-9E89ED71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A36-3806-4B82-9516-F0F35E57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FEA-0A89-4156-B999-6D809652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C8B-5A53-440D-9678-4EBE1484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924-7454-4E80-8EB4-26F120B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EC8-E247-40DD-A975-C714DCC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76DD-A26D-4810-9865-35191924F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ellular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ular Respi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making of ATP through the breakdown of f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bic Cellular 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685800" y="1828800"/>
            <a:ext cx="777240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5557" r="0" b="5557"/>
          <a:stretch/>
        </p:blipFill>
        <p:spPr>
          <a:xfrm>
            <a:off x="5867280" y="4952880"/>
            <a:ext cx="20764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Stag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880" y="16761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bic cellular respiration has 4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ytos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b’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tochondrial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inner membrane of mitocho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080" y="1676520"/>
            <a:ext cx="440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6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+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11793"/>
          <a:stretch/>
        </p:blipFill>
        <p:spPr>
          <a:xfrm>
            <a:off x="380880" y="2362320"/>
            <a:ext cx="4343400" cy="1500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0" b="11190"/>
          <a:stretch/>
        </p:blipFill>
        <p:spPr>
          <a:xfrm>
            <a:off x="304920" y="4297320"/>
            <a:ext cx="4647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Mitochond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ganelle with an outer and inner membra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Krebs cycle takes place in the matrix of the mitochond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ace bordered by the inner membr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ctron Transport Chain takes place across the inner membra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ween the matrix and intermembran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7840" y="1285920"/>
            <a:ext cx="42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rganelle produce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ity of ATP for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495680" cy="276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-1525680" y="565200"/>
          <a:ext cx="9144000" cy="517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2"/>
          <a:srcRect l="6350" t="0" r="0" b="46975"/>
          <a:stretch/>
        </p:blipFill>
        <p:spPr>
          <a:xfrm>
            <a:off x="6629400" y="4591080"/>
            <a:ext cx="2286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43040" y="15238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rt of cellular respiration takes place in the cell cyt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lucose molecule gets converted into 2 pyruvate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requiring and energy releas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net yield is 2 ATP and 2 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 help along th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ebs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yruvate (carbohydrate) molecule is completely oxidized into carbon diox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released from these reactions results in the formation of 1 ATP molecule but 3 NADH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0560" y="4994280"/>
            <a:ext cx="44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vely, 2 ATP and 6 NAD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ade from the 2 pyruvates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H will be used in the electr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 Transport Ch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 N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24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electr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chain,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moved against a gradi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rgy needed to do this is supplied by electrons carried by NAD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9008"/>
          <a:stretch/>
        </p:blipFill>
        <p:spPr>
          <a:xfrm>
            <a:off x="228600" y="3962520"/>
            <a:ext cx="4495680" cy="2452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9439"/>
          <a:stretch/>
        </p:blipFill>
        <p:spPr>
          <a:xfrm>
            <a:off x="228600" y="1752480"/>
            <a:ext cx="4267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along the inner membrane of the mitochond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ss of electrons from NADH result in the addition of energy to protein pumps in the memebrane resulting in a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ing moved from the inside to the outside of the inne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happens many times creating an imbalance (gradient)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4572000" y="1752480"/>
            <a:ext cx="4343400" cy="405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6280" y="5832360"/>
            <a:ext cx="33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pulls electron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m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along the inner membrane of the mitochond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14440" y="1447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P is made as H+ ions are allowed back into the matrix of the mitochondria by a different protein (ATP synthase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energy released by the “rush” of 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sed by this enzyme to make ATP (kind of like a rush of water in a stream being used to turn a water whee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440" y="5029200"/>
            <a:ext cx="39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imately, aerobic respir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~36 ATP molecu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each individu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228600" y="1371600"/>
            <a:ext cx="3809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4696"/>
          <a:stretch/>
        </p:blipFill>
        <p:spPr>
          <a:xfrm>
            <a:off x="1143000" y="149400"/>
            <a:ext cx="73152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oxy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is required by any organism that has mitochondria because it is used to keep the Electron Transport Chain r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pulls of electrons from the chain and combines with 2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form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6468" r="0" b="56367"/>
          <a:stretch/>
        </p:blipFill>
        <p:spPr>
          <a:xfrm>
            <a:off x="1676520" y="1106640"/>
            <a:ext cx="56386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Metabo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role of ATP and how it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hat goes on during the three stages of aerobic cellular respiration that lead to the production of ATP: glycolysis, Krebs cycle, and the electron transport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and explain the summary equation for aerobic cellular respi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we did not have oxy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rees and bacteria to make oxygen, we would still be able to make ATP from sugar (just not as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of glycolysis called fermentation reactions are used  to releas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2760" y="1981080"/>
            <a:ext cx="307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mentation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reactions produ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ATP per glucose molecule and must regenerate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in the formation of ei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anol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ic Acid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09556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other fo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0145"/>
          <a:stretch/>
        </p:blipFill>
        <p:spPr>
          <a:xfrm>
            <a:off x="1371600" y="990720"/>
            <a:ext cx="6400800" cy="2361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s, Carbs and Fats can all be utilized for energy following hydr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ino Acids are converted to intermediates including pyruvate, 2-, and 4-carbon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s enter glycolysis at the beginning or i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ycerol enters as 3-carbon molec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ty acids enter as 2-Carbon molecu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location and structure of mitochondria. Understand its function in cellular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the reactions of glycolysis (what goes 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role of Oxygen in the electron transport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describe fer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that multiple energy sources can “fuel” cellular 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hemical processes occurring in an organism at on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ed with the management of material and energy resources within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ons can break down big molecules into smaller units or build larger molecules from small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546880" y="1676520"/>
            <a:ext cx="3292200" cy="4114800"/>
            <a:chOff x="5546880" y="1676520"/>
            <a:chExt cx="3292200" cy="41148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5546880" y="1676520"/>
              <a:ext cx="32922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5546880" y="1676520"/>
              <a:ext cx="32922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bolic (Biosynthetic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t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ways that consume energy to build larger, complicated molecules from simpler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+ l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6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, a low energy molecule, gets converted into carbohydrate, a high energy molec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276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tabol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t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ways that release energy by breaking down complex molecules into simpler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6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+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hydrate, a high energy molecule, gets “digested” into carbon dioxide, a low energy molec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s use released energy to make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994040"/>
            <a:ext cx="3809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molecule used to shuttle energy between catabolic and anabolic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released from ATP through the loss of phosphat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603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otide with three phosphate groups attached to the ribose sug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4544"/>
          <a:stretch/>
        </p:blipFill>
        <p:spPr>
          <a:xfrm>
            <a:off x="457200" y="1295280"/>
            <a:ext cx="332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released from ATP through the loss of phosphat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53249" r="0" b="0"/>
          <a:stretch/>
        </p:blipFill>
        <p:spPr>
          <a:xfrm>
            <a:off x="1143000" y="914400"/>
            <a:ext cx="6934320" cy="199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51592"/>
          <a:stretch/>
        </p:blipFill>
        <p:spPr>
          <a:xfrm>
            <a:off x="1447920" y="4038480"/>
            <a:ext cx="6286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TP gives a phosphate group to another molecule it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orylated molecules have “more” energy and can do the work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ake ATP?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10554"/>
          <a:stretch/>
        </p:blipFill>
        <p:spPr>
          <a:xfrm>
            <a:off x="685800" y="1676520"/>
            <a:ext cx="77724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21400" y="55627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06:20:45Z</dcterms:created>
  <dc:creator>Montgomery College</dc:creator>
  <dc:description/>
  <dc:language>en-US</dc:language>
  <cp:lastModifiedBy>JAMES SNIEZEK</cp:lastModifiedBy>
  <cp:lastPrinted>2004-02-23T11:56:57Z</cp:lastPrinted>
  <dcterms:modified xsi:type="dcterms:W3CDTF">2006-08-06T11:00:18Z</dcterms:modified>
  <cp:revision>18</cp:revision>
  <dc:subject/>
  <dc:title>Cellular Respiration</dc:title>
</cp:coreProperties>
</file>