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E8B-CC20-4F77-AE13-D302FFEC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188-C775-4F36-B12C-BB2ED28E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3C9-F44C-4ADE-B48A-B083FDFC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CEF-99FA-4089-9A7F-2C01ACB6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00FF-BC4F-4EED-90B0-C230FC96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6DB4-6905-4636-BF61-0DAB3706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4A00-809F-4C4B-BCB0-6D95A968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8FE1-9F15-4784-82DA-5051349B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A6CA-E101-4867-A15F-E25AAD4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32A2-EFC1-480E-AB95-FD8ABAC6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872D-E678-427B-B04C-55A2D585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A8C-5111-43AD-A015-4398F182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0E50-4B6F-4D55-994B-D37CE2F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7DC2-D9EF-454B-BF48-216A235D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477D-7F0B-4B43-877B-0428D140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9284-05A9-4452-BBD6-EBC344DC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AC34-A6D0-4D86-B84A-CA316C8A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F4C-A1C6-41CB-926E-08B8ECE3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1E6-FEEF-46DC-A60F-7B8E3EE8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782-92AF-4084-A7E6-B5653D18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EED-D437-4A27-AFE5-442E8A86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998-CEF4-414B-BE02-050B42BC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D76-9DC3-441A-9BA9-F35F03BD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1D7-3D0F-4415-BC3F-EFB4D126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1C68-0EE7-4E83-9136-317736349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DADF-ACA1-48DE-BA23-B64973860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ergy Releasing Pathways: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ellular Respiration and Glycoly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logy 1010 -Chapter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43200" y="54000"/>
            <a:ext cx="426708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45720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. Inputs and Outpu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Outpu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2 pyruv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 NAD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 AT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ne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Krebs Cycle: Aerobic Respira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occurs in the mitochondria (inner membrane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requires oxyg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input is the pyruvate (3-C)from glycolysis, which is modified to form acetyl-C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arbon leaves the cycle a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yruvate is converted to acetyl-C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 oxygen is used to break C-C b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 broken bonds release energy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energy is used to form ATP b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ative phosphory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electrons captured by NAD+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FAD+ to form NADH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o 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carbon leaves a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cyclic pathway - intermediates 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1 glucose = 2 pyruvate. Two comple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s of the pathway per gluco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2 ATP produced per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. Inputs and Outpu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pyruv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+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D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Outputs (per gluco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H and 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 AT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lectron Transport System (ETS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puts are the NADH and 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glycolysis and the Krebs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processes electrons, not carb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located on the inner membrane of the mitochondria (integral protei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uses oxygen as a terminal electron 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Unity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ll organisms u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byproducts of metabo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arbon diox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at the biochemical level, all life is un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5880" y="1630440"/>
          <a:ext cx="252756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30440"/>
                    <a:ext cx="25275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ATP is produced b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hemiosmo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lectron-level phosphory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tages of chemi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NADH and 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fer electrons to integral proteins on the inner membr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electrons are high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passage of energy between proteins pumps H+ ions out of the inner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enerates an electric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hannels are opened, allowing the H+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s to reenter, generating AT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oxygen is used to gather the sp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, generating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high amounts of ATP are produced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32 ATP per gluc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NAD+ and FAD+ are recyc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. Inputs and Outpu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ADH and 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Outputs (per gluco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+ and FAD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32 AT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0773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ummary of Energy Harves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ATP per gluc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glycolysis 2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Krebs 2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ETS 32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Var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yield per glucose may be 32-38 ATP depending on cell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2508120"/>
            <a:ext cx="3790800" cy="304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naerobic Respira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occur in the absence of oxygen or oxygen-poor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after glycolysis, pyruvate is converted to other molecules than acetyl-Co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many bacteria are completely anaero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Fermentation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Lactate fer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pyruvate is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rocess regenerates NAD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occurs in bacteria and musc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Alcohol fer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pyruvate is converted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taldehyde and then alcoh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+ is regen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414360"/>
            <a:ext cx="73911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cess of ATP Synth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mparison of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TP is the energy currency of all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glycoly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mmon to all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plitting of glucose forms 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occurs in the cytoplasm of the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Anaerobic electron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some bacteria have modif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transport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nvert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convert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volutionary signific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Fermentation and anaerobic electr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occur in the absence of oxy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release small amounts of 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Aerobic re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ain pathway for convert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 to 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occurs in the mitochond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requires oxy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hemical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+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similarities to photosy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lycoly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First stage of all energy-releasing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occurs in the cytoplasm of the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does not require oxy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volutionary consid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energy investment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lucose is phosphorylated b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ATP molec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energy releasing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lucose is split to form 4 ATP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2 pyruvate molec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electrons captured by NAD+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NADH (to 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ATP is produced b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bstrate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vel phosphory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01480"/>
            <a:ext cx="891540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1T12:45:18Z</dcterms:created>
  <dc:creator>Floyd College User</dc:creator>
  <dc:description/>
  <dc:language>en-US</dc:language>
  <cp:lastModifiedBy>ZonaNet</cp:lastModifiedBy>
  <dcterms:modified xsi:type="dcterms:W3CDTF">2008-05-02T21:57:22Z</dcterms:modified>
  <cp:revision>19</cp:revision>
  <dc:subject/>
  <dc:title>Respiration</dc:title>
</cp:coreProperties>
</file>