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98A-E4A2-4962-B2CC-11AA0311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5C2-6FB0-4873-9BC1-C16A6E4C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349-9753-4835-98DF-2982CFB4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5D4-C59C-4B98-A446-FDE47800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5978-A87A-42F1-9729-4ACF8DB9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9B68-9506-426F-8D8D-12D59DE6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0548-BEC6-4B56-9311-F1194BB8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7C06-BE4D-45D3-BEE9-91F86169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23D5-5E7B-4543-BBB5-A1C289A0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51BD-25FC-40D7-A340-491EA133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30A6-9598-46F9-8AC3-3A438CA1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3906-71E9-41F0-908E-0BFDD9C5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E521-4424-4D8C-B287-5BC689AE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ABD3-4D4F-4D11-B69F-4CCB8D36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C0AF-DBD1-4FD5-A9EE-6DC71CD3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A651-B461-4D1D-9CA2-782F6619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43DC-3C88-4CC9-823C-2D86B892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DEA-0485-4531-9096-26BD1C10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6403-49B2-4603-A76F-59CD59F0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2D1-CA15-418F-88B9-80F2353B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76D-37FA-477D-9DD9-9ECCACE8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6F9-1D58-4CEB-94EF-A5910F9A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FEB-4CCE-4D6D-9EFB-F3E23EB3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449-609B-4AF1-A4EA-36380266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17F5-3E8E-4224-8A86-7D8C94DB88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4D8A-1B92-40D8-BED2-915564D09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nergy Releasing Pathways: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ellular Respiration and Glycolys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ology 1010 -Chapter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43200" y="54000"/>
            <a:ext cx="4267080" cy="2879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457200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. Inputs and Output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Inpu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gluc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NAD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A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Outpu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2 pyruv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2 NAD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2 AT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ne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27000"/>
            <a:ext cx="77724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Krebs Cycle: Aerobic Respiratio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occurs in the mitochondria (inner membrane sp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requires oxyg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input is the pyruvate (3-C)from glycolysis, which is modified to form acetyl-Co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carbon leaves the cycle a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pyruvate is converted to acetyl-Co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 oxygen is used to break C-C bo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 broken bonds release energy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energy is used to form ATP b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xidative phosphory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electrons captured by NAD+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FAD+ to form NADH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D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o E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carbon leaves a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cyclic pathway - intermediates ar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yc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 1 glucose = 2 pyruvate. Two complet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ns of the pathway per glucos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lec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 2 ATP produced per gluc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. Inputs and Output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Inpu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pyruv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NAD+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D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A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Outputs (per gluco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O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NADH and FAD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2 AT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27000"/>
            <a:ext cx="77724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Electron Transport System (ETS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inputs are the NADH and FAD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rom glycolysis and the Krebs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processes electrons, not carb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located on the inner membrane of the mitochondria (integral protei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uses oxygen as a terminal electron rece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Unity of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all organisms use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byproducts of metabol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arbon diox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at the biochemical level, all life is un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5880" y="1630440"/>
          <a:ext cx="2527560" cy="27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30440"/>
                    <a:ext cx="252756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ATP is produced b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hemiosmo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lectron-level phosphory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tages of chemi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NADH and FAD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fer electrons to integral proteins on the inner membr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electrons are high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passage of energy between proteins pumps H+ ions out of the inner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generates an electrical grad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channels are opened, allowing the H+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ns to reenter, generating AT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oxygen is used to gather the spen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s, generating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high amounts of ATP are produced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32 ATP per gluc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NAD+ and FAD+ are recyc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. Inputs and Output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Inpu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NADH and FAD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A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Outputs (per gluco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NAD+ and FAD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32 AT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0773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27000"/>
            <a:ext cx="77724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ummary of Energy Harves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ATP per gluc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glycolysis 2 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Krebs 2 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ETS 32 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Vari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yield per glucose may be 32-38 ATP depending on cell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8320" y="2508120"/>
            <a:ext cx="3790800" cy="304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5800" y="27000"/>
            <a:ext cx="77724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naerobic Respiratio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occur in the absence of oxygen or oxygen-poor enviro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after glycolysis, pyruvate is converted to other molecules than acetyl-Co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many bacteria are completely anaerob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Fermentation Path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Lactate fer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pyruvate is converted to lac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process regenerates NAD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occurs in bacteria and muscl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Alcohol fer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pyruvate is converted t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etaldehyde and then alcoh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NAD+ is regene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2120" y="414360"/>
            <a:ext cx="73911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rocess of ATP Synthes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omparison of Path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ATP is the energy currency of all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glycolys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ommon to all path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plitting of glucose forms AT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occurs in the cytoplasm of the c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Anaerobic electron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some bacteria have modifi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 transport syste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convert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convert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evolutionary signific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Fermentation and anaerobic electr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occur in the absence of oxy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release small amounts of AT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Aerobic respi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main pathway for converting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 to AT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occurs in the mitochond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requires oxy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chemical form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+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+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similarities to photosynth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27000"/>
            <a:ext cx="77724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Glycolys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First stage of all energy-releasing path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occurs in the cytoplasm of the c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does not require oxy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evolutionary consid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S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energy investment ph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glucose is phosphorylated b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ATP molec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energy releasing ph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glucose is split to form 4 ATP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2 pyruvate molecu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electrons captured by NAD+ t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NADH (to E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ATP is produced by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bstrate-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vel phosphory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501480"/>
            <a:ext cx="891540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1T12:45:18Z</dcterms:created>
  <dc:creator>Floyd College User</dc:creator>
  <dc:description/>
  <dc:language>en-US</dc:language>
  <cp:lastModifiedBy>ZonaNet</cp:lastModifiedBy>
  <dcterms:modified xsi:type="dcterms:W3CDTF">2008-05-02T21:57:22Z</dcterms:modified>
  <cp:revision>19</cp:revision>
  <dc:subject/>
  <dc:title>Respiration</dc:title>
</cp:coreProperties>
</file>