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282-025E-4A0A-A5B7-2C8C834C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6B5-2DDE-43FD-889A-79898F91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EFC-F918-461A-B669-57F9C28F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376-4E43-4F4B-AE86-6B0EF56E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04C-4376-45E5-A8FB-17A65104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EF6-4311-48BC-982D-BB5AB915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265-947C-44FE-AA6A-5DF05C4B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231-4804-48C4-9B32-75811BAE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EB0-6B36-4ADD-B065-D13DB0A0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0370-292C-48CF-869A-9611FC80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4C6-B39E-4D50-865C-25CF9367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BE7-94BA-4620-A1CB-DF56D135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CEC1-19C5-4A5D-A336-542FC6849EB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Alooly\Desktop\cerebullm\Slid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Users\Alooly\Desktop\cerebullm\Slid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looly\Desktop\cerebullm\Slid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Users\Alooly\Desktop\cerebullm\Slid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Alooly\Desktop\cerebullm\Slid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Alooly\Desktop\cerebullm\Slide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Alooly\Desktop\cerebullm\Slide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Alooly\Desktop\nnnm\lecture\9\cerebullm 3333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Alooly\Desktop\cerebullm\Slide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Alooly\Desktop\cerebullm\Slide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looly\Desktop\cerebellum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09:39:40Z</dcterms:created>
  <dc:creator>Windows User</dc:creator>
  <dc:description/>
  <dc:language>en-US</dc:language>
  <cp:lastModifiedBy>Windows User</cp:lastModifiedBy>
  <dcterms:modified xsi:type="dcterms:W3CDTF">2011-01-19T12:12:32Z</dcterms:modified>
  <cp:revision>3</cp:revision>
  <dc:subject/>
  <dc:title>Slide 1</dc:title>
</cp:coreProperties>
</file>