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3D3-AD41-4D54-B783-A9C0993F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411-638E-42A8-ADF7-C541A355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12A-B128-4B21-A8DC-3DE7F4EA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4A4-16CE-40DA-BCF1-7F53BBCA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23C-A519-4841-84D1-46148309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110-A4DA-47BC-8414-7E1D90A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F87-C8DB-4C99-8B72-FBCC844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9EB-C8FE-4BFE-BF22-4BF51E6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55F-3234-4227-BD3A-6D61CFA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588-89A8-45EF-A11D-89A0EF5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2ED-A264-4006-AE4E-EE62BC9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6C7-16B4-4EDF-9B58-975C64D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BA69-B228-4640-BFF2-7DE37C70A8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looly\Desktop\cerebullm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looly\Desktop\cerebullm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looly\Desktop\cerebullm\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Alooly\Desktop\cerebullm\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looly\Desktop\cerebullm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looly\Desktop\cerebullm\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Alooly\Desktop\cerebullm\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Alooly\Desktop\nnnm\lecture\9\cerebullm 3333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looly\Desktop\cerebullm\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Alooly\Desktop\cerebullm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looly\Desktop\cerebellum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9:39:40Z</dcterms:created>
  <dc:creator>Windows User</dc:creator>
  <dc:description/>
  <dc:language>en-US</dc:language>
  <cp:lastModifiedBy>Windows User</cp:lastModifiedBy>
  <dcterms:modified xsi:type="dcterms:W3CDTF">2011-01-19T12:12:32Z</dcterms:modified>
  <cp:revision>3</cp:revision>
  <dc:subject/>
  <dc:title>Slide 1</dc:title>
</cp:coreProperties>
</file>