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62C-4892-4DD1-B01E-8AF3A33A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BC4-260C-43FA-A3F3-2A7517EA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D68-963D-472E-857B-2E8E9358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71E-2406-43C2-9329-D2F719FA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0D2-F6B5-42B1-93B8-3E182A7D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F5F-80AB-4BD2-9DC5-4DCD3697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EB1-A98A-496A-8768-C789D7A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B24-12DD-4F81-A53C-837B0188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C20-48AE-404C-80CA-38FECA6F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20C-555B-4C0F-B96A-BC2699F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C0A-713C-4798-B1E0-4EB9FC7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64D-18B1-48B5-9C3D-5EA2EBCB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DB67-DB9A-4752-B727-E304C6E3B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9200" y="514188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H. Martin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Neurobiology &amp;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22280" y="-360"/>
            <a:ext cx="532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360" y="1689120"/>
            <a:ext cx="58752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7080" y="7509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2208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0081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88440" y="113184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 fib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from Inferior o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88080" y="177624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sy 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88440" y="251316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kinje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9520" y="38084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llate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87360" y="336384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ule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88080" y="424008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ket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88800" y="460836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400" y="4673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1040" y="504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ki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680" y="5329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5240" y="611964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04840" y="3149640"/>
            <a:ext cx="3132000" cy="3371760"/>
            <a:chOff x="204840" y="3149640"/>
            <a:chExt cx="3132000" cy="337176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04840" y="3149640"/>
              <a:ext cx="312732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846440" y="3232080"/>
              <a:ext cx="1490400" cy="31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87720" y="1693800"/>
            <a:ext cx="4557600" cy="221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22400" y="2241720"/>
            <a:ext cx="3259440" cy="1087200"/>
          </a:xfrm>
          <a:prstGeom prst="ellipse">
            <a:avLst/>
          </a:prstGeom>
          <a:solidFill>
            <a:srgbClr val="dc161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67240" y="4056120"/>
            <a:ext cx="0" cy="1611360"/>
            <a:chOff x="4467240" y="4056120"/>
            <a:chExt cx="0" cy="1611360"/>
          </a:xfrm>
        </p:grpSpPr>
        <p:sp>
          <p:nvSpPr>
            <p:cNvPr id="151" name=""/>
            <p:cNvSpPr/>
            <p:nvPr/>
          </p:nvSpPr>
          <p:spPr>
            <a:xfrm>
              <a:off x="4467240" y="491976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7240" y="405612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0280" y="5786280"/>
            <a:ext cx="44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fiber input to cerebellar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21080" y="111600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hibitory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3240" y="2374920"/>
            <a:ext cx="2427480" cy="809640"/>
          </a:xfrm>
          <a:prstGeom prst="ellipse">
            <a:avLst/>
          </a:prstGeom>
          <a:solidFill>
            <a:srgbClr val="dc1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7280" y="2063880"/>
            <a:ext cx="209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Inhibition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reduces siz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active Purki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8080" y="4051440"/>
            <a:ext cx="193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= Lateral 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   in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Output more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focused; more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72520" y="11160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inhibitory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63880" y="1490760"/>
            <a:ext cx="203040" cy="11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78440" y="1455840"/>
            <a:ext cx="127008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858000"/>
            <a:ext cx="2946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m unf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492120" y="604800"/>
            <a:ext cx="9636120" cy="420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16200" y="1981080"/>
            <a:ext cx="8254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336760"/>
            <a:ext cx="9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47840" y="387360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75120" y="660240"/>
            <a:ext cx="2311560" cy="10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6480" y="153684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720" y="213372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3240" y="43560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78440" y="450864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368960"/>
            <a:ext cx="1282680" cy="4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8440" y="403848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7160" y="387360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400" y="231840"/>
            <a:ext cx="8004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ivisions of cerebellar cortex --&gt; Deep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5600" y="6119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231480"/>
            <a:ext cx="80042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ivisions of cerebellar cortex --&gt; Deep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2819520" y="1447920"/>
            <a:ext cx="753588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2921040" y="1384200"/>
            <a:ext cx="3886200" cy="459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26000" y="1353960"/>
            <a:ext cx="3486240" cy="5918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48320" y="4884840"/>
            <a:ext cx="41018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17680" y="2543040"/>
            <a:ext cx="654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07120" y="2746440"/>
            <a:ext cx="1370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48680" y="2987640"/>
            <a:ext cx="158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Cerebrocerebellu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eral hemi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3520" y="24163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Spinocerebe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9840" y="4448160"/>
            <a:ext cx="1332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Vestibulo-</a:t>
            </a:r>
            <a:br>
              <a:rPr sz="1200"/>
            </a:b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cerebe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culo-nodul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</p:cNvCxnSpPr>
          <p:nvPr/>
        </p:nvCxnSpPr>
        <p:spPr>
          <a:xfrm rot="10800000">
            <a:off x="7095240" y="4564080"/>
            <a:ext cx="531000" cy="295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" name=""/>
          <p:cNvGrpSpPr/>
          <p:nvPr/>
        </p:nvGrpSpPr>
        <p:grpSpPr>
          <a:xfrm>
            <a:off x="666720" y="2604960"/>
            <a:ext cx="1748520" cy="1229040"/>
            <a:chOff x="666720" y="2604960"/>
            <a:chExt cx="1748520" cy="1229040"/>
          </a:xfrm>
        </p:grpSpPr>
        <p:sp>
          <p:nvSpPr>
            <p:cNvPr id="188" name=""/>
            <p:cNvSpPr/>
            <p:nvPr/>
          </p:nvSpPr>
          <p:spPr>
            <a:xfrm>
              <a:off x="666720" y="2604960"/>
              <a:ext cx="1489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rocerebellu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teral hemisp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98120" y="3557520"/>
              <a:ext cx="717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n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59600" y="2208240"/>
            <a:ext cx="1391400" cy="3511800"/>
            <a:chOff x="1659600" y="2208240"/>
            <a:chExt cx="1391400" cy="3511800"/>
          </a:xfrm>
        </p:grpSpPr>
        <p:sp>
          <p:nvSpPr>
            <p:cNvPr id="191" name=""/>
            <p:cNvSpPr/>
            <p:nvPr/>
          </p:nvSpPr>
          <p:spPr>
            <a:xfrm>
              <a:off x="1659600" y="2208240"/>
              <a:ext cx="1031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mediat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misp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20920" y="3440160"/>
              <a:ext cx="596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57560" y="5078520"/>
              <a:ext cx="7934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lat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et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203560" y="1349280"/>
            <a:ext cx="1319040" cy="898920"/>
            <a:chOff x="2203560" y="1349280"/>
            <a:chExt cx="1319040" cy="898920"/>
          </a:xfrm>
        </p:grpSpPr>
        <p:sp>
          <p:nvSpPr>
            <p:cNvPr id="195" name=""/>
            <p:cNvSpPr/>
            <p:nvPr/>
          </p:nvSpPr>
          <p:spPr>
            <a:xfrm>
              <a:off x="2203560" y="1349280"/>
              <a:ext cx="131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nocerebel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25040" y="1971720"/>
              <a:ext cx="654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52560" y="3965400"/>
            <a:ext cx="1047960" cy="1771920"/>
            <a:chOff x="2752560" y="3965400"/>
            <a:chExt cx="1047960" cy="1771920"/>
          </a:xfrm>
        </p:grpSpPr>
        <p:sp>
          <p:nvSpPr>
            <p:cNvPr id="198" name=""/>
            <p:cNvSpPr/>
            <p:nvPr/>
          </p:nvSpPr>
          <p:spPr>
            <a:xfrm>
              <a:off x="2752560" y="3965400"/>
              <a:ext cx="749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tig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06720" y="5095800"/>
              <a:ext cx="7938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med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et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14480" y="5095800"/>
            <a:ext cx="1248120" cy="1626480"/>
            <a:chOff x="1014480" y="5095800"/>
            <a:chExt cx="1248120" cy="1626480"/>
          </a:xfrm>
        </p:grpSpPr>
        <p:sp>
          <p:nvSpPr>
            <p:cNvPr id="201" name=""/>
            <p:cNvSpPr/>
            <p:nvPr/>
          </p:nvSpPr>
          <p:spPr>
            <a:xfrm>
              <a:off x="1266480" y="509580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front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tor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14480" y="5713560"/>
              <a:ext cx="117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371680" y="571356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55160" y="4270320"/>
            <a:ext cx="1378080" cy="2147040"/>
            <a:chOff x="3755160" y="4270320"/>
            <a:chExt cx="1378080" cy="2147040"/>
          </a:xfrm>
        </p:grpSpPr>
        <p:sp>
          <p:nvSpPr>
            <p:cNvPr id="205" name=""/>
            <p:cNvSpPr/>
            <p:nvPr/>
          </p:nvSpPr>
          <p:spPr>
            <a:xfrm>
              <a:off x="3755160" y="4270320"/>
              <a:ext cx="927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stibulo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el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8840" y="5095800"/>
              <a:ext cx="90792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vestibular nucle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94400" y="5713560"/>
              <a:ext cx="133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ye mvt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885640" y="60516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l &amp; later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40080" y="1117440"/>
            <a:ext cx="4824360" cy="5423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89800" y="157320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0280" y="2703600"/>
            <a:ext cx="1128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g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8480" y="3186000"/>
            <a:ext cx="2474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stibulocereb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vestibular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19240" y="1968480"/>
            <a:ext cx="495360" cy="1396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5360" y="2133720"/>
            <a:ext cx="482760" cy="1396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292640" y="3441600"/>
            <a:ext cx="1549440" cy="152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92640" y="2908440"/>
            <a:ext cx="1574640" cy="4190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5240" y="6119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0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76200" y="307800"/>
            <a:ext cx="3767040" cy="587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792680" y="590400"/>
            <a:ext cx="3903480" cy="6059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54720" y="264960"/>
            <a:ext cx="29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and 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i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4680" y="2649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mis &amp; Vestibulocereb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49400" y="3268800"/>
            <a:ext cx="2151000" cy="406440"/>
          </a:xfrm>
          <a:prstGeom prst="rect">
            <a:avLst/>
          </a:prstGeom>
          <a:solidFill>
            <a:srgbClr val="dc161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82760" y="3139920"/>
            <a:ext cx="23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161c"/>
                </a:solidFill>
                <a:latin typeface="Arial"/>
              </a:rPr>
              <a:t>Cerebellar cort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161c"/>
                </a:solidFill>
                <a:latin typeface="Arial"/>
              </a:rPr>
              <a:t>&amp; Deep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96960" y="2590920"/>
            <a:ext cx="204840" cy="357120"/>
          </a:xfrm>
          <a:prstGeom prst="rect">
            <a:avLst/>
          </a:prstGeom>
          <a:solidFill>
            <a:srgbClr val="66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64160" y="3710160"/>
            <a:ext cx="746280" cy="307800"/>
          </a:xfrm>
          <a:prstGeom prst="rect">
            <a:avLst/>
          </a:prstGeom>
          <a:solidFill>
            <a:srgbClr val="66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45280" y="2422440"/>
            <a:ext cx="662040" cy="47628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80280" y="1152360"/>
            <a:ext cx="1101600" cy="90036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152360"/>
            <a:ext cx="1101600" cy="90036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8280" y="2422440"/>
            <a:ext cx="662040" cy="47628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8000" y="3268800"/>
            <a:ext cx="2151360" cy="406440"/>
          </a:xfrm>
          <a:prstGeom prst="rect">
            <a:avLst/>
          </a:prstGeom>
          <a:solidFill>
            <a:srgbClr val="dc161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3040" y="2336760"/>
            <a:ext cx="474480" cy="371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23960" y="4405320"/>
            <a:ext cx="474840" cy="371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50240" y="249552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Brain stem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4320" y="1243080"/>
            <a:ext cx="265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halamu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rtical motor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81280" y="63086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5600" y="630864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74040" y="39862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Brain stem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7680" y="1004760"/>
            <a:ext cx="177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b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06840" y="42228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8840" y="6119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0,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s of the Cerebel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7440" y="2503080"/>
            <a:ext cx="69091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rning/adap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Non-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actil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rain functions (cerebellar cognitive-affective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336760" y="76320"/>
            <a:ext cx="5511960" cy="6553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52560" y="2901960"/>
            <a:ext cx="932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6320" y="3614760"/>
            <a:ext cx="95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53640" y="5410080"/>
            <a:ext cx="717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83400" y="2901960"/>
            <a:ext cx="93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04600" y="3614760"/>
            <a:ext cx="95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84120" y="5410080"/>
            <a:ext cx="717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5240" y="6119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motor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480" y="939960"/>
            <a:ext cx="8153640" cy="54226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342440" y="87480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85120" y="8748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te roug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39720" y="61070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9920" y="610704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e + discri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74160" y="63738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Motor Func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42200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via lateral and medial pathways, especially the corticospinal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into motor programs via frontal motor areas (SMA, premotor cortex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part of motor strategy via prefrontal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70200" y="0"/>
            <a:ext cx="3411720" cy="670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43680" y="2941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x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0080" y="700200"/>
            <a:ext cx="213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metri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41520" y="4764240"/>
            <a:ext cx="200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ordination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altern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diadocho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5240" y="6119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rebellar Cognitive Affect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ions of the </a:t>
            </a: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posterior c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ver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ment of execut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verbal fluency, abstract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ies with spatial 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o-spatial organization, vis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nting of affect, inappropriate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amm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0280" y="915480"/>
            <a:ext cx="6416640" cy="17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ellar lesions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ordination &amp; errors not weak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anticipat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0280" y="2508120"/>
            <a:ext cx="6416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ensory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via the descending cortical and brain stem pat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30280" y="3981600"/>
            <a:ext cx="64166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and emotional disturb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 connections to prefrontal and cingulate cortex (via thala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5251320"/>
            <a:ext cx="6416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ngl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mostly motor; learning,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may apply to cognitive and emotional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oints to Several Key Cerebella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intent and action (ie., errors) and generates correctiv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learning and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a role in automating and optimizing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ognition and general cognition &amp; emotions (new evidence; controversi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: Cerebellar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6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tor system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ellar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pathways out of the cerebellum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the cerebellum impacts the mot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approaches to rev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processes underlying movemen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in cognition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or Hierarc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932120"/>
            <a:ext cx="73231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470480" y="5889600"/>
            <a:ext cx="2017080" cy="777960"/>
            <a:chOff x="4470480" y="5889600"/>
            <a:chExt cx="2017080" cy="777960"/>
          </a:xfrm>
        </p:grpSpPr>
        <p:sp>
          <p:nvSpPr>
            <p:cNvPr id="56" name=""/>
            <p:cNvSpPr/>
            <p:nvPr/>
          </p:nvSpPr>
          <p:spPr>
            <a:xfrm>
              <a:off x="4470480" y="5889600"/>
              <a:ext cx="1963800" cy="777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4960" y="5916600"/>
              <a:ext cx="199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rts infl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all 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76640" y="4479840"/>
            <a:ext cx="1583280" cy="889560"/>
            <a:chOff x="476640" y="4479840"/>
            <a:chExt cx="1583280" cy="889560"/>
          </a:xfrm>
        </p:grpSpPr>
        <p:sp>
          <p:nvSpPr>
            <p:cNvPr id="59" name=""/>
            <p:cNvSpPr/>
            <p:nvPr/>
          </p:nvSpPr>
          <p:spPr>
            <a:xfrm>
              <a:off x="476640" y="44798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c0000"/>
                  </a:solidFill>
                  <a:latin typeface="Arial"/>
                </a:rPr>
                <a:t>I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0520" y="4970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c161c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 rot="16200000">
              <a:off x="1452600" y="4520160"/>
              <a:ext cx="396000" cy="46116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2" name=""/>
          <p:cNvSpPr/>
          <p:nvPr/>
        </p:nvSpPr>
        <p:spPr>
          <a:xfrm>
            <a:off x="3710160" y="2720880"/>
            <a:ext cx="1277640" cy="27648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° Som 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9560" y="3994200"/>
            <a:ext cx="1336680" cy="644400"/>
          </a:xfrm>
          <a:prstGeom prst="rect">
            <a:avLst/>
          </a:prstGeom>
          <a:noFill/>
          <a:ln w="28440">
            <a:solidFill>
              <a:srgbClr val="d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2680" y="1932120"/>
            <a:ext cx="2963880" cy="37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Functional Anat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82840" y="355680"/>
            <a:ext cx="5578560" cy="601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984600">
            <a:off x="3014640" y="4317840"/>
            <a:ext cx="239760" cy="420840"/>
          </a:xfrm>
          <a:custGeom>
            <a:avLst/>
            <a:gdLst>
              <a:gd name="textAreaLeft" fmla="*/ 153360 w 239760"/>
              <a:gd name="textAreaRight" fmla="*/ 240120 w 239760"/>
              <a:gd name="textAreaTop" fmla="*/ 10800 h 420840"/>
              <a:gd name="textAreaBottom" fmla="*/ 410040 h 4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5"/>
                </a:lnTo>
                <a:cubicBezTo>
                  <a:pt x="10800" y="9315"/>
                  <a:pt x="5400" y="10215"/>
                  <a:pt x="0" y="10215"/>
                </a:cubicBezTo>
                <a:cubicBezTo>
                  <a:pt x="5400" y="10215"/>
                  <a:pt x="10800" y="11115"/>
                  <a:pt x="10800" y="120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4080" y="7172280"/>
            <a:ext cx="51814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Anat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82480" y="2309760"/>
            <a:ext cx="3218040" cy="398880"/>
            <a:chOff x="582480" y="2309760"/>
            <a:chExt cx="3218040" cy="398880"/>
          </a:xfrm>
        </p:grpSpPr>
        <p:sp>
          <p:nvSpPr>
            <p:cNvPr id="70" name=""/>
            <p:cNvSpPr/>
            <p:nvPr/>
          </p:nvSpPr>
          <p:spPr>
            <a:xfrm>
              <a:off x="1496880" y="230976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rebellar Cort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2480" y="2506680"/>
              <a:ext cx="762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03040" y="3224160"/>
            <a:ext cx="4414680" cy="1923480"/>
            <a:chOff x="203040" y="3224160"/>
            <a:chExt cx="4414680" cy="1923480"/>
          </a:xfrm>
        </p:grpSpPr>
        <p:sp>
          <p:nvSpPr>
            <p:cNvPr id="73" name=""/>
            <p:cNvSpPr/>
            <p:nvPr/>
          </p:nvSpPr>
          <p:spPr>
            <a:xfrm>
              <a:off x="745920" y="3224160"/>
              <a:ext cx="38718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ep Cerebellar Nucle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n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po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stig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040" y="3403440"/>
              <a:ext cx="559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75600" y="6119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-output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1541520"/>
            <a:ext cx="4287960" cy="3759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84840" y="169704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ebel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54440" y="16794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g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3000" y="188604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3000" y="208764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45080" y="1957320"/>
            <a:ext cx="56880" cy="120600"/>
          </a:xfrm>
          <a:custGeom>
            <a:avLst/>
            <a:gdLst>
              <a:gd name="textAreaLeft" fmla="*/ 0 w 56880"/>
              <a:gd name="textAreaRight" fmla="*/ 20520 w 56880"/>
              <a:gd name="textAreaTop" fmla="*/ 2880 h 120600"/>
              <a:gd name="textAreaBottom" fmla="*/ 117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81920" y="1289160"/>
            <a:ext cx="13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Cerebel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0200" y="4626000"/>
            <a:ext cx="86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stib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6920" y="4762440"/>
            <a:ext cx="1673280" cy="180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6160" y="5664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248800" y="2035080"/>
            <a:ext cx="3225240" cy="4313880"/>
            <a:chOff x="5248800" y="2035080"/>
            <a:chExt cx="3225240" cy="431388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62640" y="2058840"/>
              <a:ext cx="3011400" cy="32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238160" y="246852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45360" y="334152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53640" y="399888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8800" y="5340240"/>
              <a:ext cx="203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rinsic input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sy fi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mbing fi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7440" y="35053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c161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0280" y="29512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d181e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2840" y="20350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d181e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12000" y="2898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c161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34440" y="2700360"/>
              <a:ext cx="0" cy="677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4440" y="3581280"/>
              <a:ext cx="0" cy="457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900400" y="2639880"/>
              <a:ext cx="1330560" cy="2549520"/>
              <a:chOff x="5900400" y="2639880"/>
              <a:chExt cx="1330560" cy="25495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5910120" y="2639880"/>
                <a:ext cx="0" cy="25495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900400" y="2649600"/>
                <a:ext cx="12366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927760" y="3538440"/>
                <a:ext cx="13032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5697360" y="2530440"/>
              <a:ext cx="0" cy="2666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688000" y="2540160"/>
              <a:ext cx="1432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715000" y="3429000"/>
              <a:ext cx="1549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158920" y="625464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79760" y="228600"/>
            <a:ext cx="3905280" cy="6629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37320" y="40370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0400" y="1217520"/>
            <a:ext cx="7770600" cy="3396240"/>
            <a:chOff x="500400" y="1217520"/>
            <a:chExt cx="7770600" cy="3396240"/>
          </a:xfrm>
        </p:grpSpPr>
        <p:sp>
          <p:nvSpPr>
            <p:cNvPr id="110" name=""/>
            <p:cNvSpPr/>
            <p:nvPr/>
          </p:nvSpPr>
          <p:spPr>
            <a:xfrm>
              <a:off x="5610960" y="39607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rm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40440" y="4214880"/>
              <a:ext cx="223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mediate h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00400" y="1217520"/>
              <a:ext cx="7732080" cy="1948320"/>
              <a:chOff x="500400" y="1217520"/>
              <a:chExt cx="7732080" cy="1948320"/>
            </a:xfrm>
          </p:grpSpPr>
          <p:sp>
            <p:nvSpPr>
              <p:cNvPr id="113" name=""/>
              <p:cNvSpPr/>
              <p:nvPr/>
            </p:nvSpPr>
            <p:spPr>
              <a:xfrm>
                <a:off x="5636160" y="1217520"/>
                <a:ext cx="259632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pinocerebellum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ermi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Intermediate he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400" y="1695600"/>
                <a:ext cx="3115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pinocerebell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Vermis + Intermed. Hem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1120" y="2462040"/>
                <a:ext cx="2018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 of limb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d tru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01480" y="2068560"/>
            <a:ext cx="8537040" cy="2849760"/>
            <a:chOff x="501480" y="2068560"/>
            <a:chExt cx="8537040" cy="2849760"/>
          </a:xfrm>
        </p:grpSpPr>
        <p:sp>
          <p:nvSpPr>
            <p:cNvPr id="117" name=""/>
            <p:cNvSpPr/>
            <p:nvPr/>
          </p:nvSpPr>
          <p:spPr>
            <a:xfrm>
              <a:off x="6308280" y="451944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teral h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1480" y="2068560"/>
              <a:ext cx="8537040" cy="2037240"/>
              <a:chOff x="501480" y="2068560"/>
              <a:chExt cx="8537040" cy="2037240"/>
            </a:xfrm>
          </p:grpSpPr>
          <p:sp>
            <p:nvSpPr>
              <p:cNvPr id="119" name=""/>
              <p:cNvSpPr/>
              <p:nvPr/>
            </p:nvSpPr>
            <p:spPr>
              <a:xfrm>
                <a:off x="6618960" y="2068560"/>
                <a:ext cx="24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erebrocerebellum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teral he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1480" y="3097080"/>
                <a:ext cx="253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erebrocerebell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Lateral hemispher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9680" y="3706920"/>
                <a:ext cx="286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lanning of movement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502560" y="4189320"/>
            <a:ext cx="8536320" cy="2405520"/>
            <a:chOff x="502560" y="4189320"/>
            <a:chExt cx="8536320" cy="2405520"/>
          </a:xfrm>
        </p:grpSpPr>
        <p:sp>
          <p:nvSpPr>
            <p:cNvPr id="123" name=""/>
            <p:cNvSpPr/>
            <p:nvPr/>
          </p:nvSpPr>
          <p:spPr>
            <a:xfrm>
              <a:off x="6549120" y="6195960"/>
              <a:ext cx="24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oculo-nodular lo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560" y="418932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stibulo-cerebel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Floculo-nodular lob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0760" y="4849920"/>
              <a:ext cx="2679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 of eye 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 mov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311880" y="5727600"/>
            <a:ext cx="432000" cy="50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840" y="50760"/>
            <a:ext cx="433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div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5240" y="6119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5:50:41Z</dcterms:created>
  <dc:creator>John Martin</dc:creator>
  <dc:description/>
  <dc:language>en-US</dc:language>
  <cp:lastModifiedBy>John Martin</cp:lastModifiedBy>
  <dcterms:modified xsi:type="dcterms:W3CDTF">2004-03-10T11:38:19Z</dcterms:modified>
  <cp:revision>127</cp:revision>
  <dc:subject/>
  <dc:title>Cerebellum</dc:title>
</cp:coreProperties>
</file>