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820-EF6E-4A49-8743-09DF708C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E7C-1355-402F-9745-95374BA8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DA7-D9E0-481E-A6BB-92F93BF3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E6B-10EC-4B55-85B3-C2491A11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7BB-DE27-41A8-AA0E-22B19F04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2F7-ADD0-4943-BBC0-C78C8017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67D-163D-4837-BABF-51181726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267-14C8-42AE-876F-E730DD6E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8EB-A4AE-4292-B0E4-58E5600E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7CA-19A1-4F6B-AEB0-D1CAF748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AB8-01F5-478B-A7B4-58571C15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8FF-6DE3-427E-B042-78734F4E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C74D-B0C8-44C1-8545-5C3718C66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62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9200" y="5141880"/>
            <a:ext cx="498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H. Martin,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 for Neurobiology &amp;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bia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22280" y="-360"/>
            <a:ext cx="532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rebellar Cort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14360" y="1689120"/>
            <a:ext cx="587520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57080" y="7509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22082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300816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88440" y="113184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bing fib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from Inferior ol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88080" y="177624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sy f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88440" y="251316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kinje 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9520" y="38084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llate 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87360" y="336384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ule 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88080" y="424008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ket 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88800" y="460836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gi 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1400" y="46735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1040" y="504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ki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680" y="5329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5240" y="611964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A Fig. 13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204840" y="3149640"/>
            <a:ext cx="3132000" cy="3371760"/>
            <a:chOff x="204840" y="3149640"/>
            <a:chExt cx="3132000" cy="337176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204840" y="3149640"/>
              <a:ext cx="312732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846440" y="3232080"/>
              <a:ext cx="1490400" cy="31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187720" y="1693800"/>
            <a:ext cx="4557600" cy="221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22400" y="2241720"/>
            <a:ext cx="3259440" cy="1087200"/>
          </a:xfrm>
          <a:prstGeom prst="ellipse">
            <a:avLst/>
          </a:prstGeom>
          <a:solidFill>
            <a:srgbClr val="dc161c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67240" y="4056120"/>
            <a:ext cx="0" cy="1611360"/>
            <a:chOff x="4467240" y="4056120"/>
            <a:chExt cx="0" cy="1611360"/>
          </a:xfrm>
        </p:grpSpPr>
        <p:sp>
          <p:nvSpPr>
            <p:cNvPr id="151" name=""/>
            <p:cNvSpPr/>
            <p:nvPr/>
          </p:nvSpPr>
          <p:spPr>
            <a:xfrm>
              <a:off x="4467240" y="4919760"/>
              <a:ext cx="0" cy="74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67240" y="4056120"/>
              <a:ext cx="0" cy="74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40280" y="5786280"/>
            <a:ext cx="44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fiber input to cerebellar co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21080" y="111600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inhibitory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43240" y="2374920"/>
            <a:ext cx="2427480" cy="809640"/>
          </a:xfrm>
          <a:prstGeom prst="ellipse">
            <a:avLst/>
          </a:prstGeom>
          <a:solidFill>
            <a:srgbClr val="dc1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7280" y="2063880"/>
            <a:ext cx="209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Inhibition</a:t>
            </a:r>
            <a:br>
              <a:rPr sz="2000"/>
            </a:b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reduces siz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active Purki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78080" y="4051440"/>
            <a:ext cx="1935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= Lateral </a:t>
            </a:r>
            <a:br>
              <a:rPr sz="2000"/>
            </a:b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   inhib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Output more</a:t>
            </a:r>
            <a:br>
              <a:rPr sz="2000"/>
            </a:b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focused; more</a:t>
            </a:r>
            <a:br>
              <a:rPr sz="2000"/>
            </a:br>
            <a:r>
              <a:rPr b="1" lang="en-US" sz="2000" spc="-1" strike="noStrike">
                <a:solidFill>
                  <a:srgbClr val="dc0000"/>
                </a:solidFill>
                <a:latin typeface="Arial"/>
              </a:rPr>
              <a:t>pre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72520" y="11160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inhibitory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63880" y="1490760"/>
            <a:ext cx="203040" cy="116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978440" y="1455840"/>
            <a:ext cx="127008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6858000"/>
            <a:ext cx="29462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bm unf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492120" y="604800"/>
            <a:ext cx="9636120" cy="420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816200" y="1981080"/>
            <a:ext cx="8254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2336760"/>
            <a:ext cx="9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47840" y="3873600"/>
            <a:ext cx="12826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75120" y="660240"/>
            <a:ext cx="2311560" cy="10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56480" y="1536840"/>
            <a:ext cx="12826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720" y="2133720"/>
            <a:ext cx="12826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23240" y="4356000"/>
            <a:ext cx="1600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78440" y="4508640"/>
            <a:ext cx="1600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4368960"/>
            <a:ext cx="1282680" cy="40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48440" y="4038480"/>
            <a:ext cx="12826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7160" y="3873600"/>
            <a:ext cx="12826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400" y="231840"/>
            <a:ext cx="80042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divisions of cerebellar cortex --&gt; Deep nuc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5600" y="611964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S Fig. 42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231480"/>
            <a:ext cx="80042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divisions of cerebellar cortex --&gt; Deep nuc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2819520" y="1447920"/>
            <a:ext cx="7535880" cy="4114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-2921040" y="1384200"/>
            <a:ext cx="3886200" cy="459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26000" y="1353960"/>
            <a:ext cx="3486240" cy="5918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648320" y="4884840"/>
            <a:ext cx="410184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17680" y="2543040"/>
            <a:ext cx="654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07120" y="2746440"/>
            <a:ext cx="1370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48680" y="2987640"/>
            <a:ext cx="1582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Cerebrocerebellu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teral hemi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53520" y="241632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Spinocerebel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9840" y="4448160"/>
            <a:ext cx="13327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Vestibulo-</a:t>
            </a:r>
            <a:br>
              <a:rPr sz="1200"/>
            </a:b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cerebel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culo-nodula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1"/>
          </p:cNvCxnSpPr>
          <p:nvPr/>
        </p:nvCxnSpPr>
        <p:spPr>
          <a:xfrm rot="10800000">
            <a:off x="7095240" y="4564080"/>
            <a:ext cx="531000" cy="29556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7" name=""/>
          <p:cNvGrpSpPr/>
          <p:nvPr/>
        </p:nvGrpSpPr>
        <p:grpSpPr>
          <a:xfrm>
            <a:off x="666720" y="2604960"/>
            <a:ext cx="1748520" cy="1229040"/>
            <a:chOff x="666720" y="2604960"/>
            <a:chExt cx="1748520" cy="1229040"/>
          </a:xfrm>
        </p:grpSpPr>
        <p:sp>
          <p:nvSpPr>
            <p:cNvPr id="188" name=""/>
            <p:cNvSpPr/>
            <p:nvPr/>
          </p:nvSpPr>
          <p:spPr>
            <a:xfrm>
              <a:off x="666720" y="2604960"/>
              <a:ext cx="14896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ebrocerebellu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teral hemisp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98120" y="3557520"/>
              <a:ext cx="717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nt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59600" y="2208240"/>
            <a:ext cx="1391400" cy="3511800"/>
            <a:chOff x="1659600" y="2208240"/>
            <a:chExt cx="1391400" cy="3511800"/>
          </a:xfrm>
        </p:grpSpPr>
        <p:sp>
          <p:nvSpPr>
            <p:cNvPr id="191" name=""/>
            <p:cNvSpPr/>
            <p:nvPr/>
          </p:nvSpPr>
          <p:spPr>
            <a:xfrm>
              <a:off x="1659600" y="2208240"/>
              <a:ext cx="10310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mediat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misp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20920" y="3440160"/>
              <a:ext cx="5968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s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57560" y="5078520"/>
              <a:ext cx="7934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late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et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203560" y="1349280"/>
            <a:ext cx="1319040" cy="898920"/>
            <a:chOff x="2203560" y="1349280"/>
            <a:chExt cx="1319040" cy="898920"/>
          </a:xfrm>
        </p:grpSpPr>
        <p:sp>
          <p:nvSpPr>
            <p:cNvPr id="195" name=""/>
            <p:cNvSpPr/>
            <p:nvPr/>
          </p:nvSpPr>
          <p:spPr>
            <a:xfrm>
              <a:off x="2203560" y="1349280"/>
              <a:ext cx="131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inocerebell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25040" y="1971720"/>
              <a:ext cx="654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m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52560" y="3965400"/>
            <a:ext cx="1047960" cy="1771920"/>
            <a:chOff x="2752560" y="3965400"/>
            <a:chExt cx="1047960" cy="1771920"/>
          </a:xfrm>
        </p:grpSpPr>
        <p:sp>
          <p:nvSpPr>
            <p:cNvPr id="198" name=""/>
            <p:cNvSpPr/>
            <p:nvPr/>
          </p:nvSpPr>
          <p:spPr>
            <a:xfrm>
              <a:off x="2752560" y="3965400"/>
              <a:ext cx="749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stig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06720" y="5095800"/>
              <a:ext cx="79380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med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et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014480" y="5095800"/>
            <a:ext cx="1248120" cy="1626480"/>
            <a:chOff x="1014480" y="5095800"/>
            <a:chExt cx="1248120" cy="1626480"/>
          </a:xfrm>
        </p:grpSpPr>
        <p:sp>
          <p:nvSpPr>
            <p:cNvPr id="201" name=""/>
            <p:cNvSpPr/>
            <p:nvPr/>
          </p:nvSpPr>
          <p:spPr>
            <a:xfrm>
              <a:off x="1266480" y="5095800"/>
              <a:ext cx="9961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frontal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tor 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14480" y="5713560"/>
              <a:ext cx="117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371680" y="5713560"/>
            <a:ext cx="12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755160" y="4270320"/>
            <a:ext cx="1378080" cy="2147040"/>
            <a:chOff x="3755160" y="4270320"/>
            <a:chExt cx="1378080" cy="2147040"/>
          </a:xfrm>
        </p:grpSpPr>
        <p:sp>
          <p:nvSpPr>
            <p:cNvPr id="205" name=""/>
            <p:cNvSpPr/>
            <p:nvPr/>
          </p:nvSpPr>
          <p:spPr>
            <a:xfrm>
              <a:off x="3755160" y="4270320"/>
              <a:ext cx="9273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stibulo-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ebell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68840" y="5095800"/>
              <a:ext cx="90792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vestibular nucle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94400" y="5713560"/>
              <a:ext cx="133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ye mvt 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885640" y="6051600"/>
            <a:ext cx="17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S Fig. 4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A Fig. 13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98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al &amp; lateral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440080" y="1117440"/>
            <a:ext cx="4824360" cy="5423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89800" y="1573200"/>
            <a:ext cx="138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40280" y="2703600"/>
            <a:ext cx="1128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g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38480" y="3186000"/>
            <a:ext cx="2474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stibulocerebel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vestibular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19240" y="1968480"/>
            <a:ext cx="495360" cy="1396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65360" y="2133720"/>
            <a:ext cx="482760" cy="1396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292640" y="3441600"/>
            <a:ext cx="1549440" cy="152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292640" y="2908440"/>
            <a:ext cx="1574640" cy="4190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75240" y="611964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A Fig. 10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76200" y="307800"/>
            <a:ext cx="3767040" cy="5877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792680" y="590400"/>
            <a:ext cx="3903480" cy="6059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54720" y="264960"/>
            <a:ext cx="29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te and 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isph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4680" y="26496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mis &amp; Vestibulocerebel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49400" y="3268800"/>
            <a:ext cx="2151000" cy="406440"/>
          </a:xfrm>
          <a:prstGeom prst="rect">
            <a:avLst/>
          </a:prstGeom>
          <a:solidFill>
            <a:srgbClr val="dc161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82760" y="3139920"/>
            <a:ext cx="233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161c"/>
                </a:solidFill>
                <a:latin typeface="Arial"/>
              </a:rPr>
              <a:t>Cerebellar corte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c161c"/>
                </a:solidFill>
                <a:latin typeface="Arial"/>
              </a:rPr>
              <a:t>&amp; Deep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96960" y="2590920"/>
            <a:ext cx="204840" cy="357120"/>
          </a:xfrm>
          <a:prstGeom prst="rect">
            <a:avLst/>
          </a:prstGeom>
          <a:solidFill>
            <a:srgbClr val="66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64160" y="3710160"/>
            <a:ext cx="746280" cy="307800"/>
          </a:xfrm>
          <a:prstGeom prst="rect">
            <a:avLst/>
          </a:prstGeom>
          <a:solidFill>
            <a:srgbClr val="66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45280" y="2422440"/>
            <a:ext cx="662040" cy="476280"/>
          </a:xfrm>
          <a:prstGeom prst="rect">
            <a:avLst/>
          </a:prstGeom>
          <a:solidFill>
            <a:srgbClr val="ffcc6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80280" y="1152360"/>
            <a:ext cx="1101600" cy="900360"/>
          </a:xfrm>
          <a:prstGeom prst="rect">
            <a:avLst/>
          </a:prstGeom>
          <a:solidFill>
            <a:srgbClr val="ffcc6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1152360"/>
            <a:ext cx="1101600" cy="900360"/>
          </a:xfrm>
          <a:prstGeom prst="rect">
            <a:avLst/>
          </a:prstGeom>
          <a:solidFill>
            <a:srgbClr val="ffcc6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8280" y="2422440"/>
            <a:ext cx="662040" cy="476280"/>
          </a:xfrm>
          <a:prstGeom prst="rect">
            <a:avLst/>
          </a:prstGeom>
          <a:solidFill>
            <a:srgbClr val="ffcc6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8000" y="3268800"/>
            <a:ext cx="2151360" cy="406440"/>
          </a:xfrm>
          <a:prstGeom prst="rect">
            <a:avLst/>
          </a:prstGeom>
          <a:solidFill>
            <a:srgbClr val="dc161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3040" y="2336760"/>
            <a:ext cx="474480" cy="371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23960" y="4405320"/>
            <a:ext cx="474840" cy="371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50240" y="249552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Brain stem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44320" y="1243080"/>
            <a:ext cx="265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halamu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rtical motor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81280" y="63086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85600" y="630864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s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74040" y="39862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Brain stem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7680" y="1004760"/>
            <a:ext cx="177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 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b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06840" y="422280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al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98840" y="611964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S Fig. 42-10,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s of the Cerebell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7440" y="2503080"/>
            <a:ext cx="690912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181e"/>
                </a:solidFill>
                <a:latin typeface="Arial"/>
              </a:rPr>
              <a:t>Mo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arning/adap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181e"/>
                </a:solidFill>
                <a:latin typeface="Arial"/>
              </a:rPr>
              <a:t>Non-mo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actile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brain functions (cerebellar cognitive-affective synd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336760" y="76320"/>
            <a:ext cx="5511960" cy="6553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52560" y="2901960"/>
            <a:ext cx="932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26320" y="3614760"/>
            <a:ext cx="959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53640" y="5410080"/>
            <a:ext cx="717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83400" y="2901960"/>
            <a:ext cx="93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04600" y="3614760"/>
            <a:ext cx="959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84120" y="5410080"/>
            <a:ext cx="717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5240" y="61196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S Fig. 42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motor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09480" y="939960"/>
            <a:ext cx="8153640" cy="54226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342440" y="87480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e st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85120" y="87480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riminate rough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39720" y="610704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pulate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9920" y="6107040"/>
            <a:ext cx="30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pulate + discri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74160" y="637380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S Fig. 42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rebellar Motor Funct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422000"/>
            <a:ext cx="777240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via lateral and medial pathways, especially the corticospinal 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d into motor programs via frontal motor areas (SMA, premotor cortex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 part of motor strategy via prefrontal 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rebellar Sig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70200" y="0"/>
            <a:ext cx="3411720" cy="670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943680" y="2941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ax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40080" y="700200"/>
            <a:ext cx="213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metria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41520" y="4764240"/>
            <a:ext cx="2006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ordination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alternat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diadocho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s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5240" y="61196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S Fig. 42-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rebellar Cognitive Affective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ions of the </a:t>
            </a:r>
            <a:r>
              <a:rPr b="0" lang="en-US" sz="2800" spc="-1" strike="noStrike">
                <a:solidFill>
                  <a:srgbClr val="ed181e"/>
                </a:solidFill>
                <a:latin typeface="Arial"/>
              </a:rPr>
              <a:t>posterior cort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ed181e"/>
                </a:solidFill>
                <a:latin typeface="Arial"/>
              </a:rPr>
              <a:t>verm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irment of executiv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, verbal fluency, abstract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ies with spatial 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o-spatial organization, visual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nting of affect, inappropriate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amma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0280" y="915480"/>
            <a:ext cx="6416640" cy="17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bellar lesions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ordination &amp; errors not weak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 ability to anticipat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 ability to 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30280" y="2508120"/>
            <a:ext cx="64166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sensory awar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via the descending cortical and brain stem path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30280" y="3981600"/>
            <a:ext cx="64166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and emotional disturb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 connections to prefrontal and cingulate cortex (via thalam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30280" y="5251320"/>
            <a:ext cx="64166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ngl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mostly motor; learning, optim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may apply to cognitive and emotional 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Points to Several Key Cerebellar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intent and action (ie., errors) and generates corrective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learning and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a role in automating and optimizing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cognition and general cognition &amp; emotions (new evidence; controversia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: Cerebellar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66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motor system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ebellar ana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pathways out of the cerebellum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the cerebellum impacts the mot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approaches to rev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 processes underlying movemen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in cognition and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72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or Hierarc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31840" y="1932120"/>
            <a:ext cx="7323120" cy="41148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4470480" y="5889600"/>
            <a:ext cx="2017080" cy="777960"/>
            <a:chOff x="4470480" y="5889600"/>
            <a:chExt cx="2017080" cy="777960"/>
          </a:xfrm>
        </p:grpSpPr>
        <p:sp>
          <p:nvSpPr>
            <p:cNvPr id="56" name=""/>
            <p:cNvSpPr/>
            <p:nvPr/>
          </p:nvSpPr>
          <p:spPr>
            <a:xfrm>
              <a:off x="4470480" y="5889600"/>
              <a:ext cx="1963800" cy="7779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94960" y="5916600"/>
              <a:ext cx="1992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erts influ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t all lev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76640" y="4479840"/>
            <a:ext cx="1583280" cy="889560"/>
            <a:chOff x="476640" y="4479840"/>
            <a:chExt cx="1583280" cy="889560"/>
          </a:xfrm>
        </p:grpSpPr>
        <p:sp>
          <p:nvSpPr>
            <p:cNvPr id="59" name=""/>
            <p:cNvSpPr/>
            <p:nvPr/>
          </p:nvSpPr>
          <p:spPr>
            <a:xfrm>
              <a:off x="476640" y="447984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c0000"/>
                  </a:solidFill>
                  <a:latin typeface="Arial"/>
                </a:rPr>
                <a:t>I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00520" y="4970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c161c"/>
                  </a:solidFill>
                  <a:latin typeface="Arial"/>
                </a:rPr>
                <a:t>Ac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/>
            <p:nvPr/>
          </p:nvCxnSpPr>
          <p:spPr>
            <a:xfrm flipH="1" rot="16200000">
              <a:off x="1452600" y="4520160"/>
              <a:ext cx="396000" cy="46116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2" name=""/>
          <p:cNvSpPr/>
          <p:nvPr/>
        </p:nvSpPr>
        <p:spPr>
          <a:xfrm>
            <a:off x="3710160" y="2720880"/>
            <a:ext cx="1277640" cy="276480"/>
          </a:xfrm>
          <a:prstGeom prst="rect">
            <a:avLst/>
          </a:prstGeom>
          <a:solidFill>
            <a:srgbClr val="d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° Som s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9560" y="3994200"/>
            <a:ext cx="1336680" cy="644400"/>
          </a:xfrm>
          <a:prstGeom prst="rect">
            <a:avLst/>
          </a:prstGeom>
          <a:noFill/>
          <a:ln w="28440">
            <a:solidFill>
              <a:srgbClr val="d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62680" y="1932120"/>
            <a:ext cx="2963880" cy="37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0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rebellar Functional Anat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82840" y="355680"/>
            <a:ext cx="5578560" cy="6011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8984600">
            <a:off x="3014640" y="4317840"/>
            <a:ext cx="239760" cy="420840"/>
          </a:xfrm>
          <a:custGeom>
            <a:avLst/>
            <a:gdLst>
              <a:gd name="textAreaLeft" fmla="*/ 153360 w 239760"/>
              <a:gd name="textAreaRight" fmla="*/ 240120 w 239760"/>
              <a:gd name="textAreaTop" fmla="*/ 10800 h 420840"/>
              <a:gd name="textAreaBottom" fmla="*/ 410040 h 4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15"/>
                </a:lnTo>
                <a:cubicBezTo>
                  <a:pt x="10800" y="9315"/>
                  <a:pt x="5400" y="10215"/>
                  <a:pt x="0" y="10215"/>
                </a:cubicBezTo>
                <a:cubicBezTo>
                  <a:pt x="5400" y="10215"/>
                  <a:pt x="10800" y="11115"/>
                  <a:pt x="10800" y="1201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4080" y="7172280"/>
            <a:ext cx="518148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rebellar Anat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82480" y="2309760"/>
            <a:ext cx="3218040" cy="398880"/>
            <a:chOff x="582480" y="2309760"/>
            <a:chExt cx="3218040" cy="398880"/>
          </a:xfrm>
        </p:grpSpPr>
        <p:sp>
          <p:nvSpPr>
            <p:cNvPr id="70" name=""/>
            <p:cNvSpPr/>
            <p:nvPr/>
          </p:nvSpPr>
          <p:spPr>
            <a:xfrm>
              <a:off x="1496880" y="2309760"/>
              <a:ext cx="230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erebellar Cort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2480" y="2506680"/>
              <a:ext cx="762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03040" y="3224160"/>
            <a:ext cx="4414680" cy="1923480"/>
            <a:chOff x="203040" y="3224160"/>
            <a:chExt cx="4414680" cy="1923480"/>
          </a:xfrm>
        </p:grpSpPr>
        <p:sp>
          <p:nvSpPr>
            <p:cNvPr id="73" name=""/>
            <p:cNvSpPr/>
            <p:nvPr/>
          </p:nvSpPr>
          <p:spPr>
            <a:xfrm>
              <a:off x="745920" y="3224160"/>
              <a:ext cx="38718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ep Cerebellar Nucle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n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erpos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astig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3040" y="3403440"/>
              <a:ext cx="559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975600" y="611964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S Fig. 42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9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-output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00000" y="1541520"/>
            <a:ext cx="4287960" cy="3759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184840" y="169704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ebel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54440" y="167940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g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53000" y="188604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53000" y="208764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45080" y="1957320"/>
            <a:ext cx="56880" cy="120600"/>
          </a:xfrm>
          <a:custGeom>
            <a:avLst/>
            <a:gdLst>
              <a:gd name="textAreaLeft" fmla="*/ 0 w 56880"/>
              <a:gd name="textAreaRight" fmla="*/ 20520 w 56880"/>
              <a:gd name="textAreaTop" fmla="*/ 2880 h 120600"/>
              <a:gd name="textAreaBottom" fmla="*/ 117720 h 1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81920" y="1289160"/>
            <a:ext cx="133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Cerebel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60200" y="4626000"/>
            <a:ext cx="86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stib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6920" y="4762440"/>
            <a:ext cx="1673280" cy="180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6160" y="5664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248800" y="2035080"/>
            <a:ext cx="3225240" cy="4313880"/>
            <a:chOff x="5248800" y="2035080"/>
            <a:chExt cx="3225240" cy="431388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5462640" y="2058840"/>
              <a:ext cx="3011400" cy="32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238160" y="246852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te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45360" y="3341520"/>
              <a:ext cx="60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53640" y="3998880"/>
              <a:ext cx="64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8800" y="5340240"/>
              <a:ext cx="203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trinsic inputs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ssy fi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mbing fi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07440" y="35053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c161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50280" y="29512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d181e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92840" y="20350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d181e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12000" y="28987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c161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34440" y="2700360"/>
              <a:ext cx="0" cy="677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34440" y="3581280"/>
              <a:ext cx="0" cy="457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900400" y="2639880"/>
              <a:ext cx="1330560" cy="2549520"/>
              <a:chOff x="5900400" y="2639880"/>
              <a:chExt cx="1330560" cy="2549520"/>
            </a:xfrm>
          </p:grpSpPr>
          <p:sp>
            <p:nvSpPr>
              <p:cNvPr id="100" name=""/>
              <p:cNvSpPr/>
              <p:nvPr/>
            </p:nvSpPr>
            <p:spPr>
              <a:xfrm flipV="1">
                <a:off x="5910120" y="2639880"/>
                <a:ext cx="0" cy="254952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5900400" y="2649600"/>
                <a:ext cx="123660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5927760" y="3538440"/>
                <a:ext cx="130320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 flipV="1">
              <a:off x="5697360" y="2530440"/>
              <a:ext cx="0" cy="2666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688000" y="2540160"/>
              <a:ext cx="14320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715000" y="3429000"/>
              <a:ext cx="1549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158920" y="625464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A Fig. 13-2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79760" y="228600"/>
            <a:ext cx="3905280" cy="6629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37320" y="40370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00400" y="1217520"/>
            <a:ext cx="7770600" cy="3396240"/>
            <a:chOff x="500400" y="1217520"/>
            <a:chExt cx="7770600" cy="3396240"/>
          </a:xfrm>
        </p:grpSpPr>
        <p:sp>
          <p:nvSpPr>
            <p:cNvPr id="110" name=""/>
            <p:cNvSpPr/>
            <p:nvPr/>
          </p:nvSpPr>
          <p:spPr>
            <a:xfrm>
              <a:off x="5610960" y="396072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rm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40440" y="4214880"/>
              <a:ext cx="223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ermediate he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00400" y="1217520"/>
              <a:ext cx="7732080" cy="1948320"/>
              <a:chOff x="500400" y="1217520"/>
              <a:chExt cx="7732080" cy="1948320"/>
            </a:xfrm>
          </p:grpSpPr>
          <p:sp>
            <p:nvSpPr>
              <p:cNvPr id="113" name=""/>
              <p:cNvSpPr/>
              <p:nvPr/>
            </p:nvSpPr>
            <p:spPr>
              <a:xfrm>
                <a:off x="5636160" y="1217520"/>
                <a:ext cx="2596320" cy="9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pinocerebellum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ermis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  Intermediate hem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400" y="1695600"/>
                <a:ext cx="3115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pinocerebell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Vermis + Intermed. Hem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1120" y="2462040"/>
                <a:ext cx="20185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ntrol of limb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nd trun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01480" y="2068560"/>
            <a:ext cx="8537040" cy="2849760"/>
            <a:chOff x="501480" y="2068560"/>
            <a:chExt cx="8537040" cy="2849760"/>
          </a:xfrm>
        </p:grpSpPr>
        <p:sp>
          <p:nvSpPr>
            <p:cNvPr id="117" name=""/>
            <p:cNvSpPr/>
            <p:nvPr/>
          </p:nvSpPr>
          <p:spPr>
            <a:xfrm>
              <a:off x="6308280" y="451944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teral he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01480" y="2068560"/>
              <a:ext cx="8537040" cy="2037240"/>
              <a:chOff x="501480" y="2068560"/>
              <a:chExt cx="8537040" cy="2037240"/>
            </a:xfrm>
          </p:grpSpPr>
          <p:sp>
            <p:nvSpPr>
              <p:cNvPr id="119" name=""/>
              <p:cNvSpPr/>
              <p:nvPr/>
            </p:nvSpPr>
            <p:spPr>
              <a:xfrm>
                <a:off x="6618960" y="2068560"/>
                <a:ext cx="2419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erebrocerebellum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teral hem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1480" y="3097080"/>
                <a:ext cx="2532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erebrocerebell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Lateral hemispher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9680" y="3706920"/>
                <a:ext cx="286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lanning of movement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502560" y="4189320"/>
            <a:ext cx="8536320" cy="2405520"/>
            <a:chOff x="502560" y="4189320"/>
            <a:chExt cx="8536320" cy="2405520"/>
          </a:xfrm>
        </p:grpSpPr>
        <p:sp>
          <p:nvSpPr>
            <p:cNvPr id="123" name=""/>
            <p:cNvSpPr/>
            <p:nvPr/>
          </p:nvSpPr>
          <p:spPr>
            <a:xfrm>
              <a:off x="6549120" y="6195960"/>
              <a:ext cx="24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loculo-nodular lo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2560" y="418932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stibulo-cerebell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Floculo-nodular lob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0760" y="4849920"/>
              <a:ext cx="2679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ol of eye &amp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d mov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311880" y="5727600"/>
            <a:ext cx="432000" cy="50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840" y="50760"/>
            <a:ext cx="433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rebellar divi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5240" y="611964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A Fig. 13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15:50:41Z</dcterms:created>
  <dc:creator>John Martin</dc:creator>
  <dc:description/>
  <dc:language>en-US</dc:language>
  <cp:lastModifiedBy>John Martin</cp:lastModifiedBy>
  <dcterms:modified xsi:type="dcterms:W3CDTF">2004-03-10T11:38:19Z</dcterms:modified>
  <cp:revision>127</cp:revision>
  <dc:subject/>
  <dc:title>Cerebellum</dc:title>
</cp:coreProperties>
</file>