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8EFA-608A-410C-8318-D414EB976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4F05-59E1-4A52-81CB-305F8907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A7D9-386B-4E6E-87B1-75D72BD76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C300-B807-4C9B-BE5E-F577500B9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8968-54AD-48CC-9DF6-7447A5F59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A3F9-F1CF-4DC1-AC94-60F4B99C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B3CA-8507-4E49-9291-195703B9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6C4E-4C4C-4AEA-9EDD-17C8471D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1EEF-E9DD-4600-A736-26D85A40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CFCD-DEB2-4437-96C9-57C065F5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7223-B3C4-4F64-80DD-E6EE6C93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D2A4-5E8E-4978-AEC4-3330FD62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3DE6-157C-4110-849E-1C1A925A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F264-DA05-4B4F-9925-77C74487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470D-9D4E-4287-B596-8F1151C9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0527-38DB-4052-803B-06AFC6260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717E-5BAB-4848-8E16-2F354B8E2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2CDB-5597-49CA-9978-7BDD7CCA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2E4C-C292-4628-8906-F53AD933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9654-ACE2-4492-869F-BCE420C9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C9FB-E8EB-414D-95A5-0008C299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B674-34CE-4058-A449-378686D7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0DA4-9641-40E9-8273-2F6BBD79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7931-BCCD-4CC7-97D3-D4FA0CC5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7F78-9D5F-4AF4-BEFD-0E94E994A9CF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3D30-052E-49E7-B3DD-5D228F46383E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709640"/>
            <a:ext cx="76230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006633"/>
                </a:solidFill>
                <a:latin typeface="Garamond"/>
              </a:rPr>
              <a:t>The Cerebellum</a:t>
            </a:r>
            <a:br>
              <a:rPr sz="6100"/>
            </a:br>
            <a:endParaRPr b="0" lang="en-US" sz="61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Three functional divis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3848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Vestibulocerebellum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100" spc="-1" strike="noStrike">
                <a:solidFill>
                  <a:srgbClr val="0000ff"/>
                </a:solidFill>
                <a:latin typeface="Arial"/>
              </a:rPr>
              <a:t>前庭小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Archicerebellum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原小脑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Flocculonodular lob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Spinocerebellum             </a:t>
            </a:r>
            <a:r>
              <a:rPr b="1" lang="zh-CN" sz="2100" spc="-1" strike="noStrike">
                <a:solidFill>
                  <a:srgbClr val="0000ff"/>
                </a:solidFill>
                <a:latin typeface="Arial"/>
              </a:rPr>
              <a:t>脊髓小脑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Paleocerebellum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旧小脑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Vermis and intermediate z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Cerebrocerebellum          </a:t>
            </a:r>
            <a:r>
              <a:rPr b="1" lang="zh-CN" sz="2100" spc="-1" strike="noStrike">
                <a:solidFill>
                  <a:srgbClr val="0000ff"/>
                </a:solidFill>
                <a:latin typeface="Arial"/>
              </a:rPr>
              <a:t>大脑小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Neocerebellum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新小脑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Lateral z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284720" y="2138400"/>
            <a:ext cx="4402080" cy="31906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218920" y="486900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Flocculonodular lo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30720" y="2707920"/>
            <a:ext cx="7290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Verm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592320" y="2661120"/>
            <a:ext cx="454680" cy="20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mediate z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10000" y="2805480"/>
            <a:ext cx="7290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teral z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33"/>
                </a:solidFill>
                <a:latin typeface="Garamond"/>
              </a:rPr>
              <a:t>Connections and function of cerebellum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Vestibulocerebel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Connect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Afferents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: receive input from vestibular nuclei and primary vestibul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Efferents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: projects to the vestibular nucleus → vestibulospinal tract and medial longitudinal fasciculus → motor neurons of anterior hor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Function: involved in eye movements and maintain balan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763640" y="507960"/>
            <a:ext cx="5761080" cy="55310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813200" y="2313000"/>
            <a:ext cx="542880" cy="1052640"/>
          </a:xfrm>
          <a:custGeom>
            <a:avLst/>
            <a:gdLst/>
            <a:ahLst/>
            <a:rect l="l" t="t" r="r" b="b"/>
            <a:pathLst>
              <a:path w="342" h="663">
                <a:moveTo>
                  <a:pt x="342" y="280"/>
                </a:moveTo>
                <a:cubicBezTo>
                  <a:pt x="321" y="220"/>
                  <a:pt x="305" y="143"/>
                  <a:pt x="259" y="97"/>
                </a:cubicBezTo>
                <a:cubicBezTo>
                  <a:pt x="244" y="51"/>
                  <a:pt x="219" y="38"/>
                  <a:pt x="186" y="6"/>
                </a:cubicBezTo>
                <a:cubicBezTo>
                  <a:pt x="87" y="15"/>
                  <a:pt x="98" y="0"/>
                  <a:pt x="49" y="52"/>
                </a:cubicBezTo>
                <a:cubicBezTo>
                  <a:pt x="24" y="153"/>
                  <a:pt x="0" y="295"/>
                  <a:pt x="77" y="372"/>
                </a:cubicBezTo>
                <a:cubicBezTo>
                  <a:pt x="102" y="448"/>
                  <a:pt x="100" y="412"/>
                  <a:pt x="131" y="472"/>
                </a:cubicBezTo>
                <a:cubicBezTo>
                  <a:pt x="135" y="481"/>
                  <a:pt x="136" y="491"/>
                  <a:pt x="141" y="500"/>
                </a:cubicBezTo>
                <a:cubicBezTo>
                  <a:pt x="152" y="519"/>
                  <a:pt x="177" y="554"/>
                  <a:pt x="177" y="554"/>
                </a:cubicBezTo>
                <a:cubicBezTo>
                  <a:pt x="203" y="634"/>
                  <a:pt x="167" y="537"/>
                  <a:pt x="205" y="600"/>
                </a:cubicBezTo>
                <a:cubicBezTo>
                  <a:pt x="243" y="663"/>
                  <a:pt x="184" y="598"/>
                  <a:pt x="232" y="646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3840" y="2104920"/>
            <a:ext cx="623880" cy="536760"/>
          </a:xfrm>
          <a:custGeom>
            <a:avLst/>
            <a:gdLst/>
            <a:ahLst/>
            <a:rect l="l" t="t" r="r" b="b"/>
            <a:pathLst>
              <a:path w="393" h="338">
                <a:moveTo>
                  <a:pt x="393" y="338"/>
                </a:moveTo>
                <a:cubicBezTo>
                  <a:pt x="359" y="234"/>
                  <a:pt x="369" y="94"/>
                  <a:pt x="247" y="55"/>
                </a:cubicBezTo>
                <a:cubicBezTo>
                  <a:pt x="195" y="0"/>
                  <a:pt x="134" y="31"/>
                  <a:pt x="55" y="36"/>
                </a:cubicBezTo>
                <a:cubicBezTo>
                  <a:pt x="36" y="56"/>
                  <a:pt x="13" y="66"/>
                  <a:pt x="0" y="91"/>
                </a:cubicBezTo>
              </a:path>
            </a:pathLst>
          </a:custGeom>
          <a:noFill/>
          <a:ln w="5724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97240" y="2278080"/>
            <a:ext cx="519120" cy="3106800"/>
          </a:xfrm>
          <a:custGeom>
            <a:avLst/>
            <a:gdLst/>
            <a:ahLst/>
            <a:rect l="l" t="t" r="r" b="b"/>
            <a:pathLst>
              <a:path w="327" h="1957">
                <a:moveTo>
                  <a:pt x="327" y="0"/>
                </a:moveTo>
                <a:cubicBezTo>
                  <a:pt x="301" y="27"/>
                  <a:pt x="267" y="44"/>
                  <a:pt x="245" y="74"/>
                </a:cubicBezTo>
                <a:cubicBezTo>
                  <a:pt x="187" y="153"/>
                  <a:pt x="231" y="106"/>
                  <a:pt x="190" y="147"/>
                </a:cubicBezTo>
                <a:cubicBezTo>
                  <a:pt x="179" y="181"/>
                  <a:pt x="144" y="247"/>
                  <a:pt x="117" y="275"/>
                </a:cubicBezTo>
                <a:cubicBezTo>
                  <a:pt x="81" y="384"/>
                  <a:pt x="51" y="432"/>
                  <a:pt x="35" y="558"/>
                </a:cubicBezTo>
                <a:cubicBezTo>
                  <a:pt x="29" y="607"/>
                  <a:pt x="17" y="704"/>
                  <a:pt x="17" y="704"/>
                </a:cubicBezTo>
                <a:cubicBezTo>
                  <a:pt x="0" y="1119"/>
                  <a:pt x="1" y="977"/>
                  <a:pt x="17" y="1582"/>
                </a:cubicBezTo>
                <a:cubicBezTo>
                  <a:pt x="19" y="1676"/>
                  <a:pt x="41" y="1759"/>
                  <a:pt x="71" y="1847"/>
                </a:cubicBezTo>
                <a:cubicBezTo>
                  <a:pt x="82" y="1879"/>
                  <a:pt x="94" y="1901"/>
                  <a:pt x="108" y="1930"/>
                </a:cubicBezTo>
                <a:cubicBezTo>
                  <a:pt x="112" y="1939"/>
                  <a:pt x="117" y="1957"/>
                  <a:pt x="117" y="1957"/>
                </a:cubicBezTo>
              </a:path>
            </a:pathLst>
          </a:custGeom>
          <a:noFill/>
          <a:ln w="5724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61040" y="2496960"/>
            <a:ext cx="414000" cy="2800440"/>
          </a:xfrm>
          <a:custGeom>
            <a:avLst/>
            <a:gdLst/>
            <a:ahLst/>
            <a:rect l="l" t="t" r="r" b="b"/>
            <a:pathLst>
              <a:path w="261" h="1764">
                <a:moveTo>
                  <a:pt x="261" y="0"/>
                </a:moveTo>
                <a:cubicBezTo>
                  <a:pt x="251" y="31"/>
                  <a:pt x="238" y="50"/>
                  <a:pt x="215" y="73"/>
                </a:cubicBezTo>
                <a:cubicBezTo>
                  <a:pt x="199" y="122"/>
                  <a:pt x="163" y="162"/>
                  <a:pt x="142" y="210"/>
                </a:cubicBezTo>
                <a:cubicBezTo>
                  <a:pt x="109" y="286"/>
                  <a:pt x="104" y="370"/>
                  <a:pt x="78" y="448"/>
                </a:cubicBezTo>
                <a:cubicBezTo>
                  <a:pt x="64" y="490"/>
                  <a:pt x="53" y="533"/>
                  <a:pt x="42" y="576"/>
                </a:cubicBezTo>
                <a:cubicBezTo>
                  <a:pt x="35" y="603"/>
                  <a:pt x="23" y="658"/>
                  <a:pt x="23" y="658"/>
                </a:cubicBezTo>
                <a:cubicBezTo>
                  <a:pt x="0" y="1085"/>
                  <a:pt x="7" y="887"/>
                  <a:pt x="23" y="1682"/>
                </a:cubicBezTo>
                <a:cubicBezTo>
                  <a:pt x="24" y="1709"/>
                  <a:pt x="42" y="1735"/>
                  <a:pt x="42" y="1764"/>
                </a:cubicBezTo>
              </a:path>
            </a:pathLst>
          </a:custGeom>
          <a:noFill/>
          <a:ln w="5724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33"/>
                </a:solidFill>
                <a:latin typeface="Garamond"/>
              </a:rPr>
              <a:t>Connections and function of cerebellum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Spinocerebell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Connnec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Afferents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: receive somatic sensory information via spinocerebellar tra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Efferents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Vermis projects to the fastigial nucleus → vestibular nuclei and reticular formation   → vestibulospinal tract and reticulospinal tract → motor neurons of anterior ho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Intermediate zone projects to the interposed nucl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ontralateral red nucleus → rubrospinal tract →motor neurons of anterior ho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ontralateral  VI →cerebral cortex→ coticospinal tract→motor neurons of anterior ho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Function: play an important role in control of muscle tone and coordination of muscle movement on the same side of the bo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727360" y="404640"/>
            <a:ext cx="3867120" cy="58327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595760" y="3164040"/>
            <a:ext cx="961920" cy="2771640"/>
          </a:xfrm>
          <a:custGeom>
            <a:avLst/>
            <a:gdLst/>
            <a:ahLst/>
            <a:rect l="l" t="t" r="r" b="b"/>
            <a:pathLst>
              <a:path w="606" h="1746">
                <a:moveTo>
                  <a:pt x="305" y="0"/>
                </a:moveTo>
                <a:cubicBezTo>
                  <a:pt x="308" y="9"/>
                  <a:pt x="306" y="22"/>
                  <a:pt x="314" y="28"/>
                </a:cubicBezTo>
                <a:cubicBezTo>
                  <a:pt x="340" y="47"/>
                  <a:pt x="450" y="70"/>
                  <a:pt x="488" y="82"/>
                </a:cubicBezTo>
                <a:cubicBezTo>
                  <a:pt x="509" y="104"/>
                  <a:pt x="561" y="137"/>
                  <a:pt x="561" y="137"/>
                </a:cubicBezTo>
                <a:cubicBezTo>
                  <a:pt x="571" y="167"/>
                  <a:pt x="587" y="190"/>
                  <a:pt x="598" y="220"/>
                </a:cubicBezTo>
                <a:cubicBezTo>
                  <a:pt x="591" y="297"/>
                  <a:pt x="606" y="367"/>
                  <a:pt x="524" y="393"/>
                </a:cubicBezTo>
                <a:cubicBezTo>
                  <a:pt x="441" y="451"/>
                  <a:pt x="342" y="443"/>
                  <a:pt x="250" y="476"/>
                </a:cubicBezTo>
                <a:cubicBezTo>
                  <a:pt x="202" y="548"/>
                  <a:pt x="217" y="509"/>
                  <a:pt x="204" y="594"/>
                </a:cubicBezTo>
                <a:cubicBezTo>
                  <a:pt x="201" y="673"/>
                  <a:pt x="203" y="753"/>
                  <a:pt x="195" y="832"/>
                </a:cubicBezTo>
                <a:cubicBezTo>
                  <a:pt x="194" y="843"/>
                  <a:pt x="181" y="850"/>
                  <a:pt x="177" y="860"/>
                </a:cubicBezTo>
                <a:cubicBezTo>
                  <a:pt x="159" y="901"/>
                  <a:pt x="143" y="954"/>
                  <a:pt x="131" y="997"/>
                </a:cubicBezTo>
                <a:cubicBezTo>
                  <a:pt x="117" y="1048"/>
                  <a:pt x="113" y="1100"/>
                  <a:pt x="104" y="1152"/>
                </a:cubicBezTo>
                <a:cubicBezTo>
                  <a:pt x="98" y="1186"/>
                  <a:pt x="88" y="1210"/>
                  <a:pt x="76" y="1244"/>
                </a:cubicBezTo>
                <a:cubicBezTo>
                  <a:pt x="58" y="1297"/>
                  <a:pt x="54" y="1354"/>
                  <a:pt x="40" y="1408"/>
                </a:cubicBezTo>
                <a:cubicBezTo>
                  <a:pt x="36" y="1490"/>
                  <a:pt x="0" y="1583"/>
                  <a:pt x="40" y="1655"/>
                </a:cubicBezTo>
                <a:cubicBezTo>
                  <a:pt x="45" y="1664"/>
                  <a:pt x="59" y="1666"/>
                  <a:pt x="67" y="1673"/>
                </a:cubicBezTo>
                <a:cubicBezTo>
                  <a:pt x="132" y="1726"/>
                  <a:pt x="212" y="1746"/>
                  <a:pt x="296" y="1746"/>
                </a:cubicBezTo>
              </a:path>
            </a:pathLst>
          </a:custGeom>
          <a:noFill/>
          <a:ln w="57240">
            <a:solidFill>
              <a:srgbClr val="00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16520" y="3178080"/>
            <a:ext cx="104760" cy="451080"/>
          </a:xfrm>
          <a:custGeom>
            <a:avLst/>
            <a:gdLst/>
            <a:ahLst/>
            <a:rect l="l" t="t" r="r" b="b"/>
            <a:pathLst>
              <a:path w="66" h="284">
                <a:moveTo>
                  <a:pt x="21" y="0"/>
                </a:moveTo>
                <a:cubicBezTo>
                  <a:pt x="15" y="6"/>
                  <a:pt x="4" y="10"/>
                  <a:pt x="2" y="19"/>
                </a:cubicBezTo>
                <a:cubicBezTo>
                  <a:pt x="0" y="28"/>
                  <a:pt x="9" y="37"/>
                  <a:pt x="12" y="46"/>
                </a:cubicBezTo>
                <a:cubicBezTo>
                  <a:pt x="18" y="64"/>
                  <a:pt x="24" y="83"/>
                  <a:pt x="30" y="101"/>
                </a:cubicBezTo>
                <a:cubicBezTo>
                  <a:pt x="33" y="110"/>
                  <a:pt x="39" y="128"/>
                  <a:pt x="39" y="128"/>
                </a:cubicBezTo>
                <a:cubicBezTo>
                  <a:pt x="47" y="179"/>
                  <a:pt x="66" y="233"/>
                  <a:pt x="66" y="284"/>
                </a:cubicBezTo>
              </a:path>
            </a:pathLst>
          </a:custGeom>
          <a:noFill/>
          <a:ln w="5724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645080" y="3686040"/>
            <a:ext cx="406440" cy="174600"/>
            <a:chOff x="4645080" y="3686040"/>
            <a:chExt cx="406440" cy="174600"/>
          </a:xfrm>
        </p:grpSpPr>
        <p:sp>
          <p:nvSpPr>
            <p:cNvPr id="164" name=""/>
            <p:cNvSpPr/>
            <p:nvPr/>
          </p:nvSpPr>
          <p:spPr>
            <a:xfrm>
              <a:off x="4645080" y="3686040"/>
              <a:ext cx="406440" cy="174600"/>
            </a:xfrm>
            <a:custGeom>
              <a:avLst/>
              <a:gdLst/>
              <a:ahLst/>
              <a:rect l="l" t="t" r="r" b="b"/>
              <a:pathLst>
                <a:path w="256" h="110">
                  <a:moveTo>
                    <a:pt x="256" y="0"/>
                  </a:moveTo>
                  <a:cubicBezTo>
                    <a:pt x="175" y="7"/>
                    <a:pt x="154" y="8"/>
                    <a:pt x="91" y="28"/>
                  </a:cubicBezTo>
                  <a:cubicBezTo>
                    <a:pt x="62" y="47"/>
                    <a:pt x="68" y="41"/>
                    <a:pt x="45" y="64"/>
                  </a:cubicBezTo>
                  <a:cubicBezTo>
                    <a:pt x="30" y="79"/>
                    <a:pt x="0" y="110"/>
                    <a:pt x="0" y="110"/>
                  </a:cubicBezTo>
                </a:path>
              </a:pathLst>
            </a:custGeom>
            <a:noFill/>
            <a:ln w="38160">
              <a:solidFill>
                <a:srgbClr val="cc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48120" y="3686040"/>
              <a:ext cx="203400" cy="174600"/>
            </a:xfrm>
            <a:custGeom>
              <a:avLst/>
              <a:gdLst/>
              <a:ahLst/>
              <a:rect l="l" t="t" r="r" b="b"/>
              <a:pathLst>
                <a:path w="128" h="110">
                  <a:moveTo>
                    <a:pt x="128" y="0"/>
                  </a:moveTo>
                  <a:cubicBezTo>
                    <a:pt x="114" y="14"/>
                    <a:pt x="106" y="33"/>
                    <a:pt x="91" y="46"/>
                  </a:cubicBezTo>
                  <a:cubicBezTo>
                    <a:pt x="63" y="71"/>
                    <a:pt x="26" y="84"/>
                    <a:pt x="0" y="110"/>
                  </a:cubicBezTo>
                </a:path>
              </a:pathLst>
            </a:custGeom>
            <a:noFill/>
            <a:ln w="38160">
              <a:solidFill>
                <a:srgbClr val="cc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4562640" y="3933720"/>
            <a:ext cx="141120" cy="1538280"/>
          </a:xfrm>
          <a:custGeom>
            <a:avLst/>
            <a:gdLst/>
            <a:ahLst/>
            <a:rect l="l" t="t" r="r" b="b"/>
            <a:pathLst>
              <a:path w="89" h="969">
                <a:moveTo>
                  <a:pt x="52" y="0"/>
                </a:moveTo>
                <a:cubicBezTo>
                  <a:pt x="37" y="45"/>
                  <a:pt x="40" y="18"/>
                  <a:pt x="61" y="82"/>
                </a:cubicBezTo>
                <a:cubicBezTo>
                  <a:pt x="64" y="91"/>
                  <a:pt x="70" y="109"/>
                  <a:pt x="70" y="109"/>
                </a:cubicBezTo>
                <a:cubicBezTo>
                  <a:pt x="80" y="226"/>
                  <a:pt x="89" y="343"/>
                  <a:pt x="52" y="457"/>
                </a:cubicBezTo>
                <a:cubicBezTo>
                  <a:pt x="39" y="497"/>
                  <a:pt x="44" y="478"/>
                  <a:pt x="33" y="530"/>
                </a:cubicBezTo>
                <a:cubicBezTo>
                  <a:pt x="27" y="560"/>
                  <a:pt x="15" y="621"/>
                  <a:pt x="15" y="621"/>
                </a:cubicBezTo>
                <a:cubicBezTo>
                  <a:pt x="0" y="810"/>
                  <a:pt x="6" y="694"/>
                  <a:pt x="6" y="969"/>
                </a:cubicBezTo>
              </a:path>
            </a:pathLst>
          </a:custGeom>
          <a:noFill/>
          <a:ln w="381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99000" y="4021200"/>
            <a:ext cx="235080" cy="1377720"/>
          </a:xfrm>
          <a:custGeom>
            <a:avLst/>
            <a:gdLst/>
            <a:ahLst/>
            <a:rect l="l" t="t" r="r" b="b"/>
            <a:pathLst>
              <a:path w="148" h="868">
                <a:moveTo>
                  <a:pt x="148" y="0"/>
                </a:moveTo>
                <a:cubicBezTo>
                  <a:pt x="145" y="24"/>
                  <a:pt x="141" y="49"/>
                  <a:pt x="138" y="73"/>
                </a:cubicBezTo>
                <a:cubicBezTo>
                  <a:pt x="134" y="109"/>
                  <a:pt x="134" y="146"/>
                  <a:pt x="129" y="182"/>
                </a:cubicBezTo>
                <a:cubicBezTo>
                  <a:pt x="115" y="287"/>
                  <a:pt x="88" y="390"/>
                  <a:pt x="65" y="493"/>
                </a:cubicBezTo>
                <a:cubicBezTo>
                  <a:pt x="52" y="551"/>
                  <a:pt x="42" y="609"/>
                  <a:pt x="29" y="667"/>
                </a:cubicBezTo>
                <a:cubicBezTo>
                  <a:pt x="23" y="694"/>
                  <a:pt x="10" y="749"/>
                  <a:pt x="10" y="749"/>
                </a:cubicBezTo>
                <a:cubicBezTo>
                  <a:pt x="0" y="844"/>
                  <a:pt x="1" y="804"/>
                  <a:pt x="1" y="868"/>
                </a:cubicBezTo>
              </a:path>
            </a:pathLst>
          </a:custGeom>
          <a:noFill/>
          <a:ln w="381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92840" y="3135240"/>
            <a:ext cx="247320" cy="290520"/>
          </a:xfrm>
          <a:custGeom>
            <a:avLst/>
            <a:gdLst/>
            <a:ahLst/>
            <a:rect l="l" t="t" r="r" b="b"/>
            <a:pathLst>
              <a:path w="156" h="183">
                <a:moveTo>
                  <a:pt x="0" y="0"/>
                </a:moveTo>
                <a:cubicBezTo>
                  <a:pt x="21" y="64"/>
                  <a:pt x="32" y="68"/>
                  <a:pt x="73" y="119"/>
                </a:cubicBezTo>
                <a:cubicBezTo>
                  <a:pt x="95" y="146"/>
                  <a:pt x="116" y="183"/>
                  <a:pt x="156" y="183"/>
                </a:cubicBezTo>
              </a:path>
            </a:pathLst>
          </a:custGeom>
          <a:noFill/>
          <a:ln w="381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53040" y="2728800"/>
            <a:ext cx="914400" cy="812880"/>
          </a:xfrm>
          <a:custGeom>
            <a:avLst/>
            <a:gdLst/>
            <a:ahLst/>
            <a:rect l="l" t="t" r="r" b="b"/>
            <a:pathLst>
              <a:path w="576" h="512">
                <a:moveTo>
                  <a:pt x="576" y="484"/>
                </a:moveTo>
                <a:cubicBezTo>
                  <a:pt x="514" y="501"/>
                  <a:pt x="483" y="506"/>
                  <a:pt x="411" y="512"/>
                </a:cubicBezTo>
                <a:cubicBezTo>
                  <a:pt x="351" y="505"/>
                  <a:pt x="305" y="499"/>
                  <a:pt x="256" y="466"/>
                </a:cubicBezTo>
                <a:cubicBezTo>
                  <a:pt x="250" y="457"/>
                  <a:pt x="245" y="447"/>
                  <a:pt x="238" y="439"/>
                </a:cubicBezTo>
                <a:cubicBezTo>
                  <a:pt x="232" y="432"/>
                  <a:pt x="224" y="427"/>
                  <a:pt x="219" y="420"/>
                </a:cubicBezTo>
                <a:cubicBezTo>
                  <a:pt x="206" y="403"/>
                  <a:pt x="183" y="366"/>
                  <a:pt x="183" y="366"/>
                </a:cubicBezTo>
                <a:cubicBezTo>
                  <a:pt x="164" y="307"/>
                  <a:pt x="146" y="253"/>
                  <a:pt x="100" y="210"/>
                </a:cubicBezTo>
                <a:cubicBezTo>
                  <a:pt x="75" y="135"/>
                  <a:pt x="110" y="227"/>
                  <a:pt x="73" y="164"/>
                </a:cubicBezTo>
                <a:cubicBezTo>
                  <a:pt x="52" y="129"/>
                  <a:pt x="41" y="89"/>
                  <a:pt x="18" y="55"/>
                </a:cubicBezTo>
                <a:cubicBezTo>
                  <a:pt x="12" y="37"/>
                  <a:pt x="0" y="0"/>
                  <a:pt x="0" y="0"/>
                </a:cubicBezTo>
              </a:path>
            </a:pathLst>
          </a:custGeom>
          <a:noFill/>
          <a:ln w="381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24240" y="2684520"/>
            <a:ext cx="398520" cy="2657520"/>
          </a:xfrm>
          <a:custGeom>
            <a:avLst/>
            <a:gdLst/>
            <a:ahLst/>
            <a:rect l="l" t="t" r="r" b="b"/>
            <a:pathLst>
              <a:path w="251" h="1674">
                <a:moveTo>
                  <a:pt x="0" y="0"/>
                </a:moveTo>
                <a:cubicBezTo>
                  <a:pt x="8" y="85"/>
                  <a:pt x="20" y="134"/>
                  <a:pt x="45" y="211"/>
                </a:cubicBezTo>
                <a:cubicBezTo>
                  <a:pt x="48" y="221"/>
                  <a:pt x="91" y="264"/>
                  <a:pt x="100" y="275"/>
                </a:cubicBezTo>
                <a:cubicBezTo>
                  <a:pt x="126" y="308"/>
                  <a:pt x="147" y="334"/>
                  <a:pt x="182" y="357"/>
                </a:cubicBezTo>
                <a:cubicBezTo>
                  <a:pt x="251" y="544"/>
                  <a:pt x="200" y="756"/>
                  <a:pt x="182" y="951"/>
                </a:cubicBezTo>
                <a:cubicBezTo>
                  <a:pt x="186" y="1185"/>
                  <a:pt x="201" y="1435"/>
                  <a:pt x="201" y="167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75040" y="2104920"/>
            <a:ext cx="1320840" cy="1349640"/>
          </a:xfrm>
          <a:custGeom>
            <a:avLst/>
            <a:gdLst/>
            <a:ahLst/>
            <a:rect l="l" t="t" r="r" b="b"/>
            <a:pathLst>
              <a:path w="832" h="850">
                <a:moveTo>
                  <a:pt x="832" y="850"/>
                </a:moveTo>
                <a:cubicBezTo>
                  <a:pt x="753" y="824"/>
                  <a:pt x="667" y="836"/>
                  <a:pt x="585" y="823"/>
                </a:cubicBezTo>
                <a:cubicBezTo>
                  <a:pt x="551" y="787"/>
                  <a:pt x="517" y="760"/>
                  <a:pt x="485" y="722"/>
                </a:cubicBezTo>
                <a:cubicBezTo>
                  <a:pt x="464" y="696"/>
                  <a:pt x="464" y="712"/>
                  <a:pt x="448" y="676"/>
                </a:cubicBezTo>
                <a:cubicBezTo>
                  <a:pt x="429" y="633"/>
                  <a:pt x="417" y="584"/>
                  <a:pt x="402" y="539"/>
                </a:cubicBezTo>
                <a:cubicBezTo>
                  <a:pt x="385" y="491"/>
                  <a:pt x="379" y="475"/>
                  <a:pt x="348" y="429"/>
                </a:cubicBezTo>
                <a:cubicBezTo>
                  <a:pt x="342" y="420"/>
                  <a:pt x="329" y="402"/>
                  <a:pt x="329" y="402"/>
                </a:cubicBezTo>
                <a:cubicBezTo>
                  <a:pt x="309" y="341"/>
                  <a:pt x="247" y="291"/>
                  <a:pt x="201" y="247"/>
                </a:cubicBezTo>
                <a:cubicBezTo>
                  <a:pt x="180" y="227"/>
                  <a:pt x="166" y="203"/>
                  <a:pt x="146" y="183"/>
                </a:cubicBezTo>
                <a:cubicBezTo>
                  <a:pt x="126" y="163"/>
                  <a:pt x="99" y="150"/>
                  <a:pt x="82" y="128"/>
                </a:cubicBezTo>
                <a:cubicBezTo>
                  <a:pt x="69" y="110"/>
                  <a:pt x="46" y="73"/>
                  <a:pt x="46" y="73"/>
                </a:cubicBezTo>
                <a:cubicBezTo>
                  <a:pt x="30" y="24"/>
                  <a:pt x="48" y="63"/>
                  <a:pt x="18" y="27"/>
                </a:cubicBezTo>
                <a:cubicBezTo>
                  <a:pt x="11" y="19"/>
                  <a:pt x="0" y="0"/>
                  <a:pt x="0" y="0"/>
                </a:cubicBezTo>
              </a:path>
            </a:pathLst>
          </a:custGeom>
          <a:noFill/>
          <a:ln w="381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73520" y="784080"/>
            <a:ext cx="406440" cy="1290960"/>
          </a:xfrm>
          <a:custGeom>
            <a:avLst/>
            <a:gdLst/>
            <a:ahLst/>
            <a:rect l="l" t="t" r="r" b="b"/>
            <a:pathLst>
              <a:path w="256" h="813">
                <a:moveTo>
                  <a:pt x="46" y="813"/>
                </a:moveTo>
                <a:cubicBezTo>
                  <a:pt x="37" y="810"/>
                  <a:pt x="24" y="812"/>
                  <a:pt x="18" y="804"/>
                </a:cubicBezTo>
                <a:cubicBezTo>
                  <a:pt x="7" y="788"/>
                  <a:pt x="0" y="749"/>
                  <a:pt x="0" y="749"/>
                </a:cubicBezTo>
                <a:cubicBezTo>
                  <a:pt x="8" y="710"/>
                  <a:pt x="8" y="685"/>
                  <a:pt x="37" y="658"/>
                </a:cubicBezTo>
                <a:cubicBezTo>
                  <a:pt x="53" y="610"/>
                  <a:pt x="57" y="592"/>
                  <a:pt x="92" y="557"/>
                </a:cubicBezTo>
                <a:cubicBezTo>
                  <a:pt x="102" y="527"/>
                  <a:pt x="115" y="506"/>
                  <a:pt x="137" y="484"/>
                </a:cubicBezTo>
                <a:cubicBezTo>
                  <a:pt x="152" y="469"/>
                  <a:pt x="168" y="454"/>
                  <a:pt x="183" y="439"/>
                </a:cubicBezTo>
                <a:cubicBezTo>
                  <a:pt x="189" y="433"/>
                  <a:pt x="201" y="420"/>
                  <a:pt x="201" y="420"/>
                </a:cubicBezTo>
                <a:cubicBezTo>
                  <a:pt x="204" y="411"/>
                  <a:pt x="205" y="401"/>
                  <a:pt x="210" y="393"/>
                </a:cubicBezTo>
                <a:cubicBezTo>
                  <a:pt x="215" y="386"/>
                  <a:pt x="225" y="383"/>
                  <a:pt x="229" y="375"/>
                </a:cubicBezTo>
                <a:cubicBezTo>
                  <a:pt x="238" y="358"/>
                  <a:pt x="241" y="338"/>
                  <a:pt x="247" y="320"/>
                </a:cubicBezTo>
                <a:cubicBezTo>
                  <a:pt x="250" y="311"/>
                  <a:pt x="256" y="292"/>
                  <a:pt x="256" y="292"/>
                </a:cubicBezTo>
                <a:cubicBezTo>
                  <a:pt x="253" y="265"/>
                  <a:pt x="256" y="236"/>
                  <a:pt x="247" y="210"/>
                </a:cubicBezTo>
                <a:cubicBezTo>
                  <a:pt x="243" y="200"/>
                  <a:pt x="227" y="200"/>
                  <a:pt x="220" y="192"/>
                </a:cubicBezTo>
                <a:cubicBezTo>
                  <a:pt x="160" y="123"/>
                  <a:pt x="212" y="147"/>
                  <a:pt x="156" y="128"/>
                </a:cubicBezTo>
                <a:cubicBezTo>
                  <a:pt x="148" y="120"/>
                  <a:pt x="116" y="97"/>
                  <a:pt x="110" y="91"/>
                </a:cubicBezTo>
                <a:cubicBezTo>
                  <a:pt x="74" y="55"/>
                  <a:pt x="110" y="73"/>
                  <a:pt x="73" y="45"/>
                </a:cubicBezTo>
                <a:cubicBezTo>
                  <a:pt x="15" y="2"/>
                  <a:pt x="18" y="32"/>
                  <a:pt x="18" y="0"/>
                </a:cubicBezTo>
              </a:path>
            </a:pathLst>
          </a:custGeom>
          <a:noFill/>
          <a:ln w="381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00440" y="841320"/>
            <a:ext cx="857160" cy="4557600"/>
          </a:xfrm>
          <a:custGeom>
            <a:avLst/>
            <a:gdLst/>
            <a:ahLst/>
            <a:rect l="l" t="t" r="r" b="b"/>
            <a:pathLst>
              <a:path w="540" h="2871">
                <a:moveTo>
                  <a:pt x="46" y="0"/>
                </a:moveTo>
                <a:cubicBezTo>
                  <a:pt x="84" y="40"/>
                  <a:pt x="120" y="92"/>
                  <a:pt x="174" y="110"/>
                </a:cubicBezTo>
                <a:cubicBezTo>
                  <a:pt x="185" y="126"/>
                  <a:pt x="202" y="138"/>
                  <a:pt x="211" y="156"/>
                </a:cubicBezTo>
                <a:cubicBezTo>
                  <a:pt x="221" y="177"/>
                  <a:pt x="232" y="222"/>
                  <a:pt x="238" y="247"/>
                </a:cubicBezTo>
                <a:cubicBezTo>
                  <a:pt x="230" y="312"/>
                  <a:pt x="230" y="349"/>
                  <a:pt x="183" y="393"/>
                </a:cubicBezTo>
                <a:cubicBezTo>
                  <a:pt x="170" y="433"/>
                  <a:pt x="149" y="457"/>
                  <a:pt x="119" y="485"/>
                </a:cubicBezTo>
                <a:cubicBezTo>
                  <a:pt x="107" y="520"/>
                  <a:pt x="82" y="550"/>
                  <a:pt x="55" y="576"/>
                </a:cubicBezTo>
                <a:cubicBezTo>
                  <a:pt x="42" y="616"/>
                  <a:pt x="15" y="646"/>
                  <a:pt x="0" y="686"/>
                </a:cubicBezTo>
                <a:cubicBezTo>
                  <a:pt x="9" y="772"/>
                  <a:pt x="7" y="870"/>
                  <a:pt x="74" y="933"/>
                </a:cubicBezTo>
                <a:cubicBezTo>
                  <a:pt x="89" y="977"/>
                  <a:pt x="120" y="981"/>
                  <a:pt x="147" y="1015"/>
                </a:cubicBezTo>
                <a:cubicBezTo>
                  <a:pt x="184" y="1061"/>
                  <a:pt x="143" y="1028"/>
                  <a:pt x="192" y="1061"/>
                </a:cubicBezTo>
                <a:cubicBezTo>
                  <a:pt x="218" y="1131"/>
                  <a:pt x="223" y="1219"/>
                  <a:pt x="266" y="1280"/>
                </a:cubicBezTo>
                <a:cubicBezTo>
                  <a:pt x="275" y="1308"/>
                  <a:pt x="284" y="1335"/>
                  <a:pt x="293" y="1363"/>
                </a:cubicBezTo>
                <a:cubicBezTo>
                  <a:pt x="296" y="1372"/>
                  <a:pt x="299" y="1381"/>
                  <a:pt x="302" y="1390"/>
                </a:cubicBezTo>
                <a:cubicBezTo>
                  <a:pt x="305" y="1399"/>
                  <a:pt x="311" y="1417"/>
                  <a:pt x="311" y="1417"/>
                </a:cubicBezTo>
                <a:cubicBezTo>
                  <a:pt x="308" y="1512"/>
                  <a:pt x="307" y="1606"/>
                  <a:pt x="302" y="1701"/>
                </a:cubicBezTo>
                <a:cubicBezTo>
                  <a:pt x="296" y="1819"/>
                  <a:pt x="263" y="1940"/>
                  <a:pt x="247" y="2057"/>
                </a:cubicBezTo>
                <a:cubicBezTo>
                  <a:pt x="313" y="2155"/>
                  <a:pt x="268" y="2371"/>
                  <a:pt x="256" y="2487"/>
                </a:cubicBezTo>
                <a:cubicBezTo>
                  <a:pt x="269" y="2549"/>
                  <a:pt x="270" y="2567"/>
                  <a:pt x="320" y="2606"/>
                </a:cubicBezTo>
                <a:cubicBezTo>
                  <a:pt x="346" y="2626"/>
                  <a:pt x="352" y="2641"/>
                  <a:pt x="384" y="2652"/>
                </a:cubicBezTo>
                <a:cubicBezTo>
                  <a:pt x="427" y="2694"/>
                  <a:pt x="462" y="2737"/>
                  <a:pt x="503" y="2780"/>
                </a:cubicBezTo>
                <a:cubicBezTo>
                  <a:pt x="512" y="2806"/>
                  <a:pt x="518" y="2849"/>
                  <a:pt x="540" y="287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33"/>
                </a:solidFill>
                <a:latin typeface="Garamond"/>
              </a:rPr>
              <a:t>Connections and function of cerebellum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Cerebrocerebell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Afferents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: receives input from the cerebral cortex via a relay in pontine nucle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Efferents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: projects to dentate nucleus → VI → primary motor cortex → corticospinal tract → motor neurons of anterior hor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Function: participates in planning mov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617920" y="189000"/>
            <a:ext cx="3921120" cy="60483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529160" y="3817800"/>
            <a:ext cx="1012680" cy="1212840"/>
          </a:xfrm>
          <a:custGeom>
            <a:avLst/>
            <a:gdLst/>
            <a:ahLst/>
            <a:rect l="l" t="t" r="r" b="b"/>
            <a:pathLst>
              <a:path w="638" h="764">
                <a:moveTo>
                  <a:pt x="0" y="722"/>
                </a:moveTo>
                <a:cubicBezTo>
                  <a:pt x="63" y="764"/>
                  <a:pt x="140" y="744"/>
                  <a:pt x="210" y="722"/>
                </a:cubicBezTo>
                <a:cubicBezTo>
                  <a:pt x="264" y="668"/>
                  <a:pt x="238" y="688"/>
                  <a:pt x="283" y="658"/>
                </a:cubicBezTo>
                <a:cubicBezTo>
                  <a:pt x="289" y="649"/>
                  <a:pt x="293" y="637"/>
                  <a:pt x="301" y="630"/>
                </a:cubicBezTo>
                <a:cubicBezTo>
                  <a:pt x="317" y="616"/>
                  <a:pt x="356" y="594"/>
                  <a:pt x="356" y="594"/>
                </a:cubicBezTo>
                <a:cubicBezTo>
                  <a:pt x="367" y="577"/>
                  <a:pt x="384" y="566"/>
                  <a:pt x="393" y="548"/>
                </a:cubicBezTo>
                <a:cubicBezTo>
                  <a:pt x="406" y="522"/>
                  <a:pt x="411" y="493"/>
                  <a:pt x="420" y="466"/>
                </a:cubicBezTo>
                <a:cubicBezTo>
                  <a:pt x="426" y="448"/>
                  <a:pt x="432" y="428"/>
                  <a:pt x="438" y="411"/>
                </a:cubicBezTo>
                <a:cubicBezTo>
                  <a:pt x="441" y="402"/>
                  <a:pt x="448" y="384"/>
                  <a:pt x="448" y="384"/>
                </a:cubicBezTo>
                <a:cubicBezTo>
                  <a:pt x="459" y="316"/>
                  <a:pt x="469" y="213"/>
                  <a:pt x="521" y="164"/>
                </a:cubicBezTo>
                <a:cubicBezTo>
                  <a:pt x="532" y="131"/>
                  <a:pt x="569" y="70"/>
                  <a:pt x="594" y="45"/>
                </a:cubicBezTo>
                <a:cubicBezTo>
                  <a:pt x="638" y="0"/>
                  <a:pt x="609" y="51"/>
                  <a:pt x="630" y="9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021280" y="3716280"/>
            <a:ext cx="436680" cy="406440"/>
          </a:xfrm>
          <a:custGeom>
            <a:avLst/>
            <a:gdLst/>
            <a:ahLst/>
            <a:rect l="l" t="t" r="r" b="b"/>
            <a:pathLst>
              <a:path w="275" h="256">
                <a:moveTo>
                  <a:pt x="275" y="0"/>
                </a:moveTo>
                <a:cubicBezTo>
                  <a:pt x="246" y="27"/>
                  <a:pt x="227" y="61"/>
                  <a:pt x="202" y="91"/>
                </a:cubicBezTo>
                <a:cubicBezTo>
                  <a:pt x="171" y="128"/>
                  <a:pt x="129" y="152"/>
                  <a:pt x="92" y="182"/>
                </a:cubicBezTo>
                <a:cubicBezTo>
                  <a:pt x="71" y="199"/>
                  <a:pt x="24" y="256"/>
                  <a:pt x="0" y="256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30640" y="1925640"/>
            <a:ext cx="876240" cy="2313000"/>
          </a:xfrm>
          <a:custGeom>
            <a:avLst/>
            <a:gdLst/>
            <a:ahLst/>
            <a:rect l="l" t="t" r="r" b="b"/>
            <a:pathLst>
              <a:path w="552" h="1457">
                <a:moveTo>
                  <a:pt x="13" y="12"/>
                </a:moveTo>
                <a:cubicBezTo>
                  <a:pt x="59" y="83"/>
                  <a:pt x="0" y="0"/>
                  <a:pt x="59" y="58"/>
                </a:cubicBezTo>
                <a:cubicBezTo>
                  <a:pt x="106" y="104"/>
                  <a:pt x="139" y="167"/>
                  <a:pt x="187" y="213"/>
                </a:cubicBezTo>
                <a:cubicBezTo>
                  <a:pt x="201" y="256"/>
                  <a:pt x="215" y="284"/>
                  <a:pt x="232" y="323"/>
                </a:cubicBezTo>
                <a:cubicBezTo>
                  <a:pt x="277" y="424"/>
                  <a:pt x="306" y="544"/>
                  <a:pt x="324" y="652"/>
                </a:cubicBezTo>
                <a:cubicBezTo>
                  <a:pt x="327" y="810"/>
                  <a:pt x="288" y="1082"/>
                  <a:pt x="397" y="1246"/>
                </a:cubicBezTo>
                <a:cubicBezTo>
                  <a:pt x="407" y="1278"/>
                  <a:pt x="420" y="1297"/>
                  <a:pt x="443" y="1320"/>
                </a:cubicBezTo>
                <a:cubicBezTo>
                  <a:pt x="457" y="1361"/>
                  <a:pt x="481" y="1379"/>
                  <a:pt x="507" y="1411"/>
                </a:cubicBezTo>
                <a:cubicBezTo>
                  <a:pt x="519" y="1426"/>
                  <a:pt x="529" y="1457"/>
                  <a:pt x="552" y="1457"/>
                </a:cubicBezTo>
              </a:path>
            </a:pathLst>
          </a:custGeom>
          <a:noFill/>
          <a:ln w="57240">
            <a:solidFill>
              <a:srgbClr val="ff66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92480" y="1204920"/>
            <a:ext cx="44640" cy="682560"/>
          </a:xfrm>
          <a:custGeom>
            <a:avLst/>
            <a:gdLst/>
            <a:ahLst/>
            <a:rect l="l" t="t" r="r" b="b"/>
            <a:pathLst>
              <a:path w="28" h="430">
                <a:moveTo>
                  <a:pt x="0" y="430"/>
                </a:moveTo>
                <a:cubicBezTo>
                  <a:pt x="28" y="289"/>
                  <a:pt x="19" y="144"/>
                  <a:pt x="19" y="0"/>
                </a:cubicBezTo>
              </a:path>
            </a:pathLst>
          </a:custGeom>
          <a:noFill/>
          <a:ln w="5724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619440" y="812880"/>
            <a:ext cx="762120" cy="4152960"/>
            <a:chOff x="3619440" y="812880"/>
            <a:chExt cx="762120" cy="4152960"/>
          </a:xfrm>
        </p:grpSpPr>
        <p:sp>
          <p:nvSpPr>
            <p:cNvPr id="182" name=""/>
            <p:cNvSpPr/>
            <p:nvPr/>
          </p:nvSpPr>
          <p:spPr>
            <a:xfrm>
              <a:off x="3718080" y="812880"/>
              <a:ext cx="663480" cy="4152960"/>
            </a:xfrm>
            <a:custGeom>
              <a:avLst/>
              <a:gdLst/>
              <a:ahLst/>
              <a:rect l="l" t="t" r="r" b="b"/>
              <a:pathLst>
                <a:path w="418" h="2616">
                  <a:moveTo>
                    <a:pt x="298" y="0"/>
                  </a:moveTo>
                  <a:cubicBezTo>
                    <a:pt x="250" y="16"/>
                    <a:pt x="240" y="61"/>
                    <a:pt x="226" y="104"/>
                  </a:cubicBezTo>
                  <a:cubicBezTo>
                    <a:pt x="211" y="148"/>
                    <a:pt x="188" y="182"/>
                    <a:pt x="170" y="224"/>
                  </a:cubicBezTo>
                  <a:cubicBezTo>
                    <a:pt x="153" y="262"/>
                    <a:pt x="143" y="305"/>
                    <a:pt x="130" y="344"/>
                  </a:cubicBezTo>
                  <a:cubicBezTo>
                    <a:pt x="116" y="386"/>
                    <a:pt x="96" y="422"/>
                    <a:pt x="82" y="464"/>
                  </a:cubicBezTo>
                  <a:cubicBezTo>
                    <a:pt x="77" y="480"/>
                    <a:pt x="66" y="512"/>
                    <a:pt x="66" y="512"/>
                  </a:cubicBezTo>
                  <a:cubicBezTo>
                    <a:pt x="59" y="558"/>
                    <a:pt x="50" y="602"/>
                    <a:pt x="42" y="648"/>
                  </a:cubicBezTo>
                  <a:cubicBezTo>
                    <a:pt x="45" y="758"/>
                    <a:pt x="0" y="932"/>
                    <a:pt x="114" y="1008"/>
                  </a:cubicBezTo>
                  <a:cubicBezTo>
                    <a:pt x="159" y="1076"/>
                    <a:pt x="85" y="971"/>
                    <a:pt x="178" y="1064"/>
                  </a:cubicBezTo>
                  <a:cubicBezTo>
                    <a:pt x="233" y="1119"/>
                    <a:pt x="207" y="1099"/>
                    <a:pt x="250" y="1128"/>
                  </a:cubicBezTo>
                  <a:cubicBezTo>
                    <a:pt x="269" y="1157"/>
                    <a:pt x="286" y="1157"/>
                    <a:pt x="314" y="1176"/>
                  </a:cubicBezTo>
                  <a:cubicBezTo>
                    <a:pt x="330" y="1201"/>
                    <a:pt x="343" y="1228"/>
                    <a:pt x="354" y="1256"/>
                  </a:cubicBezTo>
                  <a:cubicBezTo>
                    <a:pt x="360" y="1272"/>
                    <a:pt x="370" y="1304"/>
                    <a:pt x="370" y="1304"/>
                  </a:cubicBezTo>
                  <a:cubicBezTo>
                    <a:pt x="362" y="1389"/>
                    <a:pt x="359" y="1421"/>
                    <a:pt x="354" y="1512"/>
                  </a:cubicBezTo>
                  <a:cubicBezTo>
                    <a:pt x="351" y="1576"/>
                    <a:pt x="352" y="1640"/>
                    <a:pt x="346" y="1704"/>
                  </a:cubicBezTo>
                  <a:cubicBezTo>
                    <a:pt x="344" y="1721"/>
                    <a:pt x="330" y="1752"/>
                    <a:pt x="330" y="1752"/>
                  </a:cubicBezTo>
                  <a:cubicBezTo>
                    <a:pt x="325" y="1812"/>
                    <a:pt x="324" y="1851"/>
                    <a:pt x="306" y="1904"/>
                  </a:cubicBezTo>
                  <a:cubicBezTo>
                    <a:pt x="289" y="2086"/>
                    <a:pt x="271" y="2272"/>
                    <a:pt x="330" y="2448"/>
                  </a:cubicBezTo>
                  <a:cubicBezTo>
                    <a:pt x="345" y="2493"/>
                    <a:pt x="360" y="2534"/>
                    <a:pt x="394" y="2568"/>
                  </a:cubicBezTo>
                  <a:cubicBezTo>
                    <a:pt x="397" y="2576"/>
                    <a:pt x="398" y="2584"/>
                    <a:pt x="402" y="2592"/>
                  </a:cubicBezTo>
                  <a:cubicBezTo>
                    <a:pt x="406" y="2601"/>
                    <a:pt x="418" y="2616"/>
                    <a:pt x="418" y="2616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19440" y="1244520"/>
              <a:ext cx="152640" cy="571680"/>
            </a:xfrm>
            <a:custGeom>
              <a:avLst/>
              <a:gdLst/>
              <a:ahLst/>
              <a:rect l="l" t="t" r="r" b="b"/>
              <a:pathLst>
                <a:path w="96" h="360">
                  <a:moveTo>
                    <a:pt x="0" y="0"/>
                  </a:moveTo>
                  <a:cubicBezTo>
                    <a:pt x="44" y="131"/>
                    <a:pt x="96" y="216"/>
                    <a:pt x="96" y="36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3851280" y="1168560"/>
            <a:ext cx="1139760" cy="4597200"/>
          </a:xfrm>
          <a:custGeom>
            <a:avLst/>
            <a:gdLst/>
            <a:ahLst/>
            <a:rect l="l" t="t" r="r" b="b"/>
            <a:pathLst>
              <a:path w="718" h="2896">
                <a:moveTo>
                  <a:pt x="134" y="0"/>
                </a:moveTo>
                <a:cubicBezTo>
                  <a:pt x="114" y="60"/>
                  <a:pt x="117" y="98"/>
                  <a:pt x="110" y="168"/>
                </a:cubicBezTo>
                <a:cubicBezTo>
                  <a:pt x="105" y="215"/>
                  <a:pt x="85" y="260"/>
                  <a:pt x="70" y="304"/>
                </a:cubicBezTo>
                <a:cubicBezTo>
                  <a:pt x="57" y="344"/>
                  <a:pt x="43" y="384"/>
                  <a:pt x="30" y="424"/>
                </a:cubicBezTo>
                <a:cubicBezTo>
                  <a:pt x="25" y="440"/>
                  <a:pt x="14" y="472"/>
                  <a:pt x="14" y="472"/>
                </a:cubicBezTo>
                <a:cubicBezTo>
                  <a:pt x="15" y="501"/>
                  <a:pt x="0" y="689"/>
                  <a:pt x="54" y="736"/>
                </a:cubicBezTo>
                <a:cubicBezTo>
                  <a:pt x="102" y="778"/>
                  <a:pt x="169" y="797"/>
                  <a:pt x="222" y="832"/>
                </a:cubicBezTo>
                <a:cubicBezTo>
                  <a:pt x="245" y="847"/>
                  <a:pt x="294" y="872"/>
                  <a:pt x="294" y="872"/>
                </a:cubicBezTo>
                <a:cubicBezTo>
                  <a:pt x="305" y="888"/>
                  <a:pt x="320" y="902"/>
                  <a:pt x="326" y="920"/>
                </a:cubicBezTo>
                <a:cubicBezTo>
                  <a:pt x="331" y="936"/>
                  <a:pt x="342" y="968"/>
                  <a:pt x="342" y="968"/>
                </a:cubicBezTo>
                <a:cubicBezTo>
                  <a:pt x="335" y="1206"/>
                  <a:pt x="312" y="1443"/>
                  <a:pt x="286" y="1680"/>
                </a:cubicBezTo>
                <a:cubicBezTo>
                  <a:pt x="289" y="1797"/>
                  <a:pt x="287" y="1915"/>
                  <a:pt x="294" y="2032"/>
                </a:cubicBezTo>
                <a:cubicBezTo>
                  <a:pt x="296" y="2067"/>
                  <a:pt x="324" y="2124"/>
                  <a:pt x="334" y="2160"/>
                </a:cubicBezTo>
                <a:cubicBezTo>
                  <a:pt x="355" y="2232"/>
                  <a:pt x="372" y="2304"/>
                  <a:pt x="390" y="2376"/>
                </a:cubicBezTo>
                <a:cubicBezTo>
                  <a:pt x="395" y="2431"/>
                  <a:pt x="389" y="2607"/>
                  <a:pt x="414" y="2632"/>
                </a:cubicBezTo>
                <a:cubicBezTo>
                  <a:pt x="437" y="2655"/>
                  <a:pt x="478" y="2644"/>
                  <a:pt x="510" y="2648"/>
                </a:cubicBezTo>
                <a:cubicBezTo>
                  <a:pt x="592" y="2669"/>
                  <a:pt x="552" y="2661"/>
                  <a:pt x="630" y="2672"/>
                </a:cubicBezTo>
                <a:cubicBezTo>
                  <a:pt x="656" y="2681"/>
                  <a:pt x="676" y="2695"/>
                  <a:pt x="702" y="2704"/>
                </a:cubicBezTo>
                <a:cubicBezTo>
                  <a:pt x="718" y="2751"/>
                  <a:pt x="685" y="2857"/>
                  <a:pt x="646" y="2896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1709640"/>
            <a:ext cx="76230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6633"/>
                </a:solidFill>
                <a:latin typeface="Garamond"/>
              </a:rPr>
              <a:t>The Diencephalon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Pos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77868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Position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: Lies between midbrian and cerebrum, almost entirely surrounded by cerebral hemisp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050920" y="1839960"/>
            <a:ext cx="56167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Pos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97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Lies above and behind the medullar and pons and occupies posterior cranial fos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875120" y="1268280"/>
            <a:ext cx="3846600" cy="4862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H="1">
            <a:off x="4716360" y="3645000"/>
            <a:ext cx="2880000" cy="1152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19640" y="4600440"/>
            <a:ext cx="19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ebellu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Subdivision</a:t>
            </a:r>
            <a:br>
              <a:rPr sz="4000"/>
            </a:b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317808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Doral thalamus         </a:t>
            </a:r>
            <a:r>
              <a:rPr b="1" lang="zh-CN" sz="2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Metathalamus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Epithalamus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Subthalamus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Hypothalamus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662280" y="765000"/>
            <a:ext cx="509580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33"/>
                </a:solidFill>
                <a:latin typeface="Garamond"/>
              </a:rPr>
              <a:t>Dorsal thalamus 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384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External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A large egg-shaped nucleus mass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Anterior end called anterior thalamic tubercle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Posterior end called pulvin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Right and left portion of thalamus are joined by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interthalamic adhes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Floor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hypothalamic sulc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214880" y="1125360"/>
            <a:ext cx="492912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901800" y="306360"/>
            <a:ext cx="8035920" cy="2670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124000" y="1916280"/>
            <a:ext cx="271440" cy="352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1557360"/>
            <a:ext cx="3240000" cy="25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20607600">
            <a:off x="6372000" y="1413000"/>
            <a:ext cx="1152360" cy="576000"/>
          </a:xfrm>
          <a:prstGeom prst="ellipse">
            <a:avLst/>
          </a:prstGeom>
          <a:gradFill rotWithShape="0">
            <a:gsLst>
              <a:gs pos="0">
                <a:srgbClr val="cc9900">
                  <a:alpha val="49019"/>
                </a:srgbClr>
              </a:gs>
              <a:gs pos="100000">
                <a:srgbClr val="5e4600">
                  <a:alpha val="49019"/>
                </a:srgbClr>
              </a:gs>
            </a:gsLst>
            <a:lin ang="6390000"/>
          </a:gra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124000" y="3746520"/>
            <a:ext cx="4464000" cy="26668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804000" y="155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20607600">
            <a:off x="2123640" y="1484280"/>
            <a:ext cx="1152720" cy="576360"/>
          </a:xfrm>
          <a:prstGeom prst="ellipse">
            <a:avLst/>
          </a:prstGeom>
          <a:gradFill rotWithShape="0">
            <a:gsLst>
              <a:gs pos="0">
                <a:srgbClr val="cc9900">
                  <a:alpha val="49019"/>
                </a:srgbClr>
              </a:gs>
              <a:gs pos="100000">
                <a:srgbClr val="5e4600">
                  <a:alpha val="49019"/>
                </a:srgbClr>
              </a:gs>
            </a:gsLst>
            <a:lin ang="6390000"/>
          </a:gra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33"/>
                </a:solidFill>
                <a:latin typeface="Garamond"/>
              </a:rPr>
              <a:t>Classification of nuclei of dorsal thalamus</a:t>
            </a:r>
            <a:br>
              <a:rPr sz="3100"/>
            </a:b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533880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Three nuclear group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divided by internal medullary lamin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"/>
              </a:rPr>
              <a:t>Anterior nuclear group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"/>
              </a:rPr>
              <a:t>Medial nuclear group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"/>
              </a:rPr>
              <a:t>Lateral nuclear group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059280" y="2708280"/>
            <a:ext cx="579564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763640" y="1522440"/>
            <a:ext cx="5904000" cy="35337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 flipH="1" flipV="1">
            <a:off x="5724000" y="1341000"/>
            <a:ext cx="71640" cy="5749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88000" y="981000"/>
            <a:ext cx="23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. nuclear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6877080" y="1700280"/>
            <a:ext cx="503280" cy="5047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64480" y="1341360"/>
            <a:ext cx="22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. nuclear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3924360" y="1628280"/>
            <a:ext cx="1511280" cy="10796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68920" y="128916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rsal ti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93080" y="2997360"/>
            <a:ext cx="142920" cy="5760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16720" y="3500280"/>
            <a:ext cx="142920" cy="7207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88000" y="4292640"/>
            <a:ext cx="0" cy="9367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4005360"/>
            <a:ext cx="0" cy="17287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1979640" y="3068640"/>
            <a:ext cx="5047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1692360" y="4149360"/>
            <a:ext cx="576000" cy="1429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700360" y="4724280"/>
            <a:ext cx="0" cy="3603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4140000" y="980640"/>
            <a:ext cx="1223640" cy="12956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88720" y="620640"/>
            <a:ext cx="293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internal medullary lam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21440" y="3645000"/>
            <a:ext cx="19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ntral anteri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18520" y="4221000"/>
            <a:ext cx="24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ntral intermedi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3800" y="5229360"/>
            <a:ext cx="32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Ventral posterolateral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VP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40360" y="5734080"/>
            <a:ext cx="35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Ventral posteromedial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VPM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27640" y="278136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Pulvin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3716280"/>
            <a:ext cx="23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Medial geniculate body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MGN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5640" y="5013360"/>
            <a:ext cx="35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Latera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geniculate body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LG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508720" y="4076640"/>
            <a:ext cx="0" cy="720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44200" y="4745160"/>
            <a:ext cx="34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ntral posterior nucle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V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395280" y="260280"/>
          <a:ext cx="8229600" cy="5761080"/>
        </p:xfrm>
        <a:graphic>
          <a:graphicData uri="http://schemas.openxmlformats.org/drawingml/2006/table">
            <a:tbl>
              <a:tblPr/>
              <a:tblGrid>
                <a:gridCol w="2736720"/>
                <a:gridCol w="3456000"/>
                <a:gridCol w="2036880"/>
              </a:tblGrid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Subdivision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rincipal Nuclei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ommon abbreviatio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t. nuclear group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. nuclear group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t. nuclear group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rsal tier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teral dorsal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teral posterior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P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lvinar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tral tier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tral anterior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tral intermediat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tral posterior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P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zh-CN" sz="2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Ventral posterolateral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PL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zh-CN" sz="2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Ventral posteromedial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PM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Functional subdivis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Nonspecific relay nucle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receive afferents from rhinencephalon and reticular formation of brain stem, project mainly to hypothalamus and corpus striatu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idline nucleus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ntralaminar nuclear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alamic reticular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ssociation nuclei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receive input from many converging sours and in turn project widely to the association areas of cerebral corte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nterior nuclear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edial nuclear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orsal tier of lateral nuclear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Special relay nuclei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Vent. anterior nucleus (VA)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Vent. intermediate nucleus (VI)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eceiving dentate nucleus, globus pallidus and substantia nigra to motor cort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Vent. posteromedial nucleus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(VPM)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eceives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rigeminal lemniscu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este fiber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Vent. posterolateral nucleus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(VPL)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eceives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medial lemniscu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pinal lemnis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rojects to first somatic sensory area via central thalamic ra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Metathalamu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3659040" cy="50338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 flipV="1">
            <a:off x="3564000" y="1988640"/>
            <a:ext cx="1439640" cy="358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004360" y="1844640"/>
            <a:ext cx="34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Latera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geniculate body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LG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32000" y="2565360"/>
            <a:ext cx="1008360" cy="28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48200" y="1778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067280" y="2708280"/>
            <a:ext cx="34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Medial geniculate bod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(MG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21640" y="5032440"/>
            <a:ext cx="22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etathala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Metathalamu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Medial geniculate body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(MGN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-4903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elay station of au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-4903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eceive fibers from inferior collic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-4903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rojects to auditory area via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coustic ra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Lateral</a:t>
            </a:r>
            <a:r>
              <a:rPr b="0" lang="zh-CN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geniculate body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(LG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-4903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elay station of 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-4903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eceive fibers from optic 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-4903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rojects to visual area via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optic radi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284720" y="1628640"/>
            <a:ext cx="4392720" cy="2624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716360" y="3645000"/>
            <a:ext cx="2735280" cy="718920"/>
          </a:xfrm>
          <a:prstGeom prst="line">
            <a:avLst/>
          </a:prstGeom>
          <a:ln w="1015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932000" y="4005360"/>
            <a:ext cx="144360" cy="1295280"/>
          </a:xfrm>
          <a:prstGeom prst="line">
            <a:avLst/>
          </a:prstGeom>
          <a:ln w="889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33"/>
                </a:solidFill>
                <a:latin typeface="Garamond"/>
              </a:rPr>
              <a:t>External features</a:t>
            </a:r>
            <a:br>
              <a:rPr sz="4400"/>
            </a:b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Consists of two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cerebellar hemisphere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united in the midline by the 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vermis</a:t>
            </a:r>
            <a:r>
              <a:rPr b="0" lang="zh-CN" sz="2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87280" y="2554200"/>
            <a:ext cx="619308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Epithalamu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382752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nclu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Thalamic  medullary stria </a:t>
            </a:r>
            <a:r>
              <a:rPr b="1" lang="zh-CN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Habenular  trigone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Habenular commissure </a:t>
            </a:r>
            <a:r>
              <a:rPr b="1" lang="zh-CN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Pineal bod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posterior commissure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284720" y="1197000"/>
            <a:ext cx="488160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Hypothalamu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716360" y="893880"/>
            <a:ext cx="3527640" cy="28954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417492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os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ies ventral to thala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uperiorly: hypothalamic sul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nferiorl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2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ptic chias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2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uber cinere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2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nfundibul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2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amillary bo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terior: lamina terminal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Posterior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: continues with midbrain tegment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5148360" y="3500280"/>
            <a:ext cx="2998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Subthalamu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Transition zone between diencephalons and tegmentum of midbr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Contain subthalamic nucleus, parts of red nucleus and substantia nigr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290840" y="836640"/>
            <a:ext cx="502452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403848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ubdivi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reoptic reg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upraoptic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uberal reg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amillary reg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267080" y="1413000"/>
            <a:ext cx="434340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4358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mportant nucl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upraoptic reg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Supraoptic nucleus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roduce antidiuretic hormone (AD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vasopressin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araventricular nucleus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roduce oxytoc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uberal reg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nfundibular nucle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Ventromedial nucle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orsomedial nucle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amillary reg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amillary nucle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osterior hypothalamic nucleu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059280" y="260280"/>
            <a:ext cx="5692680" cy="58532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 flipH="1" flipV="1">
            <a:off x="3203280" y="1197000"/>
            <a:ext cx="2089080" cy="712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92200" y="985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0360" y="1000080"/>
            <a:ext cx="27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Paraventricular nucle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3131640" y="2708280"/>
            <a:ext cx="180036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27640" y="2492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upraoptic nucle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04000" y="2565360"/>
            <a:ext cx="0" cy="647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156360" y="3141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Mamillary  nucle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3088800" y="1988640"/>
            <a:ext cx="2203560" cy="71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796000" y="3068640"/>
            <a:ext cx="0" cy="720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18720" y="380844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arcuate nucle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1700280"/>
            <a:ext cx="32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Paraventriculohypophy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r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3131640" y="3067200"/>
            <a:ext cx="2086200" cy="36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1640" y="322740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upraopticohypophys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r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4221000"/>
            <a:ext cx="360360" cy="287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87480" y="4313160"/>
            <a:ext cx="163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infundibul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76720" y="5373720"/>
            <a:ext cx="432000" cy="712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08360" y="5229360"/>
            <a:ext cx="33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posterior lobe of hypoph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3019320" y="5229360"/>
            <a:ext cx="471600" cy="396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-360" y="5084640"/>
            <a:ext cx="305496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anterior lobe of hypoph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3059280" y="3357720"/>
            <a:ext cx="2304720" cy="8632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0920" y="4076640"/>
            <a:ext cx="27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uberoinfundibular tr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84360" y="1173240"/>
            <a:ext cx="3527280" cy="29970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4500720" y="949320"/>
            <a:ext cx="4103640" cy="33051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Hypothalamus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--conne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Connects with limbic syste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Connects with brainstem and spinal co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Connects with dorsal thalamu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Connects with hypophys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Hypothalamus </a:t>
            </a: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--connection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Supraoptic nucleu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supraoptic nucleu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 →supraopticohypophyseal tract →posterior lobe of hypoph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Paraventricular nucleus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paraventicular nucleu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(oxytocin) →paraventriculohypophyseal tract→posterior lobe of hypoph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360520" y="260280"/>
            <a:ext cx="3822840" cy="60483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4500720" y="765000"/>
            <a:ext cx="5029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31840" y="843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32360" y="62064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Paraventricular nucle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4932360" y="1341360"/>
            <a:ext cx="216000" cy="2872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67280" y="1125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Paraventriculohypophyseal tr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3492000" y="1699920"/>
            <a:ext cx="955800" cy="1285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16720" y="155736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upraoptic nucle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64000" y="2276640"/>
            <a:ext cx="1152360" cy="1443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9280" y="2133720"/>
            <a:ext cx="34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upraopticohypophyseal tr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19640" y="5229360"/>
            <a:ext cx="432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580000" y="5013360"/>
            <a:ext cx="35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posterior lobe of hypoph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580000" y="4292640"/>
            <a:ext cx="144360" cy="5047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04560" y="4024440"/>
            <a:ext cx="26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Inferior hypophyseal 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64000" y="5877000"/>
            <a:ext cx="432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76920" y="56088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Hypophyseal 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500"/>
                            </p:stCondLst>
                            <p:childTnLst>
                              <p:par>
                                <p:cTn id="8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500"/>
                            </p:stCondLst>
                            <p:childTnLst>
                              <p:par>
                                <p:cTn id="9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500"/>
                            </p:stCondLst>
                            <p:childTnLst>
                              <p:par>
                                <p:cTn id="9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564000" y="476280"/>
            <a:ext cx="3809880" cy="59626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 flipV="1">
            <a:off x="5891040" y="1093320"/>
            <a:ext cx="228600" cy="5749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35640" y="765000"/>
            <a:ext cx="29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uberoinfundibular tr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084720" y="2204640"/>
            <a:ext cx="1008360" cy="730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056360" y="198900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an emin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96000" y="3933720"/>
            <a:ext cx="792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89440" y="37162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al 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995280" y="5373720"/>
            <a:ext cx="36036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88000" y="515772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uperior hypophyseal 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076720" y="6021360"/>
            <a:ext cx="505080" cy="716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81440" y="59500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Hypophyseal 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4427280" y="5734080"/>
            <a:ext cx="431640" cy="1429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44360" y="573408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erior lo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6200" y="409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4000" y="260280"/>
            <a:ext cx="439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arvicellular neurons in the arcuate nucleus and nearby region of the walls of the third ventricle secrete releasing and inhibiting hormones → tuberoinfundibular tract →portal vein of hypophsis → anterior lobe of hypoph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500"/>
                            </p:stCondLst>
                            <p:childTnLst>
                              <p:par>
                                <p:cTn id="9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500"/>
                            </p:stCondLst>
                            <p:childTnLst>
                              <p:par>
                                <p:cTn id="9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500"/>
                            </p:stCondLst>
                            <p:childTnLst>
                              <p:par>
                                <p:cTn id="9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500"/>
                            </p:stCondLst>
                            <p:childTnLst>
                              <p:par>
                                <p:cTn id="9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"/>
                            </p:stCondLst>
                            <p:childTnLst>
                              <p:par>
                                <p:cTn id="9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External features</a:t>
            </a:r>
            <a:br>
              <a:rPr sz="4800"/>
            </a:b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546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hree pedun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Inferior cerebellar peduncle  </a:t>
            </a:r>
            <a:r>
              <a:rPr b="1" lang="zh-CN" sz="2100" spc="-1" strike="noStrike">
                <a:solidFill>
                  <a:srgbClr val="0000ff"/>
                </a:solidFill>
                <a:latin typeface="Arial"/>
              </a:rPr>
              <a:t>小脑下脚 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connect with medulla and with spinal cord, contain both afferent and efferent fiber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Middle cerebellar peduncle   </a:t>
            </a:r>
            <a:r>
              <a:rPr b="1" lang="zh-CN" sz="2100" spc="-1" strike="noStrike">
                <a:solidFill>
                  <a:srgbClr val="0000ff"/>
                </a:solidFill>
                <a:latin typeface="Arial"/>
              </a:rPr>
              <a:t>小脑中脚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connect with pons, contain afferent fib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Superior cerebellar peduncle </a:t>
            </a:r>
            <a:r>
              <a:rPr b="1" lang="zh-CN" sz="2100" spc="-1" strike="noStrike">
                <a:solidFill>
                  <a:srgbClr val="0000ff"/>
                </a:solidFill>
                <a:latin typeface="Arial"/>
              </a:rPr>
              <a:t>小脑上脚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connect with midbrain, contain mostly efferent fib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43280" y="1557360"/>
            <a:ext cx="431640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Hypothalamu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Regulates functions of neuroendocri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utonomic nerv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Third ventric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384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Position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: a narrow ventricle cleft lies within diencephal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</a:rPr>
              <a:t>Roof: choroids plex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</a:rPr>
              <a:t>Floor: optic chiasma, tuber cinereum, infundibulum and mamillary 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</a:rPr>
              <a:t>Anterior: lamina termina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</a:rPr>
              <a:t>Posterior: continuous with mesencephalic aque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</a:rPr>
              <a:t>Lateral wall: dorsal thalamus and hypothala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 Narrow"/>
              </a:rPr>
              <a:t>Commun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zh-CN" sz="1700" spc="-1" strike="noStrike">
                <a:solidFill>
                  <a:srgbClr val="000000"/>
                </a:solidFill>
                <a:latin typeface="Arial Narrow"/>
              </a:rPr>
              <a:t>Third ventricle →mesencephalic aqueduct → fourth ventric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4519440" y="1484280"/>
            <a:ext cx="4381560" cy="44164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638680" y="3002040"/>
            <a:ext cx="1130400" cy="1214280"/>
          </a:xfrm>
          <a:custGeom>
            <a:avLst/>
            <a:gdLst/>
            <a:ahLst/>
            <a:rect l="l" t="t" r="r" b="b"/>
            <a:pathLst>
              <a:path w="712" h="765">
                <a:moveTo>
                  <a:pt x="0" y="77"/>
                </a:moveTo>
                <a:cubicBezTo>
                  <a:pt x="41" y="63"/>
                  <a:pt x="78" y="43"/>
                  <a:pt x="120" y="29"/>
                </a:cubicBezTo>
                <a:cubicBezTo>
                  <a:pt x="136" y="24"/>
                  <a:pt x="168" y="13"/>
                  <a:pt x="168" y="13"/>
                </a:cubicBezTo>
                <a:cubicBezTo>
                  <a:pt x="385" y="22"/>
                  <a:pt x="305" y="0"/>
                  <a:pt x="416" y="37"/>
                </a:cubicBezTo>
                <a:cubicBezTo>
                  <a:pt x="443" y="46"/>
                  <a:pt x="464" y="69"/>
                  <a:pt x="488" y="85"/>
                </a:cubicBezTo>
                <a:cubicBezTo>
                  <a:pt x="496" y="90"/>
                  <a:pt x="512" y="101"/>
                  <a:pt x="512" y="101"/>
                </a:cubicBezTo>
                <a:cubicBezTo>
                  <a:pt x="569" y="187"/>
                  <a:pt x="480" y="57"/>
                  <a:pt x="552" y="149"/>
                </a:cubicBezTo>
                <a:cubicBezTo>
                  <a:pt x="577" y="181"/>
                  <a:pt x="584" y="216"/>
                  <a:pt x="616" y="237"/>
                </a:cubicBezTo>
                <a:cubicBezTo>
                  <a:pt x="630" y="280"/>
                  <a:pt x="650" y="314"/>
                  <a:pt x="664" y="357"/>
                </a:cubicBezTo>
                <a:cubicBezTo>
                  <a:pt x="686" y="424"/>
                  <a:pt x="679" y="504"/>
                  <a:pt x="688" y="573"/>
                </a:cubicBezTo>
                <a:cubicBezTo>
                  <a:pt x="696" y="640"/>
                  <a:pt x="712" y="698"/>
                  <a:pt x="712" y="765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33"/>
                </a:solidFill>
                <a:latin typeface="Garamond"/>
              </a:rPr>
              <a:t>External features</a:t>
            </a:r>
            <a:br>
              <a:rPr sz="3500"/>
            </a:b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Tonsil of cerebellum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two elevated masses on inferior surface of hemispheral portion just nearby foramen magn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716360" y="1284120"/>
            <a:ext cx="3743280" cy="2246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43280" y="3673440"/>
            <a:ext cx="36496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Lobs</a:t>
            </a:r>
            <a:br>
              <a:rPr sz="4800"/>
            </a:b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476244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Two deep fis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3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Primary fissure </a:t>
            </a:r>
            <a:r>
              <a:rPr b="1" lang="zh-CN" sz="1900" spc="-1" strike="noStrike">
                <a:solidFill>
                  <a:srgbClr val="0000ff"/>
                </a:solidFill>
                <a:latin typeface="Arial"/>
              </a:rPr>
              <a:t>原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3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Posterolateral fissure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1900" spc="-1" strike="noStrike">
                <a:solidFill>
                  <a:srgbClr val="0000ff"/>
                </a:solidFill>
                <a:latin typeface="Arial"/>
              </a:rPr>
              <a:t>后外侧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Three lob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3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Flocculonodular lobe </a:t>
            </a:r>
            <a:r>
              <a:rPr b="1" lang="zh-CN" sz="1900" spc="-1" strike="noStrike">
                <a:solidFill>
                  <a:srgbClr val="0000ff"/>
                </a:solidFill>
                <a:latin typeface="Arial"/>
              </a:rPr>
              <a:t>绒球小结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locculus and n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3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nterior lob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3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Posterior lob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59280" y="4149720"/>
            <a:ext cx="144360" cy="647640"/>
          </a:xfrm>
          <a:custGeom>
            <a:avLst/>
            <a:gdLst>
              <a:gd name="textAreaLeft" fmla="*/ 0 w 144360"/>
              <a:gd name="textAreaRight" fmla="*/ 52200 w 14436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076640"/>
            <a:ext cx="47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orpu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erebellar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小脑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076720" y="1052640"/>
            <a:ext cx="3791160" cy="2274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364000" y="3500280"/>
            <a:ext cx="360072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Lob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403848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08000" y="620640"/>
            <a:ext cx="4391280" cy="3035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268360" y="3213000"/>
            <a:ext cx="4499280" cy="31989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68360" y="1773360"/>
            <a:ext cx="1151280" cy="287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155736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y fi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2411280" y="4076640"/>
            <a:ext cx="1105200" cy="3938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3789360"/>
            <a:ext cx="28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Posterolateral fi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292720" y="3933720"/>
            <a:ext cx="647640" cy="432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66560" y="35733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Flocculonodular lo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788000" y="1197000"/>
            <a:ext cx="1079280" cy="287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67280" y="981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erior lo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787640" y="206064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1916280"/>
            <a:ext cx="179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erior lo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003640" y="2133720"/>
            <a:ext cx="863640" cy="287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51640" y="119700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97080" y="1268280"/>
            <a:ext cx="12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corpus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cerebel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Internal structure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425916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Gray ma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Cerebellar corte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Cerebellar nucle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Dentate nucleus 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齿状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Fastigial nucleus 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顶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Interposed nucleus 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中间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mboliform nucleus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栓状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Globose nucleus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球状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White matter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medullary center </a:t>
            </a:r>
            <a:r>
              <a:rPr b="1" lang="zh-CN" sz="2300" spc="-1" strike="noStrike">
                <a:solidFill>
                  <a:srgbClr val="0000ff"/>
                </a:solidFill>
                <a:latin typeface="Arial"/>
              </a:rPr>
              <a:t>髓体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00720" y="1484280"/>
            <a:ext cx="44020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Internal structur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048360" cy="3997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flipH="1" flipV="1">
            <a:off x="2411280" y="2205000"/>
            <a:ext cx="936720" cy="287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2880" y="191628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Cerebellar cor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2050560" y="3068280"/>
            <a:ext cx="1584360" cy="289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00" y="285264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tate nucle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4572000" y="2133720"/>
            <a:ext cx="1440000" cy="1295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93280" y="18651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Fastigial nucleu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716360" y="2637000"/>
            <a:ext cx="1511280" cy="863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28000" y="2421000"/>
            <a:ext cx="20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Globose nucle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889520" y="3141720"/>
            <a:ext cx="1871640" cy="503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63320" y="2924280"/>
            <a:ext cx="237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Emboliform nucle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979280" y="3860640"/>
            <a:ext cx="1152360" cy="792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20" y="458136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medullary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1T01:40:55Z</dcterms:created>
  <dc:creator>huiyishi</dc:creator>
  <dc:description/>
  <dc:language>en-US</dc:language>
  <cp:lastModifiedBy>ZonaNet</cp:lastModifiedBy>
  <dcterms:modified xsi:type="dcterms:W3CDTF">2008-05-01T09:58:17Z</dcterms:modified>
  <cp:revision>6</cp:revision>
  <dc:subject/>
  <dc:title>The Cerebellum </dc:title>
</cp:coreProperties>
</file>