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1AA-BDC9-4033-8BB1-D8E9F6B8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811-063A-423D-B259-200ABA66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328-39B9-4FE4-AB14-3A52E628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55E-8BCA-4277-8BFC-06AF5AC7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34AD-97AB-46AE-B732-38C83D52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2C99-AEFC-4299-B2AF-B8A4071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0A7E-5ED9-4983-946E-730881D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2FAE-D0C5-409E-B849-B06E526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A684-37A4-4FD9-A946-AAA52941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7E8D-7912-4F4A-8464-087D8542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B410-2490-400B-B6B1-8605F5A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960-9D3E-4ED5-A135-8587B22F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FCEF-473B-417A-BCC5-E265643C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C240-27D8-4D70-B68F-3FA350F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AC3-57C0-4C72-87F0-6C9845C7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A0C3-37E8-4E85-B13D-B07922EF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E1F8-5141-435C-9E59-D1FD88C1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09D-6CA7-46A6-9A42-CAF41782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294-6CD5-4890-BFB7-8AC5E55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DBB-CFA4-42AC-9B91-8D1E0DF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68F-4531-43A2-BF66-4715A857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9BD-3AA0-443C-984E-1FF91EF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BC7-F740-47D2-B883-820D8C9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1F2-1CB0-408E-906B-5C8F0FE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376-A227-44C8-8F6F-FE5B37A1B43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840-367E-4BC7-A3E0-75E22437483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33"/>
                </a:solidFill>
                <a:latin typeface="Garamond"/>
              </a:rPr>
              <a:t>The Cerebellum</a:t>
            </a:r>
            <a:br>
              <a:rPr sz="6100"/>
            </a:br>
            <a:endParaRPr b="0" lang="en-US" sz="61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ree functional divi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Vestibulocerebellum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前庭小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rchicerebellum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原小脑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locculonodular lo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Spinocerebellum     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脊髓小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aleocerebellum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旧小脑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Vermis and intermediate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Cerebrocerebellum  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大脑小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Neocerebellum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新小脑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ateral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84720" y="2138400"/>
            <a:ext cx="4402080" cy="3190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18920" y="486900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locculonodula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30720" y="2707920"/>
            <a:ext cx="729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er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2320" y="2661120"/>
            <a:ext cx="454680" cy="2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0000" y="2805480"/>
            <a:ext cx="729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 z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onnections and function of cerebellu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estibulo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nne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A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receive input from vestibular nuclei and primary vestibu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E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projects to the vestibular nucleus → vestibulospinal tract and medial longitudinal fasciculus → motor neurons of anterior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unction: involved in eye movements and maintain bal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63640" y="507960"/>
            <a:ext cx="5761080" cy="5531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13200" y="2313000"/>
            <a:ext cx="542880" cy="1052640"/>
          </a:xfrm>
          <a:custGeom>
            <a:avLst/>
            <a:gdLst/>
            <a:ahLst/>
            <a:rect l="l" t="t" r="r" b="b"/>
            <a:pathLst>
              <a:path w="342" h="663">
                <a:moveTo>
                  <a:pt x="342" y="280"/>
                </a:moveTo>
                <a:cubicBezTo>
                  <a:pt x="321" y="220"/>
                  <a:pt x="305" y="143"/>
                  <a:pt x="259" y="97"/>
                </a:cubicBezTo>
                <a:cubicBezTo>
                  <a:pt x="244" y="51"/>
                  <a:pt x="219" y="38"/>
                  <a:pt x="186" y="6"/>
                </a:cubicBezTo>
                <a:cubicBezTo>
                  <a:pt x="87" y="15"/>
                  <a:pt x="98" y="0"/>
                  <a:pt x="49" y="52"/>
                </a:cubicBezTo>
                <a:cubicBezTo>
                  <a:pt x="24" y="153"/>
                  <a:pt x="0" y="295"/>
                  <a:pt x="77" y="372"/>
                </a:cubicBezTo>
                <a:cubicBezTo>
                  <a:pt x="102" y="448"/>
                  <a:pt x="100" y="412"/>
                  <a:pt x="131" y="472"/>
                </a:cubicBezTo>
                <a:cubicBezTo>
                  <a:pt x="135" y="481"/>
                  <a:pt x="136" y="491"/>
                  <a:pt x="141" y="500"/>
                </a:cubicBezTo>
                <a:cubicBezTo>
                  <a:pt x="152" y="519"/>
                  <a:pt x="177" y="554"/>
                  <a:pt x="177" y="554"/>
                </a:cubicBezTo>
                <a:cubicBezTo>
                  <a:pt x="203" y="634"/>
                  <a:pt x="167" y="537"/>
                  <a:pt x="205" y="600"/>
                </a:cubicBezTo>
                <a:cubicBezTo>
                  <a:pt x="243" y="663"/>
                  <a:pt x="184" y="598"/>
                  <a:pt x="232" y="646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840" y="2104920"/>
            <a:ext cx="623880" cy="536760"/>
          </a:xfrm>
          <a:custGeom>
            <a:avLst/>
            <a:gdLst/>
            <a:ahLst/>
            <a:rect l="l" t="t" r="r" b="b"/>
            <a:pathLst>
              <a:path w="393" h="338">
                <a:moveTo>
                  <a:pt x="393" y="338"/>
                </a:moveTo>
                <a:cubicBezTo>
                  <a:pt x="359" y="234"/>
                  <a:pt x="369" y="94"/>
                  <a:pt x="247" y="55"/>
                </a:cubicBezTo>
                <a:cubicBezTo>
                  <a:pt x="195" y="0"/>
                  <a:pt x="134" y="31"/>
                  <a:pt x="55" y="36"/>
                </a:cubicBezTo>
                <a:cubicBezTo>
                  <a:pt x="36" y="56"/>
                  <a:pt x="13" y="66"/>
                  <a:pt x="0" y="91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7240" y="2278080"/>
            <a:ext cx="519120" cy="3106800"/>
          </a:xfrm>
          <a:custGeom>
            <a:avLst/>
            <a:gdLst/>
            <a:ahLst/>
            <a:rect l="l" t="t" r="r" b="b"/>
            <a:pathLst>
              <a:path w="327" h="1957">
                <a:moveTo>
                  <a:pt x="327" y="0"/>
                </a:moveTo>
                <a:cubicBezTo>
                  <a:pt x="301" y="27"/>
                  <a:pt x="267" y="44"/>
                  <a:pt x="245" y="74"/>
                </a:cubicBezTo>
                <a:cubicBezTo>
                  <a:pt x="187" y="153"/>
                  <a:pt x="231" y="106"/>
                  <a:pt x="190" y="147"/>
                </a:cubicBezTo>
                <a:cubicBezTo>
                  <a:pt x="179" y="181"/>
                  <a:pt x="144" y="247"/>
                  <a:pt x="117" y="275"/>
                </a:cubicBezTo>
                <a:cubicBezTo>
                  <a:pt x="81" y="384"/>
                  <a:pt x="51" y="432"/>
                  <a:pt x="35" y="558"/>
                </a:cubicBezTo>
                <a:cubicBezTo>
                  <a:pt x="29" y="607"/>
                  <a:pt x="17" y="704"/>
                  <a:pt x="17" y="704"/>
                </a:cubicBezTo>
                <a:cubicBezTo>
                  <a:pt x="0" y="1119"/>
                  <a:pt x="1" y="977"/>
                  <a:pt x="17" y="1582"/>
                </a:cubicBezTo>
                <a:cubicBezTo>
                  <a:pt x="19" y="1676"/>
                  <a:pt x="41" y="1759"/>
                  <a:pt x="71" y="1847"/>
                </a:cubicBezTo>
                <a:cubicBezTo>
                  <a:pt x="82" y="1879"/>
                  <a:pt x="94" y="1901"/>
                  <a:pt x="108" y="1930"/>
                </a:cubicBezTo>
                <a:cubicBezTo>
                  <a:pt x="112" y="1939"/>
                  <a:pt x="117" y="1957"/>
                  <a:pt x="117" y="1957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1040" y="2496960"/>
            <a:ext cx="414000" cy="2800440"/>
          </a:xfrm>
          <a:custGeom>
            <a:avLst/>
            <a:gdLst/>
            <a:ahLst/>
            <a:rect l="l" t="t" r="r" b="b"/>
            <a:pathLst>
              <a:path w="261" h="1764">
                <a:moveTo>
                  <a:pt x="261" y="0"/>
                </a:moveTo>
                <a:cubicBezTo>
                  <a:pt x="251" y="31"/>
                  <a:pt x="238" y="50"/>
                  <a:pt x="215" y="73"/>
                </a:cubicBezTo>
                <a:cubicBezTo>
                  <a:pt x="199" y="122"/>
                  <a:pt x="163" y="162"/>
                  <a:pt x="142" y="210"/>
                </a:cubicBezTo>
                <a:cubicBezTo>
                  <a:pt x="109" y="286"/>
                  <a:pt x="104" y="370"/>
                  <a:pt x="78" y="448"/>
                </a:cubicBezTo>
                <a:cubicBezTo>
                  <a:pt x="64" y="490"/>
                  <a:pt x="53" y="533"/>
                  <a:pt x="42" y="576"/>
                </a:cubicBezTo>
                <a:cubicBezTo>
                  <a:pt x="35" y="603"/>
                  <a:pt x="23" y="658"/>
                  <a:pt x="23" y="658"/>
                </a:cubicBezTo>
                <a:cubicBezTo>
                  <a:pt x="0" y="1085"/>
                  <a:pt x="7" y="887"/>
                  <a:pt x="23" y="1682"/>
                </a:cubicBezTo>
                <a:cubicBezTo>
                  <a:pt x="24" y="1709"/>
                  <a:pt x="42" y="1735"/>
                  <a:pt x="42" y="176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onnections and function of cerebellum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pinocerebel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nnne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A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receive somatic sensory information via spinocerebellar tr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Efferents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Vermis projects to the fastigial nucleus → vestibular nuclei and reticular formation   → vestibulospinal tract and reticulospinal tract → motor neurons of anterior ho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Intermediate zone projects to the interposed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ralateral red nucleus → rubrospinal tract →motor neurons of anterior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ntralateral  VI →cerebral cortex→ coticospinal tract→motor neurons of anterior h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Function: play an important role in control of muscle tone and coordination of muscle movement on the same side of the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27360" y="404640"/>
            <a:ext cx="3867120" cy="5832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95760" y="3164040"/>
            <a:ext cx="961920" cy="2771640"/>
          </a:xfrm>
          <a:custGeom>
            <a:avLst/>
            <a:gdLst/>
            <a:ahLst/>
            <a:rect l="l" t="t" r="r" b="b"/>
            <a:pathLst>
              <a:path w="606" h="1746">
                <a:moveTo>
                  <a:pt x="305" y="0"/>
                </a:moveTo>
                <a:cubicBezTo>
                  <a:pt x="308" y="9"/>
                  <a:pt x="306" y="22"/>
                  <a:pt x="314" y="28"/>
                </a:cubicBezTo>
                <a:cubicBezTo>
                  <a:pt x="340" y="47"/>
                  <a:pt x="450" y="70"/>
                  <a:pt x="488" y="82"/>
                </a:cubicBezTo>
                <a:cubicBezTo>
                  <a:pt x="509" y="104"/>
                  <a:pt x="561" y="137"/>
                  <a:pt x="561" y="137"/>
                </a:cubicBezTo>
                <a:cubicBezTo>
                  <a:pt x="571" y="167"/>
                  <a:pt x="587" y="190"/>
                  <a:pt x="598" y="220"/>
                </a:cubicBezTo>
                <a:cubicBezTo>
                  <a:pt x="591" y="297"/>
                  <a:pt x="606" y="367"/>
                  <a:pt x="524" y="393"/>
                </a:cubicBezTo>
                <a:cubicBezTo>
                  <a:pt x="441" y="451"/>
                  <a:pt x="342" y="443"/>
                  <a:pt x="250" y="476"/>
                </a:cubicBezTo>
                <a:cubicBezTo>
                  <a:pt x="202" y="548"/>
                  <a:pt x="217" y="509"/>
                  <a:pt x="204" y="594"/>
                </a:cubicBezTo>
                <a:cubicBezTo>
                  <a:pt x="201" y="673"/>
                  <a:pt x="203" y="753"/>
                  <a:pt x="195" y="832"/>
                </a:cubicBezTo>
                <a:cubicBezTo>
                  <a:pt x="194" y="843"/>
                  <a:pt x="181" y="850"/>
                  <a:pt x="177" y="860"/>
                </a:cubicBezTo>
                <a:cubicBezTo>
                  <a:pt x="159" y="901"/>
                  <a:pt x="143" y="954"/>
                  <a:pt x="131" y="997"/>
                </a:cubicBezTo>
                <a:cubicBezTo>
                  <a:pt x="117" y="1048"/>
                  <a:pt x="113" y="1100"/>
                  <a:pt x="104" y="1152"/>
                </a:cubicBezTo>
                <a:cubicBezTo>
                  <a:pt x="98" y="1186"/>
                  <a:pt x="88" y="1210"/>
                  <a:pt x="76" y="1244"/>
                </a:cubicBezTo>
                <a:cubicBezTo>
                  <a:pt x="58" y="1297"/>
                  <a:pt x="54" y="1354"/>
                  <a:pt x="40" y="1408"/>
                </a:cubicBezTo>
                <a:cubicBezTo>
                  <a:pt x="36" y="1490"/>
                  <a:pt x="0" y="1583"/>
                  <a:pt x="40" y="1655"/>
                </a:cubicBezTo>
                <a:cubicBezTo>
                  <a:pt x="45" y="1664"/>
                  <a:pt x="59" y="1666"/>
                  <a:pt x="67" y="1673"/>
                </a:cubicBezTo>
                <a:cubicBezTo>
                  <a:pt x="132" y="1726"/>
                  <a:pt x="212" y="1746"/>
                  <a:pt x="296" y="1746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16520" y="3178080"/>
            <a:ext cx="104760" cy="451080"/>
          </a:xfrm>
          <a:custGeom>
            <a:avLst/>
            <a:gdLst/>
            <a:ahLst/>
            <a:rect l="l" t="t" r="r" b="b"/>
            <a:pathLst>
              <a:path w="66" h="284">
                <a:moveTo>
                  <a:pt x="21" y="0"/>
                </a:moveTo>
                <a:cubicBezTo>
                  <a:pt x="15" y="6"/>
                  <a:pt x="4" y="10"/>
                  <a:pt x="2" y="19"/>
                </a:cubicBezTo>
                <a:cubicBezTo>
                  <a:pt x="0" y="28"/>
                  <a:pt x="9" y="37"/>
                  <a:pt x="12" y="46"/>
                </a:cubicBezTo>
                <a:cubicBezTo>
                  <a:pt x="18" y="64"/>
                  <a:pt x="24" y="83"/>
                  <a:pt x="30" y="101"/>
                </a:cubicBezTo>
                <a:cubicBezTo>
                  <a:pt x="33" y="110"/>
                  <a:pt x="39" y="128"/>
                  <a:pt x="39" y="128"/>
                </a:cubicBezTo>
                <a:cubicBezTo>
                  <a:pt x="47" y="179"/>
                  <a:pt x="66" y="233"/>
                  <a:pt x="66" y="28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45080" y="3686040"/>
            <a:ext cx="406440" cy="174600"/>
            <a:chOff x="4645080" y="3686040"/>
            <a:chExt cx="406440" cy="174600"/>
          </a:xfrm>
        </p:grpSpPr>
        <p:sp>
          <p:nvSpPr>
            <p:cNvPr id="164" name=""/>
            <p:cNvSpPr/>
            <p:nvPr/>
          </p:nvSpPr>
          <p:spPr>
            <a:xfrm>
              <a:off x="4645080" y="3686040"/>
              <a:ext cx="406440" cy="174600"/>
            </a:xfrm>
            <a:custGeom>
              <a:avLst/>
              <a:gdLst/>
              <a:ahLst/>
              <a:rect l="l" t="t" r="r" b="b"/>
              <a:pathLst>
                <a:path w="256" h="110">
                  <a:moveTo>
                    <a:pt x="256" y="0"/>
                  </a:moveTo>
                  <a:cubicBezTo>
                    <a:pt x="175" y="7"/>
                    <a:pt x="154" y="8"/>
                    <a:pt x="91" y="28"/>
                  </a:cubicBezTo>
                  <a:cubicBezTo>
                    <a:pt x="62" y="47"/>
                    <a:pt x="68" y="41"/>
                    <a:pt x="45" y="64"/>
                  </a:cubicBezTo>
                  <a:cubicBezTo>
                    <a:pt x="30" y="79"/>
                    <a:pt x="0" y="110"/>
                    <a:pt x="0" y="110"/>
                  </a:cubicBez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48120" y="3686040"/>
              <a:ext cx="203400" cy="174600"/>
            </a:xfrm>
            <a:custGeom>
              <a:avLst/>
              <a:gdLst/>
              <a:ahLst/>
              <a:rect l="l" t="t" r="r" b="b"/>
              <a:pathLst>
                <a:path w="128" h="110">
                  <a:moveTo>
                    <a:pt x="128" y="0"/>
                  </a:moveTo>
                  <a:cubicBezTo>
                    <a:pt x="114" y="14"/>
                    <a:pt x="106" y="33"/>
                    <a:pt x="91" y="46"/>
                  </a:cubicBezTo>
                  <a:cubicBezTo>
                    <a:pt x="63" y="71"/>
                    <a:pt x="26" y="84"/>
                    <a:pt x="0" y="110"/>
                  </a:cubicBez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62640" y="3933720"/>
            <a:ext cx="141120" cy="1538280"/>
          </a:xfrm>
          <a:custGeom>
            <a:avLst/>
            <a:gdLst/>
            <a:ahLst/>
            <a:rect l="l" t="t" r="r" b="b"/>
            <a:pathLst>
              <a:path w="89" h="969">
                <a:moveTo>
                  <a:pt x="52" y="0"/>
                </a:moveTo>
                <a:cubicBezTo>
                  <a:pt x="37" y="45"/>
                  <a:pt x="40" y="18"/>
                  <a:pt x="61" y="82"/>
                </a:cubicBezTo>
                <a:cubicBezTo>
                  <a:pt x="64" y="91"/>
                  <a:pt x="70" y="109"/>
                  <a:pt x="70" y="109"/>
                </a:cubicBezTo>
                <a:cubicBezTo>
                  <a:pt x="80" y="226"/>
                  <a:pt x="89" y="343"/>
                  <a:pt x="52" y="457"/>
                </a:cubicBezTo>
                <a:cubicBezTo>
                  <a:pt x="39" y="497"/>
                  <a:pt x="44" y="478"/>
                  <a:pt x="33" y="530"/>
                </a:cubicBezTo>
                <a:cubicBezTo>
                  <a:pt x="27" y="560"/>
                  <a:pt x="15" y="621"/>
                  <a:pt x="15" y="621"/>
                </a:cubicBezTo>
                <a:cubicBezTo>
                  <a:pt x="0" y="810"/>
                  <a:pt x="6" y="694"/>
                  <a:pt x="6" y="969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99000" y="4021200"/>
            <a:ext cx="235080" cy="1377720"/>
          </a:xfrm>
          <a:custGeom>
            <a:avLst/>
            <a:gdLst/>
            <a:ahLst/>
            <a:rect l="l" t="t" r="r" b="b"/>
            <a:pathLst>
              <a:path w="148" h="868">
                <a:moveTo>
                  <a:pt x="148" y="0"/>
                </a:moveTo>
                <a:cubicBezTo>
                  <a:pt x="145" y="24"/>
                  <a:pt x="141" y="49"/>
                  <a:pt x="138" y="73"/>
                </a:cubicBezTo>
                <a:cubicBezTo>
                  <a:pt x="134" y="109"/>
                  <a:pt x="134" y="146"/>
                  <a:pt x="129" y="182"/>
                </a:cubicBezTo>
                <a:cubicBezTo>
                  <a:pt x="115" y="287"/>
                  <a:pt x="88" y="390"/>
                  <a:pt x="65" y="493"/>
                </a:cubicBezTo>
                <a:cubicBezTo>
                  <a:pt x="52" y="551"/>
                  <a:pt x="42" y="609"/>
                  <a:pt x="29" y="667"/>
                </a:cubicBezTo>
                <a:cubicBezTo>
                  <a:pt x="23" y="694"/>
                  <a:pt x="10" y="749"/>
                  <a:pt x="10" y="749"/>
                </a:cubicBezTo>
                <a:cubicBezTo>
                  <a:pt x="0" y="844"/>
                  <a:pt x="1" y="804"/>
                  <a:pt x="1" y="868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92840" y="3135240"/>
            <a:ext cx="247320" cy="290520"/>
          </a:xfrm>
          <a:custGeom>
            <a:avLst/>
            <a:gdLst/>
            <a:ahLst/>
            <a:rect l="l" t="t" r="r" b="b"/>
            <a:pathLst>
              <a:path w="156" h="183">
                <a:moveTo>
                  <a:pt x="0" y="0"/>
                </a:moveTo>
                <a:cubicBezTo>
                  <a:pt x="21" y="64"/>
                  <a:pt x="32" y="68"/>
                  <a:pt x="73" y="119"/>
                </a:cubicBezTo>
                <a:cubicBezTo>
                  <a:pt x="95" y="146"/>
                  <a:pt x="116" y="183"/>
                  <a:pt x="156" y="183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53040" y="2728800"/>
            <a:ext cx="914400" cy="812880"/>
          </a:xfrm>
          <a:custGeom>
            <a:avLst/>
            <a:gdLst/>
            <a:ahLst/>
            <a:rect l="l" t="t" r="r" b="b"/>
            <a:pathLst>
              <a:path w="576" h="512">
                <a:moveTo>
                  <a:pt x="576" y="484"/>
                </a:moveTo>
                <a:cubicBezTo>
                  <a:pt x="514" y="501"/>
                  <a:pt x="483" y="506"/>
                  <a:pt x="411" y="512"/>
                </a:cubicBezTo>
                <a:cubicBezTo>
                  <a:pt x="351" y="505"/>
                  <a:pt x="305" y="499"/>
                  <a:pt x="256" y="466"/>
                </a:cubicBezTo>
                <a:cubicBezTo>
                  <a:pt x="250" y="457"/>
                  <a:pt x="245" y="447"/>
                  <a:pt x="238" y="439"/>
                </a:cubicBezTo>
                <a:cubicBezTo>
                  <a:pt x="232" y="432"/>
                  <a:pt x="224" y="427"/>
                  <a:pt x="219" y="420"/>
                </a:cubicBezTo>
                <a:cubicBezTo>
                  <a:pt x="206" y="403"/>
                  <a:pt x="183" y="366"/>
                  <a:pt x="183" y="366"/>
                </a:cubicBezTo>
                <a:cubicBezTo>
                  <a:pt x="164" y="307"/>
                  <a:pt x="146" y="253"/>
                  <a:pt x="100" y="210"/>
                </a:cubicBezTo>
                <a:cubicBezTo>
                  <a:pt x="75" y="135"/>
                  <a:pt x="110" y="227"/>
                  <a:pt x="73" y="164"/>
                </a:cubicBezTo>
                <a:cubicBezTo>
                  <a:pt x="52" y="129"/>
                  <a:pt x="41" y="89"/>
                  <a:pt x="18" y="55"/>
                </a:cubicBezTo>
                <a:cubicBezTo>
                  <a:pt x="12" y="37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24240" y="2684520"/>
            <a:ext cx="398520" cy="2657520"/>
          </a:xfrm>
          <a:custGeom>
            <a:avLst/>
            <a:gdLst/>
            <a:ahLst/>
            <a:rect l="l" t="t" r="r" b="b"/>
            <a:pathLst>
              <a:path w="251" h="1674">
                <a:moveTo>
                  <a:pt x="0" y="0"/>
                </a:moveTo>
                <a:cubicBezTo>
                  <a:pt x="8" y="85"/>
                  <a:pt x="20" y="134"/>
                  <a:pt x="45" y="211"/>
                </a:cubicBezTo>
                <a:cubicBezTo>
                  <a:pt x="48" y="221"/>
                  <a:pt x="91" y="264"/>
                  <a:pt x="100" y="275"/>
                </a:cubicBezTo>
                <a:cubicBezTo>
                  <a:pt x="126" y="308"/>
                  <a:pt x="147" y="334"/>
                  <a:pt x="182" y="357"/>
                </a:cubicBezTo>
                <a:cubicBezTo>
                  <a:pt x="251" y="544"/>
                  <a:pt x="200" y="756"/>
                  <a:pt x="182" y="951"/>
                </a:cubicBezTo>
                <a:cubicBezTo>
                  <a:pt x="186" y="1185"/>
                  <a:pt x="201" y="1435"/>
                  <a:pt x="201" y="167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75040" y="2104920"/>
            <a:ext cx="1320840" cy="1349640"/>
          </a:xfrm>
          <a:custGeom>
            <a:avLst/>
            <a:gdLst/>
            <a:ahLst/>
            <a:rect l="l" t="t" r="r" b="b"/>
            <a:pathLst>
              <a:path w="832" h="850">
                <a:moveTo>
                  <a:pt x="832" y="850"/>
                </a:moveTo>
                <a:cubicBezTo>
                  <a:pt x="753" y="824"/>
                  <a:pt x="667" y="836"/>
                  <a:pt x="585" y="823"/>
                </a:cubicBezTo>
                <a:cubicBezTo>
                  <a:pt x="551" y="787"/>
                  <a:pt x="517" y="760"/>
                  <a:pt x="485" y="722"/>
                </a:cubicBezTo>
                <a:cubicBezTo>
                  <a:pt x="464" y="696"/>
                  <a:pt x="464" y="712"/>
                  <a:pt x="448" y="676"/>
                </a:cubicBezTo>
                <a:cubicBezTo>
                  <a:pt x="429" y="633"/>
                  <a:pt x="417" y="584"/>
                  <a:pt x="402" y="539"/>
                </a:cubicBezTo>
                <a:cubicBezTo>
                  <a:pt x="385" y="491"/>
                  <a:pt x="379" y="475"/>
                  <a:pt x="348" y="429"/>
                </a:cubicBezTo>
                <a:cubicBezTo>
                  <a:pt x="342" y="420"/>
                  <a:pt x="329" y="402"/>
                  <a:pt x="329" y="402"/>
                </a:cubicBezTo>
                <a:cubicBezTo>
                  <a:pt x="309" y="341"/>
                  <a:pt x="247" y="291"/>
                  <a:pt x="201" y="247"/>
                </a:cubicBezTo>
                <a:cubicBezTo>
                  <a:pt x="180" y="227"/>
                  <a:pt x="166" y="203"/>
                  <a:pt x="146" y="183"/>
                </a:cubicBezTo>
                <a:cubicBezTo>
                  <a:pt x="126" y="163"/>
                  <a:pt x="99" y="150"/>
                  <a:pt x="82" y="128"/>
                </a:cubicBezTo>
                <a:cubicBezTo>
                  <a:pt x="69" y="110"/>
                  <a:pt x="46" y="73"/>
                  <a:pt x="46" y="73"/>
                </a:cubicBezTo>
                <a:cubicBezTo>
                  <a:pt x="30" y="24"/>
                  <a:pt x="48" y="63"/>
                  <a:pt x="18" y="27"/>
                </a:cubicBezTo>
                <a:cubicBezTo>
                  <a:pt x="11" y="19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73520" y="784080"/>
            <a:ext cx="406440" cy="1290960"/>
          </a:xfrm>
          <a:custGeom>
            <a:avLst/>
            <a:gdLst/>
            <a:ahLst/>
            <a:rect l="l" t="t" r="r" b="b"/>
            <a:pathLst>
              <a:path w="256" h="813">
                <a:moveTo>
                  <a:pt x="46" y="813"/>
                </a:moveTo>
                <a:cubicBezTo>
                  <a:pt x="37" y="810"/>
                  <a:pt x="24" y="812"/>
                  <a:pt x="18" y="804"/>
                </a:cubicBezTo>
                <a:cubicBezTo>
                  <a:pt x="7" y="788"/>
                  <a:pt x="0" y="749"/>
                  <a:pt x="0" y="749"/>
                </a:cubicBezTo>
                <a:cubicBezTo>
                  <a:pt x="8" y="710"/>
                  <a:pt x="8" y="685"/>
                  <a:pt x="37" y="658"/>
                </a:cubicBezTo>
                <a:cubicBezTo>
                  <a:pt x="53" y="610"/>
                  <a:pt x="57" y="592"/>
                  <a:pt x="92" y="557"/>
                </a:cubicBezTo>
                <a:cubicBezTo>
                  <a:pt x="102" y="527"/>
                  <a:pt x="115" y="506"/>
                  <a:pt x="137" y="484"/>
                </a:cubicBezTo>
                <a:cubicBezTo>
                  <a:pt x="152" y="469"/>
                  <a:pt x="168" y="454"/>
                  <a:pt x="183" y="439"/>
                </a:cubicBezTo>
                <a:cubicBezTo>
                  <a:pt x="189" y="433"/>
                  <a:pt x="201" y="420"/>
                  <a:pt x="201" y="420"/>
                </a:cubicBezTo>
                <a:cubicBezTo>
                  <a:pt x="204" y="411"/>
                  <a:pt x="205" y="401"/>
                  <a:pt x="210" y="393"/>
                </a:cubicBezTo>
                <a:cubicBezTo>
                  <a:pt x="215" y="386"/>
                  <a:pt x="225" y="383"/>
                  <a:pt x="229" y="375"/>
                </a:cubicBezTo>
                <a:cubicBezTo>
                  <a:pt x="238" y="358"/>
                  <a:pt x="241" y="338"/>
                  <a:pt x="247" y="320"/>
                </a:cubicBezTo>
                <a:cubicBezTo>
                  <a:pt x="250" y="311"/>
                  <a:pt x="256" y="292"/>
                  <a:pt x="256" y="292"/>
                </a:cubicBezTo>
                <a:cubicBezTo>
                  <a:pt x="253" y="265"/>
                  <a:pt x="256" y="236"/>
                  <a:pt x="247" y="210"/>
                </a:cubicBezTo>
                <a:cubicBezTo>
                  <a:pt x="243" y="200"/>
                  <a:pt x="227" y="200"/>
                  <a:pt x="220" y="192"/>
                </a:cubicBezTo>
                <a:cubicBezTo>
                  <a:pt x="160" y="123"/>
                  <a:pt x="212" y="147"/>
                  <a:pt x="156" y="128"/>
                </a:cubicBezTo>
                <a:cubicBezTo>
                  <a:pt x="148" y="120"/>
                  <a:pt x="116" y="97"/>
                  <a:pt x="110" y="91"/>
                </a:cubicBezTo>
                <a:cubicBezTo>
                  <a:pt x="74" y="55"/>
                  <a:pt x="110" y="73"/>
                  <a:pt x="73" y="45"/>
                </a:cubicBezTo>
                <a:cubicBezTo>
                  <a:pt x="15" y="2"/>
                  <a:pt x="18" y="32"/>
                  <a:pt x="18" y="0"/>
                </a:cubicBezTo>
              </a:path>
            </a:pathLst>
          </a:custGeom>
          <a:noFill/>
          <a:ln w="38160">
            <a:solidFill>
              <a:srgbClr val="cc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0440" y="841320"/>
            <a:ext cx="857160" cy="4557600"/>
          </a:xfrm>
          <a:custGeom>
            <a:avLst/>
            <a:gdLst/>
            <a:ahLst/>
            <a:rect l="l" t="t" r="r" b="b"/>
            <a:pathLst>
              <a:path w="540" h="2871">
                <a:moveTo>
                  <a:pt x="46" y="0"/>
                </a:moveTo>
                <a:cubicBezTo>
                  <a:pt x="84" y="40"/>
                  <a:pt x="120" y="92"/>
                  <a:pt x="174" y="110"/>
                </a:cubicBezTo>
                <a:cubicBezTo>
                  <a:pt x="185" y="126"/>
                  <a:pt x="202" y="138"/>
                  <a:pt x="211" y="156"/>
                </a:cubicBezTo>
                <a:cubicBezTo>
                  <a:pt x="221" y="177"/>
                  <a:pt x="232" y="222"/>
                  <a:pt x="238" y="247"/>
                </a:cubicBezTo>
                <a:cubicBezTo>
                  <a:pt x="230" y="312"/>
                  <a:pt x="230" y="349"/>
                  <a:pt x="183" y="393"/>
                </a:cubicBezTo>
                <a:cubicBezTo>
                  <a:pt x="170" y="433"/>
                  <a:pt x="149" y="457"/>
                  <a:pt x="119" y="485"/>
                </a:cubicBezTo>
                <a:cubicBezTo>
                  <a:pt x="107" y="520"/>
                  <a:pt x="82" y="550"/>
                  <a:pt x="55" y="576"/>
                </a:cubicBezTo>
                <a:cubicBezTo>
                  <a:pt x="42" y="616"/>
                  <a:pt x="15" y="646"/>
                  <a:pt x="0" y="686"/>
                </a:cubicBezTo>
                <a:cubicBezTo>
                  <a:pt x="9" y="772"/>
                  <a:pt x="7" y="870"/>
                  <a:pt x="74" y="933"/>
                </a:cubicBezTo>
                <a:cubicBezTo>
                  <a:pt x="89" y="977"/>
                  <a:pt x="120" y="981"/>
                  <a:pt x="147" y="1015"/>
                </a:cubicBezTo>
                <a:cubicBezTo>
                  <a:pt x="184" y="1061"/>
                  <a:pt x="143" y="1028"/>
                  <a:pt x="192" y="1061"/>
                </a:cubicBezTo>
                <a:cubicBezTo>
                  <a:pt x="218" y="1131"/>
                  <a:pt x="223" y="1219"/>
                  <a:pt x="266" y="1280"/>
                </a:cubicBezTo>
                <a:cubicBezTo>
                  <a:pt x="275" y="1308"/>
                  <a:pt x="284" y="1335"/>
                  <a:pt x="293" y="1363"/>
                </a:cubicBezTo>
                <a:cubicBezTo>
                  <a:pt x="296" y="1372"/>
                  <a:pt x="299" y="1381"/>
                  <a:pt x="302" y="1390"/>
                </a:cubicBezTo>
                <a:cubicBezTo>
                  <a:pt x="305" y="1399"/>
                  <a:pt x="311" y="1417"/>
                  <a:pt x="311" y="1417"/>
                </a:cubicBezTo>
                <a:cubicBezTo>
                  <a:pt x="308" y="1512"/>
                  <a:pt x="307" y="1606"/>
                  <a:pt x="302" y="1701"/>
                </a:cubicBezTo>
                <a:cubicBezTo>
                  <a:pt x="296" y="1819"/>
                  <a:pt x="263" y="1940"/>
                  <a:pt x="247" y="2057"/>
                </a:cubicBezTo>
                <a:cubicBezTo>
                  <a:pt x="313" y="2155"/>
                  <a:pt x="268" y="2371"/>
                  <a:pt x="256" y="2487"/>
                </a:cubicBezTo>
                <a:cubicBezTo>
                  <a:pt x="269" y="2549"/>
                  <a:pt x="270" y="2567"/>
                  <a:pt x="320" y="2606"/>
                </a:cubicBezTo>
                <a:cubicBezTo>
                  <a:pt x="346" y="2626"/>
                  <a:pt x="352" y="2641"/>
                  <a:pt x="384" y="2652"/>
                </a:cubicBezTo>
                <a:cubicBezTo>
                  <a:pt x="427" y="2694"/>
                  <a:pt x="462" y="2737"/>
                  <a:pt x="503" y="2780"/>
                </a:cubicBezTo>
                <a:cubicBezTo>
                  <a:pt x="512" y="2806"/>
                  <a:pt x="518" y="2849"/>
                  <a:pt x="540" y="28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onnections and function of cerebellum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erebrocerebel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A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receives input from the cerebral cortex via a relay in pontine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Efferent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 projects to dentate nucleus → VI → primary motor cortex → corticospinal tract → motor neurons of anterior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unction: participates in planning mo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17920" y="189000"/>
            <a:ext cx="3921120" cy="6048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29160" y="3817800"/>
            <a:ext cx="1012680" cy="1212840"/>
          </a:xfrm>
          <a:custGeom>
            <a:avLst/>
            <a:gdLst/>
            <a:ahLst/>
            <a:rect l="l" t="t" r="r" b="b"/>
            <a:pathLst>
              <a:path w="638" h="764">
                <a:moveTo>
                  <a:pt x="0" y="722"/>
                </a:moveTo>
                <a:cubicBezTo>
                  <a:pt x="63" y="764"/>
                  <a:pt x="140" y="744"/>
                  <a:pt x="210" y="722"/>
                </a:cubicBezTo>
                <a:cubicBezTo>
                  <a:pt x="264" y="668"/>
                  <a:pt x="238" y="688"/>
                  <a:pt x="283" y="658"/>
                </a:cubicBezTo>
                <a:cubicBezTo>
                  <a:pt x="289" y="649"/>
                  <a:pt x="293" y="637"/>
                  <a:pt x="301" y="630"/>
                </a:cubicBezTo>
                <a:cubicBezTo>
                  <a:pt x="317" y="616"/>
                  <a:pt x="356" y="594"/>
                  <a:pt x="356" y="594"/>
                </a:cubicBezTo>
                <a:cubicBezTo>
                  <a:pt x="367" y="577"/>
                  <a:pt x="384" y="566"/>
                  <a:pt x="393" y="548"/>
                </a:cubicBezTo>
                <a:cubicBezTo>
                  <a:pt x="406" y="522"/>
                  <a:pt x="411" y="493"/>
                  <a:pt x="420" y="466"/>
                </a:cubicBezTo>
                <a:cubicBezTo>
                  <a:pt x="426" y="448"/>
                  <a:pt x="432" y="428"/>
                  <a:pt x="438" y="411"/>
                </a:cubicBezTo>
                <a:cubicBezTo>
                  <a:pt x="441" y="402"/>
                  <a:pt x="448" y="384"/>
                  <a:pt x="448" y="384"/>
                </a:cubicBezTo>
                <a:cubicBezTo>
                  <a:pt x="459" y="316"/>
                  <a:pt x="469" y="213"/>
                  <a:pt x="521" y="164"/>
                </a:cubicBezTo>
                <a:cubicBezTo>
                  <a:pt x="532" y="131"/>
                  <a:pt x="569" y="70"/>
                  <a:pt x="594" y="45"/>
                </a:cubicBezTo>
                <a:cubicBezTo>
                  <a:pt x="638" y="0"/>
                  <a:pt x="609" y="51"/>
                  <a:pt x="630" y="9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1280" y="3716280"/>
            <a:ext cx="436680" cy="406440"/>
          </a:xfrm>
          <a:custGeom>
            <a:avLst/>
            <a:gdLst/>
            <a:ahLst/>
            <a:rect l="l" t="t" r="r" b="b"/>
            <a:pathLst>
              <a:path w="275" h="256">
                <a:moveTo>
                  <a:pt x="275" y="0"/>
                </a:moveTo>
                <a:cubicBezTo>
                  <a:pt x="246" y="27"/>
                  <a:pt x="227" y="61"/>
                  <a:pt x="202" y="91"/>
                </a:cubicBezTo>
                <a:cubicBezTo>
                  <a:pt x="171" y="128"/>
                  <a:pt x="129" y="152"/>
                  <a:pt x="92" y="182"/>
                </a:cubicBezTo>
                <a:cubicBezTo>
                  <a:pt x="71" y="199"/>
                  <a:pt x="24" y="256"/>
                  <a:pt x="0" y="25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30640" y="1925640"/>
            <a:ext cx="876240" cy="2313000"/>
          </a:xfrm>
          <a:custGeom>
            <a:avLst/>
            <a:gdLst/>
            <a:ahLst/>
            <a:rect l="l" t="t" r="r" b="b"/>
            <a:pathLst>
              <a:path w="552" h="1457">
                <a:moveTo>
                  <a:pt x="13" y="12"/>
                </a:moveTo>
                <a:cubicBezTo>
                  <a:pt x="59" y="83"/>
                  <a:pt x="0" y="0"/>
                  <a:pt x="59" y="58"/>
                </a:cubicBezTo>
                <a:cubicBezTo>
                  <a:pt x="106" y="104"/>
                  <a:pt x="139" y="167"/>
                  <a:pt x="187" y="213"/>
                </a:cubicBezTo>
                <a:cubicBezTo>
                  <a:pt x="201" y="256"/>
                  <a:pt x="215" y="284"/>
                  <a:pt x="232" y="323"/>
                </a:cubicBezTo>
                <a:cubicBezTo>
                  <a:pt x="277" y="424"/>
                  <a:pt x="306" y="544"/>
                  <a:pt x="324" y="652"/>
                </a:cubicBezTo>
                <a:cubicBezTo>
                  <a:pt x="327" y="810"/>
                  <a:pt x="288" y="1082"/>
                  <a:pt x="397" y="1246"/>
                </a:cubicBezTo>
                <a:cubicBezTo>
                  <a:pt x="407" y="1278"/>
                  <a:pt x="420" y="1297"/>
                  <a:pt x="443" y="1320"/>
                </a:cubicBezTo>
                <a:cubicBezTo>
                  <a:pt x="457" y="1361"/>
                  <a:pt x="481" y="1379"/>
                  <a:pt x="507" y="1411"/>
                </a:cubicBezTo>
                <a:cubicBezTo>
                  <a:pt x="519" y="1426"/>
                  <a:pt x="529" y="1457"/>
                  <a:pt x="552" y="1457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92480" y="1204920"/>
            <a:ext cx="44640" cy="682560"/>
          </a:xfrm>
          <a:custGeom>
            <a:avLst/>
            <a:gdLst/>
            <a:ahLst/>
            <a:rect l="l" t="t" r="r" b="b"/>
            <a:pathLst>
              <a:path w="28" h="430">
                <a:moveTo>
                  <a:pt x="0" y="430"/>
                </a:moveTo>
                <a:cubicBezTo>
                  <a:pt x="28" y="289"/>
                  <a:pt x="19" y="144"/>
                  <a:pt x="19" y="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19440" y="812880"/>
            <a:ext cx="762120" cy="4152960"/>
            <a:chOff x="3619440" y="812880"/>
            <a:chExt cx="762120" cy="4152960"/>
          </a:xfrm>
        </p:grpSpPr>
        <p:sp>
          <p:nvSpPr>
            <p:cNvPr id="182" name=""/>
            <p:cNvSpPr/>
            <p:nvPr/>
          </p:nvSpPr>
          <p:spPr>
            <a:xfrm>
              <a:off x="3718080" y="812880"/>
              <a:ext cx="663480" cy="4152960"/>
            </a:xfrm>
            <a:custGeom>
              <a:avLst/>
              <a:gdLst/>
              <a:ahLst/>
              <a:rect l="l" t="t" r="r" b="b"/>
              <a:pathLst>
                <a:path w="418" h="2616">
                  <a:moveTo>
                    <a:pt x="298" y="0"/>
                  </a:moveTo>
                  <a:cubicBezTo>
                    <a:pt x="250" y="16"/>
                    <a:pt x="240" y="61"/>
                    <a:pt x="226" y="104"/>
                  </a:cubicBezTo>
                  <a:cubicBezTo>
                    <a:pt x="211" y="148"/>
                    <a:pt x="188" y="182"/>
                    <a:pt x="170" y="224"/>
                  </a:cubicBezTo>
                  <a:cubicBezTo>
                    <a:pt x="153" y="262"/>
                    <a:pt x="143" y="305"/>
                    <a:pt x="130" y="344"/>
                  </a:cubicBezTo>
                  <a:cubicBezTo>
                    <a:pt x="116" y="386"/>
                    <a:pt x="96" y="422"/>
                    <a:pt x="82" y="464"/>
                  </a:cubicBezTo>
                  <a:cubicBezTo>
                    <a:pt x="77" y="480"/>
                    <a:pt x="66" y="512"/>
                    <a:pt x="66" y="512"/>
                  </a:cubicBezTo>
                  <a:cubicBezTo>
                    <a:pt x="59" y="558"/>
                    <a:pt x="50" y="602"/>
                    <a:pt x="42" y="648"/>
                  </a:cubicBezTo>
                  <a:cubicBezTo>
                    <a:pt x="45" y="758"/>
                    <a:pt x="0" y="932"/>
                    <a:pt x="114" y="1008"/>
                  </a:cubicBezTo>
                  <a:cubicBezTo>
                    <a:pt x="159" y="1076"/>
                    <a:pt x="85" y="971"/>
                    <a:pt x="178" y="1064"/>
                  </a:cubicBezTo>
                  <a:cubicBezTo>
                    <a:pt x="233" y="1119"/>
                    <a:pt x="207" y="1099"/>
                    <a:pt x="250" y="1128"/>
                  </a:cubicBezTo>
                  <a:cubicBezTo>
                    <a:pt x="269" y="1157"/>
                    <a:pt x="286" y="1157"/>
                    <a:pt x="314" y="1176"/>
                  </a:cubicBezTo>
                  <a:cubicBezTo>
                    <a:pt x="330" y="1201"/>
                    <a:pt x="343" y="1228"/>
                    <a:pt x="354" y="1256"/>
                  </a:cubicBezTo>
                  <a:cubicBezTo>
                    <a:pt x="360" y="1272"/>
                    <a:pt x="370" y="1304"/>
                    <a:pt x="370" y="1304"/>
                  </a:cubicBezTo>
                  <a:cubicBezTo>
                    <a:pt x="362" y="1389"/>
                    <a:pt x="359" y="1421"/>
                    <a:pt x="354" y="1512"/>
                  </a:cubicBezTo>
                  <a:cubicBezTo>
                    <a:pt x="351" y="1576"/>
                    <a:pt x="352" y="1640"/>
                    <a:pt x="346" y="1704"/>
                  </a:cubicBezTo>
                  <a:cubicBezTo>
                    <a:pt x="344" y="1721"/>
                    <a:pt x="330" y="1752"/>
                    <a:pt x="330" y="1752"/>
                  </a:cubicBezTo>
                  <a:cubicBezTo>
                    <a:pt x="325" y="1812"/>
                    <a:pt x="324" y="1851"/>
                    <a:pt x="306" y="1904"/>
                  </a:cubicBezTo>
                  <a:cubicBezTo>
                    <a:pt x="289" y="2086"/>
                    <a:pt x="271" y="2272"/>
                    <a:pt x="330" y="2448"/>
                  </a:cubicBezTo>
                  <a:cubicBezTo>
                    <a:pt x="345" y="2493"/>
                    <a:pt x="360" y="2534"/>
                    <a:pt x="394" y="2568"/>
                  </a:cubicBezTo>
                  <a:cubicBezTo>
                    <a:pt x="397" y="2576"/>
                    <a:pt x="398" y="2584"/>
                    <a:pt x="402" y="2592"/>
                  </a:cubicBezTo>
                  <a:cubicBezTo>
                    <a:pt x="406" y="2601"/>
                    <a:pt x="418" y="2616"/>
                    <a:pt x="418" y="2616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19440" y="1244520"/>
              <a:ext cx="152640" cy="571680"/>
            </a:xfrm>
            <a:custGeom>
              <a:avLst/>
              <a:gdLst/>
              <a:ahLst/>
              <a:rect l="l" t="t" r="r" b="b"/>
              <a:pathLst>
                <a:path w="96" h="360">
                  <a:moveTo>
                    <a:pt x="0" y="0"/>
                  </a:moveTo>
                  <a:cubicBezTo>
                    <a:pt x="44" y="131"/>
                    <a:pt x="96" y="216"/>
                    <a:pt x="96" y="36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51280" y="1168560"/>
            <a:ext cx="1139760" cy="4597200"/>
          </a:xfrm>
          <a:custGeom>
            <a:avLst/>
            <a:gdLst/>
            <a:ahLst/>
            <a:rect l="l" t="t" r="r" b="b"/>
            <a:pathLst>
              <a:path w="718" h="2896">
                <a:moveTo>
                  <a:pt x="134" y="0"/>
                </a:moveTo>
                <a:cubicBezTo>
                  <a:pt x="114" y="60"/>
                  <a:pt x="117" y="98"/>
                  <a:pt x="110" y="168"/>
                </a:cubicBezTo>
                <a:cubicBezTo>
                  <a:pt x="105" y="215"/>
                  <a:pt x="85" y="260"/>
                  <a:pt x="70" y="304"/>
                </a:cubicBezTo>
                <a:cubicBezTo>
                  <a:pt x="57" y="344"/>
                  <a:pt x="43" y="384"/>
                  <a:pt x="30" y="424"/>
                </a:cubicBezTo>
                <a:cubicBezTo>
                  <a:pt x="25" y="440"/>
                  <a:pt x="14" y="472"/>
                  <a:pt x="14" y="472"/>
                </a:cubicBezTo>
                <a:cubicBezTo>
                  <a:pt x="15" y="501"/>
                  <a:pt x="0" y="689"/>
                  <a:pt x="54" y="736"/>
                </a:cubicBezTo>
                <a:cubicBezTo>
                  <a:pt x="102" y="778"/>
                  <a:pt x="169" y="797"/>
                  <a:pt x="222" y="832"/>
                </a:cubicBezTo>
                <a:cubicBezTo>
                  <a:pt x="245" y="847"/>
                  <a:pt x="294" y="872"/>
                  <a:pt x="294" y="872"/>
                </a:cubicBezTo>
                <a:cubicBezTo>
                  <a:pt x="305" y="888"/>
                  <a:pt x="320" y="902"/>
                  <a:pt x="326" y="920"/>
                </a:cubicBezTo>
                <a:cubicBezTo>
                  <a:pt x="331" y="936"/>
                  <a:pt x="342" y="968"/>
                  <a:pt x="342" y="968"/>
                </a:cubicBezTo>
                <a:cubicBezTo>
                  <a:pt x="335" y="1206"/>
                  <a:pt x="312" y="1443"/>
                  <a:pt x="286" y="1680"/>
                </a:cubicBezTo>
                <a:cubicBezTo>
                  <a:pt x="289" y="1797"/>
                  <a:pt x="287" y="1915"/>
                  <a:pt x="294" y="2032"/>
                </a:cubicBezTo>
                <a:cubicBezTo>
                  <a:pt x="296" y="2067"/>
                  <a:pt x="324" y="2124"/>
                  <a:pt x="334" y="2160"/>
                </a:cubicBezTo>
                <a:cubicBezTo>
                  <a:pt x="355" y="2232"/>
                  <a:pt x="372" y="2304"/>
                  <a:pt x="390" y="2376"/>
                </a:cubicBezTo>
                <a:cubicBezTo>
                  <a:pt x="395" y="2431"/>
                  <a:pt x="389" y="2607"/>
                  <a:pt x="414" y="2632"/>
                </a:cubicBezTo>
                <a:cubicBezTo>
                  <a:pt x="437" y="2655"/>
                  <a:pt x="478" y="2644"/>
                  <a:pt x="510" y="2648"/>
                </a:cubicBezTo>
                <a:cubicBezTo>
                  <a:pt x="592" y="2669"/>
                  <a:pt x="552" y="2661"/>
                  <a:pt x="630" y="2672"/>
                </a:cubicBezTo>
                <a:cubicBezTo>
                  <a:pt x="656" y="2681"/>
                  <a:pt x="676" y="2695"/>
                  <a:pt x="702" y="2704"/>
                </a:cubicBezTo>
                <a:cubicBezTo>
                  <a:pt x="718" y="2751"/>
                  <a:pt x="685" y="2857"/>
                  <a:pt x="646" y="289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The Diencephalon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7786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: Lies between midbrian and cerebrum, almost entirely surrounded by cerebral hemi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050920" y="1839960"/>
            <a:ext cx="5616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ies above and behind the medullar and pons and occupies posterior cranial fo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75120" y="1268280"/>
            <a:ext cx="3846600" cy="486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4716360" y="3645000"/>
            <a:ext cx="288000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4600440"/>
            <a:ext cx="19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bell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ubdivision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31780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Doral thalamus      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etathalamus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Epithalamus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Subthalamus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Hypothalamus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662280" y="765000"/>
            <a:ext cx="509580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Dorsal thalamu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External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 large egg-shaped nucleus mas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nterior end called anterior thalamic tubercl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osterior end called pulvi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ight and left portion of thalamus are joined by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nterthalamic adhe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hypothalamic sul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214880" y="1125360"/>
            <a:ext cx="49291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1800" y="306360"/>
            <a:ext cx="8035920" cy="2670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24000" y="1916280"/>
            <a:ext cx="27144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557360"/>
            <a:ext cx="3240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0607600">
            <a:off x="6372000" y="1413000"/>
            <a:ext cx="1152360" cy="576000"/>
          </a:xfrm>
          <a:prstGeom prst="ellipse">
            <a:avLst/>
          </a:prstGeom>
          <a:gradFill rotWithShape="0">
            <a:gsLst>
              <a:gs pos="0">
                <a:srgbClr val="cc9900">
                  <a:alpha val="49019"/>
                </a:srgbClr>
              </a:gs>
              <a:gs pos="100000">
                <a:srgbClr val="5e4600">
                  <a:alpha val="49019"/>
                </a:srgbClr>
              </a:gs>
            </a:gsLst>
            <a:lin ang="6390000"/>
          </a:gra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24000" y="3746520"/>
            <a:ext cx="4464000" cy="2666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0400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0607600">
            <a:off x="2123640" y="1484280"/>
            <a:ext cx="1152720" cy="576360"/>
          </a:xfrm>
          <a:prstGeom prst="ellipse">
            <a:avLst/>
          </a:prstGeom>
          <a:gradFill rotWithShape="0">
            <a:gsLst>
              <a:gs pos="0">
                <a:srgbClr val="cc9900">
                  <a:alpha val="49019"/>
                </a:srgbClr>
              </a:gs>
              <a:gs pos="100000">
                <a:srgbClr val="5e4600">
                  <a:alpha val="49019"/>
                </a:srgbClr>
              </a:gs>
            </a:gsLst>
            <a:lin ang="6390000"/>
          </a:gra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33"/>
                </a:solidFill>
                <a:latin typeface="Garamond"/>
              </a:rPr>
              <a:t>Classification of nuclei of dorsal thalamus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53388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Three nuclear group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divided by internal medullary lami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Anterior nuclear gro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Medial nuclear gro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Lateral nuclear gro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57956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63640" y="1522440"/>
            <a:ext cx="5904000" cy="3533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 flipV="1">
            <a:off x="5724000" y="1341000"/>
            <a:ext cx="71640" cy="574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88000" y="981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. nuclea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877080" y="1700280"/>
            <a:ext cx="50328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64480" y="13413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. nuclea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924360" y="1628280"/>
            <a:ext cx="1511280" cy="107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8920" y="12891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rsal t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2997360"/>
            <a:ext cx="142920" cy="576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16720" y="3500280"/>
            <a:ext cx="142920" cy="720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4292640"/>
            <a:ext cx="0" cy="936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005360"/>
            <a:ext cx="0" cy="1728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79640" y="3068640"/>
            <a:ext cx="504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692360" y="4149360"/>
            <a:ext cx="576000" cy="142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724280"/>
            <a:ext cx="0" cy="36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140000" y="980640"/>
            <a:ext cx="1223640" cy="1295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8720" y="62064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ternal medullary la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1440" y="364500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ral ante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18520" y="422100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ral intermedi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800" y="5229360"/>
            <a:ext cx="32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entral posterolatera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VP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573408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entral posteromedia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VPM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7640" y="2781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ulvin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716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geniculate bod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MG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640" y="50133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ter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eniculate body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LG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08720" y="4076640"/>
            <a:ext cx="0" cy="72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44200" y="474516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tral posterior nucle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95280" y="260280"/>
          <a:ext cx="8229600" cy="5761080"/>
        </p:xfrm>
        <a:graphic>
          <a:graphicData uri="http://schemas.openxmlformats.org/drawingml/2006/table">
            <a:tbl>
              <a:tblPr/>
              <a:tblGrid>
                <a:gridCol w="2736720"/>
                <a:gridCol w="3456000"/>
                <a:gridCol w="203688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ubdivision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incipal Nucle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mon abbrevi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. nuclear gro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. nuclear gro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. nuclear grou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rsal ti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eral dors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eral posteri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vinar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ti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anteri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intermedi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ral posteri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Ventral posterolateral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zh-CN" sz="2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Ventral posteromedi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P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unctional subdivi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onspecific relay nucle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receive afferents from rhinencephalon and reticular formation of brain stem, project mainly to hypothalamus and corpus striat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idline nucleus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ralaminar nucle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alamic reticular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ssociation nucle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receive input from many converging sours and in turn project widely to the association areas of cerebral cor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terior nuclear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edial nucle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rsal tier of lateral nucle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Special relay nucle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Vent. anterior nucleus (VA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Vent. intermediate nucleus (VI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ing dentate nucleus, globus pallidus and substantia nigra to motor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Vent. posteromedial nucleus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VPM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es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rigeminal lemniscu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este fiber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Vent. posterolateral nucleus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(VPL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ceives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lemnisc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pinal lemni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jects to first somatic sensory area via central thalamic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Meta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3659040" cy="5033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3564000" y="1988640"/>
            <a:ext cx="1439640" cy="35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4360" y="184464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ter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eniculate body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L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2565360"/>
            <a:ext cx="100836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20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270828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ial geniculate bod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(MG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21640" y="50324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eta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Meta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Medial geniculate body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(MG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ay station of au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e fibers from inferior collic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jects to auditory area vi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coustic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Lateral</a:t>
            </a:r>
            <a:r>
              <a:rPr b="0" lang="zh-CN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geniculate bod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LG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lay station of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eive fibers from optic 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rojects to visual area vi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optic rad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392720" cy="2624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716360" y="3645000"/>
            <a:ext cx="2735280" cy="718920"/>
          </a:xfrm>
          <a:prstGeom prst="line">
            <a:avLst/>
          </a:prstGeom>
          <a:ln w="1015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2000" y="4005360"/>
            <a:ext cx="144360" cy="1295280"/>
          </a:xfrm>
          <a:prstGeom prst="line">
            <a:avLst/>
          </a:prstGeom>
          <a:ln w="889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External features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onsists of tw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cerebellar hemispher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united in the midline by the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vermis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2554200"/>
            <a:ext cx="61930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Epi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38275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alamic  medullary stria </a:t>
            </a: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abenular  trigone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abenular commissure 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Pineal bod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posterior commissure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8816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Hypothalamu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716360" y="893880"/>
            <a:ext cx="352764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41749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es ventral to 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periorly: hypothalamic sul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ferior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tic chias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uber ciner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fundibu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millary 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terior: lamina termina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Posterior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: continues with midbrain tegment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2998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Subthala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ransition zone between diencephalons and tegmentum of mid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ontain subthalamic nucleus, parts of red nucleus and substantia nig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90840" y="836640"/>
            <a:ext cx="50245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ubdiv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optic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upraopt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uberal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millary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267080" y="1413000"/>
            <a:ext cx="43434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mportant nuc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upraoptic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upraoptic nucleu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duce antidiuretic hormone (AD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vasopress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araventricular nucleu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oduce oxyto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uberal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fundibular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entromedial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rsomedial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millary reg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millary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sterior hypothalamic nucle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059280" y="260280"/>
            <a:ext cx="5692680" cy="5853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H="1" flipV="1">
            <a:off x="3203280" y="1197000"/>
            <a:ext cx="2089080" cy="7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220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0360" y="10000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ar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131640" y="2708280"/>
            <a:ext cx="180036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7640" y="2492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04000" y="256536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millary 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088800" y="1988640"/>
            <a:ext cx="2203560" cy="7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306864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8720" y="38084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rcuat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70028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ohypophy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131640" y="3067200"/>
            <a:ext cx="2086200" cy="36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640" y="322740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ohypophys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4221000"/>
            <a:ext cx="360360" cy="28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7480" y="431316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fundib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76720" y="5373720"/>
            <a:ext cx="432000" cy="7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08360" y="522936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osterior lobe of hypoph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19320" y="5229360"/>
            <a:ext cx="471600" cy="39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360" y="5084640"/>
            <a:ext cx="30549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nterior lobe of hypoph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059280" y="3357720"/>
            <a:ext cx="2304720" cy="863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07664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uberoinfundibular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84360" y="1173240"/>
            <a:ext cx="3527280" cy="2997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00720" y="949320"/>
            <a:ext cx="4103640" cy="33051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ypothalamus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-conn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limbic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brainstem and spinal co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dorsal thalamu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Connects with hypoph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Hypothalamus </a:t>
            </a: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--connection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upraoptic nucleu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upraoptic nucleu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 →supraopticohypophyseal tract →posterior lobe of hypo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Paraventricular nucleu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paraventicular nucleu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(oxytocin) →paraventriculohypophyseal tract→posterior lobe of hypoph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360520" y="260280"/>
            <a:ext cx="3822840" cy="6048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00720" y="76500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84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20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ar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932360" y="1341360"/>
            <a:ext cx="216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67280" y="112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araventriculohypophyseal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492000" y="1699920"/>
            <a:ext cx="955800" cy="1285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16720" y="1557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64000" y="2276640"/>
            <a:ext cx="1152360" cy="144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2133720"/>
            <a:ext cx="34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raopticohypophyseal t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5229360"/>
            <a:ext cx="432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5013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osterior lobe of hypoph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580000" y="4292640"/>
            <a:ext cx="144360" cy="504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04560" y="402444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Inferior hypophyseal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64000" y="5877000"/>
            <a:ext cx="432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6920" y="5608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ypophyseal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3809880" cy="59626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V="1">
            <a:off x="5891040" y="1093320"/>
            <a:ext cx="228600" cy="574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765000"/>
            <a:ext cx="29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uberoinfundibular 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084720" y="2204640"/>
            <a:ext cx="1008360" cy="730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56360" y="19890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 emi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6000" y="3933720"/>
            <a:ext cx="792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9440" y="371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995280" y="5373720"/>
            <a:ext cx="3603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8000" y="515772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uperior hypophyseal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76720" y="6021360"/>
            <a:ext cx="505080" cy="7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14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ypophyseal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27280" y="5734080"/>
            <a:ext cx="431640" cy="142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44360" y="57340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620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260280"/>
            <a:ext cx="43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vicellular neurons in the arcuate nucleus and nearby region of the walls of the third ventricle secrete releasing and inhibiting hormones → tuberoinfundibular tract →portal vein of hypophsis → anterior lobe of hypoph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External features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ree pedun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Inferior cerebellar peduncle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小脑下脚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nnect with medulla and with spinal cord, contain both afferent and efferent fib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Middle cerebellar peduncle  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小脑中脚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nnect with pons, contain afferent fib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Superior cerebellar peduncle 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小脑上脚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connect with midbrain, contain mostly efferent fib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164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ypothalam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ulates functions of neuro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ird ventr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: a narrow ventricle cleft lies within diencephal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Roof: choroids plex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Floor: optic chiasma, tuber cinereum, infundibulum and mamillary 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Anterior: lamina termin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Posterior: continuous with mesencephalic aque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Lateral wall: dorsal thalamus and 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1700" spc="-1" strike="noStrike">
                <a:solidFill>
                  <a:srgbClr val="000000"/>
                </a:solidFill>
                <a:latin typeface="Arial Narrow"/>
              </a:rPr>
              <a:t>Third ventricle →mesencephalic aqueduct → fourth ventric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19440" y="1484280"/>
            <a:ext cx="4381560" cy="4416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638680" y="3002040"/>
            <a:ext cx="1130400" cy="1214280"/>
          </a:xfrm>
          <a:custGeom>
            <a:avLst/>
            <a:gdLst/>
            <a:ahLst/>
            <a:rect l="l" t="t" r="r" b="b"/>
            <a:pathLst>
              <a:path w="712" h="765">
                <a:moveTo>
                  <a:pt x="0" y="77"/>
                </a:moveTo>
                <a:cubicBezTo>
                  <a:pt x="41" y="63"/>
                  <a:pt x="78" y="43"/>
                  <a:pt x="120" y="29"/>
                </a:cubicBezTo>
                <a:cubicBezTo>
                  <a:pt x="136" y="24"/>
                  <a:pt x="168" y="13"/>
                  <a:pt x="168" y="13"/>
                </a:cubicBezTo>
                <a:cubicBezTo>
                  <a:pt x="385" y="22"/>
                  <a:pt x="305" y="0"/>
                  <a:pt x="416" y="37"/>
                </a:cubicBezTo>
                <a:cubicBezTo>
                  <a:pt x="443" y="46"/>
                  <a:pt x="464" y="69"/>
                  <a:pt x="488" y="85"/>
                </a:cubicBezTo>
                <a:cubicBezTo>
                  <a:pt x="496" y="90"/>
                  <a:pt x="512" y="101"/>
                  <a:pt x="512" y="101"/>
                </a:cubicBezTo>
                <a:cubicBezTo>
                  <a:pt x="569" y="187"/>
                  <a:pt x="480" y="57"/>
                  <a:pt x="552" y="149"/>
                </a:cubicBezTo>
                <a:cubicBezTo>
                  <a:pt x="577" y="181"/>
                  <a:pt x="584" y="216"/>
                  <a:pt x="616" y="237"/>
                </a:cubicBezTo>
                <a:cubicBezTo>
                  <a:pt x="630" y="280"/>
                  <a:pt x="650" y="314"/>
                  <a:pt x="664" y="357"/>
                </a:cubicBezTo>
                <a:cubicBezTo>
                  <a:pt x="686" y="424"/>
                  <a:pt x="679" y="504"/>
                  <a:pt x="688" y="573"/>
                </a:cubicBezTo>
                <a:cubicBezTo>
                  <a:pt x="696" y="640"/>
                  <a:pt x="712" y="698"/>
                  <a:pt x="712" y="76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External features</a:t>
            </a:r>
            <a:br>
              <a:rPr sz="35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Tonsil of cerebellum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wo elevated masses on inferior surface of hemispheral portion just nearby foramen magn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16360" y="1284120"/>
            <a:ext cx="3743280" cy="22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3280" y="3673440"/>
            <a:ext cx="3649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Lobs</a:t>
            </a: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762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wo deep fis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rimary fissure 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原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sterolateral fissure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后外侧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hree l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locculonodular lobe 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绒球小结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locculus and n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nterior lo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3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osterior lo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149720"/>
            <a:ext cx="144360" cy="64764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07664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orpu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erebellar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脑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79116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600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ob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391280" cy="3035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4499280" cy="319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68360" y="1773360"/>
            <a:ext cx="115128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5573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fi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411280" y="4076640"/>
            <a:ext cx="1105200" cy="393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28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osterolateral fi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92720" y="3933720"/>
            <a:ext cx="647640" cy="43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6560" y="35733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locculonodula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788000" y="1197000"/>
            <a:ext cx="107928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98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87640" y="2060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1916280"/>
            <a:ext cx="17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ior l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03640" y="2133720"/>
            <a:ext cx="86364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1640" y="1197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97080" y="12682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rpu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erebe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ternal structur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42591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ray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erebellar nucl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Dentate nucleus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齿状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Fastigial nucleus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顶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Interposed nucleus 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中间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mboliform nucleus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栓状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lobose nucleus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球状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White matter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medullary center </a:t>
            </a:r>
            <a:r>
              <a:rPr b="1" lang="zh-CN" sz="2300" spc="-1" strike="noStrike">
                <a:solidFill>
                  <a:srgbClr val="0000ff"/>
                </a:solidFill>
                <a:latin typeface="Arial"/>
              </a:rPr>
              <a:t>髓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4020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ternal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48360" cy="39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 flipV="1">
            <a:off x="2411280" y="2205000"/>
            <a:ext cx="93672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2880" y="191628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erebellar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050560" y="3068280"/>
            <a:ext cx="1584360" cy="28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28526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tat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2133720"/>
            <a:ext cx="1440000" cy="129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93280" y="1865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astigial nucle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716360" y="2637000"/>
            <a:ext cx="1511280" cy="86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28000" y="2421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lobose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89520" y="3141720"/>
            <a:ext cx="1871640" cy="50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3320" y="292428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mboliform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79280" y="3860640"/>
            <a:ext cx="115236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0" y="45813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dullary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1:40:55Z</dcterms:created>
  <dc:creator>huiyishi</dc:creator>
  <dc:description/>
  <dc:language>en-US</dc:language>
  <cp:lastModifiedBy>ZonaNet</cp:lastModifiedBy>
  <dcterms:modified xsi:type="dcterms:W3CDTF">2008-05-01T09:58:17Z</dcterms:modified>
  <cp:revision>6</cp:revision>
  <dc:subject/>
  <dc:title>The Cerebellum </dc:title>
</cp:coreProperties>
</file>