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2EA-EC65-4F02-8C26-E105201A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B08-DB56-4C8C-BE72-E171059E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899-76BD-4210-8398-5B189B42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276-0654-4611-8E22-5F13CFFE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E93-C537-4370-A7A2-5BB21675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A39-BC33-4D32-9E2B-BBF5C4C7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D47-BF62-4E58-A285-D181403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ED6-2A47-4A22-80C1-AEF64797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327-EC15-4CD1-9757-300B8B48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6B1-1CFA-41C3-8DAA-1214002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34C-E934-49C9-82EA-167E1D1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615-5F6D-40B4-B798-138D615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216A-4608-4DD4-9327-F36AAFF56D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swers.com/topic/cerebral-ventricl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rebrospinal flui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pricon.org/medical/images/lumber_puncture_needles.jpg"/>
          <p:cNvPicPr/>
          <p:nvPr/>
        </p:nvPicPr>
        <p:blipFill>
          <a:blip r:embed="rId1"/>
          <a:stretch/>
        </p:blipFill>
        <p:spPr>
          <a:xfrm rot="2175000">
            <a:off x="1114200" y="556920"/>
            <a:ext cx="2733480" cy="2600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410080" y="6094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umber Puncture Nee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t3.gstatic.com/images?q=tbn:Y4JPt15gBbZ24M:http://a.imagehost.org/0288/18_9.jpg"/>
          <p:cNvPicPr/>
          <p:nvPr/>
        </p:nvPicPr>
        <p:blipFill>
          <a:blip r:embed="rId2"/>
          <a:stretch/>
        </p:blipFill>
        <p:spPr>
          <a:xfrm>
            <a:off x="3657600" y="2895480"/>
            <a:ext cx="5257800" cy="3224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E-Lumbarpuncture_Fig1.jpg"/>
          <p:cNvPicPr/>
          <p:nvPr/>
        </p:nvPicPr>
        <p:blipFill>
          <a:blip r:embed="rId3"/>
          <a:stretch/>
        </p:blipFill>
        <p:spPr>
          <a:xfrm>
            <a:off x="76320" y="3276720"/>
            <a:ext cx="3371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Normal results in ad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: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count: 0-5 cells/µL (&l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ucose level: &gt;60% of serum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level: &lt; 45 mg/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acterial mening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ppearance: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BC count: &gt;100 cells/µ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Glucose level: Low (&lt; 40% of serum gluco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rotein level: Elevated (&gt;50 mg/d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Multiple sclerosis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isease in which the body’s immune system eats away at the protective sheath ( Myelin) which causes deterioration of nerves which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irreversib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SF of patients with M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ains elevated levels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gG and a protein call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ligoclonal band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 due to the break dow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myel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multiple-sclerosis-demyelinization.gif"/>
          <p:cNvPicPr/>
          <p:nvPr/>
        </p:nvPicPr>
        <p:blipFill>
          <a:blip r:embed="rId1"/>
          <a:stretch/>
        </p:blipFill>
        <p:spPr>
          <a:xfrm>
            <a:off x="4816440" y="2971800"/>
            <a:ext cx="42354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ultiple sclero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: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count: 0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/µL (lymp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ucose level: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otein level: Elev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SDMO4vYkqd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mposition and appearance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F is normally a clear, amazingly ‘bright’ fluid, and if it is cloudy or contains a raised level of protein or traces of blood this is usually an indication of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brain inf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ome types of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rain or spinal cord tum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trau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tein content is about 100 times less than that of plasma (0.5 g/liter compared to 50-70 g/liter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143000" y="56386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subarachnoid spa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outside of the brain is in continuity with a similar space around the spinal cord and also with the series of interconnected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erebral ventric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thin the brain, the </a:t>
            </a:r>
            <a:r>
              <a:rPr b="1" i="1" lang="en-US" sz="1400" spc="-1" strike="noStrike" u="sng">
                <a:solidFill>
                  <a:srgbClr val="c00000"/>
                </a:solidFill>
                <a:uFillTx/>
                <a:latin typeface="Calibri"/>
              </a:rPr>
              <a:t>choroid plexus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cretes C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rc 7"/>
          <p:cNvSpPr/>
          <p:nvPr/>
        </p:nvSpPr>
        <p:spPr>
          <a:xfrm>
            <a:off x="2971800" y="2590920"/>
            <a:ext cx="1905120" cy="8380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stroke="0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  <a:lnTo>
                  <a:pt x="952500" y="419100"/>
                </a:lnTo>
                <a:close/>
              </a:path>
              <a:path fill="none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317_CFS_Circulation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Arc 5"/>
          <p:cNvSpPr/>
          <p:nvPr/>
        </p:nvSpPr>
        <p:spPr>
          <a:xfrm>
            <a:off x="3048120" y="2514600"/>
            <a:ext cx="1904760" cy="8380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stroke="0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  <a:lnTo>
                  <a:pt x="952500" y="419100"/>
                </a:lnTo>
                <a:close/>
              </a:path>
              <a:path fill="none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rmen_1_1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rc 2"/>
          <p:cNvSpPr/>
          <p:nvPr/>
        </p:nvSpPr>
        <p:spPr>
          <a:xfrm>
            <a:off x="7620120" y="2514600"/>
            <a:ext cx="1295280" cy="4572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stroke="0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  <a:lnTo>
                  <a:pt x="647700" y="228600"/>
                </a:lnTo>
                <a:close/>
              </a:path>
              <a:path fill="none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3"/>
          <p:cNvSpPr/>
          <p:nvPr/>
        </p:nvSpPr>
        <p:spPr>
          <a:xfrm>
            <a:off x="7467480" y="1981080"/>
            <a:ext cx="1600200" cy="3812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stroke="0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  <a:lnTo>
                  <a:pt x="800100" y="190500"/>
                </a:lnTo>
                <a:close/>
              </a:path>
              <a:path fill="none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4"/>
          <p:cNvSpPr/>
          <p:nvPr/>
        </p:nvSpPr>
        <p:spPr>
          <a:xfrm>
            <a:off x="7848720" y="838080"/>
            <a:ext cx="1295280" cy="381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stroke="0" w="1295400" h="381000">
                <a:moveTo>
                  <a:pt x="1290137" y="214735"/>
                </a:moveTo>
                <a:lnTo>
                  <a:pt x="1290137" y="214735"/>
                </a:lnTo>
                <a:arcTo wR="647700" hR="190500" stAng="129623" swAng="21470383"/>
                <a:lnTo>
                  <a:pt x="647700" y="190500"/>
                </a:lnTo>
                <a:close/>
              </a:path>
              <a:path fill="none" w="1295400" h="381000">
                <a:moveTo>
                  <a:pt x="1290137" y="214735"/>
                </a:moveTo>
                <a:lnTo>
                  <a:pt x="1290137" y="214735"/>
                </a:lnTo>
                <a:arcTo wR="647700" hR="190500" stAng="129623" swAng="21470383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5"/>
          <p:cNvSpPr/>
          <p:nvPr/>
        </p:nvSpPr>
        <p:spPr>
          <a:xfrm>
            <a:off x="7543800" y="3886200"/>
            <a:ext cx="1600200" cy="3808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stroke="0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  <a:lnTo>
                  <a:pt x="800100" y="190500"/>
                </a:lnTo>
                <a:close/>
              </a:path>
              <a:path fill="none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6"/>
          <p:cNvSpPr/>
          <p:nvPr/>
        </p:nvSpPr>
        <p:spPr>
          <a:xfrm>
            <a:off x="7315200" y="4876920"/>
            <a:ext cx="1295280" cy="4572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stroke="0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  <a:lnTo>
                  <a:pt x="647700" y="228600"/>
                </a:lnTo>
                <a:close/>
              </a:path>
              <a:path fill="none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0520" y="-360"/>
            <a:ext cx="8001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irculation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ts formation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F exist from the ventricles through the foramina and circulates over the both hemispheres of the brain, downward over the spinal cord, and to the nerve ro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of the CSF occu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lowing the time needed for long contact with cells in the Central nervous System (CN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osition of CSF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8859" t="31959" r="61197" b="36033"/>
          <a:stretch/>
        </p:blipFill>
        <p:spPr>
          <a:xfrm>
            <a:off x="838080" y="53352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295280" y="6019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tein content is about 100 times less than that of plasma (0.5 g/liter compared to 50-70 g/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8600" y="457200"/>
            <a:ext cx="85345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as a protective fluid cushioning and lubricating    the brain and spinal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ushions and helps prevent injury to the b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as a nutrient and metabolic waste exchange flu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iagnosis and therapy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normalities of the CSF can be important in diagnosis of some medical conditions; the fluid can be sampled by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lumbar punct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extension of the subarachnoid space (the lumbar sac) below the lower end of the spinal cord. usually between the third and fourth lumbar vertebr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pinal_tap.jpg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8:45:56Z</dcterms:created>
  <dc:creator>rmnouh</dc:creator>
  <dc:description/>
  <dc:language>en-US</dc:language>
  <cp:lastModifiedBy>aalbity</cp:lastModifiedBy>
  <dcterms:modified xsi:type="dcterms:W3CDTF">2016-12-01T07:41:46Z</dcterms:modified>
  <cp:revision>22</cp:revision>
  <dc:subject/>
  <dc:title>Cerebrospinal fluid</dc:title>
</cp:coreProperties>
</file>