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748-D7A1-4343-B999-79E0A8FC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2BF-62AB-4CC4-9BCC-DDC0D0EB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617-CB8A-4C95-8EC3-1D0544BC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473-BE7B-4DD3-8E29-F6AAE29C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C61-BC0D-43A9-9154-A8D5994F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965-48D0-4CF1-AC40-2C0C9E47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4CA-0A3C-4C63-961C-34415719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E43-1204-4C6E-9C07-80652FF3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1D1-6EAD-4B5E-8C34-292ADD2C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52B-277A-4B60-BC22-F516B9B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48E-D303-4080-AEEF-28FD076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905-2681-47AD-BEAF-D326E8FF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6020-AC6E-41C7-A8CB-92D2628036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swers.com/topic/cerebral-ventricl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erebrospinal flui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pricon.org/medical/images/lumber_puncture_needles.jpg"/>
          <p:cNvPicPr/>
          <p:nvPr/>
        </p:nvPicPr>
        <p:blipFill>
          <a:blip r:embed="rId1"/>
          <a:stretch/>
        </p:blipFill>
        <p:spPr>
          <a:xfrm rot="2175000">
            <a:off x="1114200" y="556920"/>
            <a:ext cx="2733480" cy="2600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5410080" y="6094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umber Puncture Nee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://t3.gstatic.com/images?q=tbn:Y4JPt15gBbZ24M:http://a.imagehost.org/0288/18_9.jpg"/>
          <p:cNvPicPr/>
          <p:nvPr/>
        </p:nvPicPr>
        <p:blipFill>
          <a:blip r:embed="rId2"/>
          <a:stretch/>
        </p:blipFill>
        <p:spPr>
          <a:xfrm>
            <a:off x="3657600" y="2895480"/>
            <a:ext cx="5257800" cy="3224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PE-Lumbarpuncture_Fig1.jpg"/>
          <p:cNvPicPr/>
          <p:nvPr/>
        </p:nvPicPr>
        <p:blipFill>
          <a:blip r:embed="rId3"/>
          <a:stretch/>
        </p:blipFill>
        <p:spPr>
          <a:xfrm>
            <a:off x="76320" y="3276720"/>
            <a:ext cx="3371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Normal results in ad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: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count: 0-5 cells/µL (&l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ucose level: &gt;60% of serum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level: &lt; 45 mg/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acterial mening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ppearance:Clo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BC count: &gt;100 cells/µ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Glucose level: Low (&lt; 40% of serum gluco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rotein level: Elevated (&gt;50 mg/d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Multiple sclerosis 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isease in which the body’s immune system eats away at the protective sheath ( Myelin) which causes deterioration of nerves which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s irreversib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SF of patients with M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ains elevated levels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gG and a protein calle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ligoclonal band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 due to the break dow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 myel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multiple-sclerosis-demyelinization.gif"/>
          <p:cNvPicPr/>
          <p:nvPr/>
        </p:nvPicPr>
        <p:blipFill>
          <a:blip r:embed="rId1"/>
          <a:stretch/>
        </p:blipFill>
        <p:spPr>
          <a:xfrm>
            <a:off x="4816440" y="2971800"/>
            <a:ext cx="42354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Multiple sclero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: Cl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count: 0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lls/µL (lymp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ucose level: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otein level: Elev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SDMO4vYkqd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mposition and appearance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F is normally a clear, amazingly ‘bright’ fluid, and if it is cloudy or contains a raised level of protein or traces of blood this is usually an indication of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brain infe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ome types of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rain or spinal cord tum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trau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tein content is about 100 times less than that of plasma (0.5 g/liter compared to 50-70 g/liter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143000" y="5638680"/>
            <a:ext cx="655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subarachnoid spac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outside of the brain is in continuity with a similar space around the spinal cord and also with the series of interconnected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erebral ventric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ithin the brain, the </a:t>
            </a:r>
            <a:r>
              <a:rPr b="1" i="1" lang="en-US" sz="1400" spc="-1" strike="noStrike" u="sng">
                <a:solidFill>
                  <a:srgbClr val="c00000"/>
                </a:solidFill>
                <a:uFillTx/>
                <a:latin typeface="Calibri"/>
              </a:rPr>
              <a:t>choroid plexus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cretes C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rc 7"/>
          <p:cNvSpPr/>
          <p:nvPr/>
        </p:nvSpPr>
        <p:spPr>
          <a:xfrm>
            <a:off x="2971800" y="2590920"/>
            <a:ext cx="1905120" cy="8380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stroke="0" w="1905000" h="838200">
                <a:moveTo>
                  <a:pt x="1901518" y="454900"/>
                </a:moveTo>
                <a:lnTo>
                  <a:pt x="1901519" y="454900"/>
                </a:lnTo>
                <a:arcTo wR="952500" hR="419100" stAng="129621" swAng="21470386"/>
                <a:lnTo>
                  <a:pt x="952500" y="419100"/>
                </a:lnTo>
                <a:close/>
              </a:path>
              <a:path fill="none" w="1905000" h="838200">
                <a:moveTo>
                  <a:pt x="1901518" y="454900"/>
                </a:moveTo>
                <a:lnTo>
                  <a:pt x="1901519" y="454900"/>
                </a:lnTo>
                <a:arcTo wR="952500" hR="419100" stAng="129621" swAng="21470386"/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317_CFS_Circulation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Arc 5"/>
          <p:cNvSpPr/>
          <p:nvPr/>
        </p:nvSpPr>
        <p:spPr>
          <a:xfrm>
            <a:off x="3048120" y="2514600"/>
            <a:ext cx="1904760" cy="8380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stroke="0" w="1905000" h="838200">
                <a:moveTo>
                  <a:pt x="1901518" y="454900"/>
                </a:moveTo>
                <a:lnTo>
                  <a:pt x="1901519" y="454900"/>
                </a:lnTo>
                <a:arcTo wR="952500" hR="419100" stAng="129621" swAng="21470386"/>
                <a:lnTo>
                  <a:pt x="952500" y="419100"/>
                </a:lnTo>
                <a:close/>
              </a:path>
              <a:path fill="none" w="1905000" h="838200">
                <a:moveTo>
                  <a:pt x="1901518" y="454900"/>
                </a:moveTo>
                <a:lnTo>
                  <a:pt x="1901519" y="454900"/>
                </a:lnTo>
                <a:arcTo wR="952500" hR="419100" stAng="129621" swAng="21470386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rmen_1_1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rc 2"/>
          <p:cNvSpPr/>
          <p:nvPr/>
        </p:nvSpPr>
        <p:spPr>
          <a:xfrm>
            <a:off x="7620120" y="2514600"/>
            <a:ext cx="1295280" cy="4572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stroke="0" w="1295400" h="457200">
                <a:moveTo>
                  <a:pt x="1291732" y="252895"/>
                </a:moveTo>
                <a:lnTo>
                  <a:pt x="1291732" y="252895"/>
                </a:lnTo>
                <a:arcTo wR="647700" hR="228600" stAng="129622" swAng="21470384"/>
                <a:lnTo>
                  <a:pt x="647700" y="228600"/>
                </a:lnTo>
                <a:close/>
              </a:path>
              <a:path fill="none" w="1295400" h="457200">
                <a:moveTo>
                  <a:pt x="1291732" y="252895"/>
                </a:moveTo>
                <a:lnTo>
                  <a:pt x="1291732" y="252895"/>
                </a:lnTo>
                <a:arcTo wR="647700" hR="228600" stAng="129622" swAng="21470384"/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rc 3"/>
          <p:cNvSpPr/>
          <p:nvPr/>
        </p:nvSpPr>
        <p:spPr>
          <a:xfrm>
            <a:off x="7467480" y="1981080"/>
            <a:ext cx="1600200" cy="38124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stroke="0" w="1600200" h="381000">
                <a:moveTo>
                  <a:pt x="1590343" y="220311"/>
                </a:moveTo>
                <a:lnTo>
                  <a:pt x="1590343" y="220311"/>
                </a:lnTo>
                <a:arcTo wR="800100" hR="190500" stAng="129624" swAng="21470385"/>
                <a:lnTo>
                  <a:pt x="800100" y="190500"/>
                </a:lnTo>
                <a:close/>
              </a:path>
              <a:path fill="none" w="1600200" h="381000">
                <a:moveTo>
                  <a:pt x="1590343" y="220311"/>
                </a:moveTo>
                <a:lnTo>
                  <a:pt x="1590343" y="220311"/>
                </a:lnTo>
                <a:arcTo wR="800100" hR="190500" stAng="129624" swAng="21470385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rc 4"/>
          <p:cNvSpPr/>
          <p:nvPr/>
        </p:nvSpPr>
        <p:spPr>
          <a:xfrm>
            <a:off x="7848720" y="838080"/>
            <a:ext cx="1295280" cy="381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stroke="0" w="1295400" h="381000">
                <a:moveTo>
                  <a:pt x="1290137" y="214735"/>
                </a:moveTo>
                <a:lnTo>
                  <a:pt x="1290137" y="214735"/>
                </a:lnTo>
                <a:arcTo wR="647700" hR="190500" stAng="129623" swAng="21470383"/>
                <a:lnTo>
                  <a:pt x="647700" y="190500"/>
                </a:lnTo>
                <a:close/>
              </a:path>
              <a:path fill="none" w="1295400" h="381000">
                <a:moveTo>
                  <a:pt x="1290137" y="214735"/>
                </a:moveTo>
                <a:lnTo>
                  <a:pt x="1290137" y="214735"/>
                </a:lnTo>
                <a:arcTo wR="647700" hR="190500" stAng="129623" swAng="21470383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5"/>
          <p:cNvSpPr/>
          <p:nvPr/>
        </p:nvSpPr>
        <p:spPr>
          <a:xfrm>
            <a:off x="7543800" y="3886200"/>
            <a:ext cx="1600200" cy="3808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stroke="0" w="1600200" h="381000">
                <a:moveTo>
                  <a:pt x="1590343" y="220311"/>
                </a:moveTo>
                <a:lnTo>
                  <a:pt x="1590343" y="220311"/>
                </a:lnTo>
                <a:arcTo wR="800100" hR="190500" stAng="129624" swAng="21470385"/>
                <a:lnTo>
                  <a:pt x="800100" y="190500"/>
                </a:lnTo>
                <a:close/>
              </a:path>
              <a:path fill="none" w="1600200" h="381000">
                <a:moveTo>
                  <a:pt x="1590343" y="220311"/>
                </a:moveTo>
                <a:lnTo>
                  <a:pt x="1590343" y="220311"/>
                </a:lnTo>
                <a:arcTo wR="800100" hR="190500" stAng="129624" swAng="21470385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6"/>
          <p:cNvSpPr/>
          <p:nvPr/>
        </p:nvSpPr>
        <p:spPr>
          <a:xfrm>
            <a:off x="7315200" y="4876920"/>
            <a:ext cx="1295280" cy="4572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stroke="0" w="1295400" h="457200">
                <a:moveTo>
                  <a:pt x="1291732" y="252895"/>
                </a:moveTo>
                <a:lnTo>
                  <a:pt x="1291732" y="252895"/>
                </a:lnTo>
                <a:arcTo wR="647700" hR="228600" stAng="129622" swAng="21470384"/>
                <a:lnTo>
                  <a:pt x="647700" y="228600"/>
                </a:lnTo>
                <a:close/>
              </a:path>
              <a:path fill="none" w="1295400" h="457200">
                <a:moveTo>
                  <a:pt x="1291732" y="252895"/>
                </a:moveTo>
                <a:lnTo>
                  <a:pt x="1291732" y="252895"/>
                </a:lnTo>
                <a:arcTo wR="647700" hR="228600" stAng="129622" swAng="21470384"/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0520" y="-360"/>
            <a:ext cx="8001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irculation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810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0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ts formation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F exist from the ventricles through the foramina and circulates over the both hemispheres of the brain, downward over the spinal cord, and to the nerve ro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0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of the CSF occu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w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lowing the time needed for long contact with cells in the Central nervous System (CN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0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osition of CSF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8859" t="31959" r="61197" b="36033"/>
          <a:stretch/>
        </p:blipFill>
        <p:spPr>
          <a:xfrm>
            <a:off x="838080" y="533520"/>
            <a:ext cx="7543800" cy="5487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295280" y="6019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tein content is about 100 times less than that of plasma (0.5 g/liter compared to 50-70 g/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28600" y="457200"/>
            <a:ext cx="85345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n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as a protective fluid cushioning and lubricating    the brain and spinal colu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ushions and helps prevent injury to the b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as a nutrient and metabolic waste exchange flu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iagnosis and therapy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normalities of the CSF can be important in diagnosis of some medical conditions; the fluid can be sampled by </a:t>
            </a: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lumbar punct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extension of the subarachnoid space (the lumbar sac) below the lower end of the spinal cord. usually between the third and fourth lumbar vertebr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pinal_tap.jpg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8:45:56Z</dcterms:created>
  <dc:creator>rmnouh</dc:creator>
  <dc:description/>
  <dc:language>en-US</dc:language>
  <cp:lastModifiedBy>aalbity</cp:lastModifiedBy>
  <dcterms:modified xsi:type="dcterms:W3CDTF">2016-12-01T07:41:46Z</dcterms:modified>
  <cp:revision>22</cp:revision>
  <dc:subject/>
  <dc:title>Cerebrospinal fluid</dc:title>
</cp:coreProperties>
</file>