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6A56-EB22-4CAE-8C53-57367E0A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4BF3-9F99-4847-BDCB-D77DDF7D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6C46-FC58-41BC-A780-3A770DEE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4E60-3C76-4F5E-964D-0BFF4A8A7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DFC4-50F5-4CDF-9ABD-449CF625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9287-C3A0-4FF1-A470-EA7DA1AB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96D9-ABFB-4147-AA40-9048ECB5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CDF1-9D89-4A24-A515-A9222CE1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40BF-1183-4CAD-806A-9EC289EB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EF26-0E0D-4DC4-A6E9-BD09AD31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33C7-62DF-4B6A-B6C3-842571AD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C903-1A83-4321-86CF-F7843784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2B39-1466-4640-BFB3-233EFAA2E69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Alooly\Desktop\CERBRUM\Slid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Alooly\Desktop\CERBRUM\Slide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Alooly\Desktop\CERBRUM\Slide1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Alooly\Desktop\CERBRUM\Slide1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Alooly\Desktop\CERBRUM\Slide1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Alooly\Desktop\CERBRUM\Slide1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Alooly\Desktop\CERBRUM\Slide1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Alooly\Desktop\CERBRUM\Slide1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Alooly\Desktop\CERBRUM\Slide1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Users\Alooly\Desktop\CERBRUM\Slide1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Alooly\Desktop\CERBRUM\Slide1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Alooly\Desktop\CERBRUM\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Alooly\Desktop\CERBRUM\Slide2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Users\Alooly\Desktop\CERBRUM\Slide2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Alooly\Desktop\CERBRUM\Slide2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C:\Users\Alooly\Desktop\CERBRUM\Slide2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Alooly\Desktop\CERBRUM\Slide2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C:\Users\Alooly\Desktop\CERBRUM\Slide2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C:\Users\Alooly\Desktop\CERBRUM\Slide2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C:\Users\Alooly\Desktop\CERBRUM\Slide2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C:\Users\Alooly\Desktop\CERBRUM\Slide2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Users\Alooly\Desktop\CERBRUM\Slide2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Alooly\Desktop\CERBRUM\Slide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Alooly\Desktop\CERBRUM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Alooly\Desktop\CERBRUM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Alooly\Desktop\CERBRUM\Slide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Alooly\Desktop\CERBRUM\Slide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Alooly\Desktop\CERBRUM\Slide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Alooly\Desktop\CERBRUM\Slide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1:45:09Z</dcterms:created>
  <dc:creator>Windows User</dc:creator>
  <dc:description/>
  <dc:language>en-US</dc:language>
  <cp:lastModifiedBy>Windows User</cp:lastModifiedBy>
  <dcterms:modified xsi:type="dcterms:W3CDTF">2011-01-19T11:51:35Z</dcterms:modified>
  <cp:revision>1</cp:revision>
  <dc:subject/>
  <dc:title>Slide 1</dc:title>
</cp:coreProperties>
</file>