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A6F-3D04-46FA-8A76-634E6AD1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DC6-1335-47AE-8675-E9F513E7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507-D8A9-4741-8679-9F5CEED3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650-EA37-4F15-996F-5064D0F1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901-6391-48F0-9AD1-A2C37673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E91-2704-4733-A5EB-DBDF0A54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907-99ED-4E6B-A9C6-5DAE3592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91B-7069-4B70-B4E4-45D05B6E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0E8-4B0D-4055-BE3B-5BB77B2C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178-35DB-45B5-A413-AAECAD5F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E2B-CF5F-4218-8F62-5C36075F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2AD-1A32-4051-9D4D-55C20F01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9AB2-B806-4D6E-BC77-6919EE9F2C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Alooly\Desktop\CERBRUM\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Alooly\Desktop\CERBRUM\Slide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Alooly\Desktop\CERBRUM\Slide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Alooly\Desktop\CERBRUM\Slide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Alooly\Desktop\CERBRUM\Slide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Alooly\Desktop\CERBRUM\Slide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Alooly\Desktop\CERBRUM\Slide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Alooly\Desktop\CERBRUM\Slide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Alooly\Desktop\CERBRUM\Slide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Alooly\Desktop\CERBRUM\Slide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Alooly\Desktop\CERBRUM\Slide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looly\Desktop\CERBRUM\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Alooly\Desktop\CERBRUM\Slide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Alooly\Desktop\CERBRUM\Slide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Alooly\Desktop\CERBRUM\Slide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Alooly\Desktop\CERBRUM\Slide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Alooly\Desktop\CERBRUM\Slide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Alooly\Desktop\CERBRUM\Slide2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Alooly\Desktop\CERBRUM\Slide2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Alooly\Desktop\CERBRUM\Slide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Alooly\Desktop\CERBRUM\Slide2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Alooly\Desktop\CERBRUM\Slide2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Alooly\Desktop\CERBRUM\Slide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Alooly\Desktop\CERBRUM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Alooly\Desktop\CERBRUM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Alooly\Desktop\CERBRUM\Slide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Alooly\Desktop\CERBRUM\Slide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Alooly\Desktop\CERBRUM\Slide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Alooly\Desktop\CERBRUM\Slide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1:45:09Z</dcterms:created>
  <dc:creator>Windows User</dc:creator>
  <dc:description/>
  <dc:language>en-US</dc:language>
  <cp:lastModifiedBy>Windows User</cp:lastModifiedBy>
  <dcterms:modified xsi:type="dcterms:W3CDTF">2011-01-19T11:51:35Z</dcterms:modified>
  <cp:revision>1</cp:revision>
  <dc:subject/>
  <dc:title>Slide 1</dc:title>
</cp:coreProperties>
</file>