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98B-5A07-4E37-A135-6D73DB7C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803-2642-401C-A3B7-F59E7D01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A54-43D4-499C-A0A5-A07DF98B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E0A-1E0D-449D-A9FF-50E47BB2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503-1DB0-41BC-93AD-32A75148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A16-030A-497B-BF73-EC4A8776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2B6-093F-416A-83D3-39217EE5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2C9-6958-48DB-BB4B-E162DF8D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F4D-43CE-46E5-8F7F-31F8C03C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D3A-CE0A-4E29-A6EC-EBE279F0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989-5711-476B-85F0-642980AE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BDD-5A4E-4015-9FA2-A84BA5ED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5C30-2EE0-44EC-956E-7B82FB6C76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6320" y="152280"/>
            <a:ext cx="89154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Lectures' Notes</a:t>
            </a: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STAT 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–</a:t>
            </a: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 324</a:t>
            </a:r>
            <a:br>
              <a:rPr sz="3600"/>
            </a:b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Probability and Statistics for Engineers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First Semester 1431/1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190 and 5735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acher:  </a:t>
            </a: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r. Abdel-Hamid El-Zai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epartment of Statistics and Operations Research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College of Science, King Saud University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xtbook: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Probability and Statistics for Engineers and Scientist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By: R. E. Walpole, R. H. Myers, and S. L. Myer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(Sixth E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04"/>
          <p:cNvGrpSpPr/>
          <p:nvPr/>
        </p:nvGrpSpPr>
        <p:grpSpPr>
          <a:xfrm>
            <a:off x="152280" y="228600"/>
            <a:ext cx="8229600" cy="1168560"/>
            <a:chOff x="152280" y="228600"/>
            <a:chExt cx="8229600" cy="1168560"/>
          </a:xfrm>
        </p:grpSpPr>
        <p:sp>
          <p:nvSpPr>
            <p:cNvPr id="91" name="Rectangle 4"/>
            <p:cNvSpPr/>
            <p:nvPr/>
          </p:nvSpPr>
          <p:spPr>
            <a:xfrm>
              <a:off x="152280" y="2286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standard deviatio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5"/>
                <p:cNvSpPr txBox="1"/>
                <p:nvPr/>
              </p:nvSpPr>
              <p:spPr>
                <a:xfrm>
                  <a:off x="1447920" y="838440"/>
                  <a:ext cx="3624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e>
                      </m:ra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Rectangle 7"/>
            <p:cNvSpPr/>
            <p:nvPr/>
          </p:nvSpPr>
          <p:spPr>
            <a:xfrm>
              <a:off x="6858000" y="914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05"/>
          <p:cNvGrpSpPr/>
          <p:nvPr/>
        </p:nvGrpSpPr>
        <p:grpSpPr>
          <a:xfrm>
            <a:off x="76320" y="1600200"/>
            <a:ext cx="8534160" cy="2075760"/>
            <a:chOff x="76320" y="1600200"/>
            <a:chExt cx="8534160" cy="2075760"/>
          </a:xfrm>
        </p:grpSpPr>
        <p:sp>
          <p:nvSpPr>
            <p:cNvPr id="95" name="Rectangle 8"/>
            <p:cNvSpPr/>
            <p:nvPr/>
          </p:nvSpPr>
          <p:spPr>
            <a:xfrm>
              <a:off x="76320" y="160020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* Another Formula for Calculating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9"/>
                <p:cNvSpPr txBox="1"/>
                <p:nvPr/>
              </p:nvSpPr>
              <p:spPr>
                <a:xfrm>
                  <a:off x="1428840" y="1981080"/>
                  <a:ext cx="2152440" cy="11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" name="Rectangle 11"/>
            <p:cNvSpPr/>
            <p:nvPr/>
          </p:nvSpPr>
          <p:spPr>
            <a:xfrm>
              <a:off x="3886200" y="25146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t is simple and more accurate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228600" y="321624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Object 16"/>
              <p:cNvSpPr txBox="1"/>
              <p:nvPr/>
            </p:nvSpPr>
            <p:spPr>
              <a:xfrm>
                <a:off x="1143000" y="3835440"/>
                <a:ext cx="522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6781680" y="3943440"/>
                <a:ext cx="1447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6781680" y="459756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02" name=""/>
          <p:cNvGraphicFramePr/>
          <p:nvPr/>
        </p:nvGraphicFramePr>
        <p:xfrm>
          <a:off x="914400" y="3835440"/>
          <a:ext cx="7543800" cy="1422360"/>
        </p:xfrm>
        <a:graphic>
          <a:graphicData uri="http://schemas.openxmlformats.org/drawingml/2006/table">
            <a:tbl>
              <a:tblPr/>
              <a:tblGrid>
                <a:gridCol w="958680"/>
                <a:gridCol w="957600"/>
                <a:gridCol w="958680"/>
                <a:gridCol w="955800"/>
                <a:gridCol w="958680"/>
                <a:gridCol w="957240"/>
                <a:gridCol w="17971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Object 97"/>
              <p:cNvSpPr txBox="1"/>
              <p:nvPr/>
            </p:nvSpPr>
            <p:spPr>
              <a:xfrm>
                <a:off x="1200240" y="4521240"/>
                <a:ext cx="476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4" name="Group 106"/>
          <p:cNvGrpSpPr/>
          <p:nvPr/>
        </p:nvGrpSpPr>
        <p:grpSpPr>
          <a:xfrm>
            <a:off x="533520" y="5335560"/>
            <a:ext cx="8610480" cy="1203480"/>
            <a:chOff x="533520" y="5335560"/>
            <a:chExt cx="8610480" cy="1203480"/>
          </a:xfrm>
        </p:grpSpPr>
        <mc:AlternateContent>
          <mc:Choice xmlns:a14="http://schemas.microsoft.com/office/drawing/2010/main" Requires="a14">
            <p:sp>
              <p:nvSpPr>
                <p:cNvPr id="105" name="Object 99"/>
                <p:cNvSpPr txBox="1"/>
                <p:nvPr/>
              </p:nvSpPr>
              <p:spPr>
                <a:xfrm>
                  <a:off x="533520" y="5335560"/>
                  <a:ext cx="2057400" cy="11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01"/>
                <p:cNvSpPr txBox="1"/>
                <p:nvPr/>
              </p:nvSpPr>
              <p:spPr>
                <a:xfrm>
                  <a:off x="2666880" y="5616720"/>
                  <a:ext cx="502920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355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5</m:t>
                              </m:r>
                            </m:e>
                          </m:d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0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7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Rectangle 103"/>
            <p:cNvSpPr/>
            <p:nvPr/>
          </p:nvSpPr>
          <p:spPr>
            <a:xfrm>
              <a:off x="7848720" y="5791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58480"/>
            <a:ext cx="845820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hapter 1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Introduction to Statistics and Data Analysis:</a:t>
            </a:r>
            <a:br>
              <a:rPr sz="2800"/>
            </a:br>
            <a:br>
              <a:rPr sz="1800"/>
            </a:b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  <a:ea typeface="Arial"/>
              </a:rPr>
              <a:t>1.1 Introduction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Populations and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09480" y="2590920"/>
            <a:ext cx="2971800" cy="30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ome Unknown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KSU Students (Height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=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105520" y="2514600"/>
            <a:ext cx="3733560" cy="304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S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e calculate Some Statis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20 Students from KS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ple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3886200" y="38862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" y="647640"/>
            <a:ext cx="861048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pulation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 general, they are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ample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tained from the sample are use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pproximate)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cientific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tatistical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04920" y="3840120"/>
            <a:ext cx="838188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Hypotheses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111240" y="152280"/>
            <a:ext cx="87278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1.3 Measures of Location (Central Tendency):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bservations) often tend to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ncent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ound the center of the da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location are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consider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present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typical values) of the data. They are designed to give some quantitative measures of where the center of the data i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141480" y="3809880"/>
            <a:ext cx="8616240" cy="2057400"/>
            <a:chOff x="141480" y="3809880"/>
            <a:chExt cx="8616240" cy="2057400"/>
          </a:xfrm>
        </p:grpSpPr>
        <mc:AlternateContent>
          <mc:Choice xmlns:a14="http://schemas.microsoft.com/office/drawing/2010/main" Requires="a14">
            <p:sp>
              <p:nvSpPr>
                <p:cNvPr id="50" name="Object 8"/>
                <p:cNvSpPr txBox="1"/>
                <p:nvPr/>
              </p:nvSpPr>
              <p:spPr>
                <a:xfrm>
                  <a:off x="5975280" y="3809880"/>
                  <a:ext cx="333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Object 9"/>
                <p:cNvSpPr txBox="1"/>
                <p:nvPr/>
              </p:nvSpPr>
              <p:spPr>
                <a:xfrm>
                  <a:off x="517320" y="4289400"/>
                  <a:ext cx="16002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Object 10"/>
                <p:cNvSpPr txBox="1"/>
                <p:nvPr/>
              </p:nvSpPr>
              <p:spPr>
                <a:xfrm>
                  <a:off x="1508040" y="4657680"/>
                  <a:ext cx="36147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Rectangle 11"/>
            <p:cNvSpPr/>
            <p:nvPr/>
          </p:nvSpPr>
          <p:spPr>
            <a:xfrm>
              <a:off x="6646680" y="5181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141480" y="3917880"/>
              <a:ext cx="861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mean of the observations (     ):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are the sample values, then the sample mean i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1"/>
          <p:cNvGrpSpPr/>
          <p:nvPr/>
        </p:nvGrpSpPr>
        <p:grpSpPr>
          <a:xfrm>
            <a:off x="228600" y="304920"/>
            <a:ext cx="7848720" cy="3065400"/>
            <a:chOff x="228600" y="304920"/>
            <a:chExt cx="7848720" cy="3065400"/>
          </a:xfrm>
        </p:grpSpPr>
        <p:sp>
          <p:nvSpPr>
            <p:cNvPr id="56" name="Rectangle 4"/>
            <p:cNvSpPr/>
            <p:nvPr/>
          </p:nvSpPr>
          <p:spPr>
            <a:xfrm>
              <a:off x="228600" y="304920"/>
              <a:ext cx="7543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Example: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ppose that the following sample represents the ages (in year) of a sample of 3 m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5"/>
                <p:cNvSpPr txBox="1"/>
                <p:nvPr/>
              </p:nvSpPr>
              <p:spPr>
                <a:xfrm>
                  <a:off x="1752480" y="1600200"/>
                  <a:ext cx="335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Rectangle 6"/>
            <p:cNvSpPr/>
            <p:nvPr/>
          </p:nvSpPr>
          <p:spPr>
            <a:xfrm>
              <a:off x="63244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3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28600" y="205740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, the sample mea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8"/>
                <p:cNvSpPr txBox="1"/>
                <p:nvPr/>
              </p:nvSpPr>
              <p:spPr>
                <a:xfrm>
                  <a:off x="1752480" y="2590920"/>
                  <a:ext cx="36576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9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Group 12"/>
          <p:cNvGrpSpPr/>
          <p:nvPr/>
        </p:nvGrpSpPr>
        <p:grpSpPr>
          <a:xfrm>
            <a:off x="228600" y="3389400"/>
            <a:ext cx="2971800" cy="801720"/>
            <a:chOff x="228600" y="3389400"/>
            <a:chExt cx="2971800" cy="801720"/>
          </a:xfrm>
        </p:grpSpPr>
        <p:sp>
          <p:nvSpPr>
            <p:cNvPr id="62" name="Rectangle 9"/>
            <p:cNvSpPr/>
            <p:nvPr/>
          </p:nvSpPr>
          <p:spPr>
            <a:xfrm>
              <a:off x="22860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10"/>
                <p:cNvSpPr txBox="1"/>
                <p:nvPr/>
              </p:nvSpPr>
              <p:spPr>
                <a:xfrm>
                  <a:off x="1523880" y="3389400"/>
                  <a:ext cx="1676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</m:e>
                      </m:nary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76320" y="173160"/>
            <a:ext cx="89913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1.4 Measures of Variability (Dispersion or Vari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or dispersion in a set of data refers to how spread out the observation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3"/>
          <p:cNvGraphicFramePr/>
          <p:nvPr/>
        </p:nvGraphicFramePr>
        <p:xfrm>
          <a:off x="1371600" y="1676520"/>
          <a:ext cx="624852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24852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4"/>
          <p:cNvSpPr/>
          <p:nvPr/>
        </p:nvSpPr>
        <p:spPr>
          <a:xfrm>
            <a:off x="1546200" y="62406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04920" y="3657600"/>
            <a:ext cx="815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is small when the observations are close together. There is no variation if the observation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dispersion are range, variance, and 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237960" y="5883120"/>
            <a:ext cx="85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designed to give some quantitative measures of the variability i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76320" y="914400"/>
            <a:ext cx="8381880" cy="2133720"/>
            <a:chOff x="76320" y="914400"/>
            <a:chExt cx="8381880" cy="2133720"/>
          </a:xfrm>
        </p:grpSpPr>
        <p:sp>
          <p:nvSpPr>
            <p:cNvPr id="71" name="Rectangle 5"/>
            <p:cNvSpPr/>
            <p:nvPr/>
          </p:nvSpPr>
          <p:spPr>
            <a:xfrm>
              <a:off x="76320" y="91440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Variance (S</a:t>
              </a:r>
              <a:r>
                <a:rPr b="1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):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                  be the observations of the sample. The sample variance is denoted by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Object 6"/>
                <p:cNvSpPr txBox="1"/>
                <p:nvPr/>
              </p:nvSpPr>
              <p:spPr>
                <a:xfrm>
                  <a:off x="664560" y="1338480"/>
                  <a:ext cx="147024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Object 7"/>
                <p:cNvSpPr txBox="1"/>
                <p:nvPr/>
              </p:nvSpPr>
              <p:spPr>
                <a:xfrm>
                  <a:off x="738000" y="1960560"/>
                  <a:ext cx="6226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" name="Rectangle 8"/>
            <p:cNvSpPr/>
            <p:nvPr/>
          </p:nvSpPr>
          <p:spPr>
            <a:xfrm>
              <a:off x="7355160" y="236232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380880" y="3581280"/>
            <a:ext cx="6934320" cy="878040"/>
            <a:chOff x="380880" y="3581280"/>
            <a:chExt cx="6934320" cy="878040"/>
          </a:xfrm>
        </p:grpSpPr>
        <p:sp>
          <p:nvSpPr>
            <p:cNvPr id="76" name="Rectangle 10"/>
            <p:cNvSpPr/>
            <p:nvPr/>
          </p:nvSpPr>
          <p:spPr>
            <a:xfrm>
              <a:off x="380880" y="377352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11"/>
                <p:cNvSpPr txBox="1"/>
                <p:nvPr/>
              </p:nvSpPr>
              <p:spPr>
                <a:xfrm>
                  <a:off x="1447920" y="3581280"/>
                  <a:ext cx="152388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" name="Rectangle 12"/>
          <p:cNvSpPr/>
          <p:nvPr/>
        </p:nvSpPr>
        <p:spPr>
          <a:xfrm>
            <a:off x="152280" y="457344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is called the degrees of freedom (df) associated with the sample varianc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2"/>
          <p:cNvGrpSpPr/>
          <p:nvPr/>
        </p:nvGrpSpPr>
        <p:grpSpPr>
          <a:xfrm>
            <a:off x="76320" y="838080"/>
            <a:ext cx="8381880" cy="2590920"/>
            <a:chOff x="76320" y="838080"/>
            <a:chExt cx="8381880" cy="2590920"/>
          </a:xfrm>
        </p:grpSpPr>
        <p:sp>
          <p:nvSpPr>
            <p:cNvPr id="80" name="Rectangle 6"/>
            <p:cNvSpPr/>
            <p:nvPr/>
          </p:nvSpPr>
          <p:spPr>
            <a:xfrm>
              <a:off x="76320" y="8380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tandard Deviation (S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tandard deviation is another measure of variation. It is the square root of the variance, i.e., it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Object 7"/>
                <p:cNvSpPr txBox="1"/>
                <p:nvPr/>
              </p:nvSpPr>
              <p:spPr>
                <a:xfrm>
                  <a:off x="1828800" y="2133360"/>
                  <a:ext cx="320040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2" name="Rectangle 9"/>
            <p:cNvSpPr/>
            <p:nvPr/>
          </p:nvSpPr>
          <p:spPr>
            <a:xfrm>
              <a:off x="632448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3"/>
          <p:cNvGrpSpPr/>
          <p:nvPr/>
        </p:nvGrpSpPr>
        <p:grpSpPr>
          <a:xfrm>
            <a:off x="152280" y="1574640"/>
            <a:ext cx="8839440" cy="4673880"/>
            <a:chOff x="152280" y="1574640"/>
            <a:chExt cx="8839440" cy="4673880"/>
          </a:xfrm>
        </p:grpSpPr>
        <p:sp>
          <p:nvSpPr>
            <p:cNvPr id="84" name="Rectangle 4"/>
            <p:cNvSpPr/>
            <p:nvPr/>
          </p:nvSpPr>
          <p:spPr>
            <a:xfrm>
              <a:off x="152280" y="157464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Object 0"/>
                <p:cNvSpPr txBox="1"/>
                <p:nvPr/>
              </p:nvSpPr>
              <p:spPr>
                <a:xfrm>
                  <a:off x="762120" y="2265480"/>
                  <a:ext cx="6324480" cy="11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" name="Rectangle 7"/>
            <p:cNvSpPr/>
            <p:nvPr/>
          </p:nvSpPr>
          <p:spPr>
            <a:xfrm>
              <a:off x="7467480" y="27939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1"/>
                <p:cNvSpPr txBox="1"/>
                <p:nvPr/>
              </p:nvSpPr>
              <p:spPr>
                <a:xfrm>
                  <a:off x="762120" y="3403440"/>
                  <a:ext cx="411480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2"/>
                <p:cNvSpPr txBox="1"/>
                <p:nvPr/>
              </p:nvSpPr>
              <p:spPr>
                <a:xfrm>
                  <a:off x="152280" y="4622760"/>
                  <a:ext cx="8839440" cy="16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4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0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year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" name="Rectangle 12"/>
          <p:cNvSpPr/>
          <p:nvPr/>
        </p:nvSpPr>
        <p:spPr>
          <a:xfrm>
            <a:off x="152280" y="15228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the sample variance and standard deviation of the following observations (ages in year): 10, 21, 33, 53, 5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1-01-03T07:05:12Z</dcterms:modified>
  <cp:revision>13</cp:revision>
  <dc:subject/>
  <dc:title>PowerPoint Presentation</dc:title>
</cp:coreProperties>
</file>