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B6A4-B688-475E-A2C5-857D9D29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1E87-A250-4D44-A811-1A88FFBD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5862-1022-46B2-B112-026761B8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C907-7A38-4CDD-917A-AAE1F700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19BD-97BA-4D9B-BCC0-37B36DF8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CDA5-EA04-4FA3-8795-C286C0C8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D23F-6879-4A4B-9C98-3D348D40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8DB1-5169-4429-9A4D-D1A5D3E6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AC5F-CD62-4587-AE0C-D0E59802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2F8B-D857-4B7F-A548-64651510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894C-9934-4C6F-8C37-226D5920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7540-B133-419C-99B7-296C93E3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6311-FFB4-4F10-A14C-579529B75D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76320" y="152280"/>
            <a:ext cx="8915400" cy="60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Lectures' Notes</a:t>
            </a:r>
            <a:br>
              <a:rPr sz="2000"/>
            </a:br>
            <a:br>
              <a:rPr sz="2000"/>
            </a:br>
            <a:r>
              <a:rPr b="1" lang="en-US" sz="3600" spc="-1" strike="noStrike">
                <a:solidFill>
                  <a:srgbClr val="336600"/>
                </a:solidFill>
                <a:latin typeface="Arial Black"/>
              </a:rPr>
              <a:t>STAT 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–</a:t>
            </a:r>
            <a:r>
              <a:rPr b="1" lang="en-US" sz="3600" spc="-1" strike="noStrike">
                <a:solidFill>
                  <a:srgbClr val="336600"/>
                </a:solidFill>
                <a:latin typeface="Arial Black"/>
              </a:rPr>
              <a:t> 324</a:t>
            </a:r>
            <a:br>
              <a:rPr sz="3600"/>
            </a:b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336600"/>
                </a:solidFill>
                <a:latin typeface="Arial Black"/>
              </a:rPr>
              <a:t>Probability and Statistics for Engineers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First Semester 1431/14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190 and 5735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Teacher:  </a:t>
            </a: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Dr. Abdel-Hamid El-Zaid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Department of Statistics and Operations Research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College of Science, King Saud University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Textbook: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Probability and Statistics for Engineers and Scientists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By: R. E. Walpole, R. H. Myers, and S. L. Myers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(Sixth E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04"/>
          <p:cNvGrpSpPr/>
          <p:nvPr/>
        </p:nvGrpSpPr>
        <p:grpSpPr>
          <a:xfrm>
            <a:off x="152280" y="228600"/>
            <a:ext cx="8229600" cy="1168560"/>
            <a:chOff x="152280" y="228600"/>
            <a:chExt cx="8229600" cy="1168560"/>
          </a:xfrm>
        </p:grpSpPr>
        <p:sp>
          <p:nvSpPr>
            <p:cNvPr id="91" name="Rectangle 4"/>
            <p:cNvSpPr/>
            <p:nvPr/>
          </p:nvSpPr>
          <p:spPr>
            <a:xfrm>
              <a:off x="152280" y="22860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standard deviation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Object 5"/>
                <p:cNvSpPr txBox="1"/>
                <p:nvPr/>
              </p:nvSpPr>
              <p:spPr>
                <a:xfrm>
                  <a:off x="1447920" y="838440"/>
                  <a:ext cx="36241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37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</m:e>
                      </m:ra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3" name="Rectangle 7"/>
            <p:cNvSpPr/>
            <p:nvPr/>
          </p:nvSpPr>
          <p:spPr>
            <a:xfrm>
              <a:off x="6858000" y="9144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05"/>
          <p:cNvGrpSpPr/>
          <p:nvPr/>
        </p:nvGrpSpPr>
        <p:grpSpPr>
          <a:xfrm>
            <a:off x="76320" y="1600200"/>
            <a:ext cx="8534160" cy="2075760"/>
            <a:chOff x="76320" y="1600200"/>
            <a:chExt cx="8534160" cy="2075760"/>
          </a:xfrm>
        </p:grpSpPr>
        <p:sp>
          <p:nvSpPr>
            <p:cNvPr id="95" name="Rectangle 8"/>
            <p:cNvSpPr/>
            <p:nvPr/>
          </p:nvSpPr>
          <p:spPr>
            <a:xfrm>
              <a:off x="76320" y="1600200"/>
              <a:ext cx="838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* Another Formula for Calculating S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Object 9"/>
                <p:cNvSpPr txBox="1"/>
                <p:nvPr/>
              </p:nvSpPr>
              <p:spPr>
                <a:xfrm>
                  <a:off x="1428840" y="1981080"/>
                  <a:ext cx="2152440" cy="117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7" name="Rectangle 11"/>
            <p:cNvSpPr/>
            <p:nvPr/>
          </p:nvSpPr>
          <p:spPr>
            <a:xfrm>
              <a:off x="3886200" y="251460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t is simple and more accurate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2"/>
            <p:cNvSpPr/>
            <p:nvPr/>
          </p:nvSpPr>
          <p:spPr>
            <a:xfrm>
              <a:off x="228600" y="321624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the previous Examp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" name="Object 16"/>
              <p:cNvSpPr txBox="1"/>
              <p:nvPr/>
            </p:nvSpPr>
            <p:spPr>
              <a:xfrm>
                <a:off x="1143000" y="3835440"/>
                <a:ext cx="522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5"/>
              <p:cNvSpPr txBox="1"/>
              <p:nvPr/>
            </p:nvSpPr>
            <p:spPr>
              <a:xfrm>
                <a:off x="6781680" y="3943440"/>
                <a:ext cx="14479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3"/>
              <p:cNvSpPr txBox="1"/>
              <p:nvPr/>
            </p:nvSpPr>
            <p:spPr>
              <a:xfrm>
                <a:off x="6781680" y="4597560"/>
                <a:ext cx="1524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02" name=""/>
          <p:cNvGraphicFramePr/>
          <p:nvPr/>
        </p:nvGraphicFramePr>
        <p:xfrm>
          <a:off x="914400" y="3835440"/>
          <a:ext cx="7543800" cy="1422360"/>
        </p:xfrm>
        <a:graphic>
          <a:graphicData uri="http://schemas.openxmlformats.org/drawingml/2006/table">
            <a:tbl>
              <a:tblPr/>
              <a:tblGrid>
                <a:gridCol w="958680"/>
                <a:gridCol w="957600"/>
                <a:gridCol w="958680"/>
                <a:gridCol w="955800"/>
                <a:gridCol w="958680"/>
                <a:gridCol w="957240"/>
                <a:gridCol w="179712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3" name="Object 97"/>
              <p:cNvSpPr txBox="1"/>
              <p:nvPr/>
            </p:nvSpPr>
            <p:spPr>
              <a:xfrm>
                <a:off x="1200240" y="4521240"/>
                <a:ext cx="476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04" name="Group 106"/>
          <p:cNvGrpSpPr/>
          <p:nvPr/>
        </p:nvGrpSpPr>
        <p:grpSpPr>
          <a:xfrm>
            <a:off x="533520" y="5335560"/>
            <a:ext cx="8610480" cy="1203480"/>
            <a:chOff x="533520" y="5335560"/>
            <a:chExt cx="8610480" cy="1203480"/>
          </a:xfrm>
        </p:grpSpPr>
        <mc:AlternateContent>
          <mc:Choice xmlns:a14="http://schemas.microsoft.com/office/drawing/2010/main" Requires="a14">
            <p:sp>
              <p:nvSpPr>
                <p:cNvPr id="105" name="Object 99"/>
                <p:cNvSpPr txBox="1"/>
                <p:nvPr/>
              </p:nvSpPr>
              <p:spPr>
                <a:xfrm>
                  <a:off x="533520" y="5335560"/>
                  <a:ext cx="2057400" cy="11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101"/>
                <p:cNvSpPr txBox="1"/>
                <p:nvPr/>
              </p:nvSpPr>
              <p:spPr>
                <a:xfrm>
                  <a:off x="2666880" y="5616720"/>
                  <a:ext cx="5029200" cy="92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7355</m:t>
                          </m:r>
                          <m:r>
                            <m:t xml:space="preserve">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5</m:t>
                              </m:r>
                            </m:e>
                          </m:d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0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7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7" name="Rectangle 103"/>
            <p:cNvSpPr/>
            <p:nvPr/>
          </p:nvSpPr>
          <p:spPr>
            <a:xfrm>
              <a:off x="7848720" y="57913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58480"/>
            <a:ext cx="8458200" cy="19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hapter 1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Introduction to Statistics and Data Analysis:</a:t>
            </a:r>
            <a:br>
              <a:rPr sz="2800"/>
            </a:br>
            <a:br>
              <a:rPr sz="1800"/>
            </a:br>
            <a:r>
              <a:rPr b="1" lang="en-US" sz="2400" spc="-1" strike="noStrike" u="sng">
                <a:solidFill>
                  <a:srgbClr val="336600"/>
                </a:solidFill>
                <a:uFillTx/>
                <a:latin typeface="Arial"/>
                <a:ea typeface="Arial"/>
              </a:rPr>
              <a:t>1.1 Introduction: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* Populations and S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609480" y="2590920"/>
            <a:ext cx="2971800" cy="3047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ome Unknown Parame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KSU Students (Height Me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=Population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5105520" y="2514600"/>
            <a:ext cx="3733560" cy="30481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Sam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We calculate Some Statis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20 Students from KS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ample Me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= Sampl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3886200" y="38862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28600" y="647640"/>
            <a:ext cx="8610480" cy="32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 Let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be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opulation 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n general, they are un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Let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be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ample 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these values are 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tatist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btained from the sample are used to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pproximate)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th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Scientific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Statistical I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04920" y="3840120"/>
            <a:ext cx="838188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  <a:ea typeface="Arial"/>
              </a:rPr>
              <a:t>Esti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oint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terval Estimation (Confidence Inter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)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  <a:ea typeface="Arial"/>
              </a:rPr>
              <a:t>Hypotheses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>
            <a:off x="111240" y="152280"/>
            <a:ext cx="872784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1.3 Measures of Location (Central Tendency):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bservations) often tend to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ncent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ound the center of the dat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measures of location are: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edi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asures are considered 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presentati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r typical values) of the data. They are designed to give some quantitative measures of where the center of the data is in the s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141480" y="3809880"/>
            <a:ext cx="8616240" cy="2057400"/>
            <a:chOff x="141480" y="3809880"/>
            <a:chExt cx="8616240" cy="2057400"/>
          </a:xfrm>
        </p:grpSpPr>
        <mc:AlternateContent>
          <mc:Choice xmlns:a14="http://schemas.microsoft.com/office/drawing/2010/main" Requires="a14">
            <p:sp>
              <p:nvSpPr>
                <p:cNvPr id="50" name="Object 8"/>
                <p:cNvSpPr txBox="1"/>
                <p:nvPr/>
              </p:nvSpPr>
              <p:spPr>
                <a:xfrm>
                  <a:off x="5975280" y="3809880"/>
                  <a:ext cx="3333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" name="Object 9"/>
                <p:cNvSpPr txBox="1"/>
                <p:nvPr/>
              </p:nvSpPr>
              <p:spPr>
                <a:xfrm>
                  <a:off x="517320" y="4289400"/>
                  <a:ext cx="160020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" name="Object 10"/>
                <p:cNvSpPr txBox="1"/>
                <p:nvPr/>
              </p:nvSpPr>
              <p:spPr>
                <a:xfrm>
                  <a:off x="1508040" y="4657680"/>
                  <a:ext cx="3614760" cy="12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" name="Rectangle 11"/>
            <p:cNvSpPr/>
            <p:nvPr/>
          </p:nvSpPr>
          <p:spPr>
            <a:xfrm>
              <a:off x="6646680" y="5181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141480" y="3917880"/>
              <a:ext cx="861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mean of the observations (     ):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               are the sample values, then the sample mean is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1"/>
          <p:cNvGrpSpPr/>
          <p:nvPr/>
        </p:nvGrpSpPr>
        <p:grpSpPr>
          <a:xfrm>
            <a:off x="228600" y="304920"/>
            <a:ext cx="7848720" cy="3065400"/>
            <a:chOff x="228600" y="304920"/>
            <a:chExt cx="7848720" cy="3065400"/>
          </a:xfrm>
        </p:grpSpPr>
        <p:sp>
          <p:nvSpPr>
            <p:cNvPr id="56" name="Rectangle 4"/>
            <p:cNvSpPr/>
            <p:nvPr/>
          </p:nvSpPr>
          <p:spPr>
            <a:xfrm>
              <a:off x="228600" y="304920"/>
              <a:ext cx="7543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Example: 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ppose that the following sample represents the ages (in year) of a sample of 3 m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Object 5"/>
                <p:cNvSpPr txBox="1"/>
                <p:nvPr/>
              </p:nvSpPr>
              <p:spPr>
                <a:xfrm>
                  <a:off x="1752480" y="1600200"/>
                  <a:ext cx="33530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" name="Rectangle 6"/>
            <p:cNvSpPr/>
            <p:nvPr/>
          </p:nvSpPr>
          <p:spPr>
            <a:xfrm>
              <a:off x="6324480" y="1600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3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7"/>
            <p:cNvSpPr/>
            <p:nvPr/>
          </p:nvSpPr>
          <p:spPr>
            <a:xfrm>
              <a:off x="228600" y="2057400"/>
              <a:ext cx="78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n, the sample mean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Object 8"/>
                <p:cNvSpPr txBox="1"/>
                <p:nvPr/>
              </p:nvSpPr>
              <p:spPr>
                <a:xfrm>
                  <a:off x="1752480" y="2590920"/>
                  <a:ext cx="365760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5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9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Group 12"/>
          <p:cNvGrpSpPr/>
          <p:nvPr/>
        </p:nvGrpSpPr>
        <p:grpSpPr>
          <a:xfrm>
            <a:off x="228600" y="3389400"/>
            <a:ext cx="2971800" cy="801720"/>
            <a:chOff x="228600" y="3389400"/>
            <a:chExt cx="2971800" cy="801720"/>
          </a:xfrm>
        </p:grpSpPr>
        <p:sp>
          <p:nvSpPr>
            <p:cNvPr id="62" name="Rectangle 9"/>
            <p:cNvSpPr/>
            <p:nvPr/>
          </p:nvSpPr>
          <p:spPr>
            <a:xfrm>
              <a:off x="228600" y="35053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10"/>
                <p:cNvSpPr txBox="1"/>
                <p:nvPr/>
              </p:nvSpPr>
              <p:spPr>
                <a:xfrm>
                  <a:off x="1523880" y="3389400"/>
                  <a:ext cx="16765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</m:e>
                      </m:nary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1"/>
          <p:cNvSpPr/>
          <p:nvPr/>
        </p:nvSpPr>
        <p:spPr>
          <a:xfrm>
            <a:off x="76320" y="173160"/>
            <a:ext cx="899136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1.4 Measures of Variability (Dispersion or Vari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ariation or dispersion in a set of data refers to how spread out the observations are from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13"/>
          <p:cNvGraphicFramePr/>
          <p:nvPr/>
        </p:nvGraphicFramePr>
        <p:xfrm>
          <a:off x="1371600" y="1676520"/>
          <a:ext cx="6248520" cy="20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24852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14"/>
          <p:cNvSpPr/>
          <p:nvPr/>
        </p:nvSpPr>
        <p:spPr>
          <a:xfrm>
            <a:off x="1546200" y="6240600"/>
            <a:ext cx="27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304920" y="3657600"/>
            <a:ext cx="8153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ariation is small when the observations are close together. There is no variation if the observations are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measures of dispersion are range, variance, and  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237960" y="5883120"/>
            <a:ext cx="852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asures are designed to give some quantitative measures of the variability in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4"/>
          <p:cNvGrpSpPr/>
          <p:nvPr/>
        </p:nvGrpSpPr>
        <p:grpSpPr>
          <a:xfrm>
            <a:off x="76320" y="914400"/>
            <a:ext cx="8381880" cy="2133720"/>
            <a:chOff x="76320" y="914400"/>
            <a:chExt cx="8381880" cy="2133720"/>
          </a:xfrm>
        </p:grpSpPr>
        <p:sp>
          <p:nvSpPr>
            <p:cNvPr id="71" name="Rectangle 5"/>
            <p:cNvSpPr/>
            <p:nvPr/>
          </p:nvSpPr>
          <p:spPr>
            <a:xfrm>
              <a:off x="76320" y="914400"/>
              <a:ext cx="8381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Variance (S</a:t>
              </a:r>
              <a:r>
                <a:rPr b="1" lang="en-US" sz="2400" spc="-1" strike="noStrike" baseline="30000">
                  <a:solidFill>
                    <a:srgbClr val="ff3300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):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                  be the observations of the sample. The sample variance is denoted by 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is defined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Object 6"/>
                <p:cNvSpPr txBox="1"/>
                <p:nvPr/>
              </p:nvSpPr>
              <p:spPr>
                <a:xfrm>
                  <a:off x="664560" y="1338480"/>
                  <a:ext cx="147024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" name="Object 7"/>
                <p:cNvSpPr txBox="1"/>
                <p:nvPr/>
              </p:nvSpPr>
              <p:spPr>
                <a:xfrm>
                  <a:off x="738000" y="1960560"/>
                  <a:ext cx="6226560" cy="108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4" name="Rectangle 8"/>
            <p:cNvSpPr/>
            <p:nvPr/>
          </p:nvSpPr>
          <p:spPr>
            <a:xfrm>
              <a:off x="7355160" y="2362320"/>
              <a:ext cx="110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9"/>
          <p:cNvGrpSpPr/>
          <p:nvPr/>
        </p:nvGrpSpPr>
        <p:grpSpPr>
          <a:xfrm>
            <a:off x="380880" y="3581280"/>
            <a:ext cx="6934320" cy="878040"/>
            <a:chOff x="380880" y="3581280"/>
            <a:chExt cx="6934320" cy="878040"/>
          </a:xfrm>
        </p:grpSpPr>
        <p:sp>
          <p:nvSpPr>
            <p:cNvPr id="76" name="Rectangle 10"/>
            <p:cNvSpPr/>
            <p:nvPr/>
          </p:nvSpPr>
          <p:spPr>
            <a:xfrm>
              <a:off x="380880" y="3773520"/>
              <a:ext cx="69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                     is the sample mea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Object 11"/>
                <p:cNvSpPr txBox="1"/>
                <p:nvPr/>
              </p:nvSpPr>
              <p:spPr>
                <a:xfrm>
                  <a:off x="1447920" y="3581280"/>
                  <a:ext cx="152388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" name="Rectangle 12"/>
          <p:cNvSpPr/>
          <p:nvPr/>
        </p:nvSpPr>
        <p:spPr>
          <a:xfrm>
            <a:off x="152280" y="457344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 is called the degrees of freedom (df) associated with the sample variance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12"/>
          <p:cNvGrpSpPr/>
          <p:nvPr/>
        </p:nvGrpSpPr>
        <p:grpSpPr>
          <a:xfrm>
            <a:off x="76320" y="838080"/>
            <a:ext cx="8381880" cy="2590920"/>
            <a:chOff x="76320" y="838080"/>
            <a:chExt cx="8381880" cy="2590920"/>
          </a:xfrm>
        </p:grpSpPr>
        <p:sp>
          <p:nvSpPr>
            <p:cNvPr id="80" name="Rectangle 6"/>
            <p:cNvSpPr/>
            <p:nvPr/>
          </p:nvSpPr>
          <p:spPr>
            <a:xfrm>
              <a:off x="76320" y="83808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tandard Deviation (S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tandard deviation is another measure of variation. It is the square root of the variance, i.e., it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Object 7"/>
                <p:cNvSpPr txBox="1"/>
                <p:nvPr/>
              </p:nvSpPr>
              <p:spPr>
                <a:xfrm>
                  <a:off x="1828800" y="2133360"/>
                  <a:ext cx="320040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82" name="Rectangle 9"/>
            <p:cNvSpPr/>
            <p:nvPr/>
          </p:nvSpPr>
          <p:spPr>
            <a:xfrm>
              <a:off x="6324480" y="2743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13"/>
          <p:cNvGrpSpPr/>
          <p:nvPr/>
        </p:nvGrpSpPr>
        <p:grpSpPr>
          <a:xfrm>
            <a:off x="152280" y="1574640"/>
            <a:ext cx="8839440" cy="4673880"/>
            <a:chOff x="152280" y="1574640"/>
            <a:chExt cx="8839440" cy="4673880"/>
          </a:xfrm>
        </p:grpSpPr>
        <p:sp>
          <p:nvSpPr>
            <p:cNvPr id="84" name="Rectangle 4"/>
            <p:cNvSpPr/>
            <p:nvPr/>
          </p:nvSpPr>
          <p:spPr>
            <a:xfrm>
              <a:off x="152280" y="157464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Object 0"/>
                <p:cNvSpPr txBox="1"/>
                <p:nvPr/>
              </p:nvSpPr>
              <p:spPr>
                <a:xfrm>
                  <a:off x="762120" y="2265480"/>
                  <a:ext cx="6324480" cy="113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5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3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5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7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" name="Rectangle 7"/>
            <p:cNvSpPr/>
            <p:nvPr/>
          </p:nvSpPr>
          <p:spPr>
            <a:xfrm>
              <a:off x="7467480" y="279396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Object 1"/>
                <p:cNvSpPr txBox="1"/>
                <p:nvPr/>
              </p:nvSpPr>
              <p:spPr>
                <a:xfrm>
                  <a:off x="762120" y="3403440"/>
                  <a:ext cx="4114800" cy="115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5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" name="Object 2"/>
                <p:cNvSpPr txBox="1"/>
                <p:nvPr/>
              </p:nvSpPr>
              <p:spPr>
                <a:xfrm>
                  <a:off x="152280" y="4622760"/>
                  <a:ext cx="8839440" cy="162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3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53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54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50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7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year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" name="Rectangle 12"/>
          <p:cNvSpPr/>
          <p:nvPr/>
        </p:nvSpPr>
        <p:spPr>
          <a:xfrm>
            <a:off x="152280" y="15228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 the sample variance and standard deviation of the following observations (ages in year): 10, 21, 33, 53, 5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su</cp:lastModifiedBy>
  <dcterms:modified xsi:type="dcterms:W3CDTF">2011-01-03T07:05:12Z</dcterms:modified>
  <cp:revision>13</cp:revision>
  <dc:subject/>
  <dc:title>PowerPoint Presentation</dc:title>
</cp:coreProperties>
</file>