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CA2-9380-4CE3-B97A-8515954A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BA3-807C-4BDF-9DE3-592A452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F6A-F8AB-4EFB-86CC-F6AAB9D9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C72-5313-4C37-B87C-7FFA048D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1A2-B760-4936-81A9-15A52F5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CF9-E728-4400-A179-CF3C962D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F0A-7B9C-4A1A-8770-6F8EDBB4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841-D060-4E3D-A7D6-B70A119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EEA-CA04-4AEC-AF9F-465D4229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584-5932-4574-B399-C3FA6826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95D-70EB-421A-BCD7-FBA6340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FF3-58B5-446A-9455-05992AE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31D-8EEE-47B6-ADF4-070092ED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92360"/>
            <a:ext cx="868680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.1 The Sampl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2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all possible outcomes of a statistical experiment is called the sample space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utcome (element or member)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sam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883908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hapter 2: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some procedure (or process) that we do and it results in an out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 random experimen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xperiment we do not know its exact outcome in advance but we know the set of all possibl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079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10 equal–priority operations and only 4 operating rooms are available, in how many ways can we choose the 4 patients to be operated on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2560" y="4491000"/>
                <a:ext cx="6667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ffer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2197080"/>
            <a:ext cx="8610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umber of different ways for selecting 4 patients from 10 patient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4. Probability of an Event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o every point (outcome) in the sample space of an experi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assign a weight (or probability), ranging from 0 to 1, such that the sum of all weights (probabilities) equal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he weight (or probability) of an outcome measures its likelihood (chance) of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 To find 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um all probabilities of the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is sum is called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is denoted by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1846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8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sum of the weights (probabilities) of all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7960" y="5334120"/>
            <a:ext cx="2131920" cy="506160"/>
            <a:chOff x="1677960" y="5334120"/>
            <a:chExt cx="2131920" cy="50616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133720" y="5403960"/>
                  <a:ext cx="16761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167796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960" y="5791320"/>
            <a:ext cx="1598760" cy="498240"/>
            <a:chOff x="1677960" y="5791320"/>
            <a:chExt cx="1598760" cy="4982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133720" y="5861160"/>
                  <a:ext cx="1143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677960" y="5791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7960" y="6248520"/>
            <a:ext cx="1598760" cy="492120"/>
            <a:chOff x="1677960" y="6248520"/>
            <a:chExt cx="1598760" cy="4921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133720" y="6318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677960" y="6248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00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anced coin is tossed twice. What is the probability that at least one head occ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5238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at least one head occurs}= {HH, HT, T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in is balanced, the outcomes are equally likely; i.e., all outcomes have the same weight or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657600"/>
            <a:ext cx="7314840" cy="2590920"/>
            <a:chOff x="838080" y="3657600"/>
            <a:chExt cx="7314840" cy="2590920"/>
          </a:xfrm>
        </p:grpSpPr>
        <p:grpSp>
          <p:nvGrpSpPr>
            <p:cNvPr id="116" name=""/>
            <p:cNvGrpSpPr/>
            <p:nvPr/>
          </p:nvGrpSpPr>
          <p:grpSpPr>
            <a:xfrm>
              <a:off x="843840" y="3661200"/>
              <a:ext cx="7302240" cy="2583720"/>
              <a:chOff x="843840" y="3661200"/>
              <a:chExt cx="7302240" cy="2583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43840" y="3661200"/>
                <a:ext cx="1346040" cy="924120"/>
                <a:chOff x="843840" y="3661200"/>
                <a:chExt cx="1346040" cy="924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929880" y="3661200"/>
                  <a:ext cx="117396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c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840" y="3661200"/>
                  <a:ext cx="134604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190240" y="3661200"/>
                <a:ext cx="1657080" cy="924120"/>
                <a:chOff x="2190240" y="3661200"/>
                <a:chExt cx="1657080" cy="924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76280" y="3661200"/>
                  <a:ext cx="148500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ight (Probabilit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90240" y="3661200"/>
                  <a:ext cx="165708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847680" y="3661200"/>
                <a:ext cx="4298400" cy="2583720"/>
                <a:chOff x="3847680" y="3661200"/>
                <a:chExt cx="4298400" cy="2583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33720" y="3661200"/>
                  <a:ext cx="4125960" cy="25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 =1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w =1/4 = 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=P(HT)=P(TH)=P(TT)=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47680" y="3661200"/>
                  <a:ext cx="4298400" cy="258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43840" y="4585320"/>
                <a:ext cx="1346040" cy="1114200"/>
                <a:chOff x="843840" y="4585320"/>
                <a:chExt cx="1346040" cy="111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29880" y="4585320"/>
                  <a:ext cx="117396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3840" y="4585320"/>
                  <a:ext cx="134604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90240" y="4585320"/>
                <a:ext cx="1657080" cy="1114200"/>
                <a:chOff x="2190240" y="4585320"/>
                <a:chExt cx="1657080" cy="111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276280" y="4585320"/>
                  <a:ext cx="148500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90240" y="4585320"/>
                  <a:ext cx="165708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43840" y="5699880"/>
                <a:ext cx="1346040" cy="544680"/>
                <a:chOff x="843840" y="5699880"/>
                <a:chExt cx="1346040" cy="544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29880" y="5699880"/>
                  <a:ext cx="1173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3840" y="5699880"/>
                  <a:ext cx="134604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0240" y="5699880"/>
                <a:ext cx="1657080" cy="544680"/>
                <a:chOff x="2190240" y="5699880"/>
                <a:chExt cx="1657080" cy="544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6280" y="5699880"/>
                  <a:ext cx="1485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=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0240" y="5699880"/>
                  <a:ext cx="165708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838080" y="3657600"/>
              <a:ext cx="73148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at least one head occur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{at least one head occurs})=P({HH, HT, TH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HH) + P(HT) + P(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25+0.25+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experimen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qually likely different outcomes, then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3782880"/>
                <a:ext cx="6205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400800" y="2362320"/>
            <a:ext cx="2437920" cy="1904400"/>
            <a:chOff x="6400800" y="2362320"/>
            <a:chExt cx="2437920" cy="1904400"/>
          </a:xfrm>
        </p:grpSpPr>
        <p:sp>
          <p:nvSpPr>
            <p:cNvPr id="143" name=""/>
            <p:cNvSpPr/>
            <p:nvPr/>
          </p:nvSpPr>
          <p:spPr>
            <a:xfrm>
              <a:off x="6400800" y="2362320"/>
              <a:ext cx="2437920" cy="19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485760" y="2634120"/>
              <a:ext cx="2331360" cy="148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76320" y="228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xture of candies consists of 6 mints, 4 toffees, and 3 chocolates. If a person makes a random selection of one of these candies, find the probability of get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a 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a toffee or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2565360"/>
            <a:ext cx="8915400" cy="4064040"/>
            <a:chOff x="76320" y="2565360"/>
            <a:chExt cx="8915400" cy="4064040"/>
          </a:xfrm>
        </p:grpSpPr>
        <p:sp>
          <p:nvSpPr>
            <p:cNvPr id="147" name=""/>
            <p:cNvSpPr/>
            <p:nvPr/>
          </p:nvSpPr>
          <p:spPr>
            <a:xfrm>
              <a:off x="76320" y="2565360"/>
              <a:ext cx="8915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following ev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= {getting a toffe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a candy at random from 13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S) = no. of outcomes of the experiment of selecting a cand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 from 13 cand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33520" y="5586480"/>
                  <a:ext cx="166032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6320" y="76320"/>
            <a:ext cx="8839080" cy="3224160"/>
            <a:chOff x="76320" y="76320"/>
            <a:chExt cx="8839080" cy="3224160"/>
          </a:xfrm>
        </p:grpSpPr>
        <p:sp>
          <p:nvSpPr>
            <p:cNvPr id="150" name=""/>
            <p:cNvSpPr/>
            <p:nvPr/>
          </p:nvSpPr>
          <p:spPr>
            <a:xfrm>
              <a:off x="76320" y="763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M) = no. of different ways of selecting a mint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6 mint candies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447920" y="1905120"/>
                  <a:ext cx="114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76320" y="266076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)= P({getting a mint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343400" y="2514600"/>
                  <a:ext cx="1295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0" y="3352680"/>
            <a:ext cx="9144000" cy="3124080"/>
            <a:chOff x="0" y="3352680"/>
            <a:chExt cx="9144000" cy="3124080"/>
          </a:xfrm>
        </p:grpSpPr>
        <p:sp>
          <p:nvSpPr>
            <p:cNvPr id="155" name=""/>
            <p:cNvSpPr/>
            <p:nvPr/>
          </p:nvSpPr>
          <p:spPr>
            <a:xfrm>
              <a:off x="0" y="3352680"/>
              <a:ext cx="9144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toffee or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) 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 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d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. of different ways of selec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828800" y="5562360"/>
              <a:ext cx="2162160" cy="914400"/>
              <a:chOff x="1828800" y="5562360"/>
              <a:chExt cx="2162160" cy="914400"/>
            </a:xfrm>
          </p:grpSpPr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828800" y="5562360"/>
                    <a:ext cx="74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2590920" y="5562360"/>
                    <a:ext cx="140004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152280"/>
            <a:ext cx="9144000" cy="2365560"/>
            <a:chOff x="0" y="152280"/>
            <a:chExt cx="9144000" cy="2365560"/>
          </a:xfrm>
        </p:grpSpPr>
        <p:sp>
          <p:nvSpPr>
            <p:cNvPr id="160" name=""/>
            <p:cNvSpPr/>
            <p:nvPr/>
          </p:nvSpPr>
          <p:spPr>
            <a:xfrm>
              <a:off x="0" y="15228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7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981080" y="914400"/>
                  <a:ext cx="11430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0" y="1692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{getting a toffee or chocolate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1539720"/>
                  <a:ext cx="1752840" cy="7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∪</m:t>
                              </m:r>
                              <m:r>
                                <m:t xml:space="preserve">C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76320" y="2317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poker hand consisting of 5 cards, find the probability of holding 2 aces and 3 jack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3492360"/>
            <a:ext cx="8915400" cy="2451240"/>
            <a:chOff x="76320" y="3492360"/>
            <a:chExt cx="8915400" cy="2451240"/>
          </a:xfrm>
        </p:grpSpPr>
        <p:sp>
          <p:nvSpPr>
            <p:cNvPr id="166" name=""/>
            <p:cNvSpPr/>
            <p:nvPr/>
          </p:nvSpPr>
          <p:spPr>
            <a:xfrm>
              <a:off x="76320" y="34923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: selecting 5 cards 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(S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outcomes of the experiment of selecting 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5073480"/>
                  <a:ext cx="33116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989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152280"/>
            <a:ext cx="8915400" cy="3963600"/>
            <a:chOff x="76320" y="152280"/>
            <a:chExt cx="8915400" cy="3963600"/>
          </a:xfrm>
        </p:grpSpPr>
        <p:sp>
          <p:nvSpPr>
            <p:cNvPr id="169" name=""/>
            <p:cNvSpPr/>
            <p:nvPr/>
          </p:nvSpPr>
          <p:spPr>
            <a:xfrm>
              <a:off x="76320" y="15228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ways of select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 ja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ys of selecting 3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 from 4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ways of selecting 3 jacks from 4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51000" y="3124080"/>
              <a:ext cx="1568160" cy="991800"/>
              <a:chOff x="1251000" y="3124080"/>
              <a:chExt cx="1568160" cy="991800"/>
            </a:xfrm>
          </p:grpSpPr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1251000" y="3124080"/>
                    <a:ext cx="73080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2307240" y="3124080"/>
                    <a:ext cx="51192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"/>
              <p:cNvSpPr/>
              <p:nvPr/>
            </p:nvSpPr>
            <p:spPr>
              <a:xfrm>
                <a:off x="1971720" y="3290400"/>
                <a:ext cx="40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219320" y="4038480"/>
            <a:ext cx="3809880" cy="978120"/>
            <a:chOff x="1219320" y="4038480"/>
            <a:chExt cx="3809880" cy="9781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219320" y="4038480"/>
                  <a:ext cx="1143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2362320" y="4191120"/>
              <a:ext cx="3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722680" y="4038480"/>
                  <a:ext cx="23065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76320" y="4800600"/>
            <a:ext cx="8839080" cy="1295280"/>
            <a:chOff x="76320" y="4800600"/>
            <a:chExt cx="8839080" cy="1295280"/>
          </a:xfrm>
        </p:grpSpPr>
        <p:sp>
          <p:nvSpPr>
            <p:cNvPr id="179" name=""/>
            <p:cNvSpPr/>
            <p:nvPr/>
          </p:nvSpPr>
          <p:spPr>
            <a:xfrm>
              <a:off x="76320" y="480060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)= P(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 }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219320" y="5265720"/>
                  <a:ext cx="37796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989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411624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a ball from a box containing 6 balls numbered 1,2,3,4,5 and 6. (or tossing a 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1240"/>
            <a:ext cx="88394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2.2 Events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inition 2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the outcome (the result) of the experiment is an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ossibl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experiment has 6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space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an even number ={2,4,6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4={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1 or 3={1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n odd number={1,3,5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egative number={ }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10 = {1,2,3,4,5,6}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S)= no. of outcomes (elements) i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E)= no. of outcomes (elements) in the even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8769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3 items from manufacturing process; each item is inspected and classified as defective (D) or non-defective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This experiment has 8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2951280" cy="34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619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least 2 defectives}= {DDD,DDN,DND,N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most one defective}={DNN,NDN,NND,NNN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{3 defectives}={D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me Operations on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wo events defined on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620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3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ment of The Even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s of all poi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81680" y="1752480"/>
            <a:ext cx="2057400" cy="1702080"/>
            <a:chOff x="6781680" y="1752480"/>
            <a:chExt cx="2057400" cy="1702080"/>
          </a:xfrm>
        </p:grpSpPr>
        <p:sp>
          <p:nvSpPr>
            <p:cNvPr id="54" name=""/>
            <p:cNvSpPr/>
            <p:nvPr/>
          </p:nvSpPr>
          <p:spPr>
            <a:xfrm>
              <a:off x="6781680" y="1752480"/>
              <a:ext cx="2057400" cy="170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0" y="1981080"/>
              <a:ext cx="190476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81680" y="3809880"/>
            <a:ext cx="2057400" cy="1828800"/>
            <a:chOff x="6781680" y="3809880"/>
            <a:chExt cx="2057400" cy="1828800"/>
          </a:xfrm>
        </p:grpSpPr>
        <p:sp>
          <p:nvSpPr>
            <p:cNvPr id="58" name=""/>
            <p:cNvSpPr/>
            <p:nvPr/>
          </p:nvSpPr>
          <p:spPr>
            <a:xfrm>
              <a:off x="6781680" y="3809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57640" y="4071960"/>
              <a:ext cx="197028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920" y="366084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4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ters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ists of all points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43000" y="2163600"/>
            <a:ext cx="6019920" cy="2941560"/>
            <a:chOff x="1143000" y="2163600"/>
            <a:chExt cx="6019920" cy="294156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2163600"/>
              <a:ext cx="2124000" cy="2530440"/>
              <a:chOff x="1143000" y="2163600"/>
              <a:chExt cx="2124000" cy="2530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163600"/>
                <a:ext cx="2057400" cy="15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143000" y="3687480"/>
                <a:ext cx="212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not mutually exclu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005440" y="2163600"/>
              <a:ext cx="2157480" cy="2941560"/>
              <a:chOff x="5005440" y="2163600"/>
              <a:chExt cx="2157480" cy="2941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6880" y="2163600"/>
                <a:ext cx="207972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005440" y="3611160"/>
                <a:ext cx="215748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mutually exclusive (disjo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Exclusive (Disjoint)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or disjoint)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that i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no common elements (they do not occur together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522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ists of all outcom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at least o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48520" y="685800"/>
            <a:ext cx="2438280" cy="1905120"/>
            <a:chOff x="6248520" y="685800"/>
            <a:chExt cx="2438280" cy="1905120"/>
          </a:xfrm>
        </p:grpSpPr>
        <p:sp>
          <p:nvSpPr>
            <p:cNvPr id="71" name=""/>
            <p:cNvSpPr/>
            <p:nvPr/>
          </p:nvSpPr>
          <p:spPr>
            <a:xfrm>
              <a:off x="6248520" y="68580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399360" y="914400"/>
              <a:ext cx="2211120" cy="16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920" y="321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3 Counting Sample Points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re are many counting techniques which can be used to count the number points in the sample space (or in some events) without listing each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many cases, we can compute the probability of an event by using the count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many problems, we are interested in the number of ways of selec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without regard to order. These selections are calle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1676520"/>
            <a:ext cx="8305560" cy="1679400"/>
            <a:chOff x="76320" y="1676520"/>
            <a:chExt cx="8305560" cy="1679400"/>
          </a:xfrm>
        </p:grpSpPr>
        <p:sp>
          <p:nvSpPr>
            <p:cNvPr id="76" name=""/>
            <p:cNvSpPr/>
            <p:nvPr/>
          </p:nvSpPr>
          <p:spPr>
            <a:xfrm>
              <a:off x="76320" y="1676520"/>
              <a:ext cx="830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·      No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factorial is denot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!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04920" y="2514600"/>
                  <a:ext cx="71625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⋯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228600" y="3505320"/>
            <a:ext cx="5562720" cy="459720"/>
            <a:chOff x="228600" y="3505320"/>
            <a:chExt cx="5562720" cy="459720"/>
          </a:xfrm>
        </p:grpSpPr>
        <p:sp>
          <p:nvSpPr>
            <p:cNvPr id="79" name="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	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286000" y="3581280"/>
                  <a:ext cx="3505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!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6781680" y="4876920"/>
            <a:ext cx="2209680" cy="1828800"/>
            <a:chOff x="6781680" y="4876920"/>
            <a:chExt cx="2209680" cy="1828800"/>
          </a:xfrm>
        </p:grpSpPr>
        <p:sp>
          <p:nvSpPr>
            <p:cNvPr id="82" name=""/>
            <p:cNvSpPr/>
            <p:nvPr/>
          </p:nvSpPr>
          <p:spPr>
            <a:xfrm>
              <a:off x="6781680" y="4876920"/>
              <a:ext cx="22096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7640" y="4896000"/>
              <a:ext cx="1943280" cy="17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152280" y="4038480"/>
            <a:ext cx="8763120" cy="2359080"/>
            <a:chOff x="152280" y="4038480"/>
            <a:chExt cx="8763120" cy="2359080"/>
          </a:xfrm>
        </p:grpSpPr>
        <p:grpSp>
          <p:nvGrpSpPr>
            <p:cNvPr id="85" name=""/>
            <p:cNvGrpSpPr/>
            <p:nvPr/>
          </p:nvGrpSpPr>
          <p:grpSpPr>
            <a:xfrm>
              <a:off x="152280" y="4038480"/>
              <a:ext cx="8763120" cy="1447920"/>
              <a:chOff x="152280" y="4038480"/>
              <a:chExt cx="8763120" cy="1447920"/>
            </a:xfrm>
          </p:grpSpPr>
          <p:sp>
            <p:nvSpPr>
              <p:cNvPr id="86" name=""/>
              <p:cNvSpPr/>
              <p:nvPr/>
            </p:nvSpPr>
            <p:spPr>
              <a:xfrm>
                <a:off x="152280" y="4038480"/>
                <a:ext cx="876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heorem 2.8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 number of combinations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distinct objects tak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t a time is denoted by      and is given by: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2743200" y="4800600"/>
                    <a:ext cx="398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66680" y="5495760"/>
                  <a:ext cx="4510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403200"/>
            <a:ext cx="8915400" cy="4483080"/>
            <a:chOff x="228600" y="403200"/>
            <a:chExt cx="8915400" cy="4483080"/>
          </a:xfrm>
        </p:grpSpPr>
        <p:sp>
          <p:nvSpPr>
            <p:cNvPr id="90" name=""/>
            <p:cNvSpPr/>
            <p:nvPr/>
          </p:nvSpPr>
          <p:spPr>
            <a:xfrm>
              <a:off x="228600" y="403200"/>
              <a:ext cx="89154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is read as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“ choose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          ,           ,           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select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divid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into two subsets; one subset contain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and the other contains the res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bjects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87280" y="10130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04920" y="1801800"/>
                  <a:ext cx="761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71600" y="1801800"/>
                  <a:ext cx="762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362320" y="1774800"/>
                  <a:ext cx="761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429000" y="1774800"/>
                  <a:ext cx="1371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4920" y="2536920"/>
                  <a:ext cx="442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4920" y="35276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5:34:36Z</dcterms:created>
  <dc:creator> </dc:creator>
  <dc:description/>
  <dc:language>en-US</dc:language>
  <cp:lastModifiedBy> </cp:lastModifiedBy>
  <dcterms:modified xsi:type="dcterms:W3CDTF">2004-06-27T20:41:16Z</dcterms:modified>
  <cp:revision>11</cp:revision>
  <dc:subject/>
  <dc:title>PowerPoint Presentation</dc:title>
</cp:coreProperties>
</file>