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5B09-020A-46B5-9A61-4D0C83111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8DEF-A6F2-478A-9BAA-E2D81EE9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DC94-252D-44D0-B2F9-F0E2EC49A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78A8-99F6-4C91-A609-FB91CCF55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32E4-2AC3-4A80-B354-F61B6015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9C37-E3FA-4221-A1C7-18593CD4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0DE5-7705-472A-AB7C-8F34E098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F223-7788-4BA4-9506-B8B3C2F1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607B-3824-484A-8D93-A017F9D5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7151-C884-47CF-B325-2B4B9676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B7D0-124C-4981-949E-5F0D6C1C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5FCB-18D5-4FD5-B39B-195BA366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0883-1E35-48DE-B724-526EA39F8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492360"/>
            <a:ext cx="8686800" cy="24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2.1 The Sample Spa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efinition 2.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t of all possible outcomes of a statistical experiment is called the sample space and is denot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outcome (element or member) of the sample spa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alled a sample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228600"/>
            <a:ext cx="8839080" cy="30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Chapter 2: Prob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n Experi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s some procedure (or process) that we do and it results in an outc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Times New Roman"/>
              </a:rPr>
              <a:t>A random experiment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experiment we do not know its exact outcome in advance but we know the set of all possible outco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50796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we have 10 equal–priority operations and only 4 operating rooms are available, in how many ways can we choose the 4 patients to be operated on fir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4784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952560" y="4491000"/>
                <a:ext cx="666756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!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!</m:t>
                            </m:r>
                            <m:r>
                              <m:t xml:space="preserve"> </m:t>
                            </m:r>
                            <m:r>
                              <m:t xml:space="preserve">×</m:t>
                            </m:r>
                            <m:r>
                              <m:t xml:space="preserve"> </m:t>
                            </m:r>
                            <m:r>
                              <m:t xml:space="preserve">6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×</m:t>
                            </m:r>
                            <m:r>
                              <m:t xml:space="preserve">9</m:t>
                            </m:r>
                            <m:r>
                              <m:t xml:space="preserve">×</m:t>
                            </m:r>
                            <m:r>
                              <m:t xml:space="preserve">8</m:t>
                            </m:r>
                            <m:r>
                              <m:t xml:space="preserve">×</m:t>
                            </m:r>
                            <m:r>
                              <m:t xml:space="preserve">7</m:t>
                            </m:r>
                            <m:r>
                              <m:t xml:space="preserve">×</m:t>
                            </m:r>
                            <m:r>
                              <m:t xml:space="preserve">6</m:t>
                            </m:r>
                            <m:r>
                              <m:t xml:space="preserve">×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r>
                              <m:t xml:space="preserve">4</m:t>
                            </m:r>
                            <m:r>
                              <m:t xml:space="preserve">×</m:t>
                            </m:r>
                            <m:r>
                              <m:t xml:space="preserve">3</m:t>
                            </m:r>
                            <m:r>
                              <m:t xml:space="preserve">×</m:t>
                            </m:r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×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6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iffere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ay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52280" y="2197080"/>
            <a:ext cx="86108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number of different ways for selecting 4 patients from 10 patients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280" y="76320"/>
            <a:ext cx="8534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2.4. Probability of an Event: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To every point (outcome) in the sample space of an experim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we assign a weight (or probability), ranging from 0 to 1, such that the sum of all weights (probabilities) equals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The weight (or probability) of an outcome measures its likelihood (chance) of oc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 To find the probability of an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we sum all probabilities of the sample points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This sum is called the probability of the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is denoted by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320" y="4184640"/>
            <a:ext cx="87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2.8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of an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the sum of the weights (probabilities) of all sample points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Therefo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677960" y="5334120"/>
            <a:ext cx="2131920" cy="506160"/>
            <a:chOff x="1677960" y="5334120"/>
            <a:chExt cx="2131920" cy="506160"/>
          </a:xfrm>
        </p:grpSpPr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2133720" y="5403960"/>
                  <a:ext cx="1676160" cy="43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≤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</m:e>
                      </m:d>
                      <m:r>
                        <m:t xml:space="preserve">≤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"/>
            <p:cNvSpPr/>
            <p:nvPr/>
          </p:nvSpPr>
          <p:spPr>
            <a:xfrm>
              <a:off x="1677960" y="53341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77960" y="5791320"/>
            <a:ext cx="1598760" cy="498240"/>
            <a:chOff x="1677960" y="5791320"/>
            <a:chExt cx="1598760" cy="498240"/>
          </a:xfrm>
        </p:grpSpPr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2133720" y="5861160"/>
                  <a:ext cx="114300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S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9" name=""/>
            <p:cNvSpPr/>
            <p:nvPr/>
          </p:nvSpPr>
          <p:spPr>
            <a:xfrm>
              <a:off x="1677960" y="57913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677960" y="6248520"/>
            <a:ext cx="1598760" cy="492120"/>
            <a:chOff x="1677960" y="6248520"/>
            <a:chExt cx="1598760" cy="492120"/>
          </a:xfrm>
        </p:grpSpPr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2133720" y="6318360"/>
                  <a:ext cx="114300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φ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>
              <a:off x="1677960" y="62485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2280" y="20016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2.2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balanced coin is tossed twice. What is the probability that at least one head occu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1523880"/>
            <a:ext cx="883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HH, HT, TH, T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at least one head occurs}= {HH, HT, TH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ce the coin is balanced, the outcomes are equally likely; i.e., all outcomes have the same weight or prob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838080" y="3657600"/>
            <a:ext cx="7314840" cy="2590920"/>
            <a:chOff x="838080" y="3657600"/>
            <a:chExt cx="7314840" cy="2590920"/>
          </a:xfrm>
        </p:grpSpPr>
        <p:grpSp>
          <p:nvGrpSpPr>
            <p:cNvPr id="116" name=""/>
            <p:cNvGrpSpPr/>
            <p:nvPr/>
          </p:nvGrpSpPr>
          <p:grpSpPr>
            <a:xfrm>
              <a:off x="843840" y="3661200"/>
              <a:ext cx="7302240" cy="2583720"/>
              <a:chOff x="843840" y="3661200"/>
              <a:chExt cx="7302240" cy="258372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843840" y="3661200"/>
                <a:ext cx="1346040" cy="924120"/>
                <a:chOff x="843840" y="3661200"/>
                <a:chExt cx="1346040" cy="92412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929880" y="3661200"/>
                  <a:ext cx="1173960" cy="92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utcom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843840" y="3661200"/>
                  <a:ext cx="1346040" cy="92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2190240" y="3661200"/>
                <a:ext cx="1657080" cy="924120"/>
                <a:chOff x="2190240" y="3661200"/>
                <a:chExt cx="1657080" cy="92412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2276280" y="3661200"/>
                  <a:ext cx="1485000" cy="92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eight (Probability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2190240" y="3661200"/>
                  <a:ext cx="1657080" cy="92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3847680" y="3661200"/>
                <a:ext cx="4298400" cy="2583720"/>
                <a:chOff x="3847680" y="3661200"/>
                <a:chExt cx="4298400" cy="258372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933720" y="3661200"/>
                  <a:ext cx="4125960" cy="258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w =1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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w =1/4 = 0.2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(HH)=P(HT)=P(TH)=P(TT)=0.2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847680" y="3661200"/>
                  <a:ext cx="4298400" cy="258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843840" y="4585320"/>
                <a:ext cx="1346040" cy="1114200"/>
                <a:chOff x="843840" y="4585320"/>
                <a:chExt cx="1346040" cy="1114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29880" y="4585320"/>
                  <a:ext cx="1173960" cy="11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43840" y="4585320"/>
                  <a:ext cx="1346040" cy="11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2190240" y="4585320"/>
                <a:ext cx="1657080" cy="1114200"/>
                <a:chOff x="2190240" y="4585320"/>
                <a:chExt cx="1657080" cy="1114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2276280" y="4585320"/>
                  <a:ext cx="1485000" cy="11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(HH) = 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(HT) = 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(TH) = 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(TT) = 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190240" y="4585320"/>
                  <a:ext cx="1657080" cy="11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843840" y="5699880"/>
                <a:ext cx="1346040" cy="544680"/>
                <a:chOff x="843840" y="5699880"/>
                <a:chExt cx="1346040" cy="5446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929880" y="5699880"/>
                  <a:ext cx="117396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u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843840" y="5699880"/>
                  <a:ext cx="1346040" cy="54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2190240" y="5699880"/>
                <a:ext cx="1657080" cy="544680"/>
                <a:chOff x="2190240" y="5699880"/>
                <a:chExt cx="1657080" cy="5446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2276280" y="5699880"/>
                  <a:ext cx="14850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w=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190240" y="5699880"/>
                  <a:ext cx="1657080" cy="54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8" name=""/>
            <p:cNvSpPr/>
            <p:nvPr/>
          </p:nvSpPr>
          <p:spPr>
            <a:xfrm>
              <a:off x="838080" y="3657600"/>
              <a:ext cx="7314840" cy="2590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52280" y="22860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that at least one head occurs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P({at least one head occurs})=P({HH, HT, TH}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 P(HH) + P(HT) + P(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0.25+0.25+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0.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220968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2.9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n experiment h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qually likely different outcomes, then the probability of the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90720" y="3782880"/>
                <a:ext cx="620532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utcom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utcom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6400800" y="2362320"/>
            <a:ext cx="2437920" cy="1904400"/>
            <a:chOff x="6400800" y="2362320"/>
            <a:chExt cx="2437920" cy="1904400"/>
          </a:xfrm>
        </p:grpSpPr>
        <p:sp>
          <p:nvSpPr>
            <p:cNvPr id="143" name=""/>
            <p:cNvSpPr/>
            <p:nvPr/>
          </p:nvSpPr>
          <p:spPr>
            <a:xfrm>
              <a:off x="6400800" y="2362320"/>
              <a:ext cx="2437920" cy="19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6485760" y="2634120"/>
              <a:ext cx="2331360" cy="148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"/>
          <p:cNvSpPr/>
          <p:nvPr/>
        </p:nvSpPr>
        <p:spPr>
          <a:xfrm>
            <a:off x="76320" y="22860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2.2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ixture of candies consists of 6 mints, 4 toffees, and 3 chocolates. If a person makes a random selection of one of these candies, find the probability of get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) a m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) a toffee or chocol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6320" y="2565360"/>
            <a:ext cx="8915400" cy="4064040"/>
            <a:chOff x="76320" y="2565360"/>
            <a:chExt cx="8915400" cy="4064040"/>
          </a:xfrm>
        </p:grpSpPr>
        <p:sp>
          <p:nvSpPr>
            <p:cNvPr id="147" name=""/>
            <p:cNvSpPr/>
            <p:nvPr/>
          </p:nvSpPr>
          <p:spPr>
            <a:xfrm>
              <a:off x="76320" y="2565360"/>
              <a:ext cx="89154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fine the following event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 = {getting a mint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 = {getting a toffee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 = {getting a chocolate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00"/>
                  </a:solidFill>
                  <a:latin typeface="Arial"/>
                  <a:ea typeface="Arial"/>
                </a:rPr>
                <a:t>Experiment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selecting a candy at random from 13 cand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(S) = no. of outcomes of the experiment of selecting a cand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no. of different ways of selecting a candy from 13 candi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533520" y="5586480"/>
                  <a:ext cx="1660320" cy="10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3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76320" y="76320"/>
            <a:ext cx="8839080" cy="3224160"/>
            <a:chOff x="76320" y="76320"/>
            <a:chExt cx="8839080" cy="3224160"/>
          </a:xfrm>
        </p:grpSpPr>
        <p:sp>
          <p:nvSpPr>
            <p:cNvPr id="150" name=""/>
            <p:cNvSpPr/>
            <p:nvPr/>
          </p:nvSpPr>
          <p:spPr>
            <a:xfrm>
              <a:off x="76320" y="76320"/>
              <a:ext cx="88390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outcomes of the experiment are equally likely because the selection is made at random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(a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 = {getting a mint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(M) = no. of different ways of selecting a mint can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6 mint candies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1447920" y="1905120"/>
                  <a:ext cx="114300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6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2" name=""/>
            <p:cNvSpPr/>
            <p:nvPr/>
          </p:nvSpPr>
          <p:spPr>
            <a:xfrm>
              <a:off x="76320" y="2660760"/>
              <a:ext cx="75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 )= P({getting a mint})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4343400" y="2514600"/>
                  <a:ext cx="1295280" cy="7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M</m:t>
                              </m:r>
                            </m:e>
                          </m:d>
                        </m:num>
                        <m:den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4" name=""/>
          <p:cNvGrpSpPr/>
          <p:nvPr/>
        </p:nvGrpSpPr>
        <p:grpSpPr>
          <a:xfrm>
            <a:off x="0" y="3352680"/>
            <a:ext cx="9144000" cy="3124080"/>
            <a:chOff x="0" y="3352680"/>
            <a:chExt cx="9144000" cy="3124080"/>
          </a:xfrm>
        </p:grpSpPr>
        <p:sp>
          <p:nvSpPr>
            <p:cNvPr id="155" name=""/>
            <p:cNvSpPr/>
            <p:nvPr/>
          </p:nvSpPr>
          <p:spPr>
            <a:xfrm>
              <a:off x="0" y="3352680"/>
              <a:ext cx="91440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(b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T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 = {getting a toffee or chocolate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(T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) = no. of different ways of selecting a toff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 chocolate can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no. of different ways of selecting a toff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ndy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no. of different ways of selecting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ocolate can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1828800" y="5562360"/>
              <a:ext cx="2162160" cy="914400"/>
              <a:chOff x="1828800" y="5562360"/>
              <a:chExt cx="2162160" cy="914400"/>
            </a:xfrm>
          </p:grpSpPr>
          <mc:AlternateContent>
            <mc:Choice xmlns:a14="http://schemas.microsoft.com/office/drawing/2010/main" Requires="a14">
              <p:sp>
                <p:nvSpPr>
                  <p:cNvPr id="157" name=""/>
                  <p:cNvSpPr txBox="1"/>
                  <p:nvPr/>
                </p:nvSpPr>
                <p:spPr>
                  <a:xfrm>
                    <a:off x="1828800" y="5562360"/>
                    <a:ext cx="749520" cy="914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8" name=""/>
                  <p:cNvSpPr txBox="1"/>
                  <p:nvPr/>
                </p:nvSpPr>
                <p:spPr>
                  <a:xfrm>
                    <a:off x="2590920" y="5562360"/>
                    <a:ext cx="1400040" cy="914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0" y="152280"/>
            <a:ext cx="9144000" cy="2365560"/>
            <a:chOff x="0" y="152280"/>
            <a:chExt cx="9144000" cy="2365560"/>
          </a:xfrm>
        </p:grpSpPr>
        <p:sp>
          <p:nvSpPr>
            <p:cNvPr id="160" name=""/>
            <p:cNvSpPr/>
            <p:nvPr/>
          </p:nvSpPr>
          <p:spPr>
            <a:xfrm>
              <a:off x="0" y="152280"/>
              <a:ext cx="8610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no. of different ways of selecting a can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7 cand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1981080" y="914400"/>
                  <a:ext cx="1143000" cy="86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7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2" name=""/>
            <p:cNvSpPr/>
            <p:nvPr/>
          </p:nvSpPr>
          <p:spPr>
            <a:xfrm>
              <a:off x="0" y="169236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 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P({getting a toffee or chocolate})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6553080" y="1539720"/>
                  <a:ext cx="1752840" cy="79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  <m:r>
                                <m:t xml:space="preserve">∪</m:t>
                              </m:r>
                              <m:r>
                                <m:t xml:space="preserve">C</m:t>
                              </m:r>
                            </m:e>
                          </m:d>
                        </m:num>
                        <m:den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4" name=""/>
          <p:cNvSpPr/>
          <p:nvPr/>
        </p:nvSpPr>
        <p:spPr>
          <a:xfrm>
            <a:off x="76320" y="23176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2.2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a poker hand consisting of 5 cards, find the probability of holding 2 aces and 3 jacks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6320" y="3492360"/>
            <a:ext cx="8915400" cy="2451240"/>
            <a:chOff x="76320" y="3492360"/>
            <a:chExt cx="8915400" cy="2451240"/>
          </a:xfrm>
        </p:grpSpPr>
        <p:sp>
          <p:nvSpPr>
            <p:cNvPr id="166" name=""/>
            <p:cNvSpPr/>
            <p:nvPr/>
          </p:nvSpPr>
          <p:spPr>
            <a:xfrm>
              <a:off x="76320" y="3492360"/>
              <a:ext cx="89154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periment: selecting 5 cards from 52 card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(S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no. of outcomes of the experiment of selecting 5 car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52 card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1523880" y="5073480"/>
                  <a:ext cx="3311640" cy="87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2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5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2</m:t>
                          </m:r>
                          <m:r>
                            <m:t xml:space="preserve">!</m:t>
                          </m:r>
                        </m:num>
                        <m:den>
                          <m:r>
                            <m:t xml:space="preserve">5</m:t>
                          </m:r>
                          <m:r>
                            <m:t xml:space="preserve">!</m:t>
                          </m:r>
                          <m:r>
                            <m:t xml:space="preserve"> </m:t>
                          </m:r>
                          <m:r>
                            <m:t xml:space="preserve">×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47</m:t>
                          </m:r>
                          <m:r>
                            <m:t xml:space="preserve">!</m:t>
                          </m:r>
                          <m:r>
                            <m:t xml:space="preserve"> 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59896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76320" y="152280"/>
            <a:ext cx="8915400" cy="3963600"/>
            <a:chOff x="76320" y="152280"/>
            <a:chExt cx="8915400" cy="3963600"/>
          </a:xfrm>
        </p:grpSpPr>
        <p:sp>
          <p:nvSpPr>
            <p:cNvPr id="169" name=""/>
            <p:cNvSpPr/>
            <p:nvPr/>
          </p:nvSpPr>
          <p:spPr>
            <a:xfrm>
              <a:off x="76320" y="152280"/>
              <a:ext cx="89154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outcomes of the experiment are equally likely because the selection is made at random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fine the even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= {holding 2 aces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3 jacks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no. of ways of selecting 2 aces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3 jac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(no. of ways of selecting 2 aces)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no. of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ays of selecting 3 jack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(no. of ways of selecting 2 aces from 4 aces)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no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f ways of selecting 3 jacks from 4 jack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1251000" y="3124080"/>
              <a:ext cx="1568160" cy="991800"/>
              <a:chOff x="1251000" y="3124080"/>
              <a:chExt cx="1568160" cy="991800"/>
            </a:xfrm>
          </p:grpSpPr>
          <mc:AlternateContent>
            <mc:Choice xmlns:a14="http://schemas.microsoft.com/office/drawing/2010/main" Requires="a14">
              <p:sp>
                <p:nvSpPr>
                  <p:cNvPr id="171" name=""/>
                  <p:cNvSpPr txBox="1"/>
                  <p:nvPr/>
                </p:nvSpPr>
                <p:spPr>
                  <a:xfrm>
                    <a:off x="1251000" y="3124080"/>
                    <a:ext cx="730800" cy="914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2" name=""/>
                  <p:cNvSpPr txBox="1"/>
                  <p:nvPr/>
                </p:nvSpPr>
                <p:spPr>
                  <a:xfrm>
                    <a:off x="2307240" y="3124080"/>
                    <a:ext cx="511920" cy="914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73" name=""/>
              <p:cNvSpPr/>
              <p:nvPr/>
            </p:nvSpPr>
            <p:spPr>
              <a:xfrm>
                <a:off x="1971720" y="3290400"/>
                <a:ext cx="4006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" name=""/>
          <p:cNvGrpSpPr/>
          <p:nvPr/>
        </p:nvGrpSpPr>
        <p:grpSpPr>
          <a:xfrm>
            <a:off x="1219320" y="4038480"/>
            <a:ext cx="3809880" cy="978120"/>
            <a:chOff x="1219320" y="4038480"/>
            <a:chExt cx="3809880" cy="978120"/>
          </a:xfrm>
        </p:grpSpPr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1219320" y="4038480"/>
                  <a:ext cx="1143000" cy="87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r>
                            <m:t xml:space="preserve">!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!</m:t>
                          </m:r>
                          <m:r>
                            <m:t xml:space="preserve"> </m:t>
                          </m:r>
                          <m:r>
                            <m:t xml:space="preserve">×</m:t>
                          </m:r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  <m:r>
                            <m:t xml:space="preserve">!</m:t>
                          </m:r>
                          <m:r>
                            <m:t xml:space="preserve"> 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6" name=""/>
            <p:cNvSpPr/>
            <p:nvPr/>
          </p:nvSpPr>
          <p:spPr>
            <a:xfrm>
              <a:off x="2362320" y="4191120"/>
              <a:ext cx="380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2722680" y="4038480"/>
                  <a:ext cx="2306520" cy="89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  <m:r>
                            <m:t xml:space="preserve">!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!</m:t>
                          </m:r>
                          <m:r>
                            <m:t xml:space="preserve"> </m:t>
                          </m:r>
                          <m:r>
                            <m:t xml:space="preserve">×</m:t>
                          </m:r>
                          <m:r>
                            <m:t xml:space="preserve"> </m:t>
                          </m:r>
                          <m:r>
                            <m:t xml:space="preserve">1</m:t>
                          </m:r>
                          <m:r>
                            <m:t xml:space="preserve">!</m:t>
                          </m:r>
                          <m:r>
                            <m:t xml:space="preserve"> 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 </m:t>
                      </m:r>
                      <m:r>
                        <m:t xml:space="preserve">×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" name=""/>
          <p:cNvGrpSpPr/>
          <p:nvPr/>
        </p:nvGrpSpPr>
        <p:grpSpPr>
          <a:xfrm>
            <a:off x="76320" y="4800600"/>
            <a:ext cx="8839080" cy="1295280"/>
            <a:chOff x="76320" y="4800600"/>
            <a:chExt cx="8839080" cy="1295280"/>
          </a:xfrm>
        </p:grpSpPr>
        <p:sp>
          <p:nvSpPr>
            <p:cNvPr id="179" name=""/>
            <p:cNvSpPr/>
            <p:nvPr/>
          </p:nvSpPr>
          <p:spPr>
            <a:xfrm>
              <a:off x="76320" y="4800600"/>
              <a:ext cx="883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)= P({holding 2 aces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3 jacks }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" name=""/>
                <p:cNvSpPr txBox="1"/>
                <p:nvPr/>
              </p:nvSpPr>
              <p:spPr>
                <a:xfrm>
                  <a:off x="1219320" y="5265720"/>
                  <a:ext cx="3779640" cy="83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A</m:t>
                              </m:r>
                            </m:e>
                          </m:d>
                        </m:num>
                        <m:den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9896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00009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411624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: Selecting a ball from a box containing 6 balls numbered 1,2,3,4,5 and 6. (or tossing a d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111240"/>
            <a:ext cx="8839440" cy="38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2.2 Events: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Definition 2.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ubset of the sample spa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at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ay that an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ccurs if the outcome (the result) of the experiment is an elemen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s an event   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alled the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mpossible ev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s an event    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alled the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ure ev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76320"/>
            <a:ext cx="853416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experiment has 6 possible out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ample space is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1,2,3,4,5,6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ider the following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E</a:t>
            </a:r>
            <a:r>
              <a:rPr b="0" lang="en-US" sz="2400" spc="-1" strike="noStrike" baseline="-30000">
                <a:solidFill>
                  <a:srgbClr val="ff33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ting an even number ={2,4,6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2400" spc="-1" strike="noStrike" baseline="-30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a number less than 4={1,2,3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2400" spc="-1" strike="noStrike" baseline="-30000">
                <a:solidFill>
                  <a:srgbClr val="ff33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1 or 3={1,3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2400" spc="-1" strike="noStrike" baseline="-30000">
                <a:solidFill>
                  <a:srgbClr val="ff33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an odd number={1,3,5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2400" spc="-1" strike="noStrike" baseline="-30000">
                <a:solidFill>
                  <a:srgbClr val="ff33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a negative number={ }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2400" spc="-1" strike="noStrike" baseline="-30000">
                <a:solidFill>
                  <a:srgbClr val="ff33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a number less than 10 = {1,2,3,4,5,6}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3429000"/>
            <a:ext cx="8076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(S)= no. of outcomes (elements) in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(E)= no. of outcomes (elements) in the event 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876920"/>
            <a:ext cx="8915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: Selecting 3 items from manufacturing process; each item is inspected and classified as defective (D) or non-defective (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522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This experiment has 8 possible out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DDD,DDN,DND,DNN,NDD,NDN,NND,NN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0" y="1066680"/>
            <a:ext cx="2951280" cy="3424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2280" y="461952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· Consider the following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at least 2 defectives}= {DDD,DDN,DND,NDD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at most one defective}={DNN,NDN,NND,NNN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={3 defectives}={DDD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280" y="2286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me Operations on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 two events defined on the sample spa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1162080"/>
            <a:ext cx="655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Definition 2.3: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Complement of The Event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 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ists of all point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are not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ccurs if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es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781680" y="1752480"/>
            <a:ext cx="2057400" cy="1702080"/>
            <a:chOff x="6781680" y="1752480"/>
            <a:chExt cx="2057400" cy="1702080"/>
          </a:xfrm>
        </p:grpSpPr>
        <p:sp>
          <p:nvSpPr>
            <p:cNvPr id="54" name=""/>
            <p:cNvSpPr/>
            <p:nvPr/>
          </p:nvSpPr>
          <p:spPr>
            <a:xfrm>
              <a:off x="6781680" y="1752480"/>
              <a:ext cx="2057400" cy="170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6858000" y="1981080"/>
              <a:ext cx="1904760" cy="14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/>
          <p:nvPr/>
        </p:nvSpPr>
        <p:spPr>
          <a:xfrm>
            <a:off x="0" y="155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781680" y="3809880"/>
            <a:ext cx="2057400" cy="1828800"/>
            <a:chOff x="6781680" y="3809880"/>
            <a:chExt cx="2057400" cy="1828800"/>
          </a:xfrm>
        </p:grpSpPr>
        <p:sp>
          <p:nvSpPr>
            <p:cNvPr id="58" name=""/>
            <p:cNvSpPr/>
            <p:nvPr/>
          </p:nvSpPr>
          <p:spPr>
            <a:xfrm>
              <a:off x="6781680" y="3809880"/>
              <a:ext cx="2057400" cy="182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6857640" y="4071960"/>
              <a:ext cx="1970280" cy="149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304920" y="366084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Definition 2.4: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Interse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Consists of all points in bo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s if bo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1143000" y="2163600"/>
            <a:ext cx="6019920" cy="2941560"/>
            <a:chOff x="1143000" y="2163600"/>
            <a:chExt cx="6019920" cy="2941560"/>
          </a:xfrm>
        </p:grpSpPr>
        <p:grpSp>
          <p:nvGrpSpPr>
            <p:cNvPr id="62" name=""/>
            <p:cNvGrpSpPr/>
            <p:nvPr/>
          </p:nvGrpSpPr>
          <p:grpSpPr>
            <a:xfrm>
              <a:off x="1143000" y="2163600"/>
              <a:ext cx="2124000" cy="2530440"/>
              <a:chOff x="1143000" y="2163600"/>
              <a:chExt cx="2124000" cy="2530440"/>
            </a:xfrm>
          </p:grpSpPr>
          <p:pic>
            <p:nvPicPr>
              <p:cNvPr id="6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2163600"/>
                <a:ext cx="2057400" cy="154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>
                <a:off x="1143000" y="3687480"/>
                <a:ext cx="212400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A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Symbol"/>
                    <a:ea typeface="Symbol"/>
                  </a:rPr>
                  <a:t></a:t>
                </a:r>
                <a:r>
                  <a:rPr b="1" i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B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Symbol"/>
                    <a:ea typeface="Symbol"/>
                  </a:rPr>
                  <a:t>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A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 and </a:t>
                </a:r>
                <a:r>
                  <a:rPr b="1" i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B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 are not mutually exclusiv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5005440" y="2163600"/>
              <a:ext cx="2157480" cy="2941560"/>
              <a:chOff x="5005440" y="2163600"/>
              <a:chExt cx="2157480" cy="2941560"/>
            </a:xfrm>
          </p:grpSpPr>
          <p:pic>
            <p:nvPicPr>
              <p:cNvPr id="6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06880" y="2163600"/>
                <a:ext cx="2079720" cy="156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5005440" y="3611160"/>
                <a:ext cx="2157480" cy="149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A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Symbol"/>
                    <a:ea typeface="Symbol"/>
                  </a:rPr>
                  <a:t></a:t>
                </a:r>
                <a:r>
                  <a:rPr b="1" i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B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 = 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A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 and </a:t>
                </a:r>
                <a:r>
                  <a:rPr b="1" i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B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 are mutually exclusive (disjo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>
            <a:off x="228600" y="15228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Definition 2.5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utually Exclusive (Disjoint)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mutually exclusive (or disjoint) if and only 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 that i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ve no common elements (they do not occur together)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0880" y="152280"/>
            <a:ext cx="7620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Definition 2.6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Un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r 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ists of all outcom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 bo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s 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s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o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t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s if at least on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248520" y="685800"/>
            <a:ext cx="2438280" cy="1905120"/>
            <a:chOff x="6248520" y="685800"/>
            <a:chExt cx="2438280" cy="1905120"/>
          </a:xfrm>
        </p:grpSpPr>
        <p:sp>
          <p:nvSpPr>
            <p:cNvPr id="71" name=""/>
            <p:cNvSpPr/>
            <p:nvPr/>
          </p:nvSpPr>
          <p:spPr>
            <a:xfrm>
              <a:off x="6248520" y="685800"/>
              <a:ext cx="2438280" cy="190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6399360" y="914400"/>
              <a:ext cx="2211120" cy="166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"/>
          <p:cNvSpPr/>
          <p:nvPr/>
        </p:nvSpPr>
        <p:spPr>
          <a:xfrm>
            <a:off x="304920" y="3219480"/>
            <a:ext cx="8686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2.3 Counting Sample Points: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There are many counting techniques which can be used to count the number points in the sample space (or in some events) without listing each el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In many cases, we can compute the probability of an event by using the counting techniq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280" y="152280"/>
            <a:ext cx="883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mbin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many problems, we are interested in the number of ways of select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bjects fr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bjects without regard to order. These selections are called combin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76320" y="1676520"/>
            <a:ext cx="8305560" cy="1679400"/>
            <a:chOff x="76320" y="1676520"/>
            <a:chExt cx="8305560" cy="1679400"/>
          </a:xfrm>
        </p:grpSpPr>
        <p:sp>
          <p:nvSpPr>
            <p:cNvPr id="76" name=""/>
            <p:cNvSpPr/>
            <p:nvPr/>
          </p:nvSpPr>
          <p:spPr>
            <a:xfrm>
              <a:off x="76320" y="1676520"/>
              <a:ext cx="8305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·      Not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factorial is denoted by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!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is defined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304920" y="2514600"/>
                  <a:ext cx="716256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n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n</m:t>
                          </m:r>
                          <m:r>
                            <m:t xml:space="preserve">×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d>
                          <m:r>
                            <m:t xml:space="preserve">×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d>
                          <m:r>
                            <m:t xml:space="preserve">×</m:t>
                          </m:r>
                          <m:r>
                            <m:t xml:space="preserve">⋯</m:t>
                          </m:r>
                          <m:r>
                            <m:t xml:space="preserve">×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2</m:t>
                              </m:r>
                            </m:e>
                          </m:d>
                          <m:r>
                            <m:t xml:space="preserve">×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</m:e>
                          </m:d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for</m:t>
                          </m:r>
                          <m:r>
                            <m:t xml:space="preserve"> </m:t>
                          </m:r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⋯</m:t>
                          </m:r>
                        </m:e>
                        <m:e>
                          <m:r>
                            <m:t xml:space="preserve">0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" name=""/>
          <p:cNvGrpSpPr/>
          <p:nvPr/>
        </p:nvGrpSpPr>
        <p:grpSpPr>
          <a:xfrm>
            <a:off x="228600" y="3505320"/>
            <a:ext cx="5562720" cy="459720"/>
            <a:chOff x="228600" y="3505320"/>
            <a:chExt cx="5562720" cy="459720"/>
          </a:xfrm>
        </p:grpSpPr>
        <p:sp>
          <p:nvSpPr>
            <p:cNvPr id="79" name=""/>
            <p:cNvSpPr/>
            <p:nvPr/>
          </p:nvSpPr>
          <p:spPr>
            <a:xfrm>
              <a:off x="228600" y="3505320"/>
              <a:ext cx="350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ample: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	</a:t>
              </a:r>
              <a:r>
                <a:rPr b="0" i="1" lang="en-GB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2286000" y="3581280"/>
                  <a:ext cx="3505320" cy="3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!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×</m:t>
                      </m:r>
                      <m:r>
                        <m:t xml:space="preserve">4</m:t>
                      </m:r>
                      <m:r>
                        <m:t xml:space="preserve">×</m:t>
                      </m:r>
                      <m:r>
                        <m:t xml:space="preserve">3</m:t>
                      </m:r>
                      <m:r>
                        <m:t xml:space="preserve">×</m:t>
                      </m:r>
                      <m:r>
                        <m:t xml:space="preserve">2</m:t>
                      </m:r>
                      <m:r>
                        <m:t xml:space="preserve">×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6781680" y="4876920"/>
            <a:ext cx="2209680" cy="1828800"/>
            <a:chOff x="6781680" y="4876920"/>
            <a:chExt cx="2209680" cy="1828800"/>
          </a:xfrm>
        </p:grpSpPr>
        <p:sp>
          <p:nvSpPr>
            <p:cNvPr id="82" name=""/>
            <p:cNvSpPr/>
            <p:nvPr/>
          </p:nvSpPr>
          <p:spPr>
            <a:xfrm>
              <a:off x="6781680" y="4876920"/>
              <a:ext cx="2209680" cy="182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6857640" y="4896000"/>
              <a:ext cx="1943280" cy="177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" name=""/>
          <p:cNvGrpSpPr/>
          <p:nvPr/>
        </p:nvGrpSpPr>
        <p:grpSpPr>
          <a:xfrm>
            <a:off x="152280" y="4038480"/>
            <a:ext cx="8763120" cy="2359080"/>
            <a:chOff x="152280" y="4038480"/>
            <a:chExt cx="8763120" cy="2359080"/>
          </a:xfrm>
        </p:grpSpPr>
        <p:grpSp>
          <p:nvGrpSpPr>
            <p:cNvPr id="85" name=""/>
            <p:cNvGrpSpPr/>
            <p:nvPr/>
          </p:nvGrpSpPr>
          <p:grpSpPr>
            <a:xfrm>
              <a:off x="152280" y="4038480"/>
              <a:ext cx="8763120" cy="1447920"/>
              <a:chOff x="152280" y="4038480"/>
              <a:chExt cx="8763120" cy="1447920"/>
            </a:xfrm>
          </p:grpSpPr>
          <p:sp>
            <p:nvSpPr>
              <p:cNvPr id="86" name=""/>
              <p:cNvSpPr/>
              <p:nvPr/>
            </p:nvSpPr>
            <p:spPr>
              <a:xfrm>
                <a:off x="152280" y="4038480"/>
                <a:ext cx="87631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6600"/>
                    </a:solidFill>
                    <a:latin typeface="Times New Roman"/>
                  </a:rPr>
                  <a:t>Theorem 2.8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 number of combinations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distinct objects taken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at a time is denoted by      and is given by:</a:t>
                </a:r>
                <a:r>
                  <a:rPr b="1" i="1" lang="en-US" sz="2400" spc="-1" strike="noStrike">
                    <a:solidFill>
                      <a:srgbClr val="0066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7" name=""/>
                  <p:cNvSpPr txBox="1"/>
                  <p:nvPr/>
                </p:nvSpPr>
                <p:spPr>
                  <a:xfrm>
                    <a:off x="2743200" y="4800600"/>
                    <a:ext cx="398520" cy="68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88" name=""/>
                <p:cNvSpPr txBox="1"/>
                <p:nvPr/>
              </p:nvSpPr>
              <p:spPr>
                <a:xfrm>
                  <a:off x="1066680" y="5495760"/>
                  <a:ext cx="4510080" cy="90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r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!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  <m:r>
                            <m:t xml:space="preserve"> 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228600" y="403200"/>
            <a:ext cx="8915400" cy="4483080"/>
            <a:chOff x="228600" y="403200"/>
            <a:chExt cx="8915400" cy="4483080"/>
          </a:xfrm>
        </p:grpSpPr>
        <p:sp>
          <p:nvSpPr>
            <p:cNvPr id="90" name=""/>
            <p:cNvSpPr/>
            <p:nvPr/>
          </p:nvSpPr>
          <p:spPr>
            <a:xfrm>
              <a:off x="228600" y="403200"/>
              <a:ext cx="891540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 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   is read as  “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“ choose  “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”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          ,           ,           ,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   = The number of different ways of selecti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obje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distinct object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   = The number of different ways of dividi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distin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cts into two subsets; one subset contain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cts and the other contains the rest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bjects.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287280" y="1013040"/>
                  <a:ext cx="44280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r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304920" y="1801800"/>
                  <a:ext cx="76176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1371600" y="1801800"/>
                  <a:ext cx="76212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2362320" y="1774800"/>
                  <a:ext cx="76176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3429000" y="1774800"/>
                  <a:ext cx="137160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r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304920" y="2536920"/>
                  <a:ext cx="44280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r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304920" y="3527640"/>
                  <a:ext cx="44280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r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5:34:36Z</dcterms:created>
  <dc:creator> </dc:creator>
  <dc:description/>
  <dc:language>en-US</dc:language>
  <cp:lastModifiedBy> </cp:lastModifiedBy>
  <dcterms:modified xsi:type="dcterms:W3CDTF">2004-06-27T20:41:16Z</dcterms:modified>
  <cp:revision>11</cp:revision>
  <dc:subject/>
  <dc:title>PowerPoint Presentation</dc:title>
</cp:coreProperties>
</file>