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C27-DDD6-4334-AF43-645827E8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BC4-BF9F-49D1-A836-D65E7FDF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7EB-4B0B-4901-804B-B67566BF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E76-5879-4D69-8E90-8F12279D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25B-8327-45FE-811B-13EE0D14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A31-A556-4987-A297-FF8D827C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A00-024D-43A0-8F42-D1115AB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970-6769-4B1D-9D1A-945200E7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E95-E1F5-4378-B46D-3B63772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DD2-546D-4D76-B9BA-5B671B86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772-3E50-4F9C-9159-EEEB4FBB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667-9B2A-49EB-BC91-09A02C0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007A-01C9-47B3-AC08-0F677928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5 Additiv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ny two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0574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3324240"/>
            <a:ext cx="89154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…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86000" y="4583160"/>
                <a:ext cx="2514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5228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no effect on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g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l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289548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Independent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and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Otherwi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724280"/>
            <a:ext cx="87627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we found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Therefore,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, i.e., they are not independent. Also, we can verify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228600" y="76320"/>
            <a:ext cx="87631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7 Multiplicativ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an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21337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have a fuse box containing 20 fuses of which 5 are defective (D) and 15 are non-defective (N). If 2 fuses are selected at random and removed from the box in succession without replacing the first, what is the probability that both fuses are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44197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first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cond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the first fuse is defective and the second fu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} = {both fuses are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320" y="152280"/>
            <a:ext cx="8153280" cy="3353040"/>
            <a:chOff x="76320" y="152280"/>
            <a:chExt cx="8153280" cy="3353040"/>
          </a:xfrm>
        </p:grpSpPr>
        <p:sp>
          <p:nvSpPr>
            <p:cNvPr id="209" name=""/>
            <p:cNvSpPr/>
            <p:nvPr/>
          </p:nvSpPr>
          <p:spPr>
            <a:xfrm>
              <a:off x="76320" y="152280"/>
              <a:ext cx="8153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calculate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73320" y="2706840"/>
                  <a:ext cx="27651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263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447920" y="1447920"/>
                  <a:ext cx="3808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1143000" y="733320"/>
                  <a:ext cx="40176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914400" y="3641760"/>
            <a:ext cx="5638680" cy="2151360"/>
            <a:chOff x="914400" y="3641760"/>
            <a:chExt cx="5638680" cy="215136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000080" y="3641760"/>
              <a:ext cx="418140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914400" y="5089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Selec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0893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 Selection: given 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irst is defective 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(Multiplicative Rule for independent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1828800"/>
            <a:ext cx="8839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one of the following conditions is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4191120"/>
            <a:ext cx="883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independent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320" y="152280"/>
            <a:ext cx="8839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cards are drawn in succession, without replacement, from an ordinary deck of playing cards. Fine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where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re defin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1-st card is a red a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2-nd card is a 10 or a j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3-rd card is a number greater than 3 but less than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838600"/>
            <a:ext cx="830556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8/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9640" y="5138640"/>
                <a:ext cx="197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630520" y="5151600"/>
                <a:ext cx="3160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26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7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5867280" y="2819520"/>
            <a:ext cx="2895840" cy="3962160"/>
            <a:chOff x="5867280" y="2819520"/>
            <a:chExt cx="2895840" cy="39621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019920" y="2971440"/>
              <a:ext cx="224784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67280" y="2819520"/>
              <a:ext cx="2895840" cy="39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152280"/>
            <a:ext cx="883908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8  Bayes'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1400" y="1774800"/>
            <a:ext cx="4572720" cy="1417680"/>
            <a:chOff x="761400" y="1774800"/>
            <a:chExt cx="4572720" cy="141768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371600" y="1774800"/>
                  <a:ext cx="396252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/>
                            <m:lim>
                              <m:r>
                                <m:t xml:space="preserve">n</m:t>
                              </m:r>
                            </m:lim>
                          </m:limUpp>
                        </m:e>
                        <m:lim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lim>
                      </m:limLow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1676520" y="2666880"/>
              <a:ext cx="3429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400" y="198108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400" y="269712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3200400"/>
            <a:ext cx="80769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otal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38400" y="4965840"/>
            <a:ext cx="3409920" cy="1752480"/>
            <a:chOff x="1238400" y="4965840"/>
            <a:chExt cx="3409920" cy="175248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05120" y="5767560"/>
                  <a:ext cx="21333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∩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238400" y="4965840"/>
                  <a:ext cx="340992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6629400" y="3505320"/>
            <a:ext cx="2057400" cy="3124080"/>
            <a:chOff x="6629400" y="3505320"/>
            <a:chExt cx="2057400" cy="31240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6778440" y="3657600"/>
              <a:ext cx="1755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3505320"/>
              <a:ext cx="205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76320"/>
            <a:ext cx="6629400" cy="3124080"/>
            <a:chOff x="1143000" y="76320"/>
            <a:chExt cx="6629400" cy="31240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295280" y="76320"/>
              <a:ext cx="647712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43000" y="76320"/>
              <a:ext cx="6629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320" y="3371760"/>
            <a:ext cx="88390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machin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20%, 30%, and 50%, respectively, of the products. It is known that 1%, 4%, and 7% of the products made by each machine, respectively, are defective. If a finished product is randomly selected, what is the probability that it is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320" y="76320"/>
            <a:ext cx="883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selected product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1800" y="2233440"/>
            <a:ext cx="5651280" cy="2273400"/>
            <a:chOff x="901800" y="2233440"/>
            <a:chExt cx="5651280" cy="2273400"/>
          </a:xfrm>
        </p:grpSpPr>
        <p:grpSp>
          <p:nvGrpSpPr>
            <p:cNvPr id="246" name=""/>
            <p:cNvGrpSpPr/>
            <p:nvPr/>
          </p:nvGrpSpPr>
          <p:grpSpPr>
            <a:xfrm>
              <a:off x="901800" y="2233440"/>
              <a:ext cx="5651280" cy="1538640"/>
              <a:chOff x="901800" y="2233440"/>
              <a:chExt cx="5651280" cy="1538640"/>
            </a:xfrm>
          </p:grpSpPr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914400" y="2233440"/>
                    <a:ext cx="5638680" cy="80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901800" y="2971800"/>
                    <a:ext cx="565128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708360"/>
                  <a:ext cx="563868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;    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  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14400" y="442116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5321160"/>
            <a:ext cx="75438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1 + 0.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4  + 0.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02      + 0.012       + 0.0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8920" y="198360"/>
            <a:ext cx="540540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320" y="2971800"/>
            <a:ext cx="8762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known that the selected product is defective, what is the probability that i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4278240"/>
            <a:ext cx="7427880" cy="1744560"/>
            <a:chOff x="76320" y="4278240"/>
            <a:chExt cx="7427880" cy="1744560"/>
          </a:xfrm>
        </p:grpSpPr>
        <p:grpSp>
          <p:nvGrpSpPr>
            <p:cNvPr id="255" name=""/>
            <p:cNvGrpSpPr/>
            <p:nvPr/>
          </p:nvGrpSpPr>
          <p:grpSpPr>
            <a:xfrm>
              <a:off x="685800" y="4278240"/>
              <a:ext cx="6818400" cy="903240"/>
              <a:chOff x="685800" y="4278240"/>
              <a:chExt cx="6818400" cy="903240"/>
            </a:xfrm>
          </p:grpSpPr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685800" y="4309920"/>
                    <a:ext cx="308448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829320" y="4278240"/>
                    <a:ext cx="367488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76320" y="519732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rule is called Bayes'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320" y="216000"/>
            <a:ext cx="88390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yes'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44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20800" y="1757520"/>
                <a:ext cx="6875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2743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 i =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5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3441600"/>
            <a:ext cx="7696080" cy="30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 Two event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rea= P(S)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 Venn diagrams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n event A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to the event 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tal area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240516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1046160"/>
            <a:ext cx="3276360" cy="2840040"/>
            <a:chOff x="5334120" y="1046160"/>
            <a:chExt cx="3276360" cy="2840040"/>
          </a:xfrm>
        </p:grpSpPr>
        <p:sp>
          <p:nvSpPr>
            <p:cNvPr id="48" name=""/>
            <p:cNvSpPr/>
            <p:nvPr/>
          </p:nvSpPr>
          <p:spPr>
            <a:xfrm>
              <a:off x="5334120" y="1046160"/>
              <a:ext cx="32763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area= P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410080" y="1122480"/>
              <a:ext cx="305712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291960"/>
            <a:ext cx="87627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2.38, if it is known that the selected product is defective, what is the probability that it is made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9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3048120"/>
            <a:ext cx="6173640" cy="2209680"/>
            <a:chOff x="762120" y="3048120"/>
            <a:chExt cx="6173640" cy="2209680"/>
          </a:xfrm>
        </p:grpSpPr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762120" y="3048120"/>
                  <a:ext cx="6173640" cy="11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2209680" y="4426200"/>
                  <a:ext cx="384840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44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/>
          <p:nvPr/>
        </p:nvSpPr>
        <p:spPr>
          <a:xfrm>
            <a:off x="21384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56272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73280" y="3906720"/>
                <a:ext cx="6149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71880" y="5022720"/>
                <a:ext cx="3924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14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320" y="380880"/>
            <a:ext cx="8534160" cy="3593880"/>
            <a:chOff x="76320" y="380880"/>
            <a:chExt cx="8534160" cy="3593880"/>
          </a:xfrm>
        </p:grpSpPr>
        <p:sp>
          <p:nvSpPr>
            <p:cNvPr id="278" name=""/>
            <p:cNvSpPr/>
            <p:nvPr/>
          </p:nvSpPr>
          <p:spPr>
            <a:xfrm>
              <a:off x="76320" y="380880"/>
              <a:ext cx="8534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0408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2449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71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609480" y="1338120"/>
                  <a:ext cx="2081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|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6320" y="2286000"/>
              <a:ext cx="853416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selected product was found defective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irst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60" y="1600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60" y="2286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Paula passes Mathematics is 2/3, and the probability that she passes English is 4/9. If the probability that she passes both courses is 1/4, what is the probability that sh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at least one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Mathematics and fail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 both cours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320" y="3263760"/>
            <a:ext cx="8762760" cy="2984760"/>
            <a:chOff x="76320" y="3263760"/>
            <a:chExt cx="8762760" cy="2984760"/>
          </a:xfrm>
        </p:grpSpPr>
        <p:sp>
          <p:nvSpPr>
            <p:cNvPr id="52" name=""/>
            <p:cNvSpPr/>
            <p:nvPr/>
          </p:nvSpPr>
          <p:spPr>
            <a:xfrm>
              <a:off x="76320" y="3263760"/>
              <a:ext cx="876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Mathematic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English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know that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2/3,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4/9, and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/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 of passing at least one cours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676520" y="5432400"/>
                  <a:ext cx="22096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6320" y="152280"/>
            <a:ext cx="8915400" cy="1614600"/>
            <a:chOff x="76320" y="152280"/>
            <a:chExt cx="8915400" cy="1614600"/>
          </a:xfrm>
        </p:grpSpPr>
        <p:sp>
          <p:nvSpPr>
            <p:cNvPr id="55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passing Mathematics and failing Englis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494000" y="1008000"/>
                  <a:ext cx="156672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76320" y="1752480"/>
            <a:ext cx="8762760" cy="1524240"/>
            <a:chOff x="76320" y="1752480"/>
            <a:chExt cx="8762760" cy="1524240"/>
          </a:xfrm>
        </p:grpSpPr>
        <p:sp>
          <p:nvSpPr>
            <p:cNvPr id="58" name=""/>
            <p:cNvSpPr/>
            <p:nvPr/>
          </p:nvSpPr>
          <p:spPr>
            <a:xfrm>
              <a:off x="76320" y="17524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c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failing both course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523880" y="2500200"/>
                  <a:ext cx="16765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76320" y="3324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complementary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483080"/>
            <a:ext cx="883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6 Conditional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probability of occurring an event A when it is known that some event B has occu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given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and is denoted P(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|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n the ev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fined b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90720" y="1447920"/>
                <a:ext cx="462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91320" y="762120"/>
            <a:ext cx="3200400" cy="2298600"/>
            <a:chOff x="5791320" y="762120"/>
            <a:chExt cx="3200400" cy="2298600"/>
          </a:xfrm>
        </p:grpSpPr>
        <p:sp>
          <p:nvSpPr>
            <p:cNvPr id="65" name=""/>
            <p:cNvSpPr/>
            <p:nvPr/>
          </p:nvSpPr>
          <p:spPr>
            <a:xfrm>
              <a:off x="5791320" y="762120"/>
              <a:ext cx="3200400" cy="229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Total area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918040" y="927000"/>
              <a:ext cx="292104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76320" y="22096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2514600"/>
                <a:ext cx="82296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∩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" y="4202280"/>
                <a:ext cx="2666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" name=""/>
          <p:cNvGrpSpPr/>
          <p:nvPr/>
        </p:nvGrpSpPr>
        <p:grpSpPr>
          <a:xfrm>
            <a:off x="228600" y="5027760"/>
            <a:ext cx="8915400" cy="839520"/>
            <a:chOff x="228600" y="5027760"/>
            <a:chExt cx="8915400" cy="8395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28600" y="5027760"/>
                  <a:ext cx="350532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∩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|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038480" y="510552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ultiplicative Rule=Theorem 2.1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3715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9 physicians are classified as given in the table below. A physician is to be selecte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probability that the selected physician is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– 49 given that the physician smokes occas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762120"/>
            <a:ext cx="9067320" cy="4800600"/>
            <a:chOff x="0" y="762120"/>
            <a:chExt cx="906732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7920" y="764640"/>
              <a:ext cx="9050040" cy="4794840"/>
              <a:chOff x="7920" y="764640"/>
              <a:chExt cx="9050040" cy="4794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920" y="764640"/>
                <a:ext cx="851760" cy="379080"/>
                <a:chOff x="7920" y="764640"/>
                <a:chExt cx="851760" cy="379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160" y="764640"/>
                  <a:ext cx="6109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20" y="764640"/>
                  <a:ext cx="8517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60040" y="764640"/>
                <a:ext cx="1999800" cy="379080"/>
                <a:chOff x="860040" y="764640"/>
                <a:chExt cx="1999800" cy="379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980280" y="764640"/>
                  <a:ext cx="175968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0040" y="764640"/>
                  <a:ext cx="19998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60560" y="764640"/>
                <a:ext cx="6197400" cy="379080"/>
                <a:chOff x="2860560" y="764640"/>
                <a:chExt cx="6197400" cy="3790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980800" y="764640"/>
                  <a:ext cx="59565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moking Hab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0560" y="764640"/>
                  <a:ext cx="61974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920" y="1143720"/>
                <a:ext cx="851760" cy="688680"/>
                <a:chOff x="7920" y="1143720"/>
                <a:chExt cx="851760" cy="688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8160" y="1143720"/>
                  <a:ext cx="610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920" y="1143720"/>
                  <a:ext cx="851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60040" y="1143720"/>
                <a:ext cx="1999800" cy="688680"/>
                <a:chOff x="860040" y="1143720"/>
                <a:chExt cx="1999800" cy="688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80280" y="1143720"/>
                  <a:ext cx="1759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60040" y="1143720"/>
                  <a:ext cx="1999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860560" y="1143720"/>
                <a:ext cx="1343520" cy="688680"/>
                <a:chOff x="2860560" y="1143720"/>
                <a:chExt cx="1343520" cy="688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80800" y="1143720"/>
                  <a:ext cx="110340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ai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056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204440" y="1143720"/>
                <a:ext cx="1994760" cy="688680"/>
                <a:chOff x="4204440" y="1143720"/>
                <a:chExt cx="1994760" cy="68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324680" y="1143720"/>
                  <a:ext cx="1753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ccasional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04440" y="1143720"/>
                  <a:ext cx="1994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199920" y="1143720"/>
                <a:ext cx="1513800" cy="688680"/>
                <a:chOff x="6199920" y="1143720"/>
                <a:chExt cx="1513800" cy="68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320160" y="1143720"/>
                  <a:ext cx="127296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t 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199920" y="1143720"/>
                  <a:ext cx="1513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714080" y="1143720"/>
                <a:ext cx="1343520" cy="688680"/>
                <a:chOff x="7714080" y="1143720"/>
                <a:chExt cx="1343520" cy="68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834320" y="1143720"/>
                  <a:ext cx="1102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1408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920" y="1832760"/>
                <a:ext cx="851760" cy="3321000"/>
                <a:chOff x="7920" y="1832760"/>
                <a:chExt cx="851760" cy="3321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28160" y="1832760"/>
                  <a:ext cx="610920" cy="33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920" y="1832760"/>
                  <a:ext cx="851760" cy="33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60040" y="1832760"/>
                <a:ext cx="1999800" cy="547200"/>
                <a:chOff x="860040" y="1832760"/>
                <a:chExt cx="1999800" cy="547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80280" y="1832760"/>
                  <a:ext cx="1759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 - 2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60040" y="1832760"/>
                  <a:ext cx="1999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860560" y="1832760"/>
                <a:ext cx="1343520" cy="547200"/>
                <a:chOff x="2860560" y="1832760"/>
                <a:chExt cx="1343520" cy="547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980800" y="1832760"/>
                  <a:ext cx="110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056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04440" y="1832760"/>
                <a:ext cx="1994760" cy="547200"/>
                <a:chOff x="4204440" y="1832760"/>
                <a:chExt cx="1994760" cy="5472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24680" y="1832760"/>
                  <a:ext cx="175392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04440" y="1832760"/>
                  <a:ext cx="19947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199920" y="1832760"/>
                <a:ext cx="1513800" cy="547200"/>
                <a:chOff x="6199920" y="1832760"/>
                <a:chExt cx="1513800" cy="54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320160" y="1832760"/>
                  <a:ext cx="1272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99920" y="1832760"/>
                  <a:ext cx="1513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714080" y="1832760"/>
                <a:ext cx="1343520" cy="547200"/>
                <a:chOff x="7714080" y="1832760"/>
                <a:chExt cx="1343520" cy="54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834320" y="1832760"/>
                  <a:ext cx="1102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1408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860040" y="2379960"/>
                <a:ext cx="1999800" cy="971640"/>
                <a:chOff x="860040" y="2379960"/>
                <a:chExt cx="1999800" cy="971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980280" y="237996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 - 3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60040" y="237996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860560" y="2379960"/>
                <a:ext cx="1343520" cy="971640"/>
                <a:chOff x="2860560" y="2379960"/>
                <a:chExt cx="1343520" cy="971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980800" y="237996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056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204440" y="2379960"/>
                <a:ext cx="1994760" cy="971640"/>
                <a:chOff x="4204440" y="2379960"/>
                <a:chExt cx="1994760" cy="971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24680" y="237996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04440" y="237996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99920" y="2379960"/>
                <a:ext cx="1513800" cy="971640"/>
                <a:chOff x="6199920" y="2379960"/>
                <a:chExt cx="1513800" cy="971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320160" y="237996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9920" y="237996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714080" y="2379960"/>
                <a:ext cx="1343520" cy="971640"/>
                <a:chOff x="7714080" y="2379960"/>
                <a:chExt cx="1343520" cy="971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34320" y="237996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71408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60040" y="3351600"/>
                <a:ext cx="1999800" cy="971640"/>
                <a:chOff x="860040" y="3351600"/>
                <a:chExt cx="1999800" cy="971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80280" y="335160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 - 4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60040" y="335160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860560" y="3351600"/>
                <a:ext cx="1343520" cy="971640"/>
                <a:chOff x="2860560" y="3351600"/>
                <a:chExt cx="1343520" cy="971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980800" y="335160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056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204440" y="3351600"/>
                <a:ext cx="1994760" cy="971640"/>
                <a:chOff x="4204440" y="3351600"/>
                <a:chExt cx="1994760" cy="971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324680" y="335160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04440" y="335160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9920" y="3351600"/>
                <a:ext cx="1513800" cy="971640"/>
                <a:chOff x="6199920" y="3351600"/>
                <a:chExt cx="1513800" cy="971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20160" y="335160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9920" y="335160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714080" y="3351600"/>
                <a:ext cx="1343520" cy="971640"/>
                <a:chOff x="7714080" y="3351600"/>
                <a:chExt cx="1343520" cy="971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834320" y="335160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1408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860040" y="4323600"/>
                <a:ext cx="1999800" cy="830160"/>
                <a:chOff x="860040" y="4323600"/>
                <a:chExt cx="1999800" cy="83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80280" y="4323600"/>
                  <a:ext cx="1759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+     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60040" y="4323600"/>
                  <a:ext cx="1999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60560" y="4323600"/>
                <a:ext cx="1343520" cy="830160"/>
                <a:chOff x="2860560" y="4323600"/>
                <a:chExt cx="1343520" cy="830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980800" y="4323600"/>
                  <a:ext cx="110340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056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204440" y="4323600"/>
                <a:ext cx="1994760" cy="830160"/>
                <a:chOff x="4204440" y="4323600"/>
                <a:chExt cx="1994760" cy="830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324680" y="4323600"/>
                  <a:ext cx="175392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04440" y="4323600"/>
                  <a:ext cx="199476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99920" y="4323600"/>
                <a:ext cx="1513800" cy="830160"/>
                <a:chOff x="6199920" y="4323600"/>
                <a:chExt cx="1513800" cy="830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320160" y="4323600"/>
                  <a:ext cx="127296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99920" y="4323600"/>
                  <a:ext cx="1513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714080" y="4323600"/>
                <a:ext cx="1343520" cy="830160"/>
                <a:chOff x="7714080" y="4323600"/>
                <a:chExt cx="1343520" cy="8301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834320" y="4323600"/>
                  <a:ext cx="1102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1408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920" y="5153760"/>
                <a:ext cx="851760" cy="405720"/>
                <a:chOff x="7920" y="5153760"/>
                <a:chExt cx="851760" cy="405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160" y="5153760"/>
                  <a:ext cx="610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920" y="5153760"/>
                  <a:ext cx="851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60040" y="5153760"/>
                <a:ext cx="1999800" cy="405720"/>
                <a:chOff x="860040" y="5153760"/>
                <a:chExt cx="1999800" cy="405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80280" y="5153760"/>
                  <a:ext cx="1759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0040" y="5153760"/>
                  <a:ext cx="1999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860560" y="5153760"/>
                <a:ext cx="1343520" cy="405720"/>
                <a:chOff x="2860560" y="5153760"/>
                <a:chExt cx="1343520" cy="405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980800" y="5153760"/>
                  <a:ext cx="1103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056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04440" y="5153760"/>
                <a:ext cx="1994760" cy="405720"/>
                <a:chOff x="4204440" y="5153760"/>
                <a:chExt cx="1994760" cy="40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324680" y="5153760"/>
                  <a:ext cx="175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04440" y="5153760"/>
                  <a:ext cx="1994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199920" y="5153760"/>
                <a:ext cx="1513800" cy="405720"/>
                <a:chOff x="6199920" y="5153760"/>
                <a:chExt cx="1513800" cy="405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320160" y="5153760"/>
                  <a:ext cx="1272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99920" y="5153760"/>
                  <a:ext cx="1513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714080" y="5153760"/>
                <a:ext cx="1343520" cy="405720"/>
                <a:chOff x="7714080" y="5153760"/>
                <a:chExt cx="1343520" cy="405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834320" y="5153760"/>
                  <a:ext cx="1102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3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1408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0" y="762120"/>
              <a:ext cx="906732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320" y="76320"/>
            <a:ext cx="85341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39   equally likely outc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320" y="2666880"/>
            <a:ext cx="8839080" cy="1287720"/>
            <a:chOff x="76320" y="2666880"/>
            <a:chExt cx="8839080" cy="1287720"/>
          </a:xfrm>
        </p:grpSpPr>
        <p:sp>
          <p:nvSpPr>
            <p:cNvPr id="187" name=""/>
            <p:cNvSpPr/>
            <p:nvPr/>
          </p:nvSpPr>
          <p:spPr>
            <a:xfrm>
              <a:off x="76320" y="266688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3121200"/>
                  <a:ext cx="37339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3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76320" y="3825720"/>
            <a:ext cx="8839080" cy="1279800"/>
            <a:chOff x="76320" y="3825720"/>
            <a:chExt cx="8839080" cy="1279800"/>
          </a:xfrm>
        </p:grpSpPr>
        <p:sp>
          <p:nvSpPr>
            <p:cNvPr id="190" name=""/>
            <p:cNvSpPr/>
            <p:nvPr/>
          </p:nvSpPr>
          <p:spPr>
            <a:xfrm>
              <a:off x="76320" y="382572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smokes occasionall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371600" y="4284720"/>
                  <a:ext cx="37339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7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76320" y="5029200"/>
            <a:ext cx="8839080" cy="1600200"/>
            <a:chOff x="76320" y="5029200"/>
            <a:chExt cx="8839080" cy="1600200"/>
          </a:xfrm>
        </p:grpSpPr>
        <p:sp>
          <p:nvSpPr>
            <p:cNvPr id="193" name=""/>
            <p:cNvSpPr/>
            <p:nvPr/>
          </p:nvSpPr>
          <p:spPr>
            <a:xfrm>
              <a:off x="76320" y="5029200"/>
              <a:ext cx="8839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okes occasion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371600" y="5794200"/>
                  <a:ext cx="52578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∩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19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320" y="457200"/>
            <a:ext cx="8915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given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an smokes occas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320" y="1447920"/>
            <a:ext cx="8762760" cy="2286000"/>
            <a:chOff x="76320" y="1447920"/>
            <a:chExt cx="8762760" cy="228600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2286000"/>
                  <a:ext cx="5334120" cy="8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619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7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1447920"/>
                  <a:ext cx="44960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>
              <a:off x="76320" y="304812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ii) We can use the restricted table direct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9920" y="2928960"/>
                  <a:ext cx="28191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76320" y="3903840"/>
            <a:ext cx="891540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35 &gt;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2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does not equal unconditional probability; i.e.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!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21:15:56Z</dcterms:created>
  <dc:creator> </dc:creator>
  <dc:description/>
  <dc:language>en-US</dc:language>
  <cp:lastModifiedBy> </cp:lastModifiedBy>
  <dcterms:modified xsi:type="dcterms:W3CDTF">2004-07-02T20:27:49Z</dcterms:modified>
  <cp:revision>6</cp:revision>
  <dc:subject/>
  <dc:title>PowerPoint Presentation</dc:title>
</cp:coreProperties>
</file>