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E92B-5DBA-4C14-86A3-7C45D1C745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ircase analysis estimates market potential, actual market, brand awareness, brand image, purchase rate, share of wallet, the repurchase rate, and the cross-buying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E073-48DE-48AE-81C1-4FD821CF6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dgeting has four defining inpu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fra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oca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cas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ectives</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63DA-B5F0-495B-A799-52C146F1D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69C0C-F2AF-42D2-AD81-E1F01B978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90115-3EB0-4AD1-BEC1-C198767762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72E25F-1E76-4AEF-93BD-D173CDB1C4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D4577E-4F4D-42DA-AB08-8C562E5AA3E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372695-8322-4D6A-9839-B11C5277EA7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1970E8-50F2-4829-8305-6537EDAFB2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F20C96-CDB8-4CD9-A6FA-AC48C016B7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132D55-0932-46D2-BDC0-21D2394E07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2B2E2A-890D-4350-81FF-A5FC1DAFE5F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5EF3AC5-D13D-4755-8CD4-A4E8E93FDDC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9D979CA-CA6D-4F09-83BD-2BB1E019E3A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30BC02C-9153-4411-AE92-05D8D77CE0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D6E69B-0185-4765-A1EA-653C51C5B2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E1C5FF8-DA20-4CDC-B7BD-420F4C7B64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E5FE84-E029-4A03-98B1-84FAAEB4A4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5A94CB-F470-483F-A645-F4F2C937D0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C3FB5E-18B6-40DF-AED4-643329D4D8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90309B-1345-470A-AACA-562E908B51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C3A41E-13E5-47DC-A86A-86637D9489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BD1F17-E13F-44BA-A298-25CEEDD5B3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7251E0-9174-48FA-A6FB-3EE5CF85D8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12235CA-0B84-4855-92FF-C3AA0E4F78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721790E-25BA-4F92-9E1F-362D8855622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F03D8-513F-49A6-A82E-D0F2B1639A4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5D7D740-580A-4A1C-BC33-94C4273D8A9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3B1113-9C94-4578-BDC2-FEC0843705F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FCE85F-7270-485E-9424-3B37C02CB1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D0E9C3-66D2-426A-B0B0-D5E2352028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358420-C9CE-4BAA-9577-BB0A08FA28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896FC79-976E-4610-8E81-5FA594BD34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CBDE9D-2CF1-43C7-91D0-34DDCCF6A9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94317E-6064-413D-8C57-3E4477CE7C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549830-D69E-45C1-8F8A-2A6CA67EEF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281A95-74FE-4368-B80F-6098DB34F9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310F86-BAAE-4350-B454-B999A3330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D26F9F1-BCCC-4AF9-A5C3-BBC0F53300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833F3EE-E11B-4A9B-B115-D39178901B8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2B0DAF1-2F66-4F89-9689-4F542D4C969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1953227-FE85-4B7F-8142-150AB9F6454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70866C2-4356-43A0-B14E-1B971CC96D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6CCB09F-D55B-4C6D-B13C-B0E9896E419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8FF90A7-F605-40F6-923F-96400BFFDE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513EEE-511B-408B-B552-94B5FB8533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607450A-152C-4C78-A2A6-A32B245DCBB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BD6331-B698-4762-944C-E6143FC8CF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C8E4A0-4224-4AB1-A0F5-138CF01AC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50D2EE-91BF-4DE4-B887-E4A9701EC3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747545-CBE1-4BE2-98F9-77A4D1B237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3AE968E-73DF-47EC-9139-BF92C92585E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BE03B08-48D7-46CB-BB04-5F64A2A69B8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1D65DD9-B57F-46DF-9A97-D36F14F3305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4FEFD95-F38F-467F-914A-E399DE72B96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AC95BAD-48C8-4A9E-89BF-D503DD259A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73212FB-AD50-42B9-B5A7-9C3E1EEC196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B75078B-16FA-4A5A-9D89-2695BF9E57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3471442-68FA-4F66-8E0D-C544E07F37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E763AE-C89A-4D95-83DF-696EB7841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48E2BF3-0D30-48CD-948B-ED3645D0078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8998FED-58F3-494C-A7BA-063E80CF38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54CC79A-BD1D-47F2-A765-20B49B8190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B219AE-DF88-400B-8F35-8D05708D67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C023E6-0FF3-4BB6-8B0D-6D950B9B79C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7A82126-6AE2-4CFC-A87F-FE40347299C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7041EEB-51CD-48FE-857E-A053E16550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5863E3B-88D5-4BB3-9FA3-369E6325421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92898FE-B4FF-46E2-82F8-4CC2E7BC4AE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B198992-11A1-411F-8AAC-DCAA6DA0DC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83B2DB-CC56-458E-9287-08158F35D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20FFA13-68B5-4682-876A-0D095A304C4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7746B6F-1A65-4629-8387-0367CB132B8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B308B0E-6E80-4D4D-BC86-27A77EBB46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F23484E-CD58-475E-B970-F81E7D3E7A8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8762C69-42C2-4322-A0C9-EC97C4D77B7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ABB9644-915F-4A21-B5BA-5D73F04D1B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D2E6C7-FAD4-4400-999D-9023DD0E0ED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966E892-E91D-407D-8E49-3DCCB4ADBE2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AD3C68C-215B-449D-9E1B-5316AB12106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93805C5-A092-4789-9A4D-36B733076F7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DD58B7-E485-41FD-AA99-506A26DD0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B1FD2C7-ABB4-454C-BDDF-E04C332397E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61DC5F9-0F29-4231-A1FF-C12160382A0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79FABF4-AEA1-42BA-95F7-CCEC8C80280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E394048-6300-455F-8246-03E2C4933EC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188D8C3-0433-4A72-B3C8-CB63BEBFDE5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9E9E1D8-C1E1-4C6E-9AD7-8636DF1D391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7924D63-DE60-480C-84C6-A14981D00E4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8FEA9F4-B094-4D72-9B5F-71510EF5370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00DCD8-A511-47AB-9F36-FB9741A753F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C2280EC-CF42-4C65-AA8D-2355C616BBE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049782-4845-41D6-AE9B-886E74440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8D4AD38-A4A0-44E0-A0F1-135CE08F066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0455994-53A9-45E8-838A-A99D0307281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84128C2-CAE6-4A5E-A9D0-965A7E3B8A9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D5D9413-881D-4066-898B-4E9AE01E866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7CAD4C6-0A99-4929-B26F-165CEE8B9F3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41AC0F1-FA9A-4093-8F1E-38B60FEABD9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5C1747B-9C63-44F3-8A62-13EC557C198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E8F262F-00CE-4A54-AA85-09B16C172E4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B95E004-208D-41CD-BAD9-00A07A44B2B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04CEFD0-2DB7-4B54-A646-BD564A62C22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66920D-2446-475D-B76F-A393CBEA9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179FA25-ADC0-47D9-B536-6124DFFC5BF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0F2C64B-71C3-4198-94AB-EB9ECB8600C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1FF0AC6-89D0-4ABA-B5C7-24D5157639B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5F732BB-B0BA-4CDE-B8B6-758EF602ED9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AD35639-E75E-4313-A295-771382A6F7B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C8E3B51-B7DC-4DB3-9EA1-B5627C01531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5713459-E67E-438D-A3D1-91E4B9953BD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B65C3E1-9484-4FA7-9F55-C4911D470EE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09A3886-F039-486E-BB9A-621AB19642C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0734817-2368-4A7E-A71F-91FE194F000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4407-5764-43C6-AD70-D41E006BCA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922903-7668-4190-8D28-1C12E40B6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F784AC0-F453-4B52-8CC8-A8D467EB37F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C102008-6817-4B70-B075-E3C53539495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B430157-E6B1-4D62-B5A6-80A6A8F6FE5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8862FF9-838F-437F-A6BD-725BC0E6D81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CBEDBB9-C3E1-4E08-A039-430A359372E9}"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5042304-3FD8-4BD8-A253-3B68FC2C096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115D623-C350-4B3B-AF2F-087A4EEC524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7B06B24-3662-4F38-B378-34F8C052BB1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6DC0C7C-5BBC-4368-B5A4-9DDE8646F66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1B992318-BCC0-4F60-AD6A-A8A96251EF5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83B1D2-F27A-4511-9304-27068691B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5E300B9-92BF-4F22-8D8A-F6DBC47E147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32D8683-B269-4B00-9222-5DA93685F96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950EE6F-71DD-4E63-8956-CC17E4733FC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C52AB58-1575-4526-BE0B-F07FCDAEBF4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8ECF61D-2177-4B66-BE8C-AE7093E28F9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DFA15D68-CA08-4804-AF0F-E0DCC98A3FA4}"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7AD6F0F-C487-4224-B38E-B1716969F5C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6765630-E067-4ABD-A212-8EB34628DDD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AE14508-EC49-4A8C-A77B-FC0C5D4413D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83FF640-15AF-4927-B2C2-BCB3F45AFC3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20A880-205B-42DF-BB5D-D59B5C2F5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250CED4-BFAF-4A31-AF3F-CEAFD287EA9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586BD0A-4917-4845-9FC0-CF3B32D74E7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FF389FA-0357-45DE-891A-1FF4E84EE53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4023B25-B77A-4FC3-B2EF-6BA434DB1CD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5141C81-50DE-480C-A588-E66624D0EF3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AAA93A6-5AFF-4A83-9EA2-82B552AC242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3C2CD2F-5942-44DE-9CFA-550F218784B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B91A9A8-71FD-4EF0-B1DB-BC4B7C48C2A6}"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A910466-E2A0-47E1-8613-AF77B0858CA5}"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9BD9943-0254-4886-9061-1865A0F67754}"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4AFE14-7DEE-4325-8684-19BB6E5933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4C11714-E9AE-4FAC-BB07-559BC08D7BB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EF7E0D1-33F6-4F40-B13A-F3AD1A112C0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C353A05-2960-47FE-B73A-2C8944E0538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5A07D7A-2A28-4E7D-881D-39C3090FECE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2F28BC6-8632-43FE-BCDD-4DBA6C0D5C9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C2AA657-334F-458D-86D9-61E328632F5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7291B0C-E99F-43C9-9DE0-88DC1B50579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EC47532-D28E-450A-A6D1-B5DAD3F6057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29CDDE6-7CB7-4D3B-AAB0-D083EB44406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8436BD35-7FF5-48CD-89EA-096829C42E84}"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5A9CBD-E0F1-43A0-A4D6-D7B6812316D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6375D65-67BC-41B0-B37E-A1C7B902F1F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C1EF435E-8B50-47C5-84B0-9EEC7D371BBC}"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AC0D3F6-6D8F-41D1-A8A8-8E4B951070C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09A070D-C851-4407-B863-E1A08E77C1D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A68B6A3-C0D9-4798-9C11-25FD7AC86E4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9D286B3-3E66-4E6E-ABC6-265AE40E3B2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2C6187A-78F6-4B32-9EE7-38661080CF2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E8D04BE-1600-44A4-BCC2-DF32CBD01C1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401ED35-C691-4D50-BA2E-8E6DB7B82EF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D7837DA-5583-4F21-8995-D0D78FD9F06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9C09DA9-D522-4FF2-9ABC-6982AA2A6F9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03877B34-BFAC-4434-A2E8-0AC3505B77C6}"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745EE66-8C01-4BF6-A835-B18969A70E1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154D6D9-C3C0-4881-AAA0-FA9B35B618A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E1D41D1-456F-414B-A7E3-3F8F9471A86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BC78613-F550-411A-934A-1C71D62E492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E4665B2-9D0B-4816-B19B-A0DE932A645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CCCD0C6-9C48-44CE-B715-BD5CD2DF0ED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FBCFD9E-36C5-4DFD-B657-1C0359EA5AC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E0BF728-515D-4666-968D-BAA9694F984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3C14342-38E1-4F9D-84BA-AF007C7B1DB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6181841-2AED-4F2D-847B-2FC231BD318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308A30B-D74B-435B-9FAA-C9501D91AB1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AE8731D-DA04-4F15-9216-5ADE4B73099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BC0BAF8B-7D21-4FB2-9CFA-3A4D3EE6660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8264F243-FE88-4B31-BFFD-CFDAFD4F173A}"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DC19238-1125-447E-B2DF-208EDC9F6F1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D044B8E-1035-4089-B355-5E93D62BA84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AECDC07-3060-4E3E-BDF7-69F2D0E9959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1834877-69C4-4248-AAFB-E711E095C3D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7B54717-7D27-4EB1-8AD9-24F28133BBC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1182ED5-498A-4F5B-91D1-FF3A961C35E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F69B08F-479F-453D-AD7B-2D741EDEAD7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72DE08B-36D9-4A4B-AFC5-30C8C261CCC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C3C9904-A067-482C-AA0D-35FF7384CA0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E9A4966-3D7C-454E-BFDA-702F9BF8C713}"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41D4DF7-48FE-44B3-97E0-8FEA1ECAD39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2E57334-BDAB-478D-9E88-9358ABBAB71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F5077C0-7114-4C00-BA25-1F7C535F6A2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ADB08FE-4413-45B5-8845-F84A943FE00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2D38E96-1BE1-42B5-A518-6A4FBAC1F16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EEE138E-3435-4A4A-8025-A000109D005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8DA62C8-A117-4090-8972-7CB2D57E74F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0238998-100A-48B6-BC31-48782EA7AC6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A4EB8FF-40D1-4520-AC01-9E8156835B3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FD7BFCB-9FB9-485C-A825-58AA0FA1C52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A8F38C2-5DA4-43A9-A45C-8D21DDA84AC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C5CB482-4B46-4092-86AC-637132A0D69F}"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C5B4BA8F-4BD2-4C81-A74C-0D5841D9E36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E0079-7870-4225-B945-85259F2541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3D89D8-11E4-4F3F-B818-0A8E4A4942F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634B577-3258-4F96-A24E-A741D8BD9F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B5E51AA-7EB1-4E80-8925-4309802D9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9EA9F-257E-4C28-883F-4E940469AE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4A8572F-2281-4AE0-80A8-A8A8B1BE4C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9144770-5A83-498D-9072-600D66001F4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781E599-3F22-4D64-BD68-2E8F925B09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99BB395-E9BF-4E6E-809C-F93BC7ACCEF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F609CF8-55D9-4F19-BA46-2752FB1291D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61D77F9-13D1-4E7C-AB4F-566F3B0827C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9667A8C-812B-465E-8646-58A1337A7DA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87767C16-8714-49D2-9295-E2592721E3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27DE2ED-2858-4EA2-ABB9-D636C56B42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983D85-9E43-46B3-8CCC-B1F40FD71F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0B97B-A28D-4162-A180-99AEDBC737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980661-03F4-402F-8E21-C31B218732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21D991-9F81-45B8-972D-61AB984CBA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90920C-47BF-4C03-A0BC-B4DF836A2D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67EFEB-F050-4974-B072-0ED5FF2F66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FBC572-133D-4CAC-BBFC-3E6D07F1CE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A5F461-3D44-41F4-81E3-A36D8E2076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DC1140-1FC1-4D06-B161-BE6A15EE8B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1CE0EC-2BC2-4203-892F-D09FA3E6E1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73F1D7-39FA-42A4-928A-A13C832142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33E591-F08C-4CCA-93D5-7AF67E9759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811F18-CE9C-4422-88E9-FC2689A60C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A178E1-54E5-42FA-83D4-6B4188A002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F6894F-2CCC-4C7B-B1AF-6C079ABC65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5A3B2B-2ED8-4B92-8723-2894FB802C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43BB77-FCF4-4537-B72E-30A10D5588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921B21-DFCF-42D8-B1BE-9264B4D27E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596580-C2C3-40B1-AE65-F499C7E11D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05FE3B-F218-4009-8E66-90E4230B89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3AFA04-83F8-4663-84AD-E2290B58A4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C6C7C5-F164-4114-9FB1-6D14F5EFFB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8087D1-153D-4E26-8DD5-FE9F26F06E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3DC84-FFDA-4025-9699-95DB14402E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7BF511-53B6-4014-8620-C195454256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8115B2-A7F9-4010-B338-5EF8D56217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5C3862B-6E62-408A-A5B8-2526EE8ECD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96702F-C665-4BAD-832C-C66D14D4AA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DB04CA-912C-41AB-B02C-1A21DFA82D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5A5126-9C84-4269-8031-59E742DFE9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980632-336E-4558-83E5-5AF17C2269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36BEA6-7280-4FA6-9E0F-08CA5E6A0E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C83196-16C4-4EDB-AC15-AC08B07207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45AFAA-069C-4C51-B2B3-91F2AB289B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C8BFF-AC4B-4518-B925-5358460402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F3B486-638D-4C02-B006-E1ECEBCE81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0CC727-52BB-4B4C-84C0-71B682880A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B95DDA-A13C-4120-8540-D92261F697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410E6AD-9A04-45E9-8AFB-47BE21116F6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BE72689-B974-4007-933F-10E071EBBDD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5884F4B-EEE4-4C4E-B3A2-38A482E5A57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0ADB8E-7D02-4D9C-84DB-63CDD48019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0467265-0A4C-4348-8E36-21025CDC08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231B69-E9EF-4041-AD08-57BFDCDC83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DA3B79-FB98-4E77-97F3-88029566C3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D29E3-500B-4627-BFCC-9E0507C39B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CCC387-B4A9-450F-BF49-FDD331072E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3356D8-7012-4AA0-8D0E-C3467E2828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7292AB-B8D0-4049-B0FC-7A6649AD7E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F84D8B-B55B-4B33-B753-BE9B294CC1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1D6503-D2CA-4936-9C32-8FC0CE31AA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FCE6810-2233-48E9-A9FB-397CFA72D77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DD35081-8C5C-48E6-A36E-3D5494FEEA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E472408-1E5F-420A-B024-C9492418DE1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6460C14-C32A-4DD6-8133-3193F30797E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F97B7F2-9037-4053-AAC9-4998CB5447F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C57B-09D5-4BF8-9C0B-10E78E43E75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0510-A523-42C3-A6CB-8B3209985F4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8D03-C9F0-4235-8BC4-86468C2FD4E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DFC9-38A8-4B7B-B9F5-37603B384C0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BF04-6414-4306-A38F-7F0DC732AAD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4422-F506-4175-AD3A-62E182E90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4C01-B49A-44D3-B512-DD17871F4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C782-6E8A-4922-84DC-C8D747C55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BEEB-0F84-486D-82DC-5A2C73983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91D5-CB5A-4806-8C6A-4BBEFCC8D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2F90-A8BC-42FA-9CBC-AFD677787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BAE8-D43C-4EAF-B51B-F28022E08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465C-42A9-4C4D-A26A-6645C8EF1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CBA0-C994-4481-B027-70A33BD93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4392-164A-4A78-957E-B148D74CF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3B79-B9A0-4EE8-A2E8-3E1705ECD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EDBD-7B92-4F20-9BE7-D2C85397E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23AA-6473-459E-9195-60261DCE64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3572-892A-4EE3-9FBF-C4DBD426273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1F33-670E-4C0B-B774-AE87A635DC1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466C-C9B0-4D2B-875B-859BBA26795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AFBC-14F5-429B-B95B-798CD8C785E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F2DE-1711-44D1-91F6-2E5599BC027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6</a:t>
            </a:r>
            <a:br>
              <a:rPr sz="3400"/>
            </a:br>
            <a:r>
              <a:rPr b="0" lang="en-US" sz="3400" spc="-1" strike="noStrike">
                <a:solidFill>
                  <a:srgbClr val="000000"/>
                </a:solidFill>
                <a:latin typeface="Calibri"/>
              </a:rPr>
              <a:t>Planning, Assessment</a:t>
            </a:r>
            <a:br>
              <a:rPr sz="3400"/>
            </a:br>
            <a:r>
              <a:rPr b="0" lang="en-US" sz="3400" spc="-1" strike="noStrike">
                <a:solidFill>
                  <a:srgbClr val="000000"/>
                </a:solidFill>
                <a:latin typeface="Calibri"/>
              </a:rPr>
              <a:t>and Adjust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3 - Typical Financial and Operating</a:t>
            </a:r>
            <a:br>
              <a:rPr sz="3400"/>
            </a:br>
            <a:r>
              <a:rPr b="0" lang="en-US" sz="3400" spc="-1" strike="noStrike">
                <a:solidFill>
                  <a:srgbClr val="000000"/>
                </a:solidFill>
                <a:latin typeface="Calibri"/>
              </a:rPr>
              <a:t>Metric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9DA6-DAD2-4784-8B73-D16A9F007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090.PNG"/>
          <p:cNvPicPr/>
          <p:nvPr/>
        </p:nvPicPr>
        <p:blipFill>
          <a:blip r:embed="rId1"/>
          <a:stretch/>
        </p:blipFill>
        <p:spPr>
          <a:xfrm>
            <a:off x="1981080" y="1571760"/>
            <a:ext cx="514368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3 - Why Loyal Customers Are More Profitab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97D6-B849-4454-A67C-EB2893395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gade.PNG"/>
          <p:cNvPicPr/>
          <p:nvPr/>
        </p:nvPicPr>
        <p:blipFill>
          <a:blip r:embed="rId1"/>
          <a:stretch/>
        </p:blipFill>
        <p:spPr>
          <a:xfrm>
            <a:off x="1219320" y="1522440"/>
            <a:ext cx="7010280" cy="495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9" name="Picture 4" descr="cid:3287383400_2177562"/>
          <p:cNvPicPr/>
          <p:nvPr/>
        </p:nvPicPr>
        <p:blipFill>
          <a:blip r:embed="rId1"/>
          <a:stretch/>
        </p:blipFill>
        <p:spPr>
          <a:xfrm>
            <a:off x="533520" y="685800"/>
            <a:ext cx="8118360" cy="2647800"/>
          </a:xfrm>
          <a:prstGeom prst="rect">
            <a:avLst/>
          </a:prstGeom>
          <a:ln w="0">
            <a:noFill/>
          </a:ln>
        </p:spPr>
      </p:pic>
      <p:sp>
        <p:nvSpPr>
          <p:cNvPr id="1030"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1"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1 - Generic Marketing Plan Outline</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4FD1-076F-4A91-AC92-A26E3EE86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PNG"/>
          <p:cNvPicPr/>
          <p:nvPr/>
        </p:nvPicPr>
        <p:blipFill>
          <a:blip r:embed="rId1"/>
          <a:stretch/>
        </p:blipFill>
        <p:spPr>
          <a:xfrm>
            <a:off x="3009960" y="1523880"/>
            <a:ext cx="25527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isk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ing manager should identify risks and develop contingency plans while working on the marketing pla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not simple risk minimization or risk avoidanc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evaluating risk and choosing which risks to accept and which to avoi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63F3-44BA-4B76-B8B8-6626BE747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1 - Impact/Likelihood Matrix</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3580-844F-4B24-9A23-58205487A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tyuiop.PNG"/>
          <p:cNvPicPr/>
          <p:nvPr/>
        </p:nvPicPr>
        <p:blipFill>
          <a:blip r:embed="rId1"/>
          <a:stretch/>
        </p:blipFill>
        <p:spPr>
          <a:xfrm>
            <a:off x="914400" y="1600200"/>
            <a:ext cx="7196040" cy="49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recast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ecasts, objectives, and budgets are interdependent but they must be done concurrently and interactive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im is to optimize the budget and the commitment of resources to maximize expected (forecast) and desired outcomes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C254-5BC0-45B0-A176-0187151ED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2 - Example of Staircase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0A3C-B836-4443-AC92-9DC801B2B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as.PNG"/>
          <p:cNvPicPr/>
          <p:nvPr/>
        </p:nvPicPr>
        <p:blipFill>
          <a:blip r:embed="rId1"/>
          <a:stretch/>
        </p:blipFill>
        <p:spPr>
          <a:xfrm>
            <a:off x="685800" y="1657440"/>
            <a:ext cx="769608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udget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udget specifies the money to be spent by area and allocates scarce financial resources across activ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ing on those forecasts, the objectives and budgets can be reformulated or the mix can be adjust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dgeting is interactive with planning and forecasting; like a hydraulic system, raising levels in one will change the constraints and outcomes of the oth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C071-E6F5-4BBA-8DEA-A126AB31A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2 - Basic Marketing Budget Component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92A6-1CC9-4113-866F-6B391D5C5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gad.PNG"/>
          <p:cNvPicPr/>
          <p:nvPr/>
        </p:nvPicPr>
        <p:blipFill>
          <a:blip r:embed="rId1"/>
          <a:stretch/>
        </p:blipFill>
        <p:spPr>
          <a:xfrm>
            <a:off x="2819520" y="1600200"/>
            <a:ext cx="32860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Specific Objectiv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liminary objectives are developed based on the corporate mission and vision and on the strateg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hould be “SMART”—Specific, Measureable, Achievable, Relevant, and Time-specific</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distinct sorts of objectives are useful and common in developing marketing strategie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bjec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r profit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6BBF-9B7B-4F17-8094-320A8EC1B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8:27:34Z</dcterms:modified>
  <cp:revision>943</cp:revision>
  <dc:subject/>
  <dc:title>Slide 1</dc:title>
</cp:coreProperties>
</file>