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3FAE-AEB8-4D53-B907-F6D0B55D0E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ircase analysis estimates market potential, actual market, brand awareness, brand image, purchase rate, share of wallet, the repurchase rate, and the cross-buying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2520-A918-442D-A14D-B029D75DF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dgeting has four defining inpu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fra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oca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cas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ectives</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5705-7DBF-4BDC-BA9C-4563F5E39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3CFB4-0709-429F-90E8-4F1931B48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53027-B1C5-4F56-B29D-93BFC26F128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79C9E7-0E78-4B28-BC65-6DAE185B2F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0D9D6C-9740-4A84-B99C-594FCDF0B4C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43388E-3503-4D42-ADD0-85640F05B4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D7FCDC-DE47-4547-8CD0-9A33518470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15E5604-D994-42AD-9490-ACE0D14F6A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04A39D-EF7C-4BDB-90D6-482557FCEF7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C066F7-49C3-42A5-B2E9-C27AE89599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DC0F28-E667-4BCC-9844-E5A8B2F8315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24694FC-E82C-419B-B852-04B2CFBBB2F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009C59B-4509-4FB0-BCAD-6140C4BE2DB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885554-CB5C-40E5-9D57-6E6E4E84153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9FD5F7-8511-4E74-8452-7581492407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436362-EE62-48C4-8FC0-C43EF86B447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EE8DB3-4750-4C2B-A584-81CEBF11F3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B6676E9-F3C5-4859-9092-EA93C149C6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8F43927-36A2-42EF-AF01-3F91613DB4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4ED9EA-8B45-4B3F-AB62-A518C288A9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973BE0-434A-499A-9816-602C658D37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2145E8-D9B3-40ED-9EE8-A6682F7EC2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7C90221-5936-4BB7-9CC1-5F45F03BAF3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C2E60D-379C-409C-9847-8E9CAD2A880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1B9D5-F787-4870-9AED-F42BDF9D595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1DA83B3-B5F9-4892-AFE2-EBE74EDA31E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01D7915-47C2-4BBB-A613-A1140923275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7C09ED-F925-463C-B43B-914F9C7B2F9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38DEE18-F8E6-4D1B-BAC0-9FA42016220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77AEDA1-D3AA-4A52-819B-902448C3DD2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0F86E2B-739A-4170-BABC-136415A2BC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84889F-9B18-41EE-9E5F-40DD011B23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6E682CD-6DF3-435C-B0AF-99F646FF0C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D6132E3-A67F-4420-9B9D-7EC1E2A87B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1E9E21-D766-4B99-A93F-80A6BDDEC6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2F3B53-5481-4476-9ECE-EBC9879C8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FE751F-6684-4639-812F-201CD8F384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F50B7D5-51DF-473C-97E1-81C7E2A6B39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741A886-9E32-468A-ADBB-80849E14E6B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329827D-B7DD-4F94-ADA9-BBED907C68C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A3BB398-4265-4845-A31E-BCD3F620450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59C7FB2-C80D-4BC7-BD6D-DEDD56706A6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A2F040E-B358-463E-9A0F-6A6515EE9A7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4618EAA-5904-4AA1-8541-D78D54AA80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596A622-E40E-48B8-92A0-8974795B98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17B8AF-B593-4479-9E4C-9B73DE6151B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9DAD3E-E14D-48A7-B5F0-9D6065D89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81CA6C-C4D1-41A6-AD5E-E4306045A9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6EA17E-2A70-4B2A-AD20-DD6CB6F09E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82E1D1E-B44F-41B9-B51E-92472073E3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601E1D-C331-4AB8-9C5B-F31A3A4ECAC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61F022-62BC-4BF5-BE95-2B446C5E366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4DCBB75-0013-444E-A412-F4217539896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8E51283-0DF6-4559-8D05-7770C599241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32E7FB7-C7AD-4753-928A-60A2A75AC2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693907-ED4F-4DC4-9FA2-CE9DE7C2D0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F0A33EE-6D1A-48A5-AA55-E599A7F1DC7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F65085-C498-4349-914F-B0F7A87A1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89FCA53-0771-4033-822D-8DD6DBF41C9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72A5058-1FA2-4253-80A2-3F1BBF37321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D180128-F824-47F9-9AA1-FEB94C837F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33BBDE-95B7-481A-879C-DC4172AF56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8FD1B5-1082-4F42-AF95-0A1150B11C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04CBF6F-9447-4298-A3DF-2BA22F99324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8325D2-806B-4689-890C-7F240DBB2A4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608D853-F418-48EA-8BE3-A119E0C2194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2664D16-2B46-4C0D-8827-145149A429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08B4D9A-3BD4-4ED2-A237-7C4563496A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AF59A2-BAC1-4D45-BCBD-DE8851FAE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2677418-8A4E-4A98-AA12-CEE0DCBD125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DA29BAD-EE9E-4DC8-BBD6-F1ECC2CD1BC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097E6C-3A0E-40AA-966B-BCE259CFF04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7968F47-CFDC-4893-ABED-DFE8FF9B597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547FB97-B9CF-4D8D-8406-DD514284256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05ECCF2-F8AE-4E64-A1E4-3B8015C4A9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85A8F98-AAEC-4462-9CE0-2556818F3EC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7805713-81CF-481D-AF14-7696C251F6E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79A1C35-7B9B-43AA-BCCC-1787FC8D133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9932636B-F788-43CF-B660-A20B40B28D5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81E96E-7FB8-460D-A1DA-B1771A4C6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61E8A19-24EE-4148-8A17-645489AACE6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B45D387-9578-4015-BA72-4CBB8C60422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40D9740-547B-48C2-B2F7-A9F1EADC408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A9D47F5-A342-485E-8F31-A760504A6E0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3A8400A-50E1-4AF3-8224-9AF031D8EF2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E6E01C-EBDE-4638-B8D9-9398EB2C17A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703E8B2-F4F6-4D3C-ACB3-FCD7D828802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5FC8910-77F5-4E86-84BD-36F4D8728FB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817C1E8-DDF3-4FC9-8ABB-CFAD8867D10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6634AA6-BF67-4FA7-82F9-F650966B1A2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2C68D5-4C37-4631-AB23-A8C5BEB13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1BAD125-99CE-48ED-A89A-CF67E9016137}"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0D4093B-3A92-4821-A611-1DD27F8382E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BBF672E-7BCF-4A85-9641-64E5304C7A6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69B5AD0-65AF-4183-9F4A-EEA1296DF7B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CF5D2D3-8D98-427C-B80F-F68ACA6A296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530DB78-6DEC-45A0-BAF8-E1D1E214E5F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1E5BF6C-392F-4394-9292-9A1A70A80FA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75F95F4-C88D-42B8-801F-042EC8F694D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FF67BA8-0CAE-4C0F-AE1D-A9B9B606DEB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0470255-47C4-49DF-90F3-35DA7829744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D12698-631E-44A6-818B-F050060C43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5BD888B-CDBA-43E4-848F-61B4B94AC1C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4712747-B050-43A7-8BAD-9A0838FBC01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DD46FFF-BE97-40A8-A2F7-040688DEF67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AF594EEE-50BF-47F1-95C7-C699CCD20C6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5E861E3-D504-49EF-97C3-1091C8705EC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12348FD-6389-434C-8ED3-0835F3B2576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8692247-46AD-4D6E-9400-19B31364ED2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E4A89C5-497D-4EC0-B878-D5923A1FF0D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7304679-BFD9-4445-869C-32DA749E1F67}"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2939A31-EB56-4F3E-8FD9-138A6D551DA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9C53-A4F3-4D3F-BBFE-72E3A287A8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9724E3-93B4-44C7-8551-CBBE7A5F5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7A1BB14-8E2C-4731-8F1D-C67EC58E66F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9BD1520-F509-4806-BD20-B088E26BA51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E0B0230-769C-4A35-955C-FE4E1689CB8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C213A55-0C93-459F-9F9E-93AF3C4FC94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2B2680A4-55AC-49FA-BCC2-FAD0E91D51C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28936FB-41F6-4D23-9C16-EEF1FB1ED90C}"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C020517-26A4-4054-A0B6-442C1FDB6AF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D7C6D0E-6D05-4211-9528-6DC3B6C3A9D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893B6CE7-BE9D-49CC-893D-92D5A1B6FC6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FDF3340-7C4D-42E5-950C-6C846CD7DFD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5B9123-6F73-4A23-90E4-3AAFD06E6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C3ADD50-F481-4180-A71B-8F7C21AF8B2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A37CF84-CFEC-49FC-B872-00FD1A71290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EEC3169-4656-478B-9E20-2C5A8692DB3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9C588A7-2D44-493A-8F78-5994193CFAD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956EF26-97E5-44CA-8612-28E0EDCE901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35BE87DB-5EB6-4C2B-92E5-8EBD10B9E81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0410803-14E4-49C4-9042-871370EDDB5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5CAD3C4-876B-45D3-95EE-8EE53887931C}"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2FEAD79-81ED-44F3-A8CA-66518ED452A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9157ECB-CBA4-4903-B104-AE3D46AB566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56B570-0A45-497E-B751-D230F37D4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72D6E18-ABFC-4329-99B5-7F2AF991A96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8D795DE-674E-4B10-9521-5FBA027133C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3E593C1-34A2-48B1-8256-1371405C1CA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D10683B-BB26-4BB5-85B9-3588A089393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825BCA8-4EE5-41A8-8CAD-1AFCDF1951B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B3CBB57-2EE1-4BE6-9F91-A38FC532FC4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AE8AAA7-2B39-47F8-B142-C04A1C23C0AA}"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030AA282-6902-4FDD-A696-08CFDA7DE24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211E31AB-6353-4ADF-AC7E-234A2E32FB8D}"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F05F1FA-C3B8-465C-ADAA-F954C96C7BE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4286C1-7EFA-47DF-9755-B95E931200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5C7224F-59DB-48EA-8A0C-F2FA7AA8AC1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673F111-E0A5-40C4-94D5-0BC5B3ABA03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22F1D1E-BE5C-4B7B-A28F-AE8E002D8E0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37FCD32-68DE-415D-8548-B05E406EC71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6716456-C9A9-4AEF-8D17-0833A4B7259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C48E991-9E72-43F5-849B-2BC3882C26C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EE7BE79-EDD7-40B0-A043-48EA106C326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F2EF3C3-A8DE-4E7B-8E35-C5206C7FA1D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53F283F-C389-4B52-8E8B-2C5B5CC3E74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F18E528-308F-439E-B11A-7288C0637FA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3F3A1A-A3D7-4A96-9423-4E37B72B64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A18A64B8-F572-4427-9915-F4EB3094C90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C10266F-B76F-4F4E-A526-0E2299E4CC1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1534956-05C9-4FAA-A9FE-13B7DCC14B9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9AF5BD7-D051-4270-9357-D0CE617C1A0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49EA255-DDFA-4C64-945B-5B15A261B94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35EDC35-0B5C-4C81-A0FA-C6E5C8B9541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FD814EA-2479-4C0A-9707-E12E80118EA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EBE1976-272B-4B3A-B927-FCA61D46B19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22A35A4-D678-4141-83DB-97D1225CEFD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E8B6695-7985-4B91-B09E-1016DAECF11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18BC27E-C1A4-4DB9-9495-791E01DE8D3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31D27F2-0F67-4051-B700-FECDFF713931}"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ED5A3F6-3464-4EDB-A6D6-251853D9561A}"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5BD499CE-6E72-4DE9-8092-398EB9F07A4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8AB5AEF-662C-421A-AFA2-88E14C447D0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238BEF1-5651-4C82-980E-2B8E67B754F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7458FEB-7723-430F-B9FB-B71701C21E0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69D38A7-1E4F-4A95-A065-4315A3CA8A6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8216611-CDE9-4990-813D-D717B76608A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9767FD9-8AFA-402C-B57B-0432178AF7D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24AEB96-52F5-4B4A-915B-76350DA5B56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BA98B69-E2F7-4787-A21E-F47F6CB078D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DABCCF5-6361-46C0-8FF5-9CA91850AD3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98A8F768-A0A3-4EFC-A159-58A479AD20A7}"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E9E7238E-D5D0-49F0-AE06-E926115BFD4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DC65E287-9ACC-4EDD-A1FF-8A057E4CC654}"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97C2607-6631-44D8-B5BB-834EA1495BF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74D202C-23E2-4B63-B333-E4D83ADC291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722EFA2-56FF-4FA6-A397-56AC9532B9E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EF03F3C-2377-42C9-B53A-08E4AFB8D18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51E73B8-480D-49B9-AC23-23C0E00E920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027A823-ACA7-477E-8532-D64D579D935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BE77287-3E65-4A3F-B7C2-ED3D15A46AF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2205B08-1F09-4E22-B729-CE642F9627E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B1E1C48-7150-4B9D-8070-9320E127F47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CD00B20-391E-4F2F-AC48-F280B8B7C68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D1290BB-A8F4-47EB-8AD6-20894532565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5639791A-4DE7-4928-920B-0CE43E79AF28}"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8D155C81-8013-4552-B0BD-DA64682B6B4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DCEB5B1-59F4-4436-BF64-50BD432B10B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8795E14-2E84-48AD-A8F3-AF056A9D7F3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96E0B24-8DAE-4F91-B375-D4DE1889080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70E0E0B-B5BD-4830-BA08-5B4C3FD959E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C3F30D1-C794-46CF-8678-6CB5CFBB39B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9478680-6760-46E1-98D5-E84A0164880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A690EA4-E67B-4AA9-9520-F8ABF21D909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A590FDC-7BFA-446C-B1C5-516BC776BEB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81E37355-BBE4-4B7A-B282-A5B6E71C81F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ADDCC339-5C89-482F-81EE-1A1A3C2FF8A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6694-AB04-4488-A0E1-5A5A107001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EAB1670-3C94-4134-97F2-B0488FF820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711DD01-E7FE-4CBB-B4C8-48279FF3941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4898FA4-2AD9-43AA-954B-142D82CB4A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1C4E1F-0C75-48F8-9922-CE2A042EBC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F284A5C-4388-4D52-ADC3-FB2AF94F70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D57F830-8171-4209-B08E-C6F624A35C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C2FCC99-939F-4BB9-9AB1-C82DDD06E7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1742F28-01EF-4DF2-B32F-63BFA5182F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A2784E3-A1EC-4D00-BF1E-B3ECD44C7EC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7B3645D-10C4-4898-B917-DD8C0BF0F25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C91F68D-DC7D-4495-88DF-9E5E225BA1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D5CE0D94-65D5-4D68-A07B-9FFF35AAA84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5F7A1A4-1342-4BB3-938D-13DBCD8EC80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9F5AFD5-65AE-45E4-AFE9-B05F63513A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45CF91-FEE7-4A61-B94E-561217FFA3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68FBBF-DCFC-4595-B91A-898BDC1978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F0147E-334E-42AC-AF1C-6AF4E38EDA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E45412-F5E5-4675-8142-20D8A9A035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A19693-ED30-464D-A7AD-33BA53014C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291CC9-4DD8-4D41-B737-951F269138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D15B5B-837B-464E-886D-768390256D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2DA349-EA9A-4FC6-B723-403CB34A91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9F00CB-975F-40DF-8FA1-0ED68FA0AD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B5CD2C-3C16-42E1-A4FD-007FB79D90E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3948316-DC90-4CAB-813A-29C4D63A2B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676C133-F220-485D-8B0B-933B031862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FBF57E-D5A5-4EBF-89DD-06F87DF1C2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D28C99-1DA7-4DD4-AB55-4BD5146508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0FC9EC-CB0A-469A-9FA4-75CCAED6FE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1FFDED-25E1-45F3-885D-5481A27364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FB8541-9A0A-4BEB-8A56-3A3BDF0207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174E48-3C77-4893-8C25-263F6085DD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6E81B7-831F-4743-95DA-E3C82D3578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2E0F83-213C-4B6D-AF90-F876A3AA99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0B712F-69C8-47F1-90B3-CF022FE839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66CFB1-24DF-41F9-BC16-F103EB5BF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8D03B-4A23-4F3E-8079-40478A1A5B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A01667-246B-4E93-8F82-994A542544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69B09E-5630-4818-8EB2-7B67CA88591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2E6BE0-11AF-4ABE-BE30-3E6E35FA9E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8C5B1B-2FF0-4184-9382-05693F1AFF0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D13931-65C0-4418-8150-11FE41E04A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E44109-CA3D-4553-BDB6-6E5C38B4CA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E930EC-F70A-467C-9B56-CDD70E967A8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FB6088-701A-4E53-9F81-83495076A1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C3DF26-2DF2-4B68-96D7-4CA4403922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8B0308-69A6-46E0-B229-D6270BAE62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D6D65-9930-4BFE-9620-DD17460C91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6AF8F7-3680-420B-B1B5-02F58C2596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2CEE6D-DBE5-45C6-AC4B-1ED2CA7045F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521D96-CAB0-420E-926E-F32EB02DB4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4C0593A-D017-493B-8EB9-03BB2C71CFC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A06239F-37ED-4AA2-AA89-5147F4235DF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8E60D9-5B75-43C0-A993-7EE4EABE07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F3F7B9-A903-4B94-87E3-7AEE3FF2AD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A84602-C2C8-4093-B9FF-0EC60D40C5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035443-8CCC-4ED2-999C-C2D150AB1F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CFB409-4561-488C-BF3F-BD9F01E773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4C8DE-FF8F-4DE6-AE71-FEA88DCE00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FE06E1-8C15-4376-B2C2-5D4F8EFDC3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0437C0-5EA0-4EA3-A87D-72AC5CB274D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2F5A1D-AB61-45DF-BE9C-57FF338102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3D355F-D901-4178-BD66-206D4529371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4C8E68-1328-4C6E-B292-108E9493A5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2C8CEAD-3030-439D-A466-4E6DF4DB3CF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3369AF8-7329-4965-92D4-E35369A4303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A970F28-0792-4AEB-851D-A4839C95D93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0D6118-3C6C-4AB6-9F66-157A8BDFD5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2698DD-BA5C-468B-8425-DC9BF5BDA91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AA93-6DFC-4D3D-B2B9-8723F5E76A6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814E-45E2-4C48-8399-827D9DB9D1C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B98F-CCB2-446F-B532-58D56CB847F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41D-A98D-4D6D-AACF-C0FCFF99672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A82D-4022-45B2-B55E-15E18F08A7E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2187-EE93-4BDE-8D87-6FB6ACC2A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0940-210E-44B7-BB1D-0C2FFAA87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E526-E1D0-40B3-8B12-2009A3534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D4F8-BB7B-4D9E-B475-E913BC22A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6F9D-C0DC-4AD1-B655-E0701A041A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F6DF-8EC0-42A0-83F2-22FEBF079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3093-BA0E-4D87-9390-D67C827E5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CEE4-BDE3-4759-B684-876617389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D9D0-77AC-4A7A-B7B4-CEFD5CE4B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2F3D-4D07-4E92-BE7E-970DB1AD9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5D8F-9345-41B9-BD88-2A68C38DF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770C-1EF2-41AA-92D4-CC8374F880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C5F-A047-43D4-81CD-C212B64A70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DD57-CC7A-419B-9417-0A8FDA91C31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4843-9D3D-4703-BC64-07083252C50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2883-A877-4165-B967-0088653A2B3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C8E7-0FDF-4A15-99C1-93C04B1156B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DB44-5AF8-450F-B135-0AE2E1EDFCA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6</a:t>
            </a:r>
            <a:br>
              <a:rPr sz="3400"/>
            </a:br>
            <a:r>
              <a:rPr b="0" lang="en-US" sz="3400" spc="-1" strike="noStrike">
                <a:solidFill>
                  <a:srgbClr val="000000"/>
                </a:solidFill>
                <a:latin typeface="Calibri"/>
              </a:rPr>
              <a:t>Planning, Assessment</a:t>
            </a:r>
            <a:br>
              <a:rPr sz="3400"/>
            </a:br>
            <a:r>
              <a:rPr b="0" lang="en-US" sz="3400" spc="-1" strike="noStrike">
                <a:solidFill>
                  <a:srgbClr val="000000"/>
                </a:solidFill>
                <a:latin typeface="Calibri"/>
              </a:rPr>
              <a:t>and Adjust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3 - Typical Financial and Operating</a:t>
            </a:r>
            <a:br>
              <a:rPr sz="3400"/>
            </a:br>
            <a:r>
              <a:rPr b="0" lang="en-US" sz="3400" spc="-1" strike="noStrike">
                <a:solidFill>
                  <a:srgbClr val="000000"/>
                </a:solidFill>
                <a:latin typeface="Calibri"/>
              </a:rPr>
              <a:t>Metric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94D6-DAF5-4CF3-B673-1BFA244BF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090.PNG"/>
          <p:cNvPicPr/>
          <p:nvPr/>
        </p:nvPicPr>
        <p:blipFill>
          <a:blip r:embed="rId1"/>
          <a:stretch/>
        </p:blipFill>
        <p:spPr>
          <a:xfrm>
            <a:off x="1981080" y="1571760"/>
            <a:ext cx="514368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3 - Why Loyal Customers Are More Profitab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B698-84A0-4B70-90BA-4229ED684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gade.PNG"/>
          <p:cNvPicPr/>
          <p:nvPr/>
        </p:nvPicPr>
        <p:blipFill>
          <a:blip r:embed="rId1"/>
          <a:stretch/>
        </p:blipFill>
        <p:spPr>
          <a:xfrm>
            <a:off x="1219320" y="1522440"/>
            <a:ext cx="7010280" cy="495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9" name="Picture 4" descr="cid:3287383400_2177562"/>
          <p:cNvPicPr/>
          <p:nvPr/>
        </p:nvPicPr>
        <p:blipFill>
          <a:blip r:embed="rId1"/>
          <a:stretch/>
        </p:blipFill>
        <p:spPr>
          <a:xfrm>
            <a:off x="533520" y="685800"/>
            <a:ext cx="8118360" cy="2647800"/>
          </a:xfrm>
          <a:prstGeom prst="rect">
            <a:avLst/>
          </a:prstGeom>
          <a:ln w="0">
            <a:noFill/>
          </a:ln>
        </p:spPr>
      </p:pic>
      <p:sp>
        <p:nvSpPr>
          <p:cNvPr id="1030"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1"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1 - Generic Marketing Plan Outline</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8585-85A3-4154-86A5-EEA145E23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PNG"/>
          <p:cNvPicPr/>
          <p:nvPr/>
        </p:nvPicPr>
        <p:blipFill>
          <a:blip r:embed="rId1"/>
          <a:stretch/>
        </p:blipFill>
        <p:spPr>
          <a:xfrm>
            <a:off x="3009960" y="1523880"/>
            <a:ext cx="25527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isk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ing manager should identify risks and develop contingency plans while working on the marketing pla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not simple risk minimization or risk avoidanc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evaluating risk and choosing which risks to accept and which to avoi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0833-823F-4DAD-8EC1-30BE95DC5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1 - Impact/Likelihood Matrix</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50B0-AA0F-4D00-A243-9B6FA4A65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tyuiop.PNG"/>
          <p:cNvPicPr/>
          <p:nvPr/>
        </p:nvPicPr>
        <p:blipFill>
          <a:blip r:embed="rId1"/>
          <a:stretch/>
        </p:blipFill>
        <p:spPr>
          <a:xfrm>
            <a:off x="914400" y="1600200"/>
            <a:ext cx="7196040" cy="49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recast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ecasts, objectives, and budgets are interdependent but they must be done concurrently and interactive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im is to optimize the budget and the commitment of resources to maximize expected (forecast) and desired outcomes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DE85-0063-4D4C-8DF0-CF8A333001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2 - Example of Staircase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32CF-D36E-429D-8EEE-7A3825A5F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as.PNG"/>
          <p:cNvPicPr/>
          <p:nvPr/>
        </p:nvPicPr>
        <p:blipFill>
          <a:blip r:embed="rId1"/>
          <a:stretch/>
        </p:blipFill>
        <p:spPr>
          <a:xfrm>
            <a:off x="685800" y="1657440"/>
            <a:ext cx="769608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udget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udget specifies the money to be spent by area and allocates scarce financial resources across activ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ing on those forecasts, the objectives and budgets can be reformulated or the mix can be adjust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dgeting is interactive with planning and forecasting; like a hydraulic system, raising levels in one will change the constraints and outcomes of the oth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60BF-FCF1-4EF1-8ECA-4D7913DD6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2 - Basic Marketing Budget Component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32DC-8793-4751-9D9A-01BB54625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gad.PNG"/>
          <p:cNvPicPr/>
          <p:nvPr/>
        </p:nvPicPr>
        <p:blipFill>
          <a:blip r:embed="rId1"/>
          <a:stretch/>
        </p:blipFill>
        <p:spPr>
          <a:xfrm>
            <a:off x="2819520" y="1600200"/>
            <a:ext cx="32860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Specific Objectiv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liminary objectives are developed based on the corporate mission and vision and on the strateg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hould be “SMART”—Specific, Measureable, Achievable, Relevant, and Time-specific</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distinct sorts of objectives are useful and common in developing marketing strategie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bjec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r profit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6D0C-C6C8-43B1-BFB7-4983F0592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8:27:34Z</dcterms:modified>
  <cp:revision>943</cp:revision>
  <dc:subject/>
  <dc:title>Slide 1</dc:title>
</cp:coreProperties>
</file>