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8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0.png" ContentType="image/png"/>
  <Override PartName="/ppt/media/image28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B8DD-22FC-4027-9DDB-74B1D8FB3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70AA-8101-419D-B725-C1B7489D26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B03-F4A0-4B19-8CE0-B7278F25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E21-C48F-4E92-A56B-E2E8A963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5CE34-2AF8-40C2-B6F3-07A83E60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F53B3-7100-478C-9324-B5D78639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38FE9-4B24-446E-AFE2-A3D7702E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A06FE-FA1E-41AC-8E0F-A864787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BA685-7AAC-4041-A7BD-9D58A46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79001-869A-4D07-9A07-0BF9DD71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F5E72-0F88-4A0E-9287-40C3A10F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1AC0-5881-48BE-98C6-5C87C2E5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09274-59B8-4000-8AB3-EFF2970F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5BDEF-6D96-440B-A00A-1CEAB40C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78B-653F-41BE-9A52-022EF7DC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1DC0E-15FC-4FCB-9D59-69759D8F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68238-5C0B-49FA-8C39-584CAE2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CC93-2D70-48AA-9CD7-1AD52196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C8E5E-20D8-40F5-999E-8094FAF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BF21F-B9A9-470F-812B-91EC323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C7B23-186F-4A4C-A03A-135DFA99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89937-B763-4444-9BA3-A837E58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82C68-8C05-4F86-84CB-404E0C0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BE6BF-D36F-4DD0-8714-9F508061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D4250-89D9-4381-AADD-C27613B1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DB6-3961-484C-B54E-17FF4278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7B3CE-D078-415F-9D45-90B9EFCA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C08DD-B088-4AC5-8DA2-6E94F6F1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5BC5B-D29F-4B8F-8DF0-7EDAE1F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F2468-5B7E-4B64-A993-C2E8BC64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0A95F-4ADB-4E0E-B25B-45DC3B1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97ADD-CFE8-4255-A40C-89C7ADD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EA734-41FE-4E8D-BAB6-99821E2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33604-6852-4E55-8EB2-148A5BD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0C51-DB3D-43C4-A06E-DE20185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0D270-2475-4ED5-AC52-FB9CF3B9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D1F4-82D8-4E9A-925F-3D49FA96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AF8E8-C7D2-47CB-905A-84C6B65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32305-B7C3-4218-9F83-F834B36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78A79-1185-42BB-844D-C3A13B64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2D0B0-E198-4B28-8BBD-E3EB2458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A059F-9990-4409-8CD4-7383C10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37FAC-F6CB-4165-9F2F-4D29F645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377FC-4ADD-4A7B-90B6-13D54C4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ADB63-5BB9-4907-8CA9-E478A771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718DF-7005-4C5A-8ECF-64C3100A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B2ADD-4F2F-46A0-80E3-BE5E26D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955-64E6-4987-B6EB-C248979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42BE0-3918-403E-8B55-75AEEA93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5A6DF-C83E-4745-B84F-6B45FD7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A2718-06D7-4FF3-BAF2-ED6751D1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1397F-FE7F-48E9-BB26-3E63CDA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CEA97-93E8-4BD7-9737-27D740A7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7754B-0EC0-4E87-9CD9-68109472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51CED-E21B-4CFD-A613-728EA50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6F5F6-2815-4F46-AEE1-79796D5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F4A3C-8C7F-4B5B-9276-83BEA7E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A251B-B88A-4FC9-ABF2-D048241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7A7F-0C7E-46C9-9DE0-E13B7C76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63698-7039-469B-B6C9-2C57570D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8A1E5-E3E3-4992-941B-21CF76D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011D1-5A6C-4BE1-BDAE-18E0BD0D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2F291-43FF-4771-8C31-12CE7F2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0FB9D-A376-45FE-B2C4-D212A336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E3B29-B070-41BC-83B8-959E2CC4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B33B7-D68D-4A83-B721-FA329B62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4EF90-DE33-4854-8222-3DECED9A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DE660-5CCD-4741-815A-4134C955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6295F-AA86-4202-BCED-7C3283BF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96E9-AD7B-47B2-9972-E489904D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BA653-A56D-4148-9694-171BB2FA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B1110-CCBB-47ED-A4DF-027A2835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534D0-6C4B-46F7-8001-CF14B61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20E64-1BAA-4A06-A7B3-439B518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0EA4F-3499-4F81-BAA6-A75676AC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7723B-E529-49DE-93C7-1A648F2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62D60-8021-4E5E-9470-7F72712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46BBB-F5C3-4170-A723-12E6DA07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581A0-24EF-4A78-958A-EE384E42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5EF8B-7AA8-448D-BE7F-FA6C89A5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AA34-4190-4D67-A9CA-C068051B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F0506-2FCF-4782-8BF2-14EAB1FB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F35D4-449E-4179-A0FD-F22AF1F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316C6-A2F1-4B88-8D84-EBB867A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DC57C-C393-4700-A53B-4BE96A6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8A0FA-0104-44FE-8A1B-E2A25A5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7D35C-E679-4E91-BA63-DDADB5B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92E2E-998C-44F2-BE02-37AB871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86CBB-63FF-464F-9F3E-12FFBA2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AAC3D-03EE-4634-AF2E-10D3BBD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31CEE-D81D-40F8-8B95-B9E9AEC3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11B-99C2-479D-B2A6-777F7DA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B6E69-F827-4531-BDC0-AF32F5DD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46A3F-6AB0-4E29-A4FA-57C84681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53E7E-C8D3-45C5-B78C-5CDCB84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B2EAA-C3C3-47F3-A57F-6927EE4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A8851-0EED-4345-A642-27E4BFF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5BEDC-6214-4457-AA63-34E794EF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88767-B4FE-4072-BEA9-B7338A1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B2C19-1B28-41B9-9E82-BF8BA7A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3ECE9-2B0F-4C3E-B84A-E68A0ED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6DFC9-8B1C-4122-AD1D-79CA50B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6AC-1ED8-4771-A0A8-1F997A4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BE5EA-C1A9-4059-B289-44F99EE2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4F96A-844D-4C35-AE54-6BE6D50D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B44DB-3F1E-499C-8086-5EA712C8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EF740-08C2-40E2-AADA-F339B37D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2C6D1-36E1-46DF-97CD-A53EC62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FE597-8A20-4334-9BA8-2918766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424DB-20E1-4583-A7BD-467D028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F45BA-3E40-4F2C-9769-AB30A574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5FC40-5E14-48EF-9EF7-84A1E51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76601-FBAE-4F71-A03F-BEC629B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C60-A897-4338-B0C4-840485A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5541-1819-4478-8D4A-717F8BE9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81BEF-A447-46BC-B5C0-06506252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0B935-DC61-4B01-BDAF-5120CBE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7206B-74CA-4672-ADF6-BA26E18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47C06-0EE3-47D5-9394-8C1E502E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B3BE1-5EC1-44F3-BAED-21ED2334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D2021-94B3-498B-8112-2096532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743A0-7445-4A3F-B4AF-60583FB1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C97C2-945D-46B5-BA46-7A730CF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38BEE-187E-491D-8A1A-DD59D35D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41376-3759-4F89-A013-C33D7D3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B32D-9CF7-4C44-A34C-D1140C4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D0AED-DA51-4F2B-BD85-0E2A807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49841-E084-430E-9632-928FAC5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8AADE-2625-42C8-A1B0-D88109F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3A7A0-C175-4162-83B6-5F9E213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CCAA1-4C0A-474D-B644-62EC18F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7A09C-3423-435D-9884-DCA2558C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90115-73D5-4FF4-8D34-E997D4EA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03346-C7E6-480C-8E40-FEA1F335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7EBAE-90EE-4B1B-B5A3-25746C3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DCD4B-2A45-4D47-8975-E9D00249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9A0E-F216-4CA7-8E86-764DD3F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212A6-ADE6-4298-A346-7C2BFE9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DBFC7-DEFE-45BA-8A77-B605E77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EB0AF-41A5-4623-9F3E-37491A9D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71F31-9157-4471-BAB8-E69BC96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7A13B-06D7-425F-9B90-FB6FA18E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9ABDC-374A-4CF5-B45B-7113116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9864E-95B9-4802-BB3D-3C1FD71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1CAA6-AB86-4102-8C6E-B9C350A8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B823F-CB1F-4514-BC73-55CAFEEB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1A983-A396-4B19-9000-5956D7AF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A19D-47B7-4602-815E-20BF50B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F74A6-3F4D-43F4-8666-F303E0E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FE870-5E71-4FC5-B727-5AD144D2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5B663-E153-468A-94A4-1433FEB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A944B-AC51-44C8-AEFB-62F1B722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D0E62-7EF6-4257-92FF-7E43BAC4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012D8-19D0-46CA-B214-A31F2D2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990DF-866E-4C4B-BD9D-B9FC443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1C69E-A74D-489C-A5F4-989879E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00A4F-9196-4724-B3D7-347FD85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F091C-9119-457B-99A7-F570EEA9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8276-C439-436F-A76C-AA3AF4A6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867C5-A048-48D1-86BF-38B0EEAD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D3BF3-EB88-43C3-B6A8-2B7A6F76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18E59E-E2D2-49C7-A0C1-32366A72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833A2-913F-4350-9E28-CC96574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16D97-FFB0-4D8E-B6BC-B5922190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2BD8B-E11B-4C62-8849-45103447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A8683-ECAC-426B-A001-01C4C9E7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1E81B-4281-401E-AF09-97680AE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C66C6-4BFE-4B9A-AB7E-C629BBE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D78EC-51D1-468C-B5EF-F4F99AC7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96BC-4779-458A-95A1-02928BC3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91A53-7093-4C2A-86F7-A677DA8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AFEA6-E9B9-4AB3-A822-4FE6D7CA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0756C2-C3B3-4FF4-AFF2-47B95192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DD1FCA-6C76-415B-8954-53F4326E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9DB812-6619-4E0A-924A-B1CF9088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94B54A-6300-45E7-9021-5572BABD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32814A-AA64-47D0-9137-959B96F9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A539D7-B219-41C6-8342-268D7533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284A8-F934-4298-B866-2337C268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05B7F8-FEA2-4C75-A75F-AA39F67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4B98-21C5-492E-B36D-CA87C2D0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624AE-0C7B-4560-B01E-2807EE8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681C35-3A76-4DD0-9E46-5683E50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8BA32-01AA-4C8B-92D3-6F051534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B2933-AA9D-4347-B2CD-1AF4A1C1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C65C4-96EA-4749-9640-8687D827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635ED-95C0-46EA-AD7B-E6D7B5C2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E21F3-D288-4256-8CFD-3E5F425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609A3-AEA4-4806-9142-6E72167F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F3A9F-1BE0-4CEC-980C-5DCC1BED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E7F4B-F610-4605-85C0-191C644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A9A4-D2B7-4F0B-BA3F-9279A90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DE7B0-4271-4DC3-82A8-3193DFA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6E466-5E80-404D-8F12-D10ACE1E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29EFE-0F36-43B2-B0BA-E0DB3B1C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9497D-BD8D-4FE2-8653-9F07A12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80BE8-1B23-4652-A5F1-1D036684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672998-4CB5-472E-BDAA-C5CA90C2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2F1721-8C9A-4C47-B088-8CF5F15D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45454F-AC36-4B91-A92D-25AFBD7F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E9844E-812D-4881-B39E-6D21444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5470CE-6BE0-4A85-BDB7-246696F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7B35-C980-4566-896C-55EA8CAC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676D5B-7A63-4636-B2FB-FDD9867B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80E533-E85C-4DD3-AF5B-D384707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F4FD47-F037-407A-8EBB-00C9EBB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84CB5-DC41-4CD4-BC95-54FB7BB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E5AAD1-B9AB-47F8-815E-2AFA204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123AE2-2616-4403-B47F-B04B013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A91FB2-8793-447C-BCA4-2D53A4F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174160-1D0E-4180-9DC2-D7F0E70D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3A6A0F-1E04-49A1-A8AF-4FF5EE40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FDD211-C7EB-4B42-9049-E8DC75EB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9414-739E-421F-8A74-6CEDB29B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2A1B43-F5A4-4749-B995-4D6351D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F3F420-F602-4652-9AAD-C1811A6A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DA274B-1B80-4331-906C-13F020E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BAC94-551D-4A36-94B8-701A0A4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5961DD-85C6-4EF0-8327-28F3800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386238-009A-4239-A39F-C7BDED7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3123F3-8247-4376-A925-902FE61D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8DAE36-19AE-4483-A1CC-32B3A9D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5024D4-ABB6-468F-9DA5-14BF9B43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C9578E-CF5B-4955-87A9-5A5B6DD5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DEC-D53F-4EAB-87EF-CA722463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9512-A3AA-429F-BDD3-E6176E02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177FA7-4E4F-4992-9D92-2721F070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4B1827-6D8A-4A4D-8F20-4929854D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D9055E-9D7B-4916-9A0B-72D4863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9C857C-129D-440F-8D8F-1F194044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668606-65CE-4372-AC8F-FF54D758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13A9C-B076-4020-A331-F018436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5167FE-810E-4EF8-B3BB-B40D55D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5EAA58-FBA2-4641-82B2-95E0338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00F068-0BFC-492A-912D-8BC5B00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CCC069-AE28-4916-80CC-2CECAF2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471B-C4C9-4D0F-B5A2-99D9CCB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E6E14-42C2-4EDA-80DA-953056B0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91A363-F87F-44B1-9767-B54B4D3E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2CC9ED-01CF-4674-A7E7-5336735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B73638-9D4E-4A8E-9CDD-0F575C65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E95FA2-8D02-462D-83A5-C7017550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0A25E1-D1D0-4B2C-9FB2-A1AD085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77DDBF-F295-4E94-80D6-0C2DE49E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00D884-5711-483E-965A-7028B58C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FD25FD-D9AC-43CD-A896-42C2E76C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C5B449-1B69-4E53-8B46-146AD68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C4EC-BDC6-499E-971D-0DC127C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3ACEFB-426A-4E8E-A8D2-955C772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CF426E-3BDA-4F7B-A22D-8929361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F20BB4-2069-41C2-A9A4-FA2B488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BAF27C-2C45-47CA-BDEC-11CBA581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1238FA-BF93-4438-8383-597236EE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D27AE6-7D02-4FD5-B203-9451B2E4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80B29E-EA5F-49AC-ABC5-BDEC1D2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0A98D5-2CE6-4821-A212-7A18403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0E2193-FBC9-4DEE-A210-5693C5C2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B4255F-1D81-451F-9BD0-B5409F9C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9C63-7D2A-418D-A14D-4E10E03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378A82-C538-4E96-ABC1-C6BD677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06A686-4795-4765-AEAC-EA34A87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3EE054-BD2D-4E34-B6ED-1366590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CA105D-FED7-4C13-92D6-E049687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E90471-C342-4988-BC3F-87B6D87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1674AB-BADA-4764-A171-8302EC83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A48905-3F4A-4721-9CB5-9E53BFD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D2FFCB-FAA1-49BB-AC0B-9C7E042A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59F230-D748-49C8-B563-C1A7CDF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AC1928-1B40-4D1E-B53C-42681DB5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4C29-8E1C-43AB-A3AC-E61FDA6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F11030-FF2E-49D9-ACEF-DBACA6B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23622C-816F-4FC6-B306-8D3DC39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E9650B-B9D8-473A-9784-A847672F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5A4337-93FD-4F7D-96D7-013EE0A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74F87B-569E-4C54-AB82-5C1911C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43690C-8067-424F-AFFB-42A7B7EE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BC39F1-46A2-4CA5-940A-6082A055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6BA40-98FF-46E0-95F0-13DC875D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3AEA7F-2469-4A7B-9271-ACD248D0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0421D1-5C67-4232-85F5-B9E21004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C9D5-7CEF-4C2F-A85F-D0AE1D3B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E5404C-B315-489F-A30C-60911BA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AF9708-E0BE-44B9-BEC9-75D6390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CA1217-45CA-4931-BE72-829A166C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7E6554-7372-4A4B-886A-73203E2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E79E58-3703-4272-A341-685861B3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EEE493-6D87-4E1A-A92A-D7EF2F0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A3EEAC-DA9D-4FF5-849D-73DBB8F1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DE0C52-34DE-44CD-8341-224C12BA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3E19EA-980D-4D81-88FD-2AF47270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1B2DBC-C677-403A-B415-2EC63D73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A26F-6F78-40CB-87FE-D01EFEEE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0F6D5E-2585-4F3E-A967-D1D2F243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16D093-C794-4D9C-8F12-17DB29BD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FFE640-1AFA-42CF-9AEA-A07C814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3CB431-3EEE-40CB-8B49-DBB8C568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2394B0-4AB2-4022-B0EC-C5DAE54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C61827-A386-48A1-98DC-E44D69E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AFE3E3-B962-4D14-9808-001468D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400E6B-8974-43CC-9E1A-671C264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C76133-BABD-4D37-B316-399975C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0817C-87B6-4FA0-9D00-E60AA3E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196C-D1B0-414F-B4B3-310F757C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1869CA-C5D2-4F3D-900F-083EF8B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D9626-01B5-46EC-BA46-1BB0F773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544349-3F33-48EE-8FB6-B8C028F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B50BC9-7E3F-4260-8A01-FC1540A2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426AE0-6DA4-4884-9EE7-31640C03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609709-6400-477C-9D59-E1BCAED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434431-EEBF-4F49-866A-4E07C18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AE2309-C787-4EFA-8DAA-C414B85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D96E7C-CE57-4313-9F2A-1E1C165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DF2818-620D-4227-A39F-3B1BDEDC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9791-C20C-4A73-B7EC-30FE452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AA3F24-65C9-49C2-9B7A-2E0E2D9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A7BB18-03E0-4D86-8EEE-EA0148A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AAC4C5-2CFF-4E97-8877-11E3E614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FDC970-4E55-4AAF-BF3C-CE88C6F4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93C75F-20AC-4A81-A89E-87F09C1E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2CCD68-F02D-419C-AC93-2DF5A840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A9E38C-57AA-4ED2-9995-80474EB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53AA64-7DF6-4C8B-94D7-A153680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3C82DD-57CA-487B-8DE3-E005FA79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57D1BD-6CF0-4B94-88FB-E39364B6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328A-8F09-4CAB-ADB7-5FDA6BDE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1F1776-1F10-4D70-AC58-FEEB6FF4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562511-797E-45DF-86D4-B906F21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F6B81E-2AB6-4E2E-AB53-C5113A8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878A23-AB48-41BD-881C-888F0D6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649E00-7620-4197-8CBF-3A20B83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C23A2A-897F-468E-BCDB-ED2AB430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B8BB89-72BE-4CCA-AFB2-5101306C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4D1230-6591-47E6-A41B-172A7418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660E11-44D6-49C5-A633-B91D0ED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49FAE0-5B68-4CB5-B001-CC9EA599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9E0-61EE-4957-8E13-86D4B17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8EE3-668C-42D2-AD63-7F3CB24B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C812B9-61B6-4744-AB82-2BF1615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8B85B6-D587-4DCF-8716-A31CE29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685A73-1E26-4E21-A787-2B10141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F29AD0-1009-47AC-A6BE-581F9AB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1CE464-25CB-422F-A220-0FC11EA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B0E581-B095-45D2-9746-85BD466B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FAC10E-F904-4DCB-A11B-FB6A0CB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358954-AD9A-4011-AA31-E40B515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21EFC9-DEE8-4310-933F-752EB714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85DF1F-D1F5-43EC-B026-C2FD09A9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6107-88E7-44C6-B8B4-5E42BA49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9280EA-DFE7-4737-AB25-F3A6513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1DED39-2556-4563-AAF2-3F5928B5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E023C0-D5BB-45E9-9142-263084B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4CBD83-1A4E-4FB9-9970-D7250B1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249C73-3EDC-4A70-A890-DE1E2A4D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D732C-3892-41D8-ABD8-CCB0CDF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AE50DE-29DA-4035-ADD4-C60D74A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B13108-F75B-4E61-9939-CAB1DD0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52717A-E2AF-4429-8A4C-8868A83E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8E6BBD-9AF4-4048-A28F-4B4F754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4C9C-DD43-4C40-8056-549965CD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33205D-86A4-481B-9FB4-7085122D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D321F4-5067-4896-A71F-CFFDD590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40915B-F1AC-431A-8494-77CE16BC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34A76B-62A1-41BD-8A14-4FA0A08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C4FE4E-F29F-4D75-8936-C4F78E3F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BF0870-C48B-41C8-ADB3-0AFF5AF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E597C1-D838-4D64-A6B2-4B1ECCBB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E26064-4773-4B8F-8DE0-36B8705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E74E60-A682-4742-8F50-B672C33F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873D94-5091-4130-B9CF-3713749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D017-B4FA-4EBB-A950-A80F68D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223BF3-2AB8-4753-9A1C-8B3A0978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AF35EB-66BD-430F-8048-B5DE5ABA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2C90A1-94C9-490D-B648-2394479B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B2DF6C-B580-4190-B9C0-75833F94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E9083B-54BC-49BF-996E-C98498F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181C9A-B575-4F67-AB50-2D6710BA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0E60EE-C9C2-497D-914D-A10F307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A83D77-DF77-49DD-BF7B-29A5D87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1B9238-83F0-4E50-9488-FDBD7D1D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3FBDFC-7894-41C8-A276-446FAF9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0119-51DD-4B3D-9931-6912C76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18CD08-0311-4D4C-BEE5-28F4F64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5D252F-92FD-4BCE-9353-03961969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A26223-09B0-4A8A-9E46-2378D5EA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D0911E-721D-4AC3-B5AD-5C4D3106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1A91A9-6B13-4DC1-AD4B-D6EACE0C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4FA13D-92E2-4232-BC88-138E5123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E7682A-CB0D-4A56-A56D-E1171899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3128B3-9025-44B7-B268-BD747AF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209BC3-C9DC-43CF-9DC2-C1AF245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B81F6D-996A-4780-960C-D615815B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93AC-05BC-42F0-868C-177B922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72BE6C-A63E-4854-AD3B-45843A2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298725-929D-4ADF-876F-3BF9020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CBC20C-6C15-4EF0-B357-40ADCD9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1D021B-1223-4BA6-AB19-9545CF8F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127932-ED11-4411-B6E3-0BDA74BF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1D6761-4C00-410B-BCD1-91656185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295BAF-91E3-4373-9C37-9B1B35E2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0635D9-0D8B-49D7-AE80-49DB86D7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544AEE-DB11-4683-A51E-2FE4AE0E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977BBC-BB9A-412C-8C17-3F54D8CB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9729-0B67-48CC-A461-095EE9D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57C29B-2AF0-4E72-BF83-0B3ECA59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7C76BB-C193-410A-B936-4AC6B8BB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F00BF1-141C-490D-B575-859618E3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046DF5-8CAB-4AFF-9A2A-480FAB9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0B13A8-AB2D-43CF-8D32-E5A0A763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91C57E-561D-4A11-8481-788B8E7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863A1C-D131-4335-8490-7A995EB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9F3B7E-34D7-49EA-B764-C54F0471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EEA46A-B1BE-4BB3-9C41-44EF1E7C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C6C547-D2DC-440F-AF49-E47EF051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DD43-7C44-43E6-A735-D1CD38E9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A4EB5D-4AF7-4B86-8078-8CEB5E5B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48A0FA-269D-46CF-9336-D27445A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C799EE-9FAF-4A62-B3A5-DD48613F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FF3648-DD60-46C4-90AD-741009E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FCC979-6EB1-4FAB-8E5E-53C3F86C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FF9294-7645-49BB-9075-4BFDE46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0F6CA5-8C75-4B35-8757-041977E1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00D49B-04F3-4D66-A81B-8A6733B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676B21-6339-488D-ACAC-D606884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F004DA-70D2-4C3C-9D04-AE304E5A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6EAA-768D-43A6-8EEF-0FCCE00A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84D18A-8343-474A-A263-07494A5A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9FED33-115C-4D24-900E-1E5854DF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D3F6C6-3ECD-4325-A87D-40CC143F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4E4082-6991-46DD-9609-8CB897F9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33EFDC-8E62-4B6F-BA47-A3D84DBC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B7B47A-2D99-49F4-9262-FDCFA98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142DCB-96E2-42CB-874E-781FF988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1CEF0F-A522-4B61-AE6F-CAE8C5B1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2652B2-9631-401E-8C0D-F3C0355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AD56E6-D015-4774-A4A7-CEF3594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14BD-8CC5-45AA-8266-E987B6C0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BC6690-7D3C-4349-92A7-4D7EEDDA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55B1F9-6B37-4AE4-A8C5-A1D88A4B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A00172-3122-450C-8C31-FA0FDA8C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4DE83D-07E9-468E-939E-F9323118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61C6B3-A6D5-44F7-93F9-BAD90F27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8BAF62-43C1-406B-B1C3-858C1C9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82A1AF-F88C-4C4A-B1BB-2755DA29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4F865C-FF6B-4E8B-B274-96F6520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7F8A55-02B5-4071-AFBB-021D257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1FB265-1F4A-40BC-A120-3D74E4A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F40-FC04-4D96-904A-EACD2AC3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714A2-DB16-4C35-9ACA-355F5967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474924-6E1F-400A-8FA1-E6B7BAF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47547B-B145-4235-80F5-ECC1E68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DA17E5-B425-462A-BC17-3D46553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4C5C2F-DE64-4302-A01E-FC4FC54B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9A73EB-4E92-4B21-8BAD-6E5C27BF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DFE1FF-AB33-473C-BF3F-6EF17FFB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C9064B-CA65-42E6-8874-05299E48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4F6F91-B14F-43F6-9835-F881C76C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245DAB-D1D5-44CC-9447-0C560E2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4933B4-A9F7-4EC8-9481-C88EF48D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4DCC-5C43-4610-901E-C849ECAA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11CF56-20DD-47AB-A373-44ED56D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5DAE95-6D0E-48FC-A8CB-352E69D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F1AE76-874D-410B-BFD2-47293BA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B589FD-E347-46A8-A94D-83A7A10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BC695A-6D46-4CC4-A1B1-64F85B44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BA8DCD-F466-4F33-A96A-F2F879DA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E3F961-B879-4BA7-B741-1F70A8AA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683D04-A2E8-46A7-BAB0-503CEE13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46F48B-DFB6-45AF-8C13-74F7EFD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753C53-E903-4B2A-87F9-B682FE63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6270-DF65-498C-A040-DADA15EB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0088B0-C9BA-4636-9081-2DCD9D26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1BD448-EF94-4017-86F5-1A00851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878D1E-B9A6-4BFD-9C53-C9BFBDEF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B6D588-6C9A-4968-AC9B-D80815F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F2B593-95CA-4338-8E39-635F349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FAADC8-964E-45FE-87BF-1CEAF2D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328DA3-4742-4B6D-BA23-747743D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457C1B-AD71-480E-9EDA-A1D07035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97CE3D-E202-4AEC-9BDE-0D448A74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5E2253-7981-46A5-A684-8F9783DD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CD1E-8CC9-4DAD-82AB-EADD7CDA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296B6F9-B7C3-423C-BD69-12B5E75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2C3DEEB-5A90-463B-82CA-7CB123A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8DA22D-60A6-454F-8521-140069F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08E465-BB18-4F4F-9601-8E79177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9389B7A-4109-4F92-86FC-4E93FEB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204D2D-DC74-4257-B769-2AA2B69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A433D6-035A-4143-9F6A-75502E4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E867A8-CBAC-4B60-A880-3D71536B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7913A8-AC44-4E3A-B424-77E889C0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37736B-368E-440E-AA98-66289356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5F9C4-7974-408F-9EB9-A80CAC6D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F11C69-131A-4500-AC92-33DF5BF2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6A9F0E-6D5A-4FD5-9177-04A31F81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75BAD5-8A96-494E-9DC1-CBA347D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452556-1283-46EE-A50D-FD806B94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01D8A05-6129-44F3-9464-0F824CF7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EE7A2D-2975-467D-B822-E5F90B2F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D78C77-814B-49E3-9EA7-2690384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74CC6E-AE40-4655-9B04-4E6E2D5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4E084F-16F6-48A5-BDCD-35D5E79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9B4244E-42DA-4043-B012-ECC5EFFE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F6673-3CA5-4AC6-BA32-A09F139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4D4FE6-8755-4B8A-BD3B-9427183A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F6EA41-A0E1-4FF1-8C4A-3B0F1B0C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696D3C-1B49-439A-A8DF-5AF1C49B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6317B9-F225-43A7-A6C8-8286E513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2E308A-5179-4135-8BEB-E1065ED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365A56-4FF1-4CE3-B1D1-FCF6BC06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01C760-2F82-438D-A872-26BF8B7D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30E780-C8E4-403B-926F-18619C9A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7D1517-3DE1-4387-8EE7-6A47693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76CBE6-B61D-46C7-9D8B-D8DFD54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6228-FF51-4418-92A4-1A81AD3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846945-5E1D-43FE-9192-18E07A5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2B06F9-FD74-4EA4-832E-5F5C58EB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3A8C04-53B8-4616-B42A-5089A415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05E7E2-1443-4042-9015-67212052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F534460-5EE2-4C98-AA04-4B02417C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78FFB5-666C-4C6E-9587-75C7F4CD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21BF56-B8BE-4E11-988E-CDA5112F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6E309C-ADEB-4086-9F92-AACA7AC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DFE934-4E86-445A-9A1D-2D99EC2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2B42E3-657F-44C2-9FF5-CBF95AD9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75AB-F81C-4D55-9881-C7DB5DF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BCD25B-19AF-48ED-A64B-B389F0D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F53D98-9381-4334-A726-DB37D21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B6DB95-6FFF-4FEC-B634-23FB44CB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54959F-CD1B-4749-9E3B-0BEB3F3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6FD941-E428-4BE9-B3D6-52362F26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173C1D-CC85-40A3-961B-029A281D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4C986B-2D09-43E2-B9BF-6138BD16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A9E6A-9E36-4A07-92F3-94F7CB0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FC19-2359-42CC-A3D8-1F69DE0F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326-B24D-4F65-AA8A-8CF0EC4E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1E062-FF6D-4D18-B77E-13DA245A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0811-9D36-4854-8685-8D291CB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5B98-4A7E-4F86-B0CC-8A099EA7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6FF37-CE27-40AD-8AD6-A31594E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A4E6-24D3-4E21-A437-6C959E96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F34D-1C08-4EAD-998B-DDF4772F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1E5B3-2CC3-4CD0-A4D8-771751DA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300D-53A7-44A5-BE12-2C24E931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3E7CF-11F6-4A80-A6AE-B3BA053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50FD-DF03-4363-8C53-D6FE4551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D19-C10F-4AD5-BDA9-15B1B4A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2B75-97A3-4FBF-9A53-4EBC00B2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0717D-EF96-4C4F-A91C-A4A31370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B553A-A343-435C-BCD4-33A001CF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5337F-93B6-4069-BB70-E2912DC6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A343-562F-4632-BE85-3706665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583FE-A87D-4E1B-BE68-439A565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6D86-937D-48DD-8A45-34B97EC4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007F-8A17-481D-9573-1AE95900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EDB1-B5EA-4CF4-9E82-830ABD56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09FD-7B70-4726-9C51-EB7EF1D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749-A370-4AA6-A49C-E5A475EF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0D7C-F003-4B92-B433-8BBEE223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A480-1E0F-4943-BBF1-3159E31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5ACA-5B49-4F26-8AE1-AFD92C46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722C-8A5C-43AD-A819-2F30F77B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8232-7558-43DA-96DA-E188F455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A93C-B125-4034-8874-15D781C9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D8483-EDF7-4D5C-8237-CEBB448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41C33-CE83-4C82-AB19-3CF97925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0B9B2-64A0-4F9A-A444-50134E5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923D-247E-44BC-AECF-3343B3A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94A-58A3-4096-8620-2805E570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59094-99B9-45A9-9E50-27A4E3E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4D56-B601-451B-9818-8CE377D2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7061-8EBC-4119-875E-DD39B99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E866-AF6B-42CC-8584-A0EFD72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200A-4EC7-45F7-BF4E-3C44AC90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2E965-3B34-460C-9B75-0D8959B1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2787-07DB-45DE-9B39-43F33158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4F697-90E6-4B58-B7EF-EDBF66F3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9F3E9-EEC2-4C50-9B70-2CF2C3AC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2E7D2-34EE-4AAD-8ADE-FC29AF35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E25-B90C-473A-A7E5-EBD0492377B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7E07-1BA2-4C63-80C1-A415EB4DAB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4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4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4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145D-041C-4016-999A-129DBBACF1B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313-3DB8-496D-8984-36978D5E79D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9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9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E1A-7BBA-4B3A-A0C2-56A97A766E1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13F-DFE9-46B5-BFD2-9D35288ECA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4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5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5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D6ED-BD48-4CF0-820C-9242E27F593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DD6-002E-4DA5-9410-711723B55C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9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0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4BB-EB4A-44CB-9DD1-32DC8EB607B9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5CD9-9EBE-42B0-AB81-8D6881AD1FF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65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5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6EB-18C1-4DB5-9274-31C186B3279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1EA-836B-4258-9C12-D5DAA26ED9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70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70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7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7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886D-C065-4D14-9CC8-52B2D9EBB3D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946-700B-49EE-8325-A35F1122684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75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DBCA-8605-4330-A96F-19920DA24D0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207-9917-429F-8159-7A5F8F0712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04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599-6F02-4CBF-AD6C-927BDDA752B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AD93-857B-4B80-9262-1C7855157B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5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655-32B8-4ECC-9B4B-8063BFC5E60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2D0-A779-4781-BC99-78E1F36CE1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98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C357-C038-4412-95F2-A22EC855C5B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9159-3AD1-41D0-87A0-A7017EB06C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B725-786D-4BA3-8622-8FF26D6575F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074-313C-43D3-ABD3-D466DF0445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45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C73-92C9-4B69-82C3-BFF42B279C4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604E-364E-4806-999B-A4FAEFC865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1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92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58A3-1A3A-4622-8941-E93303A4EBF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5C4D-C28D-4FCC-879C-A21C9F4AE5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8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39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0175-2315-41C8-A79A-321BB8BDC2C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019F-624B-43C7-A953-D1EDCD51DC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8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E77-DF1F-4796-BAAF-DEC57CDD6AA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29AA-AB85-4886-8CCB-9DBA50DDED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33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DF2A-6167-4BF1-A523-16E1220EDF7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A009-C308-4114-9D47-3C8CA9CF8D1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8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3DAE-4777-4D0E-B45E-E55755058F5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8D6A-7826-4997-999C-1FD64C8642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2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EA97-8E1E-458B-BCA4-28A9391362A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70B1-0B0D-4B0B-9DF5-E4EA7C9C1F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CDAE-39E8-4D81-B8CA-86F08D4E436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AEFB-FEE9-48A3-9979-3CCC0B0D7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479B-A652-45EE-B26C-14E394FFCA0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0305-F1EB-4CA6-A566-3B06A2A9A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CBA8-8504-41C1-AEED-D61AF043643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7AE-84A1-4430-855E-8BBF091D2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303-5FBC-47B7-A172-1CEE98691E4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C7D-2505-49AF-BC97-90DC16506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72D5-8557-4132-9CAD-8F196E7F8C4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650-2615-4E93-AE36-C964F4DEA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79D7-845C-4FC3-96C8-AAA18ACB318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6090-00A1-4AC1-AD2A-68E9995B5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C112-D1B0-4B51-A3F8-35CFB36D346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28AC-6130-46C3-AFD6-34D1A0469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16A-2DC3-47C7-8E6B-3C31FEABEAB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70FC-FB09-41F8-8F3E-A40D0BD0B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46E-1A12-4BEF-A4F4-39A0D1B1B88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324A-1554-4EFF-B491-34F789E37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114-7D40-404F-B6EA-5F46DFAD42F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2B23-FF29-42E8-8FC7-064D91F0C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2F17-0F1E-455B-AEB2-9FACB3C85CF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8187-01F5-4D09-AF0B-69179238E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E774-F885-4AAD-AC30-38F12C781FB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99D2-923B-482C-99A2-E88B742E2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3CE-6B43-41EC-A3F5-54B7B014353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52E4-E5AF-44F8-8A51-984ABDA86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355-DDDD-41B3-B6D4-57455355F34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93CB-2BF4-4470-ADFA-D49A6F6C3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40FF-FA9F-44F5-BBB9-9185A31C859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514E-B8E0-433E-9C11-B0E377BF2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D80-0553-4ADA-BB1D-8F795B21B9B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27EB-1672-433E-A881-EFAF927B4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F4B-DE01-44F6-9017-3E627F5EED3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D1D-D4AB-44FB-A91A-557993509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5AD-E602-4697-9C44-E55045C1A2C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E1E3-E321-48B1-961A-7E351DA2E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BEA8-E60C-4DFD-A27F-DC8F2FFECC9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F92-CA60-4E8D-A916-2BC359587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45B-3DC6-430A-8A71-CC46B628920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9CC1-0780-4A2A-922E-3730A7B71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023-E2E7-4F85-803F-77D31766410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56F4-B22E-4065-9C17-7EA0F691D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1D23-41EB-4C08-A0DE-BC8FF64D6C0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653-88AD-4710-B572-F67CF698E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7799-D92B-4654-92CB-233405D7CA1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679-C089-42C5-BD70-FF7B32C11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E2A-0D45-4DA5-8BA2-DCEBE773E8B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E47-F690-4AA7-BDB5-964447E3F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18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8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18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9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F928-C07D-4EEC-9624-8609826ACA2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4746-E3A2-4462-BDBB-50C9C7ABAC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3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3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3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4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61C-584C-4C58-9B09-30768573BDD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415-D100-4544-8A55-F6B0BC1E25B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8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9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872-07D0-4DB2-AEA4-39C161F0F0D0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F54-0413-4853-841C-1BC6CED13CE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3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4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34E-FC56-4C7E-9E38-46A864F05C3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A669-A83E-4D61-BCD4-CA07941685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9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9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5B5-96C9-40E4-BF5E-BB389C9DC3D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A8B9-7693-4060-A9B6-C5024691F9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WordArt 4"/>
          <p:cNvSpPr/>
          <p:nvPr/>
        </p:nvSpPr>
        <p:spPr>
          <a:xfrm>
            <a:off x="1752480" y="2895480"/>
            <a:ext cx="563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D543-3007-4D6A-A092-79FC9AFDE52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78B-8CC6-4980-B0CC-4400E4AAC39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Picture 5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183" name="Straight Connector 6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4" name="Picture 7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185" name="Rectangle 8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Rectangle 9"/>
          <p:cNvSpPr/>
          <p:nvPr/>
        </p:nvSpPr>
        <p:spPr>
          <a:xfrm>
            <a:off x="3287880" y="190512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7" name="Picture 1" descr="100px-Methylamine-3D-balls.png"/>
          <p:cNvPicPr/>
          <p:nvPr/>
        </p:nvPicPr>
        <p:blipFill>
          <a:blip r:embed="rId3"/>
          <a:stretch/>
        </p:blipFill>
        <p:spPr>
          <a:xfrm>
            <a:off x="2743200" y="2743200"/>
            <a:ext cx="314964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Slide Number Placeholder 2"/>
          <p:cNvSpPr/>
          <p:nvPr/>
        </p:nvSpPr>
        <p:spPr>
          <a:xfrm>
            <a:off x="8083440" y="63342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E900-ABD3-4D53-91C0-28F1E23301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75960" y="1449000"/>
            <a:ext cx="70102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 Alkylation of Ammo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) Reduction of Nitro grou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 Reduction of Nitri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) Reduction of Amid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reparation Of Am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4" name="Object 1"/>
          <p:cNvGraphicFramePr/>
          <p:nvPr/>
        </p:nvGraphicFramePr>
        <p:xfrm>
          <a:off x="685800" y="1752480"/>
          <a:ext cx="779940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994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6" name="Rectangle 3"/>
          <p:cNvSpPr/>
          <p:nvPr/>
        </p:nvSpPr>
        <p:spPr>
          <a:xfrm>
            <a:off x="0" y="-198360"/>
            <a:ext cx="1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7" name="Object 2"/>
          <p:cNvGraphicFramePr/>
          <p:nvPr/>
        </p:nvGraphicFramePr>
        <p:xfrm>
          <a:off x="914400" y="3200400"/>
          <a:ext cx="51847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5184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9" name="Object 5"/>
          <p:cNvGraphicFramePr/>
          <p:nvPr/>
        </p:nvGraphicFramePr>
        <p:xfrm>
          <a:off x="2590920" y="5867280"/>
          <a:ext cx="50403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867280"/>
                    <a:ext cx="504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1" name="Object 1"/>
          <p:cNvGraphicFramePr/>
          <p:nvPr/>
        </p:nvGraphicFramePr>
        <p:xfrm>
          <a:off x="990720" y="4648320"/>
          <a:ext cx="584496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2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648320"/>
                    <a:ext cx="5844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3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AutoShape 9"/>
          <p:cNvSpPr/>
          <p:nvPr/>
        </p:nvSpPr>
        <p:spPr>
          <a:xfrm>
            <a:off x="1785960" y="4214880"/>
            <a:ext cx="4772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Content Placeholder 5"/>
          <p:cNvSpPr/>
          <p:nvPr/>
        </p:nvSpPr>
        <p:spPr>
          <a:xfrm>
            <a:off x="0" y="1371600"/>
            <a:ext cx="900576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mides Formation: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mine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Diazonium 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9" name="Object 1"/>
          <p:cNvGraphicFramePr/>
          <p:nvPr/>
        </p:nvGraphicFramePr>
        <p:xfrm>
          <a:off x="2133720" y="1676520"/>
          <a:ext cx="453708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453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1" name="Object 2"/>
          <p:cNvGraphicFramePr/>
          <p:nvPr/>
        </p:nvGraphicFramePr>
        <p:xfrm>
          <a:off x="2362320" y="2590920"/>
          <a:ext cx="55753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557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3" name="Object 3"/>
          <p:cNvGraphicFramePr/>
          <p:nvPr/>
        </p:nvGraphicFramePr>
        <p:xfrm>
          <a:off x="2362320" y="3429000"/>
          <a:ext cx="54180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429000"/>
                    <a:ext cx="5418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5" name="Title 5"/>
          <p:cNvSpPr/>
          <p:nvPr/>
        </p:nvSpPr>
        <p:spPr>
          <a:xfrm>
            <a:off x="0" y="650880"/>
            <a:ext cx="3048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Reac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6" name="Object 1"/>
          <p:cNvGraphicFramePr/>
          <p:nvPr/>
        </p:nvGraphicFramePr>
        <p:xfrm>
          <a:off x="1600200" y="4495680"/>
          <a:ext cx="6157800" cy="13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7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495680"/>
                    <a:ext cx="615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Slide Number Placeholder 1"/>
          <p:cNvSpPr/>
          <p:nvPr/>
        </p:nvSpPr>
        <p:spPr>
          <a:xfrm>
            <a:off x="7948440" y="64008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38F-2AD2-4DCC-8119-8E8927C2D7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0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3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TextBox 2"/>
          <p:cNvSpPr/>
          <p:nvPr/>
        </p:nvSpPr>
        <p:spPr>
          <a:xfrm>
            <a:off x="3515040" y="6064200"/>
            <a:ext cx="31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zonium sa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enzene diazonium chlor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Title 3"/>
          <p:cNvSpPr/>
          <p:nvPr/>
        </p:nvSpPr>
        <p:spPr>
          <a:xfrm>
            <a:off x="2819520" y="609480"/>
            <a:ext cx="266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Content Placeholder 5"/>
          <p:cNvSpPr/>
          <p:nvPr/>
        </p:nvSpPr>
        <p:spPr>
          <a:xfrm>
            <a:off x="7920" y="1557360"/>
            <a:ext cx="8337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structur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nitrobenzylam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prepare ethylamine from acetam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re aliphatic amines is more basic than aromatic ami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stronger base from each pair of compoun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7" name="Object 1"/>
          <p:cNvGraphicFramePr/>
          <p:nvPr/>
        </p:nvGraphicFramePr>
        <p:xfrm>
          <a:off x="1981080" y="3494160"/>
          <a:ext cx="449604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94160"/>
                    <a:ext cx="449604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9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A22-92B5-4BFD-8666-E8DE75F712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1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43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D1A-3B8A-45F0-80A1-539896FCB1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8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50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8929-9F9A-4722-9FB3-E9186D4089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-76320" y="1066320"/>
            <a:ext cx="303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Rectangle 9"/>
          <p:cNvSpPr/>
          <p:nvPr/>
        </p:nvSpPr>
        <p:spPr>
          <a:xfrm>
            <a:off x="0" y="175320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ten discusses the following topics and by the end of this chapter the students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structur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lassification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rules for amines &amp; precedence order of functional groups in compounds have more than one functiona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effect of lone pair of electrons of N atom on basic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methods used 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reactions of amines; in addition to behaving as bases amines can be nucleophi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2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 Box 2"/>
          <p:cNvSpPr/>
          <p:nvPr/>
        </p:nvSpPr>
        <p:spPr>
          <a:xfrm>
            <a:off x="19080" y="106668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&amp; 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3"/>
          <p:cNvSpPr/>
          <p:nvPr/>
        </p:nvSpPr>
        <p:spPr>
          <a:xfrm>
            <a:off x="8826480" y="6603840"/>
            <a:ext cx="190440" cy="180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AutoShape 4">
            <a:hlinkClick r:id="" action="ppaction://hlinkshowjump?jump=nextslide"/>
          </p:cNvPr>
          <p:cNvSpPr/>
          <p:nvPr/>
        </p:nvSpPr>
        <p:spPr>
          <a:xfrm>
            <a:off x="8661240" y="6413400"/>
            <a:ext cx="457200" cy="393840"/>
          </a:xfrm>
          <a:custGeom>
            <a:avLst/>
            <a:gdLst>
              <a:gd name="textAreaLeft" fmla="*/ 25200 w 457200"/>
              <a:gd name="textAreaRight" fmla="*/ 432000 w 4572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072" h="21600">
                <a:moveTo>
                  <a:pt x="0" y="0"/>
                </a:moveTo>
                <a:lnTo>
                  <a:pt x="25072" y="0"/>
                </a:lnTo>
                <a:lnTo>
                  <a:pt x="25072" y="21600"/>
                </a:lnTo>
                <a:lnTo>
                  <a:pt x="0" y="21600"/>
                </a:lnTo>
                <a:close/>
              </a:path>
              <a:path fill="lightenLess" w="25072" h="21600">
                <a:moveTo>
                  <a:pt x="0" y="0"/>
                </a:moveTo>
                <a:lnTo>
                  <a:pt x="25072" y="0"/>
                </a:lnTo>
                <a:lnTo>
                  <a:pt x="23672" y="1400"/>
                </a:lnTo>
                <a:lnTo>
                  <a:pt x="1400" y="1400"/>
                </a:lnTo>
                <a:close/>
              </a:path>
              <a:path fill="darken" w="25072" h="21600">
                <a:moveTo>
                  <a:pt x="25072" y="0"/>
                </a:moveTo>
                <a:lnTo>
                  <a:pt x="25072" y="21600"/>
                </a:lnTo>
                <a:lnTo>
                  <a:pt x="23672" y="20200"/>
                </a:lnTo>
                <a:lnTo>
                  <a:pt x="23672" y="1400"/>
                </a:lnTo>
                <a:close/>
              </a:path>
              <a:path fill="darkenLess" w="25072" h="21600">
                <a:moveTo>
                  <a:pt x="25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2" y="20200"/>
                </a:lnTo>
                <a:close/>
              </a:path>
              <a:path fill="lighten" w="25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Line 5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AutoShape 6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7"/>
          <p:cNvSpPr/>
          <p:nvPr/>
        </p:nvSpPr>
        <p:spPr>
          <a:xfrm>
            <a:off x="0" y="182880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derivatives of ammonia that have one or more of the hydrogen replaced with alkyl and/ or aryl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: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 class of organic compounds that contain the 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formed in many biological systems. So it used as drugs and medic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lassifica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primary (1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secondary (2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tertiary (3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Group 8"/>
          <p:cNvGrpSpPr/>
          <p:nvPr/>
        </p:nvGrpSpPr>
        <p:grpSpPr>
          <a:xfrm>
            <a:off x="1012320" y="4333680"/>
            <a:ext cx="840600" cy="1229400"/>
            <a:chOff x="1012320" y="4333680"/>
            <a:chExt cx="840600" cy="1229400"/>
          </a:xfrm>
        </p:grpSpPr>
        <p:sp>
          <p:nvSpPr>
            <p:cNvPr id="2203" name="Text Box 9"/>
            <p:cNvSpPr/>
            <p:nvPr/>
          </p:nvSpPr>
          <p:spPr>
            <a:xfrm>
              <a:off x="10123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12"/>
            <p:cNvSpPr/>
            <p:nvPr/>
          </p:nvSpPr>
          <p:spPr>
            <a:xfrm>
              <a:off x="12812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17"/>
            <p:cNvSpPr/>
            <p:nvPr/>
          </p:nvSpPr>
          <p:spPr>
            <a:xfrm flipV="1">
              <a:off x="15843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Text Box 18"/>
            <p:cNvSpPr/>
            <p:nvPr/>
          </p:nvSpPr>
          <p:spPr>
            <a:xfrm>
              <a:off x="14382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19"/>
            <p:cNvSpPr/>
            <p:nvPr/>
          </p:nvSpPr>
          <p:spPr>
            <a:xfrm flipV="1">
              <a:off x="15843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Text Box 20"/>
            <p:cNvSpPr/>
            <p:nvPr/>
          </p:nvSpPr>
          <p:spPr>
            <a:xfrm>
              <a:off x="14382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"/>
          <p:cNvGrpSpPr/>
          <p:nvPr/>
        </p:nvGrpSpPr>
        <p:grpSpPr>
          <a:xfrm>
            <a:off x="4041000" y="4409640"/>
            <a:ext cx="840600" cy="1229400"/>
            <a:chOff x="4041000" y="4409640"/>
            <a:chExt cx="840600" cy="1229400"/>
          </a:xfrm>
        </p:grpSpPr>
        <p:sp>
          <p:nvSpPr>
            <p:cNvPr id="2210" name="Text Box 28"/>
            <p:cNvSpPr/>
            <p:nvPr/>
          </p:nvSpPr>
          <p:spPr>
            <a:xfrm>
              <a:off x="4041000" y="479952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29"/>
            <p:cNvSpPr/>
            <p:nvPr/>
          </p:nvSpPr>
          <p:spPr>
            <a:xfrm>
              <a:off x="4309920" y="501660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30"/>
            <p:cNvSpPr/>
            <p:nvPr/>
          </p:nvSpPr>
          <p:spPr>
            <a:xfrm flipV="1">
              <a:off x="4613040" y="514008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Text Box 31"/>
            <p:cNvSpPr/>
            <p:nvPr/>
          </p:nvSpPr>
          <p:spPr>
            <a:xfrm>
              <a:off x="4466880" y="5301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32"/>
            <p:cNvSpPr/>
            <p:nvPr/>
          </p:nvSpPr>
          <p:spPr>
            <a:xfrm flipV="1">
              <a:off x="4613040" y="471636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Text Box 33"/>
            <p:cNvSpPr/>
            <p:nvPr/>
          </p:nvSpPr>
          <p:spPr>
            <a:xfrm>
              <a:off x="4466880" y="4409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6" name="Group 22"/>
          <p:cNvGrpSpPr/>
          <p:nvPr/>
        </p:nvGrpSpPr>
        <p:grpSpPr>
          <a:xfrm>
            <a:off x="7062120" y="4333680"/>
            <a:ext cx="840600" cy="1229400"/>
            <a:chOff x="7062120" y="4333680"/>
            <a:chExt cx="840600" cy="1229400"/>
          </a:xfrm>
        </p:grpSpPr>
        <p:sp>
          <p:nvSpPr>
            <p:cNvPr id="2217" name="Text Box 35"/>
            <p:cNvSpPr/>
            <p:nvPr/>
          </p:nvSpPr>
          <p:spPr>
            <a:xfrm>
              <a:off x="70621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Line 36"/>
            <p:cNvSpPr/>
            <p:nvPr/>
          </p:nvSpPr>
          <p:spPr>
            <a:xfrm>
              <a:off x="73310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Line 37"/>
            <p:cNvSpPr/>
            <p:nvPr/>
          </p:nvSpPr>
          <p:spPr>
            <a:xfrm flipV="1">
              <a:off x="76341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Text Box 38"/>
            <p:cNvSpPr/>
            <p:nvPr/>
          </p:nvSpPr>
          <p:spPr>
            <a:xfrm>
              <a:off x="74880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39"/>
            <p:cNvSpPr/>
            <p:nvPr/>
          </p:nvSpPr>
          <p:spPr>
            <a:xfrm flipV="1">
              <a:off x="76341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Text Box 40"/>
            <p:cNvSpPr/>
            <p:nvPr/>
          </p:nvSpPr>
          <p:spPr>
            <a:xfrm>
              <a:off x="74880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3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D63B-A152-4DD6-88FF-54EA1935DA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5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27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Straight Connector 3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4"/>
          <p:cNvSpPr/>
          <p:nvPr/>
        </p:nvSpPr>
        <p:spPr>
          <a:xfrm>
            <a:off x="88200" y="9856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omenclature 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Rectangle 6"/>
          <p:cNvSpPr/>
          <p:nvPr/>
        </p:nvSpPr>
        <p:spPr>
          <a:xfrm>
            <a:off x="0" y="1371600"/>
            <a:ext cx="9144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names of amines are derived by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ing the name (s) of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group (s) surrounding the nitrogen (in alphabetical order)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ng the suffix amine.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.B.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vowels come together ; the first must be omitted e.g. etha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 2° &amp; 3° amines (i.e. the substituents surrounding the N atom are identical) are named by adding the multiplication prefix (di or  tri) to the name of the alky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Rectangle 13"/>
          <p:cNvSpPr/>
          <p:nvPr/>
        </p:nvSpPr>
        <p:spPr>
          <a:xfrm>
            <a:off x="1447920" y="48006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Methylamine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enzyl methyl amine                Trimethyl amine            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0E4-9F6B-4299-987C-93BB385C72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3" name="Object 22"/>
          <p:cNvGraphicFramePr/>
          <p:nvPr/>
        </p:nvGraphicFramePr>
        <p:xfrm>
          <a:off x="1752480" y="3105000"/>
          <a:ext cx="624852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105000"/>
                    <a:ext cx="624852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Rectangle 1"/>
          <p:cNvSpPr/>
          <p:nvPr/>
        </p:nvSpPr>
        <p:spPr>
          <a:xfrm>
            <a:off x="17280" y="5181480"/>
            <a:ext cx="80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 higher priority groups, the NH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s called am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6" name="Object 3"/>
          <p:cNvGraphicFramePr/>
          <p:nvPr/>
        </p:nvGraphicFramePr>
        <p:xfrm>
          <a:off x="2971800" y="5715000"/>
          <a:ext cx="199548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715000"/>
                    <a:ext cx="19954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9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40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4"/>
          <p:cNvSpPr/>
          <p:nvPr/>
        </p:nvSpPr>
        <p:spPr>
          <a:xfrm>
            <a:off x="119160" y="91440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UPAC Names Of Primary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146-C392-412A-886E-A146B193426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5" name="Object 5"/>
          <p:cNvGraphicFramePr/>
          <p:nvPr/>
        </p:nvGraphicFramePr>
        <p:xfrm>
          <a:off x="609480" y="4064040"/>
          <a:ext cx="77724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64040"/>
                    <a:ext cx="7772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Rectangle 9"/>
          <p:cNvSpPr/>
          <p:nvPr/>
        </p:nvSpPr>
        <p:spPr>
          <a:xfrm>
            <a:off x="0" y="1290600"/>
            <a:ext cx="91440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the  compound  does not  contain a  functional group  except  amino group, then  the  compound  is named by finding the longest alkane chain containing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mino group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placing the e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IUPAC nam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y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ffix 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   if   the  compound  contain  other  functional   groups   then   the   order    of precedence determines which group are named with prefix or suffix.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see the precedence table on slide 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ighest precedence group takes the appropriate suffix with all other groups taking the prefix (es), however = or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Ξ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nds only take suffix form (ene, yne respectiv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Rectangle 11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5-Methyl-3-hexanamine          5-Aminoheptanoic acid                   3-Amino-2-but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9" name="Picture 15" descr=""/>
          <p:cNvPicPr/>
          <p:nvPr/>
        </p:nvPicPr>
        <p:blipFill>
          <a:blip r:embed="rId3"/>
          <a:stretch/>
        </p:blipFill>
        <p:spPr>
          <a:xfrm>
            <a:off x="1066680" y="5410080"/>
            <a:ext cx="6324840" cy="134784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6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7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5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963-FF9C-4A38-873E-77B879B45B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5" name=""/>
          <p:cNvGraphicFramePr/>
          <p:nvPr/>
        </p:nvGraphicFramePr>
        <p:xfrm>
          <a:off x="228600" y="1523880"/>
          <a:ext cx="8763120" cy="4724640"/>
        </p:xfrm>
        <a:graphic>
          <a:graphicData uri="http://schemas.openxmlformats.org/drawingml/2006/table">
            <a:tbl>
              <a:tblPr/>
              <a:tblGrid>
                <a:gridCol w="3402000"/>
                <a:gridCol w="2135160"/>
                <a:gridCol w="1177920"/>
                <a:gridCol w="204804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unctional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arboxylic ac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clic alknes or alkenes with COOH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xyl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dehyd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c alknes or alkenes with CHO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H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orm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aldehy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ke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=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coh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hydr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NH</a:t>
                      </a:r>
                      <a:r>
                        <a:rPr b="1" lang="ar-SA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enes and aAlky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= &amp; </a:t>
                      </a:r>
                      <a:r>
                        <a:rPr b="1" lang="el-GR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b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ne &amp; y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6" name="Rectangle 101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cedence Order of Functional Groups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(</a:t>
            </a: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Descending Order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8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0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4"/>
          <p:cNvSpPr/>
          <p:nvPr/>
        </p:nvSpPr>
        <p:spPr>
          <a:xfrm>
            <a:off x="0" y="160020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have common names accepted by the IUPAC system, but if the benzene ring contain groups of higher priorities 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&gt; CHO &gt; C=O &gt; OH &gt; NH</a:t>
            </a:r>
            <a:r>
              <a:rPr b="0" lang="ar-SA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n this case the amino group is added as a prefix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5114-16FD-422A-B479-AEBAEF1039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Rectangle 8"/>
          <p:cNvSpPr/>
          <p:nvPr/>
        </p:nvSpPr>
        <p:spPr>
          <a:xfrm>
            <a:off x="152280" y="4952880"/>
            <a:ext cx="90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yridine               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Aniline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o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-Nitroaniline    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-Toluidine  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-Aminophenol          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Rectangle 9"/>
          <p:cNvSpPr/>
          <p:nvPr/>
        </p:nvSpPr>
        <p:spPr>
          <a:xfrm>
            <a:off x="-1080" y="106668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aming Of Aromatic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1" name="Object 3"/>
          <p:cNvGraphicFramePr/>
          <p:nvPr/>
        </p:nvGraphicFramePr>
        <p:xfrm>
          <a:off x="152280" y="2989440"/>
          <a:ext cx="8436240" cy="19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89440"/>
                    <a:ext cx="843624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Rectangle 4"/>
          <p:cNvSpPr/>
          <p:nvPr/>
        </p:nvSpPr>
        <p:spPr>
          <a:xfrm>
            <a:off x="37080" y="83808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hysical Properties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Rectangle 8"/>
          <p:cNvSpPr/>
          <p:nvPr/>
        </p:nvSpPr>
        <p:spPr>
          <a:xfrm>
            <a:off x="5544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) Boiling poi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Rectangle 9"/>
          <p:cNvSpPr/>
          <p:nvPr/>
        </p:nvSpPr>
        <p:spPr>
          <a:xfrm>
            <a:off x="12600" y="1679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they possess a polar N-H bond, primary and secondary amines are capable of forming  intramolecular hydrogen bonds among their molecules; therefore they have: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higher boiling points than alkanes but lower than alcohols (alcohols form stronger H-bonds than ami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9" descr="pep6g"/>
          <p:cNvPicPr/>
          <p:nvPr/>
        </p:nvPicPr>
        <p:blipFill>
          <a:blip r:embed="rId1"/>
          <a:stretch/>
        </p:blipFill>
        <p:spPr>
          <a:xfrm>
            <a:off x="2971800" y="3657600"/>
            <a:ext cx="2228760" cy="1085760"/>
          </a:xfrm>
          <a:prstGeom prst="rect">
            <a:avLst/>
          </a:prstGeom>
          <a:ln w="0">
            <a:noFill/>
          </a:ln>
        </p:spPr>
      </p:pic>
      <p:sp>
        <p:nvSpPr>
          <p:cNvPr id="2277" name="Rectangle 4"/>
          <p:cNvSpPr/>
          <p:nvPr/>
        </p:nvSpPr>
        <p:spPr>
          <a:xfrm>
            <a:off x="74520" y="5029200"/>
            <a:ext cx="90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tiary amines can not form H-bonds among their molecules and their molecules are more branched thus they have the lowest boiling points among am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16C8-ED82-4910-A06A-57918E1E1B3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6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7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4"/>
          <p:cNvSpPr/>
          <p:nvPr/>
        </p:nvSpPr>
        <p:spPr>
          <a:xfrm>
            <a:off x="-9000" y="273852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3) </a:t>
            </a:r>
            <a:r>
              <a:rPr b="1" lang="ar-SA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Basicity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Rectangle 8"/>
          <p:cNvSpPr/>
          <p:nvPr/>
        </p:nvSpPr>
        <p:spPr>
          <a:xfrm>
            <a:off x="-76320" y="366228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mines less basic than aliphatic am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donating (releasing) groups on N atom in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withdrawing groups de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Rectangle 10"/>
          <p:cNvSpPr/>
          <p:nvPr/>
        </p:nvSpPr>
        <p:spPr>
          <a:xfrm>
            <a:off x="72360" y="32004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Base strength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5C04-B32F-4BBA-849E-3000C90753B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9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91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Rectangle 5"/>
          <p:cNvSpPr/>
          <p:nvPr/>
        </p:nvSpPr>
        <p:spPr>
          <a:xfrm>
            <a:off x="9000" y="914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2) Solubility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Rectangle 6"/>
          <p:cNvSpPr/>
          <p:nvPr/>
        </p:nvSpPr>
        <p:spPr>
          <a:xfrm>
            <a:off x="0" y="1176480"/>
            <a:ext cx="8991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mines are capable of forming hydrogen bonds with water, alcohol (hydroxylic solvent) , thus they are </a:t>
            </a:r>
            <a:r>
              <a:rPr b="0" lang="en-U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olubl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r molecular weight amines with up to six carbons show appreciable solubility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8" descr="pep5g"/>
          <p:cNvPicPr/>
          <p:nvPr/>
        </p:nvPicPr>
        <p:blipFill>
          <a:blip r:embed="rId3"/>
          <a:stretch/>
        </p:blipFill>
        <p:spPr>
          <a:xfrm>
            <a:off x="4105440" y="2343240"/>
            <a:ext cx="221904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6" name="Object 1"/>
          <p:cNvGraphicFramePr/>
          <p:nvPr/>
        </p:nvGraphicFramePr>
        <p:xfrm>
          <a:off x="2057400" y="5829480"/>
          <a:ext cx="386064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5829480"/>
                    <a:ext cx="386064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8" name="Object 2"/>
          <p:cNvGraphicFramePr/>
          <p:nvPr/>
        </p:nvGraphicFramePr>
        <p:xfrm>
          <a:off x="1225440" y="4770360"/>
          <a:ext cx="5945400" cy="100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5440" y="4770360"/>
                    <a:ext cx="5945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cp:keywords/>
  <dc:language>en-US</dc:language>
  <cp:lastModifiedBy>Student</cp:lastModifiedBy>
  <cp:lastPrinted>2015-01-28T02:12:22Z</cp:lastPrinted>
  <dcterms:modified xsi:type="dcterms:W3CDTF">2015-04-01T05:25:25Z</dcterms:modified>
  <cp:revision>131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