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3.png" ContentType="image/png"/>
  <Override PartName="/ppt/media/image2.png" ContentType="image/png"/>
  <Override PartName="/ppt/media/image29.wmf" ContentType="image/x-wmf"/>
  <Override PartName="/ppt/media/image18.png" ContentType="image/png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png" ContentType="image/png"/>
  <Override PartName="/ppt/media/image10.png" ContentType="image/png"/>
  <Override PartName="/ppt/media/image28.wmf" ContentType="image/x-wmf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dt" idx="1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ftr" idx="1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6"/>
          <p:cNvSpPr>
            <a:spLocks noGrp="1"/>
          </p:cNvSpPr>
          <p:nvPr>
            <p:ph type="sldNum" idx="1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5D7E-A01B-4776-885E-202D712F6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99B8-323B-49FB-90F5-0D74041200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EEF6-BCA1-443B-8AFF-32F7143D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3518-DD67-4C9F-B8F3-1F6C39FB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A2753-BE00-4D25-856E-98AEA12F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6A386-713D-480E-B152-453CD1F4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842EA-8B21-4C9B-A481-2207A7CE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111F6-D8A1-4DBF-8EC2-51E93E5B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F1650-2B21-4336-979D-1C45B68D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E1963-B720-45F4-84E5-1BD3EAD2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4FC1F-8A96-4B24-8086-3E5705EA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0EF59-EECA-4EA1-8576-933B1979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0B643-CB4C-4ABF-B3C6-296224F8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C5029-B78A-4445-9AEA-B65FCB73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33B4-FF44-40FB-901A-906C218F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10ADF-32ED-4FB5-9F7C-6964C4C0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B1280-C8D8-43D4-B763-804E5ECE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122E0-D942-465C-BFCD-DCADF66F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F5AD7-AAD5-48E8-ADAE-AF33030C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13457-8A62-4F9E-8A5F-BB98B451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4C6C7-C5D1-43AF-A775-72534022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B8C6C-401E-4B2D-BD0A-60FA50FF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59D8F-5C23-4C68-9615-BB7CF981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6857D-5152-4BB9-B542-EA9B5653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2DCA4-7F11-4040-BEAA-CA87BD43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7E59-A7EC-4B40-A2D8-C5244369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1F730-439F-42E6-93F9-5F299935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818C1-8795-4916-9388-41D0C08F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89796-655B-4395-9B53-1DE9D2ED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65A45-E808-4B12-94B3-F6149B4E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B0BF8-1AD8-43A3-B058-13D990B2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A59A2-0905-456D-972F-14E74610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5D395-4807-4D41-922D-CB58111A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8EE22-A78C-4944-ABD0-8406BC38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80394-0AC1-4CC2-B04C-CB53DA8D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FEB97-79B3-4469-8FB6-1B4ACC2D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03B4-4D08-41A5-83B8-998270D4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22ABD-F03C-478D-8D01-032233BC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2BE8B-2E03-4640-BA8E-1D39E57F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4D94D-B584-464D-8175-85445BAA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50673-11A5-4A10-BF89-376AC29A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89A75-21D0-48D2-A26A-80A4BA19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F5B94-6AB2-47F1-B65F-41A1AD33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77A48-7380-43C1-889D-AC7964EE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D654D-E5B2-4B6B-8A66-98539B6E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92DE0-2ED3-4739-B201-B94D8A6C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36090-9CC9-47CB-96F6-91004A52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93DD-DEF5-469E-BB9C-D2E20621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19BE0-04FB-45EC-8139-D5F6FA80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E7CE2-08D0-4542-B0D6-0CCAECF6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D4630-2230-4131-BBF0-11307D6A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0EA18-086A-4A36-A706-E29FF04A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2BD13-F744-4C57-A0DB-5100A1A9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68CE61-242B-4B5E-9344-3BCC2FEE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7C378-5215-4D9D-86E1-B5F4ECA1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5E48A2-6134-447E-8850-80301120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012B1E-6550-49A3-82CE-A97511CE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C4527-984E-4D1D-9DB6-59B987A0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DAC6-A59F-4E2F-A3C0-80E3403B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92C22-CA37-4640-98F2-40F31EC3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D5EBD2-5DF6-4902-802B-9B183411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DE534-09D8-4C47-AC8C-F522D0F8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463F2C-0032-4D6F-BC74-2229A3B8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BBC4A4-0542-4EC5-994B-63143E50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70DD8-6720-4756-A81B-42EAC197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7BC4B9-FA0E-40C9-8000-72310538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21C3F0-DEBD-436E-B96E-FF80A365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8D74E2-C630-420B-85DC-30669023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4B0745-7873-4E40-A594-535C7992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CC5E-71EC-467A-99F7-FEBA6DA1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AA505A-5C9C-4FD4-A250-79328AE4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E61E7-0552-472A-B663-574CFD77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FE6E5-1739-4A54-A255-F7D68D6C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0F4FC0-26BF-4BE1-9677-182D89DA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7F305C-247E-4622-9F14-E2EAC17C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2EDC67-4A2A-41CD-850D-1237E3F7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B59695-907C-4B3D-A182-B0987561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A0CAD5-058A-4992-93FA-5A827DC5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BC1711-BAC5-40F1-9C8A-1E4FD018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5683A5-2B4B-445F-8F82-0766F870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E046-B60B-44B6-A0C9-E4DE139B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E769EB-B7D6-45F6-8906-FA71C17F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C04816-8A98-4EDC-BCAA-B4DEB662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A76F6F-1582-42C7-8021-C0E2CB49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9AF2C4-21E2-4EE9-825A-52A122ED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F624B1-A540-4E4F-8D79-CB55AC78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B61D0E-EE0D-49E1-8C45-AC938E97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A30179-594F-4865-B8E8-83AA7E75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4A46B0-77C4-4618-977A-D940FB72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5E676A-CB91-4924-B9A3-C9D9DF79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D55BD0-7A9F-4AAA-BBDD-D0316F45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9241-5171-4EEA-9907-3DE7D685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917DEA-1F36-4D2A-B75D-9A2D8CFF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C10CBC-DAAD-4062-BD54-64DD1462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3CB84B-0248-49D1-B51B-FD07E9FB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C51157-CB4D-4EF5-BC6B-CEAFE784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7CC1C5-91F5-4CD6-A044-61DE1D49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168C94-64D0-4799-946D-76442C38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C6EE92-5CA9-48BE-91E1-BBAE7A01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576AB1-5D1B-4C10-9564-1D459FCE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9E9848-B631-427B-B69E-D6F86412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4CCE72-C93C-4134-A809-C0528E06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BDDE-A902-4171-9D8C-470F4708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5E9F8A-8C7C-4F01-BFDF-662D88A4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6FA9DA-0CB0-47FF-B7E5-0B2D69C2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C8334D-EB64-487C-822E-2217C8DD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9F6AA6-6F7F-455D-8F0B-69897637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913EC5-E67A-4D3B-BC48-DEC627C7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4C2C37-7BD2-4954-9962-77390E75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8C02DD-F19B-4786-96B4-50F9C690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E58CBF-7DC8-41D6-BAA4-8255F3A4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890DBC-E521-48CD-AE9B-A449CF95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ED35A8-BCB6-4E9A-BB9E-6CDD1788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90FB-24A2-4E41-8B5E-144D31BB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5641-31F5-4527-8605-32CDEF11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BE8DBA-E8A3-461A-BC51-CFB71E15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EED98F-CBB2-4324-8687-C53ADEEA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B7EE04-154E-450B-BFDD-57CD44D3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BD3AB0-E453-4342-83CE-993D2594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C223B1-A293-4A17-9602-288BD46F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45E68F-B6E3-4CF0-84FF-7A19A00D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6F2EE2-A480-4A0D-A414-228D50F7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193B4A-60C7-4426-B3C7-B1D0B3EC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2C59C6-CDE3-4AA1-86FE-B620B33E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8961E0-18C0-4766-9677-CD71C67A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CB68-3045-4E60-97BA-D1E78599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590344-AB22-430F-B7A6-DF2A7684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E4D9C1-B97D-4C95-A1A6-8AB0ABF7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9EF242-C6C8-42CE-AD0A-CF242B18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15A4E0-D6D0-4159-BF7A-A3FEB82C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2BA0BB-F15B-4801-BAD4-CA7D1327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99439B-9C81-48E1-B0B4-3D5D66D4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96FF3F-FAAA-48CB-AC4D-8500E81D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FBA0D8-9DAA-4EF9-8E0D-BB259C29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A2679A-7534-42A0-9A31-107B6877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FD7A9B-824B-4658-98B4-19EF930F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E317-F2EC-4DF5-8152-F81C2A52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7E8660-A35C-4C42-B071-372F8985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2F7215-AB50-445B-BA32-A5C34621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2362E5-0ADA-4F61-86DE-19FE142E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3343C9-25F8-4B3F-AFA0-BB9096A3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4ADF7E-01EF-45BE-B403-452E7931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8CD046-DDC0-4235-B755-453DD8C9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52BC18-5974-41B9-B196-270D1114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0F52E1-2CED-4C53-BD73-52F4738F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A15F6E-2229-44C9-A703-B7E8F8BF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C263FB-1FC9-4F07-9C12-4E7B69A1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80D1-5321-4840-84BB-CA113005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15EB69-7AF3-46AE-A79B-3BC0260E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5B2D9F-5BE5-463D-89F9-465C3D36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942851-B6D5-4BD4-B60B-4B4C54AA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FCB74E-BCCC-4806-974F-CA625FBF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DF65E7-70BE-4477-B0D7-B961654D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2E1C8D-5945-46CF-B8E8-E2BE7A9B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755488-A3FC-4705-94C7-56EF9915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3F42E6-C976-4A25-9340-C10C1C63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FBAB27-71A1-4EBA-A96B-BCEE2809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553C35-869F-4547-8981-35635634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2758-700E-49ED-804A-FB22FB57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D972C0-B840-4836-9A31-47B74A9E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5171BA-B7B5-4A48-A224-3AFEF57B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850076-0057-40BA-8D8E-786F1835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561F0E-B7C7-461C-91BA-4B3A896E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1B8F6D-E83B-48BC-9C3A-F9B701E1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6FB05C-9298-48B1-B7D6-AC2A54F0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C18D4E-751E-4074-AE2B-3184DE0E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434EE8-FE26-4044-98CC-8AE013F9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E70929-69AB-4087-AB47-7B49CDAD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792204-5915-4886-A8F4-40A36E8D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73A5E-3C8E-4B89-9048-1A5973F2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E931E2-12F6-461C-88C6-CFAAD69E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463380-0C58-40FD-9787-FF9323CF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C58183-F43A-4E30-8BF5-5114ADDD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65163C-3733-4B8A-884A-FF357667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49C8DC-35AE-4542-A5BB-463DF381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17F201-AD89-43B8-AE2B-E6B3B0E1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A898A1-17C3-40E6-8A6D-E363FCD9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DCF374-00D3-421D-9FF6-4AC893EF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179973-618B-49FE-A1CE-1DA0BA13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B0ECA3-24D9-428B-87F1-C5154567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3DBAA-70EB-4EA8-8502-9A876654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9CC6B8-DCC7-43A5-A5D1-B3B86008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400002-0355-4584-909A-D696FBCA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D32595-A9BC-4210-AFB6-22C7B994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80AC0A-06D5-4C8A-86CD-9C109FF7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C1F64F-5DB0-44AC-AAA9-19B8C6FC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C36AE8-24AF-474F-8EFE-E5C70EFF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577827-0EC1-4ACF-A7AE-E77E42A6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2F4891-7E18-4B77-876D-33B2AA9B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94254B-1368-4029-AB78-51FAC307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FDC03C-5A28-4963-B537-72802D4A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53EA6-FFA9-44F1-908D-6D077646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B102A1-0E49-40A1-8EA5-B99576DB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5E7645-495D-4C97-8069-5F32DE4E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48654D-F482-47B1-A218-88F832D5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61F46F-5BE6-4374-9CB8-3B3FC6F7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B67105-56F9-46F2-B8FF-2DCA57BF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AC5721-9726-452B-90A3-8763DFDE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9129AE-9B36-47CF-AE62-FA2D5353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D74BBD-972E-41AE-A845-030BEA13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143C7A-65B0-45EA-BE10-47753449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245D3A-7454-4A31-B5FD-F237A1BD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F0934-6B62-4A9F-B2DE-8A07FE35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D8863A-ECF5-4D31-AB06-E8600EA9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9F847B-284C-4F14-8C52-64BC5D76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9E8B28-C7E3-4875-B525-98E5098F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5C122E-9145-4E59-8231-1259BE30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F834AD-EBE6-48AD-8363-5152EF7C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B1E084-C390-463D-B53A-1ECE47B9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BC5B83-19EC-472A-B423-C30FC0DA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3CD0F0-FAF4-4482-AE14-1A740980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07C794-AC31-40CD-BCDC-A254D54A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E33F4D-6D72-4276-8A57-54FA9DFD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364EB-810C-4A21-B8ED-2118F568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F48A10-11BD-4BA0-B0AD-BAF4192B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DC78D6-0200-449E-B7B9-017E4EDD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F5919B-DBEC-463C-8C17-0BA2D730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20FF27-9C62-41D1-8155-19F414D2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827508-614C-4573-8265-849BD5B8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DC1E2F-ED41-4886-87AF-395C1703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A5FBF0-2443-4409-88F5-0C1ABA08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93ACC6-541E-40DB-9E1C-BA068970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049F42-9827-4588-A46B-1862245B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E4ECD3-9E0A-48E7-8DB2-A2680A12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509-7F7B-4542-BFED-8E304B9F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CFA5E-6A18-4D1B-B147-7814D302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E9A9B2-1221-4ED5-B197-B14995B1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F612A4-380A-4D56-96A4-3980022C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33B6B5-900B-4136-A706-5691EF07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4D49DD-62B2-4BA5-A8FD-B696A154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D718D9-A786-49B7-8334-31431125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EF29F0-FE31-40EE-831D-417B57B2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7E3985-B07A-4FF8-83B2-9DF4AC46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9F1808-79EC-4B41-AFCE-956F281F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F917AD-8BD4-4B88-B4B3-909176DD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A56776-DE35-4153-BB64-401BAE7B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678D5-C8CD-40B8-B1A8-E34414E2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1CCAFC-31DD-47B0-A2AE-55398F37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F9D62D-1234-4971-850F-F3950CEB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49073B-81ED-4378-A633-866AA583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F40D7D-5AD5-45AD-95FF-78A38064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AC03B3-7690-41FB-87FB-B08D14BF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3041EC-391F-4872-8210-F9A1C494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CFB107-9BCC-4317-AC1B-0D5435BC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DF0472-4C7A-4FD8-A2F7-B577024B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D21A5B-F01E-493D-8ECB-A0E2B68C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CDD71E-00E4-4F13-829E-F228B37D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7D075-20F1-4878-A11B-787D4E28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36F320-4511-46E4-AFBC-868CDAD0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A40FE7-2AED-4D72-BBDD-700E0E75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FD3268-87DB-418E-8601-17A3B02C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9E08C6-9F58-4F66-8768-5A0BDE17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ED9F7B-2CFE-4E8E-BEEA-A2357BFA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A0A30F-82F4-4234-A454-B3DDAE68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A3E94B-7E87-4173-A6A5-050D06BE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C1A8C9-DE4E-4265-9645-5D90AD62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F901D4-72B1-40F4-B233-398A30AC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8605BB-6DFE-4832-A09D-B4F1F71C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8BB5D-4056-49CE-9E42-1EFC2D22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FD7BAB-DF19-495C-BDFE-5F634CF5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12484E-C6B9-41A9-809A-9F0A8E70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931EB5-0F6D-4DB0-A8E4-F4FD8C90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BF16E6-F759-453C-BA94-6941A8C9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7D9533-2FD4-4756-BE88-CA38FEA1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09BD96-4B4F-4723-93D4-C3EC0DE9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A1F70C-432B-411D-82D7-FF4F1BB2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D794E1-E9FF-4F9B-AEBB-0ABD4716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076299-2AF5-4490-90A5-C14803C2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7CA625-8D59-4C53-A998-40993834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7F40E-825B-40E3-B8A4-515241A1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DCF542-1FD0-4C96-A713-3FB2D2CA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B9E28A-C7A7-4C8A-BA71-52C7928A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F98615-FB0F-482C-A61D-CD9AC602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59B742-3B21-4A56-B1AE-30857AA4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0C7BEC-5C77-492D-9006-974CD6DF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D6D184-EEF4-4414-8971-4EBAABDF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88BF81-6F7E-4919-8C97-9356942A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73A28E-5BA3-425E-9CCD-7FA975B5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FFD0038-2A7C-4141-9D46-285D5FBE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527800-DFE7-46F5-864E-F706A481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0F9AE-1218-401A-9A56-5EE22D7A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210B2C-5674-430C-8D80-2925D5E4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23D7B5-CEB9-4293-91F3-BEC49BF0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A79B84-473E-4804-B451-7C5A2987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E6E477-E1AB-4F85-8862-01295FA5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8A0258-0A6A-46FB-8856-DD7C460B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731558-A0E5-4C2A-AF10-435AC186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E51FD6-43B6-433F-95FF-E26FA493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AA0F5D-9D41-400E-9A04-308273F4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16963B-A6F6-4127-B509-F8CAAEC6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C70A5A-FB7E-4C2D-9BC9-26DBA64C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5F3F3-F0DC-4209-9069-8C413D52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1DC469-A07B-40C3-8DE6-08817136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D77BFD-A634-4143-801D-A8F4211D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18AD8E-3DD7-40AD-BD49-63769BE9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8F83C8-77C0-40B8-B30C-9AE07208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7C24F7-8792-4AB3-82FE-2D0A8CB1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206C7E-6E87-4443-B435-A8C309BA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17738C-8572-4151-8280-95196AB3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A3310E-2E2B-4757-935D-0EC11CB6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41CA88-7EA2-462A-BFD6-0299678A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95E9E6-9F25-4941-A67F-AE654DA2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8EF2F-02F8-4D1E-923E-A820EEF2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2D462A-99E1-4783-822C-34DE3A8F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24A3CA-D4DA-4F0D-BE09-CE6377FC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54E5F9-BEC3-4CD3-85AD-B51ED211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2FEAF2-1F4D-4EF7-B423-E2F7B491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1A1AAA-D261-4283-8B1D-650A0F56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22EC430-A09A-45A5-AB20-4CA1F38A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32C02B-B920-4275-B369-8D031A72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97C9CA-928C-40A8-A99E-71BBE609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D5A3345-8623-419D-8FA1-D81DB33C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ABE1DB-B984-47F8-A1AC-D314D6DF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6FC05-3B65-452E-B2E5-F392CD38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E2A7BF9-1926-456B-8810-5B08941C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676ED3D-6384-4A70-8822-70D8B16D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DB1ECC-D9B9-430B-8874-F96BC996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8A3E1D-67B0-4F68-9B0A-B2FA320D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E38BAB-52D3-40A9-9BD8-B0FE59A9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D6877C-626A-4B76-AAE4-9152638E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F9B5B29-BBAD-42F4-A32B-BA1F2859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8E81C18-E6AA-4B41-A072-B2FCED58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A24A68-0989-4B96-A1E8-47B07BD6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EC1996-B24B-4F5D-9392-1A555DA0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16F73-250F-4C83-8270-75481D7A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53B0E97-94C8-4BA0-993A-BAB6AA27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74C0400-C96E-441C-963B-60099D50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AB9900-02F3-4A6B-B08C-EABFF2BF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7A9D8D-B9D8-4FEF-9147-72C165FF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B46110-360D-43D4-BD97-099E71A1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50AB19-5575-4F97-9CE2-058087CF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2FAF60-F2B6-4847-AF66-F0FC9DE5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9E4F40-A513-4ABB-B402-7993FF70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F2E395-5A89-46B3-B39B-C51777C3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859645-C1F0-473C-A6D8-6360B2A1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BFA5-E172-4980-BEF8-1CE20999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DF22F-BD6C-43DF-A510-2C4BB6D1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021590-0FAB-42C3-AC30-99C9156F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9B48E41-8204-405E-B738-4D58068D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D26B9C-0112-4231-A4AE-1D05AC62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8A9ACC-2EFF-478A-BDFF-2A2809E5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6AFF49-E97A-44C3-9955-DC23ED90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FF86A8-E139-4C6C-9E48-19753297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8C059DA-1E69-4597-97FA-6070F426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AB7776-45D2-441B-9C44-9B8054FF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DA1A4A-2807-40E3-8889-AE11792B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90ACE43-0ECC-4B7C-8758-B38120DB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9F1D9-49F7-42E0-B62E-28A9B475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54E2DE0-77D4-4B5A-8F3D-9AEEDC15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FC9C180-B6BC-4C68-8588-8AB82E48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B74B2C-4527-40F3-A249-E18D7960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C1E74D9-0BB3-4A22-9CD9-5123A5A4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E3943B6-D151-4C81-9A3B-9D249F02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0065C77-D14A-456E-BEE6-C5A2E5DF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1E2548-1A29-451B-93B3-1A5CE803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D5E57B8-5BFE-425A-9907-1ABC6E85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9FCF09F-3DF5-4230-95B7-1EED2721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296962-CB94-4C24-AA8D-15781FDC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EBA19-791A-4444-8992-DAD6E238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A4ECAF6-2BE8-4857-AB63-26326915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7AD2311-FA89-41D5-A031-DC14F375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8B44B44-FC49-4C7E-8CD7-B2E4F045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619C1E7-9E8E-4265-9D53-88A69635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606BCA-160B-48E6-B8C5-66063C8C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85321A1-888C-4388-9A77-5CCE4081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E907938-BBA9-4C86-93B0-FF9C7B11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5D4723B-2714-4ACC-B6D4-70CE34D8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61DE29-CF9B-43BC-B36C-6913AD7E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8A242D9-A29C-4692-8824-B4526F09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07FC2-6C72-449F-A1C2-A7E3A5C8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319F344-DAFE-49EF-AD58-FACC7EF0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8423CCD-7857-48ED-ADFC-693D318E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93DB288-192A-4DF8-8687-2BE83F90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55CF486-615A-40FA-AC58-FB433076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D133A85-0EED-4B19-BEAC-F1E4CAB7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F988009-EEB2-4FD7-88D5-B7396376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2895369-7FA1-4C4B-BE68-1824F89B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DF47BA4-50AD-4FAA-AE74-BFCF8C56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08A0AF9-825D-4EC6-9240-F9B3CB37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A76E900-3F46-4DA4-AE66-8ED554D8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5D97E-8855-44AF-9171-14543C91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F33A162-EBFC-4146-B0E5-649834BF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F1A26C5-BE76-497D-9DDE-5EDA936E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30285A5-B662-410F-AB64-23120D01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5B2AE78-0A1C-441F-A3F8-3E34B3C7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1E1AC4B-C59D-491F-A85F-029F1203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B92B04F-8084-4E9E-B87F-18004F4A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94B4BEC-EB51-48AE-A40A-96817C02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B761EB3-92B4-431D-A944-ADE2ABCE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9FBF321-F8A4-4010-B6F3-9ABD6D96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A9913D0-AF40-4D41-91DC-43129449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82FE0-389B-4944-95C2-3B6725C4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FCC716E-5C2C-45EC-A231-3A9E98AC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2ADAD45-3882-4D1F-8236-92FB57E6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5A40671-70A2-46A8-9DA5-430AC127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8CE51E3-427D-49F2-882F-31751F12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77D27AA-10A1-4184-91AF-B17368B0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74E61C3-67E6-4E3A-AA0B-466AE00C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096EBC4-BD3E-4C84-818E-513A3DA3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A3FE2C4-8DB7-4C6B-BA45-BC599C9C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EA14812-37A3-461E-8F12-264C43AA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4166D8A-FC65-4E0B-A72F-C5B6D0FE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068F5-8FE5-405D-A9DC-1C6C29F6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5274C69-BA30-40C9-B7C5-0AFC1B3B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27DE600-68C7-4578-A516-2578E7D9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01932A5-C7A5-404C-A092-CB1014E0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27F3390-5581-4942-9FE4-47E1B883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9F3067E-E09D-4BC8-90FA-26A18E03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8EB1539-2EBD-44F5-99D2-71FE215C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B7A8102-1534-40A9-ABE8-209608DE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E90C52F-6E3D-44AE-8FEF-9F4BCA67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F74FC1B-0125-49F4-9744-B06887DB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D3A184A-8D43-4309-944F-0BD36B8D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51947-8223-44C3-AF77-BAEE28C7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9C90188-4CA2-4102-8AAC-79670126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E93B93E-D2DB-4F61-BA3E-8C0B950C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37E074A-F4FD-40CD-BDB2-B84A533F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FD87065-1A2E-4BAC-B38D-0C1085C2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31BCDF1-E7F4-4FBE-B08B-8CF46FF3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DB4EFB8-500A-47CE-BF31-A5D3100E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431ECA9-DFE4-46E9-9748-6AA40931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1858B5B-B081-4EC6-9B31-F0B6E128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A57ABDD-894A-4271-B94E-F2934428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A0A49C0-D4B0-4E22-9DB6-DACB2796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85C0D-81C2-43E3-96E8-9C26EB71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1C1C3F9-287D-46DF-98C9-ACDF22B2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E053C02-F61C-4A6B-A4CA-77BEBF4A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8F084EC-CED1-4782-B84A-36AB410D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C05B3DA-79A0-4EF5-9461-8C5EA0A0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716CBF7-9D1B-4546-AC82-780E8DB7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02F817B-40F5-47F7-B710-D6FC6FCF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C88BCFD-0F02-4AB0-B6D4-88DED3A4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8F675B5-7FC4-49E8-A231-C9F74C2B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A84FAE0-3A30-4A1C-8E18-98E2DE41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96B0DC8-F287-4580-9E5F-C88CA213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DEBED-0CB2-40B1-AC47-F89106F4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F6D9F2A-658A-4632-9194-BF673ED9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E71C18F-97D9-45A5-B6F2-9810A064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60CF5C3-332B-4538-BB7D-97E6C234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586C198-0328-4E27-BF83-1518E78B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30B42B9-8FC4-4F13-A877-5625B0DE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5FFF082-21BD-4DC7-B6FA-A068AC2F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DB0C3E9-770C-43BE-9FDE-F72567D9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AEE6CDD-86C1-499D-AC5C-D60850B3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0A81D49-A9E1-497B-9A00-99A1F4C0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3EA9A21-1B9D-4824-ABA6-80F460C1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9944-73F5-48B0-9BDD-A3DC2A2B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6370C-3E9D-4CB0-AD4F-8661C58A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651BB18-53D5-4FCC-8F2B-33FEF536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D236D95-0890-4A0E-95A0-9DCB0404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AB3EA3D-22A7-4004-B665-ABD670E9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F634D31-29D9-4F70-A4AA-4E10BD25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CBE9E6D-7059-451A-BF6E-0F373FDE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0610969-8EF0-4759-96D0-4E6E6F69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2443179-5DEE-463B-A9D8-FB1F2FBB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379A7D9-6247-4D52-BCB5-7415C30A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B55AFB8-53A2-45A6-B050-997BB73F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16ECF02-7E85-48AC-901C-E4AADB4E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B5F4C-3AD1-4A73-9D4D-27A1A382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5507804-CC6E-4879-AF66-617A95A6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1555225-CC01-47CB-9A66-32200792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1E22107-BF9D-4858-95D2-214421AB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C2A1CDD-AA9D-4681-B458-8610F872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189EE58-47DA-448B-846F-08742096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A1972D5-64B3-4A00-BA93-925B425B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7E8C7C1-C52D-44D7-9C61-F3380180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BA30C7C-6CE4-470C-B167-DB1ABB62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7F15BCC-E9FB-4705-B124-3A15A8C4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5351900-69AA-4288-AFA2-A6BC7A29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D8FEC-DA6F-45D4-8911-72E36036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DAEB189-5940-4E3C-81DD-43229044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C562485-EB02-4ADC-BBA2-65BF2C65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C50EB62-F54B-4825-B621-367C8676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121A829-1EA9-44FB-B345-EB2EE0EB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63274E7-818A-4E60-BB11-7ACCF87A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9FA2456-D1C4-4633-9EDC-40FAC94B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F859765-67D3-45B5-AB3F-148E060C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4BA4981-E16B-48C7-94A4-0D696E69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769DBEF-D78C-4667-9FC5-F18F3522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3E0FCC2-CB27-4CAF-A13E-02EF2BA3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95BF3-2952-40DB-8F62-D659EF01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C14C290-60B8-49A2-A7A7-42358CC5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C2C5696-9B6A-4F72-BA87-8B2DFEC4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2B7E042-C23F-45AA-87EB-D15BE24A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088FF74-CEDF-4336-8A66-84EA9C84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E169009-12AB-448A-8BD6-90802E2B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AC76252-B8C5-42AA-BE1B-43CE329D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C20E4A4-E827-42E2-AA49-FE445DAE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B30C407-C431-433B-B98E-59AB1AE3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F60D195-06FE-4EA4-AF48-99DD18D0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EB14510-2BF5-403F-B9ED-F4EE021E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D3266-4F27-4F0F-B080-3D920881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8299DCF-2E49-4B3D-A173-A8F845BB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C37BE21-41E7-41B8-AFB8-891D8843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2171589-67D7-4BF3-ABE3-F6FF5067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735750B-FEC9-4B01-ACDA-3506F0ED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324301D-E1D8-4D1D-A5FD-7FB041C8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D7C5B58-9099-4221-A3FF-6104F587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6196D67-3878-43F1-A478-BA8F6555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531C98E-EA06-4AD8-9BAB-1A36DF62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18F91ED-7139-48B5-9403-764C7C1F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755C5DC-31F4-43D6-934D-A510CD28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7CB23-AAC8-45BE-B1AF-235C83AB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60BC701-2985-4D6E-A08B-988DD932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400CF4C-28B7-41EA-B2BE-83CC8DCA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D029A7C-A319-4A94-92CB-96D5F788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1B8AC67-B970-4BCC-ACA6-D838313C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748CFCF-3196-4DA4-A026-3E0AD20A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C6DDA93-64E4-4134-B7F9-8E13CBA0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36AB60C-6391-4D30-BF9C-6CF7F11C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9AEE212-0914-4E72-BC20-E5D43DBF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D181E36-8C69-4967-BEFA-905A13FA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DC8DA8A-B3CC-4107-8167-9D0E8438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BD7F6-62ED-4A04-8E5F-7EE3A6E8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0039745-7839-4F8C-A73E-140A5954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C98DABB-8E76-4385-9F61-7386566E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9512D25-E483-44A4-8CEC-DE9CEE28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043E749-8AE8-460F-B027-B542917D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41F3B46-62D0-4464-BB0D-617A8D77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35F4D05-FA6D-4F6D-A174-1B7FB2DC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D876B2F-91CC-4CB6-BBA3-CACF5CB0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3FCEF92-5EA0-4357-8AF3-AF39AEB0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F37407C-FA3A-416D-BF92-4A7C4BB2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2D793EC-A6F6-4E15-AAB6-D80299B5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DDC3D-09F1-4BFA-9C63-CEA0BA18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89CBCE6-5E39-46A6-97A7-A5051086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E8C3E72-2E4B-49D2-BD6B-6EA4D6D6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DBB3E1C-6115-4B4E-B8A3-1B19CD42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C9DCB9A-4AD1-482A-AB50-01F0F093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121D92C-E198-467C-9510-5A7D2244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39E7389-A324-4CBD-AACE-EDCA8283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769B082-39AC-4DBB-AEAF-31AE5B9B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0A542-6663-4A05-A065-FD3084D9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79E27-ECC7-437B-BD5E-4C23EA45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F268-88CF-4893-9371-B11D6D5E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61B29-6A0E-4566-BA3C-93B3F8D6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0845D-D5BD-48F9-A394-D6D05A3D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18E65-1D30-4DEF-97A5-6A216C90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E69D2-CE76-479A-B958-9114FDC9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F769D-D8F8-4736-B8FC-E5A0D8A2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937FE-355A-41D3-8ABD-6BFD5253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C64EC-39E8-44D7-8A78-A50B33B5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6B3FA-A723-430A-BE4B-7C778C7C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E7AE2-0935-49F4-9FB3-35676FEB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1129B-9BFC-4A6D-A414-4673E0D2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6E9-F974-4ACC-A91E-7F4EE324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C07D5-DDE2-4151-8C10-56AA8CDB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AD61A-E420-4E47-A8DA-38F74F0D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5697B-7B89-4638-B2F3-A014D4A5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BD71E-C415-47D3-9805-47254BC1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21FE7-B72E-4805-A260-39935C87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C03AF-DB14-4A65-872B-EA098328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9AC65-1300-430C-9FAB-ABCC13ED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981F5-EAFB-4846-AE62-9D54DE76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F906C-F8EE-47A3-981F-14F7049A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9F045-5FE8-41D1-9BE0-E4444DD3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E62-DD10-43E0-A190-5E2F0BAF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A117A-1E80-4F7D-BB6B-1953D0BD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5591F-EA46-43F3-BB59-D78EF646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28BF6-02B6-468D-92E5-03B3E7FF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1437C-58C4-4F7F-8A03-FE8733D1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EE63A-14A8-4AC4-88DA-9CC7BBF3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0359D-58DF-40F1-B0B9-0BAC77B5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37349-A56C-4843-ACC8-B3BED607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CF69B-3A7D-4B75-864A-501C36FB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B4E91-605D-46DC-8D34-95A74628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E0AE1-486C-4E36-8197-A880229D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48A-887A-4C97-9EE9-2734EC67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F6538-67E9-4AFA-B1DC-CA673F46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C5FDA-C3A5-44F2-8FA3-55E3CA44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7A7D2-C116-4854-B4ED-BFF3516D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C7A5F-918F-4434-B97A-9CA058DC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62640-7041-4DB2-99EC-7E4B0A28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376A8-3D56-451C-81D2-49A1CED1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BD362-77E3-410C-BDAF-6BF02368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D6EE1-35D6-4800-9013-34340EDB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37879-D78B-455B-BB34-A868C667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43F76-E12D-4BF5-AD49-90D63EFF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2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5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C8EA-6D72-4D96-A8AA-3CBA8AF7BC1A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DB85-3E64-416D-9269-6190502FD90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443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446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44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45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62BE-BA55-4A6A-B93C-9E737315DFBE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77FB-3947-4AE1-8795-6682E573987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4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495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7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498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499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502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CEC5-671A-4DC4-9C73-94724664BAFA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E945-E70A-4704-8366-DB9F15FB745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6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547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9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550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551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554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5654-D224-4157-A7FE-D4B4697AFCD5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3145-9157-4201-8901-D97203E6439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8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599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1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602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603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606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73C1-7113-40A6-990B-2DD017C39278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73E6-E01A-4E7D-BB7E-1EEE1722BED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0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651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3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654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655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6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7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658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9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99AA-6A68-4025-902D-FA69083F6D4B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9F37-4B37-4A42-9F5F-88983D3C665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2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703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5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706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7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7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5766-AF29-46CA-98B9-338271D94A36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47CD-B939-43E1-A6E1-0896C0F14C7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757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9A2F-D274-4EBF-A160-FEFD81DF095B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AA49-1504-4DDB-B420-2E3F88B0CFD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3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804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6509-BE56-4943-A6BD-B71120BA8EED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5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2212-7FCF-47B9-BC79-3B691BDB811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0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851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DB20-A186-4805-8067-8AD5A8A6A124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6A00-DA06-4365-A50E-2222113A9B9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7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898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E18E-BCC9-44FB-9015-6217CE2ACA2E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5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0247-3205-4AC1-BE08-3F1F58A4954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56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4A20-5195-4E97-A8B0-3078BDCB0EAD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90DA-A370-4B68-98B8-F096524452F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4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945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78DF-0408-40D4-93B6-155D0AAE2DD1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E711-C20E-4248-9C8B-FDC4ED14BAC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1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992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B9E9-09E2-45BF-A799-501946DDF1A0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6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E1DF-268F-4C72-AD44-4E536491B62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8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039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0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85DD-9674-4035-BC0B-B0FD77670FD2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 type="sldNum" idx="6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0083-A260-4B4D-BBD1-E88F6BD060B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5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086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7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F398-24D6-47A8-BC69-A1D76AFBFFA8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 type="sldNum" idx="6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7042-C545-440B-B056-E21100DEE7C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2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133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89D9-7C1C-445F-B1FF-AAD323C54480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7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0AEB-E81F-4984-B2FE-0B9CA7C9893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9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180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1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F554-8E09-45D8-AA54-C9FA32B5CB86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 type="sldNum" idx="7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390C-B17A-4484-9C4B-9E342A6B11F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6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227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73C1-7226-48A6-8170-0399E86B30BA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 type="ftr" idx="7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 type="sldNum" idx="7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2765-24D1-454F-936E-659B8781EE3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F063-3862-4ED0-BC27-23D506E06FF4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0C61-6547-4F38-AB28-6ABB3AEC27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3A56-1527-4538-9759-9E16B6D36DC5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5BC4-2160-4BD0-B65D-36117F191F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E656-9E43-4E15-BA98-604CC931AB91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6EAA-119A-4625-B964-983C2FC419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C334-A5C2-432E-899A-774E605B6C8C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7310-F682-4169-9B61-DA9440A877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B378-6DE6-46BE-B61A-183098D7C45C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C714-40A8-4E0B-AA1B-96C2BCF396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C314-1076-4354-BDE5-1B44F6171BA3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429A-037D-4DA7-AEBA-1707AC87B1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B6E3-D038-4E49-9112-D7351DD93995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881A-A39B-4E8A-A40C-24BB84E51B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E16D-7C31-4444-A692-32521A67482C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5BB3-5700-4EBC-96C5-91A4CBA1D6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28D4-3C85-4BF1-AC26-B9A40CCBFC1E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90D1-0D20-4637-A11F-A86308B384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D124-EC5A-4C6F-9562-B0E184F15F33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2435-3A18-4F37-A42C-5248AA6EC1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F610-3FF3-4349-A8F4-F0ADC17852CD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2A3D-39AF-4E7F-9F29-D707A7C545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3DEF-6727-478E-B910-C0821C69D500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68D1-D9E7-4828-A0F1-CB26E5CC0E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AE29-BEB4-4CCE-BDB3-065FD143FE31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35D8-17A8-4BFA-8C7F-E32D021EB3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48FE-4354-47FC-9258-8CC76DED5FEB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7D5B-A0A7-47F7-92E8-C1D4BA02D8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3A1E-84FE-45B0-96A1-C1690E545FEE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A9E4-A150-43E0-83BA-7D36C7D265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2039-6B12-49AD-A0E0-9BA9354B15A0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027E-019B-43FC-A265-F863B97070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5C3A-1BFE-4FEC-9240-17C54781CE6D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780D-D10F-4819-BC8B-57F00A3699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85AD-F86C-45F9-96D2-164CEA6B0FCA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FF45-B2D5-4652-9889-D6C31442D9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9A92-6B0D-484B-9D7A-CA41E393B5A1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3695-5E9B-4BF1-9D74-AD89122C1D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391B-EDD8-4D1E-90E4-48BF2DBE3285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1000-A75B-4ABA-BDCA-5F56134F8C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81D9-10AD-4D15-BD78-FD342A00BDD1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0C08-8C6D-4A01-A730-23EA80D8ED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B671-E395-44F7-9B59-EA5FDD300306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BEAA-73FD-4150-B385-0826827291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4B6F-889E-4BD6-A5DC-7FF051BA3435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0164-0065-479C-8F51-8F7122CB80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BF5E-2361-4FD5-960D-CC952008416D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FCCE-C619-47B5-8399-4D6B6685F8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183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186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18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19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5214-E1C6-45C0-93C8-0C0E0510786C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0594-42D1-4763-849C-273E9BB4E27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235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238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239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242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136B-3510-4692-B67C-1353981259CA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B42A-52C3-44FB-BFBD-A2196FC42C9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287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290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291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294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4AC3-BC60-490B-87F1-9414DFC7606E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EC65-D93F-4C87-AE08-523DE99F8B4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339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1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342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343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346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5B20-6815-4A6A-A230-10C2413116FA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9406-3376-4024-9D1D-C104BBE0352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391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394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395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398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62B2-3FB4-4C99-9C7B-2E677945BD08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0933-8EF5-4669-840E-A7A63C1EED6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5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5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13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5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5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WordArt 4"/>
          <p:cNvSpPr/>
          <p:nvPr/>
        </p:nvSpPr>
        <p:spPr>
          <a:xfrm>
            <a:off x="1752480" y="2895480"/>
            <a:ext cx="5639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7641-3D90-46D8-91BF-A69684F0B5C7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A7F2-AB39-42B0-9931-5B740C4490B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2" name="Picture 5" descr="logo.gif"/>
          <p:cNvPicPr/>
          <p:nvPr/>
        </p:nvPicPr>
        <p:blipFill>
          <a:blip r:embed="rId1"/>
          <a:stretch/>
        </p:blipFill>
        <p:spPr>
          <a:xfrm>
            <a:off x="6629400" y="228600"/>
            <a:ext cx="2413080" cy="695160"/>
          </a:xfrm>
          <a:prstGeom prst="rect">
            <a:avLst/>
          </a:prstGeom>
          <a:ln w="0">
            <a:noFill/>
          </a:ln>
        </p:spPr>
      </p:pic>
      <p:sp>
        <p:nvSpPr>
          <p:cNvPr id="2183" name="Straight Connector 6"/>
          <p:cNvSpPr/>
          <p:nvPr/>
        </p:nvSpPr>
        <p:spPr>
          <a:xfrm>
            <a:off x="1752480" y="1066680"/>
            <a:ext cx="5334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4" name="Picture 7" descr="ksulogo3.png"/>
          <p:cNvPicPr/>
          <p:nvPr/>
        </p:nvPicPr>
        <p:blipFill>
          <a:blip r:embed="rId2"/>
          <a:stretch/>
        </p:blipFill>
        <p:spPr>
          <a:xfrm>
            <a:off x="304920" y="295200"/>
            <a:ext cx="1752480" cy="655560"/>
          </a:xfrm>
          <a:prstGeom prst="rect">
            <a:avLst/>
          </a:prstGeom>
          <a:ln w="0">
            <a:noFill/>
          </a:ln>
        </p:spPr>
      </p:pic>
      <p:sp>
        <p:nvSpPr>
          <p:cNvPr id="2185" name="Rectangle 8"/>
          <p:cNvSpPr/>
          <p:nvPr/>
        </p:nvSpPr>
        <p:spPr>
          <a:xfrm>
            <a:off x="3593160" y="495288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1435-14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2014-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Rectangle 9"/>
          <p:cNvSpPr/>
          <p:nvPr/>
        </p:nvSpPr>
        <p:spPr>
          <a:xfrm>
            <a:off x="3287880" y="1905120"/>
            <a:ext cx="181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mi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7" name="Picture 1" descr="100px-Methylamine-3D-balls.png"/>
          <p:cNvPicPr/>
          <p:nvPr/>
        </p:nvPicPr>
        <p:blipFill>
          <a:blip r:embed="rId3"/>
          <a:stretch/>
        </p:blipFill>
        <p:spPr>
          <a:xfrm>
            <a:off x="2743200" y="2743200"/>
            <a:ext cx="3149640" cy="2330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1" name="Slide Number Placeholder 2"/>
          <p:cNvSpPr/>
          <p:nvPr/>
        </p:nvSpPr>
        <p:spPr>
          <a:xfrm>
            <a:off x="8083440" y="633420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C8A7-6FCC-4A4B-B3FC-F478FE9D848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"/>
          <p:cNvSpPr txBox="1"/>
          <p:nvPr/>
        </p:nvSpPr>
        <p:spPr>
          <a:xfrm>
            <a:off x="75960" y="1449000"/>
            <a:ext cx="70102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) Alkylation of Ammon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125000"/>
              <a:buFont typeface="Wingdings" charset="2"/>
              <a:buChar char=""/>
              <a:tabLst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) Reduction of Nitro group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125000"/>
              <a:buFont typeface="Wingdings" charset="2"/>
              <a:buChar char=""/>
              <a:tabLst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125000"/>
              <a:buFont typeface="Wingdings" charset="2"/>
              <a:buChar char=""/>
              <a:tabLst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) Reduction of Nitri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125000"/>
              <a:buFont typeface="Wingdings" charset="2"/>
              <a:buChar char=""/>
              <a:tabLst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) Reduction of Amid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125000"/>
              <a:buFont typeface="Wingdings" charset="2"/>
              <a:buChar char=""/>
              <a:tabLst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Preparation Of Am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4" name="Object 1"/>
          <p:cNvGraphicFramePr/>
          <p:nvPr/>
        </p:nvGraphicFramePr>
        <p:xfrm>
          <a:off x="685800" y="1752480"/>
          <a:ext cx="7799400" cy="6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9940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6" name="Rectangle 3"/>
          <p:cNvSpPr/>
          <p:nvPr/>
        </p:nvSpPr>
        <p:spPr>
          <a:xfrm>
            <a:off x="0" y="-198360"/>
            <a:ext cx="18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7" name="Object 2"/>
          <p:cNvGraphicFramePr/>
          <p:nvPr/>
        </p:nvGraphicFramePr>
        <p:xfrm>
          <a:off x="914400" y="3200400"/>
          <a:ext cx="5184720" cy="4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200400"/>
                    <a:ext cx="51847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9" name="Object 5"/>
          <p:cNvGraphicFramePr/>
          <p:nvPr/>
        </p:nvGraphicFramePr>
        <p:xfrm>
          <a:off x="2590920" y="5867280"/>
          <a:ext cx="5040360" cy="80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5867280"/>
                    <a:ext cx="50403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1" name="Object 1"/>
          <p:cNvGraphicFramePr/>
          <p:nvPr/>
        </p:nvGraphicFramePr>
        <p:xfrm>
          <a:off x="990720" y="4648320"/>
          <a:ext cx="5844960" cy="76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12" name="Object 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4648320"/>
                    <a:ext cx="58449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13" name="Picture 6" descr="ksulogo2.png"/>
          <p:cNvPicPr/>
          <p:nvPr/>
        </p:nvPicPr>
        <p:blipFill>
          <a:blip r:embed="rId9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14" name="Picture 7" descr="images.jpeg"/>
          <p:cNvPicPr/>
          <p:nvPr/>
        </p:nvPicPr>
        <p:blipFill>
          <a:blip r:embed="rId10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315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Straight Connector 14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AutoShape 9"/>
          <p:cNvSpPr/>
          <p:nvPr/>
        </p:nvSpPr>
        <p:spPr>
          <a:xfrm>
            <a:off x="1785960" y="4214880"/>
            <a:ext cx="4772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Content Placeholder 5"/>
          <p:cNvSpPr/>
          <p:nvPr/>
        </p:nvSpPr>
        <p:spPr>
          <a:xfrm>
            <a:off x="0" y="1371600"/>
            <a:ext cx="9005760" cy="53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Salts Form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mides Formation: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Imines Form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Diazonium Salts Form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9" name="Object 1"/>
          <p:cNvGraphicFramePr/>
          <p:nvPr/>
        </p:nvGraphicFramePr>
        <p:xfrm>
          <a:off x="2133720" y="1676520"/>
          <a:ext cx="4537080" cy="51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76520"/>
                    <a:ext cx="45370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1" name="Object 2"/>
          <p:cNvGraphicFramePr/>
          <p:nvPr/>
        </p:nvGraphicFramePr>
        <p:xfrm>
          <a:off x="2362320" y="2590920"/>
          <a:ext cx="55753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590920"/>
                    <a:ext cx="5575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3" name="Object 3"/>
          <p:cNvGraphicFramePr/>
          <p:nvPr/>
        </p:nvGraphicFramePr>
        <p:xfrm>
          <a:off x="2362320" y="3429000"/>
          <a:ext cx="541800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4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429000"/>
                    <a:ext cx="54180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5" name="Title 5"/>
          <p:cNvSpPr/>
          <p:nvPr/>
        </p:nvSpPr>
        <p:spPr>
          <a:xfrm>
            <a:off x="0" y="650880"/>
            <a:ext cx="3048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Reaction of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6" name="Object 1"/>
          <p:cNvGraphicFramePr/>
          <p:nvPr/>
        </p:nvGraphicFramePr>
        <p:xfrm>
          <a:off x="1600200" y="4495680"/>
          <a:ext cx="6157800" cy="137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27" name="Object 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495680"/>
                    <a:ext cx="615780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8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Slide Number Placeholder 1"/>
          <p:cNvSpPr/>
          <p:nvPr/>
        </p:nvSpPr>
        <p:spPr>
          <a:xfrm>
            <a:off x="7948440" y="640080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D668-5135-4E02-91C3-900DBE586AC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0" name="Picture 6" descr="ksulogo2.png"/>
          <p:cNvPicPr/>
          <p:nvPr/>
        </p:nvPicPr>
        <p:blipFill>
          <a:blip r:embed="rId9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31" name="Picture 7" descr="images.jpeg"/>
          <p:cNvPicPr/>
          <p:nvPr/>
        </p:nvPicPr>
        <p:blipFill>
          <a:blip r:embed="rId10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332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Straight Connector 14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4" name="TextBox 2"/>
          <p:cNvSpPr/>
          <p:nvPr/>
        </p:nvSpPr>
        <p:spPr>
          <a:xfrm>
            <a:off x="3515040" y="6064200"/>
            <a:ext cx="31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zonium sal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benzene diazonium chlorid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Title 3"/>
          <p:cNvSpPr/>
          <p:nvPr/>
        </p:nvSpPr>
        <p:spPr>
          <a:xfrm>
            <a:off x="2819520" y="609480"/>
            <a:ext cx="266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Content Placeholder 5"/>
          <p:cNvSpPr/>
          <p:nvPr/>
        </p:nvSpPr>
        <p:spPr>
          <a:xfrm>
            <a:off x="7920" y="1557360"/>
            <a:ext cx="83376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the structure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nitrobenzylami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to prepare ethylamine from acetamid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are aliphatic amines is more basic than aromatic amin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 the stronger base from each pair of compound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7" name="Object 1"/>
          <p:cNvGraphicFramePr/>
          <p:nvPr/>
        </p:nvGraphicFramePr>
        <p:xfrm>
          <a:off x="1981080" y="3494160"/>
          <a:ext cx="4496040" cy="32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494160"/>
                    <a:ext cx="4496040" cy="32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9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EBD7-F319-4DC5-851A-F058938F68D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1" name="Picture 6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42" name="Picture 7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343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Thank You for your kind attention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subTitle"/>
          </p:nvPr>
        </p:nvSpPr>
        <p:spPr>
          <a:xfrm>
            <a:off x="2666880" y="2819160"/>
            <a:ext cx="369576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Slide Numb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9842-3CE3-4F6B-A540-50BB08BC7B1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8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49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350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1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F312-362D-4EFB-920D-77D2AB08AC5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-76320" y="1066320"/>
            <a:ext cx="303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Rectangle 9"/>
          <p:cNvSpPr/>
          <p:nvPr/>
        </p:nvSpPr>
        <p:spPr>
          <a:xfrm>
            <a:off x="0" y="175320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hapter ten discusses the following topics and by the end of this chapter the students wi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structur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classification of am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 rules for amines &amp; precedence order of functional groups in compounds have more than one functional gro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properties of am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effect of lone pair of electrons of N atom on basic properties of am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t methods used i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thesis of am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reactions of amines; in addition to behaving as bases amines can be nucleophi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2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193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194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Text Box 2"/>
          <p:cNvSpPr/>
          <p:nvPr/>
        </p:nvSpPr>
        <p:spPr>
          <a:xfrm>
            <a:off x="19080" y="106668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tructure &amp; Class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Line 3"/>
          <p:cNvSpPr/>
          <p:nvPr/>
        </p:nvSpPr>
        <p:spPr>
          <a:xfrm>
            <a:off x="8826480" y="6603840"/>
            <a:ext cx="190440" cy="1800"/>
          </a:xfrm>
          <a:prstGeom prst="line">
            <a:avLst/>
          </a:prstGeom>
          <a:ln w="7632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AutoShape 4">
            <a:hlinkClick r:id="" action="ppaction://hlinkshowjump?jump=nextslide"/>
          </p:cNvPr>
          <p:cNvSpPr/>
          <p:nvPr/>
        </p:nvSpPr>
        <p:spPr>
          <a:xfrm>
            <a:off x="8661240" y="6413400"/>
            <a:ext cx="457200" cy="393840"/>
          </a:xfrm>
          <a:custGeom>
            <a:avLst/>
            <a:gdLst>
              <a:gd name="textAreaLeft" fmla="*/ 25200 w 457200"/>
              <a:gd name="textAreaRight" fmla="*/ 432000 w 45720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072" h="21600">
                <a:moveTo>
                  <a:pt x="0" y="0"/>
                </a:moveTo>
                <a:lnTo>
                  <a:pt x="25072" y="0"/>
                </a:lnTo>
                <a:lnTo>
                  <a:pt x="25072" y="21600"/>
                </a:lnTo>
                <a:lnTo>
                  <a:pt x="0" y="21600"/>
                </a:lnTo>
                <a:close/>
              </a:path>
              <a:path fill="lightenLess" w="25072" h="21600">
                <a:moveTo>
                  <a:pt x="0" y="0"/>
                </a:moveTo>
                <a:lnTo>
                  <a:pt x="25072" y="0"/>
                </a:lnTo>
                <a:lnTo>
                  <a:pt x="23672" y="1400"/>
                </a:lnTo>
                <a:lnTo>
                  <a:pt x="1400" y="1400"/>
                </a:lnTo>
                <a:close/>
              </a:path>
              <a:path fill="darken" w="25072" h="21600">
                <a:moveTo>
                  <a:pt x="25072" y="0"/>
                </a:moveTo>
                <a:lnTo>
                  <a:pt x="25072" y="21600"/>
                </a:lnTo>
                <a:lnTo>
                  <a:pt x="23672" y="20200"/>
                </a:lnTo>
                <a:lnTo>
                  <a:pt x="23672" y="1400"/>
                </a:lnTo>
                <a:close/>
              </a:path>
              <a:path fill="darkenLess" w="25072" h="21600">
                <a:moveTo>
                  <a:pt x="25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72" y="20200"/>
                </a:lnTo>
                <a:close/>
              </a:path>
              <a:path fill="lighten" w="25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Line 5"/>
          <p:cNvSpPr/>
          <p:nvPr/>
        </p:nvSpPr>
        <p:spPr>
          <a:xfrm flipH="1">
            <a:off x="139320" y="6603840"/>
            <a:ext cx="190440" cy="0"/>
          </a:xfrm>
          <a:prstGeom prst="line">
            <a:avLst/>
          </a:prstGeom>
          <a:ln w="7632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AutoShape 6">
            <a:hlinkClick r:id="" action="ppaction://hlinkshowjump?jump=previousslide"/>
          </p:cNvPr>
          <p:cNvSpPr/>
          <p:nvPr/>
        </p:nvSpPr>
        <p:spPr>
          <a:xfrm>
            <a:off x="139680" y="6413400"/>
            <a:ext cx="343080" cy="393840"/>
          </a:xfrm>
          <a:custGeom>
            <a:avLst/>
            <a:gdLst>
              <a:gd name="textAreaLeft" fmla="*/ 21960 w 343080"/>
              <a:gd name="textAreaRight" fmla="*/ 321120 w 343080"/>
              <a:gd name="textAreaTop" fmla="*/ 21960 h 393840"/>
              <a:gd name="textAreaBottom" fmla="*/ 371880 h 393840"/>
            </a:gdLst>
            <a:ahLst/>
            <a:rect l="textAreaLeft" t="textAreaTop" r="textAreaRight" b="textAreaBottom"/>
            <a:pathLst>
              <a:path w="21600" h="24792">
                <a:moveTo>
                  <a:pt x="0" y="0"/>
                </a:moveTo>
                <a:lnTo>
                  <a:pt x="21600" y="0"/>
                </a:lnTo>
                <a:lnTo>
                  <a:pt x="21600" y="24792"/>
                </a:lnTo>
                <a:lnTo>
                  <a:pt x="0" y="24792"/>
                </a:lnTo>
                <a:close/>
              </a:path>
              <a:path fill="lightenLess" w="21600" h="247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92">
                <a:moveTo>
                  <a:pt x="21600" y="0"/>
                </a:moveTo>
                <a:lnTo>
                  <a:pt x="21600" y="24792"/>
                </a:lnTo>
                <a:lnTo>
                  <a:pt x="20200" y="23393"/>
                </a:lnTo>
                <a:lnTo>
                  <a:pt x="20200" y="1400"/>
                </a:lnTo>
                <a:close/>
              </a:path>
              <a:path fill="darkenLess" w="21600" h="24792">
                <a:moveTo>
                  <a:pt x="21600" y="24792"/>
                </a:moveTo>
                <a:lnTo>
                  <a:pt x="0" y="24792"/>
                </a:lnTo>
                <a:lnTo>
                  <a:pt x="1400" y="23393"/>
                </a:lnTo>
                <a:lnTo>
                  <a:pt x="20200" y="23393"/>
                </a:lnTo>
                <a:close/>
              </a:path>
              <a:path fill="lighten" w="21600" h="24792">
                <a:moveTo>
                  <a:pt x="0" y="247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Text Box 7"/>
          <p:cNvSpPr/>
          <p:nvPr/>
        </p:nvSpPr>
        <p:spPr>
          <a:xfrm>
            <a:off x="0" y="1828800"/>
            <a:ext cx="914400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Amine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derivatives of ammonia that have one or more of the hydrogen replaced with alkyl and/ or aryl gro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Amines: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a class of organic compounds that contain the N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Amine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formed in many biological systems. So it used as drugs and medic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Classification Of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primary (1</a:t>
            </a:r>
            <a:r>
              <a:rPr b="1" lang="en-GB" sz="2400" spc="-1" strike="noStrike" baseline="30000">
                <a:solidFill>
                  <a:srgbClr val="00808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) amines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secondary (2</a:t>
            </a:r>
            <a:r>
              <a:rPr b="1" lang="en-GB" sz="2400" spc="-1" strike="noStrike" baseline="30000">
                <a:solidFill>
                  <a:srgbClr val="00808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) amines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tertiary (3</a:t>
            </a:r>
            <a:r>
              <a:rPr b="1" lang="en-GB" sz="2400" spc="-1" strike="noStrike" baseline="30000">
                <a:solidFill>
                  <a:srgbClr val="00808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) amines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2" name="Group 8"/>
          <p:cNvGrpSpPr/>
          <p:nvPr/>
        </p:nvGrpSpPr>
        <p:grpSpPr>
          <a:xfrm>
            <a:off x="1012320" y="4333680"/>
            <a:ext cx="840600" cy="1229400"/>
            <a:chOff x="1012320" y="4333680"/>
            <a:chExt cx="840600" cy="1229400"/>
          </a:xfrm>
        </p:grpSpPr>
        <p:sp>
          <p:nvSpPr>
            <p:cNvPr id="2203" name="Text Box 9"/>
            <p:cNvSpPr/>
            <p:nvPr/>
          </p:nvSpPr>
          <p:spPr>
            <a:xfrm>
              <a:off x="1012320" y="4723560"/>
              <a:ext cx="84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Line 12"/>
            <p:cNvSpPr/>
            <p:nvPr/>
          </p:nvSpPr>
          <p:spPr>
            <a:xfrm>
              <a:off x="1281240" y="4940640"/>
              <a:ext cx="2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Line 17"/>
            <p:cNvSpPr/>
            <p:nvPr/>
          </p:nvSpPr>
          <p:spPr>
            <a:xfrm flipV="1">
              <a:off x="1584360" y="5064120"/>
              <a:ext cx="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Text Box 18"/>
            <p:cNvSpPr/>
            <p:nvPr/>
          </p:nvSpPr>
          <p:spPr>
            <a:xfrm>
              <a:off x="1438200" y="52257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19"/>
            <p:cNvSpPr/>
            <p:nvPr/>
          </p:nvSpPr>
          <p:spPr>
            <a:xfrm flipV="1">
              <a:off x="1584360" y="4640400"/>
              <a:ext cx="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Text Box 20"/>
            <p:cNvSpPr/>
            <p:nvPr/>
          </p:nvSpPr>
          <p:spPr>
            <a:xfrm>
              <a:off x="1438200" y="4333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9" name="Group 15"/>
          <p:cNvGrpSpPr/>
          <p:nvPr/>
        </p:nvGrpSpPr>
        <p:grpSpPr>
          <a:xfrm>
            <a:off x="4041000" y="4409640"/>
            <a:ext cx="840600" cy="1229400"/>
            <a:chOff x="4041000" y="4409640"/>
            <a:chExt cx="840600" cy="1229400"/>
          </a:xfrm>
        </p:grpSpPr>
        <p:sp>
          <p:nvSpPr>
            <p:cNvPr id="2210" name="Text Box 28"/>
            <p:cNvSpPr/>
            <p:nvPr/>
          </p:nvSpPr>
          <p:spPr>
            <a:xfrm>
              <a:off x="4041000" y="4799520"/>
              <a:ext cx="84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29"/>
            <p:cNvSpPr/>
            <p:nvPr/>
          </p:nvSpPr>
          <p:spPr>
            <a:xfrm>
              <a:off x="4309920" y="5016600"/>
              <a:ext cx="2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30"/>
            <p:cNvSpPr/>
            <p:nvPr/>
          </p:nvSpPr>
          <p:spPr>
            <a:xfrm flipV="1">
              <a:off x="4613040" y="5140080"/>
              <a:ext cx="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Text Box 31"/>
            <p:cNvSpPr/>
            <p:nvPr/>
          </p:nvSpPr>
          <p:spPr>
            <a:xfrm>
              <a:off x="4466880" y="53017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32"/>
            <p:cNvSpPr/>
            <p:nvPr/>
          </p:nvSpPr>
          <p:spPr>
            <a:xfrm flipV="1">
              <a:off x="4613040" y="4716360"/>
              <a:ext cx="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Text Box 33"/>
            <p:cNvSpPr/>
            <p:nvPr/>
          </p:nvSpPr>
          <p:spPr>
            <a:xfrm>
              <a:off x="4466880" y="44096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6" name="Group 22"/>
          <p:cNvGrpSpPr/>
          <p:nvPr/>
        </p:nvGrpSpPr>
        <p:grpSpPr>
          <a:xfrm>
            <a:off x="7062120" y="4333680"/>
            <a:ext cx="840600" cy="1229400"/>
            <a:chOff x="7062120" y="4333680"/>
            <a:chExt cx="840600" cy="1229400"/>
          </a:xfrm>
        </p:grpSpPr>
        <p:sp>
          <p:nvSpPr>
            <p:cNvPr id="2217" name="Text Box 35"/>
            <p:cNvSpPr/>
            <p:nvPr/>
          </p:nvSpPr>
          <p:spPr>
            <a:xfrm>
              <a:off x="7062120" y="4723560"/>
              <a:ext cx="84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Line 36"/>
            <p:cNvSpPr/>
            <p:nvPr/>
          </p:nvSpPr>
          <p:spPr>
            <a:xfrm>
              <a:off x="7331040" y="4940640"/>
              <a:ext cx="2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Line 37"/>
            <p:cNvSpPr/>
            <p:nvPr/>
          </p:nvSpPr>
          <p:spPr>
            <a:xfrm flipV="1">
              <a:off x="7634160" y="5064120"/>
              <a:ext cx="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Text Box 38"/>
            <p:cNvSpPr/>
            <p:nvPr/>
          </p:nvSpPr>
          <p:spPr>
            <a:xfrm>
              <a:off x="7488000" y="52257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Line 39"/>
            <p:cNvSpPr/>
            <p:nvPr/>
          </p:nvSpPr>
          <p:spPr>
            <a:xfrm flipV="1">
              <a:off x="7634160" y="4640400"/>
              <a:ext cx="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Text Box 40"/>
            <p:cNvSpPr/>
            <p:nvPr/>
          </p:nvSpPr>
          <p:spPr>
            <a:xfrm>
              <a:off x="7488000" y="4333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3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14B4-7EB8-4DA8-B56D-C6E9C95D214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5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26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27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Straight Connector 34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Rectangle 4"/>
          <p:cNvSpPr/>
          <p:nvPr/>
        </p:nvSpPr>
        <p:spPr>
          <a:xfrm>
            <a:off x="88200" y="98568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ommon Nomenclature  Of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Rectangle 6"/>
          <p:cNvSpPr/>
          <p:nvPr/>
        </p:nvSpPr>
        <p:spPr>
          <a:xfrm>
            <a:off x="0" y="1371600"/>
            <a:ext cx="91440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201"/>
              </a:spcAft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mmon names of amines are derived by 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sting the name (s) of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 group (s) surrounding the nitrogen (in alphabetical order)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dding the suffix amine.</a:t>
            </a:r>
            <a:r>
              <a:rPr b="1" lang="en-GB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(</a:t>
            </a:r>
            <a:r>
              <a:rPr b="1" lang="ar-SA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N.B.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wo vowels come together ; the first must be omitted e.g. etha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a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1"/>
              </a:spcAft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al 2° &amp; 3° amines (i.e. the substituents surrounding the N atom are identical) are named by adding the multiplication prefix (di or  tri) to the name of the alkyl gro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Rectangle 13"/>
          <p:cNvSpPr/>
          <p:nvPr/>
        </p:nvSpPr>
        <p:spPr>
          <a:xfrm>
            <a:off x="1447920" y="4800600"/>
            <a:ext cx="739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Methylamine</a:t>
            </a:r>
            <a:r>
              <a:rPr b="1" lang="en-GB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Benzyl methyl amine                Trimethyl amine            </a:t>
            </a:r>
            <a:r>
              <a:rPr b="1" lang="ar-SA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ar-SA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ar-SA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ar-SA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3759-E673-4F48-BCA7-740C2550530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3" name="Object 22"/>
          <p:cNvGraphicFramePr/>
          <p:nvPr/>
        </p:nvGraphicFramePr>
        <p:xfrm>
          <a:off x="1752480" y="3105000"/>
          <a:ext cx="6248520" cy="17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4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105000"/>
                    <a:ext cx="6248520" cy="17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5" name="Rectangle 1"/>
          <p:cNvSpPr/>
          <p:nvPr/>
        </p:nvSpPr>
        <p:spPr>
          <a:xfrm>
            <a:off x="17280" y="5181480"/>
            <a:ext cx="8075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s with  higher priority groups, the NH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s called ami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6" name="Object 3"/>
          <p:cNvGraphicFramePr/>
          <p:nvPr/>
        </p:nvGraphicFramePr>
        <p:xfrm>
          <a:off x="2971800" y="5715000"/>
          <a:ext cx="1995480" cy="11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5715000"/>
                    <a:ext cx="199548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8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9" name="Picture 6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40" name="Picture 7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41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Rectangle 4"/>
          <p:cNvSpPr/>
          <p:nvPr/>
        </p:nvSpPr>
        <p:spPr>
          <a:xfrm>
            <a:off x="119160" y="914400"/>
            <a:ext cx="47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UPAC Names Of Primary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D82C-1100-4DBA-BA4D-E8B221A4D22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5" name="Object 5"/>
          <p:cNvGraphicFramePr/>
          <p:nvPr/>
        </p:nvGraphicFramePr>
        <p:xfrm>
          <a:off x="609480" y="4064040"/>
          <a:ext cx="777240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064040"/>
                    <a:ext cx="77724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7" name="Rectangle 9"/>
          <p:cNvSpPr/>
          <p:nvPr/>
        </p:nvSpPr>
        <p:spPr>
          <a:xfrm>
            <a:off x="0" y="1290600"/>
            <a:ext cx="914400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 the  compound  does not  contain a  functional group  except  amino group, then  the  compound  is named by finding the longest alkane chain containing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mino group and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placing the e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the IUPAC name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y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ffix am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ever   if   the  compound  contain  other  functional   groups   then   the   order    of precedence determines which group are named with prefix or suffix.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see the precedence table on slide 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ighest precedence group takes the appropriate suffix with all other groups taking the prefix (es), however = or </a:t>
            </a:r>
            <a:r>
              <a:rPr b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Ξ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onds only take suffix form (ene, yne respective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Rectangle 11"/>
          <p:cNvSpPr/>
          <p:nvPr/>
        </p:nvSpPr>
        <p:spPr>
          <a:xfrm>
            <a:off x="0" y="5029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5-Methyl-3-hexanamine          5-Aminoheptanoic acid                   3-Amino-2-butan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9" name="Picture 15" descr=""/>
          <p:cNvPicPr/>
          <p:nvPr/>
        </p:nvPicPr>
        <p:blipFill>
          <a:blip r:embed="rId3"/>
          <a:stretch/>
        </p:blipFill>
        <p:spPr>
          <a:xfrm>
            <a:off x="1066680" y="5410080"/>
            <a:ext cx="6324840" cy="1347840"/>
          </a:xfrm>
          <a:prstGeom prst="rect">
            <a:avLst/>
          </a:prstGeom>
          <a:ln w="0">
            <a:noFill/>
          </a:ln>
        </p:spPr>
      </p:pic>
      <p:pic>
        <p:nvPicPr>
          <p:cNvPr id="2250" name="Picture 6" descr="ksulogo2.png"/>
          <p:cNvPicPr/>
          <p:nvPr/>
        </p:nvPicPr>
        <p:blipFill>
          <a:blip r:embed="rId4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51" name="Picture 7" descr="images.jpeg"/>
          <p:cNvPicPr/>
          <p:nvPr/>
        </p:nvPicPr>
        <p:blipFill>
          <a:blip r:embed="rId5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52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975A-82BD-460A-B28F-2948CDACA2C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5" name=""/>
          <p:cNvGraphicFramePr/>
          <p:nvPr/>
        </p:nvGraphicFramePr>
        <p:xfrm>
          <a:off x="228600" y="1523880"/>
          <a:ext cx="8763120" cy="4724640"/>
        </p:xfrm>
        <a:graphic>
          <a:graphicData uri="http://schemas.openxmlformats.org/drawingml/2006/table">
            <a:tbl>
              <a:tblPr/>
              <a:tblGrid>
                <a:gridCol w="3402000"/>
                <a:gridCol w="2135160"/>
                <a:gridCol w="1177920"/>
                <a:gridCol w="204804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Functional gro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Carboxylic ac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yclic alknes or alkenes with COOH gro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ic ac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boxylic ac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ldehyd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c alknes or alkenes with CHO gro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CH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Formy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baldehy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ket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C=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x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lcoh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hydrox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mi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NH</a:t>
                      </a:r>
                      <a:r>
                        <a:rPr b="1" lang="ar-SA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m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m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E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lkox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lkenes and aAlky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= &amp; </a:t>
                      </a:r>
                      <a:r>
                        <a:rPr b="1" lang="el-GR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Ξ</a:t>
                      </a: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bo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ene &amp; y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6" name="Rectangle 101"/>
          <p:cNvSpPr/>
          <p:nvPr/>
        </p:nvSpPr>
        <p:spPr>
          <a:xfrm>
            <a:off x="304920" y="9144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Precedence Order of Functional Groups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(</a:t>
            </a:r>
            <a:r>
              <a:rPr b="1" lang="ar-SA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Descending Order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8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59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60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Rectangle 4"/>
          <p:cNvSpPr/>
          <p:nvPr/>
        </p:nvSpPr>
        <p:spPr>
          <a:xfrm>
            <a:off x="0" y="1600200"/>
            <a:ext cx="9144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have common names accepted by the IUPAC system, but if the benzene ring contain groups of higher priorities (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&gt; CHO &gt; C=O &gt; OH &gt; NH</a:t>
            </a:r>
            <a:r>
              <a:rPr b="0" lang="ar-SA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in this case the amino group is added as a prefix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9860-1854-4AAE-8EC8-55E40097EE5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Rectangle 8"/>
          <p:cNvSpPr/>
          <p:nvPr/>
        </p:nvSpPr>
        <p:spPr>
          <a:xfrm>
            <a:off x="152280" y="4952880"/>
            <a:ext cx="906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Pyridine                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Aniline          </a:t>
            </a:r>
            <a:r>
              <a:rPr b="0" i="1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o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-Nitroaniline              </a:t>
            </a:r>
            <a:r>
              <a:rPr b="0" i="1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p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-Toluidine            </a:t>
            </a:r>
            <a:r>
              <a:rPr b="0" i="1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p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-Aminophenol           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Rectangle 9"/>
          <p:cNvSpPr/>
          <p:nvPr/>
        </p:nvSpPr>
        <p:spPr>
          <a:xfrm>
            <a:off x="-1080" y="1066680"/>
            <a:ext cx="40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aming Of Aromatic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7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68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69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1" name="Object 3"/>
          <p:cNvGraphicFramePr/>
          <p:nvPr/>
        </p:nvGraphicFramePr>
        <p:xfrm>
          <a:off x="152280" y="2989440"/>
          <a:ext cx="8436240" cy="196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989440"/>
                    <a:ext cx="8436240" cy="19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Rectangle 4"/>
          <p:cNvSpPr/>
          <p:nvPr/>
        </p:nvSpPr>
        <p:spPr>
          <a:xfrm>
            <a:off x="37080" y="838080"/>
            <a:ext cx="40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Physical Properties of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Rectangle 8"/>
          <p:cNvSpPr/>
          <p:nvPr/>
        </p:nvSpPr>
        <p:spPr>
          <a:xfrm>
            <a:off x="55440" y="1371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) Boiling point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Rectangle 9"/>
          <p:cNvSpPr/>
          <p:nvPr/>
        </p:nvSpPr>
        <p:spPr>
          <a:xfrm>
            <a:off x="12600" y="1679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cause they possess a polar N-H bond, primary and secondary amines are capable of forming  intramolecular hydrogen bonds among their molecules; therefore they have: 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higher boiling points than alkanes but lower than alcohols (alcohols form stronger H-bonds than amin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6" name="Picture 9" descr="pep6g"/>
          <p:cNvPicPr/>
          <p:nvPr/>
        </p:nvPicPr>
        <p:blipFill>
          <a:blip r:embed="rId1"/>
          <a:stretch/>
        </p:blipFill>
        <p:spPr>
          <a:xfrm>
            <a:off x="2971800" y="3657600"/>
            <a:ext cx="2228760" cy="1085760"/>
          </a:xfrm>
          <a:prstGeom prst="rect">
            <a:avLst/>
          </a:prstGeom>
          <a:ln w="0">
            <a:noFill/>
          </a:ln>
        </p:spPr>
      </p:pic>
      <p:sp>
        <p:nvSpPr>
          <p:cNvPr id="2277" name="Rectangle 4"/>
          <p:cNvSpPr/>
          <p:nvPr/>
        </p:nvSpPr>
        <p:spPr>
          <a:xfrm>
            <a:off x="74520" y="5029200"/>
            <a:ext cx="90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tiary amines can not form H-bonds among their molecules and their molecules are more branched thus they have the lowest boiling points among am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F147-C6C1-4117-B431-5F1A8831E38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0" name="Picture 6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1" name="Picture 7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82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Straight Connector 1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4"/>
          <p:cNvSpPr/>
          <p:nvPr/>
        </p:nvSpPr>
        <p:spPr>
          <a:xfrm>
            <a:off x="-9000" y="273852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3) </a:t>
            </a:r>
            <a:r>
              <a:rPr b="1" lang="ar-SA" sz="2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Basicity Of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Rectangle 8"/>
          <p:cNvSpPr/>
          <p:nvPr/>
        </p:nvSpPr>
        <p:spPr>
          <a:xfrm>
            <a:off x="-76320" y="3662280"/>
            <a:ext cx="9372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omatic amines less basic than aliphatic ami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 donating (releasing) groups on N atom increase the basic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 withdrawing groups decrease the basic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6" name="Rectangle 10"/>
          <p:cNvSpPr/>
          <p:nvPr/>
        </p:nvSpPr>
        <p:spPr>
          <a:xfrm>
            <a:off x="72360" y="32004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Base strength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A8F4-93E2-477D-AA89-9123244E11E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9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0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91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Rectangle 5"/>
          <p:cNvSpPr/>
          <p:nvPr/>
        </p:nvSpPr>
        <p:spPr>
          <a:xfrm>
            <a:off x="9000" y="91440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2) Solubility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Rectangle 6"/>
          <p:cNvSpPr/>
          <p:nvPr/>
        </p:nvSpPr>
        <p:spPr>
          <a:xfrm>
            <a:off x="0" y="1176480"/>
            <a:ext cx="899172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mines are capable of forming hydrogen bonds with water, alcohol (hydroxylic solvent) , thus they are </a:t>
            </a:r>
            <a:r>
              <a:rPr b="0" lang="en-US" sz="2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soluble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wat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ower molecular weight amines with up to six carbons show appreciable solubility in wat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5" name="Picture 8" descr="pep5g"/>
          <p:cNvPicPr/>
          <p:nvPr/>
        </p:nvPicPr>
        <p:blipFill>
          <a:blip r:embed="rId3"/>
          <a:stretch/>
        </p:blipFill>
        <p:spPr>
          <a:xfrm>
            <a:off x="4105440" y="2343240"/>
            <a:ext cx="2219040" cy="108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6" name="Object 1"/>
          <p:cNvGraphicFramePr/>
          <p:nvPr/>
        </p:nvGraphicFramePr>
        <p:xfrm>
          <a:off x="2057400" y="5829480"/>
          <a:ext cx="3860640" cy="88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97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5829480"/>
                    <a:ext cx="386064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8" name="Object 2"/>
          <p:cNvGraphicFramePr/>
          <p:nvPr/>
        </p:nvGraphicFramePr>
        <p:xfrm>
          <a:off x="1225440" y="4770360"/>
          <a:ext cx="5945400" cy="1006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9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25440" y="4770360"/>
                    <a:ext cx="594540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16:56Z</dcterms:created>
  <dc:creator>NCCR</dc:creator>
  <dc:description/>
  <cp:keywords/>
  <dc:language>en-US</dc:language>
  <cp:lastModifiedBy>Student</cp:lastModifiedBy>
  <cp:lastPrinted>2015-01-28T02:12:22Z</cp:lastPrinted>
  <dcterms:modified xsi:type="dcterms:W3CDTF">2015-04-01T05:25:25Z</dcterms:modified>
  <cp:revision>131</cp:revision>
  <dc:subject/>
  <dc:title>TYPES OF HYBRIDIZATION AND GEOMETRY OF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480</vt:lpwstr>
  </property>
</Properties>
</file>