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3.png" ContentType="image/png"/>
  <Override PartName="/ppt/media/image2.png" ContentType="image/png"/>
  <Override PartName="/ppt/media/image29.wmf" ContentType="image/x-wmf"/>
  <Override PartName="/ppt/media/image18.png" ContentType="image/png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png" ContentType="image/png"/>
  <Override PartName="/ppt/media/image10.png" ContentType="image/png"/>
  <Override PartName="/ppt/media/image28.wmf" ContentType="image/x-wmf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notesMasterIdLst>
    <p:notesMasterId r:id="rId50"/>
  </p:notesMasterIdLst>
  <p:sldIdLst>
    <p:sldId id="256" r:id="rId51"/>
    <p:sldId id="257" r:id="rId52"/>
    <p:sldId id="258" r:id="rId53"/>
    <p:sldId id="259" r:id="rId54"/>
    <p:sldId id="260" r:id="rId55"/>
    <p:sldId id="261" r:id="rId56"/>
    <p:sldId id="262" r:id="rId57"/>
    <p:sldId id="263" r:id="rId58"/>
    <p:sldId id="264" r:id="rId59"/>
    <p:sldId id="265" r:id="rId60"/>
    <p:sldId id="266" r:id="rId61"/>
    <p:sldId id="267" r:id="rId62"/>
    <p:sldId id="268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notesMaster" Target="notesMasters/notesMaster1.xml"/><Relationship Id="rId51" Type="http://schemas.openxmlformats.org/officeDocument/2006/relationships/slide" Target="slides/slide1.xml"/><Relationship Id="rId52" Type="http://schemas.openxmlformats.org/officeDocument/2006/relationships/slide" Target="slides/slide2.xml"/><Relationship Id="rId53" Type="http://schemas.openxmlformats.org/officeDocument/2006/relationships/slide" Target="slides/slide3.xml"/><Relationship Id="rId54" Type="http://schemas.openxmlformats.org/officeDocument/2006/relationships/slide" Target="slides/slide4.xml"/><Relationship Id="rId55" Type="http://schemas.openxmlformats.org/officeDocument/2006/relationships/slide" Target="slides/slide5.xml"/><Relationship Id="rId56" Type="http://schemas.openxmlformats.org/officeDocument/2006/relationships/slide" Target="slides/slide6.xml"/><Relationship Id="rId57" Type="http://schemas.openxmlformats.org/officeDocument/2006/relationships/slide" Target="slides/slide7.xml"/><Relationship Id="rId58" Type="http://schemas.openxmlformats.org/officeDocument/2006/relationships/slide" Target="slides/slide8.xml"/><Relationship Id="rId59" Type="http://schemas.openxmlformats.org/officeDocument/2006/relationships/slide" Target="slides/slide9.xml"/><Relationship Id="rId60" Type="http://schemas.openxmlformats.org/officeDocument/2006/relationships/slide" Target="slides/slide10.xml"/><Relationship Id="rId61" Type="http://schemas.openxmlformats.org/officeDocument/2006/relationships/slide" Target="slides/slide11.xml"/><Relationship Id="rId62" Type="http://schemas.openxmlformats.org/officeDocument/2006/relationships/slide" Target="slides/slide12.xml"/><Relationship Id="rId63" Type="http://schemas.openxmlformats.org/officeDocument/2006/relationships/slide" Target="slides/slide13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dt" idx="1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ftr" idx="1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PlaceHolder 6"/>
          <p:cNvSpPr>
            <a:spLocks noGrp="1"/>
          </p:cNvSpPr>
          <p:nvPr>
            <p:ph type="sldNum" idx="1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4C99-D4ED-4CA1-BE9E-B526167B5A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C568-35FE-4C23-B511-9EEC2B6FFBB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2FD8-3A37-4EFD-9341-960E3DD6F2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B9B6-3158-4991-A7C7-C1A94966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A37E-FB3B-4101-A522-6BF4C02F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09AFA-405E-4E63-95BA-C521A9EF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9C8AE-C9B8-43AE-A16B-20ADF159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C5B6C-7FC3-4911-BAD8-794B4330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373B4-8280-4CC2-B823-BFEFA176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EAFAE-0FD8-41CE-993B-37B45C5A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20167-A8B3-4617-B7AA-7062949A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FD8B9-91D9-42E2-A8AF-1948E64E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41215-5B4A-485E-AEE1-DDA309B1B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A18AD-B1F0-4D8B-BA87-1AB55177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BE378-8EEA-45A8-BE26-BE9C5F00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66B5-FB25-4111-B573-E9FF9E045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AD3D2-CDF0-446A-8725-EF900C3D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30F0A-716C-4BE3-BFD7-4A9EE128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75598-832B-4286-9B9A-521D7BD4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03EE6-98BC-484B-AE42-D51DC8FA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AD6B1-72C8-4C47-B92F-FA3E826C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ECBC0-D432-44DB-8247-030D58AA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A953F-7F1F-40B2-A649-2D5E1907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C2710-9EBF-40B0-9376-AB0E3812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185E7-D20A-490F-973C-1A3BCDD2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B0353-798E-439D-83D6-A4077D71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6B8A-678B-48A8-A259-AF41DCE0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74641-5956-445E-9DB4-2C26DE7A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750CF-F798-4027-99D1-DC67D448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4E602-DFAD-4260-8821-1B585255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389C5-5167-496A-9D27-81FD5EB6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202A0-96DF-41CE-8BF5-D3CA80FD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31708-6122-47B3-8C09-3E3CC10A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AF4B9-42B3-434B-9D94-2E496653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DF714-DDCB-44D3-BD96-96E4DA41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4AEA0-EBC0-4A86-AD01-596FF0BF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CF7B6-F006-498B-A305-F0321762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15A5-DEAC-487E-889C-8EEB8846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C1C8D-5C2A-49F6-8915-C9ED32CF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5CD0C-F799-43B7-8A90-05ED5F5E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018C4-673E-40A2-849D-1F20949C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B7851-7744-4A8F-A366-3DF578E3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DFED6-F2B0-4B05-8A83-6F5B95FF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2608A-976E-4887-A67E-54034CF6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19F0E-B1EC-4DBB-A4B7-D952A79B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41E6D-E273-4C3E-B601-3891D6FC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FD36E-DB7C-436B-AD05-F1DCB2AC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C5B6F-2E8D-498A-A968-D49AFA38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F1F3-E462-4EAC-9EE8-E1DC37CF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96DC2-D946-4C85-AA3B-37CEC14A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B594E-9ED1-46F0-9575-3835F4C3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0D7D6-E241-479E-AE6A-2870C6D4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181210-ED22-4813-8EDE-1FE22BFF2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B73E8-D78E-42FB-A3A1-25B453F35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6F50D4-8D37-47B4-83C1-A8016A16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A82419-C98D-47EC-83CD-D6C012BB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148396-55B5-4978-A40B-A69A4848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68216F-1BA8-4B05-A742-7F686A58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A905A-E8ED-4F8A-9B7E-4F2CFC36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1C93-981B-4A6A-BF59-7CC440E2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C2A0CB-C1F2-4BA7-B881-ED8F1964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56DFED-6098-4BA8-9820-531860B1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84D602-B075-49BC-B884-B43143A9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B5873A-46E5-4D32-B648-776B047D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5BD811-3BD1-4A0F-A096-FCA4F6C4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CDCBCA-5CF6-45BF-B855-74CAE180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6B7428-90D8-49E9-9865-1F8791E3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D246DF-6476-4985-959F-C9187731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772778-FC0F-401A-AA6C-3C2331E2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AEE698-302E-4865-9F5C-BA8B0C26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B143-D35D-4003-A8D1-7B08DDA4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6C52B3-5EC0-4F3A-8763-2BC51F92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CBE5C4-3724-4C83-8456-9DC064C4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E465A4-18B4-4B30-A73E-9F85902A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AD1CE8-7BD7-4E70-91D3-8B22A065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631C77-40D0-4F23-ADFD-A3E68E0C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5667C3-4BFB-40F5-824D-38ADF8EB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85EB1A-195F-4DC5-AD17-77ED2389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B1BA94-8DC3-4712-AA03-2F4A07EED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F5C48E-2EBE-4A83-BED6-F1BBE7B3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2EF877-F470-424A-97D5-48B56A25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C4CA-AA47-4898-9E2A-7C6031B1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B0DB53-4189-4716-8797-F233D45A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7C7D0E-1838-4B87-9C77-60719069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E4ACC8-FB00-4D29-9A3F-323C11D0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DD9787-936B-4FDF-B15D-052DEBC8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FAA4D3-9703-418B-9B13-B36377CF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E0BB83-FC31-4B99-A9ED-8969968C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53A858-E851-4BD9-BCDB-F6122953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CB0D6A-03DA-4BEC-B1D3-EEE0F9E5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E764D6-0D2B-48B2-82D1-DAEF0727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D183AF-8AC2-46BE-ABBA-64FE46D3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409C-3DF4-4624-BD29-10373F9B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771624-31EB-485E-A605-E7D5B7A5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4DCD7A-DB0A-460C-B227-4B4D8DDC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F460AD-BC17-497B-971D-F7FAAA66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9779F9-36B7-4812-96F3-9FEED751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D7AAD1-6EAC-4A1C-9B9B-7F44EE70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EB6BC1-8DA7-43F3-B651-1488A970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7E7C19-259C-4590-99DF-FBCCF1FD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1C903A-DE97-4AE5-AC21-C6E9A955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BD3C6D-EA4C-4E7D-BAE3-8C23A168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99D095-CCDD-4989-B3D9-65674016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6ED3-CE32-4288-970E-CB1C452B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E42743-4AA9-4255-987C-904E8546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2AEF10-6B97-4A65-AB0A-886AC2BD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B59112-92E9-4721-A84A-971A86A9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5AD08B-8B11-4DB8-8282-DE11735A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081175-E724-46D6-BB74-FF7223A9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6C4113-5C28-48D8-A637-A57E6BD1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F00445-DE82-4E52-8047-BBCC0EC2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93FE34-5EC5-4FFD-B3F6-DEBBAAB4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D2DEB4-BCD4-45B5-8137-0D4520DA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67E75B-C131-4A7E-B31B-6552BA15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1EA-7602-4769-88DA-00A0AF9C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B473-937A-4FB7-A24D-91C9978D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502CEF-1083-459F-89A5-161C85AD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E34400-5CCA-45A3-A6DB-D4B0165C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54C2C3-AEE0-4339-8CB6-CE16EB57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4179E8-3086-4A44-B26A-E48A0596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CC9AD2-C0DB-4BC6-BA52-6AB669FA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7AF913-30DA-4A0A-A505-065840C8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0A179A-E68F-4CCC-95B5-67002DEA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CCC70E-8835-439A-8E01-6F30200E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2891D7-2E51-4C87-BF21-6FAA4B21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993E4F-2319-459E-B758-F4485A3A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E870-952B-4CF3-AB4F-1F28A4BA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4BD304-53D6-4185-8E9F-5F926AF2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B5EB90-C19E-4C22-A60D-FB6F29DE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1123D1-5DFD-443F-8936-14F21017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2E2D11-7783-4B94-8443-5FD9CD41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1FE60A-B139-4244-A5E7-0567A2FA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D5F6C3-8E4A-4F09-AFF0-C7EB6957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573468-73C8-40AF-B649-5DCFCF1D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584397-DBF1-41B8-AAC0-C5FC8A5A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FA0570-56D4-4823-9968-82F5A990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372730-3F2F-46E6-AADE-3AC9C654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55CA-387C-4E4B-AEDE-E9D90BBE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4D2E94-3195-4016-8201-DA5D1C1D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936A7E-CA71-4E91-AC97-F375ACED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6A7CC2-7D53-4734-B4DE-D6455C28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1A1FEE-0EB6-47BC-B666-DD01A160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C0153B-EB00-4D63-8031-9BBC666C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D5A890-F386-4796-BD3F-4E8D654F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4F9A08-8C2C-4F18-A3E6-F450EA55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9A269A-91E9-4C52-985B-9A1B1005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4AF9BA-F00D-49FE-987A-7937D22EC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AD4DD7-AEE8-427B-B8A1-A38898CF4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BC30-69AF-4FA9-8FF5-4AAF5432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3B0ACA-A7E9-4B7F-B6DC-BF6D4001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A3B5B6-75FF-4A52-96BF-F503A789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505F44-AD97-448F-8EF6-AD6847D7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82C80C-2ADC-456C-83C5-9BE5C2F9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0FF156-F147-47CF-B9AE-A976164E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32F73F-F4F9-4073-9A62-0533A672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000D61-6283-4027-87B6-88AB5473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C4A6D8-7036-4690-BB2C-156F21F5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396CDF-E8B0-41F2-846E-D3A6BD0E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4A9DE4-85A7-4E98-915F-FECEE13D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F877-DAEA-4195-A20A-68205452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79AD79-35BD-4579-A192-45EF1153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D23B9B-F8C1-4F3C-8BF3-82F1C159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D5316A-A7A4-4908-A342-8B730BB6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2DF5EE-B730-43EC-B216-9A15D68D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508F39-FF09-400B-9CBE-0428DF69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E05310-160A-4101-9691-625E1C66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8565FA-D593-4957-82C5-0785C7F2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B8F302-07F2-41BD-9D98-CD6080F6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54F433-77C4-4B54-BCDF-EBB0C8AF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8F4674-2B6A-4824-8A0F-3A1FABB4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9A8C4-BBEA-42C4-812A-F21904DAD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B506B2-E762-4452-B4D4-44D1F564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B62EF8-7078-470B-9583-E1F0CFF8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EC961C-9E3C-42DC-AEF1-A53706A5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FD08BB-4557-4478-AB20-4739DACD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A55F62-BDD3-49C3-B61A-D1983342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02F430-5776-43FD-B894-2E9666C8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0ECF5A-7377-4477-90CE-364037E3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599CE2-E52A-436D-B194-E2CD96F7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53A137-61D8-46CD-B493-A0326841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C4AC84-08A4-4476-A295-FDD8CCAA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D0DBB-F43C-46DD-9C56-67932227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0E7DC1-BD78-4A3F-9008-4111F818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A850B6-B6D2-43CF-BC40-9B58774C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50CBA5-7109-4F9C-BDAE-99C7BD15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ADF517-A959-4D66-A287-0D9C2BFB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CF2CC2-2E07-42DF-8641-F5340B63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E9BAB1-B370-4322-A515-24DCCF5D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1B6747-D3A4-4136-82BA-2D6AAB13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64928E-9A3E-461C-A068-46F3FA43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6A9185-8543-4D63-9E8D-024CF2DA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E77CE5-78A4-4751-B541-DA605A79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2885F-A21B-458F-B618-F154F72F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A01028-F66C-4D46-840F-7A939E2B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5AFA26-32B8-472F-904E-6D5B13AD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7D8CF2-885E-4F67-98EA-86077558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0248A3-5C8B-4A7E-97A1-5E1EE922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9BBDBF-B8EB-42B2-85F9-CB1AFBEE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CE930E-73F8-484D-B0B8-8C5FEE55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B7E0A5-FB0B-46DE-B57F-F916029B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EA32C9-259B-4532-BF79-95BB71EE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ACAB0C-598C-4511-98A3-DFA78F5F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76FE95-F744-466A-BE8E-3093E750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B4A54-C1E5-4F9E-8095-0A25A1ED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A71475-9D6A-43F9-B114-A99E3939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1A3D64-0681-4243-8985-7569B548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5F19BE-CDC8-4B6C-9F19-E62D680C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8DB2F7-50E3-4199-95C5-E76C5273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7F5B0A-C93D-442A-8504-0EEC2ADA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2872AB-211B-4178-8F80-C00B0D45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1EFBD2-3F83-4EF9-9B92-39789646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48CFBF-FB4A-4C52-B172-FECFC72D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613F18-9A45-42BD-9B63-AA3E63F5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4DAE4D-ED1C-4770-9184-5D049BCD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22842-463D-491D-8659-CFF2261F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37689C-EAB3-40F9-91D5-79DA3855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79906D-1F04-42C4-805F-EF759EA3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4C65F1-7894-4BFC-9A9B-F972D79B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0662D2-3898-4EAF-8D01-D48ECC0D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1D9E5F-AD3A-455F-A652-014EC9C1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CCDAC0-D563-4CA0-A801-FF05ECA0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88C33C-218B-4E82-955B-91612C69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443564-64EE-4967-826E-6B9A4686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977A12-9C06-4828-B0AC-DB7A986A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11AD0E-616C-4F35-827A-067CAC8B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F8D7-798C-4E3C-AC9B-365E2BA6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35874-5459-4289-B148-2065978E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94C352-1212-40AD-8D94-35BFE652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EEDD82-5863-401A-A75D-926E5E46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51FB4F-6086-4D17-873E-DFE4FBA6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A3DFEF-0DFB-4779-B81C-CE58DED3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6B3E06-6E85-46BD-942B-3E27FE35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8C77EF-2BE7-4586-83B2-17CE1D90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41EF65-DA49-46B7-B4DA-8C70CAD2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C66CA3-69F6-4D0F-A564-C660A0D8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59EB4F-2FFB-47C9-9515-045D7BCE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309F153-BCE5-4086-BA48-F94756CF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BDB6A-0E49-4CC7-B14F-B51BA395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DD30CA-C161-4A76-9236-C25A73DB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8E89FF-1EE4-49E5-8272-9486CAF7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4C1771-EFCC-42DE-B3BE-C8E5C225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F76513-9DD6-424C-8147-2D009A0F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042A54-1413-4403-84EC-24AEF9EA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9A6088-0EC1-4122-A99F-BEF55E12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988645-1FFB-4BA4-81E9-03DB4A6E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867801-3F13-4AE2-B52F-67A9487F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78C80E-7C36-4B32-A9F6-8A648C25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852881-FA0D-47FB-8E20-BEEE64C2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69E55-D11E-4404-8422-A5326974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8B8E57-E8FB-4391-9EE8-D31CA461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20C455-446C-41AD-B783-EC729356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269D56-126C-4EF5-BA1E-66E16D0C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EF144F-F198-4588-AF6B-3FA14D33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E707CA-3A36-4B0A-AC39-33913F10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950BAB-388A-400C-882A-CC8F2273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8334EF-425A-4918-8558-CEB8F8B7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C0911A-3CCD-48E4-B9E4-2154169E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D1ED09-78F9-4700-AE60-37878DC5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66B2DC-B940-4574-8053-4DA7271D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FEA36-7282-45A7-92CC-E533CFB4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63A232-1DD2-4EA5-94BD-7E63E409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6C77F7-9B6A-4722-90C0-4BDC3EEB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4FA208-48AA-4EE5-83B0-6FB73623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9170E8-83B1-410A-BC94-50616B28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C29C3C-3F8E-46A9-9EDF-DEA763EE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638325-3167-4E0E-9ED9-5EDDD626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460DB6-4889-4C42-8728-0938DC9CD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CCCE22E-24EE-47F3-B832-DA1EFDD1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2E355B-F54E-457E-B0E5-04CA341C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010F19-F743-4D5D-8552-C6678B38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4A479-6FB4-4973-A707-9EF4754A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2E7791-C736-4B3C-AF8E-319FA090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4A7A92-1C55-4415-9F83-07A598AF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2084F9-1DC6-4A74-A62B-FB917ECA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FAC6120-AFD8-4435-9678-834F3010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7F7D5C-ACCC-476E-9E87-5DE710E5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15F82B-7B89-447E-9E67-BD4E794E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ADCC25-3B43-4FB5-9831-907289CA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65CF87-9ED8-4469-BE98-24C0F73E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800A7AA-A858-4517-A924-2E16D9D1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6DB80D-1C96-4445-8D97-AB0DFDF6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1EF5C-4A56-4682-9C62-2A9C0090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96964B-18C5-42BB-9358-40E8291E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CC171F-0B1A-4091-A2CE-41A836BB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0398BD-0817-4044-9565-9806DA35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581523-AE7F-49F3-A6DC-8C25AD9D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D5F5236-32A7-4E15-8929-5A451476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440192-6E1D-4296-9DC9-9714B676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A8F856-C82B-4A5C-89D2-FE005346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218895-B24D-4413-917D-6A821759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8A42731-DBB0-47E7-B1F4-8AD63048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675A9E1-9975-4A2F-A7CF-9DAE689C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099E8-90BB-464F-A280-477F535B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8FFC8A-D40A-4565-B5E2-6D4BAB75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C8070F8-A9A3-47F1-B274-6AA73F05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2179A75-F46B-451D-B4DC-E7F1B4C9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DED2E8-34F9-4AB2-86F2-356D688C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118368-46DB-4B1C-9D6D-B2FBEB0C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967B82-4203-4817-B88A-3CB67F7F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DFE604D-2B2C-41FD-B21F-D296543D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029BC30-6B10-4F6D-B63D-6728ADAB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88594E-9D87-4BEC-A9D2-1B06A424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D9D5B8-991D-43AC-AB49-ACE98DD2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9346C-7AD5-42D9-9720-C3A906EE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966D5C5-302E-45C1-A2A0-015367C8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A1F966-406A-4198-A90B-A79393CE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55385B1-9C56-40DB-A965-2A8A96E3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57B48AA-336D-4B50-842E-F39248D0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57DE5FF-5194-4EDF-8622-F4849CB4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60F618-4E03-4CFC-AC4C-C77C70A6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9AAB34D-487F-4F4E-A5B9-23E24AC7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08170F1-4495-494B-A225-1858AB20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6F96011-599A-42A5-AC89-1CB31DCB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EA28904-2528-4871-92B1-7F2E65D3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1CA6E-24B5-4424-86C2-243A7C19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B87BA19-C8C3-47C8-8C2C-20E75451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6757600-A494-4944-8079-954599D2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EB5AFCF-0063-483D-973C-AB457250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F9D639E-476F-41B0-A92A-DE65913C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B6F30FD-B9AC-4DAC-B8F1-C8CC412B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B6F9AA3-D9EE-4709-994B-4478FCBE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5D3508-2F31-4F5D-B686-74160E58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22772D5-84AD-484D-BFC0-04B1BB20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4597FEC-0094-4071-9189-A9A3CB25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F59CE55-79C5-464A-957A-1F5240CE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E4B83-E5DB-46AC-9AA7-8CBEC147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6B3E900-8762-4A13-B997-C4D455D7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1907E23-D6DC-44FC-847B-63D8811E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A81B5F3-6AF5-45C8-A515-AAA7E724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C63F2BB-8699-408A-8A2E-44BA4C7A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5C87AF-492E-4B2D-86DA-C7A2D668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9CC8A5E-CCF4-4C7C-B63B-DCD2592D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2637A26-218B-4157-AEFE-CC52B74A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AA03619-8BFD-484A-B5C5-0DB3F4CD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F0E2504-190D-4435-8B2B-80041AE9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CAE935A-6BD5-4E34-8753-B34580AC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38C8-64EB-4061-8B21-9DEC19AB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05B9F-AD64-4F44-A063-73CC1230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5F5F73D-DF10-42E3-98A8-ECFF8174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0D05B78-5CAF-40FE-947F-5215CCFC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B88C4F4-FDE0-4E05-9C06-0EBA8E1F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389C8B7-9A7A-4876-AB8F-C18CF3E1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7BC8836-2002-42B6-BBD4-6A910CB5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1E550D3-A71D-4000-9EF8-D113AC3C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CE2FC48-5E4B-412A-8411-B734E870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31FC969-6CAB-4AB0-B68B-61908797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1BCBF12-1B35-4546-8A86-C9FCFDB5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3A946F1-D813-4FD8-8364-FDCA42465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22833-E07E-49AA-99CD-55FC288A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1340661-A686-4564-A3CB-0FA2A019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0B52E1B-B817-4E43-9A7C-E5F0541D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7DD15E4-B2A0-4CB9-8D5F-951A9D9B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325060E-3526-446C-B3E7-21410A0A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409B9C3-7BF1-4E2B-8C2F-B0D3B823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193AB73-5D52-47CC-AACB-248AD04F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4267CB2-80C8-4B51-AF17-04C5F1BF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5FEA887-8887-41A6-876E-2C064E23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3A6849F-6CE8-4E2C-8EE4-48F5B39C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A1DB5DE-D996-4F40-B099-D4BFC822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EAD3B-E8AD-4477-8B42-685F3B7B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5E0F916-7D8F-4EB6-A512-A344F513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7481544-4F57-45EE-B21A-FAC478D9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1A8FF50-D0B0-430B-852C-5B4D1F9B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A58E74A-9F3E-460E-AB7C-3ABDE8EE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28D695C-2EAF-4B2D-84A8-2F10095E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2A83AB7-F170-4CD4-B896-258F227D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AB008ED-6DA3-4560-B19E-F97A82D4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E1A1BB9-3AAA-416B-A7A2-42945065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1861CD9-56AA-4E60-8F17-A2B55CBB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520131D-F528-42B9-9068-40149583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BD40A-4029-4A81-8D5E-D1ED2842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4D6B24D-27C1-436C-BA70-386DF3F7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8D48C2D-4112-4369-A949-E773F5C5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B342E60-F7F1-462A-A1E3-FE7D2E65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EA47E2D-69E2-4428-9BF4-B8792232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ED10237-306F-46A9-A212-A263B54F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C8CE101-E23D-4EB9-BE89-E3EF08B9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90699A1-AE69-457C-B161-26E66581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3F4E5D0-4D6D-4C7E-BF3B-17C6DE35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65ABB8B-DA72-475B-ADED-2392EF7B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14072A8-57BC-4AFA-A084-E2DECDF1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2CBE3-8B6B-4A5D-9F6C-CF3264A4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E6C4683-5F78-428A-87B6-3EC68878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31C282B-916B-4A2C-B522-2BDCBB8F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6876F9C-4212-49A2-9793-54D64135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4B76B6B-3E79-4323-B85A-27FB97C1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C39DEC4-8B52-4AC2-BEAB-3EBA9992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0628743-A097-4F5E-A67F-08B03413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087DDAD-B9BF-4195-BA7E-0449DE28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41853B8-1B4E-4ECD-B4D3-DBA6CF6A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6271128-AB61-44C5-8D44-B19DA5BA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188D317-A156-46E4-9F21-C995ADEC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A1678-F35E-4C37-BAA3-0E663587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0A567D8-1947-4F1F-B5D5-3FF00EA9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83731A5-7CD5-46C7-BED6-57252860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3046F13-CFC5-4EAC-A74F-BBF4F81F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AF24A64-50F3-4F18-8DA9-D4063DFC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08C1366-1A54-4E62-BB58-E4BB3973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CD7803A-6547-469A-9DFF-3B1DC4F9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CBEA6FA-CA6B-404C-910C-53A3197C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6CB9E40-511D-4DBE-9AE1-000B349D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3F90AE7-61AB-49E1-95E7-EBF747E7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2DCCD97-269A-475F-9E91-79A24085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6AA4A-22E9-4D50-B74F-84F2EFC7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5BF8C76-C126-4D30-A0AB-659D0A29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E7A0BDD-05FE-4BB7-A88D-8ED510A9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B4017E7-39CB-43F8-BD87-139D245E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81B2A3E-1EE9-48C8-B491-1A10B4B9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957B97C-7B4A-4403-AE84-CA618D59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EA7971B-724F-4D33-BEC5-9403B835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6838501-B673-45C8-9D76-F1A386C0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E89F50A-4A92-4E6A-BC01-F51487E1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1C17C48-ACEA-4E1E-9A5A-BB31B8F9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B391D0F-6CCA-4A0D-839A-147DBB23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6C6A0-557F-478F-887C-5C984B92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318FF92-43F7-419C-94FB-402012D1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EF4A425-0C25-4195-BC92-F123676F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B7AD859-3F4A-49C6-BED8-55C8E49E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B33FF4D-B16F-48BF-AE13-39E204E5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92F77BD-EDE8-49B6-BF58-7CEED097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4037D48-09F9-4280-8A35-562A9941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205A978-B6DA-41E4-9BB0-89A62B61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3987E91-8FF8-4231-A7FE-6A279F74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4A2B7E6-3DD2-4803-AFB5-663F4B32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B91032D-C506-45FB-8C1F-ADBDCB81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0DB14-D8B2-4417-B83F-F4E96941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28A6D98-9990-48D2-BC64-0660231C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CD04616-FF60-4205-AD63-5B6B77AE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35F760B-3E01-42B6-A95A-6FB30071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0A7BEC0-6F56-4F3E-9FE2-5DEAC16E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929954C-1B46-452B-8DAE-B1CCDA59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249DC27-F30B-4ABE-857E-BDF3C7BF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F57DF7D-980A-469B-AD55-E3A0F796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6E2F872-51DD-487E-A0F0-E4B81D42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4EE84B9-B548-45C0-83B5-68EAE0C4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93BBF47-E21A-48D9-A957-47109D89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E3CDD-558A-4089-AF0B-6E652D24C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A8CEF00-377A-4F84-B76B-AA986CB6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6A1D138-DF4F-4740-AEC9-010BC724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B24B5F2-3F20-4B8A-8035-3C2B6E30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477EDC8-4347-4523-9359-D62ABA3B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3CB7345-A9A1-40C1-A4E8-C2870463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B76EB6D-3851-4956-ADBF-D473F836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3DC0CCC-09BC-49ED-A8EC-33EDF8B2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820E327-CE92-459B-B301-26E24AB1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79FD4E7-2C1E-4E0A-BA49-A5490363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8CB5A8F-CD2B-492D-AF7B-FC1C31C1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5631-8C9F-4222-8980-DC8C6B01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28C51-1E24-480D-8B63-AF7AA78F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FA389C0-67FC-4C6B-881B-F2081C11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68D9D22-5F09-4FB7-8782-ACD5703C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73FB8A8-54F8-492F-A6EB-97C8A094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AE48D4F-E4AC-430A-B78A-363BF137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2D799F9-48CE-49CD-8CCB-2008A2D4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A8BDCAB-9BCD-4A08-A514-0640102E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3522DA7-9D65-4239-A195-40CC5303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A80F5FF-F903-4C87-B5B9-9ED8AE0C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7E974C3-C239-461F-A306-622428D2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1F362B5-AAA2-410D-B634-34EF42C7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5D4E5-B86E-4CC4-882E-81398CDD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7537DCE-A342-4FBA-AAD6-BD789283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FEC3432-4E5C-4709-BE48-D7FAA6D3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B5FA027-0210-4109-A45F-9D3898F4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BFBAD02-6E8A-4A19-8DF8-D70A7994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9D7AC69-7BAA-4E84-8708-51EF3326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5236189-65EB-481E-BC5E-0C51CEC1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6C2EBF7-1114-4DC7-A296-224A58D0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31C1DC2-4DCE-473B-9A69-7F8CAE8C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21ED583-91CC-4EB1-A6FC-A989B71B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697D40F-F9F8-4027-A241-C4662B28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923E8-8B19-4A1C-8F0C-75BF40FE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8F4C40F-406E-4125-B812-AFE56CA3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F5F8871-546A-4583-A8BA-25F7CC8E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845BBA9-F042-4C5D-9BA6-F20BDF89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05FA9F2-75B3-4966-9CD2-9C16DF95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E3C8DD0-2B35-4EB1-9F1C-02F38EFD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3889C38-BFD4-4C20-8284-68F34AD5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5970B45-6062-49EF-92CB-B805CD97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9DDD036-47D8-4937-8A6D-D6F08339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F71AD68-CB9A-48D9-A958-475C6DF77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CEBDB34-A188-4B53-80AB-ACDAD5C5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DDFD2-38B0-4FF0-9136-C1AADC88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B2F51B8-7558-4566-896A-4392A36B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F034056-5CB5-45E0-A07B-1E4390DA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0EF28AD-2CA0-44FA-9F2A-C0CD0945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E034A04-418F-4B51-AA05-0AA2E869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7377CA0-6D74-43D1-858A-C4A94330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5D9DCD1-38FE-46B8-A601-B42691A1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15597A5-47BB-41B4-9F02-DE2E00F1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D1916A7-B288-4620-AD3C-40DAB293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3E3155B-5F1E-44CD-8205-733CCBB5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AC47DD7-DC36-455B-B8C0-FD21100E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472BA-A325-4FE9-A0FA-38D42D3B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7AE1C1F-8176-4782-BCFF-A725F958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655A57C-5B31-4B9F-BC56-99235A010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B004963-D90B-45FC-9813-F8A5FEC3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9D0AD34-5E9F-49B1-92AC-0925CC43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CE92A87-7C05-49D6-94D5-D5D5B85F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55276FD-AB5F-4226-9BB9-E79F2BCA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8842201-63B8-4151-8BF9-53E7997B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6195A57-E1A5-4BF3-916B-6AB91379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EC18A96-990D-42BE-BB27-916EE0F0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AD5C35C-02F1-4A87-8BD9-6AB98F10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54419-232F-4755-B04C-CA46D1F0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0A82E74-5858-4330-8817-34E36440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5C5E202-B473-4287-95D5-F56BB1C9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C3EF182-2F32-454D-ADB4-CCD175FF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847A7D9-C45D-4C90-B940-4AA68648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7366E0A-4155-486F-A9FE-F382F37C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0C16303-B7C6-421C-B5D0-A6B13E2B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AED1DCE-B400-4251-A299-72D4DF6E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70012C0-230C-424D-9D6A-E3B20E21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64E493B-89F5-4CED-9F4C-855A65DB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B200D02-1CB6-4C60-9A23-D0F869B8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30CC9-4838-4019-B7D4-04EFEED1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D227D2E-A4AE-4130-AC9A-70B8F381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B11D3F0-A337-44B1-9132-49907262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DDA6FF5-E6E6-485A-80CB-7DE52670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4211D69-F038-4B18-94CE-6A1B69C4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B5F27C6-AC05-4247-B188-2E26FCEE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6F90050-4F9A-4900-87D3-41D4F453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4290AB3-0409-49B4-8F78-7CF63C0B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5484C56-2BB7-41EC-9635-D83AB3E0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9F75553-8694-408F-85FE-47CDC4E3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A9C2053-EBBE-49F7-9C45-296B7BBB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69E11-3AB0-46E1-BDD6-562E6F9E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7451719-F8B5-4787-A263-FDF36367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6EAD6D8-9AFE-4C62-83DE-49041DFC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EFD58F2-9390-4A78-8D83-579005E6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8098A86-3243-4639-88B5-39284A17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CB7528B-4E18-4A6C-8078-94700730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B83FB92-0FC7-4BB8-A4C9-E40BE07E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9E4703A-7BCD-4DB8-930B-3D6B4589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BBFC8-2A47-411F-A4D7-1E7CF8D1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5ADFD-A4E5-437B-B705-35542738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A94A-45DC-4FF7-99AB-1E87E715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EF768-B434-45D0-A59F-79C492E1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2374C-A76E-499A-9689-683396B7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AD904-E49A-4D29-A77A-B5077669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52B58-C7FC-43D9-8CD8-3D940660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FB54B-ADB1-4FCF-A868-F01FFA09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ABC69-8B43-4341-999C-436EA2A9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AFF31-5E2D-48E0-AEC0-A891C152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20526-12F6-4D89-8DAD-F7C2CCC7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5D9B0-7CC0-4BD8-BDBA-D6181DE2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60293-3D44-4D1F-83A8-AB38FF2E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3CD6-D3BA-44A8-A08A-86698C60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F80B3-93B9-4B7A-BE77-11504E12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68C21-87CA-4966-9165-B15B123E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7ECAD-C276-4407-80FE-52EFA6DC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0D498-A298-4E48-848F-28E2BA48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D583C-CE76-4EA2-8325-6AFBAD3E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56FAE-604A-4BC3-A4DA-ADD7ED61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6F9A0-9871-4A4C-9115-4C6605D4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28DCA-59B7-4408-BE23-F085F5F8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63E7E-0E00-4E44-A911-44A98DCD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F425E-9C3A-4225-9B0C-6CAA5305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0ECC-CC69-4F8F-8495-544F9CF0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692D5-C0B3-4BC7-BCF3-AD57D1AD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67A11-16F3-44AC-A7A1-FD282777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2791F-C603-4938-8FE6-52A5F20B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F828C-BB6D-46E7-90C0-0B341696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BBF77-3117-47D8-8B42-15DADD8C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D2855-7DB2-4A9F-B1CD-66BB8FA2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78A45-B99E-4617-9905-794D2125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2A053-4771-483B-98E8-787D23E8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DB50D-C700-4C84-83FA-5BDC462F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65EAB-8535-45B3-8C82-B0F3339B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EC60-6046-4510-BA8D-575BC88D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BEDE6-5A6A-47E0-B89C-9719FA08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21AA3-E63C-4E80-A650-C20743CD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AD1B7-AD30-4F9B-96FC-29269A9C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AFD33-82F5-42F4-AC69-7644AA84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3CBB02-62C6-4ACA-AA32-C843DC7D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37C9C-0FBE-4F75-8886-D4247A7E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DD4A4-FB52-4AFC-821A-A3C79CD26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32256-E27D-46FA-8069-97277256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87647-D6A7-46AC-BBFE-EE8A839D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44D64-DDD7-4215-B4BB-023497AC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381560" y="-6480"/>
              <a:ext cx="4762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5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1DFA-1E78-42A6-AD84-65B75EE0273B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BAFE-3F55-407C-97F0-8F1AAEEE9D4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2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443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4381560" y="-6480"/>
              <a:ext cx="4762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5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446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44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9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45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545D-33AF-42C7-A3F0-0019B935CEF5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2470-4197-4BC4-A8AA-3C8219E0CA0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4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495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4381560" y="-6480"/>
              <a:ext cx="4762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7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498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499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1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502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D221-B751-45E1-BA33-0649C10ADCE8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1A08-6AFD-496D-AF3E-63E84EFB568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6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547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4381560" y="-6480"/>
              <a:ext cx="4762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9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550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551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3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554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2C19-0A6A-46DC-8476-5ADF9799ED5C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4BA2-43DC-4A39-BDD2-3AF2F82DD1C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8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599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4381560" y="-6480"/>
              <a:ext cx="4762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1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602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603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5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606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7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0CE6-3281-4FF4-B066-037446750E45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93DE-409A-490A-883C-8F9B101FD83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0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651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4381560" y="-6480"/>
              <a:ext cx="4762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3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654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655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6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7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658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9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0C59-AA62-4447-A7E3-1B69528FF52F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0C8F-1827-4C0B-8414-F592B58E6DD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2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703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4381560" y="-6480"/>
              <a:ext cx="4762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5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706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7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8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9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7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7029-545D-4E8C-9C85-1F8742D940C1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32A6-3CC0-42DA-83C5-5839C062981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757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55B7-5CC7-4A4D-9274-302C4E8957CE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1D9F-2608-4414-BE22-8A65995202A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3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804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A67A-4509-46AF-8630-123A7384D155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5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7AB1-428B-4A83-A3FE-29665CD9C2B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0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851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6930-F878-407E-B34C-3AE89D22C547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 type="sldNum" idx="5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9092-4EFE-4952-9797-B3DBB26C97D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7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898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D4F8-F89D-4A38-B9EF-805DC75BBC62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5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0FD2-6D2F-4DD4-B663-DB9CCA07C30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56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3F13-F2B3-4D58-8246-A4BAA9EC5554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603F-EECE-4CCE-B7D6-C36DD4C7E29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4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945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6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BA42-6D49-4B15-AB52-52E624E00E48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6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3F67-8FE4-4B37-9D41-548835DA65F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1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992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BE87-1EE5-415D-BD6D-2427A92CB8F5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sldNum" idx="6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7444-DBA5-433B-8AB4-68E1284B582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8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039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0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A5AB-8DE4-4706-9CED-CFEF0262E8C8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6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 type="sldNum" idx="6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E8A5-DBF8-4D2F-85B0-E7D4537E7BB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5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086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7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CC5C-3616-4BE5-B503-204469B0D37F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 type="sldNum" idx="6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C3FF-BA2D-4EEA-A27C-433D5CE375A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2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133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0925-CDC0-4521-93E4-3AA17963B24E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7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2123-7057-46CA-B527-785A86998B2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9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180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1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0283-87D7-48AD-9D6C-19980946E4B0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 type="sldNum" idx="7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35BB-5515-42F8-846B-5DAFD0B65AD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Freeform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6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227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81A7-9B01-4DAD-A80B-F28D2530271E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 type="ftr" idx="7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 type="sldNum" idx="7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34BF-8EAA-4FB6-93A9-C9CCC1A0A4D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17E4-4F63-4E8E-BF02-287B51CCE35D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B24B-B392-4E88-9A22-BA83D46728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7E9C-45DC-4C1A-B29E-1FA3E39691CA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3FE5-0F6B-41C9-BB77-28E2EF4727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0FD6-E8B0-4501-8213-A5EF28AA33ED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5603-930D-411D-A3EA-9010A3568E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C108-506F-4C14-AEE7-8ADC4D7CAE2F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173F-7D30-4B84-A896-FC7DD063E8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810E-1CC3-4434-83AA-FD567DAB682C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CCA9-9C76-495D-BD1E-4C4D279D6D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94EF-56D3-472C-BB3B-F3ABAC5A8EC7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F15F-1D2E-4245-9415-1CA952BD1A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940A-C5BA-4F07-A0FD-2B3C3906EB61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2BE5-E48B-4DA4-991A-F673DEB633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3427-FEB0-4AC4-873B-0D5193B6C72D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0F63-4942-4154-8DD0-5AE8872FC1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80D7-7164-4EC4-BD67-735736C6FDCD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C045-7024-4F25-A88F-B2F44A01AE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2FB0-71F9-41B4-BB3B-C386025B0CBE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D4CE-013D-4352-9E0F-7FE94263E8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83D5-0B4B-4F0A-8B3F-EB2FA9DB868E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A7AC-52C7-427E-B50C-8CD871B600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2DA0-B692-445D-AD9C-A408F7F70A70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D213-BC76-419D-A404-66B1CFE0DD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874C-3C66-4F6C-B37E-7F3B3D16FC15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2EB8-81B9-4D93-941A-9FD857506F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4289-399F-4960-A583-523614CF7551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4C71-83B1-402B-AE33-DECB7B57C1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2BBF-A2D2-4425-AE49-3B424B348437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19AC-F956-4D23-A77F-F982E9326A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4A6B-79F7-41DF-AE8C-C4F3ABCBEB7F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7BB9-EA5B-4345-91A7-4E0508B942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7411-C399-40F8-89CB-E092ED5AE760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1996-FFD1-463F-B8AE-E94AEC7B33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BE1A-C911-4D63-BDDC-96B0B428D12C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EE10-F311-4960-B010-B4E50DC281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18FF-C7B8-43CA-B1C8-504DFCDFEF91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1F84-4996-45E2-BF17-A099C674C6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C85C-8DE9-4797-9994-E7FDD27C604A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66FB-5AB9-4194-81CB-4A532C3C84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8373-6208-471C-A6F3-69ECF66B7198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9717-8A5E-4DEE-BB7B-802E3A6024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53EF-8657-4FCF-BF7E-E67D04ECD242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C8CE-2B96-424E-9E20-66D7D0576D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042E-EF46-45CB-B0CF-067417ACCB12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1EE6-18A1-4B1C-B27D-2441A1D002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9B62-1A57-449E-9DA0-67D084858437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D6AB-46F1-472F-9590-462F738945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183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381560" y="-6480"/>
              <a:ext cx="4762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186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18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19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265F-6696-4274-9A74-D0CE2BFD7C23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9361-5116-4D16-A8C6-31BC93FD744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35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381560" y="-6480"/>
              <a:ext cx="4762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238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239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242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D856-6545-44D5-A550-E0F03AAEA820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F72E-329F-4EAD-97E6-102436A2C2F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87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381560" y="-6480"/>
              <a:ext cx="4762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290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291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294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72D9-A058-4357-BEC2-F6ED2730E1E0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3114-C208-482B-B92A-90837EA7B7E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339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4381560" y="-6480"/>
              <a:ext cx="4762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1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342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343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346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7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5B21-BEAF-464F-93F8-E135C489B364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212B-E591-4556-9157-610DF1A382F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reeform 6"/>
          <p:cNvSpPr/>
          <p:nvPr/>
        </p:nvSpPr>
        <p:spPr>
          <a:xfrm>
            <a:off x="-7920" y="-6480"/>
            <a:ext cx="9161280" cy="104004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391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381560" y="-6480"/>
              <a:ext cx="4762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Group 4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394" name="Group 5"/>
            <p:cNvGrpSpPr/>
            <p:nvPr/>
          </p:nvGrpSpPr>
          <p:grpSpPr>
            <a:xfrm>
              <a:off x="-17640" y="203040"/>
              <a:ext cx="9155160" cy="648000"/>
              <a:chOff x="-17640" y="203040"/>
              <a:chExt cx="9155160" cy="648000"/>
            </a:xfrm>
          </p:grpSpPr>
          <p:pic>
            <p:nvPicPr>
              <p:cNvPr id="395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6120" y="203040"/>
                <a:ext cx="91314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Text Box 7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8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398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Text Box 10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40C4-62C1-4F5F-91E0-60607ACA0750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0C65-F938-4506-B97C-DF9A3AA6B48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8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5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5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13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5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5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WordArt 4"/>
          <p:cNvSpPr/>
          <p:nvPr/>
        </p:nvSpPr>
        <p:spPr>
          <a:xfrm>
            <a:off x="1752480" y="2895480"/>
            <a:ext cx="5639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Slide Number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8A0E-F702-4CE1-8205-E2A8143828FE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55E7-2F0C-4092-BB32-6D21DB2497C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2" name="Picture 5" descr="logo.gif"/>
          <p:cNvPicPr/>
          <p:nvPr/>
        </p:nvPicPr>
        <p:blipFill>
          <a:blip r:embed="rId1"/>
          <a:stretch/>
        </p:blipFill>
        <p:spPr>
          <a:xfrm>
            <a:off x="6629400" y="228600"/>
            <a:ext cx="2413080" cy="695160"/>
          </a:xfrm>
          <a:prstGeom prst="rect">
            <a:avLst/>
          </a:prstGeom>
          <a:ln w="0">
            <a:noFill/>
          </a:ln>
        </p:spPr>
      </p:pic>
      <p:sp>
        <p:nvSpPr>
          <p:cNvPr id="2183" name="Straight Connector 6"/>
          <p:cNvSpPr/>
          <p:nvPr/>
        </p:nvSpPr>
        <p:spPr>
          <a:xfrm>
            <a:off x="1752480" y="1066680"/>
            <a:ext cx="5334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4" name="Picture 7" descr="ksulogo3.png"/>
          <p:cNvPicPr/>
          <p:nvPr/>
        </p:nvPicPr>
        <p:blipFill>
          <a:blip r:embed="rId2"/>
          <a:stretch/>
        </p:blipFill>
        <p:spPr>
          <a:xfrm>
            <a:off x="304920" y="295200"/>
            <a:ext cx="1752480" cy="655560"/>
          </a:xfrm>
          <a:prstGeom prst="rect">
            <a:avLst/>
          </a:prstGeom>
          <a:ln w="0">
            <a:noFill/>
          </a:ln>
        </p:spPr>
      </p:pic>
      <p:sp>
        <p:nvSpPr>
          <p:cNvPr id="2185" name="Rectangle 8"/>
          <p:cNvSpPr/>
          <p:nvPr/>
        </p:nvSpPr>
        <p:spPr>
          <a:xfrm>
            <a:off x="3593160" y="495288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1435-14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2014-20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Rectangle 9"/>
          <p:cNvSpPr/>
          <p:nvPr/>
        </p:nvSpPr>
        <p:spPr>
          <a:xfrm>
            <a:off x="3287880" y="1905120"/>
            <a:ext cx="181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mi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7" name="Picture 1" descr="100px-Methylamine-3D-balls.png"/>
          <p:cNvPicPr/>
          <p:nvPr/>
        </p:nvPicPr>
        <p:blipFill>
          <a:blip r:embed="rId3"/>
          <a:stretch/>
        </p:blipFill>
        <p:spPr>
          <a:xfrm>
            <a:off x="2743200" y="2743200"/>
            <a:ext cx="3149640" cy="2330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Slide Number Placeholder 2"/>
          <p:cNvSpPr/>
          <p:nvPr/>
        </p:nvSpPr>
        <p:spPr>
          <a:xfrm>
            <a:off x="8083440" y="633420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D5A6-2B67-46C6-95DD-1E786B444A5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"/>
          <p:cNvSpPr txBox="1"/>
          <p:nvPr/>
        </p:nvSpPr>
        <p:spPr>
          <a:xfrm>
            <a:off x="75960" y="1449000"/>
            <a:ext cx="701028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) Alkylation of Ammon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125000"/>
              <a:buFont typeface="Wingdings" charset="2"/>
              <a:buChar char=""/>
              <a:tabLst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) Reduction of Nitro group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125000"/>
              <a:buFont typeface="Wingdings" charset="2"/>
              <a:buChar char=""/>
              <a:tabLst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125000"/>
              <a:buFont typeface="Wingdings" charset="2"/>
              <a:buChar char=""/>
              <a:tabLst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) Reduction of Nitri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125000"/>
              <a:buFont typeface="Wingdings" charset="2"/>
              <a:buChar char=""/>
              <a:tabLst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) Reduction of Amid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SzPct val="125000"/>
              <a:buFont typeface="Wingdings" charset="2"/>
              <a:buChar char=""/>
              <a:tabLst>
                <a:tab algn="l" pos="1324080"/>
                <a:tab algn="l" pos="2647800"/>
                <a:tab algn="l" pos="3971880"/>
                <a:tab algn="l" pos="5295960"/>
                <a:tab algn="l" pos="6620040"/>
                <a:tab algn="l" pos="7943760"/>
                <a:tab algn="l" pos="9267840"/>
                <a:tab algn="l" pos="105919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Preparation Of Am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06" name="Object 35"/>
          <p:cNvGraphicFramePr/>
          <p:nvPr/>
        </p:nvGraphicFramePr>
        <p:xfrm>
          <a:off x="685800" y="1752480"/>
          <a:ext cx="7799400" cy="6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7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79940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8" name="Rectangle 3"/>
          <p:cNvSpPr/>
          <p:nvPr/>
        </p:nvSpPr>
        <p:spPr>
          <a:xfrm>
            <a:off x="0" y="-198360"/>
            <a:ext cx="184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9" name="Object 36"/>
          <p:cNvGraphicFramePr/>
          <p:nvPr/>
        </p:nvGraphicFramePr>
        <p:xfrm>
          <a:off x="914400" y="3200400"/>
          <a:ext cx="5184720" cy="4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0" name="Object 3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200400"/>
                    <a:ext cx="518472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1" name="Object 37"/>
          <p:cNvGraphicFramePr/>
          <p:nvPr/>
        </p:nvGraphicFramePr>
        <p:xfrm>
          <a:off x="2590920" y="5867280"/>
          <a:ext cx="5040360" cy="80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2" name="Object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90920" y="5867280"/>
                    <a:ext cx="50403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3" name="Object 38"/>
          <p:cNvGraphicFramePr/>
          <p:nvPr/>
        </p:nvGraphicFramePr>
        <p:xfrm>
          <a:off x="990720" y="4648320"/>
          <a:ext cx="5844960" cy="76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14" name="Object 3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4648320"/>
                    <a:ext cx="58449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15" name="Picture 6" descr="ksulogo2.png"/>
          <p:cNvPicPr/>
          <p:nvPr/>
        </p:nvPicPr>
        <p:blipFill>
          <a:blip r:embed="rId9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16" name="Picture 7" descr="images.jpeg"/>
          <p:cNvPicPr/>
          <p:nvPr/>
        </p:nvPicPr>
        <p:blipFill>
          <a:blip r:embed="rId10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317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Straight Connector 14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AutoShape 9"/>
          <p:cNvSpPr/>
          <p:nvPr/>
        </p:nvSpPr>
        <p:spPr>
          <a:xfrm>
            <a:off x="1785960" y="4214880"/>
            <a:ext cx="4772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Content Placeholder 5"/>
          <p:cNvSpPr/>
          <p:nvPr/>
        </p:nvSpPr>
        <p:spPr>
          <a:xfrm>
            <a:off x="0" y="1371600"/>
            <a:ext cx="9005760" cy="53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Salts Form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mides Formation: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Imines Form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Diazonium Salts Form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1" name="Object 36"/>
          <p:cNvGraphicFramePr/>
          <p:nvPr/>
        </p:nvGraphicFramePr>
        <p:xfrm>
          <a:off x="2133720" y="1676520"/>
          <a:ext cx="4537080" cy="51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2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76520"/>
                    <a:ext cx="453708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3" name="Object 37"/>
          <p:cNvGraphicFramePr/>
          <p:nvPr/>
        </p:nvGraphicFramePr>
        <p:xfrm>
          <a:off x="2362320" y="2590920"/>
          <a:ext cx="55753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4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590920"/>
                    <a:ext cx="55753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5" name="Object 38"/>
          <p:cNvGraphicFramePr/>
          <p:nvPr/>
        </p:nvGraphicFramePr>
        <p:xfrm>
          <a:off x="2362320" y="3429000"/>
          <a:ext cx="541800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26" name="Object 3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429000"/>
                    <a:ext cx="54180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7" name="Title 5"/>
          <p:cNvSpPr/>
          <p:nvPr/>
        </p:nvSpPr>
        <p:spPr>
          <a:xfrm>
            <a:off x="0" y="650880"/>
            <a:ext cx="30481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Reaction of 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8" name="Object 39"/>
          <p:cNvGraphicFramePr/>
          <p:nvPr/>
        </p:nvGraphicFramePr>
        <p:xfrm>
          <a:off x="1600200" y="4495680"/>
          <a:ext cx="6157800" cy="137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29" name="Object 3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4495680"/>
                    <a:ext cx="615780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0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1" name="Slide Number Placeholder 1"/>
          <p:cNvSpPr/>
          <p:nvPr/>
        </p:nvSpPr>
        <p:spPr>
          <a:xfrm>
            <a:off x="7948440" y="640080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5182-B600-4C19-AD49-6483DA30C2C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2" name="Picture 6" descr="ksulogo2.png"/>
          <p:cNvPicPr/>
          <p:nvPr/>
        </p:nvPicPr>
        <p:blipFill>
          <a:blip r:embed="rId9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33" name="Picture 7" descr="images.jpeg"/>
          <p:cNvPicPr/>
          <p:nvPr/>
        </p:nvPicPr>
        <p:blipFill>
          <a:blip r:embed="rId10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334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Straight Connector 14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TextBox 2"/>
          <p:cNvSpPr/>
          <p:nvPr/>
        </p:nvSpPr>
        <p:spPr>
          <a:xfrm>
            <a:off x="3515040" y="6064200"/>
            <a:ext cx="31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zonium sal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benzene diazonium chlorid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Title 3"/>
          <p:cNvSpPr/>
          <p:nvPr/>
        </p:nvSpPr>
        <p:spPr>
          <a:xfrm>
            <a:off x="2819520" y="609480"/>
            <a:ext cx="266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8" name="Content Placeholder 5"/>
          <p:cNvSpPr/>
          <p:nvPr/>
        </p:nvSpPr>
        <p:spPr>
          <a:xfrm>
            <a:off x="7920" y="1557360"/>
            <a:ext cx="833760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 the structure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nitrobenzylami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to prepare ethylamine from acetamid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are aliphatic amines is more basic than aromatic amin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ct the stronger base from each pair of compound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9" name="Object 16"/>
          <p:cNvGraphicFramePr/>
          <p:nvPr/>
        </p:nvGraphicFramePr>
        <p:xfrm>
          <a:off x="1981080" y="3494160"/>
          <a:ext cx="4496040" cy="32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0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494160"/>
                    <a:ext cx="4496040" cy="32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1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CB9B-F53A-4DD4-B329-F644403985C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3" name="Picture 6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44" name="Picture 7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345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Thank You for your kind attention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 type="subTitle"/>
          </p:nvPr>
        </p:nvSpPr>
        <p:spPr>
          <a:xfrm>
            <a:off x="2666880" y="2819160"/>
            <a:ext cx="369576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m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9" name="Slide Numb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9D16-0900-4B87-98EB-C820E028A4F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0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51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352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246C-31BF-4476-ACCF-4D33B394BB5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-76320" y="1066320"/>
            <a:ext cx="303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Learning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0" name="Rectangle 9"/>
          <p:cNvSpPr/>
          <p:nvPr/>
        </p:nvSpPr>
        <p:spPr>
          <a:xfrm>
            <a:off x="0" y="1753200"/>
            <a:ext cx="914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hapter ten discusses the following topics and by the end of this chapter the students wil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structur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classification of am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 rules for amines &amp; precedence order of functional groups in compounds have more than one functional gro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al properties of am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effect of lone pair of electrons of N atom on basic properties of am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ent methods used i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thesis of am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reactions of amines; in addition to behaving as bases amines can be nucleophi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2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193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194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Text Box 2"/>
          <p:cNvSpPr/>
          <p:nvPr/>
        </p:nvSpPr>
        <p:spPr>
          <a:xfrm>
            <a:off x="19080" y="1066680"/>
            <a:ext cx="40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Structure &amp; Class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Line 3"/>
          <p:cNvSpPr/>
          <p:nvPr/>
        </p:nvSpPr>
        <p:spPr>
          <a:xfrm>
            <a:off x="8826480" y="6603840"/>
            <a:ext cx="190440" cy="1800"/>
          </a:xfrm>
          <a:prstGeom prst="line">
            <a:avLst/>
          </a:prstGeom>
          <a:ln w="7632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AutoShape 4">
            <a:hlinkClick r:id="" action="ppaction://hlinkshowjump?jump=nextslide"/>
          </p:cNvPr>
          <p:cNvSpPr/>
          <p:nvPr/>
        </p:nvSpPr>
        <p:spPr>
          <a:xfrm>
            <a:off x="8661240" y="6413400"/>
            <a:ext cx="457200" cy="393840"/>
          </a:xfrm>
          <a:custGeom>
            <a:avLst/>
            <a:gdLst>
              <a:gd name="textAreaLeft" fmla="*/ 25200 w 457200"/>
              <a:gd name="textAreaRight" fmla="*/ 432000 w 45720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072" h="21600">
                <a:moveTo>
                  <a:pt x="0" y="0"/>
                </a:moveTo>
                <a:lnTo>
                  <a:pt x="25072" y="0"/>
                </a:lnTo>
                <a:lnTo>
                  <a:pt x="25072" y="21600"/>
                </a:lnTo>
                <a:lnTo>
                  <a:pt x="0" y="21600"/>
                </a:lnTo>
                <a:close/>
              </a:path>
              <a:path fill="lightenLess" w="25072" h="21600">
                <a:moveTo>
                  <a:pt x="0" y="0"/>
                </a:moveTo>
                <a:lnTo>
                  <a:pt x="25072" y="0"/>
                </a:lnTo>
                <a:lnTo>
                  <a:pt x="23672" y="1400"/>
                </a:lnTo>
                <a:lnTo>
                  <a:pt x="1400" y="1400"/>
                </a:lnTo>
                <a:close/>
              </a:path>
              <a:path fill="darken" w="25072" h="21600">
                <a:moveTo>
                  <a:pt x="25072" y="0"/>
                </a:moveTo>
                <a:lnTo>
                  <a:pt x="25072" y="21600"/>
                </a:lnTo>
                <a:lnTo>
                  <a:pt x="23672" y="20200"/>
                </a:lnTo>
                <a:lnTo>
                  <a:pt x="23672" y="1400"/>
                </a:lnTo>
                <a:close/>
              </a:path>
              <a:path fill="darkenLess" w="25072" h="21600">
                <a:moveTo>
                  <a:pt x="25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72" y="20200"/>
                </a:lnTo>
                <a:close/>
              </a:path>
              <a:path fill="lighten" w="25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Line 5"/>
          <p:cNvSpPr/>
          <p:nvPr/>
        </p:nvSpPr>
        <p:spPr>
          <a:xfrm flipH="1">
            <a:off x="139320" y="6603840"/>
            <a:ext cx="190440" cy="0"/>
          </a:xfrm>
          <a:prstGeom prst="line">
            <a:avLst/>
          </a:prstGeom>
          <a:ln w="7632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AutoShape 6">
            <a:hlinkClick r:id="" action="ppaction://hlinkshowjump?jump=previousslide"/>
          </p:cNvPr>
          <p:cNvSpPr/>
          <p:nvPr/>
        </p:nvSpPr>
        <p:spPr>
          <a:xfrm>
            <a:off x="139680" y="6413400"/>
            <a:ext cx="343080" cy="393840"/>
          </a:xfrm>
          <a:custGeom>
            <a:avLst/>
            <a:gdLst>
              <a:gd name="textAreaLeft" fmla="*/ 21960 w 343080"/>
              <a:gd name="textAreaRight" fmla="*/ 321120 w 343080"/>
              <a:gd name="textAreaTop" fmla="*/ 21960 h 393840"/>
              <a:gd name="textAreaBottom" fmla="*/ 371880 h 393840"/>
            </a:gdLst>
            <a:ahLst/>
            <a:rect l="textAreaLeft" t="textAreaTop" r="textAreaRight" b="textAreaBottom"/>
            <a:pathLst>
              <a:path w="21600" h="24792">
                <a:moveTo>
                  <a:pt x="0" y="0"/>
                </a:moveTo>
                <a:lnTo>
                  <a:pt x="21600" y="0"/>
                </a:lnTo>
                <a:lnTo>
                  <a:pt x="21600" y="24792"/>
                </a:lnTo>
                <a:lnTo>
                  <a:pt x="0" y="24792"/>
                </a:lnTo>
                <a:close/>
              </a:path>
              <a:path fill="lightenLess" w="21600" h="247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92">
                <a:moveTo>
                  <a:pt x="21600" y="0"/>
                </a:moveTo>
                <a:lnTo>
                  <a:pt x="21600" y="24792"/>
                </a:lnTo>
                <a:lnTo>
                  <a:pt x="20200" y="23393"/>
                </a:lnTo>
                <a:lnTo>
                  <a:pt x="20200" y="1400"/>
                </a:lnTo>
                <a:close/>
              </a:path>
              <a:path fill="darkenLess" w="21600" h="24792">
                <a:moveTo>
                  <a:pt x="21600" y="24792"/>
                </a:moveTo>
                <a:lnTo>
                  <a:pt x="0" y="24792"/>
                </a:lnTo>
                <a:lnTo>
                  <a:pt x="1400" y="23393"/>
                </a:lnTo>
                <a:lnTo>
                  <a:pt x="20200" y="23393"/>
                </a:lnTo>
                <a:close/>
              </a:path>
              <a:path fill="lighten" w="21600" h="24792">
                <a:moveTo>
                  <a:pt x="0" y="247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9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Text Box 7"/>
          <p:cNvSpPr/>
          <p:nvPr/>
        </p:nvSpPr>
        <p:spPr>
          <a:xfrm>
            <a:off x="0" y="1828800"/>
            <a:ext cx="914400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Amines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derivatives of ammonia that have one or more of the hydrogen replaced with alkyl and/ or aryl gro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Amines: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a class of organic compounds that contain the N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Amines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formed in many biological systems. So it used as drugs and medic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Classification Of 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primary (1</a:t>
            </a:r>
            <a:r>
              <a:rPr b="1" lang="en-GB" sz="2400" spc="-1" strike="noStrike" baseline="30000">
                <a:solidFill>
                  <a:srgbClr val="00808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) amines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r>
              <a:rPr b="1" lang="en-GB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secondary (2</a:t>
            </a:r>
            <a:r>
              <a:rPr b="1" lang="en-GB" sz="2400" spc="-1" strike="noStrike" baseline="30000">
                <a:solidFill>
                  <a:srgbClr val="00808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) amines</a:t>
            </a:r>
            <a:r>
              <a:rPr b="1" lang="en-GB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tertiary (3</a:t>
            </a:r>
            <a:r>
              <a:rPr b="1" lang="en-GB" sz="2400" spc="-1" strike="noStrike" baseline="30000">
                <a:solidFill>
                  <a:srgbClr val="008080"/>
                </a:solidFill>
                <a:latin typeface="Times New Roman"/>
                <a:ea typeface="Times New Roman"/>
              </a:rPr>
              <a:t>o</a:t>
            </a:r>
            <a:r>
              <a:rPr b="1" lang="en-GB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) amines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2" name="Group 8"/>
          <p:cNvGrpSpPr/>
          <p:nvPr/>
        </p:nvGrpSpPr>
        <p:grpSpPr>
          <a:xfrm>
            <a:off x="1012320" y="4333680"/>
            <a:ext cx="840600" cy="1229400"/>
            <a:chOff x="1012320" y="4333680"/>
            <a:chExt cx="840600" cy="1229400"/>
          </a:xfrm>
        </p:grpSpPr>
        <p:sp>
          <p:nvSpPr>
            <p:cNvPr id="2203" name="Text Box 9"/>
            <p:cNvSpPr/>
            <p:nvPr/>
          </p:nvSpPr>
          <p:spPr>
            <a:xfrm>
              <a:off x="1012320" y="4723560"/>
              <a:ext cx="84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Arial"/>
                </a:rPr>
                <a:t>R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4" name="Line 12"/>
            <p:cNvSpPr/>
            <p:nvPr/>
          </p:nvSpPr>
          <p:spPr>
            <a:xfrm>
              <a:off x="1281240" y="4940640"/>
              <a:ext cx="2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5" name="Line 17"/>
            <p:cNvSpPr/>
            <p:nvPr/>
          </p:nvSpPr>
          <p:spPr>
            <a:xfrm flipV="1">
              <a:off x="1584360" y="5064120"/>
              <a:ext cx="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6" name="Text Box 18"/>
            <p:cNvSpPr/>
            <p:nvPr/>
          </p:nvSpPr>
          <p:spPr>
            <a:xfrm>
              <a:off x="1438200" y="52257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7" name="Line 19"/>
            <p:cNvSpPr/>
            <p:nvPr/>
          </p:nvSpPr>
          <p:spPr>
            <a:xfrm flipV="1">
              <a:off x="1584360" y="4640400"/>
              <a:ext cx="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8" name="Text Box 20"/>
            <p:cNvSpPr/>
            <p:nvPr/>
          </p:nvSpPr>
          <p:spPr>
            <a:xfrm>
              <a:off x="1438200" y="43336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9" name="Group 15"/>
          <p:cNvGrpSpPr/>
          <p:nvPr/>
        </p:nvGrpSpPr>
        <p:grpSpPr>
          <a:xfrm>
            <a:off x="4041000" y="4409640"/>
            <a:ext cx="840600" cy="1229400"/>
            <a:chOff x="4041000" y="4409640"/>
            <a:chExt cx="840600" cy="1229400"/>
          </a:xfrm>
        </p:grpSpPr>
        <p:sp>
          <p:nvSpPr>
            <p:cNvPr id="2210" name="Text Box 28"/>
            <p:cNvSpPr/>
            <p:nvPr/>
          </p:nvSpPr>
          <p:spPr>
            <a:xfrm>
              <a:off x="4041000" y="4799520"/>
              <a:ext cx="84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Arial"/>
                </a:rPr>
                <a:t>R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Line 29"/>
            <p:cNvSpPr/>
            <p:nvPr/>
          </p:nvSpPr>
          <p:spPr>
            <a:xfrm>
              <a:off x="4309920" y="5016600"/>
              <a:ext cx="2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Line 30"/>
            <p:cNvSpPr/>
            <p:nvPr/>
          </p:nvSpPr>
          <p:spPr>
            <a:xfrm flipV="1">
              <a:off x="4613040" y="5140080"/>
              <a:ext cx="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Text Box 31"/>
            <p:cNvSpPr/>
            <p:nvPr/>
          </p:nvSpPr>
          <p:spPr>
            <a:xfrm>
              <a:off x="4466880" y="53017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4" name="Line 32"/>
            <p:cNvSpPr/>
            <p:nvPr/>
          </p:nvSpPr>
          <p:spPr>
            <a:xfrm flipV="1">
              <a:off x="4613040" y="4716360"/>
              <a:ext cx="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5" name="Text Box 33"/>
            <p:cNvSpPr/>
            <p:nvPr/>
          </p:nvSpPr>
          <p:spPr>
            <a:xfrm>
              <a:off x="4466880" y="44096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6" name="Group 22"/>
          <p:cNvGrpSpPr/>
          <p:nvPr/>
        </p:nvGrpSpPr>
        <p:grpSpPr>
          <a:xfrm>
            <a:off x="7062120" y="4333680"/>
            <a:ext cx="840600" cy="1229400"/>
            <a:chOff x="7062120" y="4333680"/>
            <a:chExt cx="840600" cy="1229400"/>
          </a:xfrm>
        </p:grpSpPr>
        <p:sp>
          <p:nvSpPr>
            <p:cNvPr id="2217" name="Text Box 35"/>
            <p:cNvSpPr/>
            <p:nvPr/>
          </p:nvSpPr>
          <p:spPr>
            <a:xfrm>
              <a:off x="7062120" y="4723560"/>
              <a:ext cx="84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Arial"/>
                </a:rPr>
                <a:t>R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8" name="Line 36"/>
            <p:cNvSpPr/>
            <p:nvPr/>
          </p:nvSpPr>
          <p:spPr>
            <a:xfrm>
              <a:off x="7331040" y="4940640"/>
              <a:ext cx="2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9" name="Line 37"/>
            <p:cNvSpPr/>
            <p:nvPr/>
          </p:nvSpPr>
          <p:spPr>
            <a:xfrm flipV="1">
              <a:off x="7634160" y="5064120"/>
              <a:ext cx="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0" name="Text Box 38"/>
            <p:cNvSpPr/>
            <p:nvPr/>
          </p:nvSpPr>
          <p:spPr>
            <a:xfrm>
              <a:off x="7488000" y="52257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1" name="Line 39"/>
            <p:cNvSpPr/>
            <p:nvPr/>
          </p:nvSpPr>
          <p:spPr>
            <a:xfrm flipV="1">
              <a:off x="7634160" y="4640400"/>
              <a:ext cx="0" cy="16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2" name="Text Box 40"/>
            <p:cNvSpPr/>
            <p:nvPr/>
          </p:nvSpPr>
          <p:spPr>
            <a:xfrm>
              <a:off x="7488000" y="43336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3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B3A3-693F-4ED6-A7DD-536E4F8A7A9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5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26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227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Straight Connector 34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Rectangle 4"/>
          <p:cNvSpPr/>
          <p:nvPr/>
        </p:nvSpPr>
        <p:spPr>
          <a:xfrm>
            <a:off x="88200" y="98568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ommon Nomenclature  Of 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Rectangle 6"/>
          <p:cNvSpPr/>
          <p:nvPr/>
        </p:nvSpPr>
        <p:spPr>
          <a:xfrm>
            <a:off x="0" y="1371600"/>
            <a:ext cx="91440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201"/>
              </a:spcAft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mmon names of amines are derived by 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isting the name (s) of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 group (s) surrounding the nitrogen (in alphabetical order)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dding the suffix amine.</a:t>
            </a:r>
            <a:r>
              <a:rPr b="1" lang="en-GB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(</a:t>
            </a:r>
            <a:r>
              <a:rPr b="1" lang="ar-SA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N.B.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wo vowels come together ; the first must be omitted e.g. etha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a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1"/>
              </a:spcAft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al 2° &amp; 3° amines (i.e. the substituents surrounding the N atom are identical) are named by adding the multiplication prefix (di or  tri) to the name of the alkyl gro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1" name="Rectangle 13"/>
          <p:cNvSpPr/>
          <p:nvPr/>
        </p:nvSpPr>
        <p:spPr>
          <a:xfrm>
            <a:off x="1409760" y="48592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Methylamine</a:t>
            </a:r>
            <a:r>
              <a:rPr b="1" lang="en-GB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Benzyl methyl amine                Trimethyl amine            </a:t>
            </a:r>
            <a:r>
              <a:rPr b="1" lang="ar-SA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ar-SA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ar-SA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ar-SA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0E81-1B49-43B7-A50D-512F65D5A7B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3" name="Object 24"/>
          <p:cNvGraphicFramePr/>
          <p:nvPr/>
        </p:nvGraphicFramePr>
        <p:xfrm>
          <a:off x="1725480" y="3171960"/>
          <a:ext cx="6248520" cy="17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4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5480" y="3171960"/>
                    <a:ext cx="624852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5" name="Rectangle 1"/>
          <p:cNvSpPr/>
          <p:nvPr/>
        </p:nvSpPr>
        <p:spPr>
          <a:xfrm>
            <a:off x="17280" y="5181480"/>
            <a:ext cx="8075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s with  higher priority groups, the NH</a:t>
            </a:r>
            <a:r>
              <a:rPr b="1" lang="en-GB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is called ami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6" name="Object 25"/>
          <p:cNvGraphicFramePr/>
          <p:nvPr/>
        </p:nvGraphicFramePr>
        <p:xfrm>
          <a:off x="2971800" y="5715000"/>
          <a:ext cx="1995480" cy="111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7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5715000"/>
                    <a:ext cx="199548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8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9" name="Picture 6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40" name="Picture 7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241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Rectangle 4"/>
          <p:cNvSpPr/>
          <p:nvPr/>
        </p:nvSpPr>
        <p:spPr>
          <a:xfrm>
            <a:off x="119160" y="914400"/>
            <a:ext cx="47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UPAC Names Of Primary 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CFEB-98B1-4310-A5F3-18EDC02BF77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5" name="Object 17"/>
          <p:cNvGraphicFramePr/>
          <p:nvPr/>
        </p:nvGraphicFramePr>
        <p:xfrm>
          <a:off x="609480" y="4064040"/>
          <a:ext cx="777240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064040"/>
                    <a:ext cx="777240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7" name="Rectangle 9"/>
          <p:cNvSpPr/>
          <p:nvPr/>
        </p:nvSpPr>
        <p:spPr>
          <a:xfrm>
            <a:off x="0" y="1290600"/>
            <a:ext cx="9144000" cy="33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 the  compound  does not  contain a  functional group  except  amino group, then  the  compound  is named by finding the longest alkane chain containing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mino group and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eplacing the e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the IUPAC name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y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uffix am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ever   if   the  compound  contain  other  functional   groups   then   the   order    of precedence determines which group are named with prefix or suffix.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see the precedence table on slide 6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highest precedence group takes the appropriate suffix with all other groups taking the prefix (es), however = or </a:t>
            </a:r>
            <a:r>
              <a:rPr b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Ξ</a:t>
            </a: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onds only take suffix form (ene, yne respective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Rectangle 11"/>
          <p:cNvSpPr/>
          <p:nvPr/>
        </p:nvSpPr>
        <p:spPr>
          <a:xfrm>
            <a:off x="0" y="5029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Arial"/>
              </a:rPr>
              <a:t>5-Methyl-3-hexanamine          5-Aminoheptanoic acid                   3-Amino-2-butan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9" name="Picture 15" descr=""/>
          <p:cNvPicPr/>
          <p:nvPr/>
        </p:nvPicPr>
        <p:blipFill>
          <a:blip r:embed="rId3"/>
          <a:stretch/>
        </p:blipFill>
        <p:spPr>
          <a:xfrm>
            <a:off x="1066680" y="5410080"/>
            <a:ext cx="6324840" cy="1347840"/>
          </a:xfrm>
          <a:prstGeom prst="rect">
            <a:avLst/>
          </a:prstGeom>
          <a:ln w="0">
            <a:noFill/>
          </a:ln>
        </p:spPr>
      </p:pic>
      <p:pic>
        <p:nvPicPr>
          <p:cNvPr id="2250" name="Picture 6" descr="ksulogo2.png"/>
          <p:cNvPicPr/>
          <p:nvPr/>
        </p:nvPicPr>
        <p:blipFill>
          <a:blip r:embed="rId4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51" name="Picture 7" descr="images.jpeg"/>
          <p:cNvPicPr/>
          <p:nvPr/>
        </p:nvPicPr>
        <p:blipFill>
          <a:blip r:embed="rId5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252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E2A8-449A-4FA6-9A86-6A22D1D4AC9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5" name=""/>
          <p:cNvGraphicFramePr/>
          <p:nvPr/>
        </p:nvGraphicFramePr>
        <p:xfrm>
          <a:off x="228600" y="1523880"/>
          <a:ext cx="8763120" cy="4724640"/>
        </p:xfrm>
        <a:graphic>
          <a:graphicData uri="http://schemas.openxmlformats.org/drawingml/2006/table">
            <a:tbl>
              <a:tblPr/>
              <a:tblGrid>
                <a:gridCol w="3402000"/>
                <a:gridCol w="2135160"/>
                <a:gridCol w="1177920"/>
                <a:gridCol w="2048040"/>
              </a:tblGrid>
              <a:tr h="37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Functional grou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Pref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suff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100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Carboxylic ac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yclic alknes or alkenes with COOH grou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CO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oic ac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boxylic ac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ldehyd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c alknes or alkenes with CHO grou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CH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Formy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baldehy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ket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C=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ox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o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lcoho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hydrox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o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mi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NH</a:t>
                      </a:r>
                      <a:r>
                        <a:rPr b="1" lang="ar-SA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m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mi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Eth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lkox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Alkenes and aAlky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= &amp; </a:t>
                      </a:r>
                      <a:r>
                        <a:rPr b="1" lang="el-GR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Ξ</a:t>
                      </a: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bon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ene &amp; y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6" name="Rectangle 101"/>
          <p:cNvSpPr/>
          <p:nvPr/>
        </p:nvSpPr>
        <p:spPr>
          <a:xfrm>
            <a:off x="304920" y="9144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Precedence Order of Functional Groups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(</a:t>
            </a:r>
            <a:r>
              <a:rPr b="1" lang="ar-SA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Descending Order</a:t>
            </a: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8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59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260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Rectangle 4"/>
          <p:cNvSpPr/>
          <p:nvPr/>
        </p:nvSpPr>
        <p:spPr>
          <a:xfrm>
            <a:off x="0" y="16002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4f81b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have common names accepted by the IUPAC system, but if the benzene ring contain groups of higher priorities (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&gt; CHO &gt; C=O &gt; OH &gt; NH) in this case the amino group is added as a prefi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5346-2EFE-438A-B7DF-B8C16440A4C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Rectangle 8"/>
          <p:cNvSpPr/>
          <p:nvPr/>
        </p:nvSpPr>
        <p:spPr>
          <a:xfrm>
            <a:off x="152280" y="4952880"/>
            <a:ext cx="906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Pyridine              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Aniline          </a:t>
            </a:r>
            <a:r>
              <a:rPr b="0" i="1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o-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Nitroaniline              </a:t>
            </a:r>
            <a:r>
              <a:rPr b="0" i="1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p-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Toluidine          </a:t>
            </a:r>
            <a:r>
              <a:rPr b="0" i="1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p-</a:t>
            </a:r>
            <a:r>
              <a:rPr b="0" lang="ar-SA" sz="1800" spc="-1" strike="noStrike">
                <a:solidFill>
                  <a:srgbClr val="c00000"/>
                </a:solidFill>
                <a:latin typeface="Arial"/>
                <a:ea typeface="Arial"/>
              </a:rPr>
              <a:t>Aminopheno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Rectangle 9"/>
          <p:cNvSpPr/>
          <p:nvPr/>
        </p:nvSpPr>
        <p:spPr>
          <a:xfrm>
            <a:off x="-1080" y="1066680"/>
            <a:ext cx="40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Naming Of Aromatic 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7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68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269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1" name="Object 17"/>
          <p:cNvGraphicFramePr/>
          <p:nvPr/>
        </p:nvGraphicFramePr>
        <p:xfrm>
          <a:off x="152280" y="2989440"/>
          <a:ext cx="8436240" cy="196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2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989440"/>
                    <a:ext cx="8436240" cy="19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3" name="TextBox 1"/>
          <p:cNvSpPr/>
          <p:nvPr/>
        </p:nvSpPr>
        <p:spPr>
          <a:xfrm>
            <a:off x="4969440" y="535932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-Methyl benzenam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4" name="Rectangle 2"/>
          <p:cNvSpPr/>
          <p:nvPr/>
        </p:nvSpPr>
        <p:spPr>
          <a:xfrm>
            <a:off x="1736280" y="530532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zenam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Rectangle 4"/>
          <p:cNvSpPr/>
          <p:nvPr/>
        </p:nvSpPr>
        <p:spPr>
          <a:xfrm>
            <a:off x="37080" y="838080"/>
            <a:ext cx="40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Physical Properties of 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6" name="Rectangle 8"/>
          <p:cNvSpPr/>
          <p:nvPr/>
        </p:nvSpPr>
        <p:spPr>
          <a:xfrm>
            <a:off x="55440" y="13716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) Boiling point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7" name="Rectangle 9"/>
          <p:cNvSpPr/>
          <p:nvPr/>
        </p:nvSpPr>
        <p:spPr>
          <a:xfrm>
            <a:off x="12600" y="1679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cause they possess a polar N-H bond, primary and secondary amines are capable of forming  intramolecular hydrogen bonds among their molecules; therefore they have: </a:t>
            </a:r>
            <a:r>
              <a:rPr b="0" lang="en-US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higher boiling points than alkanes but lower than alcohols (alcohols form stronger H-bonds than amin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8" name="Picture 9" descr="pep6g"/>
          <p:cNvPicPr/>
          <p:nvPr/>
        </p:nvPicPr>
        <p:blipFill>
          <a:blip r:embed="rId1"/>
          <a:stretch/>
        </p:blipFill>
        <p:spPr>
          <a:xfrm>
            <a:off x="2971800" y="3657600"/>
            <a:ext cx="2228760" cy="1085760"/>
          </a:xfrm>
          <a:prstGeom prst="rect">
            <a:avLst/>
          </a:prstGeom>
          <a:ln w="0">
            <a:noFill/>
          </a:ln>
        </p:spPr>
      </p:pic>
      <p:sp>
        <p:nvSpPr>
          <p:cNvPr id="2279" name="Rectangle 4"/>
          <p:cNvSpPr/>
          <p:nvPr/>
        </p:nvSpPr>
        <p:spPr>
          <a:xfrm>
            <a:off x="74520" y="5029200"/>
            <a:ext cx="90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tiary amines can not form H-bonds among their molecules and their molecules are more branched thus they have the lowest boiling points among am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D418-0184-4741-A17A-DA21F68D1FF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2" name="Picture 6" descr="ksulogo2.png"/>
          <p:cNvPicPr/>
          <p:nvPr/>
        </p:nvPicPr>
        <p:blipFill>
          <a:blip r:embed="rId2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3" name="Picture 7" descr="images.jpeg"/>
          <p:cNvPicPr/>
          <p:nvPr/>
        </p:nvPicPr>
        <p:blipFill>
          <a:blip r:embed="rId3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284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5" name="Straight Connector 1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Rectangle 4"/>
          <p:cNvSpPr/>
          <p:nvPr/>
        </p:nvSpPr>
        <p:spPr>
          <a:xfrm>
            <a:off x="-9000" y="273852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3) </a:t>
            </a:r>
            <a:r>
              <a:rPr b="1" lang="ar-SA" sz="2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Basicity Of Am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Rectangle 8"/>
          <p:cNvSpPr/>
          <p:nvPr/>
        </p:nvSpPr>
        <p:spPr>
          <a:xfrm>
            <a:off x="-76320" y="3662280"/>
            <a:ext cx="9372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omatic amines less basic than aliphatic ami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 donating (releasing) groups on N atom increase the basic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ctron withdrawing groups decrease the basic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Rectangle 10"/>
          <p:cNvSpPr/>
          <p:nvPr/>
        </p:nvSpPr>
        <p:spPr>
          <a:xfrm>
            <a:off x="72360" y="320040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Base strength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Footer Placeholder 1"/>
          <p:cNvSpPr/>
          <p:nvPr/>
        </p:nvSpPr>
        <p:spPr>
          <a:xfrm>
            <a:off x="49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8B1D-6AD2-4F79-9B61-E226E9FC91B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1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2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293" name="Rectangle 8"/>
          <p:cNvSpPr/>
          <p:nvPr/>
        </p:nvSpPr>
        <p:spPr>
          <a:xfrm>
            <a:off x="3739680" y="457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4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Rectangle 5"/>
          <p:cNvSpPr/>
          <p:nvPr/>
        </p:nvSpPr>
        <p:spPr>
          <a:xfrm>
            <a:off x="9000" y="914400"/>
            <a:ext cx="19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2) Solubility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Rectangle 6"/>
          <p:cNvSpPr/>
          <p:nvPr/>
        </p:nvSpPr>
        <p:spPr>
          <a:xfrm>
            <a:off x="0" y="1176480"/>
            <a:ext cx="899172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amines are capable of forming hydrogen bonds with water, alcohol (hydroxylic solvent) , thus they are </a:t>
            </a:r>
            <a:r>
              <a:rPr b="0" lang="en-US" sz="2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soluble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wat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ower molecular weight amines with up to six carbons show appreciable solubility in wate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7" name="Picture 8" descr="pep5g"/>
          <p:cNvPicPr/>
          <p:nvPr/>
        </p:nvPicPr>
        <p:blipFill>
          <a:blip r:embed="rId3"/>
          <a:stretch/>
        </p:blipFill>
        <p:spPr>
          <a:xfrm>
            <a:off x="4105440" y="2343240"/>
            <a:ext cx="2219040" cy="1085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98" name="Object 26"/>
          <p:cNvGraphicFramePr/>
          <p:nvPr/>
        </p:nvGraphicFramePr>
        <p:xfrm>
          <a:off x="2057400" y="5829480"/>
          <a:ext cx="3860640" cy="88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99" name="Object 2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5829480"/>
                    <a:ext cx="386064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0" name="Object 27"/>
          <p:cNvGraphicFramePr/>
          <p:nvPr/>
        </p:nvGraphicFramePr>
        <p:xfrm>
          <a:off x="1225440" y="4770360"/>
          <a:ext cx="5945400" cy="1006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01" name="Object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25440" y="4770360"/>
                    <a:ext cx="594540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16:56Z</dcterms:created>
  <dc:creator>NCCR</dc:creator>
  <dc:description/>
  <dc:language>en-US</dc:language>
  <cp:lastModifiedBy>new wave</cp:lastModifiedBy>
  <cp:lastPrinted>2015-01-28T02:12:22Z</cp:lastPrinted>
  <dcterms:modified xsi:type="dcterms:W3CDTF">2016-01-26T20:39:19Z</dcterms:modified>
  <cp:revision>134</cp:revision>
  <dc:subject/>
  <dc:title>TYPES OF HYBRIDIZATION AND GEOMETRY OF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480</vt:lpwstr>
  </property>
</Properties>
</file>