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8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0.png" ContentType="image/png"/>
  <Override PartName="/ppt/media/image2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358-02B4-4270-8D3A-2FD4BD505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85DB-4080-452F-8820-0234C5FFB3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E6F-333C-41FF-BF06-4D05873119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6CC-6E9A-4460-856D-7F26FABF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AD8-6C99-4F3E-AA95-A24B086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2C88F-E685-4C5B-9A57-6BCA9E8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07406-E339-4409-97BF-0BA0690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CA6A5-059F-4D12-B3D8-00215959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7F142-B6FC-4CA6-B38E-FC2C77D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EADAD-3AFF-4CA3-B601-A1E43815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37BE6-3075-4920-918F-0E8F49A4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D2ED-E8AA-43EE-B293-6F979CE5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F0E38-9000-4F40-A852-A3B95C95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8D51-38CD-46C5-892E-49117DD0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364AF-26C8-4F6A-8AFD-BC4B1DC3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274-CABD-4EE1-A161-BF5BD909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0BBC9-C7CE-4E1F-82A2-C631901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94F1-7FE8-475B-ADB0-D15B94C7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B4C75-92C5-4729-864C-7179B0B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CBE26-1544-4812-8A9D-65742E8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8C6DE-E9AB-433A-84BC-92082426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1C277-B115-41E0-9820-BE52BC8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912BE-36EA-4ACE-AB74-C11384F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730B4-8A50-4777-8E59-592EE85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6DCB6-1A64-4BD5-8381-AE1928B0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3D9AD-CB9F-442B-A838-503DF29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05D-5BF3-4B25-B0B2-0EF08A4E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73F8-B990-40BE-AB84-EC5F0BA4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4CA20-0715-4577-BF88-0442C630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BFEF8-D813-4BC6-B82B-C95D5BF7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24DC-1CB5-46AA-8BF4-8FA1B92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6B80-E477-4AC7-821D-05D9A4E4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27AC-DB86-46F7-86E5-91A2EB4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C98F-0B5B-41C6-AE29-2E232AF0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17ADC-6E5C-4998-985A-3250D52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4829-D7E5-4579-A11D-7B273CDF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59097-8833-4245-B53D-846DB809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9F05-6E14-496B-9571-8EC60B0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1EEC3-0344-4BC5-9233-B86CADE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BB27-B005-4EED-87FB-A57507B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14F51-1C0B-4094-9626-9CF5AEC0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97603-954F-48AE-985C-47F6793B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9A814-8E30-457F-91AD-2EC7A7BD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F8627-8504-4733-B112-E264477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A2C56-68D6-471A-85BB-C3068B8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79C1D-248C-41DC-9473-C2D93457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D4E60-36B6-420F-897A-7270FE5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34BB6-D9EF-4E61-ACED-F9773A9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90C-20C4-49EB-A71F-743DB4CD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A07D5-BD5E-42E6-8D5E-49B5F8A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2A845-72B3-4F9B-91EC-EBD801A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53946-38DE-4CA6-BBCF-56AF7CF2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F5101-0702-4FAC-988D-4E65AA06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0F596-72AA-4A6B-B736-1CC8831A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60832-E8CC-408D-B5A8-92EFF950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92A75-2BA1-4EDF-9488-E3F4401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F5792-6E11-4047-9696-C89C6488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8A0BC-DADB-4CDB-A343-4A0DCB9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4D36A-57F2-46BD-B763-0DE8F9E2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7EC-FED3-48BD-A495-AC6FB86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4A752-987B-4688-9D08-26C03C86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D9F17-B538-423A-ADB9-3519F16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727EC-751F-4E7E-9938-B9ECB5B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355AF-B400-4108-9EC8-7265F10B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A404-6EB2-4A43-A71C-1DE60128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E54FC-6A6E-4D4C-9C28-93A50C6B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1B7BE-104C-48F7-885D-061BD6B8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F9A18-B77B-4616-8E7E-5FCAC470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672AD-CF63-4724-A69E-8F4F89D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BE500-CA55-4713-9634-29736AF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779-9B85-463D-B6C1-33569B7C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4410C-9DD2-40AE-91D5-5801B37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4FE9E-3D4D-4678-A185-8A55814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A6263-80F6-43C1-8F10-0D8FF0F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2E07F-9445-4178-AC06-815C5AFE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5690F-085B-4CA1-BE79-43F5796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62C6F-4588-431E-B1DE-102AA7ED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A5E76-8B81-4879-BF05-2CF12D2D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1C774-E6A4-4783-BD1D-3607C845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A5932-DBEE-4AC5-816D-5250E4B7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9268C-681F-4F19-81BE-B6679011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9F48-A429-404D-9B57-3658DC4A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4D525-4694-43CF-B6E0-72D1E579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E9DDD-821C-4CF4-885F-29F6392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7EE1A-4D3B-4DA7-8A35-0F8F470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F9129-8351-4E2E-801B-1BCB16B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8EB85-51A6-4FBC-8DDE-045E8EC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38BE0-FDD1-42B1-8551-4D70387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6520E-828D-4E0D-98E1-C65474A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AA1A3-9C33-42B1-AF8C-FD017C1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37F45-6466-4FD8-AFC5-0D20BB6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8B59D-D490-423F-BD54-37949465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8E1F-D5DC-432F-B5BE-50B26782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83CD8-D44C-4F64-9F37-F396353D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7CCA2-AB50-4E1F-B4B8-90EC7DA1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1F5B0-79F6-44EC-A3D3-0DED7116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C88CF-9CC2-40F7-8935-AC0E6D5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ABA82-CD08-4C39-A95C-73662794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01E2A-231D-4246-B50B-3E3C9D5B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B5667-797D-48F0-A900-662230A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A6D72-7BFB-471D-9FE8-C7EEF33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D182D-06E1-4F23-B18D-9BEC782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D9F5F-A2E6-4FFD-AD25-671CB59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72E-5961-4792-AE22-D98DAC3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2AAC5-F1E7-494B-87E1-4EB5A0EC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03DE3-1F65-42D9-9A03-670F7AAD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B3559-7419-4CE4-9E8A-9D7C102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15258-BF48-4CE9-9328-C301B850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F5EE3-23EC-4BE0-8938-954C5BC7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24C0B-BDA7-412D-823B-8D1C4162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2765D-DCEA-4E72-ACFE-93D7E5A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0B4A3-1930-496A-9E6E-58A4DDFA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4C157-17A1-49CD-A97D-758C28C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9D67B-7381-494E-8021-D7BE667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206-FAAE-4CF3-973E-181DF19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431B-F068-42C0-8C12-1DD2BA6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49B84-52C3-4E4A-AECF-77622DD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4C2CC-8349-435B-B12E-3F59345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8726E-4CC1-4285-9328-86D0B98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6743A-3E8E-4B49-A432-E2758BD9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DEE4E-F9D1-4944-B056-ED95900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2FD87-A549-4677-AF4B-2DF7721C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78242-8A17-489E-8765-DA2333D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AFC135-A136-490B-BEC6-820B14C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31991-5D2B-4775-8017-B1E65861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8A733-A88C-420E-A14E-77F9B00A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0AD-FD5D-41E4-8EAA-385BA02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A6E18-3C40-410C-9227-F4DD08D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551A1-CA20-47A4-BD89-E9963B6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3E2F3-C6C1-4F6E-8882-17B1955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9A2FA-F13A-40F9-8828-41D878C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EE53AB-6035-470C-A5EC-959DAD20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F02EE-3BD6-44FF-8B7D-3CB39D08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C2372-F6B7-48C5-B978-DC6F8896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91EC4-4E28-4DA0-B7FD-0A711927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E7A0F-237C-4F0D-A554-F43AF81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4C560-1A60-4ED9-862F-A4A60B7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B18-80BC-41F3-B66C-5C9EB1C7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ED68D-6112-4A3B-98E0-DE604902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4103C-F7D8-41B2-BE16-B0D99CC7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FFE60-B8B6-4033-A9F9-FC27714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DD86F-EB71-45BA-92B4-DDE1573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B2AEE-C403-493C-98E7-5DEF9A1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F8C86-E1D8-4D05-BC2F-C37D172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DF8DC-D399-48F7-AB4F-42B0F141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85564-5FA1-4CCA-9D59-77AC5EB8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7954E-E8DB-4B8A-857C-35DB0056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DD318A-FBE3-4251-96A9-097A2BED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463-29BD-403F-8352-6BF5B673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A878C-FB25-4D48-97E1-DD67E282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4CAE9-4451-45FC-B0D3-21785727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0DDE3-D74F-4A27-9A64-5473B5F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3F09B-A0B1-4275-A75F-E6E08A4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298E3-4F36-4C15-B640-295E2067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131B2-A16A-46D2-91D4-4C11BC0C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F243F-1A3D-47F9-9C4A-650A067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DB0B2-B1A7-4E8D-B7E9-705FFC87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BD499-9E65-4993-997D-50329796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D06B6-764F-47D0-AA70-FC498FC9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CC2C-6644-4789-B146-8A6F4D9C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A907B-E5DE-4062-A31B-285FA690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9D918-D5B0-40AC-996A-C6813234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6A8E3-8557-4931-B7C9-B2B19718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0446A-A08D-4B0E-AB23-A3726712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AEF8A-490D-4A20-82B4-26383F9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60EC3-5EC9-4188-A182-484378E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3396D-D266-4E50-B41D-1B40428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871DE-4358-4563-AA62-39BC1ED1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DC2BA-A38E-4DE8-B6BD-09D8CC0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42F03F-3A91-44BD-9A69-4B044666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0F32-C6B1-4815-AD26-6676CDA3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97668-121A-4C09-BE02-36F52BB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2EDCE-7257-4B5F-B3B5-4C7B7CFD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C0EF1-4278-48F7-B787-B2CA1C2C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04B737-5A7A-40B3-A1FB-E4900733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2D0E32-2DD7-4264-93CE-75EC913F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BB30FE-E6A8-42C6-AA09-99E74778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4C9C1-A862-4955-80CD-A67C7FE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E810E6-B121-4619-BD53-72AE465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07EC3-E77A-47D5-9428-E3FC3C46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4D315-B6D0-4AFC-913F-B0653D9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C488-9CE5-4DA5-AF0B-2C96AF2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B447C-C4AE-4464-B253-28C775B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6AB74A-80FA-4694-8727-23FC4C6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113378-9FBF-46EE-AD10-4DBB792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C0362-0D3C-4038-A175-FE360072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69E3D2-5A90-4B75-9581-48702425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8C653-08D7-4A76-ADDB-A61AC122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8B7577-CF32-435F-836E-40BBDA9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D29698-812C-4284-853A-DD10992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7101CA-9304-49F9-903F-9251719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1165D-CAE5-4F85-BDF6-04AFEF3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61FB-0602-44DF-990E-C1FB0C1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3BCB5-1C5E-471E-B2A0-05E7F5F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3E164-0CF3-4B68-A8DC-1800144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AD7F3B-8414-4EA6-934F-F50E1B2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30085D-04D0-44A8-A46D-FE97DD3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7D48C-DF36-49D4-874A-3C20DC3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7C8BC4-BA63-4C7E-A514-EEF8321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A17B8D-0294-4094-84D3-01B1FCDD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694143-F28C-4CF3-AE42-B2AAC7F2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8702A5-DE95-4D6D-82D4-BF04E4D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1EA69E-574F-48C9-AC75-CCF0C11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205D-CEAB-40EC-8C43-8436754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90F96F-83D9-4D86-BF13-E232236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0963CD-2BE7-4FB1-B089-8488A711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4E092-6AA0-4BED-8575-2D52CA6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8D7A9C-63A0-491D-A62F-9BE56C9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CAE22A-278D-46D2-9873-C14A2CC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443AA-4480-4764-B40E-A56696B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389FF5-F0CE-47C7-B875-F8D272D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199E6E-1C93-433F-8258-ABD2D46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5C9056-EB75-481E-880A-6383DC72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6775BF-5EAD-44A0-80A3-9A4BDA9F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CD1A-4215-4533-8EC9-E7F2AC6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8DAAC-E5F5-420F-8C33-FDEC93C5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80057-260F-4E40-BC35-4E312FDD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776FB-4AF0-4F42-BC32-3F752BB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DBDE2D-DE2D-4916-BB35-C3556448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F4D25-29AC-49D7-8F9E-D965283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33738-B901-42D2-87C1-627DBBF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41A34-C54C-4937-BFE6-5AD4BE7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448739-EBC5-4309-B1EF-137E2D9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74F25A-DCD1-4D81-A99D-AEECC20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567CC2-2C37-4A56-A1FC-28545F7F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65B-77A2-439F-AD83-452623E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A425-966D-4444-A378-2AA924D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5D791C-04DA-47EB-94A9-1D5B7058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ED38F-90A0-43D8-9FC9-01188A8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155A7E-3EC8-4F75-9D15-ACD88978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6CD177-A73E-428F-A532-B9E075EE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022EC1-A653-4E4A-B706-C1CB111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46D3EF-3AF4-4135-806E-C887CF13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5E6C21-DDA7-446D-99B0-0EC40C0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5DA7FA-E10B-462B-A616-C93D0A6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1BEB22-C610-4EFD-ABA9-01DCFC3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50653E-FCBE-4CCE-9E54-29A7E4B7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E721-CE17-49AE-9804-A60D2F8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80BA74-7B37-4413-ABFA-6E733D88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0FE03-594A-4F0B-9FB1-8F5D89B7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9C6D36-E65D-4FD5-B6E9-0A7EAC31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FE5F0-187C-4F97-A53A-815F3E32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04EA6-BEB2-4B4D-AF21-0DC18A2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A5486F-2848-492D-B1DC-16F142D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79AE33-69E1-49FD-9B52-AEC26305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299A8E-FBAB-4AC0-A77D-3AE1AC43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29539D-DE5A-4F83-A67E-27454957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31E78A-3C9E-48EF-9BEB-A46B0D9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7C9B-7F70-4094-8A70-6DD42B3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F91633-8724-4C95-920D-FA22701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EE1467-5E80-4FCC-ADE0-63F2E0A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08A5B1-1C37-4233-991B-1FA1929D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A22816-3245-4D1D-9C89-DF9843E1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94AB40-93C4-45F8-B93B-8B946C3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37177B-8602-4E6B-A9B5-9D526E0C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12B342-F247-4469-BC39-8433E8B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42FBB6-010C-4623-88B1-F5D7B94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DB28FF-4881-4008-A318-9BCBF63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D86A4C-E127-4DD2-B2B6-DDDA1429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120D-FDA0-476C-9E49-2572CDC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787C50-946A-4018-AA04-B23447F3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02AB27-C4AE-4B86-B25B-2485B660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3B260-02BD-43D9-955F-EB267C5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CC28F1-CF6F-45F1-862E-8DBBADB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F65CA-555F-4248-89BD-71EF4A2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66715D-EBA0-4B60-A545-ABD13812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0421EF-2BFA-494D-AD12-3D508288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3F0568-804E-4FA2-983E-04CEEFAE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865471-7773-4773-B827-06937A9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546E21-FE03-4319-A54C-318E024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7E61-1C85-4BDB-B6AA-AD1544A1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9F2EF4-CC65-43AC-9588-A3E3EC2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C20379-99E4-4C21-8E11-88E6F5D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A9D190-D476-4585-9F1E-A16CA00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B0EA6E-39C1-41E3-976A-6A3ABF0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C718F1-07FC-48E0-BB16-916EA3CF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D6F732-17D4-4644-9A2C-042D96E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D3654B-E990-4B8B-A06B-FE1B33F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9F32C4-B984-48AE-88C9-802E9B38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7DF447-FFAC-4A40-B2A2-4E82755F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9DA2C8-8646-461F-92FC-27E4C49E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8CC6-290F-4946-8DA5-49B17466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71EEC-0C19-4263-9B08-A0A97A6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77E71-C28B-408C-A7A4-32945CAB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9D3FF1-292A-4560-A94B-1B5A9A62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256F8D-C3A9-48A4-B8FE-D296949D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999DF8-3961-4668-83A5-6D8D96DB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9E70BE-2E8E-4F62-8CA7-01BE9282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6A624B-E6C7-417C-BF2B-1F8E0BC7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E4CB61-6183-40E3-A86D-9975380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CCD129-440D-4AF9-9555-97DACFF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B2EC7-51CE-4CD8-B82C-5118F685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5618-9FD4-47FF-8EC3-00D56EC1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E80C8D-EE82-4F70-AC4A-BF42211D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5C5E8B-36C3-427D-AE4F-04F85331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5B27C6-9845-4C65-ABC9-18C9CF2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737D3D-B47D-4CA8-A9C8-2D9D28A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A49F86-BB97-4904-82E5-13DE323C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94749E-E6F3-4970-A77D-18192AC9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EDDB8-39F7-4DB7-9573-7723C344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373145-6CE7-4740-A820-FA6EF42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FE6A2D-2CD4-4069-8F64-7276026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23B4FA-99EF-4A2C-A418-483380D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9642-0A57-49E1-9F05-61396CA7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B37553-9734-4D52-BDCA-5D8B857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693937-9059-43A9-A4A3-8F7CF09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B10D7B-61E1-4819-B017-A001054A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4057D4-4C10-4D0C-A6AA-15838C8F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55871-A3DC-4885-9209-166EAD03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7E7FB7-CAFE-4BC4-9D83-EB53FA8F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01397C-7A35-4979-B251-87F62AA4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247C92-35C2-4312-8877-6112E3E2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03D1A8-0066-4886-BB4C-2677899C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622F5C-97C4-4D78-9AE0-B872254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F054-527C-4D6D-8D04-10CF270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D54D21-90D8-4891-8C29-0634789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21E4F9-108C-4AAA-92F8-4DF5437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0A849D-75BA-44BB-9DA6-B2723A93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F9B529-0F01-4986-AC88-BE36EC2A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A42782-1FDB-4620-BF9F-23145152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7D73E5-6546-4753-A578-2AF1E3B5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42F353-E2AF-4CAE-B0C3-8D0E0472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EF08E8-319A-4B8B-A9ED-B261779D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2BA047-D54F-4064-86B4-8B78E9C5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C518AA-B921-4C0E-A7B2-036161F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A177-209C-44E7-89A3-6AA8FC7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47EFCC-7034-4287-B4C4-5C47268B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790A54-290C-4879-8EC3-12E4CA5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AF1EBE-FA6B-4CFD-99E4-C94EECE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A5C966-32EE-4272-BBC7-35C81CD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1FBB2B-F1E6-4E23-82C7-4D0CB7E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A28576-2C0B-487D-B975-DF1C6019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390AE7-72E9-4F5E-952E-1F42320B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94BA57-9096-45DE-BAF0-6D4A4C36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4E088F-DD0D-41B9-B3F4-6EE9A803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21E2E5-1909-4920-967D-D53A732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F59-3F96-4444-AF99-437951FA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CF82-013F-42AC-A950-EF595625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93FA8A-375C-44F0-930F-3061332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BE52EF-0752-4928-86B3-17F4668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EA5A5F-6196-4D68-AFBC-77EECCD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E4B854-C531-4294-82B3-9DB5BB9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6989AC-7D37-49D1-A24B-904ECBF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3E42DB-D307-4043-A871-3FDB37F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665ED3-81B7-4679-A54E-3003ADC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DB0F09-5212-4145-8EDF-B69AA357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92F00B-259C-434D-A4C4-CB7DE173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090C93-CA9C-4FCE-91C1-54ABA7BE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EBFF-2F7F-4D5A-A21C-BE436579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0CDBDA-DB14-45E7-862D-458199C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6A9D02-6BA2-45FE-A6B7-DE2D6652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F601C3-1DB7-457C-89B1-694D8DCC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74250D-247C-467D-BB35-D7BC6DD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211271-44D1-4EE2-8DDD-5BEA82E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BA3181-C178-40B6-8039-A19E304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FCA0D4-6D36-47CD-B6D8-2EBC9EA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FFD006-2B57-4D29-BC81-D3D72D1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52BBC8-FAEA-4F0F-8D59-E650F6F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E7D25A-8896-440E-AAF8-CFF8896C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5B05-0C5C-4D16-91F6-7D01E2F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C293DF-20B6-4CE9-9C9A-589497A4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90505F-1F46-49D4-AB70-27CA0C33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CAD49D-4EA1-4A14-A42F-DEF5AB7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0FE42D-0A99-4C88-8125-8C74164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D77AA1-08AB-4E8F-BF3B-DDA0A5D5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1C525D-ED1D-45B8-82A5-A88CE9B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DBC990-1D9E-4C53-A3CB-7AAF9FC3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CEBD62-ED59-4296-A52D-AF21EEF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442ECF-2345-42FC-A096-3FF583E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AE8B15-C0C3-4D2B-B6F2-E872B7C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3CA2-24A0-4C6D-83C8-7F79B51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66708F-6506-46BE-AEC8-CBFC409E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0E4556-3835-4E86-96E1-AF6F98B8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E8E89E-260A-4F41-B1E1-09C5F0DE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365932-1F12-4737-9AEC-EB8D71A2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BFB16A-A672-47C8-85F2-194C729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3A1F9F-8428-477F-B6A8-61CFAD13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702829-463C-444C-8BE7-DFB3990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0906E2-9A9C-4A31-8A0C-10D5BB2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FAE840-5AD8-45B7-95A2-A53EF40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24D24F-0C44-4CA6-9697-D37E83E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2291-8865-451D-A120-EB85A39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485E4B-B2CA-4DA5-86D9-6ED38FF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165475-7A26-4E15-810F-73EB982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BBA2EC-9866-447B-AB18-6805A528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1D5DB5-1B5E-4332-8136-2D11BE1D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F563E3-0713-435E-BD4A-18D7E796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E97C31-1291-465B-BBB0-7F46CB1D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10997C-42B9-495B-B1A2-17621474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C3331B-0AE2-4604-81AE-B34A3A2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2880B8-F50B-4B8D-8008-8FE6DF9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F57B1B-968A-4975-ACFC-20AB810B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51B1-C63A-4BDF-BD7D-911C3B2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7B3D69-02A5-46BE-87D1-BFCA891F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786967-C1AD-4179-A18E-0E644670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99F10E-39E1-402E-9871-CAF3BFB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6CE68D-B349-42C0-9BA2-C785AE6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D4E5BB-8163-4A8E-A6F9-82D2707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D53B74-65B4-47BD-B45F-C42660BF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02327C-9CE1-4EA5-8A08-A893D89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5866B3-DE8F-4E52-80B0-364F0B48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7BD562-B6FB-4655-B30D-AC4C1B24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0FB2A3-9103-42E0-8F10-7DFD3441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4240-B2C7-499B-A8A0-215F45C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056AFE-D50A-421A-BAA8-B98FBFDD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D88BCA-A1DA-400F-8238-34B812FC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B363E6-A508-4D77-A13B-B1D43937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ED9B51-330F-407F-83C1-79878C4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AFFD6B-945A-44B7-B986-92F1191B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3611CE-8277-4BCF-BFF0-904AEE8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FAAE49-A54A-4A6B-A8F9-4982D57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50BA71-A66E-433A-A87E-DF59B437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5C99B8-C530-40BD-9A5D-50D271DE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B71E7D-25D3-4CE1-BD01-337E85D4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093F-2EE0-46CD-B65D-63CD7BA8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3AF6BE-3422-44FA-90AD-77CDB649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030ED0-1264-4420-8056-3C88A4A5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8578CB-AEE5-4EB8-BB28-3CF7779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E64AE9-70A0-49FB-A9D4-42C98A5D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29D347-F7B9-480E-93DC-F2300923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0A21DC-BADD-4BF9-9B3B-7FEC35E8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7CB89B-BED6-4A89-99BF-36ED48F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7ECD13-8A11-4A9C-9DCE-5350C64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CCA254-B661-4491-BE95-BC21AA3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31E1A4-6B05-4FC7-95F3-BC95AE42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62BD-C346-4BA2-A356-D20D9772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638667-1F8F-4932-84EB-2548D271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88E697-5D59-478B-A918-86E775FF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88DA2E-03F2-43B8-958C-1272D63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247856-0D16-4208-925F-10AA3C8F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B36AFC-B7EB-4383-ACAF-B1CB7C7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53B6E7-B740-4A1D-9CD8-FF86824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F8C90A-302A-49BE-9209-117A6CEF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1D955A-8A98-4749-B896-C1CABE7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F005DA-FA80-4638-89C6-F33C7A7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590BA9-F33C-454C-AED4-B2D696B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3C98-6037-4BE8-8A91-D176AB6F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F15762-B651-44B1-9388-2676CB6F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DF2F3E-6187-463B-B023-A27FFE43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95FC8B-23BD-441B-A7FF-34C77779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E42312-5285-4DF2-9171-4548DF48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38A540-868D-4DC2-8FB8-EF7C225C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C7B6D8-BBB8-492D-A4E5-43696C2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0E6E0C-2376-449B-A282-6C8D699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A8DF40A-473E-4865-B068-A0F4E3F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F9C366-0911-4E28-82CD-774DA759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4FF5DA-9278-4662-85B2-262C5D9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C26-F547-4E47-A1D4-24C7185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8A50-55CF-4455-96C1-16CF657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B14C1B-ACFC-471E-B0E4-0BC4BD8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46A687-81B9-4227-8103-9C661D1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7EA583-D8CE-40D0-B329-0C2AFFA1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1F52D5-53F0-4FD9-99F9-CCE9726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7AC17C-7433-40FA-804A-68BCE0FE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EC8A88-CA26-4F6C-A8A1-7641639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006C72-9DCC-4698-9CAA-991B41A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88055A-F6E1-46E9-84C0-7C670642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A8AE59-0294-4AF8-AC26-3D1B2F4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FF8A73-47BB-422F-B9EE-C6DCAF0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B5621-1579-4941-9DA5-FF8CC6F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B1356F-2F5C-4248-BA0B-3267C73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FE4909E-3D3F-4716-9DE0-56C3667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BEE2CE-FB68-48ED-8481-2E21497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DA5567-19D1-432E-81B4-5828721F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85E0D2-644C-4462-B30D-1A791DCA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F1B388-F629-4070-9B55-8D577A17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70EDA87-FC16-436F-8966-795F7152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0331F1-EE4E-4B70-A4FB-1A62DE08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432B694-FA0C-4B24-B697-A823670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7882AC-C3B9-4DB3-A2FA-DDFA91E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21F8-9FD8-4C07-86BE-32DCFEB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B3AA41-F907-459F-92B7-51246B29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7F5C9B-3B26-4E5E-9BB4-1E16DEDD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D9A600-082E-457E-9975-29FDF7B5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7A2279-454D-4DA2-BBE2-DF250B2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FF718A-AA8F-4B5E-B35B-2675647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95E206-4388-47D8-B514-902245C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328A641-4F60-44E0-8005-6328A87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46F19E-BB53-4089-BBA7-D686351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E5CE25D-3511-4B38-8A01-A0DDEDE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060C5F-D7C2-404F-8CEE-EFE8C5D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45D4-8319-4198-AAD5-91181CAE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9C6623-F3B1-4D8E-8BA0-F4D44FE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F2E946-34FF-42B3-A1FC-76B45EA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538D4A-66E0-42E4-9205-57E4B00D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85AEDF4-0C73-4C22-91F8-5D6D200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B7D8F50-F634-46D6-8AE8-63DBB43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6ED308-5E86-40C0-9F8E-3458EC1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692DA03-DAE1-410A-8AD4-884837A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F3E1F4-91D6-4A4F-B42B-C150D4D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A20F52-EB9E-4F85-B930-5ECD1B7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D617E4-49A8-4BD1-B5BD-78B66C88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62C7-86AC-4870-A96B-85A8702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9F7E0C-5ABD-4AEF-9B04-9DB88600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86BF08-19BA-4531-BE73-E19A31E5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44D906-1819-4146-B28E-2937BEB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CEB860-05DE-47D1-8461-8476F21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CDD239-4770-476B-B950-3A179FFE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ADD5F5-34BD-4824-8F24-AB559564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B38059-6739-4242-ABB2-57A2232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F55472-9D5D-4E93-A7F5-0D38777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3F977F-6E02-48EA-B51C-877DA8BD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56762D-5BD2-4413-B2DE-CEBED7C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D33D-1277-4AC2-B0F5-7EF93A1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5F02E2-B6AB-4576-8563-5641668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1EF6E6-D46E-4E36-9413-1E521055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F195A2-2D06-49A1-B357-C505BC0D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34628AE-2470-431A-B124-F11AFE7B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C55DCE-708C-41A0-941F-11026F1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66CCE4-FBB2-45C8-B254-F7F118D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4F4AE4-EC6D-4A1E-AD2F-79E5087E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AD7F4B-A21C-4757-B4BE-1A97E00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6E1DAE-F8DE-492C-8C4D-0A2D128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FDE0D5-D81E-44CD-B152-8F5436A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CFE58-AE7F-4565-9657-788454A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D1C122-DCC7-4BF9-A89A-5267C8E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0B5831-9E85-4ACE-930A-EAA278F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FB9E35-2490-461A-95E9-669DD59D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E44F1D5-AB77-49EA-B92D-BEBB3548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86B38D-08B6-4B4C-8A23-3383428B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DA0169-FE6B-4F57-A45D-5703897F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AE6B9F-C300-4A79-BF17-A9883853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097D8B-F238-4DE1-A5E5-719DDEF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60014C0-88A0-4CA9-990F-463F32D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B72778-32A0-46AC-98CF-3433039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F1DB-E91B-4C5A-A3A6-6829A4B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F325B7-7E4E-490F-9F22-27A66855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0D6D02-E18F-41A0-B997-F6667D9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35A2C0-1A81-44D0-A7CA-6345927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FF51C5-DB67-465A-ABC3-E6A9260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D58FE1-A0BC-41FF-9A7E-F37C4C1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0C0D5D-4951-44ED-857B-87A56599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49384C-E7D4-47E1-A94D-A209569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4F889-3402-4070-9357-8C8759E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BD8D-C8BA-49F5-93F5-15F8B99E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272-DD60-4332-9EFA-C500CD3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535C-3BF3-4409-B3B6-6B7A1423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2BFA1-5A8B-4F4F-90C1-8B655A4B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A25D-1A64-4F66-A163-5D3E49D3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FD8C-B79C-4665-9927-8861161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8EFCE-6C35-4BAC-92FE-AB2DE08A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C5EF8-AAE0-4960-89DE-0FEC8083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84F5-9CD4-45DC-8121-B7996AB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31817-0DDC-44D9-ADCE-FA9215E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9DCE6-F4CD-4547-89BB-02A6F4C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53DD-702F-47D2-BD0D-58CB610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3A3-D8B6-449C-8613-BE2D14E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DC0D4-ADA3-413D-9630-1D7C88A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0961-A741-4B5D-B770-4BF3FB55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54E6-B968-491C-813E-45416DCD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FADA-D50C-4840-9A2A-C6158A6F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C261-7F2A-4647-9067-4C83C1A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7F574-08F6-42E0-A986-3632A51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33C0-B7D2-4E7F-9F5D-B96BC24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1225-0014-44A8-8A6C-8C309B4A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B83F0-99E1-4EBA-A228-E1DA532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D7B5-B700-4B62-A0F8-5D47F2B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A16-7D4E-430D-8829-3AFBF478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F943-A5FB-41F0-8116-FB7D7F5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D856-C875-43A1-BE64-A397252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2356B-4D46-492B-910C-9DE9E0C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51B5-5E7A-4DF1-B508-319C73E9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A406-93D2-47E5-855F-0BB04438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52041-1815-4DBD-A0AE-7CF4DD91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A18F-7BF4-4126-83F1-0702C62A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BAF7-EF00-41F4-A683-E3B156D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E29E-E161-4B16-A3E8-CAA6298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359BE-74CC-4738-9DE2-87552135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CAE-4A19-4BDB-8688-002936F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E35A-551E-4982-9A60-1905020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67AA-666C-4F7D-8E3C-D9466E3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656F4-B5E4-4B35-973F-29F7DC99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DF5A3-2426-45F1-896A-2FCCD02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6569-96AE-495F-A7E1-0DA4EF8C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F25E-8E3B-4AB1-A90E-0C5264D2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558A-309E-4FBB-AC15-EAE94334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0D778-182E-4753-9D7E-BA9A3320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F8C69-2F6D-48DC-BE20-0CE7ECE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63454-8B27-4269-8608-4EB3F70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C431-8922-4BB1-9BC1-7C3C1735719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9970-BDE5-44DE-A3BD-27AC955D34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4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4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85B3-8984-4AA4-87E5-61C33851CAF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371-D797-4454-A079-4B7973F362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9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9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502D-8087-4786-90FD-D73696F71AA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1AA-017A-4755-B834-D9D520AEA2E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4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5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5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FCE3-2613-4DF3-9975-44A43A1C795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495F-A8D7-4C8F-AEA5-1B7D84BBDA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9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0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DDF-2FE4-4780-B5CB-62020A394A2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7530-D03E-4194-8B96-32428FFD61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5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5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AD33-72F6-4BC5-AFB7-DDADA444036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95D-C1F0-48DD-8C4C-6C98D212FC2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70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70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7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7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156F-5E7E-4F98-ACC6-ECB9706A165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9C1-413E-4A62-BEDC-7B8CAF5192E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75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951-4541-4503-886D-C988567F973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BAB-EB0B-4D97-BB43-F13B8694C9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FAC8-37AB-470F-AC34-19E50DAA771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3745-DFF3-4135-BB5D-C95FBBAF93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5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EDCB-24D0-4B87-9604-822A32C8D22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715B-815E-44B6-BC4A-A6D09A849D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9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72A-A7B6-49E5-8701-58956B88D7C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595-7864-4D20-BFAB-18F1B4DEB9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222-DA8A-4974-9A56-0A5958B4B99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AC7-9503-40A3-AEF0-3A59147908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F21C-CB94-4D1A-8A83-B9B2C996A45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BBEC-0C0F-42A9-AC94-86900997F5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9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E4A-BA3C-4AFB-A010-6BE6CEC47E7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CF2-AF77-41CD-8545-2DCE832FFF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3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C4B5-8A39-4DFB-9C1E-3EAC3FE2977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437-D76E-4F33-882F-F6AB733E45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8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EC8-0C11-49E4-B437-335CAA01509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1811-69CB-47AF-AC32-0324BC80D0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3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B8B-DA04-4984-AA77-AFD933CBE80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55F4-8B14-4ABA-B59D-570AE61457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8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0F0-6447-41A4-AE0A-ACAB626F6B3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068-BF61-44D3-93D8-893F48030F4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2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408B-389E-476B-B6FF-99DA331D389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DB0-51BA-4FFB-93A9-C4281D7ABF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44E-F5E5-4A7E-A4CC-9B73D3D6400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496-9B65-44C9-9D12-4FFC5126C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80F1-6DD5-43AD-A1DC-069716B8CD1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F3B-ABEF-4C93-B5BB-9E890ED28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7F63-A24E-4309-96FB-0E09591E992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C5C-D195-425D-A6FC-3F547141E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4C8-8CD7-496D-AFFE-D311900E50D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D9B-B2BC-4047-A5BC-E345EDBE2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9E0-1223-4AF5-BEB6-9541A4D0B58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E1FD-A425-4CF1-A402-D68FB5C49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1BA-EA65-4DE6-B4BB-559DD27CD67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1F5E-C57E-4EB0-B0B7-ABCD29884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056C-6600-4990-A79F-D76C4177355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386-1D9F-4FB3-804F-4E060F15C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FA83-201C-452F-8782-3DE217C2EFB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4C9-14B1-4F82-8B2C-F778B5749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C01-3ECF-4C61-94CC-2E20E19AB3A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FCD3-D91C-4AA3-BB63-3C9E0FE6A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02F-6B30-4E08-98FF-175467EC6A8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62E-8ED0-453A-9BA9-50DC2A3A3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A4FB-D376-490C-9D05-3405DA54538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F982-31D9-4440-9081-93236E380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4BF-0FAB-4ABE-AC5A-09162F70CD6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FB1-7B30-44D5-92BA-64EB6FF98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CE5-C1F0-4DB8-85AA-2A68C79635D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D70-F151-4AE9-B0B6-7AA33561D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264C-7164-452C-ACC7-6AE18CC17E8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9AF-26F9-4082-8E0A-060BEA835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942-1001-4AEC-8119-2AEAE200AFF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FCB-2079-4593-8CB5-729627FEE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E773-198D-4615-95C7-24DB4A2117D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503-C978-4A2C-B9E5-30A427846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9F7-9D7F-4FCD-910E-3E00E842D95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B50D-20D9-4557-BDAE-6786FC6B9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E6A-2945-47AB-A0A4-CD41398AFD4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9F6-893D-4882-94E1-153533B5F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1082-30CB-408F-B094-487E0B307F3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CFC-D6CD-492E-90E1-410F2D462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726-D4EB-46F5-904C-80EB31D2272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F36-FE5F-474A-A455-7BCE602D5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2605-94EF-480B-8327-BE8CBEBC511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62C-7111-4FD2-A6CB-F202A6E45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37C-254D-40C2-AB7B-ED0A42A3F85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18D-C24D-4653-A90D-65AD77C92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53A-13A2-419A-A82D-1F0A47C5F16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56A-CC0F-4625-AEFA-F11057246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B380-1A12-4CB4-AE28-1D95374D6A3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B658-AEC3-4A06-8C95-70CD2E0DA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8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8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05E-B7D7-4164-B11E-036FF4A4E37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6BB-BFC2-4CCE-83D8-91D51603DDC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3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3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3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4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96F-2323-4008-AE49-DC923B19A2F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F85-A4E2-45D3-96EF-6F9B36D7AB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8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9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F724-5755-4D5D-82E1-8854842E839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FD2C-8786-4109-BDFA-4BB790A70E1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3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4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062-6324-4A51-904B-6C7604B2C2E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A8B-4B0F-4623-8A4B-27075227D2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9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9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084-2B56-4796-8E4F-76A129057EE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9066-C0E7-40B5-856D-9E555D8CAEE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WordArt 4"/>
          <p:cNvSpPr/>
          <p:nvPr/>
        </p:nvSpPr>
        <p:spPr>
          <a:xfrm>
            <a:off x="1752480" y="28954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48B-8F88-4903-AD3C-2EA959FF18C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6A99-2A0E-419F-A912-6B3BA96136A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Picture 5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183" name="Straight Connector 6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4" name="Picture 7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185" name="Rectangle 8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Rectangle 9"/>
          <p:cNvSpPr/>
          <p:nvPr/>
        </p:nvSpPr>
        <p:spPr>
          <a:xfrm>
            <a:off x="3287880" y="1905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7" name="Picture 1" descr="100px-Methylamine-3D-balls.png"/>
          <p:cNvPicPr/>
          <p:nvPr/>
        </p:nvPicPr>
        <p:blipFill>
          <a:blip r:embed="rId3"/>
          <a:stretch/>
        </p:blipFill>
        <p:spPr>
          <a:xfrm>
            <a:off x="2743200" y="2743200"/>
            <a:ext cx="314964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Slide Number Placeholder 2"/>
          <p:cNvSpPr/>
          <p:nvPr/>
        </p:nvSpPr>
        <p:spPr>
          <a:xfrm>
            <a:off x="8083440" y="63342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A48-FAA7-491B-A733-DFEBCA53C6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75960" y="1449000"/>
            <a:ext cx="70102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 Alkylation of Ammo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 Reduction of Nitro grou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 Reduction of Nitri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 Reduction of Ami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reparation Of Am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6" name="Object 35"/>
          <p:cNvGraphicFramePr/>
          <p:nvPr/>
        </p:nvGraphicFramePr>
        <p:xfrm>
          <a:off x="685800" y="1752480"/>
          <a:ext cx="779940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99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8" name="Rectangle 3"/>
          <p:cNvSpPr/>
          <p:nvPr/>
        </p:nvSpPr>
        <p:spPr>
          <a:xfrm>
            <a:off x="0" y="-198360"/>
            <a:ext cx="1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9" name="Object 36"/>
          <p:cNvGraphicFramePr/>
          <p:nvPr/>
        </p:nvGraphicFramePr>
        <p:xfrm>
          <a:off x="914400" y="3200400"/>
          <a:ext cx="5184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0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5184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Object 37"/>
          <p:cNvGraphicFramePr/>
          <p:nvPr/>
        </p:nvGraphicFramePr>
        <p:xfrm>
          <a:off x="2590920" y="5867280"/>
          <a:ext cx="50403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2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867280"/>
                    <a:ext cx="504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3" name="Object 38"/>
          <p:cNvGraphicFramePr/>
          <p:nvPr/>
        </p:nvGraphicFramePr>
        <p:xfrm>
          <a:off x="990720" y="4648320"/>
          <a:ext cx="58449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4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648320"/>
                    <a:ext cx="5844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5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AutoShape 9"/>
          <p:cNvSpPr/>
          <p:nvPr/>
        </p:nvSpPr>
        <p:spPr>
          <a:xfrm>
            <a:off x="1785960" y="4214880"/>
            <a:ext cx="4772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Content Placeholder 5"/>
          <p:cNvSpPr/>
          <p:nvPr/>
        </p:nvSpPr>
        <p:spPr>
          <a:xfrm>
            <a:off x="0" y="1371600"/>
            <a:ext cx="900576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mides Formation: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mine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Diazonium 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1" name="Object 36"/>
          <p:cNvGraphicFramePr/>
          <p:nvPr/>
        </p:nvGraphicFramePr>
        <p:xfrm>
          <a:off x="2133720" y="1676520"/>
          <a:ext cx="4537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453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3" name="Object 37"/>
          <p:cNvGraphicFramePr/>
          <p:nvPr/>
        </p:nvGraphicFramePr>
        <p:xfrm>
          <a:off x="2362320" y="2590920"/>
          <a:ext cx="55753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557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5" name="Object 38"/>
          <p:cNvGraphicFramePr/>
          <p:nvPr/>
        </p:nvGraphicFramePr>
        <p:xfrm>
          <a:off x="2362320" y="3429000"/>
          <a:ext cx="54180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6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429000"/>
                    <a:ext cx="5418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7" name="Title 5"/>
          <p:cNvSpPr/>
          <p:nvPr/>
        </p:nvSpPr>
        <p:spPr>
          <a:xfrm>
            <a:off x="0" y="65088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Reac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8" name="Object 39"/>
          <p:cNvGraphicFramePr/>
          <p:nvPr/>
        </p:nvGraphicFramePr>
        <p:xfrm>
          <a:off x="1600200" y="4495680"/>
          <a:ext cx="6157800" cy="13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9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495680"/>
                    <a:ext cx="615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Slide Number Placeholder 1"/>
          <p:cNvSpPr/>
          <p:nvPr/>
        </p:nvSpPr>
        <p:spPr>
          <a:xfrm>
            <a:off x="7948440" y="64008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C1C-685F-4881-AD00-331DCCA66A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2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3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2"/>
          <p:cNvSpPr/>
          <p:nvPr/>
        </p:nvSpPr>
        <p:spPr>
          <a:xfrm>
            <a:off x="3515040" y="606420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zonium sa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enzene diazonium chlor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Title 3"/>
          <p:cNvSpPr/>
          <p:nvPr/>
        </p:nvSpPr>
        <p:spPr>
          <a:xfrm>
            <a:off x="2819520" y="609480"/>
            <a:ext cx="266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Content Placeholder 5"/>
          <p:cNvSpPr/>
          <p:nvPr/>
        </p:nvSpPr>
        <p:spPr>
          <a:xfrm>
            <a:off x="7920" y="1557360"/>
            <a:ext cx="8337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structur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nitrobenzylam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prepare ethylamine from acetam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re aliphatic amines is more basic than aromatic ami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stronger base from each pair of compou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9" name="Object 16"/>
          <p:cNvGraphicFramePr/>
          <p:nvPr/>
        </p:nvGraphicFramePr>
        <p:xfrm>
          <a:off x="1981080" y="3494160"/>
          <a:ext cx="449604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94160"/>
                    <a:ext cx="449604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AD7-720D-4387-B704-12ABA98DD2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3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21A7-EED2-422D-A371-2DDA54F150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0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1A9-B680-4183-87BE-5B0C329BC5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-76320" y="1066320"/>
            <a:ext cx="303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Rectangle 9"/>
          <p:cNvSpPr/>
          <p:nvPr/>
        </p:nvSpPr>
        <p:spPr>
          <a:xfrm>
            <a:off x="0" y="175320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en discusses the following topics and by the end of this chapter the students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assification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rules for amines &amp; precedence order of functional groups in compounds have more than one functiona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effect of lone pair of electrons of N atom on basic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methods used 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reactions of amines; in addition to behaving as bases amines can be nucleophi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2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19080" y="106668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&amp;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3"/>
          <p:cNvSpPr/>
          <p:nvPr/>
        </p:nvSpPr>
        <p:spPr>
          <a:xfrm>
            <a:off x="8826480" y="6603840"/>
            <a:ext cx="190440" cy="180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4">
            <a:hlinkClick r:id="" action="ppaction://hlinkshowjump?jump=nextslide"/>
          </p:cNvPr>
          <p:cNvSpPr/>
          <p:nvPr/>
        </p:nvSpPr>
        <p:spPr>
          <a:xfrm>
            <a:off x="8661240" y="6413400"/>
            <a:ext cx="457200" cy="393840"/>
          </a:xfrm>
          <a:custGeom>
            <a:avLst/>
            <a:gdLst>
              <a:gd name="textAreaLeft" fmla="*/ 25200 w 457200"/>
              <a:gd name="textAreaRight" fmla="*/ 432000 w 4572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072" h="21600">
                <a:moveTo>
                  <a:pt x="0" y="0"/>
                </a:moveTo>
                <a:lnTo>
                  <a:pt x="25072" y="0"/>
                </a:lnTo>
                <a:lnTo>
                  <a:pt x="25072" y="21600"/>
                </a:lnTo>
                <a:lnTo>
                  <a:pt x="0" y="21600"/>
                </a:lnTo>
                <a:close/>
              </a:path>
              <a:path fill="lightenLess" w="25072" h="21600">
                <a:moveTo>
                  <a:pt x="0" y="0"/>
                </a:moveTo>
                <a:lnTo>
                  <a:pt x="25072" y="0"/>
                </a:lnTo>
                <a:lnTo>
                  <a:pt x="23672" y="1400"/>
                </a:lnTo>
                <a:lnTo>
                  <a:pt x="1400" y="1400"/>
                </a:lnTo>
                <a:close/>
              </a:path>
              <a:path fill="darken" w="25072" h="21600">
                <a:moveTo>
                  <a:pt x="25072" y="0"/>
                </a:moveTo>
                <a:lnTo>
                  <a:pt x="25072" y="21600"/>
                </a:lnTo>
                <a:lnTo>
                  <a:pt x="23672" y="20200"/>
                </a:lnTo>
                <a:lnTo>
                  <a:pt x="23672" y="1400"/>
                </a:lnTo>
                <a:close/>
              </a:path>
              <a:path fill="darkenLess" w="25072" h="21600">
                <a:moveTo>
                  <a:pt x="25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2" y="20200"/>
                </a:lnTo>
                <a:close/>
              </a:path>
              <a:path fill="lighten" w="25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Line 5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6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0" y="182880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derivatives of ammonia that have one or more of the hydrogen replaced with alkyl and/ or aryl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 class of organic compounds that contain the 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formed in many biological systems. So it used as drugs and medic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lassifica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primary (1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secondary (2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tertiary (3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Group 8"/>
          <p:cNvGrpSpPr/>
          <p:nvPr/>
        </p:nvGrpSpPr>
        <p:grpSpPr>
          <a:xfrm>
            <a:off x="1012320" y="4333680"/>
            <a:ext cx="840600" cy="1229400"/>
            <a:chOff x="1012320" y="4333680"/>
            <a:chExt cx="840600" cy="1229400"/>
          </a:xfrm>
        </p:grpSpPr>
        <p:sp>
          <p:nvSpPr>
            <p:cNvPr id="2203" name="Text Box 9"/>
            <p:cNvSpPr/>
            <p:nvPr/>
          </p:nvSpPr>
          <p:spPr>
            <a:xfrm>
              <a:off x="10123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12"/>
            <p:cNvSpPr/>
            <p:nvPr/>
          </p:nvSpPr>
          <p:spPr>
            <a:xfrm>
              <a:off x="12812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17"/>
            <p:cNvSpPr/>
            <p:nvPr/>
          </p:nvSpPr>
          <p:spPr>
            <a:xfrm flipV="1">
              <a:off x="15843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Text Box 18"/>
            <p:cNvSpPr/>
            <p:nvPr/>
          </p:nvSpPr>
          <p:spPr>
            <a:xfrm>
              <a:off x="14382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19"/>
            <p:cNvSpPr/>
            <p:nvPr/>
          </p:nvSpPr>
          <p:spPr>
            <a:xfrm flipV="1">
              <a:off x="15843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Text Box 20"/>
            <p:cNvSpPr/>
            <p:nvPr/>
          </p:nvSpPr>
          <p:spPr>
            <a:xfrm>
              <a:off x="14382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"/>
          <p:cNvGrpSpPr/>
          <p:nvPr/>
        </p:nvGrpSpPr>
        <p:grpSpPr>
          <a:xfrm>
            <a:off x="4041000" y="4409640"/>
            <a:ext cx="840600" cy="1229400"/>
            <a:chOff x="4041000" y="4409640"/>
            <a:chExt cx="840600" cy="1229400"/>
          </a:xfrm>
        </p:grpSpPr>
        <p:sp>
          <p:nvSpPr>
            <p:cNvPr id="2210" name="Text Box 28"/>
            <p:cNvSpPr/>
            <p:nvPr/>
          </p:nvSpPr>
          <p:spPr>
            <a:xfrm>
              <a:off x="4041000" y="479952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29"/>
            <p:cNvSpPr/>
            <p:nvPr/>
          </p:nvSpPr>
          <p:spPr>
            <a:xfrm>
              <a:off x="4309920" y="501660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30"/>
            <p:cNvSpPr/>
            <p:nvPr/>
          </p:nvSpPr>
          <p:spPr>
            <a:xfrm flipV="1">
              <a:off x="4613040" y="514008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Text Box 31"/>
            <p:cNvSpPr/>
            <p:nvPr/>
          </p:nvSpPr>
          <p:spPr>
            <a:xfrm>
              <a:off x="4466880" y="5301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32"/>
            <p:cNvSpPr/>
            <p:nvPr/>
          </p:nvSpPr>
          <p:spPr>
            <a:xfrm flipV="1">
              <a:off x="4613040" y="471636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Text Box 33"/>
            <p:cNvSpPr/>
            <p:nvPr/>
          </p:nvSpPr>
          <p:spPr>
            <a:xfrm>
              <a:off x="4466880" y="4409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6" name="Group 22"/>
          <p:cNvGrpSpPr/>
          <p:nvPr/>
        </p:nvGrpSpPr>
        <p:grpSpPr>
          <a:xfrm>
            <a:off x="7062120" y="4333680"/>
            <a:ext cx="840600" cy="1229400"/>
            <a:chOff x="7062120" y="4333680"/>
            <a:chExt cx="840600" cy="1229400"/>
          </a:xfrm>
        </p:grpSpPr>
        <p:sp>
          <p:nvSpPr>
            <p:cNvPr id="2217" name="Text Box 35"/>
            <p:cNvSpPr/>
            <p:nvPr/>
          </p:nvSpPr>
          <p:spPr>
            <a:xfrm>
              <a:off x="70621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Line 36"/>
            <p:cNvSpPr/>
            <p:nvPr/>
          </p:nvSpPr>
          <p:spPr>
            <a:xfrm>
              <a:off x="73310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Line 37"/>
            <p:cNvSpPr/>
            <p:nvPr/>
          </p:nvSpPr>
          <p:spPr>
            <a:xfrm flipV="1">
              <a:off x="76341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Text Box 38"/>
            <p:cNvSpPr/>
            <p:nvPr/>
          </p:nvSpPr>
          <p:spPr>
            <a:xfrm>
              <a:off x="74880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39"/>
            <p:cNvSpPr/>
            <p:nvPr/>
          </p:nvSpPr>
          <p:spPr>
            <a:xfrm flipV="1">
              <a:off x="76341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Text Box 40"/>
            <p:cNvSpPr/>
            <p:nvPr/>
          </p:nvSpPr>
          <p:spPr>
            <a:xfrm>
              <a:off x="74880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3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379B-B2A4-46F7-8653-A2B3DFD6741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5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2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Straight Connector 3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4"/>
          <p:cNvSpPr/>
          <p:nvPr/>
        </p:nvSpPr>
        <p:spPr>
          <a:xfrm>
            <a:off x="88200" y="9856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omenclature 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Rectangle 6"/>
          <p:cNvSpPr/>
          <p:nvPr/>
        </p:nvSpPr>
        <p:spPr>
          <a:xfrm>
            <a:off x="0" y="1371600"/>
            <a:ext cx="9144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names of amines are derived by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ing the name (s) of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group (s) surrounding the nitrogen (in alphabetical order)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ng the suffix amine.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.B.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vowels come together ; the first must be omitted e.g. etha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 2° &amp; 3° amines (i.e. the substituents surrounding the N atom are identical) are named by adding the multiplication prefix (di or  tri) to the name of the alky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Rectangle 13"/>
          <p:cNvSpPr/>
          <p:nvPr/>
        </p:nvSpPr>
        <p:spPr>
          <a:xfrm>
            <a:off x="1409760" y="48592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ylamine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enzyl methyl amine                Trimethyl amine            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9846-D6CC-492F-8909-72449C1646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3" name="Object 24"/>
          <p:cNvGraphicFramePr/>
          <p:nvPr/>
        </p:nvGraphicFramePr>
        <p:xfrm>
          <a:off x="1725480" y="3171960"/>
          <a:ext cx="62485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3171960"/>
                    <a:ext cx="62485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Rectangle 1"/>
          <p:cNvSpPr/>
          <p:nvPr/>
        </p:nvSpPr>
        <p:spPr>
          <a:xfrm>
            <a:off x="17280" y="5181480"/>
            <a:ext cx="80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 higher priority groups, the NH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s called am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6" name="Object 25"/>
          <p:cNvGraphicFramePr/>
          <p:nvPr/>
        </p:nvGraphicFramePr>
        <p:xfrm>
          <a:off x="2971800" y="5715000"/>
          <a:ext cx="199548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715000"/>
                    <a:ext cx="19954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4"/>
          <p:cNvSpPr/>
          <p:nvPr/>
        </p:nvSpPr>
        <p:spPr>
          <a:xfrm>
            <a:off x="119160" y="91440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ames Of Primary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651-1C17-448E-B9FB-E03795DA01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5" name="Object 17"/>
          <p:cNvGraphicFramePr/>
          <p:nvPr/>
        </p:nvGraphicFramePr>
        <p:xfrm>
          <a:off x="609480" y="4064040"/>
          <a:ext cx="77724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64040"/>
                    <a:ext cx="7772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Rectangle 9"/>
          <p:cNvSpPr/>
          <p:nvPr/>
        </p:nvSpPr>
        <p:spPr>
          <a:xfrm>
            <a:off x="0" y="1290600"/>
            <a:ext cx="91440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the  compound  does not  contain a  functional group  except  amino group, then  the  compound  is named by finding the longest alkane chain containing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mino group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placing the e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IUPAC nam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ffix 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  if   the  compound  contain  other  functional   groups   then   the   order    of precedence determines which group are named with prefix or suffix.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see the precedence table on slide 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ighest precedence group takes the appropriate suffix with all other groups taking the prefix (es), however = or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Ξ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nds only take suffix form (ene, yne respectiv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Rectangle 11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5-Methyl-3-hexanamine          5-Aminoheptanoic acid                   3-Amino-2-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15" descr=""/>
          <p:cNvPicPr/>
          <p:nvPr/>
        </p:nvPicPr>
        <p:blipFill>
          <a:blip r:embed="rId3"/>
          <a:stretch/>
        </p:blipFill>
        <p:spPr>
          <a:xfrm>
            <a:off x="1066680" y="5410080"/>
            <a:ext cx="6324840" cy="134784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BDB-8D12-4CC5-8FB9-FCE92D0817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5" name=""/>
          <p:cNvGraphicFramePr/>
          <p:nvPr/>
        </p:nvGraphicFramePr>
        <p:xfrm>
          <a:off x="228600" y="1523880"/>
          <a:ext cx="8763120" cy="4724640"/>
        </p:xfrm>
        <a:graphic>
          <a:graphicData uri="http://schemas.openxmlformats.org/drawingml/2006/table">
            <a:tbl>
              <a:tblPr/>
              <a:tblGrid>
                <a:gridCol w="3402000"/>
                <a:gridCol w="2135160"/>
                <a:gridCol w="1177920"/>
                <a:gridCol w="204804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arboxylic ac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clic alknes or alkenes with COOH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xyl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dehyd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c alknes or alkenes with CHO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H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orm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aldehy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k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=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hydr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NH</a:t>
                      </a:r>
                      <a:r>
                        <a:rPr b="1" lang="ar-SA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enes and aAlky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= &amp; </a:t>
                      </a:r>
                      <a:r>
                        <a:rPr b="1" lang="el-GR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b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ne &amp; y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6" name="Rectangle 101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cedence Order of Functional Groups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(</a:t>
            </a: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escending Order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4"/>
          <p:cNvSpPr/>
          <p:nvPr/>
        </p:nvSpPr>
        <p:spPr>
          <a:xfrm>
            <a:off x="0" y="160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have common names accepted by the IUPAC system, but if the benzene ring contain groups of higher priorities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&gt; CHO &gt; C=O &gt; OH &gt; NH) in this case the amino group is added as a pref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96F-8B7C-44BA-99AA-3F6B08EDF2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8"/>
          <p:cNvSpPr/>
          <p:nvPr/>
        </p:nvSpPr>
        <p:spPr>
          <a:xfrm>
            <a:off x="152280" y="495288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yridine   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nil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o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Nitroaniline  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Toluid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minopheno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Rectangle 9"/>
          <p:cNvSpPr/>
          <p:nvPr/>
        </p:nvSpPr>
        <p:spPr>
          <a:xfrm>
            <a:off x="-1080" y="106668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aming Of Aromatic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1" name="Object 17"/>
          <p:cNvGraphicFramePr/>
          <p:nvPr/>
        </p:nvGraphicFramePr>
        <p:xfrm>
          <a:off x="152280" y="2989440"/>
          <a:ext cx="8436240" cy="19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89440"/>
                    <a:ext cx="843624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3" name="TextBox 1"/>
          <p:cNvSpPr/>
          <p:nvPr/>
        </p:nvSpPr>
        <p:spPr>
          <a:xfrm>
            <a:off x="4969440" y="53593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Methyl benzena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2"/>
          <p:cNvSpPr/>
          <p:nvPr/>
        </p:nvSpPr>
        <p:spPr>
          <a:xfrm>
            <a:off x="1736280" y="53053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zena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Rectangle 4"/>
          <p:cNvSpPr/>
          <p:nvPr/>
        </p:nvSpPr>
        <p:spPr>
          <a:xfrm>
            <a:off x="37080" y="83808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hysical Properties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5544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poi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Rectangle 9"/>
          <p:cNvSpPr/>
          <p:nvPr/>
        </p:nvSpPr>
        <p:spPr>
          <a:xfrm>
            <a:off x="12600" y="167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possess a polar N-H bond, primary and secondary amines are capable of forming  intramolecular hydrogen bonds among their molecules; therefore they have: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higher boiling points than alkanes but lower than alcohols (alcohols form stronger H-bonds than ami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8" name="Picture 9" descr="pep6g"/>
          <p:cNvPicPr/>
          <p:nvPr/>
        </p:nvPicPr>
        <p:blipFill>
          <a:blip r:embed="rId1"/>
          <a:stretch/>
        </p:blipFill>
        <p:spPr>
          <a:xfrm>
            <a:off x="2971800" y="3657600"/>
            <a:ext cx="2228760" cy="1085760"/>
          </a:xfrm>
          <a:prstGeom prst="rect">
            <a:avLst/>
          </a:prstGeom>
          <a:ln w="0">
            <a:noFill/>
          </a:ln>
        </p:spPr>
      </p:pic>
      <p:sp>
        <p:nvSpPr>
          <p:cNvPr id="2279" name="Rectangle 4"/>
          <p:cNvSpPr/>
          <p:nvPr/>
        </p:nvSpPr>
        <p:spPr>
          <a:xfrm>
            <a:off x="74520" y="5029200"/>
            <a:ext cx="90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tiary amines can not form H-bonds among their molecules and their molecules are more branched thus they have the lowest boiling points among am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A155-6062-4CAA-B364-A32B2F4DF5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2" name="Picture 6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7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8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4"/>
          <p:cNvSpPr/>
          <p:nvPr/>
        </p:nvSpPr>
        <p:spPr>
          <a:xfrm>
            <a:off x="-9000" y="27385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3) </a:t>
            </a:r>
            <a:r>
              <a:rPr b="1" lang="ar-SA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Basicity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Rectangle 8"/>
          <p:cNvSpPr/>
          <p:nvPr/>
        </p:nvSpPr>
        <p:spPr>
          <a:xfrm>
            <a:off x="-76320" y="366228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mines less basic than aliphatic am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donating (releasing) groups on N atom in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withdrawing groups de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Rectangle 10"/>
          <p:cNvSpPr/>
          <p:nvPr/>
        </p:nvSpPr>
        <p:spPr>
          <a:xfrm>
            <a:off x="72360" y="32004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Base strength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95B-9423-4177-904A-B0C8B9FF47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1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93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Rectangle 5"/>
          <p:cNvSpPr/>
          <p:nvPr/>
        </p:nvSpPr>
        <p:spPr>
          <a:xfrm>
            <a:off x="9000" y="914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2) Solubility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Rectangle 6"/>
          <p:cNvSpPr/>
          <p:nvPr/>
        </p:nvSpPr>
        <p:spPr>
          <a:xfrm>
            <a:off x="0" y="1176480"/>
            <a:ext cx="8991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mines are capable of forming hydrogen bonds with water, alcohol (hydroxylic solvent) , thus they are </a:t>
            </a:r>
            <a:r>
              <a:rPr b="0" lang="en-U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r molecular weight amines with up to six carbons show appreciable solubility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7" name="Picture 8" descr="pep5g"/>
          <p:cNvPicPr/>
          <p:nvPr/>
        </p:nvPicPr>
        <p:blipFill>
          <a:blip r:embed="rId3"/>
          <a:stretch/>
        </p:blipFill>
        <p:spPr>
          <a:xfrm>
            <a:off x="4105440" y="2343240"/>
            <a:ext cx="221904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8" name="Object 26"/>
          <p:cNvGraphicFramePr/>
          <p:nvPr/>
        </p:nvGraphicFramePr>
        <p:xfrm>
          <a:off x="2057400" y="5829480"/>
          <a:ext cx="386064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9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5829480"/>
                    <a:ext cx="386064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0" name="Object 27"/>
          <p:cNvGraphicFramePr/>
          <p:nvPr/>
        </p:nvGraphicFramePr>
        <p:xfrm>
          <a:off x="1225440" y="4770360"/>
          <a:ext cx="5945400" cy="100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1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5440" y="4770360"/>
                    <a:ext cx="5945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cp:lastPrinted>2015-01-28T02:12:22Z</cp:lastPrinted>
  <dcterms:modified xsi:type="dcterms:W3CDTF">2016-01-26T20:39:19Z</dcterms:modified>
  <cp:revision>134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