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9.wmf" ContentType="image/x-wmf"/>
  <Override PartName="/ppt/media/image34.wmf" ContentType="image/x-wmf"/>
  <Override PartName="/ppt/media/image13.png" ContentType="image/png"/>
  <Override PartName="/ppt/media/image33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12.png" ContentType="image/png"/>
  <Override PartName="/ppt/media/image6.png" ContentType="image/png"/>
  <Override PartName="/ppt/media/image14.wmf" ContentType="image/x-wmf"/>
  <Override PartName="/ppt/media/image31.wmf" ContentType="image/x-wmf"/>
  <Override PartName="/ppt/media/image7.jpeg" ContentType="image/jpeg"/>
  <Override PartName="/ppt/media/image35.wmf" ContentType="image/x-wmf"/>
  <Override PartName="/ppt/media/image15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0.png" ContentType="image/png"/>
  <Override PartName="/ppt/media/image1.jpeg" ContentType="image/jpeg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F7B-B92B-44CC-B94D-49D2F1C4C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C37A-ADFC-4848-AD43-6C76CFA7B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124-581A-4999-8CA7-BFA1D8B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A0C-C2A9-4A2E-A432-045EFAD6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A7C8-7BDC-4B96-BFC3-828511FA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D25D7-3577-4A65-BE00-5705DD85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0CDFE-16C2-4797-B8F0-2B8CCB65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62A41-217F-499F-860B-E38DEBAB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51EF6-DEFC-41D9-BE51-8C254B4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122ED-6E7B-4026-A7DA-D288A0A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56782-E252-41DE-BF73-AF57A29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A95C5-F63B-40AC-8A91-EDBD4690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2A02E-B198-49D3-9CEF-0C993115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0674D-5E80-4CD0-A154-1AA91A2C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EB6-0BDE-4FB2-A48F-D18CA4DB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FA019-4247-4408-AE1F-3DA43C8A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8F428-E78D-4B43-A038-DE031701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97CD9-E5A8-4CE7-8CB5-4504DA7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90080-50A2-4553-B074-67CCCC48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4593-DD2D-4B2B-805D-66E0E37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07CD4-80F5-4F63-8193-46100A5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B1A9A-B73D-45E7-8126-8745A21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B7AA3-7A66-4112-91A5-611F5F6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57D9C-823E-4079-A765-8842E8D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3961F-0090-4232-A004-9151963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5FA-FBF9-4715-9ED8-BA043D6A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A4D7-9F70-4785-A2BD-FB5555BF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7DD07-0558-4382-8C7E-E95C59A7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90E51-3B1D-422D-8CF7-8383B2B7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4594C-04D1-4386-ACEF-95057E63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6A8BF-13C2-452F-B7DD-F9837B80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B0C5C-C69C-42F0-BD60-E12A7E46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D1B05-2E56-43D1-853A-722CE28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2AD1-7EC2-4D00-BC60-35B35FD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6A387-B840-4971-9C99-580AD8C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3E062-A6B5-48F4-B162-9968C58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F08A-60D4-4FE9-8D0E-7719584F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BC1E8-A5F0-48B9-8CAC-31D408F0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1E91-D6A8-431B-8543-939DEA38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0EFF4-C311-47B9-BAE9-AB532B0F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8CBC8-32F3-4A10-8EF7-13FB9196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82D95-BD62-4AB9-A748-3CEEEB8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38E4E-8138-4C42-B592-F54CDC50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FAF1E-04FE-4129-83B0-391FBCA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62F5D-7846-4DED-909F-AE530D7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A5F14-AAA0-4C9E-8E20-A085C84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CFE0B-A37A-4E6E-BC20-A83CD473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9A23-BE98-4A16-8284-FF66A49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7D5A1-03FA-4237-9800-8470E32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CBBF1-A01F-464D-8AEF-58D0449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2A9E9-1FC4-4003-9856-2B8F961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043C-3D74-402B-91D7-916303F6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56071-AB94-4255-92D4-635AC490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600BC-4CA6-4633-BDA6-6C10C757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0CE22-42D7-460D-AFC4-9C6699DD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3823D-3EA7-4DEA-9983-EAC9AE0D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9D844-BDA2-4885-B3AC-62B6FF7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CF05C-D9E8-4EFF-9707-189FE6DF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507E-AF1F-45A1-BC0F-F3911826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ABC1D-CEA0-4F1B-B128-4137273C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8C732-E285-406C-945E-4B33D89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54421-D44A-46E8-994A-A69C9B7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8173A-D93B-4D76-8478-C92E1DB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95187-31B0-4268-BE2B-FABF04A2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41414-62A1-47F6-84AE-D16A6405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0EB49-3D4A-4A0A-8F60-691BD334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37525-1C4E-496E-A530-C13B8CD3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E909C-BCF4-41B9-9BEB-E53B5BE2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13F4A-97F4-494E-821C-9A75F7F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3943-3D88-40B1-8D73-02EB847D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AC4FA-C1B9-448F-97B2-930D5C47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9F015-0C43-4345-85D7-6041FA2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9F4FE-8AFC-4C50-9B69-245E5C4D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4B0F4-279F-4420-A5C8-DE6F80A0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E524C-77F6-45DF-8C9C-0E94626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90542-BCD7-40B9-A01D-2BC1F89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65EC3-FAF5-4E9E-AE3F-29198EA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A262B-3EF1-4CAF-8834-989A8B84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7AC78-B215-44F0-B808-44AB8D38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D96-47EB-41A6-8E7A-70195905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4E68-3B16-49C5-800C-6959EDDD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25E5-774A-4719-849B-C45F41E6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80F-3374-453D-A2C8-9CE21830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50D-B402-4AF1-B1FF-C446FB22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AFE8-F182-409F-A26E-4ACFBBD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9FF3-9971-4575-B1B5-C9C9AC36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4E23-A1E0-49D9-BCA8-EFA69D68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C382-A8A2-48EC-AA24-6773180D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4249-2757-47EB-94B5-3E6C5E44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BF40-9E2B-4FDD-8899-DF1439F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09BA-87D3-43B3-B09D-B88FD2F9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F297-868B-4D0E-A8E9-29C740C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BB5C5-50F1-4707-B1DC-4667A26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3AF-1624-4223-BC62-41565F4A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67F4-A1FB-49D9-8E6E-D0F95F3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71E8-D649-4793-9DC8-D0AEA83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CEED-AF9E-4511-AF90-CCAB3A7B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8AEB-9A2C-4A49-8D11-09EF831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9650-188A-4D59-9684-D887132B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E7BB-17AA-4E12-A243-8144614F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F9FC-1579-441E-83F1-AC03EEA7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687BF-8C85-4795-A280-4A0ACB9F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5F88F-3E4A-46DC-86FF-1EA7941B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DBA87-36FC-4FE0-840D-AA7D373B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C0E-67B2-4B71-BFC2-B488E928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076AA-28D8-4216-B48A-7FC4383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B2980-9522-420E-BDE0-9C9A194C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CCEC0-EC12-401B-87A2-1A8CDB74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B31F7-4E53-434C-AE0D-E859E9E2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0196C-6137-4B6A-9479-0CD2C93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29C9D-DDC2-460A-8281-9CFFA89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6A0A3-4548-4834-91FA-8DD922F6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12C25-7D0A-4758-93AB-B269A050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C75B0-E3D3-4B01-9F81-7048EC21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4D5A-DA31-46E4-956C-1BEECD62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A32-1BB6-4C5A-9A50-A0D81AE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6D35-0818-4754-B09B-D3ACA25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CE70-2254-440F-A9AE-7592DB77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B3B9-3463-414C-A935-A472B38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9DA8-B841-4922-A2B7-F872B0E9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8684-90C8-4562-ACCA-B38BF5C5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A316-8218-48C5-8898-F75DD4A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70F6-1249-44CB-BC99-1A4405B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0278F-21FA-4273-87C9-09E7573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AC54A-7245-4ABC-BC98-C0B97586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299F-3EDC-4F9B-B935-8C29423B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B3D-95A3-4979-A449-961DF950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E499-6CF3-434D-8B31-E4BFEE8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50E1-1442-4E78-8C81-E48BA42D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CE738-EB47-40B4-9BDC-C2C289B8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CB7F-F05A-46D3-BE57-BB35754D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8942-B0BE-4CE5-891D-32EC887A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B631-E075-45D3-B4C4-007E5C8D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4EEE-9FB9-44CD-8B17-B76A91BD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70D7-2D11-4CD3-91B8-BD921FA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28AD8-6959-4497-81D7-10A6159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4D7C-B984-46A9-9DA1-BEFCFAC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395-2665-4F01-8CE5-A1B0E94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CB38-5AC9-469E-B5A5-6D787E2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8304-C1A0-4641-9B5A-8543350B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76D6-145E-418C-BE08-BF424BDD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29F35-B0A5-455D-96A6-FCC7365F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1A203-C97D-42FC-919A-0777C11A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E4E3-5482-44C3-A843-D6E48BA5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7950-FB79-43CF-832E-F7EA6351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FAE8-CE75-4500-8028-4CDA3E5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BF68A-B4B2-4554-874B-C23BAAE5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A7F71-D5B6-4E71-967C-2F73BB60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4C4-1A85-4670-B066-ED6AA22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CB062-D495-42AD-9E34-BFAAB68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4AE7D-FFDD-4C71-A278-B2E38D1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C6BA-EE09-4514-B0DF-14167F37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83A3-3D8E-4000-9A60-9D9341DF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6F05-5381-4992-9052-684565AC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DDC7-BCF0-4283-A34C-6699BA3C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1FB6-D700-4A8E-9E41-57F5438C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CCD2-8208-4E46-AA84-1A7843E0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9D21-32C7-41E4-90E9-B1F63C77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7594E-10B1-4635-BA1F-D7D2E89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690-18DC-457B-AE66-5B0BEE85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FDB4E-3BD0-434C-A745-44F877A8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58CE1-D75D-4B2B-9CAE-B9DAA15D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5436-2CE4-468B-8A3A-CAB1B8F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B57A-55B9-4BDB-A71B-77EFABB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E6479-F983-4622-8D53-BD0B1BC9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6241A-128F-46D8-A477-50BBD364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C2D7-FFEB-47AD-B9DD-9EA1B118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0A98F-5F47-4A8E-B3AB-488F2A62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79420-53C3-4EE0-8AB5-98AA2315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7E5A9-6BC1-4F1B-B9D3-4CA3D18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5BE1-F84B-42A6-BC11-8100B3A408DF}" type="datetime5">
              <a:rPr b="0" lang="en-US" sz="12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93C-0660-4384-B3BD-B32FD1C592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AA32-8924-4EB2-ABB2-B3994D8BF41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A54-AA85-49A5-8336-212763BFFE4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709-1531-4740-8E8E-8E6B5DC1D7D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3A9-F926-4958-946F-38F4B7326D9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5DB3-1464-4716-8716-BC26418EEA6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448C-CFB0-471E-8A7F-C884E8526AA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F84C-3342-4CB6-8821-2A440DED267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BA6D-DC18-418C-A146-0BC0761CAA8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B6C-A9C4-4E3C-A1E0-CC60C1AD2D9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D41A-47E3-4DE1-A65D-38FCEE09B0C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75B3-6514-4F7F-97D2-6EB514D8EB0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B89-7149-466C-BED8-54B9A5FF1A0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F61-1C00-458F-97AC-5E53537006C2}" type="datetime5">
              <a:rPr b="0" lang="en-US" sz="12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E99D-AE7D-469C-90F9-C1D2686271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75F0-5D58-4B59-9A11-AFBCA4776B2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E6E7-9364-45B5-AFA4-16BB97562D4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F6B-A6E6-4BE9-9312-B460A3139E8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879-F7D5-4D43-ABCA-A0331737C8F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807B-18D2-45B1-B673-D2880325675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62F6-F943-441B-A9F7-F7BD1E0FBC4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785B-2B77-4621-805C-2ACB2040B9C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6366-D091-41A3-AA9A-02017F2362B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FA19-983B-45DF-9992-E3B59A81581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A5C-5D3F-41EC-B950-DAE614C786A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047-7071-4F53-A7F8-4FC4DA8C994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9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B7D6-FF2D-4559-89BA-17C327CA65A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.wmf"/><Relationship Id="rId10" Type="http://schemas.openxmlformats.org/officeDocument/2006/relationships/image" Target="../media/image13.pn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4"/>
          <p:cNvSpPr/>
          <p:nvPr/>
        </p:nvSpPr>
        <p:spPr>
          <a:xfrm>
            <a:off x="990720" y="1828800"/>
            <a:ext cx="6629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04D-6653-48BA-BFEF-600A864D43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691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" descr="Propyne-3D-balls-B.png"/>
          <p:cNvPicPr/>
          <p:nvPr/>
        </p:nvPicPr>
        <p:blipFill>
          <a:blip r:embed="rId3"/>
          <a:stretch/>
        </p:blipFill>
        <p:spPr>
          <a:xfrm>
            <a:off x="2286000" y="2819520"/>
            <a:ext cx="419112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</a:t>
            </a:r>
            <a:br>
              <a:rPr sz="2400"/>
            </a:b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IUPAC Names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3" name="Object 48"/>
          <p:cNvGraphicFramePr/>
          <p:nvPr/>
        </p:nvGraphicFramePr>
        <p:xfrm>
          <a:off x="304920" y="2514600"/>
          <a:ext cx="8534160" cy="32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14600"/>
                    <a:ext cx="853416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5" name="Picture 3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4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2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on  Nomenclature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lkyne its common name is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cety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the common names  of alkynes are derived from acety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e.g. Methyl acetyl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1" name="Object 48"/>
          <p:cNvGraphicFramePr/>
          <p:nvPr/>
        </p:nvGraphicFramePr>
        <p:xfrm>
          <a:off x="2592360" y="4419720"/>
          <a:ext cx="2816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4419720"/>
                    <a:ext cx="2816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3" name="Picture 7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209680" cy="590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4"/>
          <a:stretch/>
        </p:blipFill>
        <p:spPr>
          <a:xfrm>
            <a:off x="4648320" y="2971800"/>
            <a:ext cx="4495680" cy="10080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13"/>
          <p:cNvSpPr/>
          <p:nvPr/>
        </p:nvSpPr>
        <p:spPr>
          <a:xfrm>
            <a:off x="4897080" y="3962520"/>
            <a:ext cx="42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mm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Isobutyisopropylacety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4"/>
          <p:cNvSpPr/>
          <p:nvPr/>
        </p:nvSpPr>
        <p:spPr>
          <a:xfrm>
            <a:off x="14040" y="4038480"/>
            <a:ext cx="32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mm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Methyl acety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2377440" y="5791320"/>
            <a:ext cx="39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mm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propylmethylacety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6705720" y="1447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0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1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41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3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14475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xercise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1676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ive the IUPAC and common names of the following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330-FD0F-418D-BE46-E0FB24253C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Object 48"/>
          <p:cNvGraphicFramePr/>
          <p:nvPr/>
        </p:nvGraphicFramePr>
        <p:xfrm>
          <a:off x="609480" y="3124080"/>
          <a:ext cx="73915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73915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50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76320" y="1477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polar, insoluble in wat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most organic solv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and melting points of alkynes increase with molecular weigh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iling point of alky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erminal alkyn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-C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, are more </a:t>
            </a:r>
            <a:r>
              <a:rPr b="0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cid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other hydrocarb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compounds b &amp; d are more acidic than a &amp; 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6214-3A0A-4012-B6D7-B844BF7E24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5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47"/>
          <p:cNvGraphicFramePr/>
          <p:nvPr/>
        </p:nvGraphicFramePr>
        <p:xfrm>
          <a:off x="1143000" y="4483080"/>
          <a:ext cx="651816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0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83080"/>
                    <a:ext cx="651816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Rectangle 1"/>
          <p:cNvSpPr/>
          <p:nvPr/>
        </p:nvSpPr>
        <p:spPr>
          <a:xfrm>
            <a:off x="5637960" y="53150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erminal 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5485680" y="6121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erminal 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38280" y="99036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paration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7000" y="152352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y dehydrohalogenation of geminal or vicinal dihaloalka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-2HX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D788-BE10-4F28-99EC-0F83AC6CA1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68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78"/>
          <p:cNvGraphicFramePr/>
          <p:nvPr/>
        </p:nvGraphicFramePr>
        <p:xfrm>
          <a:off x="933480" y="2516040"/>
          <a:ext cx="7524720" cy="36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2516040"/>
                    <a:ext cx="752472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5BCD-821D-42EA-8238-E34544052A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"/>
          <p:cNvSpPr/>
          <p:nvPr/>
        </p:nvSpPr>
        <p:spPr>
          <a:xfrm>
            <a:off x="457200" y="11430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rom reaction of sodium Acetylide with Primary Alkyl Halides (Alkylationof acetylide with primary alkyl ha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76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27"/>
          <p:cNvGraphicFramePr/>
          <p:nvPr/>
        </p:nvGraphicFramePr>
        <p:xfrm>
          <a:off x="1081080" y="2133720"/>
          <a:ext cx="7058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1080" y="2133720"/>
                    <a:ext cx="7058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9"/>
          <p:cNvSpPr/>
          <p:nvPr/>
        </p:nvSpPr>
        <p:spPr>
          <a:xfrm>
            <a:off x="657360" y="3774960"/>
            <a:ext cx="77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r Terminal C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 only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ene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H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"/>
          <p:cNvSpPr/>
          <p:nvPr/>
        </p:nvSpPr>
        <p:spPr>
          <a:xfrm>
            <a:off x="609480" y="43498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n Terminal C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 Monosub.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Object 28"/>
          <p:cNvGraphicFramePr/>
          <p:nvPr/>
        </p:nvGraphicFramePr>
        <p:xfrm>
          <a:off x="581040" y="5043600"/>
          <a:ext cx="780084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" y="5043600"/>
                    <a:ext cx="78008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s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76201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Addition of hydrogen ( Hydrogenation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397E-E2E4-4AF5-9ABD-F7133185F1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3962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 can be reduced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rans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-alk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a or Li in liquid NH</a:t>
            </a:r>
            <a:r>
              <a:rPr b="0" lang="en-US" sz="2400" spc="-1" strike="noStrike" baseline="-25000">
                <a:solidFill>
                  <a:srgbClr val="4f81bd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8"/>
          <p:cNvSpPr/>
          <p:nvPr/>
        </p:nvSpPr>
        <p:spPr>
          <a:xfrm>
            <a:off x="0" y="213372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 can be partially reduced to </a:t>
            </a:r>
            <a:r>
              <a:rPr b="0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is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-alk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4f81b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presence of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oisoned catalys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Object 108"/>
          <p:cNvGraphicFramePr/>
          <p:nvPr/>
        </p:nvGraphicFramePr>
        <p:xfrm>
          <a:off x="1143000" y="2895480"/>
          <a:ext cx="586728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10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58672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109"/>
          <p:cNvGraphicFramePr/>
          <p:nvPr/>
        </p:nvGraphicFramePr>
        <p:xfrm>
          <a:off x="1066680" y="4495680"/>
          <a:ext cx="617220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2" name="Object 1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95680"/>
                    <a:ext cx="61722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Rectangle 8"/>
          <p:cNvSpPr/>
          <p:nvPr/>
        </p:nvSpPr>
        <p:spPr>
          <a:xfrm>
            <a:off x="-35640" y="121932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lectrophilic Addi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9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96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Object 110"/>
          <p:cNvGraphicFramePr/>
          <p:nvPr/>
        </p:nvGraphicFramePr>
        <p:xfrm>
          <a:off x="1143000" y="5943600"/>
          <a:ext cx="579132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9" name="Object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943600"/>
                    <a:ext cx="57913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TextBox 1"/>
          <p:cNvSpPr/>
          <p:nvPr/>
        </p:nvSpPr>
        <p:spPr>
          <a:xfrm>
            <a:off x="6946200" y="381492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82c2a"/>
                </a:solidFill>
                <a:latin typeface="Times New Roman"/>
                <a:ea typeface="Times New Roman"/>
              </a:rPr>
              <a:t>or (</a:t>
            </a:r>
            <a:r>
              <a:rPr b="1" i="1" lang="en-US" sz="1200" spc="-1" strike="noStrike">
                <a:solidFill>
                  <a:srgbClr val="782c2a"/>
                </a:solidFill>
                <a:latin typeface="Times New Roman"/>
                <a:ea typeface="Times New Roman"/>
              </a:rPr>
              <a:t>Z</a:t>
            </a:r>
            <a:r>
              <a:rPr b="1" lang="en-US" sz="1200" spc="-1" strike="noStrike">
                <a:solidFill>
                  <a:srgbClr val="782c2a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8"/>
          <p:cNvSpPr/>
          <p:nvPr/>
        </p:nvSpPr>
        <p:spPr>
          <a:xfrm>
            <a:off x="7297920" y="54864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3230"/>
                </a:solidFill>
                <a:latin typeface="Times New Roman"/>
                <a:ea typeface="Times New Roman"/>
              </a:rPr>
              <a:t>or (</a:t>
            </a:r>
            <a:r>
              <a:rPr b="1" i="1" lang="en-US" sz="1200" spc="-1" strike="noStrike">
                <a:solidFill>
                  <a:srgbClr val="883230"/>
                </a:solidFill>
                <a:latin typeface="Times New Roman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88323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2"/>
          <p:cNvSpPr/>
          <p:nvPr/>
        </p:nvSpPr>
        <p:spPr>
          <a:xfrm>
            <a:off x="4045680" y="35053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dar’s Cat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tion of halogen  (Halogen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1CF0-EB96-42B4-A36E-C4B22F31C8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304920" y="182880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+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–C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1"/>
          <p:cNvSpPr/>
          <p:nvPr/>
        </p:nvSpPr>
        <p:spPr>
          <a:xfrm>
            <a:off x="422280" y="373392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used  one mole ……(alkene) two mole …….al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Straight Arrow Connector 12"/>
          <p:cNvCxnSpPr/>
          <p:nvPr/>
        </p:nvCxnSpPr>
        <p:spPr>
          <a:xfrm>
            <a:off x="5333760" y="2057040"/>
            <a:ext cx="6102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8" name="Straight Arrow Connector 13"/>
          <p:cNvCxnSpPr/>
          <p:nvPr/>
        </p:nvCxnSpPr>
        <p:spPr>
          <a:xfrm>
            <a:off x="2285640" y="2063520"/>
            <a:ext cx="6102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09" name="Picture 1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1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109"/>
          <p:cNvGraphicFramePr/>
          <p:nvPr/>
        </p:nvGraphicFramePr>
        <p:xfrm>
          <a:off x="457200" y="2362320"/>
          <a:ext cx="807876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1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80787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Box 2"/>
          <p:cNvSpPr/>
          <p:nvPr/>
        </p:nvSpPr>
        <p:spPr>
          <a:xfrm>
            <a:off x="4840560" y="32590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Object 110"/>
          <p:cNvGraphicFramePr/>
          <p:nvPr/>
        </p:nvGraphicFramePr>
        <p:xfrm>
          <a:off x="533520" y="4419720"/>
          <a:ext cx="814536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7" name="Object 1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419720"/>
                    <a:ext cx="81453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CDC7-898E-4464-AB80-059E15860F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6"/>
          <p:cNvSpPr/>
          <p:nvPr/>
        </p:nvSpPr>
        <p:spPr>
          <a:xfrm>
            <a:off x="1440" y="914400"/>
            <a:ext cx="502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tion of hydrogen ha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2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 + 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=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+ </a:t>
            </a:r>
            <a:r>
              <a:rPr b="1" lang="en-US" sz="2400" spc="-1" strike="noStrike">
                <a:solidFill>
                  <a:srgbClr val="7e9ce8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7e9ce8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 – 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Straight Arrow Connector 9"/>
          <p:cNvCxnSpPr/>
          <p:nvPr/>
        </p:nvCxnSpPr>
        <p:spPr>
          <a:xfrm>
            <a:off x="2209680" y="1980720"/>
            <a:ext cx="4579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2" name="Straight Arrow Connector 10"/>
          <p:cNvCxnSpPr/>
          <p:nvPr/>
        </p:nvCxnSpPr>
        <p:spPr>
          <a:xfrm>
            <a:off x="5410080" y="1980720"/>
            <a:ext cx="5342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923" name="Object 74"/>
          <p:cNvGraphicFramePr/>
          <p:nvPr/>
        </p:nvGraphicFramePr>
        <p:xfrm>
          <a:off x="457200" y="4495680"/>
          <a:ext cx="79675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95680"/>
                    <a:ext cx="7967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5" name="Picture 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1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27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Object 75"/>
          <p:cNvGraphicFramePr/>
          <p:nvPr/>
        </p:nvGraphicFramePr>
        <p:xfrm>
          <a:off x="152280" y="2590920"/>
          <a:ext cx="8742600" cy="12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0" name="Object 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590920"/>
                    <a:ext cx="87426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92A6-FE60-47CD-8464-413EAE374F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152280" y="1066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tion of water: 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35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Object 104"/>
          <p:cNvGraphicFramePr/>
          <p:nvPr/>
        </p:nvGraphicFramePr>
        <p:xfrm>
          <a:off x="595440" y="4800600"/>
          <a:ext cx="7786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8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4800600"/>
                    <a:ext cx="7786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105"/>
          <p:cNvGraphicFramePr/>
          <p:nvPr/>
        </p:nvGraphicFramePr>
        <p:xfrm>
          <a:off x="641520" y="2819520"/>
          <a:ext cx="7435800" cy="19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0" name="Object 1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819520"/>
                    <a:ext cx="74358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Object 106"/>
          <p:cNvGraphicFramePr/>
          <p:nvPr/>
        </p:nvGraphicFramePr>
        <p:xfrm>
          <a:off x="609480" y="1523880"/>
          <a:ext cx="7575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2" name="Object 10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523880"/>
                    <a:ext cx="7575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228960" y="1143000"/>
            <a:ext cx="3166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0" y="17578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three discusses the following topics which have to be understood and memoriz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, hybridization and Bonding in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and IUPAC naming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properties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of alkynes: addition reactions and ac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99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D4EF-C8F4-475B-9551-BD1714B60F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"/>
          <p:cNvSpPr/>
          <p:nvPr/>
        </p:nvSpPr>
        <p:spPr>
          <a:xfrm>
            <a:off x="380880" y="107316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An alkyne’s name end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–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-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–y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d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An alkyne function has …….. pi bond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th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f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Alkynes react with HCl by a mechanism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elim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Markovnikov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Alkynes react with water in the presence of a catalyst to g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a dialcohol (dio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an alk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an e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a di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. The conversion of alkynes to alkanes is 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oxi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chlor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dehyd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4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8aa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A0C8-A212-485B-B1F3-6B2B12867B5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5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1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781200"/>
            <a:ext cx="60958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kynes: Molecular And Structural Formula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rise a series of carbon- and hydrogen- based compounds that contain at least one triple bond. This group of compounds is a homologous series with the general molecular formula of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—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ne triple bond is composed of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ne σ and two 2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ovalent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triple bond can be terminal or interna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lkyne,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thy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so known as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etyle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has two carbon atoms and the molecular formula of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structural formula for ethyne i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12" descr="0001a"/>
          <p:cNvPicPr/>
          <p:nvPr/>
        </p:nvPicPr>
        <p:blipFill>
          <a:blip r:embed="rId1"/>
          <a:stretch/>
        </p:blipFill>
        <p:spPr>
          <a:xfrm>
            <a:off x="762120" y="3352680"/>
            <a:ext cx="7162560" cy="14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Object 47"/>
          <p:cNvGraphicFramePr/>
          <p:nvPr/>
        </p:nvGraphicFramePr>
        <p:xfrm>
          <a:off x="3200400" y="5943600"/>
          <a:ext cx="228600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5943600"/>
                    <a:ext cx="2286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9163-5E70-47F4-B762-985528FAE0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6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0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-152280" y="9140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p Hybridization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2" descr="creating the hybrids from an s and a p orbital"/>
          <p:cNvPicPr/>
          <p:nvPr/>
        </p:nvPicPr>
        <p:blipFill>
          <a:blip r:embed="rId1"/>
          <a:stretch/>
        </p:blipFill>
        <p:spPr>
          <a:xfrm>
            <a:off x="2133720" y="5486400"/>
            <a:ext cx="4759200" cy="990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0" y="1600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volves the mixing of one s- and one p-orbital forming two sp-hybrid orbitals of equivalent energy. The two sp-hybrid orbitals are oriented in a linear arrangement and bond angle is 180° to minimize the repulsion betwee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 two p orbitals (py and Pz) are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Users\Administrator\Pictures\hybrid03.gif"/>
          <p:cNvPicPr/>
          <p:nvPr/>
        </p:nvPicPr>
        <p:blipFill>
          <a:blip r:embed="rId2"/>
          <a:stretch/>
        </p:blipFill>
        <p:spPr>
          <a:xfrm>
            <a:off x="1828800" y="3657600"/>
            <a:ext cx="5638680" cy="156204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9CD-0D9A-4FF3-B10B-119216199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18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0" name="Object 47"/>
          <p:cNvGraphicFramePr/>
          <p:nvPr/>
        </p:nvGraphicFramePr>
        <p:xfrm>
          <a:off x="5257800" y="1219320"/>
          <a:ext cx="22860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19320"/>
                    <a:ext cx="2286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 txBox="1"/>
          <p:nvPr/>
        </p:nvSpPr>
        <p:spPr>
          <a:xfrm>
            <a:off x="-360" y="16765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formula of ethyne i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thyne, each carbon atom is sp-hybrid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four sp-orbital are gener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p- orbital  of each carbon atom by overlapping forms a sigma bond between carbon ato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one sp-orbital of each carbon atom overlap with 1s-orbital of a hydrogen atom to produce two sigma bo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rbital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rbitals of each carbon by parallel overlapping form two pi-bonds between the two carbon 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(shape) of ethyne molecule is linear in which bond angles are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 bond length i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.20 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313-E85D-49B4-AD0D-83DDE17996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322200" y="1143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Orbital Overlap IN Eth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27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2"/>
          <p:cNvSpPr/>
          <p:nvPr/>
        </p:nvSpPr>
        <p:spPr>
          <a:xfrm>
            <a:off x="3048120" y="6095880"/>
            <a:ext cx="228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81000" y="3354480"/>
            <a:ext cx="376200" cy="60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1"/>
          <p:cNvGrpSpPr/>
          <p:nvPr/>
        </p:nvGrpSpPr>
        <p:grpSpPr>
          <a:xfrm>
            <a:off x="158400" y="3463920"/>
            <a:ext cx="61920" cy="367200"/>
            <a:chOff x="158400" y="3463920"/>
            <a:chExt cx="61920" cy="367200"/>
          </a:xfrm>
        </p:grpSpPr>
        <p:sp>
          <p:nvSpPr>
            <p:cNvPr id="732" name="Line 12"/>
            <p:cNvSpPr/>
            <p:nvPr/>
          </p:nvSpPr>
          <p:spPr>
            <a:xfrm flipV="1">
              <a:off x="220320" y="34639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3"/>
            <p:cNvSpPr/>
            <p:nvPr/>
          </p:nvSpPr>
          <p:spPr>
            <a:xfrm flipH="1">
              <a:off x="158400" y="34639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4"/>
          <p:cNvSpPr/>
          <p:nvPr/>
        </p:nvSpPr>
        <p:spPr>
          <a:xfrm>
            <a:off x="731880" y="335592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5"/>
          <p:cNvSpPr/>
          <p:nvPr/>
        </p:nvSpPr>
        <p:spPr>
          <a:xfrm>
            <a:off x="1122480" y="335448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"/>
          <p:cNvSpPr/>
          <p:nvPr/>
        </p:nvSpPr>
        <p:spPr>
          <a:xfrm>
            <a:off x="1512720" y="3354480"/>
            <a:ext cx="3765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7"/>
          <p:cNvGrpSpPr/>
          <p:nvPr/>
        </p:nvGrpSpPr>
        <p:grpSpPr>
          <a:xfrm>
            <a:off x="802800" y="3460680"/>
            <a:ext cx="61920" cy="367200"/>
            <a:chOff x="802800" y="3460680"/>
            <a:chExt cx="61920" cy="367200"/>
          </a:xfrm>
        </p:grpSpPr>
        <p:sp>
          <p:nvSpPr>
            <p:cNvPr id="738" name="Line 18"/>
            <p:cNvSpPr/>
            <p:nvPr/>
          </p:nvSpPr>
          <p:spPr>
            <a:xfrm flipV="1">
              <a:off x="864720" y="346068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9"/>
            <p:cNvSpPr/>
            <p:nvPr/>
          </p:nvSpPr>
          <p:spPr>
            <a:xfrm flipH="1">
              <a:off x="802800" y="346068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0"/>
          <p:cNvGrpSpPr/>
          <p:nvPr/>
        </p:nvGrpSpPr>
        <p:grpSpPr>
          <a:xfrm>
            <a:off x="1190160" y="3476520"/>
            <a:ext cx="61920" cy="367200"/>
            <a:chOff x="1190160" y="3476520"/>
            <a:chExt cx="61920" cy="367200"/>
          </a:xfrm>
        </p:grpSpPr>
        <p:sp>
          <p:nvSpPr>
            <p:cNvPr id="741" name="Line 21"/>
            <p:cNvSpPr/>
            <p:nvPr/>
          </p:nvSpPr>
          <p:spPr>
            <a:xfrm flipV="1">
              <a:off x="1252080" y="34765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2"/>
            <p:cNvSpPr/>
            <p:nvPr/>
          </p:nvSpPr>
          <p:spPr>
            <a:xfrm flipH="1">
              <a:off x="1190160" y="34765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23"/>
          <p:cNvGrpSpPr/>
          <p:nvPr/>
        </p:nvGrpSpPr>
        <p:grpSpPr>
          <a:xfrm>
            <a:off x="343080" y="3471120"/>
            <a:ext cx="61200" cy="367200"/>
            <a:chOff x="343080" y="3471120"/>
            <a:chExt cx="61200" cy="367200"/>
          </a:xfrm>
        </p:grpSpPr>
        <p:sp>
          <p:nvSpPr>
            <p:cNvPr id="744" name="Line 24"/>
            <p:cNvSpPr/>
            <p:nvPr/>
          </p:nvSpPr>
          <p:spPr>
            <a:xfrm>
              <a:off x="343080" y="34711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5"/>
            <p:cNvSpPr/>
            <p:nvPr/>
          </p:nvSpPr>
          <p:spPr>
            <a:xfrm flipV="1">
              <a:off x="343080" y="3686040"/>
              <a:ext cx="61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Rectangle 26"/>
          <p:cNvSpPr/>
          <p:nvPr/>
        </p:nvSpPr>
        <p:spPr>
          <a:xfrm>
            <a:off x="3233880" y="3306600"/>
            <a:ext cx="376200" cy="60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7"/>
          <p:cNvGrpSpPr/>
          <p:nvPr/>
        </p:nvGrpSpPr>
        <p:grpSpPr>
          <a:xfrm>
            <a:off x="3311280" y="3416400"/>
            <a:ext cx="61920" cy="367200"/>
            <a:chOff x="3311280" y="3416400"/>
            <a:chExt cx="61920" cy="367200"/>
          </a:xfrm>
        </p:grpSpPr>
        <p:sp>
          <p:nvSpPr>
            <p:cNvPr id="748" name="Line 28"/>
            <p:cNvSpPr/>
            <p:nvPr/>
          </p:nvSpPr>
          <p:spPr>
            <a:xfrm flipV="1">
              <a:off x="3373200" y="341640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9"/>
            <p:cNvSpPr/>
            <p:nvPr/>
          </p:nvSpPr>
          <p:spPr>
            <a:xfrm flipH="1">
              <a:off x="3311280" y="341640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Rectangle 30"/>
          <p:cNvSpPr/>
          <p:nvPr/>
        </p:nvSpPr>
        <p:spPr>
          <a:xfrm>
            <a:off x="3884760" y="3308400"/>
            <a:ext cx="376200" cy="598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1"/>
          <p:cNvSpPr/>
          <p:nvPr/>
        </p:nvSpPr>
        <p:spPr>
          <a:xfrm>
            <a:off x="4275000" y="330660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2"/>
          <p:cNvSpPr/>
          <p:nvPr/>
        </p:nvSpPr>
        <p:spPr>
          <a:xfrm>
            <a:off x="4665600" y="330660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3"/>
          <p:cNvGrpSpPr/>
          <p:nvPr/>
        </p:nvGrpSpPr>
        <p:grpSpPr>
          <a:xfrm>
            <a:off x="3955680" y="3413160"/>
            <a:ext cx="61920" cy="367200"/>
            <a:chOff x="3955680" y="3413160"/>
            <a:chExt cx="61920" cy="367200"/>
          </a:xfrm>
        </p:grpSpPr>
        <p:sp>
          <p:nvSpPr>
            <p:cNvPr id="754" name="Line 34"/>
            <p:cNvSpPr/>
            <p:nvPr/>
          </p:nvSpPr>
          <p:spPr>
            <a:xfrm flipV="1">
              <a:off x="4017600" y="341316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35"/>
            <p:cNvSpPr/>
            <p:nvPr/>
          </p:nvSpPr>
          <p:spPr>
            <a:xfrm flipH="1">
              <a:off x="3955680" y="341316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6"/>
          <p:cNvGrpSpPr/>
          <p:nvPr/>
        </p:nvGrpSpPr>
        <p:grpSpPr>
          <a:xfrm>
            <a:off x="4343040" y="3429000"/>
            <a:ext cx="61920" cy="367200"/>
            <a:chOff x="4343040" y="3429000"/>
            <a:chExt cx="61920" cy="367200"/>
          </a:xfrm>
        </p:grpSpPr>
        <p:sp>
          <p:nvSpPr>
            <p:cNvPr id="757" name="Line 37"/>
            <p:cNvSpPr/>
            <p:nvPr/>
          </p:nvSpPr>
          <p:spPr>
            <a:xfrm flipV="1">
              <a:off x="4404960" y="342900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38"/>
            <p:cNvSpPr/>
            <p:nvPr/>
          </p:nvSpPr>
          <p:spPr>
            <a:xfrm flipH="1">
              <a:off x="4343040" y="342900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9"/>
          <p:cNvGrpSpPr/>
          <p:nvPr/>
        </p:nvGrpSpPr>
        <p:grpSpPr>
          <a:xfrm>
            <a:off x="4730400" y="3430440"/>
            <a:ext cx="61920" cy="367200"/>
            <a:chOff x="4730400" y="3430440"/>
            <a:chExt cx="61920" cy="367200"/>
          </a:xfrm>
        </p:grpSpPr>
        <p:sp>
          <p:nvSpPr>
            <p:cNvPr id="760" name="Line 40"/>
            <p:cNvSpPr/>
            <p:nvPr/>
          </p:nvSpPr>
          <p:spPr>
            <a:xfrm flipV="1">
              <a:off x="4792320" y="343044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41"/>
            <p:cNvSpPr/>
            <p:nvPr/>
          </p:nvSpPr>
          <p:spPr>
            <a:xfrm flipH="1">
              <a:off x="4730400" y="343044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42"/>
          <p:cNvSpPr/>
          <p:nvPr/>
        </p:nvSpPr>
        <p:spPr>
          <a:xfrm>
            <a:off x="6756480" y="3340080"/>
            <a:ext cx="376200" cy="60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43"/>
          <p:cNvGrpSpPr/>
          <p:nvPr/>
        </p:nvGrpSpPr>
        <p:grpSpPr>
          <a:xfrm>
            <a:off x="6833880" y="3449520"/>
            <a:ext cx="61920" cy="367200"/>
            <a:chOff x="6833880" y="3449520"/>
            <a:chExt cx="61920" cy="367200"/>
          </a:xfrm>
        </p:grpSpPr>
        <p:sp>
          <p:nvSpPr>
            <p:cNvPr id="764" name="Line 44"/>
            <p:cNvSpPr/>
            <p:nvPr/>
          </p:nvSpPr>
          <p:spPr>
            <a:xfrm flipV="1">
              <a:off x="6895800" y="34495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45"/>
            <p:cNvSpPr/>
            <p:nvPr/>
          </p:nvSpPr>
          <p:spPr>
            <a:xfrm flipH="1">
              <a:off x="6833880" y="34495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46"/>
          <p:cNvSpPr/>
          <p:nvPr/>
        </p:nvSpPr>
        <p:spPr>
          <a:xfrm>
            <a:off x="7192800" y="3341520"/>
            <a:ext cx="376560" cy="60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7"/>
          <p:cNvSpPr/>
          <p:nvPr/>
        </p:nvSpPr>
        <p:spPr>
          <a:xfrm>
            <a:off x="7924680" y="3352680"/>
            <a:ext cx="376200" cy="60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8"/>
          <p:cNvSpPr/>
          <p:nvPr/>
        </p:nvSpPr>
        <p:spPr>
          <a:xfrm>
            <a:off x="8416800" y="334008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49"/>
          <p:cNvGrpSpPr/>
          <p:nvPr/>
        </p:nvGrpSpPr>
        <p:grpSpPr>
          <a:xfrm>
            <a:off x="7264080" y="3446640"/>
            <a:ext cx="61920" cy="367200"/>
            <a:chOff x="7264080" y="3446640"/>
            <a:chExt cx="61920" cy="367200"/>
          </a:xfrm>
        </p:grpSpPr>
        <p:sp>
          <p:nvSpPr>
            <p:cNvPr id="770" name="Line 50"/>
            <p:cNvSpPr/>
            <p:nvPr/>
          </p:nvSpPr>
          <p:spPr>
            <a:xfrm flipV="1">
              <a:off x="7326000" y="344664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51"/>
            <p:cNvSpPr/>
            <p:nvPr/>
          </p:nvSpPr>
          <p:spPr>
            <a:xfrm flipH="1">
              <a:off x="7264080" y="344664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52"/>
          <p:cNvGrpSpPr/>
          <p:nvPr/>
        </p:nvGrpSpPr>
        <p:grpSpPr>
          <a:xfrm>
            <a:off x="8076960" y="3505320"/>
            <a:ext cx="61920" cy="367200"/>
            <a:chOff x="8076960" y="3505320"/>
            <a:chExt cx="61920" cy="367200"/>
          </a:xfrm>
        </p:grpSpPr>
        <p:sp>
          <p:nvSpPr>
            <p:cNvPr id="773" name="Line 53"/>
            <p:cNvSpPr/>
            <p:nvPr/>
          </p:nvSpPr>
          <p:spPr>
            <a:xfrm flipV="1">
              <a:off x="8138880" y="35053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54"/>
            <p:cNvSpPr/>
            <p:nvPr/>
          </p:nvSpPr>
          <p:spPr>
            <a:xfrm flipH="1">
              <a:off x="8076960" y="35053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55"/>
          <p:cNvGrpSpPr/>
          <p:nvPr/>
        </p:nvGrpSpPr>
        <p:grpSpPr>
          <a:xfrm>
            <a:off x="8481600" y="3463920"/>
            <a:ext cx="61920" cy="367200"/>
            <a:chOff x="8481600" y="3463920"/>
            <a:chExt cx="61920" cy="367200"/>
          </a:xfrm>
        </p:grpSpPr>
        <p:sp>
          <p:nvSpPr>
            <p:cNvPr id="776" name="Line 56"/>
            <p:cNvSpPr/>
            <p:nvPr/>
          </p:nvSpPr>
          <p:spPr>
            <a:xfrm flipV="1">
              <a:off x="8543520" y="34639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57"/>
            <p:cNvSpPr/>
            <p:nvPr/>
          </p:nvSpPr>
          <p:spPr>
            <a:xfrm flipH="1">
              <a:off x="8481600" y="34639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58"/>
          <p:cNvSpPr/>
          <p:nvPr/>
        </p:nvSpPr>
        <p:spPr>
          <a:xfrm flipV="1">
            <a:off x="1981080" y="3657600"/>
            <a:ext cx="121932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9"/>
          <p:cNvSpPr/>
          <p:nvPr/>
        </p:nvSpPr>
        <p:spPr>
          <a:xfrm flipV="1">
            <a:off x="5105520" y="3657600"/>
            <a:ext cx="1441440" cy="30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9" descr="orbs"/>
          <p:cNvPicPr/>
          <p:nvPr/>
        </p:nvPicPr>
        <p:blipFill>
          <a:blip r:embed="rId1"/>
          <a:stretch/>
        </p:blipFill>
        <p:spPr>
          <a:xfrm>
            <a:off x="3200400" y="41911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orbp"/>
          <p:cNvPicPr/>
          <p:nvPr/>
        </p:nvPicPr>
        <p:blipFill>
          <a:blip r:embed="rId2"/>
          <a:stretch/>
        </p:blipFill>
        <p:spPr>
          <a:xfrm>
            <a:off x="3962520" y="4038480"/>
            <a:ext cx="247680" cy="7527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3" descr="orbp"/>
          <p:cNvPicPr/>
          <p:nvPr/>
        </p:nvPicPr>
        <p:blipFill>
          <a:blip r:embed="rId3"/>
          <a:stretch/>
        </p:blipFill>
        <p:spPr>
          <a:xfrm>
            <a:off x="4343400" y="4038480"/>
            <a:ext cx="247680" cy="752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4" descr="orbp"/>
          <p:cNvPicPr/>
          <p:nvPr/>
        </p:nvPicPr>
        <p:blipFill>
          <a:blip r:embed="rId4"/>
          <a:stretch/>
        </p:blipFill>
        <p:spPr>
          <a:xfrm>
            <a:off x="4724280" y="4038480"/>
            <a:ext cx="247680" cy="7527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6" descr="orbp"/>
          <p:cNvPicPr/>
          <p:nvPr/>
        </p:nvPicPr>
        <p:blipFill>
          <a:blip r:embed="rId5"/>
          <a:stretch/>
        </p:blipFill>
        <p:spPr>
          <a:xfrm>
            <a:off x="8458200" y="4114800"/>
            <a:ext cx="247680" cy="75240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60"/>
          <p:cNvSpPr/>
          <p:nvPr/>
        </p:nvSpPr>
        <p:spPr>
          <a:xfrm>
            <a:off x="0" y="281952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1"/>
          <p:cNvSpPr/>
          <p:nvPr/>
        </p:nvSpPr>
        <p:spPr>
          <a:xfrm>
            <a:off x="3581280" y="274320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2"/>
          <p:cNvSpPr/>
          <p:nvPr/>
        </p:nvSpPr>
        <p:spPr>
          <a:xfrm>
            <a:off x="6324480" y="281952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5"/>
          <p:cNvSpPr/>
          <p:nvPr/>
        </p:nvSpPr>
        <p:spPr>
          <a:xfrm>
            <a:off x="8305920" y="281952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-15228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p HYBRIDISATION OF ORBITALS in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9"/>
          <p:cNvSpPr/>
          <p:nvPr/>
        </p:nvSpPr>
        <p:spPr>
          <a:xfrm>
            <a:off x="228600" y="167652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nic configuration of a carbon atom is </a:t>
            </a:r>
            <a:r>
              <a:rPr b="1" lang="en-GB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s</a:t>
            </a:r>
            <a:r>
              <a:rPr b="1" lang="en-GB" sz="20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s</a:t>
            </a:r>
            <a:r>
              <a:rPr b="1" lang="en-GB" sz="20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p</a:t>
            </a:r>
            <a:r>
              <a:rPr b="1" lang="en-GB" sz="20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70"/>
          <p:cNvSpPr/>
          <p:nvPr/>
        </p:nvSpPr>
        <p:spPr>
          <a:xfrm>
            <a:off x="1983960" y="3200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1"/>
          <p:cNvSpPr/>
          <p:nvPr/>
        </p:nvSpPr>
        <p:spPr>
          <a:xfrm>
            <a:off x="5109120" y="3276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83"/>
          <p:cNvGraphicFramePr/>
          <p:nvPr/>
        </p:nvGraphicFramePr>
        <p:xfrm>
          <a:off x="6805440" y="4038480"/>
          <a:ext cx="26856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4" name="Object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05440" y="4038480"/>
                    <a:ext cx="268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84"/>
          <p:cNvGraphicFramePr/>
          <p:nvPr/>
        </p:nvGraphicFramePr>
        <p:xfrm>
          <a:off x="7315200" y="4038480"/>
          <a:ext cx="26820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6" name="Object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4038480"/>
                    <a:ext cx="268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7" name="Picture 66" descr="orbp"/>
          <p:cNvPicPr/>
          <p:nvPr/>
        </p:nvPicPr>
        <p:blipFill>
          <a:blip r:embed="rId10"/>
          <a:stretch/>
        </p:blipFill>
        <p:spPr>
          <a:xfrm>
            <a:off x="8001000" y="4114800"/>
            <a:ext cx="247680" cy="752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8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9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00" name="Straight Connector 7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1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http://www.citycollegiate.com/ethyne_orbital.gif"/>
          <p:cNvPicPr/>
          <p:nvPr/>
        </p:nvPicPr>
        <p:blipFill>
          <a:blip r:embed="rId1"/>
          <a:stretch/>
        </p:blipFill>
        <p:spPr>
          <a:xfrm>
            <a:off x="1523880" y="2209680"/>
            <a:ext cx="5486400" cy="3124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" descr="http://www.citycollegiate.com/ethyne2.gif"/>
          <p:cNvPicPr/>
          <p:nvPr/>
        </p:nvPicPr>
        <p:blipFill>
          <a:blip r:embed="rId2"/>
          <a:stretch/>
        </p:blipFill>
        <p:spPr>
          <a:xfrm>
            <a:off x="2895480" y="1523880"/>
            <a:ext cx="2551320" cy="457200"/>
          </a:xfrm>
          <a:prstGeom prst="rect">
            <a:avLst/>
          </a:prstGeom>
          <a:ln w="0">
            <a:noFill/>
          </a:ln>
        </p:spPr>
      </p:pic>
      <p:sp>
        <p:nvSpPr>
          <p:cNvPr id="804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192B-949B-408F-8250-5B7326BA03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0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19080" y="838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Summary</a:t>
            </a:r>
            <a:r>
              <a:rPr b="0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ization occurs when a C has 2 sigma bond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ized orbital has 50% s and 50% p charac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s point in opposite directions at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each oth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is involved in a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igma bo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bitals form the 2pi b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ple bond is one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bond and two pi (∏)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5869-14D2-4A7B-B6E8-E45A776E2D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13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0" y="1285920"/>
            <a:ext cx="9144000" cy="64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longest chain containing both atoms of the triple bond; this gives the root na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end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yn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root 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the chain, starting at the end closest to the triple bon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branches or other substituents names and  numbers to locate their pos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 the number of identical groups by prefixes di, tri, tetr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position numbers and names of the substituent  groups in alphabetical order, before the root name. In alphabetizing ignore prefixes li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di, tri, etc. but include iso and cyc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ri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nds are considered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ave equal pri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us in a molecule with both a double and triple bond, whichever is close to the end of the chain determines the direction of numb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where double and triple bonds would have th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ame position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uble bond takes the lower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riting the final nam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‘’ene’’ comes before ‘’yne’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ardless which takes the lower number (i.e. alphabetical ord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60199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UPAC Nomenclature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45720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9EA1-4C1F-4DA0-8F27-EEC5FFB999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2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18:25:51Z</dcterms:modified>
  <cp:revision>134</cp:revision>
  <dc:subject/>
  <dc:title>TYPES OF HYBRIDIZATION AND GEOMETRY OF MOLECULES</dc:title>
</cp:coreProperties>
</file>