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9.wmf" ContentType="image/x-wmf"/>
  <Override PartName="/ppt/media/image34.wmf" ContentType="image/x-wmf"/>
  <Override PartName="/ppt/media/image13.png" ContentType="image/png"/>
  <Override PartName="/ppt/media/image33.wmf" ContentType="image/x-wmf"/>
  <Override PartName="/ppt/media/image30.wmf" ContentType="image/x-wmf"/>
  <Override PartName="/ppt/media/image28.wmf" ContentType="image/x-wmf"/>
  <Override PartName="/ppt/media/image32.wmf" ContentType="image/x-wmf"/>
  <Override PartName="/ppt/media/image12.png" ContentType="image/png"/>
  <Override PartName="/ppt/media/image6.png" ContentType="image/png"/>
  <Override PartName="/ppt/media/image14.wmf" ContentType="image/x-wmf"/>
  <Override PartName="/ppt/media/image31.wmf" ContentType="image/x-wmf"/>
  <Override PartName="/ppt/media/image7.jpeg" ContentType="image/jpeg"/>
  <Override PartName="/ppt/media/image35.wmf" ContentType="image/x-wmf"/>
  <Override PartName="/ppt/media/image15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5.wmf" ContentType="image/x-wmf"/>
  <Override PartName="/ppt/media/image10.png" ContentType="image/png"/>
  <Override PartName="/ppt/media/image1.jpeg" ContentType="image/jpeg"/>
  <Override PartName="/ppt/media/image16.png" ContentType="image/png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8351-57AA-4845-8A8B-48547616A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4D57-A125-4EDB-BF6D-773F8D227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45AC-E034-4D7C-B9BB-7B64C2FF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D665-51DD-4F9D-9196-BC85AE87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46AEF-EF9E-47A5-9F6F-240A1688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79FAB-33A7-420E-B626-D9B53880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29D19-286E-47EC-B146-899BAC93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EBF48-0608-4436-9226-5FBCFB45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263C9-64B2-42AA-88C3-AED9AD7B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40346-0E34-4720-9FB7-A969C8CF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219FE-35E1-41B0-8325-03B019F8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33BB2-C2F3-4A26-9C7B-F1FA38A0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43490-493B-45FB-BD28-51E824CF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B5234-9334-4307-BECF-28F0CD2F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8190-D899-44B8-84A3-D1DFCA16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4F3E2-DEA8-40CA-94F6-ED046587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ABD2F-3CD6-43BA-8A96-BC497828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AFE11-EE4F-4DAC-A0FA-41422CDF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041B8-CC3B-40CC-8FFA-1418075E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B8DB3-70FB-486C-BBAF-56DB3350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0CBEB-DC6B-4493-AE38-60A7BB2F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8A309-9D17-472B-B2EC-8B5A02A2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39872-E3F5-48FB-A838-17BC6E3C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3E8BA-0302-4CFC-B35E-B1A1FF8F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D4203-4A3A-4112-8235-18559330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399-50D2-4902-9086-6560AF52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2A405-2598-40B9-83C9-6B2F4AE2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E7076-7027-424B-B761-C33E3157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CA929-FF21-47C9-81E5-3B66D5B9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82957-6534-4026-8927-0354DF9B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63412-0B01-4DDD-9545-528E6D7E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1787B-A561-42C1-97FE-E1511011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11BA1-CA0A-4B30-914E-5DA87676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1CBF5-9145-4D2B-9EED-DD56A54C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B470F-894C-4D21-805E-D0686D8D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D949D-9A50-4DD2-98E6-9FDE1631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7160-2756-447B-9EE3-889DEFE7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24747-2549-4A85-85E2-F28276C8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A81E6-343F-42F6-BE32-D9F155FA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C8EC5-3C14-4B9D-A85B-C9EA8795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ED5E6C-5F0E-4660-A869-E3E96B22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F0696-5E49-4AC6-8BC1-895F12D2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3BA6F-6A4E-4140-87C2-6772AE64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F10EF-A94E-461A-8F03-94AACC74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7368D-7597-4B44-8895-751C2027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F7071-E7EA-44BA-BB56-CC9A373E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2EFD7-39D1-4E8C-A982-4E461794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BE2A-76EB-4F56-9298-ED911B6E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5FFEC-DD45-4248-84DF-061142BF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A3176-496E-45EB-93CC-825AA283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BB743-2A19-4D87-AF49-01056171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C536C-0589-4FC6-9BB1-E47C5F2A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A5B17-F549-44EF-B47F-5268258C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781A89-DD26-4031-9E63-CED83BFB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5C1628-6AFC-4D9A-B723-8CFFCE11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4A41A9-7E78-4613-9D4E-8EF9A63D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373BD7-329B-4093-82EB-390544B4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B4140D-C72F-4A62-ABC3-78AECD2F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446E-98BA-4552-A3E6-232935BC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0479F-1C13-4C95-9448-38E35BF2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49E1E5-E0F5-4B9B-ABC4-87FC38A1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5F8F5-BFDB-4747-842B-EF2171B0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14A29-EF4E-4807-9192-5BF6DC2D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A175AE-74AD-4F24-8D94-00D09114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9FF843-D8A2-4EB8-BCE2-C4534A42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6D59EB-9C22-46DD-9F71-F958D78E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CD8E49-36FC-4099-AF1F-FA994DFD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9BCD7F-A809-4EF8-A8BC-2681A065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CCF6AC-5EC5-487E-A0F7-29D32077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B005-28D7-4C12-A099-12E92988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918BEB-69E5-4EE5-8AFD-5D24EF46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15DF49-CD05-4972-A229-56146995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1649AA-D4BE-441C-8946-64D6BC3C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CBE5AF-51DC-4211-9C80-75C15631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B95715-7BB7-4448-88EF-F2C85B07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C12200-7E61-4EB8-BE8C-B70C54D5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6BDA45-FFA3-4DAE-BDA2-83D1F087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0405E9-3CE6-4018-96BC-BC86B909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DCDA36-4049-492D-B925-1401489B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6309-E067-4E5C-95B5-904331AB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C40B-A38F-458C-88B1-FC112CA4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3D21-3C57-45D2-A06B-3D3E9818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A4E-F179-4B85-B7F4-FB90E2F0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EA4F-EF60-49CB-83B0-35058EE4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DAB6-D123-4C3C-AE10-CBC033AF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8DC2-25D6-4664-9F2C-B85A1E8C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0E66-923D-4B09-B4ED-FD6DB7E5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A6FE-5C04-41FD-B0D7-260CB8DA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E0436-0621-4823-9C2C-F5AE878F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EABC7-A605-4916-ABE2-EC037DE1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A76F1-7689-45EE-B611-C8CD7EE6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AF773-693C-4C04-BEC8-38C10577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CFDD7-C8DE-460A-8D66-801FF37E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DE96-4E53-45D2-AC0C-28C4383E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BA670-63D9-44CA-B7CE-34DC8C0E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1663D-1CE0-4F66-81ED-E565E2F7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3E9BD-5E8B-4F6C-A705-659D53F0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02475-27B6-4484-A543-0908A5FB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82B84-F4F9-4738-8373-55F49B12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A3934-0D36-463B-9BB1-CC2EADAD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1EA4F-6823-48F9-A6EE-B0B81AD1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C71671-2640-4F61-BD91-740A62B0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9FD566-9F7A-4435-B725-ED8D186E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D6F83F-638B-4484-A32B-8FA464AD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B92-6E93-49FF-BCB6-0A3FFA32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6B226A-1225-4705-83F0-F2F04808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9F12D-BE8A-4D0D-AF18-F18369E2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86AEA4-2FBE-4556-8BDA-38BA57E9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8CA938-E272-4182-A120-9812F2DA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6EA877-DEE3-4C87-82BE-705EBB67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B427FE-2193-494E-A315-A6620E9C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7F5273-0900-4A65-800F-AFB12FA6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34774B-3B88-43BF-A623-1DA7F978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3F9813-2FD7-4239-8F4C-37D47B56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CB619-4376-4768-A2BD-CE68143FA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DB1-DBDD-47EC-A4DC-1FAF099A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E3CCF-1284-46BA-B82F-3449F807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7C920-16F7-490B-8703-4CCA7697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28E87-3B2D-42B4-9F02-0FB979CE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7645B-B124-44F0-AE23-9C71BACD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19A07-13B3-459E-8CBE-FE45ABF9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D4855-1746-4C44-881D-936C3C46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C00B6-359C-4167-A0ED-0E864862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17C5B-FD1A-4787-BDD2-FED64F90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578D7-EC4C-44CF-A34B-EB81E1E3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3D258-F85E-4584-A7EA-03DC6C16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8813-D370-4FC0-B650-4CD4101D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BAE0E-79D3-4B6C-8C36-7C6C4FC7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2EFEF-6616-40BB-9204-B6B9E63E5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97C93-0C38-459F-8EC8-8645F041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63633-CC9F-42D8-8A56-33973361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3532A-074D-4022-9A56-449A211A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FD2F5-BA1F-4E74-A47B-D74A9501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C2A2B-5CD8-4BB0-BC21-7E7D2DC9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94588-27A2-4F48-BE87-34C05468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4677C-D81A-4FFB-9587-2E986551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9A88D-6468-4F1F-A111-B1ACAF48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9090-94F7-43CA-9D25-0B0F1DCC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76C75-8421-4A83-9E22-0A4F6A76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812B4-9C24-40E6-9765-2B9EC552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4CDD9-DAF1-4DEA-8F5B-E7EA7C24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C3A3D-158F-4111-B9A8-E2B117E3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DD085-9DE6-4F34-A4B1-132E9B70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52AEE-ACAF-4506-A419-E0E27BF7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F7A5B-CABA-4AFE-9734-59419759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CAE9B-E67E-4FF8-BF04-433121D3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C37E5-A98C-4C27-A3FD-567B8EE0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7A406-96B3-4681-B599-BA83DAE1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615C-6551-49F7-AFB3-ACA2D1A4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16D3F-A3E1-45A2-986C-803D3008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E4142-C846-46AB-864F-B2DA3A89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C4E91-B9A3-497B-9786-0FEFA950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6C761-E77D-439C-B0BD-3691CC7A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DFF3E-4773-495D-AD8F-83F2481C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FA571-CA0F-40C2-B048-6EC25D8F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09E46-F5DF-4FCA-A30C-8D317052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A7658-598A-4A80-983D-3B3F8EC1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E7232-E34E-424E-BE89-9A3AC981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2E40E-97ED-4B73-88EA-E7626FAB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D30-D0ED-4F24-9C00-3C0FEE11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0F48D-1E8B-4B98-96C4-8D91D3EB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F9F96-60B0-48E9-B5EC-06D792EE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E3EB8-6AE9-4343-AA2B-1D7A1B37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97A84-48E2-47DF-A01D-7F107091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0235E-15F4-4FFA-9732-65B721A3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63DA7-7428-4D09-B54D-3648D138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54EB8-5DD1-4D82-A03F-9E4EE041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B4456-DFDF-4BA1-AF5D-63D10715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6F105-682B-4D89-BF15-A0695B43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850DB-D148-4A34-B558-1B6DD90A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F2CD-0FEA-42E4-B6E9-1084FB508FE9}" type="datetime5">
              <a:rPr b="0" lang="en-US" sz="12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CF30-D157-4BA9-958E-7F3F449782F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475E-3A8A-40FF-B292-4CECDF2620E4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4E7A-2A2C-4215-9B75-BA9CA353C480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0DBB-BA51-48F2-AF1A-D86AB1C37C7F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0B5B-70B4-44D3-B2E1-3F2DF11F4716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7F3B-C010-4800-9E2B-DA3430B4266C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EABD-C099-4DA9-8598-5AAC0CE5506C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4F85-2E12-4887-BC06-B2A35B8BC294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979E-3AD5-496D-9555-36D46D73B504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4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7A21-9FC5-4B05-8773-D00BA8198B0F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4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4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A2B2-2523-48C0-A1EB-DE6136B2785E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06BD-863F-4F00-8A63-E95EDA13B283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AFDD-5E4E-4C12-B77A-DDE462FF8B60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D80A-5E63-4416-A38F-F349B2113DA6}" type="datetime5">
              <a:rPr b="0" lang="en-US" sz="12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73AB-7878-4092-834C-F3035265F07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30B3-0D3E-4429-BC02-3ED0D82D409B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50A5-308E-4E3F-B3F7-87D64357C732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6FF2-C275-4315-A3A8-A1F9937C6490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1468-EB57-49C1-900B-317209FDC2B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DE46-8C63-4E05-ACB8-0FE49CD21C60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8A3D-4743-4856-BB7E-2F37FC614833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4F00-1909-4EF3-873A-C017C1D1E303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E877-1B3F-4502-87E6-919CE419B6AF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991E-6820-4DDF-8983-3D65F821EB3E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7291-D7DE-4543-B00E-51CEA85C8355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CB1B-0AE8-4543-8AC7-0CDA4C477D42}" type="datetime5">
              <a:rPr b="0" lang="ar-SA" sz="1200" spc="-1" strike="noStrike">
                <a:solidFill>
                  <a:srgbClr val="595959"/>
                </a:solidFill>
                <a:latin typeface="Century Gothic"/>
                <a:ea typeface="Times New Roman"/>
              </a:rPr>
              <a:t>28 يوليو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A582-8442-497C-9893-8C72BB2DE1B4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14.wmf"/><Relationship Id="rId10" Type="http://schemas.openxmlformats.org/officeDocument/2006/relationships/image" Target="../media/image13.png"/><Relationship Id="rId11" Type="http://schemas.openxmlformats.org/officeDocument/2006/relationships/image" Target="../media/image6.png"/><Relationship Id="rId12" Type="http://schemas.openxmlformats.org/officeDocument/2006/relationships/image" Target="../media/image7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WordArt 4"/>
          <p:cNvSpPr/>
          <p:nvPr/>
        </p:nvSpPr>
        <p:spPr>
          <a:xfrm>
            <a:off x="990720" y="1828800"/>
            <a:ext cx="6629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9BC1-CD2C-433B-9B75-970F8FB957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4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691" name="Straight Connector 5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6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7"/>
          <p:cNvSpPr/>
          <p:nvPr/>
        </p:nvSpPr>
        <p:spPr>
          <a:xfrm>
            <a:off x="3593160" y="495288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1435-14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2014-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" descr="Propyne-3D-balls-B.png"/>
          <p:cNvPicPr/>
          <p:nvPr/>
        </p:nvPicPr>
        <p:blipFill>
          <a:blip r:embed="rId3"/>
          <a:stretch/>
        </p:blipFill>
        <p:spPr>
          <a:xfrm>
            <a:off x="2286000" y="2819520"/>
            <a:ext cx="419112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Examples</a:t>
            </a:r>
            <a:br>
              <a:rPr sz="2400"/>
            </a:b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IUPAC Names Of Alky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3" name="Object 48"/>
          <p:cNvGraphicFramePr/>
          <p:nvPr/>
        </p:nvGraphicFramePr>
        <p:xfrm>
          <a:off x="304920" y="2514600"/>
          <a:ext cx="8534160" cy="32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4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14600"/>
                    <a:ext cx="853416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5" name="Picture 3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4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827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6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52280" y="837720"/>
            <a:ext cx="5181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mmon  Nomenclature Of Alky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mplest alkyne its common name is 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acetyl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 the common names  of alkynes are derived from acetyle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e.g. Methyl acetyle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Example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1" name="Object 48"/>
          <p:cNvGraphicFramePr/>
          <p:nvPr/>
        </p:nvGraphicFramePr>
        <p:xfrm>
          <a:off x="2592360" y="4419720"/>
          <a:ext cx="281628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2360" y="4419720"/>
                    <a:ext cx="2816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3" name="Picture 7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2209680" cy="59040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7" descr=""/>
          <p:cNvPicPr/>
          <p:nvPr/>
        </p:nvPicPr>
        <p:blipFill>
          <a:blip r:embed="rId4"/>
          <a:stretch/>
        </p:blipFill>
        <p:spPr>
          <a:xfrm>
            <a:off x="4648320" y="2971800"/>
            <a:ext cx="4495680" cy="10080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13"/>
          <p:cNvSpPr/>
          <p:nvPr/>
        </p:nvSpPr>
        <p:spPr>
          <a:xfrm>
            <a:off x="4897080" y="3962520"/>
            <a:ext cx="42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Comm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Isobutyisopropylacetyl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4"/>
          <p:cNvSpPr/>
          <p:nvPr/>
        </p:nvSpPr>
        <p:spPr>
          <a:xfrm>
            <a:off x="14040" y="4038480"/>
            <a:ext cx="32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Comm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Methyl acetyl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15"/>
          <p:cNvSpPr/>
          <p:nvPr/>
        </p:nvSpPr>
        <p:spPr>
          <a:xfrm>
            <a:off x="2377440" y="5791320"/>
            <a:ext cx="39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Commo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propylmethylacetyl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5"/>
          <p:cNvSpPr/>
          <p:nvPr/>
        </p:nvSpPr>
        <p:spPr>
          <a:xfrm>
            <a:off x="6705720" y="14479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10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11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841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13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144756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Exercise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16761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Give the IUPAC and common names of the following comp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lide Number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6105-45D5-433F-A277-194F97D911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Object 48"/>
          <p:cNvGraphicFramePr/>
          <p:nvPr/>
        </p:nvGraphicFramePr>
        <p:xfrm>
          <a:off x="609480" y="3124080"/>
          <a:ext cx="739152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7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24080"/>
                    <a:ext cx="73915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8" name="Picture 5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6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850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8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52280" y="83772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hysical Prope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76320" y="1477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polar, insoluble in wat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le in most organic solve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008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iling points and melting points of alkynes increase with molecular weigh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80008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nch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uc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boiling point of alky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Terminal alkyn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-C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H, are more </a:t>
            </a:r>
            <a:r>
              <a:rPr b="0" lang="en-US" sz="22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acid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n other hydrocarb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compounds b &amp; d are more acidic than a &amp; 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Slide Number Placeholder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ED8E-004A-4BE2-B834-E53C95AEC8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5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6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857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0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9" name="Object 47"/>
          <p:cNvGraphicFramePr/>
          <p:nvPr/>
        </p:nvGraphicFramePr>
        <p:xfrm>
          <a:off x="1143000" y="4483080"/>
          <a:ext cx="6518160" cy="20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0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483080"/>
                    <a:ext cx="651816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1" name="Rectangle 1"/>
          <p:cNvSpPr/>
          <p:nvPr/>
        </p:nvSpPr>
        <p:spPr>
          <a:xfrm>
            <a:off x="5637960" y="53150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Terminal 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5485680" y="61214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Terminal 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38280" y="990360"/>
            <a:ext cx="3353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reparation of alky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27000" y="152352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y dehydrohalogenation of geminal or vicinal dihaloalka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-2HX)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lide Number Placeholder 7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05E5-6B4F-4B81-8F64-7ADB057F89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868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9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0" name="Object 78"/>
          <p:cNvGraphicFramePr/>
          <p:nvPr/>
        </p:nvGraphicFramePr>
        <p:xfrm>
          <a:off x="933480" y="2516040"/>
          <a:ext cx="7524720" cy="365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1" name="Object 7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3480" y="2516040"/>
                    <a:ext cx="7524720" cy="36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4A04-1DDE-436D-9A5A-A086688053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2"/>
          <p:cNvSpPr/>
          <p:nvPr/>
        </p:nvSpPr>
        <p:spPr>
          <a:xfrm>
            <a:off x="457200" y="11430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cc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rom reaction of sodium Acetylide with Primary Alkyl Halides (Alkylationof acetylide with primary alkyl ha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876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7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27"/>
          <p:cNvGraphicFramePr/>
          <p:nvPr/>
        </p:nvGraphicFramePr>
        <p:xfrm>
          <a:off x="1081080" y="2133720"/>
          <a:ext cx="705816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9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1080" y="2133720"/>
                    <a:ext cx="70581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0" name="Rectangle 9"/>
          <p:cNvSpPr/>
          <p:nvPr/>
        </p:nvSpPr>
        <p:spPr>
          <a:xfrm>
            <a:off x="657360" y="3774960"/>
            <a:ext cx="772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For Terminal C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se only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ylene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H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H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10"/>
          <p:cNvSpPr/>
          <p:nvPr/>
        </p:nvSpPr>
        <p:spPr>
          <a:xfrm>
            <a:off x="609480" y="434988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on Terminal C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se Monosub. 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2" name="Object 28"/>
          <p:cNvGraphicFramePr/>
          <p:nvPr/>
        </p:nvGraphicFramePr>
        <p:xfrm>
          <a:off x="581040" y="5043600"/>
          <a:ext cx="780084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1040" y="5043600"/>
                    <a:ext cx="780084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133720" y="91404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Reactions of alky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76201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 Addition of hydrogen ( Hydrogenation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95AF-C246-40B1-9EBA-A6796AA795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5"/>
          <p:cNvSpPr/>
          <p:nvPr/>
        </p:nvSpPr>
        <p:spPr>
          <a:xfrm>
            <a:off x="0" y="3962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 can be reduced 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trans</a:t>
            </a: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-alke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ing </a:t>
            </a: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Na or Li in liquid NH</a:t>
            </a:r>
            <a:r>
              <a:rPr b="0" lang="en-US" sz="2400" spc="-1" strike="noStrike" baseline="-25000">
                <a:solidFill>
                  <a:srgbClr val="4f81bd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8"/>
          <p:cNvSpPr/>
          <p:nvPr/>
        </p:nvSpPr>
        <p:spPr>
          <a:xfrm>
            <a:off x="0" y="2133720"/>
            <a:ext cx="9144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 can be partially reduced to </a:t>
            </a:r>
            <a:r>
              <a:rPr b="0" i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is</a:t>
            </a: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-alke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4f81bd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presence of </a:t>
            </a: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poisoned catalyst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9" name="Object 108"/>
          <p:cNvGraphicFramePr/>
          <p:nvPr/>
        </p:nvGraphicFramePr>
        <p:xfrm>
          <a:off x="1143000" y="2895480"/>
          <a:ext cx="5867280" cy="11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Object 10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95480"/>
                    <a:ext cx="586728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1" name="Object 109"/>
          <p:cNvGraphicFramePr/>
          <p:nvPr/>
        </p:nvGraphicFramePr>
        <p:xfrm>
          <a:off x="1066680" y="4495680"/>
          <a:ext cx="6172200" cy="12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2" name="Object 10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495680"/>
                    <a:ext cx="617220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3" name="Rectangle 8"/>
          <p:cNvSpPr/>
          <p:nvPr/>
        </p:nvSpPr>
        <p:spPr>
          <a:xfrm>
            <a:off x="-35640" y="121932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Electrophilic Addition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Picture 9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10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896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12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Object 110"/>
          <p:cNvGraphicFramePr/>
          <p:nvPr/>
        </p:nvGraphicFramePr>
        <p:xfrm>
          <a:off x="1143000" y="5943600"/>
          <a:ext cx="5791320" cy="401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99" name="Object 1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5943600"/>
                    <a:ext cx="579132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TextBox 1"/>
          <p:cNvSpPr/>
          <p:nvPr/>
        </p:nvSpPr>
        <p:spPr>
          <a:xfrm>
            <a:off x="6946200" y="381492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82c2a"/>
                </a:solidFill>
                <a:latin typeface="Times New Roman"/>
                <a:ea typeface="Times New Roman"/>
              </a:rPr>
              <a:t>or (</a:t>
            </a:r>
            <a:r>
              <a:rPr b="1" i="1" lang="en-US" sz="1200" spc="-1" strike="noStrike">
                <a:solidFill>
                  <a:srgbClr val="782c2a"/>
                </a:solidFill>
                <a:latin typeface="Times New Roman"/>
                <a:ea typeface="Times New Roman"/>
              </a:rPr>
              <a:t>Z</a:t>
            </a:r>
            <a:r>
              <a:rPr b="1" lang="en-US" sz="1200" spc="-1" strike="noStrike">
                <a:solidFill>
                  <a:srgbClr val="782c2a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18"/>
          <p:cNvSpPr/>
          <p:nvPr/>
        </p:nvSpPr>
        <p:spPr>
          <a:xfrm>
            <a:off x="7297920" y="548640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83230"/>
                </a:solidFill>
                <a:latin typeface="Times New Roman"/>
                <a:ea typeface="Times New Roman"/>
              </a:rPr>
              <a:t>or (</a:t>
            </a:r>
            <a:r>
              <a:rPr b="1" i="1" lang="en-US" sz="1200" spc="-1" strike="noStrike">
                <a:solidFill>
                  <a:srgbClr val="883230"/>
                </a:solidFill>
                <a:latin typeface="Times New Roman"/>
                <a:ea typeface="Times New Roman"/>
              </a:rPr>
              <a:t>E</a:t>
            </a:r>
            <a:r>
              <a:rPr b="1" lang="en-US" sz="1200" spc="-1" strike="noStrike">
                <a:solidFill>
                  <a:srgbClr val="88323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2"/>
          <p:cNvSpPr/>
          <p:nvPr/>
        </p:nvSpPr>
        <p:spPr>
          <a:xfrm>
            <a:off x="4045680" y="350532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dar’s Catly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-360" y="990720"/>
            <a:ext cx="6172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.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ddition of halogen  (Halogen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Slide Number Placeholder 9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0030-47F1-4E48-B7A3-3197D4D7CF2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5"/>
          <p:cNvSpPr/>
          <p:nvPr/>
        </p:nvSpPr>
        <p:spPr>
          <a:xfrm>
            <a:off x="304920" y="1828800"/>
            <a:ext cx="8458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 +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+ 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 baseline="-25000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–C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11"/>
          <p:cNvSpPr/>
          <p:nvPr/>
        </p:nvSpPr>
        <p:spPr>
          <a:xfrm>
            <a:off x="422280" y="373392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used  one mole ……(alkene) two mole …….alk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7" name="Straight Arrow Connector 12"/>
          <p:cNvCxnSpPr/>
          <p:nvPr/>
        </p:nvCxnSpPr>
        <p:spPr>
          <a:xfrm>
            <a:off x="5333760" y="2057040"/>
            <a:ext cx="61020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8" name="Straight Arrow Connector 13"/>
          <p:cNvCxnSpPr/>
          <p:nvPr/>
        </p:nvCxnSpPr>
        <p:spPr>
          <a:xfrm>
            <a:off x="2285640" y="2063520"/>
            <a:ext cx="61020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909" name="Picture 1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1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911" name="Straight Connector 1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7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3" name="Object 109"/>
          <p:cNvGraphicFramePr/>
          <p:nvPr/>
        </p:nvGraphicFramePr>
        <p:xfrm>
          <a:off x="457200" y="2362320"/>
          <a:ext cx="8078760" cy="113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4" name="Object 10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362320"/>
                    <a:ext cx="807876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5" name="TextBox 2"/>
          <p:cNvSpPr/>
          <p:nvPr/>
        </p:nvSpPr>
        <p:spPr>
          <a:xfrm>
            <a:off x="4840560" y="32590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6" name="Object 110"/>
          <p:cNvGraphicFramePr/>
          <p:nvPr/>
        </p:nvGraphicFramePr>
        <p:xfrm>
          <a:off x="533520" y="4419720"/>
          <a:ext cx="8145360" cy="14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7" name="Object 1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419720"/>
                    <a:ext cx="814536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477F-4257-4ABC-A25B-391EB5B0C4E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6"/>
          <p:cNvSpPr/>
          <p:nvPr/>
        </p:nvSpPr>
        <p:spPr>
          <a:xfrm>
            <a:off x="1440" y="914400"/>
            <a:ext cx="5027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ddition of hydrogen ha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22"/>
          <p:cNvSpPr/>
          <p:nvPr/>
        </p:nvSpPr>
        <p:spPr>
          <a:xfrm>
            <a:off x="0" y="1752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 + </a:t>
            </a:r>
            <a:r>
              <a:rPr b="1" lang="en-US" sz="2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=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 + </a:t>
            </a:r>
            <a:r>
              <a:rPr b="1" lang="en-US" sz="2400" spc="-1" strike="noStrike">
                <a:solidFill>
                  <a:srgbClr val="7e9ce8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7e9ce8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 – 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1" name="Straight Arrow Connector 9"/>
          <p:cNvCxnSpPr/>
          <p:nvPr/>
        </p:nvCxnSpPr>
        <p:spPr>
          <a:xfrm>
            <a:off x="2209680" y="1980720"/>
            <a:ext cx="45792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2" name="Straight Arrow Connector 10"/>
          <p:cNvCxnSpPr/>
          <p:nvPr/>
        </p:nvCxnSpPr>
        <p:spPr>
          <a:xfrm>
            <a:off x="5410080" y="1980720"/>
            <a:ext cx="534240" cy="108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graphicFrame>
        <p:nvGraphicFramePr>
          <p:cNvPr id="923" name="Object 74"/>
          <p:cNvGraphicFramePr/>
          <p:nvPr/>
        </p:nvGraphicFramePr>
        <p:xfrm>
          <a:off x="457200" y="4495680"/>
          <a:ext cx="79675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4" name="Object 7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495680"/>
                    <a:ext cx="79675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5" name="Picture 8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1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927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13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9" name="Object 75"/>
          <p:cNvGraphicFramePr/>
          <p:nvPr/>
        </p:nvGraphicFramePr>
        <p:xfrm>
          <a:off x="152280" y="2590920"/>
          <a:ext cx="8742600" cy="121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0" name="Object 7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2590920"/>
                    <a:ext cx="8742600" cy="12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2A82-750C-4703-9C1F-8F22400BFD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2"/>
          <p:cNvSpPr/>
          <p:nvPr/>
        </p:nvSpPr>
        <p:spPr>
          <a:xfrm>
            <a:off x="152280" y="10666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ddition of water: 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935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9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7" name="Object 104"/>
          <p:cNvGraphicFramePr/>
          <p:nvPr/>
        </p:nvGraphicFramePr>
        <p:xfrm>
          <a:off x="595440" y="4800600"/>
          <a:ext cx="778644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8" name="Object 10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440" y="4800600"/>
                    <a:ext cx="7786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9" name="Object 105"/>
          <p:cNvGraphicFramePr/>
          <p:nvPr/>
        </p:nvGraphicFramePr>
        <p:xfrm>
          <a:off x="641520" y="2819520"/>
          <a:ext cx="7435800" cy="192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0" name="Object 10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520" y="2819520"/>
                    <a:ext cx="7435800" cy="19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1" name="Object 106"/>
          <p:cNvGraphicFramePr/>
          <p:nvPr/>
        </p:nvGraphicFramePr>
        <p:xfrm>
          <a:off x="609480" y="1523880"/>
          <a:ext cx="7575840" cy="121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2" name="Object 10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1523880"/>
                    <a:ext cx="75758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-228960" y="1143000"/>
            <a:ext cx="3166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Rectangle 9"/>
          <p:cNvSpPr/>
          <p:nvPr/>
        </p:nvSpPr>
        <p:spPr>
          <a:xfrm>
            <a:off x="0" y="175788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hapter three discusses the following topics which have to be understood and memorize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, hybridization and Bonding in alky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and IUPAC naming of alky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properties of alky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ation of alky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ions of alkynes: addition reactions and ac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699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5290-E433-44BD-A17D-6D24D124AE5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1"/>
          <p:cNvSpPr/>
          <p:nvPr/>
        </p:nvSpPr>
        <p:spPr>
          <a:xfrm>
            <a:off x="380880" y="1073160"/>
            <a:ext cx="8763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1. An alkyne’s name end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–a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-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–y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) d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. An alkyne function has …….. pi bond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thr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) f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3. Alkynes react with HCl by a mechanism c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elimin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Markovnikov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ajalla U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ajalla U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ajalla U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sub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4. Alkynes react with water in the presence of a catalyst to g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a dialcohol (diol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an alk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an en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) a dibrom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5. The conversion of alkynes to alkanes is an exampl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) oxid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 chlorin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ajalla U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) dehyd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Picture 3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4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947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6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8aa"/>
                </a:solidFill>
                <a:latin typeface="Palatino Linotype"/>
              </a:rPr>
              <a:t>Thank You for your kind attention !</a:t>
            </a: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굴림"/>
              </a:rPr>
              <a:t>Questions?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굴림"/>
              </a:rPr>
              <a:t>Comments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1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548C-86FB-423B-8E36-73F99B8D7599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8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9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954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1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-360" y="781200"/>
            <a:ext cx="609588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Alkynes: Molecular And Structural Formula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prise a series of carbon- and hydrogen- based compounds that contain at least one triple bond. This group of compounds is a homologous series with the general molecular formula of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</a:t>
            </a:r>
            <a:r>
              <a:rPr b="1" i="1" lang="en-US" sz="20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n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0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—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kyne triple bond is composed of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ne σ and two 2 </a:t>
            </a:r>
            <a:r>
              <a:rPr b="0" lang="en-US" sz="2000" spc="-1" strike="noStrike">
                <a:solidFill>
                  <a:srgbClr val="cc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covalent bo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triple bond can be terminal or internal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mplest alkyne,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thy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lso known as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cetyle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has two carbon atoms and the molecular formula of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structural formula for ethyne i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Picture 12" descr="0001a"/>
          <p:cNvPicPr/>
          <p:nvPr/>
        </p:nvPicPr>
        <p:blipFill>
          <a:blip r:embed="rId1"/>
          <a:stretch/>
        </p:blipFill>
        <p:spPr>
          <a:xfrm>
            <a:off x="762120" y="3352680"/>
            <a:ext cx="7162560" cy="146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4" name="Object 47"/>
          <p:cNvGraphicFramePr/>
          <p:nvPr/>
        </p:nvGraphicFramePr>
        <p:xfrm>
          <a:off x="3200400" y="5943600"/>
          <a:ext cx="2286000" cy="39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5" name="Object 4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5943600"/>
                    <a:ext cx="22860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6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346D-89B6-46D0-9161-DF56AB0E6E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6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7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709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9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-152280" y="91404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sp Hybridization Of Alky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2" name="Picture 2" descr="creating the hybrids from an s and a p orbital"/>
          <p:cNvPicPr/>
          <p:nvPr/>
        </p:nvPicPr>
        <p:blipFill>
          <a:blip r:embed="rId1"/>
          <a:stretch/>
        </p:blipFill>
        <p:spPr>
          <a:xfrm>
            <a:off x="2133720" y="5486400"/>
            <a:ext cx="4759200" cy="99072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8"/>
          <p:cNvSpPr/>
          <p:nvPr/>
        </p:nvSpPr>
        <p:spPr>
          <a:xfrm>
            <a:off x="0" y="1600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nvolves the mixing of one s- and one p-orbital forming two sp-hybrid orbitals of equivalent energy. The two sp-hybrid orbitals are oriented in a linear arrangement and bond angle is 180° to minimize the repulsion between th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maining two p orbitals (py and Pz) are unal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2" descr="C:\Users\Administrator\Pictures\hybrid03.gif"/>
          <p:cNvPicPr/>
          <p:nvPr/>
        </p:nvPicPr>
        <p:blipFill>
          <a:blip r:embed="rId2"/>
          <a:stretch/>
        </p:blipFill>
        <p:spPr>
          <a:xfrm>
            <a:off x="1828800" y="3657600"/>
            <a:ext cx="5638680" cy="1562040"/>
          </a:xfrm>
          <a:prstGeom prst="rect">
            <a:avLst/>
          </a:prstGeom>
          <a:ln w="0">
            <a:noFill/>
          </a:ln>
        </p:spPr>
      </p:pic>
      <p:sp>
        <p:nvSpPr>
          <p:cNvPr id="715" name="Slide Number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5926-1456-4761-9D2F-D4E677CC07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6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7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718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9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0" name="Object 47"/>
          <p:cNvGraphicFramePr/>
          <p:nvPr/>
        </p:nvGraphicFramePr>
        <p:xfrm>
          <a:off x="5257800" y="1219320"/>
          <a:ext cx="22860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1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219320"/>
                    <a:ext cx="22860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2" name=""/>
          <p:cNvSpPr txBox="1"/>
          <p:nvPr/>
        </p:nvSpPr>
        <p:spPr>
          <a:xfrm>
            <a:off x="-360" y="167652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formula of ethyne i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thyne, each carbon atom is sp-hybridiz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way, four sp-orbital are genera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sp- orbital  of each carbon atom by overlapping forms a sigma bond between carbon ato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aining one sp-orbital of each carbon atom overlap with 1s-orbital of a hydrogen atom to produce two sigma bond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rbital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rbitals of each carbon by parallel overlapping form two pi-bonds between the two carbon ato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(shape) of ethyne molecule is linear in which bond angles are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C bond length is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.20 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1F6A-865B-489F-9869-B0427743D1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322200" y="11430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Orbital Overlap IN Ethy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5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6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727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8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traight Connector 2"/>
          <p:cNvSpPr/>
          <p:nvPr/>
        </p:nvSpPr>
        <p:spPr>
          <a:xfrm>
            <a:off x="3048120" y="6095880"/>
            <a:ext cx="228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81000" y="3354480"/>
            <a:ext cx="376200" cy="600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11"/>
          <p:cNvGrpSpPr/>
          <p:nvPr/>
        </p:nvGrpSpPr>
        <p:grpSpPr>
          <a:xfrm>
            <a:off x="158400" y="3463920"/>
            <a:ext cx="61920" cy="367200"/>
            <a:chOff x="158400" y="3463920"/>
            <a:chExt cx="61920" cy="367200"/>
          </a:xfrm>
        </p:grpSpPr>
        <p:sp>
          <p:nvSpPr>
            <p:cNvPr id="732" name="Line 12"/>
            <p:cNvSpPr/>
            <p:nvPr/>
          </p:nvSpPr>
          <p:spPr>
            <a:xfrm flipV="1">
              <a:off x="220320" y="346392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3"/>
            <p:cNvSpPr/>
            <p:nvPr/>
          </p:nvSpPr>
          <p:spPr>
            <a:xfrm flipH="1">
              <a:off x="158400" y="3463920"/>
              <a:ext cx="61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Rectangle 14"/>
          <p:cNvSpPr/>
          <p:nvPr/>
        </p:nvSpPr>
        <p:spPr>
          <a:xfrm>
            <a:off x="731880" y="3355920"/>
            <a:ext cx="37620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5"/>
          <p:cNvSpPr/>
          <p:nvPr/>
        </p:nvSpPr>
        <p:spPr>
          <a:xfrm>
            <a:off x="1122480" y="3354480"/>
            <a:ext cx="37620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6"/>
          <p:cNvSpPr/>
          <p:nvPr/>
        </p:nvSpPr>
        <p:spPr>
          <a:xfrm>
            <a:off x="1512720" y="3354480"/>
            <a:ext cx="37656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17"/>
          <p:cNvGrpSpPr/>
          <p:nvPr/>
        </p:nvGrpSpPr>
        <p:grpSpPr>
          <a:xfrm>
            <a:off x="802800" y="3460680"/>
            <a:ext cx="61920" cy="367200"/>
            <a:chOff x="802800" y="3460680"/>
            <a:chExt cx="61920" cy="367200"/>
          </a:xfrm>
        </p:grpSpPr>
        <p:sp>
          <p:nvSpPr>
            <p:cNvPr id="738" name="Line 18"/>
            <p:cNvSpPr/>
            <p:nvPr/>
          </p:nvSpPr>
          <p:spPr>
            <a:xfrm flipV="1">
              <a:off x="864720" y="346068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9"/>
            <p:cNvSpPr/>
            <p:nvPr/>
          </p:nvSpPr>
          <p:spPr>
            <a:xfrm flipH="1">
              <a:off x="802800" y="3460680"/>
              <a:ext cx="61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Group 20"/>
          <p:cNvGrpSpPr/>
          <p:nvPr/>
        </p:nvGrpSpPr>
        <p:grpSpPr>
          <a:xfrm>
            <a:off x="1190160" y="3476520"/>
            <a:ext cx="61920" cy="367200"/>
            <a:chOff x="1190160" y="3476520"/>
            <a:chExt cx="61920" cy="367200"/>
          </a:xfrm>
        </p:grpSpPr>
        <p:sp>
          <p:nvSpPr>
            <p:cNvPr id="741" name="Line 21"/>
            <p:cNvSpPr/>
            <p:nvPr/>
          </p:nvSpPr>
          <p:spPr>
            <a:xfrm flipV="1">
              <a:off x="1252080" y="347652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22"/>
            <p:cNvSpPr/>
            <p:nvPr/>
          </p:nvSpPr>
          <p:spPr>
            <a:xfrm flipH="1">
              <a:off x="1190160" y="3476520"/>
              <a:ext cx="61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Group 23"/>
          <p:cNvGrpSpPr/>
          <p:nvPr/>
        </p:nvGrpSpPr>
        <p:grpSpPr>
          <a:xfrm>
            <a:off x="343080" y="3471120"/>
            <a:ext cx="61200" cy="367200"/>
            <a:chOff x="343080" y="3471120"/>
            <a:chExt cx="61200" cy="367200"/>
          </a:xfrm>
        </p:grpSpPr>
        <p:sp>
          <p:nvSpPr>
            <p:cNvPr id="744" name="Line 24"/>
            <p:cNvSpPr/>
            <p:nvPr/>
          </p:nvSpPr>
          <p:spPr>
            <a:xfrm>
              <a:off x="343080" y="347112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25"/>
            <p:cNvSpPr/>
            <p:nvPr/>
          </p:nvSpPr>
          <p:spPr>
            <a:xfrm flipV="1">
              <a:off x="343080" y="3686040"/>
              <a:ext cx="61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Rectangle 26"/>
          <p:cNvSpPr/>
          <p:nvPr/>
        </p:nvSpPr>
        <p:spPr>
          <a:xfrm>
            <a:off x="3233880" y="3306600"/>
            <a:ext cx="376200" cy="6001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27"/>
          <p:cNvGrpSpPr/>
          <p:nvPr/>
        </p:nvGrpSpPr>
        <p:grpSpPr>
          <a:xfrm>
            <a:off x="3311280" y="3416400"/>
            <a:ext cx="61920" cy="367200"/>
            <a:chOff x="3311280" y="3416400"/>
            <a:chExt cx="61920" cy="367200"/>
          </a:xfrm>
        </p:grpSpPr>
        <p:sp>
          <p:nvSpPr>
            <p:cNvPr id="748" name="Line 28"/>
            <p:cNvSpPr/>
            <p:nvPr/>
          </p:nvSpPr>
          <p:spPr>
            <a:xfrm flipV="1">
              <a:off x="3373200" y="341640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29"/>
            <p:cNvSpPr/>
            <p:nvPr/>
          </p:nvSpPr>
          <p:spPr>
            <a:xfrm flipH="1">
              <a:off x="3311280" y="3416400"/>
              <a:ext cx="61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Rectangle 30"/>
          <p:cNvSpPr/>
          <p:nvPr/>
        </p:nvSpPr>
        <p:spPr>
          <a:xfrm>
            <a:off x="3884760" y="3308400"/>
            <a:ext cx="376200" cy="598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31"/>
          <p:cNvSpPr/>
          <p:nvPr/>
        </p:nvSpPr>
        <p:spPr>
          <a:xfrm>
            <a:off x="4275000" y="3306600"/>
            <a:ext cx="37620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32"/>
          <p:cNvSpPr/>
          <p:nvPr/>
        </p:nvSpPr>
        <p:spPr>
          <a:xfrm>
            <a:off x="4665600" y="3306600"/>
            <a:ext cx="37620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33"/>
          <p:cNvGrpSpPr/>
          <p:nvPr/>
        </p:nvGrpSpPr>
        <p:grpSpPr>
          <a:xfrm>
            <a:off x="3955680" y="3413160"/>
            <a:ext cx="61920" cy="367200"/>
            <a:chOff x="3955680" y="3413160"/>
            <a:chExt cx="61920" cy="367200"/>
          </a:xfrm>
        </p:grpSpPr>
        <p:sp>
          <p:nvSpPr>
            <p:cNvPr id="754" name="Line 34"/>
            <p:cNvSpPr/>
            <p:nvPr/>
          </p:nvSpPr>
          <p:spPr>
            <a:xfrm flipV="1">
              <a:off x="4017600" y="341316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35"/>
            <p:cNvSpPr/>
            <p:nvPr/>
          </p:nvSpPr>
          <p:spPr>
            <a:xfrm flipH="1">
              <a:off x="3955680" y="3413160"/>
              <a:ext cx="61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36"/>
          <p:cNvGrpSpPr/>
          <p:nvPr/>
        </p:nvGrpSpPr>
        <p:grpSpPr>
          <a:xfrm>
            <a:off x="4343040" y="3429000"/>
            <a:ext cx="61920" cy="367200"/>
            <a:chOff x="4343040" y="3429000"/>
            <a:chExt cx="61920" cy="367200"/>
          </a:xfrm>
        </p:grpSpPr>
        <p:sp>
          <p:nvSpPr>
            <p:cNvPr id="757" name="Line 37"/>
            <p:cNvSpPr/>
            <p:nvPr/>
          </p:nvSpPr>
          <p:spPr>
            <a:xfrm flipV="1">
              <a:off x="4404960" y="342900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38"/>
            <p:cNvSpPr/>
            <p:nvPr/>
          </p:nvSpPr>
          <p:spPr>
            <a:xfrm flipH="1">
              <a:off x="4343040" y="3429000"/>
              <a:ext cx="61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39"/>
          <p:cNvGrpSpPr/>
          <p:nvPr/>
        </p:nvGrpSpPr>
        <p:grpSpPr>
          <a:xfrm>
            <a:off x="4730400" y="3430440"/>
            <a:ext cx="61920" cy="367200"/>
            <a:chOff x="4730400" y="3430440"/>
            <a:chExt cx="61920" cy="367200"/>
          </a:xfrm>
        </p:grpSpPr>
        <p:sp>
          <p:nvSpPr>
            <p:cNvPr id="760" name="Line 40"/>
            <p:cNvSpPr/>
            <p:nvPr/>
          </p:nvSpPr>
          <p:spPr>
            <a:xfrm flipV="1">
              <a:off x="4792320" y="343044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41"/>
            <p:cNvSpPr/>
            <p:nvPr/>
          </p:nvSpPr>
          <p:spPr>
            <a:xfrm flipH="1">
              <a:off x="4730400" y="3430440"/>
              <a:ext cx="61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Rectangle 42"/>
          <p:cNvSpPr/>
          <p:nvPr/>
        </p:nvSpPr>
        <p:spPr>
          <a:xfrm>
            <a:off x="6756480" y="3340080"/>
            <a:ext cx="376200" cy="60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43"/>
          <p:cNvGrpSpPr/>
          <p:nvPr/>
        </p:nvGrpSpPr>
        <p:grpSpPr>
          <a:xfrm>
            <a:off x="6833880" y="3449520"/>
            <a:ext cx="61920" cy="367200"/>
            <a:chOff x="6833880" y="3449520"/>
            <a:chExt cx="61920" cy="367200"/>
          </a:xfrm>
        </p:grpSpPr>
        <p:sp>
          <p:nvSpPr>
            <p:cNvPr id="764" name="Line 44"/>
            <p:cNvSpPr/>
            <p:nvPr/>
          </p:nvSpPr>
          <p:spPr>
            <a:xfrm flipV="1">
              <a:off x="6895800" y="344952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45"/>
            <p:cNvSpPr/>
            <p:nvPr/>
          </p:nvSpPr>
          <p:spPr>
            <a:xfrm flipH="1">
              <a:off x="6833880" y="3449520"/>
              <a:ext cx="61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Rectangle 46"/>
          <p:cNvSpPr/>
          <p:nvPr/>
        </p:nvSpPr>
        <p:spPr>
          <a:xfrm>
            <a:off x="7192800" y="3341520"/>
            <a:ext cx="376560" cy="600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47"/>
          <p:cNvSpPr/>
          <p:nvPr/>
        </p:nvSpPr>
        <p:spPr>
          <a:xfrm>
            <a:off x="7924680" y="3352680"/>
            <a:ext cx="376200" cy="600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48"/>
          <p:cNvSpPr/>
          <p:nvPr/>
        </p:nvSpPr>
        <p:spPr>
          <a:xfrm>
            <a:off x="8416800" y="3340080"/>
            <a:ext cx="37620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Group 49"/>
          <p:cNvGrpSpPr/>
          <p:nvPr/>
        </p:nvGrpSpPr>
        <p:grpSpPr>
          <a:xfrm>
            <a:off x="7264080" y="3446640"/>
            <a:ext cx="61920" cy="367200"/>
            <a:chOff x="7264080" y="3446640"/>
            <a:chExt cx="61920" cy="367200"/>
          </a:xfrm>
        </p:grpSpPr>
        <p:sp>
          <p:nvSpPr>
            <p:cNvPr id="770" name="Line 50"/>
            <p:cNvSpPr/>
            <p:nvPr/>
          </p:nvSpPr>
          <p:spPr>
            <a:xfrm flipV="1">
              <a:off x="7326000" y="344664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51"/>
            <p:cNvSpPr/>
            <p:nvPr/>
          </p:nvSpPr>
          <p:spPr>
            <a:xfrm flipH="1">
              <a:off x="7264080" y="3446640"/>
              <a:ext cx="61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Group 52"/>
          <p:cNvGrpSpPr/>
          <p:nvPr/>
        </p:nvGrpSpPr>
        <p:grpSpPr>
          <a:xfrm>
            <a:off x="8076960" y="3505320"/>
            <a:ext cx="61920" cy="367200"/>
            <a:chOff x="8076960" y="3505320"/>
            <a:chExt cx="61920" cy="367200"/>
          </a:xfrm>
        </p:grpSpPr>
        <p:sp>
          <p:nvSpPr>
            <p:cNvPr id="773" name="Line 53"/>
            <p:cNvSpPr/>
            <p:nvPr/>
          </p:nvSpPr>
          <p:spPr>
            <a:xfrm flipV="1">
              <a:off x="8138880" y="350532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54"/>
            <p:cNvSpPr/>
            <p:nvPr/>
          </p:nvSpPr>
          <p:spPr>
            <a:xfrm flipH="1">
              <a:off x="8076960" y="3505320"/>
              <a:ext cx="61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55"/>
          <p:cNvGrpSpPr/>
          <p:nvPr/>
        </p:nvGrpSpPr>
        <p:grpSpPr>
          <a:xfrm>
            <a:off x="8481600" y="3463920"/>
            <a:ext cx="61920" cy="367200"/>
            <a:chOff x="8481600" y="3463920"/>
            <a:chExt cx="61920" cy="367200"/>
          </a:xfrm>
        </p:grpSpPr>
        <p:sp>
          <p:nvSpPr>
            <p:cNvPr id="776" name="Line 56"/>
            <p:cNvSpPr/>
            <p:nvPr/>
          </p:nvSpPr>
          <p:spPr>
            <a:xfrm flipV="1">
              <a:off x="8543520" y="3463920"/>
              <a:ext cx="0" cy="36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57"/>
            <p:cNvSpPr/>
            <p:nvPr/>
          </p:nvSpPr>
          <p:spPr>
            <a:xfrm flipH="1">
              <a:off x="8481600" y="3463920"/>
              <a:ext cx="6156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Line 58"/>
          <p:cNvSpPr/>
          <p:nvPr/>
        </p:nvSpPr>
        <p:spPr>
          <a:xfrm flipV="1">
            <a:off x="1981080" y="3657600"/>
            <a:ext cx="1219320" cy="15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59"/>
          <p:cNvSpPr/>
          <p:nvPr/>
        </p:nvSpPr>
        <p:spPr>
          <a:xfrm flipV="1">
            <a:off x="5105520" y="3657600"/>
            <a:ext cx="1441440" cy="30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9" descr="orbs"/>
          <p:cNvPicPr/>
          <p:nvPr/>
        </p:nvPicPr>
        <p:blipFill>
          <a:blip r:embed="rId1"/>
          <a:stretch/>
        </p:blipFill>
        <p:spPr>
          <a:xfrm>
            <a:off x="3200400" y="4191120"/>
            <a:ext cx="463680" cy="46332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8" descr="orbp"/>
          <p:cNvPicPr/>
          <p:nvPr/>
        </p:nvPicPr>
        <p:blipFill>
          <a:blip r:embed="rId2"/>
          <a:stretch/>
        </p:blipFill>
        <p:spPr>
          <a:xfrm>
            <a:off x="3962520" y="4038480"/>
            <a:ext cx="247680" cy="7527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63" descr="orbp"/>
          <p:cNvPicPr/>
          <p:nvPr/>
        </p:nvPicPr>
        <p:blipFill>
          <a:blip r:embed="rId3"/>
          <a:stretch/>
        </p:blipFill>
        <p:spPr>
          <a:xfrm>
            <a:off x="4343400" y="4038480"/>
            <a:ext cx="247680" cy="75276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64" descr="orbp"/>
          <p:cNvPicPr/>
          <p:nvPr/>
        </p:nvPicPr>
        <p:blipFill>
          <a:blip r:embed="rId4"/>
          <a:stretch/>
        </p:blipFill>
        <p:spPr>
          <a:xfrm>
            <a:off x="4724280" y="4038480"/>
            <a:ext cx="247680" cy="7527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66" descr="orbp"/>
          <p:cNvPicPr/>
          <p:nvPr/>
        </p:nvPicPr>
        <p:blipFill>
          <a:blip r:embed="rId5"/>
          <a:stretch/>
        </p:blipFill>
        <p:spPr>
          <a:xfrm>
            <a:off x="8458200" y="4114800"/>
            <a:ext cx="247680" cy="752400"/>
          </a:xfrm>
          <a:prstGeom prst="rect">
            <a:avLst/>
          </a:prstGeom>
          <a:ln w="0">
            <a:noFill/>
          </a:ln>
        </p:spPr>
      </p:pic>
      <p:sp>
        <p:nvSpPr>
          <p:cNvPr id="785" name="Text Box 60"/>
          <p:cNvSpPr/>
          <p:nvPr/>
        </p:nvSpPr>
        <p:spPr>
          <a:xfrm>
            <a:off x="0" y="2819520"/>
            <a:ext cx="18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s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p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61"/>
          <p:cNvSpPr/>
          <p:nvPr/>
        </p:nvSpPr>
        <p:spPr>
          <a:xfrm>
            <a:off x="3581280" y="2743200"/>
            <a:ext cx="18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s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p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62"/>
          <p:cNvSpPr/>
          <p:nvPr/>
        </p:nvSpPr>
        <p:spPr>
          <a:xfrm>
            <a:off x="6324480" y="2819520"/>
            <a:ext cx="18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x 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65"/>
          <p:cNvSpPr/>
          <p:nvPr/>
        </p:nvSpPr>
        <p:spPr>
          <a:xfrm>
            <a:off x="8305920" y="2819520"/>
            <a:ext cx="5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6"/>
          <p:cNvSpPr/>
          <p:nvPr/>
        </p:nvSpPr>
        <p:spPr>
          <a:xfrm>
            <a:off x="-152280" y="11430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sp HYBRIDISATION OF ORBITALS in ALKY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69"/>
          <p:cNvSpPr/>
          <p:nvPr/>
        </p:nvSpPr>
        <p:spPr>
          <a:xfrm>
            <a:off x="228600" y="1676520"/>
            <a:ext cx="7238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ectronic configuration of a carbon atom is </a:t>
            </a:r>
            <a:r>
              <a:rPr b="1" lang="en-GB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s</a:t>
            </a:r>
            <a:r>
              <a:rPr b="1" lang="en-GB" sz="20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2s</a:t>
            </a:r>
            <a:r>
              <a:rPr b="1" lang="en-GB" sz="20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2p</a:t>
            </a:r>
            <a:r>
              <a:rPr b="1" lang="en-GB" sz="20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70"/>
          <p:cNvSpPr/>
          <p:nvPr/>
        </p:nvSpPr>
        <p:spPr>
          <a:xfrm>
            <a:off x="1983960" y="32004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71"/>
          <p:cNvSpPr/>
          <p:nvPr/>
        </p:nvSpPr>
        <p:spPr>
          <a:xfrm>
            <a:off x="5109120" y="327672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3" name="Object 83"/>
          <p:cNvGraphicFramePr/>
          <p:nvPr/>
        </p:nvGraphicFramePr>
        <p:xfrm>
          <a:off x="6805440" y="4038480"/>
          <a:ext cx="268560" cy="8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4" name="Object 8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05440" y="4038480"/>
                    <a:ext cx="2685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5" name="Object 84"/>
          <p:cNvGraphicFramePr/>
          <p:nvPr/>
        </p:nvGraphicFramePr>
        <p:xfrm>
          <a:off x="7315200" y="4038480"/>
          <a:ext cx="268200" cy="83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96" name="Object 8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15200" y="4038480"/>
                    <a:ext cx="2682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7" name="Picture 66" descr="orbp"/>
          <p:cNvPicPr/>
          <p:nvPr/>
        </p:nvPicPr>
        <p:blipFill>
          <a:blip r:embed="rId10"/>
          <a:stretch/>
        </p:blipFill>
        <p:spPr>
          <a:xfrm>
            <a:off x="8001000" y="4114800"/>
            <a:ext cx="247680" cy="7524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68" descr="ksulogo2.png"/>
          <p:cNvPicPr/>
          <p:nvPr/>
        </p:nvPicPr>
        <p:blipFill>
          <a:blip r:embed="rId1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69" descr="images.jpeg"/>
          <p:cNvPicPr/>
          <p:nvPr/>
        </p:nvPicPr>
        <p:blipFill>
          <a:blip r:embed="rId1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800" name="Straight Connector 7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1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4" descr="http://www.citycollegiate.com/ethyne_orbital.gif"/>
          <p:cNvPicPr/>
          <p:nvPr/>
        </p:nvPicPr>
        <p:blipFill>
          <a:blip r:embed="rId1"/>
          <a:stretch/>
        </p:blipFill>
        <p:spPr>
          <a:xfrm>
            <a:off x="1523880" y="2209680"/>
            <a:ext cx="5486400" cy="31244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2" descr="http://www.citycollegiate.com/ethyne2.gif"/>
          <p:cNvPicPr/>
          <p:nvPr/>
        </p:nvPicPr>
        <p:blipFill>
          <a:blip r:embed="rId2"/>
          <a:stretch/>
        </p:blipFill>
        <p:spPr>
          <a:xfrm>
            <a:off x="2895480" y="1523880"/>
            <a:ext cx="2551320" cy="457200"/>
          </a:xfrm>
          <a:prstGeom prst="rect">
            <a:avLst/>
          </a:prstGeom>
          <a:ln w="0">
            <a:noFill/>
          </a:ln>
        </p:spPr>
      </p:pic>
      <p:sp>
        <p:nvSpPr>
          <p:cNvPr id="804" name="Slide Number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301B-C3E6-4F07-8926-201E9DF474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807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19080" y="8380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Summary</a:t>
            </a:r>
            <a:r>
              <a:rPr b="0" lang="en-US" sz="24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ybridization occurs when a C has 2 sigma bonds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ybridized orbital has 50% s and 50% p charac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ybrids point in opposite directions at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each oth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brid is involved in a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sigma bo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main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bitals form the 2pi bo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iple bond is one (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bond and two pi (∏) bo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4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D646-C43F-44BB-A5C4-F79CE84C31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3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4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813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6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0" y="1285920"/>
            <a:ext cx="9144000" cy="64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longest chain containing both atoms of the triple bond; this gives the root nam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he ending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yn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root 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the chain, starting at the end closest to the triple bon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branches or other substituents names and  numbers to locate their posi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e the number of identical groups by prefixes di, tri, tetra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the position numbers and names of the substituent  groups in alphabetical order, before the root name. In alphabetizing ignore prefixes lik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, di, tri, etc. but include iso and cycl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rip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nds are considered to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ave equal prior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hus in a molecule with both a double and triple bond, whichever is close to the end of the chain determines the direction of number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where double and triple bonds would have the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ame position 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uble bond takes the lower 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writing the final name </a:t>
            </a: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‘’ene’’ comes before ‘’yne’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gardless which takes the lower number (i.e. alphabetical ord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601992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IUPAC Nomenclature of Alky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45720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0DF1-23C2-4C07-A113-E0A4C13334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820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3663720" y="4572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y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16:56Z</dcterms:created>
  <dc:creator>NCCR</dc:creator>
  <dc:description/>
  <dc:language>en-US</dc:language>
  <cp:lastModifiedBy>new wave</cp:lastModifiedBy>
  <dcterms:modified xsi:type="dcterms:W3CDTF">2016-01-26T18:25:51Z</dcterms:modified>
  <cp:revision>134</cp:revision>
  <dc:subject/>
  <dc:title>TYPES OF HYBRIDIZATION AND GEOMETRY OF MOLECULES</dc:title>
</cp:coreProperties>
</file>