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6.jpeg" ContentType="image/jpeg"/>
  <Override PartName="/ppt/media/image15.png" ContentType="image/png"/>
  <Override PartName="/ppt/media/image17.wmf" ContentType="image/x-wmf"/>
  <Override PartName="/ppt/media/image9.png" ContentType="image/png"/>
  <Override PartName="/ppt/media/image44.jpeg" ContentType="image/jpeg"/>
  <Override PartName="/ppt/media/image11.png" ContentType="image/png"/>
  <Override PartName="/ppt/media/image38.jpeg" ContentType="image/jpeg"/>
  <Override PartName="/ppt/media/image31.wmf" ContentType="image/x-wmf"/>
  <Override PartName="/ppt/media/image35.gif" ContentType="image/gif"/>
  <Override PartName="/ppt/media/image40.png" ContentType="image/png"/>
  <Override PartName="/ppt/media/image42.jpeg" ContentType="image/jpeg"/>
  <Override PartName="/ppt/media/image14.png" ContentType="image/png"/>
  <Override PartName="/ppt/media/image34.gif" ContentType="image/gif"/>
  <Override PartName="/ppt/media/image30.wmf" ContentType="image/x-wmf"/>
  <Override PartName="/ppt/media/image43.png" ContentType="image/png"/>
  <Override PartName="/ppt/media/image36.wmf" ContentType="image/x-wmf"/>
  <Override PartName="/ppt/media/image12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28.wmf" ContentType="image/x-wmf"/>
  <Override PartName="/ppt/media/image37.jpeg" ContentType="image/jpeg"/>
  <Override PartName="/ppt/media/image41.wmf" ContentType="image/x-wmf"/>
  <Override PartName="/ppt/media/image39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1A1D-B4A5-4EEA-8A15-D5BCE4354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DF85-F93E-4707-986B-B4BECB4A8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CFE-7383-49CF-B8DD-7C881D91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E7D-EA26-4322-89C1-2BE46272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E9393-BC5F-4F23-AAE0-57402F6E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AC0C6-4FF7-4B01-B388-3D856AFB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615D4-2CC8-4EEE-8474-CF73D92F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3FC1C-9E43-49BA-9973-F29DB622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3B576-6CBB-4D8F-BE82-D63ACE81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FF420-3FB8-4C0F-8BA4-2C5E532F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CD7D0-3381-4615-A972-1EED6FFE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61572-C53C-40D2-A04D-18622CEA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4F96D-15B4-48DE-A9F1-1302BA62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DC2F6-6023-43EA-B0DE-18CF4E00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EDA-E2B0-4F99-96C8-AC4CAE25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6DC29-E6CC-4633-ADCF-D50D0C75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3F439-6F59-4680-A3DB-473838C8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BF57A-8190-4542-898E-0CEA924E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8FB87-2DB1-4FF3-8FE3-A29808A4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AD713-6261-4B0E-82E6-F4C0675C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39297-E5A8-420F-ADB1-DD6F9C9B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BBB51-A21A-4083-AFC8-FCC01931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C5381-1060-4D5A-9ABB-07E6008C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22F98-FBE5-4489-BC68-6E284005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666E2-11BE-494E-B89A-D34C8716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FA3E-3AA5-40A6-9CE5-FEAC814E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53F7B-2529-4229-8740-87D050BF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3839B-869B-49D0-9B3B-5A1A2CFC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73016-FF43-42F6-B0AD-51EDAB5D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BC1AF-1FA6-491B-BC60-2F258859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1590B-AD32-4A11-BBD6-6E6793A5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257B3-A392-458A-9288-81369BB2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8B36C-6F0C-4E7F-BCF0-FFD320C3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09619-8229-4079-8542-DA6EB780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F27AC-3665-4655-BD75-DD962617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38675-CA2E-43FD-B0B5-91EC8821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4110-4357-42A4-B2D0-39D20CEE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5B68A-2695-4C85-9995-0B7ABDAB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58738-99D8-45FF-9DD4-B8D59FEC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0E1B3-C4B7-45D2-80A7-0FBBFF15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55C6B-3DA7-455F-B5B2-6E5A9CBF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38B9F-1416-4749-B7DE-4B209940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4B66C-5011-4549-9B29-DD5E1510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A5792-20B5-4ECE-BE81-C56120AB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872E0-92F2-4F3A-8170-45CDDA21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4BDC2-F684-4A7B-9917-068B9F90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888DA-AC25-4A60-83B3-3D35F1F9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DAE8-D99E-46C8-BEF6-3626A499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8D00E-A540-45AA-BE57-CE737593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333CD-A1E1-4728-A43F-61AA4DE3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75747-7A0A-49FC-9FB5-71351190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C508E-A5C5-46B7-AF2D-9C88BA99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C8A48-BF2F-4B33-9382-46376358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5414-F668-4E06-8328-CC6609C7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EB5F-49B8-4605-8561-10B71DEE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5A46-4001-48AD-9013-CC21B911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2FE7-170C-4BFF-AD0F-58550412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939C-3E0C-4254-834E-F6819147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793-63A5-43ED-8E58-B086873B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0B81-81BA-48BD-9906-E60BA816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3F68-BC34-4E5B-A09C-85B38EAA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2F76-C614-4C52-9465-93933B7C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704E-D794-4160-AA47-EA7E4615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CEC5-9A0C-444F-B8FD-32BC0D44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773C5-9258-4FD5-912E-CF0E0939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8DE87-A553-46C8-93FC-B9CFCB01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486C-5B8D-4BC7-881C-4FB471B2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D4E9D-3154-44FB-8F9B-FEB6AB98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24349-32CF-4CD1-8CD8-654AF133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A818-070E-4FD2-AAD4-3B80F097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29F07-8837-4CB8-864B-4A4C76E1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05C8F-14F2-451A-9015-E07D2D55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08480-3418-490C-9E3E-31BA8EF7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57BCA-3DB8-4627-84BE-9052F437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75828-1A39-4D41-9E7A-476ABAC5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FABE7-3ECD-4D34-A0B8-628C5907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FC0F-4759-46E7-A247-4E83B146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A6B79-7A1D-4CAC-8A9C-4909525F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30946-CA4A-4DED-AB2B-E43B44B6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BA104-6069-4985-9BE6-773F02D6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6E66-6B7A-4B6B-A159-DFBC1785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DF82C-CF2E-4D7B-97AB-D7B88952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33AFE-5CC0-408F-9C28-3A906CAF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541CE-B517-4E81-9BF8-1027DB72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B1B88-07AF-40A7-8781-6F449D33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912E3-77A5-4D15-B962-4242CE3A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76F5B-FD95-48DB-9DEE-1AA3B51A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7BF21-15C6-4E95-AB59-58C3901D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C63E7-5D6B-4C56-97FC-C957C2FD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1262E-29AE-4AD2-87CE-6BA97F55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90FB9-CDB6-4643-80A4-98AF97A8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F50-8BB4-446C-9F19-E1C6940C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DF3CB-0DA9-4A9C-B6D4-077EB6F0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65F73-9C02-4EA9-892A-506720C5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68785-0367-42D4-A7E6-C693853C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FD428-F466-4A67-AEEC-D5EC36B7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6DFC8-DD39-419A-A881-AC18E8BF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5B9A3-727C-4277-8BDE-814CE928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9B1D7-F732-4446-B299-650E42A9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B3CEA-DFB9-47FA-9FEE-6FCE73FA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881D7-507E-4EEB-A6CB-20DEF3AC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C1B15-592F-4921-AA1D-3B0C655A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495-C46C-41DF-B367-5697DFAF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C5F06-09B0-4DF5-8BEB-DF927DD8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C23BB-ACC0-4C2A-9EC6-FFB43F3F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7A467-50FD-4015-8265-ECA2B014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382B0-562F-43C1-8AC9-86A5E88C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87216-7F46-42A1-B5D9-4AC08092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F37EB-F5E9-431F-A109-552D4C7E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EF8BD-2EEB-4147-B706-269B9E44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1DE85-2AEA-4301-A084-A3D8EDE7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75E04-5008-43DD-B910-37D9258B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B7873-B13D-4D62-AEAE-CAF8DEBC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D727-F5B2-4DAC-809B-90BDFEDD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AF07E-6707-430F-B68A-A46960FC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B27D5-311B-4B64-8FBB-B3F00A87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ED8DA-60AD-4DA0-A741-9D9ACA95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5B4A8-5815-4D47-9A11-1BB78CF7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AD5EC-BCB4-4189-A6D6-A37BABCC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8086B-1312-41FC-BB8F-26D4D24F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4F892-FCFF-4B71-8E95-5A9AA3A9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48126-3A3B-411A-9B95-407072E8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A1CE1-D5C9-4AD4-A93D-7762523C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83775-6A22-4944-88F9-50ECB8BE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740-3F0F-4CD6-8ED0-62A9C0BA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05DEB-2520-4BDC-B1DC-E96AE57E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A35BE-3ED4-4FCB-8FD6-ECAEB9B2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43FB9-2402-4B1A-BE39-297E9FCE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B2353-29B5-42F9-A02B-92ADE752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A1526-57E8-4F7F-867A-8D954753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DF684-88FA-42DC-891B-A49D5D8E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AE136-224C-4773-8583-29BC767B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A3104-EEFB-4909-B016-74848A32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57BBD-9264-4632-86B2-CBB7E5DC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1374F-1266-4FC9-8B0A-B902F22B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C8D0-0452-44C4-AC23-5434FA7A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766BD-388B-4BED-88C0-5A8A72F0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99073-1CE3-460D-8E75-FB692AFF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3424F-F8E7-43D3-ACF4-095A5312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06BEC-A87F-4D1F-81ED-6CA75910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15599-C1F2-4A2B-A663-D93DD8DE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80174-BEBD-4FCA-A891-5ED0F86D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F8A96-374D-4B48-B216-6B366887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2803F-995D-4FD5-A118-020FC29B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A2F32-045A-4531-9544-A2002A1D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7A41E-8ABB-4F96-94CD-F7EDCB00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3EFD-44B7-41BE-BFEB-523855832C50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91C9-16C3-4FC2-A332-72262089AA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888B-56FC-4F8F-90F8-EC102AB434BB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93AA-AE90-450A-AE64-88C8768F883E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94EC-C2E5-4222-BDFA-935BD23050F6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8A3C-04FF-4430-B5ED-17830D4B7F7F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CF53-78FD-46F9-92DC-6A32CD496BF5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5023-A783-497B-A5BC-9AE3657E2BBF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7352-4B99-471C-844D-EFDCABEC2444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3065-D9B0-4E3E-9DB1-BBD1BED3A811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A399-FEE7-456D-811B-4BF6E64AE7B0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0D6E-F306-4017-BFB1-F27563745C93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FA58-8B7D-44F7-8140-443D34A54700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C961-86C7-46F5-9545-5A8CE00F619F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DC1A-2787-4F81-94AF-1610EDFE8ADD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BF45-6A29-4BE0-8FF2-47D696C723B7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0DFE-C5B1-454D-AEFC-01629FC34134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1EC4-468E-4BC2-844C-2AD3761976E0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5672-8564-44CB-9D76-2226ECAE5924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9099-0EA3-42B4-85A6-C6C31907FC07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A38B-CD17-4F28-A099-420F7E79DA4F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50EF-9794-4F34-84A4-68B3BCBD3274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50F8-19AC-4B44-B1AB-3F79B3757821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2D5D-2585-444B-B28A-45EE7872553F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image" Target="../media/image42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Kekul&#233;%20forms&amp;source=images&amp;cd=&amp;cad=rja&amp;docid=2AC10bqPPyjpdM&amp;tbnid=0Zbv5oEXk3MtFM:&amp;ved=0CAUQjRw&amp;url=http://www.armstrongwynne.org/benzene.html&amp;ei=NHYwUf3JK4fK0AXug4GgAg&amp;psig=AFQjCNFtbOFa5t_0CD30TybCiITdY8j0qQ&amp;ust=1362216851894962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WordArt 4"/>
          <p:cNvSpPr/>
          <p:nvPr/>
        </p:nvSpPr>
        <p:spPr>
          <a:xfrm>
            <a:off x="1066680" y="22096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4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501" name="Straight Connector 5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6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7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" descr="300px-Benzene-aromaticity-3D-balls.png"/>
          <p:cNvPicPr/>
          <p:nvPr/>
        </p:nvPicPr>
        <p:blipFill>
          <a:blip r:embed="rId3"/>
          <a:stretch/>
        </p:blipFill>
        <p:spPr>
          <a:xfrm>
            <a:off x="2514600" y="2705040"/>
            <a:ext cx="380988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-228960" y="8377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omenclature of Aromatic Comp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Majalla UI"/>
              </a:rPr>
              <a:t>1. Monosubstituted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Majalla UI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Majalla UI"/>
              </a:rPr>
              <a:t>Benze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7033"/>
                </a:solidFill>
                <a:uFillTx/>
                <a:latin typeface="Times New Roman"/>
                <a:ea typeface="Majalla UI"/>
              </a:rPr>
              <a:t>a. IUPAC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0" y="2286000"/>
            <a:ext cx="8991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named as derivatives of benze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ide group is named as a prefix in front of the word benze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umber is needed for mono-substituted benz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Object 33"/>
          <p:cNvGraphicFramePr/>
          <p:nvPr/>
        </p:nvGraphicFramePr>
        <p:xfrm>
          <a:off x="533520" y="4038480"/>
          <a:ext cx="76960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038480"/>
                    <a:ext cx="76960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2" name="Picture 5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584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35EE-52D6-4437-B8D0-D70B18F096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6"/>
          <p:cNvSpPr/>
          <p:nvPr/>
        </p:nvSpPr>
        <p:spPr>
          <a:xfrm>
            <a:off x="0" y="114300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zene ring has priority over :side chains with alkyl, alkoxy groups, halogens, double and  triple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0"/>
          <p:cNvSpPr/>
          <p:nvPr/>
        </p:nvSpPr>
        <p:spPr>
          <a:xfrm>
            <a:off x="0" y="3581280"/>
            <a:ext cx="8991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ome cases the side chains on aromatic ring contain functional groups of higher priorities 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H, CHO,C=O, COOH, COOR) thus in this case the aromatic ring will be considered as a substituent  and the side chain will be used to give the root name.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wo aromatic radials ar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Object 57"/>
          <p:cNvGraphicFramePr/>
          <p:nvPr/>
        </p:nvGraphicFramePr>
        <p:xfrm>
          <a:off x="2590920" y="5486400"/>
          <a:ext cx="29383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5486400"/>
                    <a:ext cx="2938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58"/>
          <p:cNvGraphicFramePr/>
          <p:nvPr/>
        </p:nvGraphicFramePr>
        <p:xfrm>
          <a:off x="152280" y="2133720"/>
          <a:ext cx="876312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2" name="Object 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133720"/>
                    <a:ext cx="87631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3" name="Picture 6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7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595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9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7"/>
          <p:cNvSpPr/>
          <p:nvPr/>
        </p:nvSpPr>
        <p:spPr>
          <a:xfrm>
            <a:off x="0" y="3300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33"/>
                </a:solidFill>
                <a:uFillTx/>
                <a:latin typeface="Times New Roman"/>
                <a:ea typeface="Times New Roman"/>
              </a:rPr>
              <a:t>b. Common Names Of Monosubstituted Benz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Object 34"/>
          <p:cNvGraphicFramePr/>
          <p:nvPr/>
        </p:nvGraphicFramePr>
        <p:xfrm>
          <a:off x="665280" y="4197240"/>
          <a:ext cx="7196040" cy="15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4197240"/>
                    <a:ext cx="7196040" cy="15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0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02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1"/>
          <p:cNvSpPr/>
          <p:nvPr/>
        </p:nvSpPr>
        <p:spPr>
          <a:xfrm>
            <a:off x="441360" y="1066680"/>
            <a:ext cx="824544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aryl group (Ar) is the aromatic group that remains after removal of hydrogen Atom from an aromatic ring. When the benzene ring is named as substituent, it is called a phenyl group (often abbreviated P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enzyl group (the phenyl methyl group) is the seven carbon unit consisting of benzene ring and methylene (-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2128-0987-47F2-A39C-208A9604B433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57200" y="1004760"/>
            <a:ext cx="8205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ydrocarbon composed of one saturated chain and one benzene ring is usually named as a derivative of the larger structural unit. However, if the chain is unsaturated compound may be named as a derivative of that chain, regardless of ring size. The following ar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09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9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10" descr="Screen Clipping"/>
          <p:cNvPicPr/>
          <p:nvPr/>
        </p:nvPicPr>
        <p:blipFill>
          <a:blip r:embed="rId3"/>
          <a:srcRect l="5890" t="0" r="9771" b="0"/>
          <a:stretch/>
        </p:blipFill>
        <p:spPr>
          <a:xfrm>
            <a:off x="1093680" y="3046320"/>
            <a:ext cx="6942240" cy="144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8"/>
          <p:cNvSpPr/>
          <p:nvPr/>
        </p:nvSpPr>
        <p:spPr>
          <a:xfrm>
            <a:off x="0" y="135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isubstituted benzenes (two groups are attached to benzene), can give rise to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ree possible positional isom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0"/>
          <p:cNvSpPr/>
          <p:nvPr/>
        </p:nvSpPr>
        <p:spPr>
          <a:xfrm>
            <a:off x="0" y="3809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substituents are different, they are of equal priorities they will should be  listed in alphabetical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3"/>
          <p:cNvSpPr/>
          <p:nvPr/>
        </p:nvSpPr>
        <p:spPr>
          <a:xfrm>
            <a:off x="35640" y="914400"/>
            <a:ext cx="84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Nomenclature of Disubstituted and polysubstituted Benz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Object 57"/>
          <p:cNvGraphicFramePr/>
          <p:nvPr/>
        </p:nvGraphicFramePr>
        <p:xfrm>
          <a:off x="1143000" y="2133720"/>
          <a:ext cx="60958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60958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Object 58"/>
          <p:cNvGraphicFramePr/>
          <p:nvPr/>
        </p:nvGraphicFramePr>
        <p:xfrm>
          <a:off x="457200" y="4648320"/>
          <a:ext cx="83059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8" name="Object 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648320"/>
                    <a:ext cx="8305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9" name="Picture 6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7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21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9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0" y="3276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one of the substituents is part of a parent compound, then the disubstituted or polysubstituted benzene is named as a derivative of that parent compound i.e. priorities determine the root name and substitu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Object 57"/>
          <p:cNvGraphicFramePr/>
          <p:nvPr/>
        </p:nvGraphicFramePr>
        <p:xfrm>
          <a:off x="914400" y="1219320"/>
          <a:ext cx="663264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6632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58"/>
          <p:cNvGraphicFramePr/>
          <p:nvPr/>
        </p:nvGraphicFramePr>
        <p:xfrm>
          <a:off x="457200" y="4876920"/>
          <a:ext cx="8534520" cy="17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Object 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876920"/>
                    <a:ext cx="85345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8" name="Picture 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30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19a7bc"/>
                </a:solidFill>
                <a:latin typeface="Times New Roman"/>
                <a:ea typeface="Times New Roman"/>
              </a:rPr>
              <a:t>Electrophilic Aromatic Substitution Re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3" name="Object 33"/>
          <p:cNvGraphicFramePr/>
          <p:nvPr/>
        </p:nvGraphicFramePr>
        <p:xfrm>
          <a:off x="1143000" y="2057400"/>
          <a:ext cx="72388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72388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5" name="Picture 3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37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"/>
          <p:cNvSpPr/>
          <p:nvPr/>
        </p:nvSpPr>
        <p:spPr>
          <a:xfrm>
            <a:off x="7560" y="10666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41920" cy="5106960"/>
          </a:xfrm>
          <a:prstGeom prst="rect">
            <a:avLst/>
          </a:prstGeom>
          <a:ln w="0">
            <a:noFill/>
          </a:ln>
        </p:spPr>
      </p:pic>
      <p:sp>
        <p:nvSpPr>
          <p:cNvPr id="6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AEA0-F84C-44B2-9D06-93B31192B4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3"/>
          <p:cNvSpPr/>
          <p:nvPr/>
        </p:nvSpPr>
        <p:spPr>
          <a:xfrm>
            <a:off x="6562080" y="449568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ophe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45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-289440" y="68580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Side-Chain Reactions of Aromatic Comp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0" y="1752120"/>
            <a:ext cx="69343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Majalla UI"/>
              </a:rPr>
              <a:t>a.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Majalla UI"/>
              </a:rPr>
              <a:t> Halogenation of an Alkyl Side Ch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9" name="Object 58"/>
          <p:cNvGraphicFramePr/>
          <p:nvPr/>
        </p:nvGraphicFramePr>
        <p:xfrm>
          <a:off x="457200" y="2590920"/>
          <a:ext cx="764388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76438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Rectangle 6"/>
          <p:cNvSpPr/>
          <p:nvPr/>
        </p:nvSpPr>
        <p:spPr>
          <a:xfrm>
            <a:off x="10080" y="121932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3152"/>
                </a:solidFill>
                <a:uFillTx/>
                <a:latin typeface="Times New Roman"/>
                <a:ea typeface="Times New Roman"/>
              </a:rPr>
              <a:t>1)Haloge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Object 59"/>
          <p:cNvGraphicFramePr/>
          <p:nvPr/>
        </p:nvGraphicFramePr>
        <p:xfrm>
          <a:off x="1371600" y="4343400"/>
          <a:ext cx="560088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3" name="Object 5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343400"/>
                    <a:ext cx="56008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4" name="Picture 7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8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56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0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8363-AAEA-4286-A5EC-0F7F5EA535BC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9F31-6430-433C-AE8A-EF61CC9A127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مربع نص 5"/>
          <p:cNvSpPr/>
          <p:nvPr/>
        </p:nvSpPr>
        <p:spPr>
          <a:xfrm>
            <a:off x="15120" y="1143000"/>
            <a:ext cx="48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.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 Oxidation of an Alkyl Sid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1" name="Object 35"/>
          <p:cNvGraphicFramePr/>
          <p:nvPr/>
        </p:nvGraphicFramePr>
        <p:xfrm>
          <a:off x="457200" y="2070000"/>
          <a:ext cx="7431120" cy="31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70000"/>
                    <a:ext cx="743112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3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65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8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0" y="1676520"/>
            <a:ext cx="899172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nance description of structure of benz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 hybridization in benz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 relation between the stability of benzene and resonance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125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criteria of aromaticit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Hucke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125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enclature rules of aromatic compounds and know the Common names of some 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 reactivity of aromatic compounds, know what are electrophil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know the four types of electrophilic aromatic substitution reactions (halogenation, Freidel Crafts alkylation and acylation, nitration and  Sulfona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tions of alkyl side chains of aromatic compounds (halogenation, oxid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 orientation and reactivity of E.A.S reactions in monosubstituted benzene derivative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1"/>
          <p:cNvSpPr/>
          <p:nvPr/>
        </p:nvSpPr>
        <p:spPr>
          <a:xfrm>
            <a:off x="23040" y="126216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By the end of chapter four the students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510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عنوان 1"/>
          <p:cNvSpPr/>
          <p:nvPr/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Orientation effects of substituents in electrophilic aromatic substitution reactions of monosubstituted Benz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6"/>
          <p:cNvSpPr/>
          <p:nvPr/>
        </p:nvSpPr>
        <p:spPr>
          <a:xfrm>
            <a:off x="0" y="165564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lkyl groups and groups with lone pairs (electron donating group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ect new groups to ortho-, para-positions and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peed-u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action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i.e.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o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&amp;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directors 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ctivating grou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aloge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ect new groups to ortho-, para- posi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low dow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on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i.e. halogens are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o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&amp;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directors and deactivating grou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lectron withdrawing group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as nitro, nitrile, and carbonyl direct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 to the meta-position and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reaction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own (i.e. i.e.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direct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eactivating grou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 the order of reactivity of benzene and monosubstituted benzene derivatives in E.Ar.sub. is as in the following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Substituted benzene with </a:t>
            </a:r>
            <a:r>
              <a:rPr b="1" i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o,p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 directors 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&gt;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 Benzene 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&gt; 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Halobenzene derivatives 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&gt;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  Substit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benzen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m-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 directors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23" descr=""/>
          <p:cNvPicPr/>
          <p:nvPr/>
        </p:nvPicPr>
        <p:blipFill>
          <a:blip r:embed="rId1"/>
          <a:stretch/>
        </p:blipFill>
        <p:spPr>
          <a:xfrm>
            <a:off x="100080" y="4419720"/>
            <a:ext cx="8663040" cy="6760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670" name="Picture 4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5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72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ation effects of substituents in electrophilic aromatic substitution reactions of monosubstituted Benze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676520" y="1905120"/>
          <a:ext cx="6095880" cy="16063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tho , para directo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ta directo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OH, -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NH2, -NHR, -NR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C6H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CH3, -R (alky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F, -Cl, -Br, -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NO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SO3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COOH, -CO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CHO, -C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676" name="Picture 12" descr="deactag"/>
          <p:cNvPicPr/>
          <p:nvPr/>
        </p:nvPicPr>
        <p:blipFill>
          <a:blip r:embed="rId1"/>
          <a:stretch/>
        </p:blipFill>
        <p:spPr>
          <a:xfrm>
            <a:off x="8001000" y="2057400"/>
            <a:ext cx="917640" cy="1503360"/>
          </a:xfrm>
          <a:prstGeom prst="rect">
            <a:avLst/>
          </a:prstGeom>
          <a:ln w="0">
            <a:noFill/>
          </a:ln>
        </p:spPr>
      </p:pic>
      <p:sp>
        <p:nvSpPr>
          <p:cNvPr id="677" name="Line 14"/>
          <p:cNvSpPr/>
          <p:nvPr/>
        </p:nvSpPr>
        <p:spPr>
          <a:xfrm flipV="1">
            <a:off x="7772400" y="3429000"/>
            <a:ext cx="247680" cy="270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13"/>
          <p:cNvSpPr/>
          <p:nvPr/>
        </p:nvSpPr>
        <p:spPr>
          <a:xfrm flipH="1" flipV="1">
            <a:off x="8896320" y="3429000"/>
            <a:ext cx="247680" cy="270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11" descr="actag"/>
          <p:cNvPicPr/>
          <p:nvPr/>
        </p:nvPicPr>
        <p:blipFill>
          <a:blip r:embed="rId2"/>
          <a:stretch/>
        </p:blipFill>
        <p:spPr>
          <a:xfrm>
            <a:off x="457200" y="1905120"/>
            <a:ext cx="917640" cy="1503360"/>
          </a:xfrm>
          <a:prstGeom prst="rect">
            <a:avLst/>
          </a:prstGeom>
          <a:ln w="0">
            <a:noFill/>
          </a:ln>
        </p:spPr>
      </p:pic>
      <p:sp>
        <p:nvSpPr>
          <p:cNvPr id="680" name="Line 15"/>
          <p:cNvSpPr/>
          <p:nvPr/>
        </p:nvSpPr>
        <p:spPr>
          <a:xfrm flipH="1">
            <a:off x="1371600" y="2438280"/>
            <a:ext cx="247680" cy="176400"/>
          </a:xfrm>
          <a:prstGeom prst="line">
            <a:avLst/>
          </a:prstGeom>
          <a:ln w="57240">
            <a:solidFill>
              <a:srgbClr val="cc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6"/>
          <p:cNvSpPr/>
          <p:nvPr/>
        </p:nvSpPr>
        <p:spPr>
          <a:xfrm>
            <a:off x="158760" y="2409840"/>
            <a:ext cx="247680" cy="176040"/>
          </a:xfrm>
          <a:prstGeom prst="line">
            <a:avLst/>
          </a:prstGeom>
          <a:ln w="57240">
            <a:solidFill>
              <a:srgbClr val="cc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7"/>
          <p:cNvSpPr/>
          <p:nvPr/>
        </p:nvSpPr>
        <p:spPr>
          <a:xfrm flipV="1">
            <a:off x="914400" y="3459240"/>
            <a:ext cx="0" cy="263520"/>
          </a:xfrm>
          <a:prstGeom prst="line">
            <a:avLst/>
          </a:prstGeom>
          <a:ln w="57240">
            <a:solidFill>
              <a:srgbClr val="cc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Object 33"/>
          <p:cNvGraphicFramePr/>
          <p:nvPr/>
        </p:nvGraphicFramePr>
        <p:xfrm>
          <a:off x="1066680" y="3733920"/>
          <a:ext cx="609624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4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733920"/>
                    <a:ext cx="60962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5" name="Picture 11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2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87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4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1B20-3772-4469-929A-E208839CA5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"/>
          <p:cNvPicPr/>
          <p:nvPr/>
        </p:nvPicPr>
        <p:blipFill>
          <a:blip r:embed="rId1"/>
          <a:stretch/>
        </p:blipFill>
        <p:spPr>
          <a:xfrm>
            <a:off x="228600" y="1438200"/>
            <a:ext cx="48006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1" name="Picture 14" descr=""/>
          <p:cNvPicPr/>
          <p:nvPr/>
        </p:nvPicPr>
        <p:blipFill>
          <a:blip r:embed="rId2"/>
          <a:stretch/>
        </p:blipFill>
        <p:spPr>
          <a:xfrm>
            <a:off x="5181480" y="1438200"/>
            <a:ext cx="3581640" cy="16002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692" name="Picture 4" descr=""/>
          <p:cNvPicPr/>
          <p:nvPr/>
        </p:nvPicPr>
        <p:blipFill>
          <a:blip r:embed="rId3"/>
          <a:stretch/>
        </p:blipFill>
        <p:spPr>
          <a:xfrm>
            <a:off x="2057400" y="3648240"/>
            <a:ext cx="4732200" cy="16858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693" name="Picture 5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95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8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1"/>
          <p:cNvSpPr/>
          <p:nvPr/>
        </p:nvSpPr>
        <p:spPr>
          <a:xfrm>
            <a:off x="380880" y="13716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1: What are the major products of the following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3" descr=""/>
          <p:cNvPicPr/>
          <p:nvPr/>
        </p:nvPicPr>
        <p:blipFill>
          <a:blip r:embed="rId1"/>
          <a:stretch/>
        </p:blipFill>
        <p:spPr>
          <a:xfrm>
            <a:off x="438120" y="2209680"/>
            <a:ext cx="2833560" cy="108108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2"/>
          <p:cNvSpPr/>
          <p:nvPr/>
        </p:nvSpPr>
        <p:spPr>
          <a:xfrm>
            <a:off x="152280" y="3888360"/>
            <a:ext cx="93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05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2: What is the empirical formula of the following compound: (p-methyl-Toluen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Object 33"/>
          <p:cNvGraphicFramePr/>
          <p:nvPr/>
        </p:nvGraphicFramePr>
        <p:xfrm>
          <a:off x="268200" y="4848120"/>
          <a:ext cx="7239240" cy="4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1" name="Object 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8200" y="4848120"/>
                    <a:ext cx="72392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2" name="Picture 2" descr=""/>
          <p:cNvPicPr/>
          <p:nvPr/>
        </p:nvPicPr>
        <p:blipFill>
          <a:blip r:embed="rId4"/>
          <a:stretch/>
        </p:blipFill>
        <p:spPr>
          <a:xfrm>
            <a:off x="3638520" y="2209680"/>
            <a:ext cx="4438800" cy="12384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0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705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2E6D-8C96-4232-B02B-1EFA85F20376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710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0" y="1295280"/>
            <a:ext cx="93726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3: What is the final product of the following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o-chlorobenzaldehyde    b) m-chlorobenzaldehyde    c) p-chlorobenzaldehyde   d)  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"/>
          <p:cNvSpPr/>
          <p:nvPr/>
        </p:nvSpPr>
        <p:spPr>
          <a:xfrm>
            <a:off x="228600" y="44197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4:Which one of the following compounds has aromatic charac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3"/>
          <a:stretch/>
        </p:blipFill>
        <p:spPr>
          <a:xfrm>
            <a:off x="1828800" y="4952880"/>
            <a:ext cx="4602240" cy="12304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" descr=""/>
          <p:cNvPicPr/>
          <p:nvPr/>
        </p:nvPicPr>
        <p:blipFill>
          <a:blip r:embed="rId4"/>
          <a:stretch/>
        </p:blipFill>
        <p:spPr>
          <a:xfrm>
            <a:off x="649440" y="1946160"/>
            <a:ext cx="2571480" cy="1123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Thank You for your kind attention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굴림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굴림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A5F5-E66D-4F30-A396-013380AA08A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721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1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160" y="990360"/>
            <a:ext cx="6438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Benzene : Resonance De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 Box 1032"/>
          <p:cNvSpPr/>
          <p:nvPr/>
        </p:nvSpPr>
        <p:spPr>
          <a:xfrm>
            <a:off x="228600" y="3581280"/>
            <a:ext cx="6019920" cy="27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rtl="1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Structure</a:t>
            </a:r>
            <a:r>
              <a:rPr b="1" lang="en-US" sz="24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rtl="1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ekul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uggested that benzene w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rtl="1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A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rtl="1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rtl="1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d Alternating Double And Single Bonds Thus These Double Bonds Are Described As Conjugated Bon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3"/>
          <p:cNvSpPr/>
          <p:nvPr/>
        </p:nvSpPr>
        <p:spPr>
          <a:xfrm>
            <a:off x="-25560" y="1600200"/>
            <a:ext cx="769644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nalysis revealed benzene ha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mass of 78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formula of C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517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0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" descr="benzene_CS.gif"/>
          <p:cNvPicPr/>
          <p:nvPr/>
        </p:nvPicPr>
        <p:blipFill>
          <a:blip r:embed="rId3"/>
          <a:stretch/>
        </p:blipFill>
        <p:spPr>
          <a:xfrm>
            <a:off x="5638680" y="1371600"/>
            <a:ext cx="3162600" cy="18543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220px-Frkekulé.jpg"/>
          <p:cNvPicPr/>
          <p:nvPr/>
        </p:nvPicPr>
        <p:blipFill>
          <a:blip r:embed="rId4"/>
          <a:stretch/>
        </p:blipFill>
        <p:spPr>
          <a:xfrm>
            <a:off x="6629400" y="4191120"/>
            <a:ext cx="2209680" cy="217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166F-D9AE-42EE-A640-B268566019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0" y="121932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33"/>
                </a:solidFill>
                <a:latin typeface="Times New Roman"/>
                <a:ea typeface="Majalla UI"/>
              </a:rPr>
              <a:t>However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0" lang="en-GB" sz="2400" spc="-1" strike="noStrike">
                <a:solidFill>
                  <a:srgbClr val="c00000"/>
                </a:solidFill>
                <a:latin typeface="Times New Roman"/>
                <a:ea typeface="Majalla UI"/>
              </a:rPr>
              <a:t>all bond length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in benzene to b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ajalla UI"/>
              </a:rPr>
              <a:t>equal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and intermediate between single bond  and double bond lengths (1.39 Å) and the ring is </a:t>
            </a:r>
            <a:r>
              <a:rPr b="0" lang="en-GB" sz="2400" spc="-1" strike="noStrike">
                <a:solidFill>
                  <a:srgbClr val="c00000"/>
                </a:solidFill>
                <a:latin typeface="Times New Roman"/>
                <a:ea typeface="Majalla UI"/>
              </a:rPr>
              <a:t>more sta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than exp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To explain the above, it was suggested that the structure oscillated between the two Kekulé forms but was represented by neither of them. It was a </a:t>
            </a:r>
            <a:r>
              <a:rPr b="1" lang="en-GB" sz="2400" spc="-1" strike="noStrike">
                <a:solidFill>
                  <a:srgbClr val="c00000"/>
                </a:solidFill>
                <a:latin typeface="Times New Roman"/>
                <a:ea typeface="Majalla UI"/>
              </a:rPr>
              <a:t>RESONANCE HYBRID</a:t>
            </a:r>
            <a:r>
              <a:rPr b="0" lang="en-GB" sz="2400" spc="-1" strike="noStrike">
                <a:solidFill>
                  <a:srgbClr val="cc3300"/>
                </a:solidFill>
                <a:latin typeface="Times New Roman"/>
                <a:ea typeface="Majalla UI"/>
              </a:rPr>
              <a:t> </a:t>
            </a:r>
            <a:r>
              <a:rPr b="0" lang="en-GB" sz="2400" spc="-1" strike="noStrike">
                <a:solidFill>
                  <a:srgbClr val="c00000"/>
                </a:solidFill>
                <a:latin typeface="Times New Roman"/>
                <a:ea typeface="Majalla UI"/>
              </a:rPr>
              <a:t>( average of two structures that differ only in the placement of the valence electr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525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1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" descr="Benzene_resonance_structures.png"/>
          <p:cNvPicPr/>
          <p:nvPr/>
        </p:nvPicPr>
        <p:blipFill>
          <a:blip r:embed="rId3"/>
          <a:stretch/>
        </p:blipFill>
        <p:spPr>
          <a:xfrm>
            <a:off x="838080" y="3886200"/>
            <a:ext cx="3810240" cy="2828880"/>
          </a:xfrm>
          <a:prstGeom prst="rect">
            <a:avLst/>
          </a:prstGeom>
          <a:ln w="0">
            <a:noFill/>
          </a:ln>
        </p:spPr>
      </p:pic>
      <p:sp>
        <p:nvSpPr>
          <p:cNvPr id="528" name="TextBox 2"/>
          <p:cNvSpPr/>
          <p:nvPr/>
        </p:nvSpPr>
        <p:spPr>
          <a:xfrm>
            <a:off x="1618920" y="511488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ibuting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3"/>
          <p:cNvSpPr/>
          <p:nvPr/>
        </p:nvSpPr>
        <p:spPr>
          <a:xfrm>
            <a:off x="3141360" y="6426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nance hyb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12"/>
          <p:cNvSpPr/>
          <p:nvPr/>
        </p:nvSpPr>
        <p:spPr>
          <a:xfrm>
            <a:off x="5041800" y="4857840"/>
            <a:ext cx="381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culated for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esonance hybr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o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 the energies of the two alternative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609120" y="533520"/>
            <a:ext cx="85345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9E3F-6924-43A7-933E-77A48C7050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8" descr="arom1"/>
          <p:cNvPicPr/>
          <p:nvPr/>
        </p:nvPicPr>
        <p:blipFill>
          <a:blip r:embed="rId1"/>
          <a:stretch/>
        </p:blipFill>
        <p:spPr>
          <a:xfrm>
            <a:off x="482760" y="1295280"/>
            <a:ext cx="1466640" cy="14288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9" descr="arom2"/>
          <p:cNvPicPr/>
          <p:nvPr/>
        </p:nvPicPr>
        <p:blipFill>
          <a:blip r:embed="rId2"/>
          <a:stretch/>
        </p:blipFill>
        <p:spPr>
          <a:xfrm>
            <a:off x="2712960" y="1295280"/>
            <a:ext cx="1467000" cy="14288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0" descr="arom3"/>
          <p:cNvPicPr/>
          <p:nvPr/>
        </p:nvPicPr>
        <p:blipFill>
          <a:blip r:embed="rId3"/>
          <a:stretch/>
        </p:blipFill>
        <p:spPr>
          <a:xfrm>
            <a:off x="4952880" y="1295280"/>
            <a:ext cx="1467000" cy="14288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arom4"/>
          <p:cNvPicPr/>
          <p:nvPr/>
        </p:nvPicPr>
        <p:blipFill>
          <a:blip r:embed="rId4"/>
          <a:stretch/>
        </p:blipFill>
        <p:spPr>
          <a:xfrm>
            <a:off x="7078680" y="1295280"/>
            <a:ext cx="1467000" cy="142884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3"/>
          <p:cNvSpPr/>
          <p:nvPr/>
        </p:nvSpPr>
        <p:spPr>
          <a:xfrm>
            <a:off x="2433600" y="3005280"/>
            <a:ext cx="20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ne way to overl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djacent p orb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6983280" y="3005280"/>
            <a:ext cx="18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localised 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rbita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5"/>
          <p:cNvSpPr/>
          <p:nvPr/>
        </p:nvSpPr>
        <p:spPr>
          <a:xfrm>
            <a:off x="4979880" y="300528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533520" y="3124080"/>
            <a:ext cx="16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ingle b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7" descr="arom5"/>
          <p:cNvPicPr/>
          <p:nvPr/>
        </p:nvPicPr>
        <p:blipFill>
          <a:blip r:embed="rId5"/>
          <a:stretch/>
        </p:blipFill>
        <p:spPr>
          <a:xfrm>
            <a:off x="1066680" y="4191120"/>
            <a:ext cx="2417760" cy="15634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3" descr="arom6"/>
          <p:cNvPicPr/>
          <p:nvPr/>
        </p:nvPicPr>
        <p:blipFill>
          <a:blip r:embed="rId6"/>
          <a:stretch/>
        </p:blipFill>
        <p:spPr>
          <a:xfrm>
            <a:off x="3886200" y="3962520"/>
            <a:ext cx="4567320" cy="19508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3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4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545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6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559E-4A79-4926-A0D7-4258BE40AE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0" y="762120"/>
            <a:ext cx="5638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Characteristics of Aromatic Compoun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152280" y="1434960"/>
            <a:ext cx="8382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 cloud delocalized all over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resonance picture this helps to explain  lack of reactivity of benzene (substitution not addition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0" descr="http://www.armstrongwynne.org/images/resonan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2959200"/>
            <a:ext cx="5867280" cy="16128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551" name="TextBox 5"/>
          <p:cNvSpPr/>
          <p:nvPr/>
        </p:nvSpPr>
        <p:spPr>
          <a:xfrm>
            <a:off x="304920" y="47242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Majalla UI"/>
              </a:rPr>
              <a:t>Aromatic compoun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are compounds that resemble benzene in chemical behavior thus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Majalla UI"/>
              </a:rPr>
              <a:t>they tend to react by substit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rather than by addition and fulfill the aromaticity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7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554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9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haracteristics of Aromatic Compounds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12600" y="1676520"/>
            <a:ext cx="91440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Majalla UI"/>
              </a:rPr>
              <a:t>To be classified as aromatic, a compound must have</a:t>
            </a: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Majalla U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Cyclic struc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Planar struc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Each  atom of the ring must have a p orbital to form  a delocalized π system i.e. no atoms in the ring can be 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ajalla U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hybridized instead all atoms must be 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ajalla U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hybridized (N.B. carbocation and carbanions are 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ajalla U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hybridized or an unshared pair electron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Times New Roman"/>
              <a:buAutoNum type="arabicParenR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Fulfill Huckel rule i.e. the system must have  4n + 2 pi electrons 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thus by calculating n value it will be an integral number i.e. n=0, 1, 2, 3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3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560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1"/>
          <p:cNvSpPr/>
          <p:nvPr/>
        </p:nvSpPr>
        <p:spPr>
          <a:xfrm>
            <a:off x="2188440" y="121932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Examples of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romatic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35"/>
          <p:cNvGraphicFramePr/>
          <p:nvPr/>
        </p:nvGraphicFramePr>
        <p:xfrm>
          <a:off x="1298520" y="1676520"/>
          <a:ext cx="639756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1676520"/>
                    <a:ext cx="639756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5" name="Picture 3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567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8205-1361-4122-B868-AE31542C77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1698480" y="121932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Examples of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n aromatic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Object 33"/>
          <p:cNvGraphicFramePr/>
          <p:nvPr/>
        </p:nvGraphicFramePr>
        <p:xfrm>
          <a:off x="609480" y="1905120"/>
          <a:ext cx="8156520" cy="39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815652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3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575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dc:language>en-US</dc:language>
  <cp:lastModifiedBy>new wave</cp:lastModifiedBy>
  <dcterms:modified xsi:type="dcterms:W3CDTF">2016-01-26T18:27:22Z</dcterms:modified>
  <cp:revision>142</cp:revision>
  <dc:subject/>
  <dc:title>TYPES OF HYBRIDIZATION AND GEOMETRY OF MOLECULES</dc:title>
</cp:coreProperties>
</file>