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6.jpeg" ContentType="image/jpeg"/>
  <Override PartName="/ppt/media/image15.png" ContentType="image/png"/>
  <Override PartName="/ppt/media/image17.wmf" ContentType="image/x-wmf"/>
  <Override PartName="/ppt/media/image9.png" ContentType="image/png"/>
  <Override PartName="/ppt/media/image44.jpeg" ContentType="image/jpeg"/>
  <Override PartName="/ppt/media/image11.png" ContentType="image/png"/>
  <Override PartName="/ppt/media/image38.jpeg" ContentType="image/jpeg"/>
  <Override PartName="/ppt/media/image31.wmf" ContentType="image/x-wmf"/>
  <Override PartName="/ppt/media/image35.gif" ContentType="image/gif"/>
  <Override PartName="/ppt/media/image40.png" ContentType="image/png"/>
  <Override PartName="/ppt/media/image42.jpeg" ContentType="image/jpeg"/>
  <Override PartName="/ppt/media/image14.png" ContentType="image/png"/>
  <Override PartName="/ppt/media/image34.gif" ContentType="image/gif"/>
  <Override PartName="/ppt/media/image30.wmf" ContentType="image/x-wmf"/>
  <Override PartName="/ppt/media/image43.png" ContentType="image/png"/>
  <Override PartName="/ppt/media/image36.wmf" ContentType="image/x-wmf"/>
  <Override PartName="/ppt/media/image1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28.wmf" ContentType="image/x-wmf"/>
  <Override PartName="/ppt/media/image37.jpeg" ContentType="image/jpeg"/>
  <Override PartName="/ppt/media/image41.wmf" ContentType="image/x-wmf"/>
  <Override PartName="/ppt/media/image39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BEED-2676-46B1-B89C-2957AB865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608-B4C4-4E95-8398-9A19270BFA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EA9-AFD5-458D-AC5C-9527B75B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DF6-3BE0-4186-9EAA-721529B9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C0BE9-A756-4080-9B0F-4B76B8D4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74315-ACE7-4F51-8C14-7EE86817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A9279-45E7-4A32-BE33-E5FA7E26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F3ED1-4B4F-495C-AF11-C3582C23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407EF-D68D-4850-B932-D92AC0AC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E8B40-B9B8-4559-AB63-5EEAD6F9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0F2C9-E5ED-43C7-9B62-5957CD0E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9E6EF-12A9-4FEC-AC33-2F2F9203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69B7F-226C-49B0-AE31-0BAE5897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A90E6-8576-4D84-9C49-63B2CF44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0634-FBB9-4DF1-9271-D0B627CB5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3D29B-D362-4023-B63C-1C93DDFB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01411-9149-40C4-8500-47D0EB7C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1A0D8-D244-464A-ACB6-E851DA9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B2489-66B1-425C-8644-C62B692D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E0DC0-0E87-4657-9ABC-EE594ED8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6DDD7-EBFF-453C-86C5-DD528856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A07A8-867F-49C5-8763-F126ECAB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16847-5ED0-4917-B9E3-D23C4B80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A6B99-A96A-48C2-B7EC-987148CC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090E6-18DC-4914-84BB-53E28563B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502-366B-4ECF-B6E8-3B46B544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162AE-3E60-42AB-9ED7-FDCF312D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8A99D-15C4-4E3E-AB58-7FE9781D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CBE43-F900-459C-BC4A-B39A2102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D8738-908F-4262-8CDF-22F05B94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6F20-A52C-4689-9796-F3150635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29ACD-031D-4309-95A9-2FB70078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F336-3DAB-4821-A599-22CDA54F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E6977-BC4A-4854-BE15-C6D68DB7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6415F-4A1D-4C72-8F85-4634417D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5E0D1-FC2C-4B0B-BAC9-9549418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8BA3-19B8-4FAE-AC29-373FEB32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AD086-3C70-4AA2-978E-CBFB897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BEC31-C311-422E-B4E3-608D7397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7509D-EB10-4232-8F18-86F307A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37FD6-AD4D-426E-BD72-B949AA93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D0273-5E9A-4782-8690-1C2BCDE0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3789D-95A4-42F4-9BCA-CBF6FB5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70319-AB3C-46C5-88DC-BC70911F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C5D92-1BEA-4D81-8AC7-AE0D198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EE488-4A68-44BF-BB82-6CB479C3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8477C-FA7D-4550-B863-4FA966A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20D6-0590-4FBB-A833-06B6C722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3F699-A047-4484-BCB8-DC4E4EBF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2BE61-B5AC-4A68-AF19-01D78FC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01924-9B45-4AC1-8F39-FC1C5A9B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46236-5B69-4185-91CE-68EDFA1E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D2C76-4465-481C-AD77-499C30E0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1980-F81A-4306-808B-BD3BA66F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743E-50AF-4CA7-BC44-3DDB701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8920-EFFF-41AE-A9B5-118CDAF6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2DE3-36CF-45CC-841E-8B5210F0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F278-AECE-49BE-8EAB-28CC859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0F2-89D3-40C3-AD8A-32BEB531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4FC0-938A-4C5F-A75B-48682BAC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F5CF-88C5-4D8A-BB3C-B3883F1D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8F7F-12AF-43D5-8D05-919E909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32B-1B45-46CB-AE9B-2E34B6E6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7DF6-F0C2-4790-84F3-B080FC4E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07D1-1D43-43BB-B361-81D7C45F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E04AB-EFC0-497E-B235-AC404B93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7639-4902-473D-88D7-0F232268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8114-B269-40B1-9292-FB98A9EF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0E96-88F7-453A-BE22-6130E4B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FC3-3ED2-4AF7-AEE5-9F261AC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9357-63E8-4578-82F6-CE462C4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99D23-7708-40CE-ADC3-6DF8591E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C28B5-5557-482C-B613-3C8C365E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5F04-3C8E-4102-84FE-A02A55B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72AF-6952-4BD6-8C7D-DC5B8A03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F0DD-9BCE-4CD9-B78D-64A44622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9782-AC6C-4298-A4E3-D854DA5F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B9986-4BC6-44DE-B64D-5EE8F17E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D6D8D-66CB-4038-A064-DEB8401F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A7E0-696F-4D94-B592-140159A4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0B7-3A71-4E23-A8B7-FF3EE7DC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78B7A-439B-40E2-95BE-8D55BC25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DA64F-E141-4143-AFCC-3BE272A2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501BC-F9D6-4533-824B-2336E5EA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60824-36AE-4B1F-AC91-B863A782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AC939-329A-4E0E-BC77-D662549D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B214-27B0-4D66-BDA9-CFFF91F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1D551-3F27-4C76-B791-F4B380AD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03005-33B0-4D34-8D1B-AE28F144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4DCD8-3BB5-4293-9E23-6DF81047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2003A-E670-4755-BB06-F7396D5E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71E-104C-4C46-A4E2-50E5ABC9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1CA65-2899-4063-887B-96458DC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B278-C233-4B83-9A50-78BCC19E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466CC-099D-43B1-8D16-B96CDA2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A078D-C0A4-4E6C-86B9-C99E5AB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BF5D-D28E-4343-AFB3-FA5F97B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8F149-8945-4269-AE7E-5536F761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D9A78-CD59-4F65-8F4B-683A4B16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FF16-DBC0-4F42-BA75-DC59702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5581-5B64-4E12-97EA-E6E45C7A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5513D-A04A-47AF-926E-55BA74DB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521-6E9A-44FC-9E03-E412413B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09FCE-B743-4C9C-BB82-8F8C35FB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4703E-EAE6-486D-A6E2-0260E80C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21814-E09B-4924-908A-1B47A5D4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6705-5017-4415-80C7-5965038C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8E806-85A0-4F18-AF99-535565DF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CE56F-4875-4A02-BA4F-863C1793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12C51-9FAB-4184-933B-54613540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03D6-B719-44C2-8AA2-106E9402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CF98D-E817-4DC9-ABA6-4FDB737B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04AA-E4D7-4AAA-B33A-3C86DDD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B0F-6B8B-41DA-A3B7-2280C952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6AEE6-2721-4636-8ACC-98306D94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56199-160B-434B-8044-A6401565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55D2A-4667-4034-9F39-FFE1D6CC5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4AB0F-CC60-4A28-8094-E9F3BEE2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5054-9F74-4B49-BBFC-FCCBE183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82128-6BC4-4510-B2F8-6CC9458A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7FC0-62A3-4DBD-B4A5-59C25967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D3513-8916-4CA4-93FF-F673CF26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B76A9-6BAB-4053-AF8F-EE55C8EE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FC88-5B97-4F74-B5F6-D301DEFE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95A-7306-4D3D-AB25-24EF5BE6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C5319-62D3-4570-B912-F3FA8D35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72B81-14C1-4D86-A29E-311D1A31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01199-A805-4826-B21A-95DACFD0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AAA29-E82E-4D7C-AEFA-C35EF045A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26028-90FB-49FF-833B-793C42DF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2D794-4432-457A-9F80-C41569AC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3C651-2C79-4D1D-970E-3D5C44CA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A2428-9358-447F-A96A-40FBD826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DA21E-E8FB-4891-8E31-05813920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7F0F-2409-4196-833C-B4F989F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9EEE-9B15-4B00-93CD-D5049C16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9B7B-AD67-4571-BADD-D42AA2C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4F450-746B-4F88-A816-81AED8F0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5A76D-2931-418E-B2A5-C08F7C43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0AEE9-0F2B-48E5-93FE-4194F3F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ACE3E-736B-4132-98C4-4B49B131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992BA-CC39-4619-811D-24F62C56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6842B-DAD8-4A8A-9EA1-2F564D1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A63F5-77C2-42E1-92DF-0A0E2340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8C7C5-F41B-4B21-82CE-9689E42F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60223-BB4F-4E3C-8705-8D65D82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5CA1-445D-4F7D-B3E0-0EE986EA3F0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0525-3EA0-472E-8074-43FB1143AA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8C16-5C72-4336-8126-084DDFBE1DD1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B06F-4C66-4B1F-A0DC-D623AC526B22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7C3-6E13-4C88-8513-29CAAC58B4F2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AFD6-54D4-45C8-8401-D0DE2E20B49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64AA-803F-4527-9B1B-A2090FB61BE6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C4EA-615B-418C-9EC5-191EDA8F99B0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5F98-662B-47B3-9403-51DB3D645FD5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DA4C-7147-4159-B5BD-6C9F4DB7A44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536-8222-446B-AD6F-6F93D604656B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BF2-9379-4E9A-8A87-2BF9537BA2FF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5A2C-A69C-461B-AFCD-A3A123F1A4BB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849B-B892-4431-B925-38D844289BF5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411-90C4-4724-AD07-6B294A83904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C99D-8638-40F8-802E-04D0D6C560A4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8418-121F-4E72-B040-56824A1229F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81B0-B587-46D2-BE3C-D1CA7EFB58FD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EC7-3369-4768-875E-E212C349F48A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FF51-05B7-4E3F-89FA-48DD73F1F5F3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7399-B586-4C2E-B363-45BF48D4BBA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F59-B9F1-4851-A826-218724ABC89B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16A6-4CAB-4585-9FCA-7B520ABE511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7FCC-2C38-49B0-A855-0055E2C26D4E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Kekul&#233;%20forms&amp;source=images&amp;cd=&amp;cad=rja&amp;docid=2AC10bqPPyjpdM&amp;tbnid=0Zbv5oEXk3MtFM:&amp;ved=0CAUQjRw&amp;url=http://www.armstrongwynne.org/benzene.html&amp;ei=NHYwUf3JK4fK0AXug4GgAg&amp;psig=AFQjCNFtbOFa5t_0CD30TybCiITdY8j0qQ&amp;ust=1362216851894962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WordArt 4"/>
          <p:cNvSpPr/>
          <p:nvPr/>
        </p:nvSpPr>
        <p:spPr>
          <a:xfrm>
            <a:off x="1066680" y="22096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501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" descr="300px-Benzene-aromaticity-3D-balls.png"/>
          <p:cNvPicPr/>
          <p:nvPr/>
        </p:nvPicPr>
        <p:blipFill>
          <a:blip r:embed="rId3"/>
          <a:stretch/>
        </p:blipFill>
        <p:spPr>
          <a:xfrm>
            <a:off x="2514600" y="2705040"/>
            <a:ext cx="3809880" cy="217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-228960" y="8377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Aromatic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1. Monosubstituted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Majalla UI"/>
              </a:rPr>
              <a:t>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33"/>
                </a:solidFill>
                <a:uFillTx/>
                <a:latin typeface="Times New Roman"/>
                <a:ea typeface="Majalla UI"/>
              </a:rPr>
              <a:t>a. IUPAC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0" y="2286000"/>
            <a:ext cx="8991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named as derivatives of benze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ide group is named as a prefix in front of the word benze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umber is needed for mono-substituted benz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Object 33"/>
          <p:cNvGraphicFramePr/>
          <p:nvPr/>
        </p:nvGraphicFramePr>
        <p:xfrm>
          <a:off x="533520" y="4038480"/>
          <a:ext cx="7696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038480"/>
                    <a:ext cx="76960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8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FD91-A990-4CC5-BC9B-520EDC2C4C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6"/>
          <p:cNvSpPr/>
          <p:nvPr/>
        </p:nvSpPr>
        <p:spPr>
          <a:xfrm>
            <a:off x="0" y="1143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ne ring has priority over :side chains with alkyl, alkoxy groups, halogens, double and  triple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0"/>
          <p:cNvSpPr/>
          <p:nvPr/>
        </p:nvSpPr>
        <p:spPr>
          <a:xfrm>
            <a:off x="0" y="3581280"/>
            <a:ext cx="8991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ome cases the side chains on aromatic ring contain functional groups of higher priorities 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H, CHO,C=O, COOH, COOR) thus in this case the aromatic ring will be considered as a substituent  and the side chain will be used to give the root name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wo aromatic radials ar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Object 57"/>
          <p:cNvGraphicFramePr/>
          <p:nvPr/>
        </p:nvGraphicFramePr>
        <p:xfrm>
          <a:off x="2590920" y="5486400"/>
          <a:ext cx="293832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5486400"/>
                    <a:ext cx="2938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58"/>
          <p:cNvGraphicFramePr/>
          <p:nvPr/>
        </p:nvGraphicFramePr>
        <p:xfrm>
          <a:off x="152280" y="2133720"/>
          <a:ext cx="876312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133720"/>
                    <a:ext cx="8763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3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95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7"/>
          <p:cNvSpPr/>
          <p:nvPr/>
        </p:nvSpPr>
        <p:spPr>
          <a:xfrm>
            <a:off x="0" y="3300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33"/>
                </a:solidFill>
                <a:uFillTx/>
                <a:latin typeface="Times New Roman"/>
                <a:ea typeface="Times New Roman"/>
              </a:rPr>
              <a:t>b. Common Names Of Mono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34"/>
          <p:cNvGraphicFramePr/>
          <p:nvPr/>
        </p:nvGraphicFramePr>
        <p:xfrm>
          <a:off x="665280" y="4197240"/>
          <a:ext cx="7196040" cy="15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4197240"/>
                    <a:ext cx="7196040" cy="15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0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1"/>
          <p:cNvSpPr/>
          <p:nvPr/>
        </p:nvSpPr>
        <p:spPr>
          <a:xfrm>
            <a:off x="441360" y="1066680"/>
            <a:ext cx="82454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aryl group (Ar) is the aromatic group that remains after removal of hydrogen Atom from an aromatic ring. When the benzene ring is named as substituent, it is called a phenyl group (often abbreviated P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nzyl group (the phenyl methyl group) is the seven carbon unit consisting of benzene ring and methylene (-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741-D018-439D-83EB-DC867331A25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57200" y="1004760"/>
            <a:ext cx="8205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ydrocarbon composed of one saturated chain and one benzene ring is usually named as a derivative of the larger structural unit. However, if the chain is unsaturated compound may be named as a derivative of that chain, regardless of ring size. The following ar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0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0" descr="Screen Clipping"/>
          <p:cNvPicPr/>
          <p:nvPr/>
        </p:nvPicPr>
        <p:blipFill>
          <a:blip r:embed="rId3"/>
          <a:srcRect l="5890" t="0" r="9771" b="0"/>
          <a:stretch/>
        </p:blipFill>
        <p:spPr>
          <a:xfrm>
            <a:off x="1093680" y="3046320"/>
            <a:ext cx="6942240" cy="14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8"/>
          <p:cNvSpPr/>
          <p:nvPr/>
        </p:nvSpPr>
        <p:spPr>
          <a:xfrm>
            <a:off x="0" y="135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isubstituted benzenes (two groups are attached to benzene), can give rise to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ree possible positional iso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"/>
          <p:cNvSpPr/>
          <p:nvPr/>
        </p:nvSpPr>
        <p:spPr>
          <a:xfrm>
            <a:off x="0" y="3809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substituents are different, they are of equal priorities they will should be  listed in alphabetical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3"/>
          <p:cNvSpPr/>
          <p:nvPr/>
        </p:nvSpPr>
        <p:spPr>
          <a:xfrm>
            <a:off x="35640" y="914400"/>
            <a:ext cx="84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omenclature of Disubstituted and poly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Object 57"/>
          <p:cNvGraphicFramePr/>
          <p:nvPr/>
        </p:nvGraphicFramePr>
        <p:xfrm>
          <a:off x="1143000" y="2133720"/>
          <a:ext cx="60958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0958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58"/>
          <p:cNvGraphicFramePr/>
          <p:nvPr/>
        </p:nvGraphicFramePr>
        <p:xfrm>
          <a:off x="457200" y="4648320"/>
          <a:ext cx="83059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8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648320"/>
                    <a:ext cx="83059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2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0" y="3276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one of the substituents is part of a parent compound, then the disubstituted or polysubstituted benzene is named as a derivative of that parent compound i.e. priorities determine the root name and substitu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Object 57"/>
          <p:cNvGraphicFramePr/>
          <p:nvPr/>
        </p:nvGraphicFramePr>
        <p:xfrm>
          <a:off x="914400" y="1219320"/>
          <a:ext cx="663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5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19320"/>
                    <a:ext cx="663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58"/>
          <p:cNvGraphicFramePr/>
          <p:nvPr/>
        </p:nvGraphicFramePr>
        <p:xfrm>
          <a:off x="457200" y="4876920"/>
          <a:ext cx="8534520" cy="17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7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876920"/>
                    <a:ext cx="85345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8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3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19a7bc"/>
                </a:solidFill>
                <a:latin typeface="Times New Roman"/>
                <a:ea typeface="Times New Roman"/>
              </a:rPr>
              <a:t>Electrophilic Aromatic Substitution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3" name="Object 33"/>
          <p:cNvGraphicFramePr/>
          <p:nvPr/>
        </p:nvGraphicFramePr>
        <p:xfrm>
          <a:off x="1143000" y="2057400"/>
          <a:ext cx="72388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2388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3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"/>
          <p:cNvSpPr/>
          <p:nvPr/>
        </p:nvSpPr>
        <p:spPr>
          <a:xfrm>
            <a:off x="7560" y="10666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541920" cy="5106960"/>
          </a:xfrm>
          <a:prstGeom prst="rect">
            <a:avLst/>
          </a:prstGeom>
          <a:ln w="0">
            <a:noFill/>
          </a:ln>
        </p:spPr>
      </p:pic>
      <p:sp>
        <p:nvSpPr>
          <p:cNvPr id="6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6E6-E670-43B4-8D22-48068087A7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6562080" y="44956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ophen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45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-289440" y="685800"/>
            <a:ext cx="9448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Side-Chain Reactions of Aromatic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1752120"/>
            <a:ext cx="693432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a.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Majalla UI"/>
              </a:rPr>
              <a:t> Halogenation of an Alkyl Side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Object 58"/>
          <p:cNvGraphicFramePr/>
          <p:nvPr/>
        </p:nvGraphicFramePr>
        <p:xfrm>
          <a:off x="457200" y="2590920"/>
          <a:ext cx="76438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76438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Rectangle 6"/>
          <p:cNvSpPr/>
          <p:nvPr/>
        </p:nvSpPr>
        <p:spPr>
          <a:xfrm>
            <a:off x="10080" y="121932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3152"/>
                </a:solidFill>
                <a:uFillTx/>
                <a:latin typeface="Times New Roman"/>
                <a:ea typeface="Times New Roman"/>
              </a:rPr>
              <a:t>1)Haloge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Object 59"/>
          <p:cNvGraphicFramePr/>
          <p:nvPr/>
        </p:nvGraphicFramePr>
        <p:xfrm>
          <a:off x="1371600" y="4343400"/>
          <a:ext cx="560088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3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343400"/>
                    <a:ext cx="5600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4" name="Picture 7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8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56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06C-0B08-454E-94A3-2630B7F8551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E864-F8AD-4898-94A8-4040636D39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مربع نص 5"/>
          <p:cNvSpPr/>
          <p:nvPr/>
        </p:nvSpPr>
        <p:spPr>
          <a:xfrm>
            <a:off x="15120" y="114300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.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Oxidation of an Alkyl Sid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1" name="Object 35"/>
          <p:cNvGraphicFramePr/>
          <p:nvPr/>
        </p:nvGraphicFramePr>
        <p:xfrm>
          <a:off x="457200" y="2070000"/>
          <a:ext cx="74311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70000"/>
                    <a:ext cx="74311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3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6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0" y="1676520"/>
            <a:ext cx="899172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e description of structure of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hybridization in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relation between the stability of benzene and resonanc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criteria of aromaticit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Hucke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enclature rules of aromatic compounds and know the Common names of some 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reactivity of aromatic compounds, know what are electrophil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know the four types of electrophilic aromatic substitution reactions (halogenation, Freidel Crafts alkylation and acylation, nitration and  Sulfonatio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tions of alkyl side chains of aromatic compounds (halogenation, oxid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 the orientation and reactivity of E.A.S reactions in monosubstituted benzene derivativ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1"/>
          <p:cNvSpPr/>
          <p:nvPr/>
        </p:nvSpPr>
        <p:spPr>
          <a:xfrm>
            <a:off x="23040" y="126216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y the end of chapter four the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1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عنوان 1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Orientation effects of substituents in electrophilic aromatic substitution reactions of monosubstituted Benz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0" y="16556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lkyl groups and groups with lone pairs (electron donating group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 new groups to ortho-, para-positions and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peed-u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i.e.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 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Haloge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rect new groups to ortho-, para- posi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low d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i.e. halogens are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&amp;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 and de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lectron withdrawing 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ch as nitro, nitrile, and carbonyl direct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 to the meta-position and 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action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own (i.e. i.e.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directo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eactivating grou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order of reactivity of benzene and monosubstituted benzene derivatives in E.Ar.sub. is as in the following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Substituted benzene with </a:t>
            </a:r>
            <a:r>
              <a:rPr b="1" i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o,p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directors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Benzen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 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Halobenzene derivatives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Substit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benzen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m-</a:t>
            </a:r>
            <a:r>
              <a:rPr b="1" lang="en-US" sz="18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 directors</a:t>
            </a: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Picture 23" descr=""/>
          <p:cNvPicPr/>
          <p:nvPr/>
        </p:nvPicPr>
        <p:blipFill>
          <a:blip r:embed="rId1"/>
          <a:stretch/>
        </p:blipFill>
        <p:spPr>
          <a:xfrm>
            <a:off x="100080" y="4419720"/>
            <a:ext cx="8663040" cy="67608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670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72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tion effects of substituents in electrophilic aromatic substitution reactions of monosubstituted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676520" y="1905120"/>
          <a:ext cx="6095880" cy="16063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rtho , para direct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ta direct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76092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OH, -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NH2, -NHR, -NR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6H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H3, -R (alky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F, -Cl, -Br, -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NO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SO3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OOH, -CO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HO, -C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C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676" name="Picture 12" descr="deactag"/>
          <p:cNvPicPr/>
          <p:nvPr/>
        </p:nvPicPr>
        <p:blipFill>
          <a:blip r:embed="rId1"/>
          <a:stretch/>
        </p:blipFill>
        <p:spPr>
          <a:xfrm>
            <a:off x="8001000" y="2057400"/>
            <a:ext cx="917640" cy="1503360"/>
          </a:xfrm>
          <a:prstGeom prst="rect">
            <a:avLst/>
          </a:prstGeom>
          <a:ln w="0">
            <a:noFill/>
          </a:ln>
        </p:spPr>
      </p:pic>
      <p:sp>
        <p:nvSpPr>
          <p:cNvPr id="677" name="Line 14"/>
          <p:cNvSpPr/>
          <p:nvPr/>
        </p:nvSpPr>
        <p:spPr>
          <a:xfrm flipV="1">
            <a:off x="7772400" y="3429000"/>
            <a:ext cx="247680" cy="270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13"/>
          <p:cNvSpPr/>
          <p:nvPr/>
        </p:nvSpPr>
        <p:spPr>
          <a:xfrm flipH="1" flipV="1">
            <a:off x="8896320" y="3429000"/>
            <a:ext cx="247680" cy="270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11" descr="actag"/>
          <p:cNvPicPr/>
          <p:nvPr/>
        </p:nvPicPr>
        <p:blipFill>
          <a:blip r:embed="rId2"/>
          <a:stretch/>
        </p:blipFill>
        <p:spPr>
          <a:xfrm>
            <a:off x="457200" y="1905120"/>
            <a:ext cx="917640" cy="1503360"/>
          </a:xfrm>
          <a:prstGeom prst="rect">
            <a:avLst/>
          </a:prstGeom>
          <a:ln w="0">
            <a:noFill/>
          </a:ln>
        </p:spPr>
      </p:pic>
      <p:sp>
        <p:nvSpPr>
          <p:cNvPr id="680" name="Line 15"/>
          <p:cNvSpPr/>
          <p:nvPr/>
        </p:nvSpPr>
        <p:spPr>
          <a:xfrm flipH="1">
            <a:off x="1371600" y="2438280"/>
            <a:ext cx="247680" cy="17640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6"/>
          <p:cNvSpPr/>
          <p:nvPr/>
        </p:nvSpPr>
        <p:spPr>
          <a:xfrm>
            <a:off x="158760" y="2409840"/>
            <a:ext cx="247680" cy="17604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7"/>
          <p:cNvSpPr/>
          <p:nvPr/>
        </p:nvSpPr>
        <p:spPr>
          <a:xfrm flipV="1">
            <a:off x="914400" y="3459240"/>
            <a:ext cx="0" cy="263520"/>
          </a:xfrm>
          <a:prstGeom prst="line">
            <a:avLst/>
          </a:prstGeom>
          <a:ln w="57240">
            <a:solidFill>
              <a:srgbClr val="cc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Object 33"/>
          <p:cNvGraphicFramePr/>
          <p:nvPr/>
        </p:nvGraphicFramePr>
        <p:xfrm>
          <a:off x="1066680" y="3733920"/>
          <a:ext cx="609624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4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733920"/>
                    <a:ext cx="60962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87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BF0A-EDAF-4D4C-ACFE-58C0363D44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228600" y="1438200"/>
            <a:ext cx="48006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1" name="Picture 14" descr=""/>
          <p:cNvPicPr/>
          <p:nvPr/>
        </p:nvPicPr>
        <p:blipFill>
          <a:blip r:embed="rId2"/>
          <a:stretch/>
        </p:blipFill>
        <p:spPr>
          <a:xfrm>
            <a:off x="5181480" y="1438200"/>
            <a:ext cx="3581640" cy="160020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92" name="Picture 4" descr=""/>
          <p:cNvPicPr/>
          <p:nvPr/>
        </p:nvPicPr>
        <p:blipFill>
          <a:blip r:embed="rId3"/>
          <a:stretch/>
        </p:blipFill>
        <p:spPr>
          <a:xfrm>
            <a:off x="2057400" y="3648240"/>
            <a:ext cx="4732200" cy="168588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pic>
        <p:nvPicPr>
          <p:cNvPr id="693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9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1"/>
          <p:cNvSpPr/>
          <p:nvPr/>
        </p:nvSpPr>
        <p:spPr>
          <a:xfrm>
            <a:off x="380880" y="1371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1: What are the major products of the following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438120" y="2209680"/>
            <a:ext cx="2833560" cy="108108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2"/>
          <p:cNvSpPr/>
          <p:nvPr/>
        </p:nvSpPr>
        <p:spPr>
          <a:xfrm>
            <a:off x="152280" y="3888360"/>
            <a:ext cx="937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2: What is the empirical formula of the following compound: (p-methyl-Tolue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Object 33"/>
          <p:cNvGraphicFramePr/>
          <p:nvPr/>
        </p:nvGraphicFramePr>
        <p:xfrm>
          <a:off x="268200" y="4848120"/>
          <a:ext cx="7239240" cy="4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8200" y="4848120"/>
                    <a:ext cx="7239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2" name="Picture 2" descr=""/>
          <p:cNvPicPr/>
          <p:nvPr/>
        </p:nvPicPr>
        <p:blipFill>
          <a:blip r:embed="rId4"/>
          <a:stretch/>
        </p:blipFill>
        <p:spPr>
          <a:xfrm>
            <a:off x="3638520" y="2209680"/>
            <a:ext cx="4438800" cy="1238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0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ADF-5107-4D8A-987C-A9A2FF6C069F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1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0" y="1295280"/>
            <a:ext cx="93726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3: What is the final product of the following rea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o-chlorobenzaldehyde    b) m-chlorobenzaldehyde    c) p-chlorobenzaldehyde   d)  a,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"/>
          <p:cNvSpPr/>
          <p:nvPr/>
        </p:nvSpPr>
        <p:spPr>
          <a:xfrm>
            <a:off x="228600" y="4419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4:Which one of the following compounds has aromatic charac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3"/>
          <a:stretch/>
        </p:blipFill>
        <p:spPr>
          <a:xfrm>
            <a:off x="1828800" y="4952880"/>
            <a:ext cx="4602240" cy="123048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1" descr=""/>
          <p:cNvPicPr/>
          <p:nvPr/>
        </p:nvPicPr>
        <p:blipFill>
          <a:blip r:embed="rId4"/>
          <a:stretch/>
        </p:blipFill>
        <p:spPr>
          <a:xfrm>
            <a:off x="649440" y="1946160"/>
            <a:ext cx="2571480" cy="112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C20-7DCB-4B84-86D1-6F6E10ECF1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1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160" y="990360"/>
            <a:ext cx="6438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nzene : Resonance Descri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032"/>
          <p:cNvSpPr/>
          <p:nvPr/>
        </p:nvSpPr>
        <p:spPr>
          <a:xfrm>
            <a:off x="228600" y="3581280"/>
            <a:ext cx="601992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Structure</a:t>
            </a:r>
            <a:r>
              <a:rPr b="1" lang="en-US" sz="2400" spc="-1" strike="noStrike">
                <a:solidFill>
                  <a:srgbClr val="d5059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ekul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uggested that benzene 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A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rtl="1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d Alternating Double And Single Bonds Thus These Double Bonds Are Described As Conjugated Bon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3"/>
          <p:cNvSpPr/>
          <p:nvPr/>
        </p:nvSpPr>
        <p:spPr>
          <a:xfrm>
            <a:off x="-25560" y="1600200"/>
            <a:ext cx="769644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analysis revealed benzene ha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mass of 78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formula of C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1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0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benzene_CS.gif"/>
          <p:cNvPicPr/>
          <p:nvPr/>
        </p:nvPicPr>
        <p:blipFill>
          <a:blip r:embed="rId3"/>
          <a:stretch/>
        </p:blipFill>
        <p:spPr>
          <a:xfrm>
            <a:off x="5638680" y="1371600"/>
            <a:ext cx="3162600" cy="18543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3" descr="220px-Frkekulé.jpg"/>
          <p:cNvPicPr/>
          <p:nvPr/>
        </p:nvPicPr>
        <p:blipFill>
          <a:blip r:embed="rId4"/>
          <a:stretch/>
        </p:blipFill>
        <p:spPr>
          <a:xfrm>
            <a:off x="6629400" y="4191120"/>
            <a:ext cx="2209680" cy="217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FB5D-4F00-41D9-938C-756703FC24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0" y="121932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33"/>
                </a:solidFill>
                <a:latin typeface="Times New Roman"/>
                <a:ea typeface="Majalla UI"/>
              </a:rPr>
              <a:t>However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all bond length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in benzene to b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Majalla UI"/>
              </a:rPr>
              <a:t>equal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and intermediate between single bond  and double bond lengths (1.39 Å) and the ring is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more sta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than exp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8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To explain the above, it was suggested that the structure oscillated between the two Kekulé forms but was represented by neither of them. It was a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RESONANCE HYBRID</a:t>
            </a:r>
            <a:r>
              <a:rPr b="0" lang="en-GB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 </a:t>
            </a: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Majalla UI"/>
              </a:rPr>
              <a:t>( average of two structures that differ only in the placement of the valence electr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25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" descr="Benzene_resonance_structures.png"/>
          <p:cNvPicPr/>
          <p:nvPr/>
        </p:nvPicPr>
        <p:blipFill>
          <a:blip r:embed="rId3"/>
          <a:stretch/>
        </p:blipFill>
        <p:spPr>
          <a:xfrm>
            <a:off x="838080" y="3886200"/>
            <a:ext cx="3810240" cy="2828880"/>
          </a:xfrm>
          <a:prstGeom prst="rect">
            <a:avLst/>
          </a:prstGeom>
          <a:ln w="0">
            <a:noFill/>
          </a:ln>
        </p:spPr>
      </p:pic>
      <p:sp>
        <p:nvSpPr>
          <p:cNvPr id="528" name="TextBox 2"/>
          <p:cNvSpPr/>
          <p:nvPr/>
        </p:nvSpPr>
        <p:spPr>
          <a:xfrm>
            <a:off x="1618920" y="5114880"/>
            <a:ext cx="25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ibuting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3141360" y="642636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nance hyb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2"/>
          <p:cNvSpPr/>
          <p:nvPr/>
        </p:nvSpPr>
        <p:spPr>
          <a:xfrm>
            <a:off x="5041800" y="4857840"/>
            <a:ext cx="381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ed for a 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resonance hybr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he energies of the two alternativ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609120" y="533520"/>
            <a:ext cx="85345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580-AC3A-4D48-8B0A-939189A9DB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8" descr="arom1"/>
          <p:cNvPicPr/>
          <p:nvPr/>
        </p:nvPicPr>
        <p:blipFill>
          <a:blip r:embed="rId1"/>
          <a:stretch/>
        </p:blipFill>
        <p:spPr>
          <a:xfrm>
            <a:off x="482760" y="1295280"/>
            <a:ext cx="1466640" cy="1428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9" descr="arom2"/>
          <p:cNvPicPr/>
          <p:nvPr/>
        </p:nvPicPr>
        <p:blipFill>
          <a:blip r:embed="rId2"/>
          <a:stretch/>
        </p:blipFill>
        <p:spPr>
          <a:xfrm>
            <a:off x="2712960" y="1295280"/>
            <a:ext cx="1467000" cy="1428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0" descr="arom3"/>
          <p:cNvPicPr/>
          <p:nvPr/>
        </p:nvPicPr>
        <p:blipFill>
          <a:blip r:embed="rId3"/>
          <a:stretch/>
        </p:blipFill>
        <p:spPr>
          <a:xfrm>
            <a:off x="4952880" y="1295280"/>
            <a:ext cx="1467000" cy="14288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1" descr="arom4"/>
          <p:cNvPicPr/>
          <p:nvPr/>
        </p:nvPicPr>
        <p:blipFill>
          <a:blip r:embed="rId4"/>
          <a:stretch/>
        </p:blipFill>
        <p:spPr>
          <a:xfrm>
            <a:off x="7078680" y="1295280"/>
            <a:ext cx="1467000" cy="14288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3"/>
          <p:cNvSpPr/>
          <p:nvPr/>
        </p:nvSpPr>
        <p:spPr>
          <a:xfrm>
            <a:off x="2433600" y="3005280"/>
            <a:ext cx="20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ne way to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djacent p orbi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6983280" y="3005280"/>
            <a:ext cx="18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elocalised 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orbit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"/>
          <p:cNvSpPr/>
          <p:nvPr/>
        </p:nvSpPr>
        <p:spPr>
          <a:xfrm>
            <a:off x="4979880" y="300528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533520" y="31240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ingle b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7" descr="arom5"/>
          <p:cNvPicPr/>
          <p:nvPr/>
        </p:nvPicPr>
        <p:blipFill>
          <a:blip r:embed="rId5"/>
          <a:stretch/>
        </p:blipFill>
        <p:spPr>
          <a:xfrm>
            <a:off x="1066680" y="4191120"/>
            <a:ext cx="2417760" cy="15634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3" descr="arom6"/>
          <p:cNvPicPr/>
          <p:nvPr/>
        </p:nvPicPr>
        <p:blipFill>
          <a:blip r:embed="rId6"/>
          <a:stretch/>
        </p:blipFill>
        <p:spPr>
          <a:xfrm>
            <a:off x="3886200" y="3962520"/>
            <a:ext cx="4567320" cy="1950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45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14C-0336-40CA-BC80-349DC2B1EB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762120"/>
            <a:ext cx="5638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Characteristics of Aromatic Compoun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52280" y="1434960"/>
            <a:ext cx="83822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 cloud delocalized all over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esonance picture this helps to explain  lack of reactivity of benzene (substitution not addition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10" descr="http://www.armstrongwynne.org/images/resonan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959200"/>
            <a:ext cx="5867280" cy="161280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sp>
        <p:nvSpPr>
          <p:cNvPr id="551" name="TextBox 5"/>
          <p:cNvSpPr/>
          <p:nvPr/>
        </p:nvSpPr>
        <p:spPr>
          <a:xfrm>
            <a:off x="304920" y="47242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Aromatic compound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are compounds that resemble benzene in chemical behavior thus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Majalla UI"/>
              </a:rPr>
              <a:t>they tend to react by substitu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rather than by addition and fulfill the aromaticity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5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haracteristics of Aromatic Compounds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12600" y="1676520"/>
            <a:ext cx="91440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Majalla UI"/>
              </a:rPr>
              <a:t>To be classified as aromatic, a compound must have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Majalla UI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Cyclic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Planar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Each  atom of the ring must have a p orbital to form  a delocalized π system i.e. no atoms in the ring can b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instead all atoms must b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(N.B. carbocation and carbanions are s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Majalla U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hybridized or an unshared pair electron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Font typeface="Times New Roman"/>
              <a:buAutoNum type="arabicParenR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Fulfill Huckel rule i.e. the system must have  4n + 2 pi electrons 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ajalla UI"/>
              </a:rPr>
              <a:t>thus by calculating n value it will be an integral number i.e. n=0, 1, 2, 3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60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1"/>
          <p:cNvSpPr/>
          <p:nvPr/>
        </p:nvSpPr>
        <p:spPr>
          <a:xfrm>
            <a:off x="2188440" y="121932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 of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35"/>
          <p:cNvGraphicFramePr/>
          <p:nvPr/>
        </p:nvGraphicFramePr>
        <p:xfrm>
          <a:off x="1298520" y="1676520"/>
          <a:ext cx="639756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1676520"/>
                    <a:ext cx="63975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6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6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C4B3-A9DE-4920-B813-25207BFAE8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1698480" y="12193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aromatic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Object 33"/>
          <p:cNvGraphicFramePr/>
          <p:nvPr/>
        </p:nvGraphicFramePr>
        <p:xfrm>
          <a:off x="609480" y="1905120"/>
          <a:ext cx="815652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815652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3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575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006000" y="45720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matic com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18:27:22Z</dcterms:modified>
  <cp:revision>142</cp:revision>
  <dc:subject/>
  <dc:title>TYPES OF HYBRIDIZATION AND GEOMETRY OF MOLECULES</dc:title>
</cp:coreProperties>
</file>