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8.wmf" ContentType="image/x-wmf"/>
  <Override PartName="/ppt/media/image33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38.wmf" ContentType="image/x-wmf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2.wmf" ContentType="image/x-wmf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Franklin Gothic Book"/>
                <a:ea typeface="MS P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6631-7C4B-4DC8-B265-74EFA0BD1988}" type="datetime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Franklin Gothic Book"/>
                <a:ea typeface="MS P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408A-EEC0-408B-89E2-4E247E1808A7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64E9-C18C-49E8-9F02-6E00E11A59A6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00E7-0D49-4BC3-8B83-D3E75B82F55E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CD33-8153-455E-9FEF-DE0947D9B10B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A0B1-8E3C-4B8B-8083-E385E46AE452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86F3-CD21-4F2D-A927-75A9F12A8AA0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225F-3789-440D-BCB5-43F6BF83CF8D}" type="slidenum">
              <a:rPr b="0" lang="en-US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Header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D2B4-E4DC-4695-B8DE-F967CFD88635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10E4-541A-407A-A925-C0F45C956EB5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1887-256F-4F1A-8A67-5494EC4EECBE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CB54-1AFA-4151-8D40-02420AE24BB7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EBB1-3F2C-4142-877D-2C95317196AE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0223-B072-4EED-8E6D-6298E080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8FC-7190-4034-AD79-354CB0E9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D4A-009E-47C9-BE51-A6053306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AF3-3CCD-46F9-8F43-D9399A7B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DE520-A37B-4288-A63F-759FC1D9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3AB64-4894-4285-B0D8-22183358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0B7EF-D588-44BA-831D-3A706234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56028-0B68-4C18-B377-87DEBF28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F883F-A1DA-4CCD-A795-5D2D6C84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0C49F-D04E-4DE9-8CC2-4E3AA208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24355-594D-485B-8BC5-AC26C5CB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8AB-5873-4266-8516-D97E247F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FE0F4-B048-4B9C-A828-77B733A1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FF151-17D3-4ED9-887F-03C348A4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38F09-C19E-43AF-9A9C-39222FBD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C4520-1550-44A3-9680-E9DE5A64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B2A9E-42D2-4934-B4CC-8488F09A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6BB9-77AE-4F16-B7BC-060741E9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B9C5F-B33E-4B09-A4B5-905D85D1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7801F-D2E9-41A2-8225-998B8E21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16F37-2BC3-4084-BF05-1AFD7693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35F80-5235-44B1-8FA9-0F6F01D2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967-4493-46D0-8450-05842F83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D0F0B-E8DD-40F5-BE74-F74A037B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4689E-6E58-42C6-AE7B-392399C5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67471-6DAE-4091-9F8A-BF0D69E9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252F9-7A9F-439C-93B5-91D6E4BB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17DA-A648-4A42-AFAC-103CFFFD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A6C2-A3CE-4507-9A63-C8947461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F49DD-DCA1-401A-91BD-5BBD3AE9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5C8E9-679B-4108-B890-6DCCB802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341C2-B29C-42AE-B273-87804411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8A1E5-8BB5-4A09-932E-8CAB5726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8A9-77D7-4915-A722-ECFD9F4B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56073-8AEC-4B1A-BB8F-F4F93B8E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8E360-337D-414B-A0C5-CB64C56D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BF466-B8E5-4879-A62D-2690DDAD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11076-C580-423C-B7EF-B7CEA9F1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F8886-57FB-47CA-A004-2D5346E5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B7180-E725-403B-96F8-55E1DAD9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85773-C749-4E79-AEC9-091719D9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17E45-9709-4FD0-A362-7DE74C12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3C76-DA02-48CC-9402-F2C80242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B92DA-46DB-4020-AE12-F6C74D86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ED9-D446-40B4-ADAB-30DBD00C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ECA4D-29DF-4912-B7D4-78ED4BA0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D5169-6711-401C-9B0A-86F68059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5B120-5341-46A1-93FD-D1B9267D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F7AE4-8C21-46B9-9E7A-7F57BED6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45CC6-903B-4AC2-BA7D-70FC0E56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BEEB8-4C20-4161-BABF-7273050E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4F7A7-4CB7-46E3-B6D4-25267861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EA5E4-524E-48B9-9E9D-513D192F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1DEC8-B4E3-4BEC-987B-CE8ACBDF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9BE08-5B98-464E-9821-6505D998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22D-5972-438A-8E75-557C6BE0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2E3B6-7942-4CAD-9091-122F951A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B6D-98FB-49EA-99E0-43BF095B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B67-2D13-482A-9115-E6FAE8F8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635-A35E-4EF9-AE0B-8781FD1A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14E1-843D-4193-BB72-AB044123D4CB}" type="datetime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64D6-974C-4FC7-8A5A-173868C39A17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E297-A637-4911-A3B1-1930720B2879}" type="datetime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6CA4-E7BD-4866-AF1A-C4B34BA91F0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E1B5-2585-4347-B4CA-4293A8753E94}" type="datetime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374D-528D-44C8-AF89-4B8B2397E4EF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6A66-64BC-4211-9319-C3C5F6681E78}" type="datetime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A159-9568-4D6B-98F4-5AE066C525A4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F620-74C1-4609-BC78-B25F897A4325}" type="datetime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3084-7816-4860-9F1C-BEE15FE41D6D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image" Target="../media/image5.png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image" Target="../media/image5.pn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49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.wmf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2360880" y="2063880"/>
            <a:ext cx="416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Alkyl Hali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6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7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7F1B-825C-41F4-A2E0-75B1A03DE157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229" name="Straight Connector 10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" descr="100px-Chloromethane-3D-balls.png"/>
          <p:cNvPicPr/>
          <p:nvPr/>
        </p:nvPicPr>
        <p:blipFill>
          <a:blip r:embed="rId3"/>
          <a:stretch/>
        </p:blipFill>
        <p:spPr>
          <a:xfrm rot="2217000">
            <a:off x="3203280" y="3499920"/>
            <a:ext cx="2663640" cy="21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BEB0-9292-44DC-9C5B-06C890F6056A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66480" y="1076040"/>
            <a:ext cx="877716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2- Conversion of alcohols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graphicFrame>
        <p:nvGraphicFramePr>
          <p:cNvPr id="353" name="Object 174"/>
          <p:cNvGraphicFramePr/>
          <p:nvPr/>
        </p:nvGraphicFramePr>
        <p:xfrm>
          <a:off x="2808360" y="1413000"/>
          <a:ext cx="277164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1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8360" y="1413000"/>
                    <a:ext cx="277164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175"/>
          <p:cNvGraphicFramePr/>
          <p:nvPr/>
        </p:nvGraphicFramePr>
        <p:xfrm>
          <a:off x="642960" y="2928960"/>
          <a:ext cx="671832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Object 17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2928960"/>
                    <a:ext cx="67183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176"/>
          <p:cNvGraphicFramePr/>
          <p:nvPr/>
        </p:nvGraphicFramePr>
        <p:xfrm>
          <a:off x="539640" y="3824280"/>
          <a:ext cx="5038920" cy="74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8" name="Object 17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824280"/>
                    <a:ext cx="50389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177"/>
          <p:cNvGraphicFramePr/>
          <p:nvPr/>
        </p:nvGraphicFramePr>
        <p:xfrm>
          <a:off x="468360" y="5772240"/>
          <a:ext cx="3213000" cy="65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0" name="Object 1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5772240"/>
                    <a:ext cx="321300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78"/>
          <p:cNvGraphicFramePr/>
          <p:nvPr/>
        </p:nvGraphicFramePr>
        <p:xfrm>
          <a:off x="539640" y="4653000"/>
          <a:ext cx="3745080" cy="93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2" name="Object 17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4653000"/>
                    <a:ext cx="3745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179"/>
          <p:cNvGraphicFramePr/>
          <p:nvPr/>
        </p:nvGraphicFramePr>
        <p:xfrm>
          <a:off x="1090440" y="2492280"/>
          <a:ext cx="5857920" cy="412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4" name="Object 17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0440" y="2492280"/>
                    <a:ext cx="58579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80"/>
          <p:cNvGraphicFramePr/>
          <p:nvPr/>
        </p:nvGraphicFramePr>
        <p:xfrm>
          <a:off x="4137120" y="5514840"/>
          <a:ext cx="4541760" cy="1089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6" name="Object 18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37120" y="5514840"/>
                    <a:ext cx="4541760" cy="1089000"/>
                  </a:xfrm>
                  <a:prstGeom prst="rect">
                    <a:avLst/>
                  </a:prstGeom>
                  <a:ln w="12600">
                    <a:solidFill>
                      <a:srgbClr val="000080"/>
                    </a:solidFill>
                    <a:prstDash val="dash"/>
                    <a:miter/>
                  </a:ln>
                </p:spPr>
              </p:pic>
            </p:oleObj>
          </a:graphicData>
        </a:graphic>
      </p:graphicFrame>
      <p:pic>
        <p:nvPicPr>
          <p:cNvPr id="367" name="Picture 14" descr="ksulogo2.png"/>
          <p:cNvPicPr/>
          <p:nvPr/>
        </p:nvPicPr>
        <p:blipFill>
          <a:blip r:embed="rId1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images.jpeg"/>
          <p:cNvPicPr/>
          <p:nvPr/>
        </p:nvPicPr>
        <p:blipFill>
          <a:blip r:embed="rId1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69" name="Straight Connector 1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06992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Reactions of Organic Halides</a:t>
            </a:r>
            <a:endParaRPr b="0" lang="en-US" sz="2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15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1- Nucleophilic Subtitution</a:t>
            </a:r>
            <a:r>
              <a:rPr b="0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Reactions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,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,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OR,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,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,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, 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3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7DCE-6364-4D7E-A12F-F4919C1A2077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Object 140"/>
          <p:cNvGraphicFramePr/>
          <p:nvPr/>
        </p:nvGraphicFramePr>
        <p:xfrm>
          <a:off x="1000080" y="1932120"/>
          <a:ext cx="6632640" cy="42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1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932120"/>
                    <a:ext cx="663264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141"/>
          <p:cNvGraphicFramePr/>
          <p:nvPr/>
        </p:nvGraphicFramePr>
        <p:xfrm>
          <a:off x="324000" y="3087720"/>
          <a:ext cx="823896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Object 1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087720"/>
                    <a:ext cx="82389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142"/>
          <p:cNvGraphicFramePr/>
          <p:nvPr/>
        </p:nvGraphicFramePr>
        <p:xfrm>
          <a:off x="676440" y="4071960"/>
          <a:ext cx="4903560" cy="9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Object 14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440" y="4071960"/>
                    <a:ext cx="490356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143"/>
          <p:cNvGraphicFramePr/>
          <p:nvPr/>
        </p:nvGraphicFramePr>
        <p:xfrm>
          <a:off x="1062000" y="5086440"/>
          <a:ext cx="4157640" cy="71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2" name="Object 14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2000" y="5086440"/>
                    <a:ext cx="41576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144"/>
          <p:cNvGraphicFramePr/>
          <p:nvPr/>
        </p:nvGraphicFramePr>
        <p:xfrm>
          <a:off x="5508720" y="2349360"/>
          <a:ext cx="1058760" cy="38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4" name="Object 14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8720" y="2349360"/>
                    <a:ext cx="105876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5" name="Picture 15" descr="ksulogo2.png"/>
          <p:cNvPicPr/>
          <p:nvPr/>
        </p:nvPicPr>
        <p:blipFill>
          <a:blip r:embed="rId1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6" descr="images.jpeg"/>
          <p:cNvPicPr/>
          <p:nvPr/>
        </p:nvPicPr>
        <p:blipFill>
          <a:blip r:embed="rId1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87" name="Straight Connector 1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8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oter Placeholder 5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6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ED5C-C998-45A2-A286-8753C2971B23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7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93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52"/>
          <p:cNvGraphicFramePr/>
          <p:nvPr/>
        </p:nvGraphicFramePr>
        <p:xfrm>
          <a:off x="2266920" y="1341360"/>
          <a:ext cx="3889440" cy="5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6920" y="1341360"/>
                    <a:ext cx="38894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53"/>
          <p:cNvGraphicFramePr/>
          <p:nvPr/>
        </p:nvGraphicFramePr>
        <p:xfrm>
          <a:off x="2411280" y="2205000"/>
          <a:ext cx="4140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2205000"/>
                    <a:ext cx="4140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54"/>
          <p:cNvGraphicFramePr/>
          <p:nvPr/>
        </p:nvGraphicFramePr>
        <p:xfrm>
          <a:off x="1332000" y="3865680"/>
          <a:ext cx="5543640" cy="230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Object 5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3865680"/>
                    <a:ext cx="554364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261360" y="1052640"/>
            <a:ext cx="32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Times New Roman"/>
              </a:rPr>
              <a:t>2- Elimination</a:t>
            </a:r>
            <a:r>
              <a:rPr b="0" sz="2400" spc="-1" strike="noStrike">
                <a:solidFill>
                  <a:srgbClr val="00009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0"/>
                </a:solidFill>
                <a:latin typeface="Times New Roman"/>
              </a:rPr>
              <a:t>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AAAF-4C94-4543-8FBB-DF858B7157D6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9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406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Object 41"/>
          <p:cNvGraphicFramePr/>
          <p:nvPr/>
        </p:nvGraphicFramePr>
        <p:xfrm>
          <a:off x="639720" y="1789200"/>
          <a:ext cx="7524720" cy="36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720" y="1789200"/>
                    <a:ext cx="7524720" cy="36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95280" y="83664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3- Reaction of Grignard reagen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- Formation of Grignard reagen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- Reaction of Grignard reagen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1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E27D-36A7-4687-8E6B-0A885C1AA9D9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Object 71"/>
          <p:cNvGraphicFramePr/>
          <p:nvPr/>
        </p:nvGraphicFramePr>
        <p:xfrm>
          <a:off x="1143000" y="1700280"/>
          <a:ext cx="636444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7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00280"/>
                    <a:ext cx="63644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72"/>
          <p:cNvGraphicFramePr/>
          <p:nvPr/>
        </p:nvGraphicFramePr>
        <p:xfrm>
          <a:off x="1403280" y="3440160"/>
          <a:ext cx="5643720" cy="18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Object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3440160"/>
                    <a:ext cx="564372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7" name="Picture 10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419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3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73"/>
          <p:cNvGraphicFramePr/>
          <p:nvPr/>
        </p:nvGraphicFramePr>
        <p:xfrm>
          <a:off x="1116000" y="5162400"/>
          <a:ext cx="6120000" cy="150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Object 7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5162400"/>
                    <a:ext cx="612000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a7bc"/>
                </a:solidFill>
                <a:latin typeface="Times New Roman"/>
              </a:rPr>
              <a:t>Thank You for your kind attention !</a:t>
            </a:r>
            <a:endParaRPr b="0" lang="en-US" sz="28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굴림"/>
              </a:rPr>
              <a:t>Questions?</a:t>
            </a: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굴림"/>
              </a:rPr>
              <a:t>Comments</a:t>
            </a: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5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2976-E669-42DB-BCAC-AE0AE272929E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428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D587-23E6-4AC0-91D8-28B77D406A94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6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3"/>
          <a:stretch/>
        </p:blipFill>
        <p:spPr>
          <a:xfrm>
            <a:off x="7920" y="1989000"/>
            <a:ext cx="9067680" cy="3202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95C3-45F6-4E08-A0B3-99AA1A764E0B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ontent Placeholder 2"/>
          <p:cNvSpPr/>
          <p:nvPr/>
        </p:nvSpPr>
        <p:spPr>
          <a:xfrm>
            <a:off x="228600" y="4437000"/>
            <a:ext cx="8486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X and R-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X : Primary alkyl hal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H-X : Secondary alkyl hal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-X : Tertiary alkyl hal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0" y="765000"/>
            <a:ext cx="87152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lasses and Names of Halogen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431640" y="125748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According to hydrocarbon gp.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228600" y="1690560"/>
            <a:ext cx="8763120" cy="36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Alkyl halides( R-X) : has a halogen atom bonded to one s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ybri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Allylic halides : has a halogen atom bonded to one s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ybri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-Vinylic halides:has a halogen atom bonded to one s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ybri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Benzylic halides:has a halogen atom bonded to Carbone one away from aromatic 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-Aryl halides : has a halogen atom bonded directly to an aromatic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1. Alkyl halides( R-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5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6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7" name="Straight Connector 1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71280" y="1197000"/>
          <a:ext cx="8964720" cy="5173560"/>
        </p:xfrm>
        <a:graphic>
          <a:graphicData uri="http://schemas.openxmlformats.org/drawingml/2006/table">
            <a:tbl>
              <a:tblPr/>
              <a:tblGrid>
                <a:gridCol w="1258920"/>
                <a:gridCol w="2017800"/>
                <a:gridCol w="2509920"/>
                <a:gridCol w="3178080"/>
              </a:tblGrid>
              <a:tr h="685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b050"/>
                          </a:solidFill>
                          <a:uFillTx/>
                          <a:latin typeface="Palatino Linotype"/>
                        </a:rPr>
                        <a:t>1-Alkyl halid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b050"/>
                          </a:solidFill>
                          <a:uFillTx/>
                          <a:latin typeface="Palatino Linotype"/>
                        </a:rPr>
                        <a:t>( R-X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800000"/>
                          </a:solidFill>
                          <a:latin typeface="Palatino Linotype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-C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800000"/>
                          </a:solidFill>
                          <a:latin typeface="Palatino Linotype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-CH</a:t>
                      </a:r>
                      <a:r>
                        <a:rPr b="1" lang="en-US" sz="1800" spc="-1" strike="noStrike" baseline="-25000">
                          <a:solidFill>
                            <a:srgbClr val="800000"/>
                          </a:solidFill>
                          <a:latin typeface="Palatino Linotype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-B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800000"/>
                          </a:solidFill>
                          <a:latin typeface="Palatino Linotype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800000"/>
                          </a:solidFill>
                          <a:latin typeface="Palatino Linotype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-CH-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Comm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ethyl Chlori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Ethyl bromi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sopropyl flu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IUPA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hlorometh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romoetha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-Fluoroprop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Cla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°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yclohexyl Iodi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t.Butyl bromi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ethylcyclopentyl chlori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IUPA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odocyclohex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-Bromo-2-methylpropa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-Chloro-1-methylcyclopent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Cla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°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Footer Placeholder 3"/>
          <p:cNvSpPr/>
          <p:nvPr/>
        </p:nvSpPr>
        <p:spPr>
          <a:xfrm>
            <a:off x="662040" y="637704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7"/>
          <p:cNvSpPr/>
          <p:nvPr/>
        </p:nvSpPr>
        <p:spPr>
          <a:xfrm>
            <a:off x="8547120" y="637704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2800-5F25-48AC-8ECE-7A7B03BBF9FE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81"/>
          <p:cNvGraphicFramePr/>
          <p:nvPr/>
        </p:nvGraphicFramePr>
        <p:xfrm>
          <a:off x="3735360" y="3673440"/>
          <a:ext cx="1143000" cy="9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5360" y="3673440"/>
                    <a:ext cx="11430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82"/>
          <p:cNvGraphicFramePr/>
          <p:nvPr/>
        </p:nvGraphicFramePr>
        <p:xfrm>
          <a:off x="6923160" y="3633840"/>
          <a:ext cx="90972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Object 8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3160" y="3633840"/>
                    <a:ext cx="9097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83"/>
          <p:cNvGraphicFramePr/>
          <p:nvPr/>
        </p:nvGraphicFramePr>
        <p:xfrm>
          <a:off x="1763640" y="3789360"/>
          <a:ext cx="981000" cy="79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Object 8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3789360"/>
                    <a:ext cx="981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Picture 11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2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0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AD9E-4839-4499-B5F9-436864714D0B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550960" y="944640"/>
            <a:ext cx="32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Times New Roman"/>
              </a:rPr>
              <a:t>3-Allyl halides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2340000" y="1484280"/>
            <a:ext cx="2414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=C-C-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2340000" y="1989000"/>
            <a:ext cx="244800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CH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yl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-Chloro-1-prop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106"/>
          <p:cNvGraphicFramePr/>
          <p:nvPr/>
        </p:nvGraphicFramePr>
        <p:xfrm>
          <a:off x="7308720" y="1700280"/>
          <a:ext cx="733680" cy="80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10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1700280"/>
                    <a:ext cx="7336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9"/>
          <p:cNvSpPr/>
          <p:nvPr/>
        </p:nvSpPr>
        <p:spPr>
          <a:xfrm>
            <a:off x="6659640" y="2565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Chlorocyclopent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0" y="3141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Times New Roman"/>
              </a:rPr>
              <a:t>4-Benzylic ha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050920" y="3141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imes New Roman"/>
              </a:rPr>
              <a:t>Ar-C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107"/>
          <p:cNvGraphicFramePr/>
          <p:nvPr/>
        </p:nvGraphicFramePr>
        <p:xfrm>
          <a:off x="698400" y="3508200"/>
          <a:ext cx="1817640" cy="107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10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400" y="3508200"/>
                    <a:ext cx="18176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24"/>
          <p:cNvSpPr/>
          <p:nvPr/>
        </p:nvSpPr>
        <p:spPr>
          <a:xfrm>
            <a:off x="179280" y="4365720"/>
            <a:ext cx="24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nzyl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108"/>
          <p:cNvGraphicFramePr/>
          <p:nvPr/>
        </p:nvGraphicFramePr>
        <p:xfrm>
          <a:off x="5003640" y="1851120"/>
          <a:ext cx="115272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Object 10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1851120"/>
                    <a:ext cx="11527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16"/>
          <p:cNvSpPr/>
          <p:nvPr/>
        </p:nvSpPr>
        <p:spPr>
          <a:xfrm>
            <a:off x="0" y="973080"/>
            <a:ext cx="39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Times New Roman"/>
              </a:rPr>
              <a:t>2-Vinylic ha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4761720" y="257184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mocyclohex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8"/>
          <p:cNvSpPr/>
          <p:nvPr/>
        </p:nvSpPr>
        <p:spPr>
          <a:xfrm>
            <a:off x="250920" y="1557360"/>
            <a:ext cx="1728720" cy="398880"/>
          </a:xfrm>
          <a:prstGeom prst="rect">
            <a:avLst/>
          </a:prstGeom>
          <a:noFill/>
          <a:ln w="936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=C-X</a:t>
            </a: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9"/>
          <p:cNvSpPr/>
          <p:nvPr/>
        </p:nvSpPr>
        <p:spPr>
          <a:xfrm>
            <a:off x="95400" y="2060640"/>
            <a:ext cx="2100240" cy="1050480"/>
          </a:xfrm>
          <a:prstGeom prst="rect">
            <a:avLst/>
          </a:prstGeom>
          <a:noFill/>
          <a:ln w="936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=CHB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nyl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Bromoeth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63440" y="4807080"/>
            <a:ext cx="26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Times New Roman"/>
              </a:rPr>
              <a:t>5-Aryl halides:</a:t>
            </a: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963800" y="4735440"/>
            <a:ext cx="50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-X     (X directly attached to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09"/>
          <p:cNvGraphicFramePr/>
          <p:nvPr/>
        </p:nvGraphicFramePr>
        <p:xfrm>
          <a:off x="468360" y="5102280"/>
          <a:ext cx="4467240" cy="111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Object 10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5102280"/>
                    <a:ext cx="446724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Text Box 8"/>
          <p:cNvSpPr/>
          <p:nvPr/>
        </p:nvSpPr>
        <p:spPr>
          <a:xfrm>
            <a:off x="179280" y="605484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lorobenzene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Bromo tolue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6279480" y="981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No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4" descr="ksulogo2.png"/>
          <p:cNvPicPr/>
          <p:nvPr/>
        </p:nvPicPr>
        <p:blipFill>
          <a:blip r:embed="rId9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" descr="images.jpeg"/>
          <p:cNvPicPr/>
          <p:nvPr/>
        </p:nvPicPr>
        <p:blipFill>
          <a:blip r:embed="rId10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9" name="Straight Connector 2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7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2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6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6E96-FFAE-4D3F-827E-1CECC24964A3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71280" y="9478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HYSICAL PROPERTIES OF ORGANIC HALIDES</a:t>
            </a:r>
            <a:endParaRPr b="0" lang="en-US" sz="2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612800"/>
            <a:ext cx="8569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rganic halides are insoluble in water and soluble in common organic solvents.</a:t>
            </a:r>
            <a:endParaRPr b="0" lang="en-US" sz="22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 alkyl halide, the halogen is more electronegative that carbon</a:t>
            </a:r>
            <a:endParaRPr b="0" lang="en-US" sz="22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iling points increases with increasing in molecular  weights. </a:t>
            </a:r>
            <a:endParaRPr b="0" lang="en-US" sz="22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6389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3891f"/>
                </a:solidFill>
                <a:latin typeface="Times New Roman"/>
                <a:ea typeface="Times New Roman"/>
              </a:rPr>
              <a:t>Alkyl halides have higher melting point than the corresponding alkanes, alkenes, and alkynes because:</a:t>
            </a:r>
            <a:endParaRPr b="0" lang="en-US" sz="2200" spc="-1" strike="noStrike">
              <a:solidFill>
                <a:srgbClr val="7f7f7f"/>
              </a:solidFill>
              <a:latin typeface="Tahoma"/>
            </a:endParaRPr>
          </a:p>
          <a:p>
            <a:pPr lvl="2" marL="557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olarity            </a:t>
            </a:r>
            <a:endParaRPr b="0" lang="en-US" sz="2200" spc="-1" strike="noStrike">
              <a:solidFill>
                <a:srgbClr val="7f7f7f"/>
              </a:solidFill>
              <a:latin typeface="Tahoma"/>
            </a:endParaRPr>
          </a:p>
          <a:p>
            <a:pPr lvl="2" marL="557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Molecular weight  </a:t>
            </a:r>
            <a:r>
              <a:rPr b="1" lang="en-US" sz="1800" spc="-1" strike="noStrike">
                <a:solidFill>
                  <a:srgbClr val="2f5897"/>
                </a:solidFill>
                <a:latin typeface="Tahoma"/>
                <a:ea typeface="Tahoma"/>
              </a:rPr>
              <a:t>(</a:t>
            </a:r>
            <a:r>
              <a:rPr b="1" lang="en-US" sz="1800" spc="-1" strike="noStrike">
                <a:solidFill>
                  <a:srgbClr val="2f5897"/>
                </a:solidFill>
                <a:latin typeface="Tahoma"/>
              </a:rPr>
              <a:t>In series of halides BP.    F &lt;Cl &lt;Br &lt;I)</a:t>
            </a:r>
            <a:endParaRPr b="0" lang="en-US" sz="1800" spc="-1" strike="noStrike">
              <a:solidFill>
                <a:srgbClr val="7f7f7f"/>
              </a:solidFill>
              <a:latin typeface="Tahoma"/>
            </a:endParaRPr>
          </a:p>
        </p:txBody>
      </p:sp>
      <p:pic>
        <p:nvPicPr>
          <p:cNvPr id="295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7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2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5091-CAB0-4BB2-B98B-A6FE809E0C9F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503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EPARATION OF HALOGEN COMPOUNDS</a:t>
            </a:r>
            <a:endParaRPr b="0" lang="en-US" sz="2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1197000"/>
            <a:ext cx="91440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1- Direct halogenation of hydrocarbons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- Halogenation of alkanes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- Halogenation of alkenes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graphicFrame>
        <p:nvGraphicFramePr>
          <p:cNvPr id="303" name="Object 102"/>
          <p:cNvGraphicFramePr/>
          <p:nvPr/>
        </p:nvGraphicFramePr>
        <p:xfrm>
          <a:off x="1143000" y="2062080"/>
          <a:ext cx="616572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10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2080"/>
                    <a:ext cx="61657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103"/>
          <p:cNvGraphicFramePr/>
          <p:nvPr/>
        </p:nvGraphicFramePr>
        <p:xfrm>
          <a:off x="1763640" y="2565360"/>
          <a:ext cx="4680000" cy="4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Object 10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565360"/>
                    <a:ext cx="4680000" cy="403200"/>
                  </a:xfrm>
                  <a:prstGeom prst="rect">
                    <a:avLst/>
                  </a:prstGeom>
                  <a:ln w="9360">
                    <a:solidFill>
                      <a:srgbClr val="6076b4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7" name="Object 104"/>
          <p:cNvGraphicFramePr/>
          <p:nvPr/>
        </p:nvGraphicFramePr>
        <p:xfrm>
          <a:off x="900000" y="3429000"/>
          <a:ext cx="7056720" cy="17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Object 10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3429000"/>
                    <a:ext cx="70567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9" name="Picture 11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11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105"/>
          <p:cNvGraphicFramePr/>
          <p:nvPr/>
        </p:nvGraphicFramePr>
        <p:xfrm>
          <a:off x="826920" y="5143680"/>
          <a:ext cx="657252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4" name="Object 10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5143680"/>
                    <a:ext cx="6572520" cy="446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5" name="Text Box 7"/>
          <p:cNvSpPr/>
          <p:nvPr/>
        </p:nvSpPr>
        <p:spPr>
          <a:xfrm>
            <a:off x="900000" y="6154560"/>
            <a:ext cx="687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=CH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7"/>
          <p:cNvSpPr/>
          <p:nvPr/>
        </p:nvSpPr>
        <p:spPr>
          <a:xfrm>
            <a:off x="1158840" y="5651640"/>
            <a:ext cx="570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=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Cl</a:t>
            </a:r>
            <a:r>
              <a:rPr b="0" lang="en-US" sz="1800" spc="-1" strike="noStrike" baseline="-25000">
                <a:solidFill>
                  <a:srgbClr val="00b0f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18"/>
          <p:cNvCxnSpPr/>
          <p:nvPr/>
        </p:nvCxnSpPr>
        <p:spPr>
          <a:xfrm>
            <a:off x="3348000" y="5866920"/>
            <a:ext cx="100872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318" name="TextBox 19"/>
          <p:cNvSpPr/>
          <p:nvPr/>
        </p:nvSpPr>
        <p:spPr>
          <a:xfrm>
            <a:off x="3575880" y="55706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0"/>
          <p:cNvSpPr/>
          <p:nvPr/>
        </p:nvSpPr>
        <p:spPr>
          <a:xfrm>
            <a:off x="3647160" y="608328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21"/>
          <p:cNvCxnSpPr/>
          <p:nvPr/>
        </p:nvCxnSpPr>
        <p:spPr>
          <a:xfrm>
            <a:off x="3386160" y="5874840"/>
            <a:ext cx="100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1" name="Straight Arrow Connector 22"/>
          <p:cNvCxnSpPr/>
          <p:nvPr/>
        </p:nvCxnSpPr>
        <p:spPr>
          <a:xfrm>
            <a:off x="3459240" y="6381360"/>
            <a:ext cx="100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AAE6-C25D-4D78-A0B5-E15C5C5AD858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3"/>
          <p:cNvCxnSpPr/>
          <p:nvPr/>
        </p:nvCxnSpPr>
        <p:spPr>
          <a:xfrm>
            <a:off x="3780000" y="2491920"/>
            <a:ext cx="100872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325" name="Rectangle 3"/>
          <p:cNvSpPr/>
          <p:nvPr/>
        </p:nvSpPr>
        <p:spPr>
          <a:xfrm>
            <a:off x="0" y="87948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Franklin Gothic Book"/>
                <a:ea typeface="Tahoma"/>
              </a:rPr>
              <a:t>c- Halogenation of alky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55"/>
          <p:cNvGraphicFramePr/>
          <p:nvPr/>
        </p:nvGraphicFramePr>
        <p:xfrm>
          <a:off x="468360" y="1432080"/>
          <a:ext cx="7515000" cy="24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32080"/>
                    <a:ext cx="7515000" cy="24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8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30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56"/>
          <p:cNvGraphicFramePr/>
          <p:nvPr/>
        </p:nvGraphicFramePr>
        <p:xfrm>
          <a:off x="1403280" y="3927600"/>
          <a:ext cx="5899320" cy="12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927600"/>
                    <a:ext cx="589932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57"/>
          <p:cNvGraphicFramePr/>
          <p:nvPr/>
        </p:nvGraphicFramePr>
        <p:xfrm>
          <a:off x="1254240" y="5114880"/>
          <a:ext cx="5832360" cy="105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Object 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4240" y="5114880"/>
                    <a:ext cx="58323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Content Placeholder 2"/>
          <p:cNvSpPr/>
          <p:nvPr/>
        </p:nvSpPr>
        <p:spPr>
          <a:xfrm>
            <a:off x="324000" y="836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Franklin Gothic Book"/>
                <a:ea typeface="Tahoma"/>
              </a:rPr>
              <a:t>d- Halogenation of alkyl benzenes and aromatic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B2E5-312C-493C-8DDF-40EEFB231D03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82"/>
          <p:cNvGraphicFramePr/>
          <p:nvPr/>
        </p:nvGraphicFramePr>
        <p:xfrm>
          <a:off x="1835280" y="1413000"/>
          <a:ext cx="4176720" cy="18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417672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1" name="Picture 10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2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43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83"/>
          <p:cNvGraphicFramePr/>
          <p:nvPr/>
        </p:nvGraphicFramePr>
        <p:xfrm>
          <a:off x="1965240" y="3284640"/>
          <a:ext cx="498312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Object 8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65240" y="3284640"/>
                    <a:ext cx="49831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84"/>
          <p:cNvGraphicFramePr/>
          <p:nvPr/>
        </p:nvGraphicFramePr>
        <p:xfrm>
          <a:off x="2050920" y="4508640"/>
          <a:ext cx="3927600" cy="86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" name="Object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4508640"/>
                    <a:ext cx="39276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9" name="Picture 14" descr=""/>
          <p:cNvPicPr/>
          <p:nvPr/>
        </p:nvPicPr>
        <p:blipFill>
          <a:blip r:embed="rId9"/>
          <a:stretch/>
        </p:blipFill>
        <p:spPr>
          <a:xfrm>
            <a:off x="1979640" y="5605560"/>
            <a:ext cx="4680000" cy="73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6:36:52Z</dcterms:created>
  <dc:creator>user</dc:creator>
  <dc:description/>
  <dc:language>en-US</dc:language>
  <cp:lastModifiedBy>new wave</cp:lastModifiedBy>
  <dcterms:modified xsi:type="dcterms:W3CDTF">2016-01-26T18:28:21Z</dcterms:modified>
  <cp:revision>120</cp:revision>
  <dc:subject/>
  <dc:title>Slide 1</dc:title>
</cp:coreProperties>
</file>