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8.wmf" ContentType="image/x-wmf"/>
  <Override PartName="/ppt/media/image33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38.wmf" ContentType="image/x-wmf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2.wmf" ContentType="image/x-wmf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Franklin Gothic Book"/>
                <a:ea typeface="MS P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F998-CB07-4197-84D0-6DB9A55DA8FD}" type="datetime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Franklin Gothic Book"/>
                <a:ea typeface="MS PGothic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F69C-37A4-4B98-9DA9-5C75C2524ABD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Footer Placeholder 1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2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B7A5-D7FD-4FFF-87D1-EE4B81500E88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ooter Placeholder 1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2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DB84-3953-4658-939A-3EB049C7EBC1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ooter Placeholder 1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2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744F-E619-40E5-8FD3-F626D027B784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ooter Placeholder 1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2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E5BC-7C50-4600-916F-A558F30D16CC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Footer Placeholder 1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2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F916-9F11-4362-9E28-446374698428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49F9-C57D-4F0E-8E76-A06983E09D9A}" type="slidenum">
              <a:rPr b="0" lang="en-US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Header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7D71-E066-4FFD-8C0A-65C3CC07EB62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ooter Placeholder 1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8B5E-7625-4B4D-9CD4-856DE75FC836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ooter Placeholder 1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1B47-1EC7-4249-BE84-29FD1A95F497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ooter Placeholder 1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98B9-86B3-4099-81FF-891EEAE635C6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oter Placeholder 1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145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2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ABC9-F846-4B00-A388-B363FD6AB614}" type="slidenum">
              <a:rPr b="0" sz="1200" spc="-1" strike="noStrike">
                <a:solidFill>
                  <a:srgbClr val="000000"/>
                </a:solidFill>
                <a:latin typeface="Franklin Gothic Book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485D-147F-4592-AB46-A6F686A9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3EA-8A5D-4E91-8E1D-F49325AA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4801-9801-4581-9B20-6BE38345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701-F289-4D25-881D-22C5B940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B1A79-A094-43DB-9DC2-3EF676FC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E8EB1-0FC0-41AA-AC7E-0E219E54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163CA-7967-4095-9141-207F31C8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E803B-7768-4F5D-B1FA-4FE50E52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EBB58-9806-4457-88DA-0693CD5B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004F4-3A3C-42E6-926C-7CC93D5A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F8A72-3FD7-4817-B2E5-F0298BE8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F33F-40C2-46CC-8F59-AB047A87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F1C9C-8D69-43C7-A638-C6A63B85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08998-FF1A-4352-9F7F-C78BBB41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EED32-DC54-475A-BFD5-A378033C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3BC9C-7271-49C8-A089-69C15B24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6B52F-71D7-430F-B0B1-A3DAC6D6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23AC9-5F52-4ED2-B9BA-3A168580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42F4D-0356-4C87-AA95-229FEA8F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1CA7C-C012-46FB-A90F-F38E0A4C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0E3E8-C5AD-438B-A8B3-CB5C2E67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F4D0A-D69C-4C4C-9921-64D31C7B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921-C813-4F9C-AB1D-59FDF757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7F85-44D2-4B49-8301-678A4663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F255B-4C8F-4C19-A153-CDABE849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FC4D1-20C2-497E-8B45-CA39AC6A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8BEC7-4CDE-4ED6-9975-5331CB15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7E9D4-D325-4EDD-8B54-7EBD25C1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CBD1A-348F-4724-AABC-028B9449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87D58-4CE8-4B64-BB99-379923D0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46EEB-C83E-447B-B94E-26255D07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36BE4-E3C8-4676-A4C7-CCF0356D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7408A-60F9-4BAB-B238-01AA8A5B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5D3-FB35-4356-98B9-FDF8324F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A066E-2898-49DF-8673-A6C360BB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A3A8E-01FC-4264-9D0C-C7C5D262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E4B58-6CF7-45D2-9D8C-C826914D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78358-41CD-413F-BDD8-F24C0C11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1170C-D29E-4215-9C7C-DBA3B941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9899A-1F93-4374-A259-71DF408F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932AD-B461-45D1-AF3C-F7654DF3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73BFC-508A-456B-BA33-C9E755CF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AE6DF-5384-4930-833B-9BC05432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794CF-1D84-4846-9711-EDCF0CFF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D910-60F4-4DC3-B0F8-FEDAA88F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AFB3D-13BA-4EFC-BCF6-4E1DF414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E0445-DC43-4720-91D6-BA780841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86D59-0351-4ACE-A545-0928337C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1B99C-FC30-446A-ABAE-6549F92B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B1FC1-8E28-49DE-9538-701003DE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C319C-A352-44EC-AD67-8D83BD4C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15D0F-AE26-4E04-9EA9-552C8D82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C3E56-61C1-48FE-9F6D-9F6CA1F0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748BD-9DF9-4F30-9B12-92575523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CA34C-75A7-4577-BA44-9D2EE716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033-BCF1-45B1-89CD-18E1318E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407C4-7E14-4CC5-9F62-B8AF15F3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CD14-41DB-4DC0-A4C4-68646062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DE8-64A9-4865-8016-746EF0BD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DAD-8BA1-427E-8E56-0058B53A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DFD4-0D8C-4809-8531-7C887FA52142}" type="datetime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6758-980E-430C-B506-8E6C79CEE696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DB15-69C1-4165-B0EB-435AE2F730DF}" type="datetime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46AC-C4CA-46E9-BC42-4B7BEA4EF0D6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0449-AD77-418A-AF7A-C67F6420519F}" type="datetime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38BE-E37D-4DB3-83BC-25EDA9C4695D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A7A8-5F7D-4839-A175-8D17B25B53D4}" type="datetime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08DC-B9DD-4BDC-A15B-AFFE2035E279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F7F2-BCCD-460A-AF19-2C46BC5B34BA}" type="datetime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595959"/>
                </a:solidFill>
                <a:latin typeface="Century Gothic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7210-919B-45D3-9A65-26C4836AB9FC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image" Target="../media/image5.png"/><Relationship Id="rId16" Type="http://schemas.openxmlformats.org/officeDocument/2006/relationships/image" Target="../media/image6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image" Target="../media/image5.pn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49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image" Target="../media/image5.png"/><Relationship Id="rId8" Type="http://schemas.openxmlformats.org/officeDocument/2006/relationships/image" Target="../media/image6.jpe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4.wmf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2360880" y="2063880"/>
            <a:ext cx="416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Times New Roman"/>
              </a:rPr>
              <a:t>Alkyl Hali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6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7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DB54-D7D1-450D-BDFF-4B972ECB77B9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9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229" name="Straight Connector 10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1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" descr="100px-Chloromethane-3D-balls.png"/>
          <p:cNvPicPr/>
          <p:nvPr/>
        </p:nvPicPr>
        <p:blipFill>
          <a:blip r:embed="rId3"/>
          <a:stretch/>
        </p:blipFill>
        <p:spPr>
          <a:xfrm rot="2217000">
            <a:off x="3203280" y="3499920"/>
            <a:ext cx="2663640" cy="2186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DA51-0B8A-4A39-80CE-B8E2FA4CFA40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66480" y="1076040"/>
            <a:ext cx="877716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2- Conversion of alcohols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graphicFrame>
        <p:nvGraphicFramePr>
          <p:cNvPr id="353" name="Object 174"/>
          <p:cNvGraphicFramePr/>
          <p:nvPr/>
        </p:nvGraphicFramePr>
        <p:xfrm>
          <a:off x="2808360" y="1413000"/>
          <a:ext cx="277164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1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08360" y="1413000"/>
                    <a:ext cx="277164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175"/>
          <p:cNvGraphicFramePr/>
          <p:nvPr/>
        </p:nvGraphicFramePr>
        <p:xfrm>
          <a:off x="642960" y="2928960"/>
          <a:ext cx="671832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" name="Object 17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2928960"/>
                    <a:ext cx="671832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176"/>
          <p:cNvGraphicFramePr/>
          <p:nvPr/>
        </p:nvGraphicFramePr>
        <p:xfrm>
          <a:off x="539640" y="3824280"/>
          <a:ext cx="5038920" cy="74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8" name="Object 17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824280"/>
                    <a:ext cx="50389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177"/>
          <p:cNvGraphicFramePr/>
          <p:nvPr/>
        </p:nvGraphicFramePr>
        <p:xfrm>
          <a:off x="468360" y="5772240"/>
          <a:ext cx="3213000" cy="65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0" name="Object 1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5772240"/>
                    <a:ext cx="321300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78"/>
          <p:cNvGraphicFramePr/>
          <p:nvPr/>
        </p:nvGraphicFramePr>
        <p:xfrm>
          <a:off x="539640" y="4653000"/>
          <a:ext cx="3745080" cy="93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2" name="Object 17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4653000"/>
                    <a:ext cx="37450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179"/>
          <p:cNvGraphicFramePr/>
          <p:nvPr/>
        </p:nvGraphicFramePr>
        <p:xfrm>
          <a:off x="1090440" y="2492280"/>
          <a:ext cx="5857920" cy="412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4" name="Object 17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0440" y="2492280"/>
                    <a:ext cx="585792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80"/>
          <p:cNvGraphicFramePr/>
          <p:nvPr/>
        </p:nvGraphicFramePr>
        <p:xfrm>
          <a:off x="4137120" y="5514840"/>
          <a:ext cx="4541760" cy="1089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6" name="Object 18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37120" y="5514840"/>
                    <a:ext cx="4541760" cy="1089000"/>
                  </a:xfrm>
                  <a:prstGeom prst="rect">
                    <a:avLst/>
                  </a:prstGeom>
                  <a:ln w="12600">
                    <a:solidFill>
                      <a:srgbClr val="000080"/>
                    </a:solidFill>
                    <a:prstDash val="dash"/>
                    <a:miter/>
                  </a:ln>
                </p:spPr>
              </p:pic>
            </p:oleObj>
          </a:graphicData>
        </a:graphic>
      </p:graphicFrame>
      <p:pic>
        <p:nvPicPr>
          <p:cNvPr id="367" name="Picture 14" descr="ksulogo2.png"/>
          <p:cNvPicPr/>
          <p:nvPr/>
        </p:nvPicPr>
        <p:blipFill>
          <a:blip r:embed="rId1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5" descr="images.jpeg"/>
          <p:cNvPicPr/>
          <p:nvPr/>
        </p:nvPicPr>
        <p:blipFill>
          <a:blip r:embed="rId1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69" name="Straight Connector 1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06992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Reactions of Organic Halides</a:t>
            </a:r>
            <a:endParaRPr b="0" lang="en-US" sz="2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15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1- Nucleophilic Subtitution</a:t>
            </a:r>
            <a:r>
              <a:rPr b="0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Reactions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,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,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OR,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,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,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, 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3" name="Footer Placeholder 1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BBB1-DE1D-4469-A5E0-E18443043D23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Object 140"/>
          <p:cNvGraphicFramePr/>
          <p:nvPr/>
        </p:nvGraphicFramePr>
        <p:xfrm>
          <a:off x="1000080" y="1932120"/>
          <a:ext cx="6632640" cy="42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1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932120"/>
                    <a:ext cx="663264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141"/>
          <p:cNvGraphicFramePr/>
          <p:nvPr/>
        </p:nvGraphicFramePr>
        <p:xfrm>
          <a:off x="324000" y="3087720"/>
          <a:ext cx="823896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8" name="Object 1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087720"/>
                    <a:ext cx="82389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142"/>
          <p:cNvGraphicFramePr/>
          <p:nvPr/>
        </p:nvGraphicFramePr>
        <p:xfrm>
          <a:off x="676440" y="4071960"/>
          <a:ext cx="4903560" cy="94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Object 14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440" y="4071960"/>
                    <a:ext cx="490356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143"/>
          <p:cNvGraphicFramePr/>
          <p:nvPr/>
        </p:nvGraphicFramePr>
        <p:xfrm>
          <a:off x="1062000" y="5086440"/>
          <a:ext cx="4157640" cy="71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2" name="Object 14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2000" y="5086440"/>
                    <a:ext cx="41576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144"/>
          <p:cNvGraphicFramePr/>
          <p:nvPr/>
        </p:nvGraphicFramePr>
        <p:xfrm>
          <a:off x="5508720" y="2349360"/>
          <a:ext cx="1058760" cy="385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4" name="Object 14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08720" y="2349360"/>
                    <a:ext cx="1058760" cy="3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5" name="Picture 15" descr="ksulogo2.png"/>
          <p:cNvPicPr/>
          <p:nvPr/>
        </p:nvPicPr>
        <p:blipFill>
          <a:blip r:embed="rId1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6" descr="images.jpeg"/>
          <p:cNvPicPr/>
          <p:nvPr/>
        </p:nvPicPr>
        <p:blipFill>
          <a:blip r:embed="rId1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87" name="Straight Connector 1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8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oter Placeholder 5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6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17AD-864C-4129-9F36-52EBD33007BA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7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93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52"/>
          <p:cNvGraphicFramePr/>
          <p:nvPr/>
        </p:nvGraphicFramePr>
        <p:xfrm>
          <a:off x="2266920" y="1341360"/>
          <a:ext cx="3889440" cy="5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6920" y="1341360"/>
                    <a:ext cx="38894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53"/>
          <p:cNvGraphicFramePr/>
          <p:nvPr/>
        </p:nvGraphicFramePr>
        <p:xfrm>
          <a:off x="2411280" y="2205000"/>
          <a:ext cx="4140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Object 5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2205000"/>
                    <a:ext cx="4140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54"/>
          <p:cNvGraphicFramePr/>
          <p:nvPr/>
        </p:nvGraphicFramePr>
        <p:xfrm>
          <a:off x="1332000" y="3865680"/>
          <a:ext cx="5543640" cy="230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Object 5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3865680"/>
                    <a:ext cx="554364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261360" y="1052640"/>
            <a:ext cx="32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Times New Roman"/>
              </a:rPr>
              <a:t>2- Elimination</a:t>
            </a:r>
            <a:r>
              <a:rPr b="0" sz="2400" spc="-1" strike="noStrike">
                <a:solidFill>
                  <a:srgbClr val="00009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0"/>
                </a:solidFill>
                <a:latin typeface="Times New Roman"/>
              </a:rPr>
              <a:t>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1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1E88-20C4-4A32-8B25-F6AAB5635DCC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9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406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Object 41"/>
          <p:cNvGraphicFramePr/>
          <p:nvPr/>
        </p:nvGraphicFramePr>
        <p:xfrm>
          <a:off x="639720" y="1789200"/>
          <a:ext cx="7524720" cy="36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720" y="1789200"/>
                    <a:ext cx="7524720" cy="36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95280" y="83664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3- Reaction of Grignard reagen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- Formation of Grignard reagen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- Reaction of Grignard reagen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1" name="Footer Placeholder 1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EEC4-EFBD-487F-A665-0AD4230F8F89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Object 71"/>
          <p:cNvGraphicFramePr/>
          <p:nvPr/>
        </p:nvGraphicFramePr>
        <p:xfrm>
          <a:off x="1143000" y="1700280"/>
          <a:ext cx="636444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7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00280"/>
                    <a:ext cx="63644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72"/>
          <p:cNvGraphicFramePr/>
          <p:nvPr/>
        </p:nvGraphicFramePr>
        <p:xfrm>
          <a:off x="1403280" y="3440160"/>
          <a:ext cx="5643720" cy="18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Object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3440160"/>
                    <a:ext cx="5643720" cy="18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7" name="Picture 10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419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3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73"/>
          <p:cNvGraphicFramePr/>
          <p:nvPr/>
        </p:nvGraphicFramePr>
        <p:xfrm>
          <a:off x="1116000" y="5162400"/>
          <a:ext cx="6120000" cy="1506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2" name="Object 7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6000" y="5162400"/>
                    <a:ext cx="612000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a7bc"/>
                </a:solidFill>
                <a:latin typeface="Times New Roman"/>
              </a:rPr>
              <a:t>Thank You for your kind attention !</a:t>
            </a:r>
            <a:endParaRPr b="0" lang="en-US" sz="28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굴림"/>
              </a:rPr>
              <a:t>Questions?</a:t>
            </a:r>
            <a:endParaRPr b="0" lang="en-US" sz="4000" spc="-1" strike="noStrike">
              <a:solidFill>
                <a:srgbClr val="7f7f7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굴림"/>
              </a:rPr>
              <a:t>Comments</a:t>
            </a:r>
            <a:endParaRPr b="0" lang="en-US" sz="4000" spc="-1" strike="noStrike">
              <a:solidFill>
                <a:srgbClr val="7f7f7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5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1D64-0715-477D-B871-3BA1BA710016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428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1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6E82-85E7-4731-A517-76B684AF0682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6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" descr=""/>
          <p:cNvPicPr/>
          <p:nvPr/>
        </p:nvPicPr>
        <p:blipFill>
          <a:blip r:embed="rId3"/>
          <a:stretch/>
        </p:blipFill>
        <p:spPr>
          <a:xfrm>
            <a:off x="7920" y="1989000"/>
            <a:ext cx="9067680" cy="3202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1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AC15-A5DB-41E7-9D93-77E4F06CE728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ontent Placeholder 2"/>
          <p:cNvSpPr/>
          <p:nvPr/>
        </p:nvSpPr>
        <p:spPr>
          <a:xfrm>
            <a:off x="228600" y="4437000"/>
            <a:ext cx="8486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X and R-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X : Primary alkyl hal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H-X : Secondary alkyl hal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C-X : Tertiary alkyl hal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0" y="765000"/>
            <a:ext cx="87152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lasses and Names of Halogen Com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431640" y="125748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According to hydrocarbon gp.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228600" y="1690560"/>
            <a:ext cx="8763120" cy="36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Alkyl halides( R-X) : has a halogen atom bonded to one s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ybri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Allylic halides : has a halogen atom bonded to one s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ybri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-Vinylic halides:has a halogen atom bonded to one s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ybri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-Benzylic halides:has a halogen atom bonded to Carbone one away from aromatic 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-Aryl halides : has a halogen atom bonded directly to an aromatic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1. Alkyl halides( R-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5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6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47" name="Straight Connector 1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71280" y="1197000"/>
          <a:ext cx="8964720" cy="5173560"/>
        </p:xfrm>
        <a:graphic>
          <a:graphicData uri="http://schemas.openxmlformats.org/drawingml/2006/table">
            <a:tbl>
              <a:tblPr/>
              <a:tblGrid>
                <a:gridCol w="1258920"/>
                <a:gridCol w="2017800"/>
                <a:gridCol w="2509920"/>
                <a:gridCol w="3178080"/>
              </a:tblGrid>
              <a:tr h="685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b050"/>
                          </a:solidFill>
                          <a:uFillTx/>
                          <a:latin typeface="Palatino Linotype"/>
                        </a:rPr>
                        <a:t>1-Alkyl halid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b050"/>
                          </a:solidFill>
                          <a:uFillTx/>
                          <a:latin typeface="Palatino Linotype"/>
                        </a:rPr>
                        <a:t>( R-X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800000"/>
                          </a:solidFill>
                          <a:latin typeface="Palatino Linotype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-C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800000"/>
                          </a:solidFill>
                          <a:latin typeface="Palatino Linotype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-CH</a:t>
                      </a:r>
                      <a:r>
                        <a:rPr b="1" lang="en-US" sz="1800" spc="-1" strike="noStrike" baseline="-25000">
                          <a:solidFill>
                            <a:srgbClr val="800000"/>
                          </a:solidFill>
                          <a:latin typeface="Palatino Linotype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-B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(CH</a:t>
                      </a:r>
                      <a:r>
                        <a:rPr b="1" lang="en-US" sz="1800" spc="-1" strike="noStrike" baseline="-25000">
                          <a:solidFill>
                            <a:srgbClr val="800000"/>
                          </a:solidFill>
                          <a:latin typeface="Palatino Linotype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800000"/>
                          </a:solidFill>
                          <a:latin typeface="Palatino Linotype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-CH-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Comm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Methyl Chlori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Ethyl bromi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sopropyl flu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IUPA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hlorometh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Bromoetha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-Fluoroprop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Cla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°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Cyclohexyl Iodi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t.Butyl bromi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Methylcyclopentyl chlori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IUPA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Iodocyclohex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-Bromo-2-methylpropa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1-Chloro-1-methylcyclopent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Palatino Linotype"/>
                        </a:rPr>
                        <a:t>Cla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2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°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Footer Placeholder 3"/>
          <p:cNvSpPr/>
          <p:nvPr/>
        </p:nvSpPr>
        <p:spPr>
          <a:xfrm>
            <a:off x="662040" y="637704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7"/>
          <p:cNvSpPr/>
          <p:nvPr/>
        </p:nvSpPr>
        <p:spPr>
          <a:xfrm>
            <a:off x="8547120" y="637704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0AE7-CFC0-4ED4-BD6D-BE5BD6E6499A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81"/>
          <p:cNvGraphicFramePr/>
          <p:nvPr/>
        </p:nvGraphicFramePr>
        <p:xfrm>
          <a:off x="3735360" y="3673440"/>
          <a:ext cx="1143000" cy="9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5360" y="3673440"/>
                    <a:ext cx="11430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82"/>
          <p:cNvGraphicFramePr/>
          <p:nvPr/>
        </p:nvGraphicFramePr>
        <p:xfrm>
          <a:off x="6923160" y="3633840"/>
          <a:ext cx="90972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Object 8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3160" y="3633840"/>
                    <a:ext cx="9097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83"/>
          <p:cNvGraphicFramePr/>
          <p:nvPr/>
        </p:nvGraphicFramePr>
        <p:xfrm>
          <a:off x="1763640" y="3789360"/>
          <a:ext cx="981000" cy="79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Object 8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3789360"/>
                    <a:ext cx="981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Picture 11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2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0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1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E060-D16E-4F04-800C-076062902BF9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550960" y="944640"/>
            <a:ext cx="32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Times New Roman"/>
              </a:rPr>
              <a:t>3-Allyl halides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3"/>
          <p:cNvSpPr/>
          <p:nvPr/>
        </p:nvSpPr>
        <p:spPr>
          <a:xfrm>
            <a:off x="2340000" y="1484280"/>
            <a:ext cx="2414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=C-C-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2340000" y="1989000"/>
            <a:ext cx="2448000" cy="105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CH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yl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-Chloro-1-prop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106"/>
          <p:cNvGraphicFramePr/>
          <p:nvPr/>
        </p:nvGraphicFramePr>
        <p:xfrm>
          <a:off x="7308720" y="1700280"/>
          <a:ext cx="733680" cy="80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10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1700280"/>
                    <a:ext cx="7336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Text Box 19"/>
          <p:cNvSpPr/>
          <p:nvPr/>
        </p:nvSpPr>
        <p:spPr>
          <a:xfrm>
            <a:off x="6659640" y="256536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-Chlorocyclopent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0" y="3141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Times New Roman"/>
              </a:rPr>
              <a:t>4-Benzylic ha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2050920" y="3141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Times New Roman"/>
              </a:rPr>
              <a:t>Ar-C-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107"/>
          <p:cNvGraphicFramePr/>
          <p:nvPr/>
        </p:nvGraphicFramePr>
        <p:xfrm>
          <a:off x="698400" y="3508200"/>
          <a:ext cx="1817640" cy="107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10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400" y="3508200"/>
                    <a:ext cx="18176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24"/>
          <p:cNvSpPr/>
          <p:nvPr/>
        </p:nvSpPr>
        <p:spPr>
          <a:xfrm>
            <a:off x="179280" y="4365720"/>
            <a:ext cx="24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nzyl Chlor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108"/>
          <p:cNvGraphicFramePr/>
          <p:nvPr/>
        </p:nvGraphicFramePr>
        <p:xfrm>
          <a:off x="5003640" y="1851120"/>
          <a:ext cx="115272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Object 10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1851120"/>
                    <a:ext cx="11527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16"/>
          <p:cNvSpPr/>
          <p:nvPr/>
        </p:nvSpPr>
        <p:spPr>
          <a:xfrm>
            <a:off x="0" y="973080"/>
            <a:ext cx="39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b050"/>
                </a:solidFill>
                <a:uFillTx/>
                <a:latin typeface="Times New Roman"/>
              </a:rPr>
              <a:t>2-Vinylic ha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4761720" y="2571840"/>
            <a:ext cx="19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mocyclohex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8"/>
          <p:cNvSpPr/>
          <p:nvPr/>
        </p:nvSpPr>
        <p:spPr>
          <a:xfrm>
            <a:off x="250920" y="1557360"/>
            <a:ext cx="1728720" cy="398880"/>
          </a:xfrm>
          <a:prstGeom prst="rect">
            <a:avLst/>
          </a:prstGeom>
          <a:noFill/>
          <a:ln w="936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=C-X</a:t>
            </a: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9"/>
          <p:cNvSpPr/>
          <p:nvPr/>
        </p:nvSpPr>
        <p:spPr>
          <a:xfrm>
            <a:off x="95400" y="2060640"/>
            <a:ext cx="2100240" cy="1050480"/>
          </a:xfrm>
          <a:prstGeom prst="rect">
            <a:avLst/>
          </a:prstGeom>
          <a:noFill/>
          <a:ln w="9360">
            <a:solidFill>
              <a:srgbClr val="6076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=CHB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nyl 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Bromoeth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63440" y="4807080"/>
            <a:ext cx="26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Times New Roman"/>
              </a:rPr>
              <a:t>5-Aryl halides:</a:t>
            </a:r>
            <a:r>
              <a:rPr b="0" lang="en-US" sz="1800" spc="-1" strike="noStrike">
                <a:solidFill>
                  <a:srgbClr val="00b05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963800" y="4735440"/>
            <a:ext cx="50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-X     (X directly attached to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09"/>
          <p:cNvGraphicFramePr/>
          <p:nvPr/>
        </p:nvGraphicFramePr>
        <p:xfrm>
          <a:off x="468360" y="5102280"/>
          <a:ext cx="4467240" cy="111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" name="Object 10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5102280"/>
                    <a:ext cx="446724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Text Box 8"/>
          <p:cNvSpPr/>
          <p:nvPr/>
        </p:nvSpPr>
        <p:spPr>
          <a:xfrm>
            <a:off x="179280" y="605484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lorobenzene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Bromo tolue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6279480" y="9810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No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4" descr="ksulogo2.png"/>
          <p:cNvPicPr/>
          <p:nvPr/>
        </p:nvPicPr>
        <p:blipFill>
          <a:blip r:embed="rId9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5" descr="images.jpeg"/>
          <p:cNvPicPr/>
          <p:nvPr/>
        </p:nvPicPr>
        <p:blipFill>
          <a:blip r:embed="rId10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9" name="Straight Connector 2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7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2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6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FBE7-E5CF-40BB-95AA-B8A76141FEA2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71280" y="9478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HYSICAL PROPERTIES OF ORGANIC HALIDES</a:t>
            </a:r>
            <a:endParaRPr b="0" lang="en-US" sz="2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612800"/>
            <a:ext cx="8569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rganic halides are insoluble in water and soluble in common organic solvents.</a:t>
            </a:r>
            <a:endParaRPr b="0" lang="en-US" sz="22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n alkyl halide, the halogen is more electronegative that carbon</a:t>
            </a:r>
            <a:endParaRPr b="0" lang="en-US" sz="22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iling points increases with increasing in molecular  weights. </a:t>
            </a:r>
            <a:endParaRPr b="0" lang="en-US" sz="22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6389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3891f"/>
                </a:solidFill>
                <a:latin typeface="Times New Roman"/>
                <a:ea typeface="Times New Roman"/>
              </a:rPr>
              <a:t>Alkyl halides have higher melting point than the corresponding alkanes, alkenes, and alkynes because:</a:t>
            </a:r>
            <a:endParaRPr b="0" lang="en-US" sz="2200" spc="-1" strike="noStrike">
              <a:solidFill>
                <a:srgbClr val="7f7f7f"/>
              </a:solidFill>
              <a:latin typeface="Tahoma"/>
            </a:endParaRPr>
          </a:p>
          <a:p>
            <a:pPr lvl="2" marL="557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olarity            </a:t>
            </a:r>
            <a:endParaRPr b="0" lang="en-US" sz="2200" spc="-1" strike="noStrike">
              <a:solidFill>
                <a:srgbClr val="7f7f7f"/>
              </a:solidFill>
              <a:latin typeface="Tahoma"/>
            </a:endParaRPr>
          </a:p>
          <a:p>
            <a:pPr lvl="2" marL="557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Molecular weight  </a:t>
            </a:r>
            <a:r>
              <a:rPr b="1" lang="en-US" sz="1800" spc="-1" strike="noStrike">
                <a:solidFill>
                  <a:srgbClr val="2f5897"/>
                </a:solidFill>
                <a:latin typeface="Tahoma"/>
                <a:ea typeface="Tahoma"/>
              </a:rPr>
              <a:t>(</a:t>
            </a:r>
            <a:r>
              <a:rPr b="1" lang="en-US" sz="1800" spc="-1" strike="noStrike">
                <a:solidFill>
                  <a:srgbClr val="2f5897"/>
                </a:solidFill>
                <a:latin typeface="Tahoma"/>
              </a:rPr>
              <a:t>In series of halides BP.    F &lt;Cl &lt;Br &lt;I)</a:t>
            </a:r>
            <a:endParaRPr b="0" lang="en-US" sz="1800" spc="-1" strike="noStrike">
              <a:solidFill>
                <a:srgbClr val="7f7f7f"/>
              </a:solidFill>
              <a:latin typeface="Tahoma"/>
            </a:endParaRPr>
          </a:p>
        </p:txBody>
      </p:sp>
      <p:pic>
        <p:nvPicPr>
          <p:cNvPr id="295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7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1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2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037B-4BEA-4EB3-970D-533316405966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503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REPARATION OF HALOGEN COMPOUNDS</a:t>
            </a:r>
            <a:endParaRPr b="0" lang="en-US" sz="2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1197000"/>
            <a:ext cx="91440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1- Direct halogenation of hydrocarbons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- Halogenation of alkanes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b- Halogenation of alkenes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graphicFrame>
        <p:nvGraphicFramePr>
          <p:cNvPr id="303" name="Object 102"/>
          <p:cNvGraphicFramePr/>
          <p:nvPr/>
        </p:nvGraphicFramePr>
        <p:xfrm>
          <a:off x="1143000" y="2062080"/>
          <a:ext cx="616572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10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62080"/>
                    <a:ext cx="61657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Object 103"/>
          <p:cNvGraphicFramePr/>
          <p:nvPr/>
        </p:nvGraphicFramePr>
        <p:xfrm>
          <a:off x="1763640" y="2565360"/>
          <a:ext cx="4680000" cy="4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Object 10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2565360"/>
                    <a:ext cx="4680000" cy="403200"/>
                  </a:xfrm>
                  <a:prstGeom prst="rect">
                    <a:avLst/>
                  </a:prstGeom>
                  <a:ln w="9360">
                    <a:solidFill>
                      <a:srgbClr val="6076b4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07" name="Object 104"/>
          <p:cNvGraphicFramePr/>
          <p:nvPr/>
        </p:nvGraphicFramePr>
        <p:xfrm>
          <a:off x="900000" y="3429000"/>
          <a:ext cx="7056720" cy="17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" name="Object 10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3429000"/>
                    <a:ext cx="705672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9" name="Picture 11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11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105"/>
          <p:cNvGraphicFramePr/>
          <p:nvPr/>
        </p:nvGraphicFramePr>
        <p:xfrm>
          <a:off x="826920" y="5143680"/>
          <a:ext cx="6572520" cy="44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4" name="Object 10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5143680"/>
                    <a:ext cx="6572520" cy="446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15" name="Text Box 7"/>
          <p:cNvSpPr/>
          <p:nvPr/>
        </p:nvSpPr>
        <p:spPr>
          <a:xfrm>
            <a:off x="900000" y="6154560"/>
            <a:ext cx="687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=CH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92d05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92d05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7"/>
          <p:cNvSpPr/>
          <p:nvPr/>
        </p:nvSpPr>
        <p:spPr>
          <a:xfrm>
            <a:off x="1158840" y="5651640"/>
            <a:ext cx="5708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=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Cl</a:t>
            </a:r>
            <a:r>
              <a:rPr b="0" lang="en-US" sz="1800" spc="-1" strike="noStrike" baseline="-25000">
                <a:solidFill>
                  <a:srgbClr val="00b0f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b0f0"/>
                </a:solidFill>
                <a:latin typeface="Arial"/>
              </a:rPr>
              <a:t>C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18"/>
          <p:cNvCxnSpPr/>
          <p:nvPr/>
        </p:nvCxnSpPr>
        <p:spPr>
          <a:xfrm>
            <a:off x="3348000" y="5866920"/>
            <a:ext cx="100872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318" name="TextBox 19"/>
          <p:cNvSpPr/>
          <p:nvPr/>
        </p:nvSpPr>
        <p:spPr>
          <a:xfrm>
            <a:off x="3575880" y="557064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0"/>
          <p:cNvSpPr/>
          <p:nvPr/>
        </p:nvSpPr>
        <p:spPr>
          <a:xfrm>
            <a:off x="3647160" y="608328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21"/>
          <p:cNvCxnSpPr/>
          <p:nvPr/>
        </p:nvCxnSpPr>
        <p:spPr>
          <a:xfrm>
            <a:off x="3386160" y="5874840"/>
            <a:ext cx="100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1" name="Straight Arrow Connector 22"/>
          <p:cNvCxnSpPr/>
          <p:nvPr/>
        </p:nvCxnSpPr>
        <p:spPr>
          <a:xfrm>
            <a:off x="3459240" y="6381360"/>
            <a:ext cx="100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1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4637-9C8F-4145-9EE4-D00686A25F05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3"/>
          <p:cNvCxnSpPr/>
          <p:nvPr/>
        </p:nvCxnSpPr>
        <p:spPr>
          <a:xfrm>
            <a:off x="3780000" y="2491920"/>
            <a:ext cx="100872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325" name="Rectangle 3"/>
          <p:cNvSpPr/>
          <p:nvPr/>
        </p:nvSpPr>
        <p:spPr>
          <a:xfrm>
            <a:off x="0" y="87948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Franklin Gothic Book"/>
                <a:ea typeface="Tahoma"/>
              </a:rPr>
              <a:t>c- Halogenation of alky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Object 55"/>
          <p:cNvGraphicFramePr/>
          <p:nvPr/>
        </p:nvGraphicFramePr>
        <p:xfrm>
          <a:off x="468360" y="1432080"/>
          <a:ext cx="7515000" cy="24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32080"/>
                    <a:ext cx="7515000" cy="24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8" name="Picture 6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30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56"/>
          <p:cNvGraphicFramePr/>
          <p:nvPr/>
        </p:nvGraphicFramePr>
        <p:xfrm>
          <a:off x="1403280" y="3927600"/>
          <a:ext cx="5899320" cy="123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927600"/>
                    <a:ext cx="589932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57"/>
          <p:cNvGraphicFramePr/>
          <p:nvPr/>
        </p:nvGraphicFramePr>
        <p:xfrm>
          <a:off x="1254240" y="5114880"/>
          <a:ext cx="5832360" cy="1050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Object 5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4240" y="5114880"/>
                    <a:ext cx="58323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Content Placeholder 2"/>
          <p:cNvSpPr/>
          <p:nvPr/>
        </p:nvSpPr>
        <p:spPr>
          <a:xfrm>
            <a:off x="324000" y="836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Franklin Gothic Book"/>
                <a:ea typeface="Tahoma"/>
              </a:rPr>
              <a:t>d- Halogenation of alkyl benzenes and aromatic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oter Placeholder 1"/>
          <p:cNvSpPr/>
          <p:nvPr/>
        </p:nvSpPr>
        <p:spPr>
          <a:xfrm>
            <a:off x="65880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145 C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AECB-49F8-4A87-8FEE-8A7FC3F4217E}" type="slidenum">
              <a:rPr b="0" sz="1200" spc="-1" strike="noStrike">
                <a:solidFill>
                  <a:srgbClr val="595959"/>
                </a:solidFill>
                <a:latin typeface="Century Gothic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82"/>
          <p:cNvGraphicFramePr/>
          <p:nvPr/>
        </p:nvGraphicFramePr>
        <p:xfrm>
          <a:off x="1835280" y="1413000"/>
          <a:ext cx="4176720" cy="18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413000"/>
                    <a:ext cx="417672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1" name="Picture 10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2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43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4"/>
          <p:cNvSpPr/>
          <p:nvPr/>
        </p:nvSpPr>
        <p:spPr>
          <a:xfrm>
            <a:off x="3392640" y="457200"/>
            <a:ext cx="15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kyl Ha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83"/>
          <p:cNvGraphicFramePr/>
          <p:nvPr/>
        </p:nvGraphicFramePr>
        <p:xfrm>
          <a:off x="1965240" y="3284640"/>
          <a:ext cx="498312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Object 8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65240" y="3284640"/>
                    <a:ext cx="49831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84"/>
          <p:cNvGraphicFramePr/>
          <p:nvPr/>
        </p:nvGraphicFramePr>
        <p:xfrm>
          <a:off x="2050920" y="4508640"/>
          <a:ext cx="3927600" cy="86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" name="Object 8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4508640"/>
                    <a:ext cx="39276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9" name="Picture 14" descr=""/>
          <p:cNvPicPr/>
          <p:nvPr/>
        </p:nvPicPr>
        <p:blipFill>
          <a:blip r:embed="rId9"/>
          <a:stretch/>
        </p:blipFill>
        <p:spPr>
          <a:xfrm>
            <a:off x="1979640" y="5605560"/>
            <a:ext cx="4680000" cy="731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6:36:52Z</dcterms:created>
  <dc:creator>user</dc:creator>
  <dc:description/>
  <dc:language>en-US</dc:language>
  <cp:lastModifiedBy>new wave</cp:lastModifiedBy>
  <dcterms:modified xsi:type="dcterms:W3CDTF">2016-01-26T18:28:21Z</dcterms:modified>
  <cp:revision>120</cp:revision>
  <dc:subject/>
  <dc:title>Slide 1</dc:title>
</cp:coreProperties>
</file>