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3.png" ContentType="image/png"/>
  <Override PartName="/ppt/media/image49.wmf" ContentType="image/x-wmf"/>
  <Override PartName="/ppt/media/image47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9.png" ContentType="image/png"/>
  <Override PartName="/ppt/media/image39.wmf" ContentType="image/x-wmf"/>
  <Override PartName="/ppt/media/image18.wmf" ContentType="image/x-wmf"/>
  <Override PartName="/ppt/media/image60.wmf" ContentType="image/x-wmf"/>
  <Override PartName="/ppt/media/image57.png" ContentType="image/png"/>
  <Override PartName="/ppt/media/image20.wmf" ContentType="image/x-wmf"/>
  <Override PartName="/ppt/media/image4.png" ContentType="image/png"/>
  <Override PartName="/ppt/media/image27.png" ContentType="image/png"/>
  <Override PartName="/ppt/media/image67.wmf" ContentType="image/x-wmf"/>
  <Override PartName="/ppt/media/image30.wmf" ContentType="image/x-wmf"/>
  <Override PartName="/ppt/media/image3.png" ContentType="image/png"/>
  <Override PartName="/ppt/media/image1.jpeg" ContentType="image/jpeg"/>
  <Override PartName="/ppt/media/image10.png" ContentType="image/png"/>
  <Override PartName="/ppt/media/image19.wmf" ContentType="image/x-wmf"/>
  <Override PartName="/ppt/media/image61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.png" ContentType="image/png"/>
  <Override PartName="/ppt/media/image14.png" ContentType="image/png"/>
  <Override PartName="/ppt/media/image69.wmf" ContentType="image/x-wmf"/>
  <Override PartName="/ppt/media/image32.wmf" ContentType="image/x-wmf"/>
  <Override PartName="/ppt/media/image68.wmf" ContentType="image/x-wmf"/>
  <Override PartName="/ppt/media/image50.wmf" ContentType="image/x-wmf"/>
  <Override PartName="/ppt/media/image28.png" ContentType="image/png"/>
  <Override PartName="/ppt/media/image31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24.png" ContentType="image/png"/>
  <Override PartName="/ppt/media/image63.wmf" ContentType="image/x-wmf"/>
  <Override PartName="/ppt/media/image26.wmf" ContentType="image/x-wmf"/>
  <Override PartName="/ppt/media/image23.wmf" ContentType="image/x-wmf"/>
  <Override PartName="/ppt/media/image62.wmf" ContentType="image/x-wmf"/>
  <Override PartName="/ppt/media/image25.wmf" ContentType="image/x-wmf"/>
  <Override PartName="/ppt/media/image5.jpeg" ContentType="image/jpeg"/>
  <Override PartName="/ppt/media/image48.wmf" ContentType="image/x-wmf"/>
  <Override PartName="/ppt/media/image29.wmf" ContentType="image/x-wmf"/>
  <Override PartName="/ppt/media/image11.png" ContentType="image/png"/>
  <Override PartName="/ppt/media/image51.wmf" ContentType="image/x-wmf"/>
  <Override PartName="/ppt/media/image15.wmf" ContentType="image/x-wmf"/>
  <Override PartName="/ppt/media/image54.png" ContentType="image/png"/>
  <Override PartName="/ppt/media/image6.png" ContentType="image/png"/>
  <Override PartName="/ppt/media/image40.wmf" ContentType="image/x-wmf"/>
  <Override PartName="/ppt/media/image16.wmf" ContentType="image/x-wmf"/>
  <Override PartName="/ppt/media/image55.png" ContentType="image/png"/>
  <Override PartName="/ppt/media/image7.png" ContentType="image/png"/>
  <Override PartName="/ppt/media/image41.wmf" ContentType="image/x-wmf"/>
  <Override PartName="/ppt/media/image17.wmf" ContentType="image/x-wmf"/>
  <Override PartName="/ppt/media/image8.png" ContentType="image/png"/>
  <Override PartName="/ppt/media/image42.wmf" ContentType="image/x-wmf"/>
  <Override PartName="/ppt/media/image13.wmf" ContentType="image/x-wmf"/>
  <Override PartName="/ppt/media/image52.png" ContentType="image/png"/>
  <Override PartName="/ppt/media/image33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12.jpeg" ContentType="image/jpeg"/>
  <Override PartName="/ppt/media/image37.wmf" ContentType="image/x-wmf"/>
  <Override PartName="/ppt/media/image38.wmf" ContentType="image/x-wmf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</p:sldMasterIdLst>
  <p:notesMasterIdLst>
    <p:notesMasterId r:id="rId54"/>
  </p:notesMasterIdLst>
  <p:sldIdLst>
    <p:sldId id="256" r:id="rId55"/>
    <p:sldId id="257" r:id="rId56"/>
    <p:sldId id="258" r:id="rId57"/>
    <p:sldId id="259" r:id="rId58"/>
    <p:sldId id="260" r:id="rId59"/>
    <p:sldId id="261" r:id="rId60"/>
    <p:sldId id="262" r:id="rId61"/>
    <p:sldId id="263" r:id="rId62"/>
    <p:sldId id="264" r:id="rId63"/>
    <p:sldId id="265" r:id="rId64"/>
    <p:sldId id="266" r:id="rId65"/>
    <p:sldId id="267" r:id="rId66"/>
    <p:sldId id="268" r:id="rId67"/>
    <p:sldId id="269" r:id="rId68"/>
    <p:sldId id="270" r:id="rId69"/>
    <p:sldId id="271" r:id="rId70"/>
    <p:sldId id="272" r:id="rId71"/>
    <p:sldId id="273" r:id="rId72"/>
    <p:sldId id="274" r:id="rId73"/>
    <p:sldId id="275" r:id="rId74"/>
    <p:sldId id="276" r:id="rId75"/>
    <p:sldId id="277" r:id="rId76"/>
    <p:sldId id="278" r:id="rId77"/>
    <p:sldId id="279" r:id="rId78"/>
    <p:sldId id="280" r:id="rId79"/>
    <p:sldId id="281" r:id="rId80"/>
    <p:sldId id="282" r:id="rId81"/>
    <p:sldId id="283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notesMaster" Target="notesMasters/notesMaster1.xml"/><Relationship Id="rId55" Type="http://schemas.openxmlformats.org/officeDocument/2006/relationships/slide" Target="slides/slide1.xml"/><Relationship Id="rId56" Type="http://schemas.openxmlformats.org/officeDocument/2006/relationships/slide" Target="slides/slide2.xml"/><Relationship Id="rId57" Type="http://schemas.openxmlformats.org/officeDocument/2006/relationships/slide" Target="slides/slide3.xml"/><Relationship Id="rId58" Type="http://schemas.openxmlformats.org/officeDocument/2006/relationships/slide" Target="slides/slide4.xml"/><Relationship Id="rId59" Type="http://schemas.openxmlformats.org/officeDocument/2006/relationships/slide" Target="slides/slide5.xml"/><Relationship Id="rId60" Type="http://schemas.openxmlformats.org/officeDocument/2006/relationships/slide" Target="slides/slide6.xml"/><Relationship Id="rId61" Type="http://schemas.openxmlformats.org/officeDocument/2006/relationships/slide" Target="slides/slide7.xml"/><Relationship Id="rId62" Type="http://schemas.openxmlformats.org/officeDocument/2006/relationships/slide" Target="slides/slide8.xml"/><Relationship Id="rId63" Type="http://schemas.openxmlformats.org/officeDocument/2006/relationships/slide" Target="slides/slide9.xml"/><Relationship Id="rId64" Type="http://schemas.openxmlformats.org/officeDocument/2006/relationships/slide" Target="slides/slide10.xml"/><Relationship Id="rId65" Type="http://schemas.openxmlformats.org/officeDocument/2006/relationships/slide" Target="slides/slide11.xml"/><Relationship Id="rId66" Type="http://schemas.openxmlformats.org/officeDocument/2006/relationships/slide" Target="slides/slide12.xml"/><Relationship Id="rId67" Type="http://schemas.openxmlformats.org/officeDocument/2006/relationships/slide" Target="slides/slide13.xml"/><Relationship Id="rId68" Type="http://schemas.openxmlformats.org/officeDocument/2006/relationships/slide" Target="slides/slide14.xml"/><Relationship Id="rId69" Type="http://schemas.openxmlformats.org/officeDocument/2006/relationships/slide" Target="slides/slide15.xml"/><Relationship Id="rId70" Type="http://schemas.openxmlformats.org/officeDocument/2006/relationships/slide" Target="slides/slide16.xml"/><Relationship Id="rId71" Type="http://schemas.openxmlformats.org/officeDocument/2006/relationships/slide" Target="slides/slide17.xml"/><Relationship Id="rId72" Type="http://schemas.openxmlformats.org/officeDocument/2006/relationships/slide" Target="slides/slide18.xml"/><Relationship Id="rId73" Type="http://schemas.openxmlformats.org/officeDocument/2006/relationships/slide" Target="slides/slide19.xml"/><Relationship Id="rId74" Type="http://schemas.openxmlformats.org/officeDocument/2006/relationships/slide" Target="slides/slide20.xml"/><Relationship Id="rId75" Type="http://schemas.openxmlformats.org/officeDocument/2006/relationships/slide" Target="slides/slide21.xml"/><Relationship Id="rId76" Type="http://schemas.openxmlformats.org/officeDocument/2006/relationships/slide" Target="slides/slide22.xml"/><Relationship Id="rId77" Type="http://schemas.openxmlformats.org/officeDocument/2006/relationships/slide" Target="slides/slide23.xml"/><Relationship Id="rId78" Type="http://schemas.openxmlformats.org/officeDocument/2006/relationships/slide" Target="slides/slide24.xml"/><Relationship Id="rId79" Type="http://schemas.openxmlformats.org/officeDocument/2006/relationships/slide" Target="slides/slide25.xml"/><Relationship Id="rId80" Type="http://schemas.openxmlformats.org/officeDocument/2006/relationships/slide" Target="slides/slide26.xml"/><Relationship Id="rId81" Type="http://schemas.openxmlformats.org/officeDocument/2006/relationships/slide" Target="slides/slide27.xml"/><Relationship Id="rId82" Type="http://schemas.openxmlformats.org/officeDocument/2006/relationships/slide" Target="slides/slide2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 type="dt" idx="14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1" name="PlaceHolder 5"/>
          <p:cNvSpPr>
            <a:spLocks noGrp="1"/>
          </p:cNvSpPr>
          <p:nvPr>
            <p:ph type="ftr" idx="14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PlaceHolder 6"/>
          <p:cNvSpPr>
            <a:spLocks noGrp="1"/>
          </p:cNvSpPr>
          <p:nvPr>
            <p:ph type="sldNum" idx="14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C267-B860-489A-8DF3-B8BBBAE05C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99CF-8C6E-4EE1-A76F-24D17F113F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1FC8-688C-4D68-93CA-221B0349A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EC82-2DEF-443C-9971-D325CE1C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0B2E7-2FC9-4664-8F93-81E37384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2A16C6-3272-4168-A765-2DD7F335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5A5F95-F0AD-4EA7-BB5F-4A7A3AC3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10C0B5-8319-4BC1-9AFF-9A6D3564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8E25B-D1C6-45E8-A710-01268241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2C6D67-47A6-490F-858C-D42EA516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BDC0C7-EBBC-4803-B0B1-9FBFAEC7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1C3D54-EB08-463A-8CD0-95034DA91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15CD36-339E-4274-A59A-D33675561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5883D8-4BCC-4D10-8DFC-275C4076D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E2FA-68EE-42ED-896C-397A78121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4CBA8C-20EF-4F9F-86FE-C3982E5C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D45BDC-CE88-44A5-BF6E-30F6ED5D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30F75-52EC-499D-A169-6AEFDFCF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7E3F15-B98E-4A64-898B-48ECFCB1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9F892D-F7B0-40BF-BF28-8FE45727D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D2A652-F814-4E0F-A54B-224D92DE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22C16C-9BFD-4FA6-87FA-E930AF61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7C60D4-AAD1-406D-ADA0-C1CAB107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8E839F-4F28-4CED-8C06-FAE13B25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2E1A15-1AF3-4CE5-BEF7-DA04A8A61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9B2A-D7D0-44F2-A847-44E116790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E3258F-F0FD-4D83-94F8-342EB4D38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04F69-0428-4644-9B5E-F33B08FE9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92333E-BE6A-4C3B-82AF-CDCBD21E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24E5A-CFDE-4289-8165-6F6EEE06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38617F-F901-4616-8F9C-DB7AFFFE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A1F88-AA5B-4AD5-85F1-F41C4BE1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93732-4BD6-4302-8F3D-7968245E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4FF54-3B20-4573-BC87-23863160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D559F-7511-4363-AD72-53F05B19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D3D25-4201-48E7-9E45-AB10ED60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AA00-07A1-44FD-89E0-F296A5F99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CE1A94-FC49-4E47-A599-DEDE0E24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D0D64-57DC-489E-9C83-07287F503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C5390-1C22-4D23-BC3D-075692303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0DBDC3-AD8E-49AD-A879-5240C0565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98ACE2-52DB-4E46-B12C-7D8B2B21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FBE5B6-82FA-46BF-9B84-C0F30259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223D04-6C53-4ABA-BF74-411057C6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ABA2B8-CE98-4EAF-A16A-EEAE02AA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C1B140-01D3-476C-8926-AA541FFA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4D3AE8-A5C9-4CD1-843E-E16216F8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1099-D7BC-435A-B331-A2DF18AA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6E36CD-C752-4906-8147-1C3E4CFD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54D422-AFB3-4E81-8594-01CBAC63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140DBC-AA9D-4607-8834-F4BD5BA5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D9E0E0-BC3D-42D0-8B52-04E1B6D54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0F540B-4365-49C1-BCC1-137F63432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CDDC6B-8B9B-4DAD-B8F0-C700A0691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EEC367-5762-466B-B6E6-B57D3DA9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7A11BE-46CB-4644-AF1C-24C6E5A1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A495D3-F803-48AA-86AF-9FB71D5A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CA5A20-9EFB-4592-AEBE-3BA0EC36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BF62-7BAA-4F43-9B03-FAB2DCDC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8F6A06-9DFA-4D3C-98B5-62737882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0B78BF-B28A-4F46-A879-317CDAC6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F4E0E3-8A16-4D55-9630-24357EFF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EFA241-CBF9-49B7-97C0-51671E72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837BC7-5044-4572-A0A4-319DFA92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A2B8EA-EC02-4E2C-92D4-D89351C96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715CBB-9702-4321-911B-4AC7AB9B2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3EDE4D-588C-467B-A1B2-E31528232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A0ABED-C788-4615-889A-938EB8CB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38D77A-404C-4C6A-812C-BB3A5D1F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C6E1-BD14-46BA-8FF6-324A0CD1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53BEF6-2C2E-4123-82C8-2164481D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A8154F-E035-4614-A078-8ED212AC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D492D0-BBB5-4235-99EA-DBAEEA91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FD4E7D-2CB1-45BC-9F4C-E3AB5C91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061035-423D-4429-A00F-15F85984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ABEA97-40CA-4CE0-9954-A4E9A7E4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D92AAF-57B4-4A0B-AFE7-F93FB816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96A6F7-50DB-4C66-A9A4-5DE26FBB6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23335F-AFAF-4397-AA39-C6843B0B9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393A9A-EE2D-4A42-8989-2C6E2365E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3D334-C150-4BAB-98C8-63390D0F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371714-9419-4ACE-84C3-AC0FE6D6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47989C-7E26-4406-874F-BF1D5AB8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57F2A2-2B34-47EE-826D-36CBC281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F4B213-4197-4052-A441-4C124EA3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DF2F22-A683-4636-888A-0F9474C1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2E0029-9CD7-4968-B3C8-DC4B5F66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6966DD-254C-41A6-B9A0-077AC8A1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2B83C3-3624-4FBB-9592-B33543D6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236587-8F89-44B7-A5AB-F0B537D9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201FC2-B224-48E9-92B3-DBF5C400E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6F6B-7D9C-42E2-991C-0119D5DE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8FF66C-8FA9-4400-A547-85D3BF1F4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6A1F70-2B95-4C59-AF78-8711192DD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944950-D45E-4F97-AE23-F4B806C2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155BFD-5FD1-4F58-B50E-7153E7C7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D6C3F8-FAA3-4040-BE25-036BC262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5104E6-5305-4A7D-9DD3-DA13B69F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77D32F-FD1E-47D1-8010-6E97CCBD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E7024E-C4FC-4BDB-AD7B-B66E29C1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E07C2A-D8AA-44EC-A1EB-176B5891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9E44B8-7813-432D-9048-4E0164A5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E072-D2D9-48C6-84E3-D3DF5E07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0667BE-B284-4622-98E6-9BB7A728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B29835-F44E-4CD4-A2F2-6529487D3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B5BCE6-5F23-4A38-8CD8-CA4E20587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556533-3F2F-4EA7-979D-31F0A0F3F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D9D676-3706-46D3-93A6-CEC1B00C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F62088-97FA-4DC1-98D9-A02331FB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296D88-BB2B-404E-BAF6-BD44619A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B8BC19-113D-4D03-ACC8-9757B8986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E989A0-66A6-49E6-9DBC-2BB17736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E58D3F-29F1-497C-9046-D4AFC9E5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67E5-96E4-4A5B-86D1-925D346E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5961-5B6D-4CDC-B336-376FEEE6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EAB4F5-520F-42F9-B84F-4A15D746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FD36D0-1FFA-4B21-A10D-74825852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1BCE3F-5912-4B44-994C-AD5A82D4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3A4C06-9E56-4E63-B5BA-6ECA11991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20A6F5-B64C-477E-A7F5-E252186C5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131DF9-0772-4BF8-ADBC-939AEE9E5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E6456B-36EA-4F0C-9A6A-939A0F86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5FFE2D-B61C-44D0-B1AB-77BFF7CF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1A6F9E-2A72-4B70-A1E1-3A9EE20B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6093CD-F4C4-4B7B-B842-59BABA74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1415-750E-4628-8877-3F9AF277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46DD49-8B83-4D27-9524-BF85C0DE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F211A7-4CCA-4FF0-ABDE-01193872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C7AA9C-6DCA-4E9B-B075-A1316FD8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561606-7C49-477B-9379-C4707432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38842E-134D-467C-97D8-A5E2C752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DAA173-BA2C-4E9D-8A93-DAD76DB3C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9B5DF8-CAEC-4629-ABAB-D1DEF4637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0BFEF0-454C-4437-94E8-50D57F90D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50C6C2-A1C3-4B9A-8446-13C1001D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D636CD-0CB5-48A9-8CE6-8B123318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E26F-645F-43B2-B954-E8B37CA7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190000-96D5-4B8B-BF7A-7393389A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05B5AF-56D7-4C2E-A7EE-3231CC6D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6ABADF-779E-4393-913A-FCC1492B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18A6CF-B082-4467-A0AE-3CC61DEF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3ED19A-EE8E-471C-8FA6-1AA8D259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940F24-9697-489D-9A51-E731CB8A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E105BD-56D2-41E8-88FC-F68684A6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4B5BBA-A82D-4320-A408-F11D50115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8C6183-DF9D-4374-A9D1-F70BCF65E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081975-4B27-4D22-85BC-E58DFEE59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86AB9-2C53-4B25-88B3-BF07CD9E8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AF1A5D-F87F-4B45-AF8F-D6B6BFC1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320168-718F-476F-BAC4-2477A9BE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D9B40F-BDC4-45F8-9862-851A1643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5A094A-30F6-4EE4-8F10-F7B309FD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3A47BE-B178-41A5-9736-D8A94A1F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1644EF-5C86-4183-9D06-A088F78D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4E62F4-95F3-460F-9FD6-4587C1A1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5DBD44-DBCB-432B-BBBC-9343771E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65A805-2280-4F11-8D67-F3D1B46A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2D967E-AD3F-4099-BD2A-0761BA86C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059D-EADE-4E89-8E23-652526B88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48FC4A-CC96-48E1-9B68-74A661C73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9075E9-7926-4C5E-89B4-38B604B23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9D25AA-916F-4CDA-BFA0-841B6D1F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8AE01E-EDA3-4DED-BEF5-CDCE72E5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1661C3-0439-46F1-A1F8-89C036BA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E67674-492E-4921-855D-69EB6EA6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569E77-D13F-47A7-A377-E5B6B7D5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F5F320-BA16-47FA-B77C-41A5716E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EE206C-AC08-49AC-8361-2B5AC2D3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4DAF84-25E3-416B-9D7E-32A2DF4D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90DCB-D613-4278-9F56-D9D8C1C8E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A969E6-1891-4541-8859-F173CEDF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3614C8-3945-40DD-B349-AF4CBB4A4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822EFF-C3CF-4874-929E-94D217195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B48FDC-6E52-4110-BE92-9FCF75174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50507E-C647-4FF6-9678-4B14B214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1E8CB5-B484-44BD-B6C9-C792CAFC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F7F880-682D-4766-ABB1-02144AC7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3E68D5-76AB-4CD4-8496-8B37BCE4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56F77E-59E6-4E8C-A220-9368FC0E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D7D85D-6CF0-482F-B6B0-0427E8BB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4E46B-D759-4849-9425-5108EE14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22D557-E8CF-493A-926F-200AF3F5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521B76-D10F-49A0-83CC-02F5BB79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8E70AD-EC49-4D47-BB2D-6B26E5F7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7DBE9C-13E0-436A-AA0F-80AA20BDF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FFF542-E3D3-4135-A2D1-9F604DD9F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AA5082-006F-4947-815F-FB39C2D93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E1B9A9-FDB0-4E1D-A537-399473E7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941056-C9A3-4162-8647-1656A7D8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B86E83-1AA8-4CD4-BAB2-514C1BAE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2F5EA6-D334-4EC9-82DC-149D3C03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8C811-2230-4BD7-A1FC-1D9AE38C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BC1A97-2079-4A6B-9220-BDAEC4A3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87C85F-E13F-4484-B422-6F18D567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C3BDA2-F80F-4139-B8E7-8BA51DE7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7F9FAD-4ED2-45EE-A4FF-391339EA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8A3A9F-81BD-4208-B3AD-8FC66C4D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E43C74-56F2-4637-8E6A-E82EFB34C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EA7343-50AF-4A13-A35A-68109FB3E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2B50937-71B0-4626-81E6-954BECFAC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1065866-7F99-4D89-9A00-7AAD7AA1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F299D45-9345-4C60-A735-FE267DD0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16AF5-6692-4DA2-B365-892E3482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9244E1-69F9-4CC8-A697-9E64AC91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1B9466-63D3-40C3-854A-8B9DDF36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5A25B18-A3E1-48E6-B623-480C5299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03DB68-DFE0-45E6-A836-ECE49CA8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795122-DBC4-462A-BAEA-6234E5A7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9BA147-8896-4E86-8B5C-13D81A50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8768950-B672-452A-B679-060CBC9A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74FE6E-8A16-46B8-9CCA-8F120712B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5719CDF-F97E-43DD-B0D9-0F0D00B0C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2CF719-D404-40C4-B69E-4194CAD29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5E9A0-DDD9-495C-9BD2-3EEBE7A4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EB412C6-072C-4B62-8C8B-55F235DC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744596D-BD18-4A62-9F77-072615E0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D621B37-42E6-4471-981B-2AD69E25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00C7D57-2924-4AFE-86ED-DADDA141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AEF6B0A-BD21-485A-83F2-023D65A4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BC84A82-D013-4DB7-A627-672C5160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8F5350C-1A7A-4CDB-B8E5-B5B4A9C7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4BC7471-5C57-46F3-B903-FEB668A5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68DF992-CC7B-4D74-A6AA-534BFAD9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91E7098-2663-4A30-B2AF-B53A124F5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C072-3091-4868-B032-94907D74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9D1D6-3C88-496A-84AC-16E4C189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277F12F-7A23-4A3E-A6AB-D96A29E52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3AF6A9B-7661-4B2F-8C5C-5550EBB14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2BBD08C-BB27-4F35-9888-F9A2ADF1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EB33F32-C198-43C0-B104-A363F6E8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9AF532D-F4CA-4C0B-BC23-95077498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EC3468A-2E62-4FEA-B652-6DEAC23A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320BF43-4A2A-4A85-B870-BC1825B4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A3496BC-42F9-4927-B7BF-8368919F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776E6BD-81E3-493E-9345-11415C1A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4113096-E613-48D6-8281-0559A76E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DC14F-22F9-4994-8050-D35F9760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9A7FE3-7BD5-41AC-A6E1-BB4ADAD8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8B2B024-32D3-4AED-A7DC-B67E33277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A0C4244-3006-4491-A0C2-FE6B482A2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64E4AE2-492B-43FC-94BB-FE82D3391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D5598B0-11C8-415F-8833-17E85D32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C8F4017-5063-45C5-8CF8-A4E97E4B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1BDFC44-4A78-4681-86CB-E828BE49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E470C01-FF57-4F8B-95F7-9A4A8B02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9AFB04D-D35E-4026-A031-10692E23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71AE67B-7FBB-4D47-964E-29064DCC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239BE-6F8E-452B-953D-D2FE6A76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12D16BE-6FFA-48C6-B5FA-247A3C30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7C1FD89-DC0A-410E-A647-010DE097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61446CA-CD75-458D-8051-B8312529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5134C8D-4D59-47F6-A6B9-D6160A1CC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45B1361-A09F-4239-A249-4AE0A3CE3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B8B8A10-7A07-4C53-918F-8A7CAA26A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3650E62-CC6E-478B-B66E-E4E2D666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C92F997-52C4-4771-A869-66F62CC0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191776E-BF6C-46BF-B9D3-9AC103DA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46A93B3-8C50-4BD9-9938-ACF0C05C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497EE-5AB7-4959-83D2-6FDB3CF5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C0EA017-BD91-4EE5-B6C1-63949E79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CB3F1F2-4724-45A8-9EA0-64D03FBA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A7893E3-5A11-4F8E-BE90-89772BC1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F19D499-FE54-4B8D-82E2-9DC99987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3E5E026-8744-4CEB-BF81-41F7B1BE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E9E9F04-2522-4E24-9349-95CCAE76E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F0723F2-D092-4B53-A67A-5C17FDF8E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209DB58-D28C-4822-BAA1-10E3D5811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9D61A1D-DEC6-4629-824C-1FFAC212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7C38CE9-1894-46BF-B78E-1A56CE83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6384D-9C79-4DBC-B0C8-073E7A83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9CFA869-383B-46F0-9FBE-336FC769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CD459EE-A20C-4F81-B1DD-9782168E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B3F2741-444A-414C-BF08-AF2B8CCE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3DF11DA-77E5-43F3-9531-9051657D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30B6F15-6972-48D8-9F1A-17997C89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1E718D3-4613-46D6-9881-A8FF94DD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9FB9E20-6243-437F-BF9B-2E3113A2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401A9E2-369A-45BA-A7AD-24336C827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23A7756-2BE1-49B2-8003-00B9DC3D9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EAEBA40-332B-48C6-86BD-0FDA9B97D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4D42E-C5FE-46D0-993D-A144347C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289B429-2B7A-4FBC-A4C1-F870283F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A7AFEB0-5803-456E-8DD5-687203F0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5ED7049-31AD-45CC-9AAA-D39A4E60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CBC7436-E7D2-432E-B97C-41ADB7DA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C83FD5F-DDE2-4FFA-B4FF-9C086B82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484A11C-AB91-4379-88ED-FBE41D8F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93766D1-0C86-4195-8AB0-26289F57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03D613A-A39A-4E17-B904-E86363B4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14D6AE7-A1DC-4721-B9CA-5DC42E3B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6D6BC40-EEDA-428A-9ED1-A213277CF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9D664-F8A9-474C-8A87-82DE31E3C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A820C90-0BEF-4E60-8FB9-DE26C6372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8223BB1-8A71-4F92-B8A1-1EFE2EB68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9F92867-F017-4C75-A4FE-0B3A7557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CA003D1-1290-4110-AC44-C765CF2F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672C0F2-885F-4C15-BEEF-D5BE4D3B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84E51D9-BE40-4093-81FB-1A57E893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CA5CE5E-66C8-451E-9BA3-B5A4A794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7185DC3-4C55-476B-937E-2C0B34FA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BC34B65-16DE-4F05-9AF6-191ADA5E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2A92E5A-10EC-4F73-9C9A-EB7F68B5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EC0EB-8E40-44D8-81E9-6F68F1F3F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EB2CE73-6028-4D19-B890-D75DBF84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9388A59-378A-4403-BB28-B0A2A1FFD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38F8220-B90D-4741-800E-662E3A4C4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7095D47-47A8-4171-B8C7-86FED7D82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419836E-83B7-41B2-AEC0-0F1BA3A4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C42E0E5-AB66-4C13-B277-3DDCC5B0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BFB9CCB-A427-47FB-85B2-3B4DE15E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A655C0C-4220-4C74-A678-3970EA8C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58A6746-1F7E-4D46-BC39-41DDEFCB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7EEE006-A751-43DA-97FE-F1978867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4F3D9-6C80-4AD9-B560-44A72A69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B051FE4-95D7-454B-847D-33EAFF32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F1AA929-8661-4DCF-8F70-C6A74A9E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9E7FFBD-219F-4D15-ABB0-4539B193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4A468BA-16B8-4CF4-A858-BF1CAA2EA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0A8C3CD-B11F-4C35-B184-D7DD02B51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B9E9044-B908-4224-AEFF-E3019EC83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64141DB-A6B1-4DE7-A040-24FB097E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E3E7805-F609-4157-B637-6663F4DB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E04F454-D5BB-46FB-9D7D-03DD8C1D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C238F6D-508F-4D39-9C70-6A233BCF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7B8EF-E901-4D22-8186-B7DA66EA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8FF01A0-D62B-4365-877E-C8FCF6A4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BD9F428-686C-4FFB-B9C1-706C6C73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320662E-139E-4353-A375-7C059ED3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5187C9D-0806-463F-A07F-E6588C1C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9DFAB3B-4995-46A5-B870-E9C38FEC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3821D09-574F-4E07-8726-5D4C1FA19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78004CD-50C9-4BFE-9F92-005D91C4E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4705967-41ED-4A6B-954E-C8CF70107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23006B3-BAAD-426D-8A98-667A2543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8740493-5D7C-472B-BBD0-E44FD081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2175-7D48-4456-9A62-F3CAE9FC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12754-67E0-4D33-8EB2-7151E4D2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E8B16F0-9E42-4376-80ED-45BD740F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28BDDED-D06F-4740-8001-D728C9CB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8A63BE9-8766-496B-85FA-F28F6150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A5E325F-AE6C-4CE9-8BFD-6D2BF3F1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5154E7B-0377-4C14-92C7-544516A2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7C429CE-B5E7-44CA-A42B-35DB9E78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0E32D4C-5351-46C4-BE48-33F26E7A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A183035-1EBF-41C6-927A-B443902FD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1202924-D196-4E0D-A31A-64BA18E13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10051F8-F2DB-445D-98D1-653146889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80B54-ED39-4C56-AF64-D73A82C3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6C5038B-8EE4-44F5-9392-3AF157AA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AA7E36E-D9FD-4578-B4B5-4FB5FDA8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296AC98-32BA-484B-93F5-585135FB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BDE5164-A63E-442C-AE09-E7DF2738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D9E7D26-485F-4EBB-B408-111F814B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54DB503-A0AF-4D0E-8F2D-16F658C1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06E7C4E-4BAA-4312-B597-FC9AB185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15EB6EA-7D2C-4347-B8B2-FE0115A8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16928A9-BDC1-4A4B-916E-999F29DC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548B6D0-D5EF-4091-A38D-9BFBE11D2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6052B-12FB-4FC2-8F60-F3B996C3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E9081D8-7BDC-4D45-82F3-C1091676D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1E46B0E-87EE-4677-BA1B-815CC436F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ACF455C-3917-4688-903C-B11FF96F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09FB0BB-6713-4D13-B6D7-360FF8A0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130AA18-32C4-4720-8A96-885B95FD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C3F484E-032F-44E6-9304-F0A4DCAE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D9B143E-81C0-4282-AEBD-46F2BF15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159B9DD-7C66-42EB-B315-77BFB6A5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8E85237-9C66-45F0-A502-3EF7919B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51332A2-5073-454B-AD5E-A3A283A0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4B70E-3293-45F1-A5C3-7F3D78F1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B34737F-2DD1-4941-8D48-FDB07F4A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C3A15F1-BC36-4C8B-90F0-2DB82C2F7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02EC91D-B4FF-4A29-B259-50C101996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629AFF9-456C-4ED1-93A6-991918ECA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730F944-0C4A-429D-9D2B-035BCF35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50B863D-C45C-4FBA-A196-059F47E9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AF34B10-6DA3-478B-9DBB-B65EA03C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F150BA0-DE21-4E05-9CD9-F0936508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F2C3044-949A-4189-A9F9-0540F399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5034848-C99C-4AB6-9CB2-6ECB4368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76CA3-FBC3-41A4-9BD5-2995BE91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07BA343-A349-483A-BD8B-E7AC5B97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EB88C80-FFFA-4B00-94AF-5A78BE35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7476001-76A7-4F0A-9C03-88A34EAD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50B3B9E-4062-4F01-8F44-DE43B1011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86523F7-0A19-4AEF-9268-E23CF3896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ADF10-7A47-4A1C-BF1F-F8F62E34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4E8CC-926D-4AAB-99B4-92722DBC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A7B0B505-C426-4165-8A44-EFB9E18BA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A612E-F1A8-4E18-B080-42254F984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0835B041-22FD-4099-BD18-A7B1D444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33819653-4BFA-4186-AD89-DEC15F90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F52F45BA-A131-407E-A3E8-2C7A0015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05535A56-F6FF-44F9-8DD6-4D390A07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9EA33D71-8D61-458C-AF1C-DD39DC69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E491D744-40F9-45E5-916F-9892923C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DA247E96-52C2-4632-A87E-78F63F7B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2571CF79-50BB-48B3-9869-4382E25D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C91E2933-812B-4347-9A0C-E388C0AB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96C74C74-90BC-4A20-8F09-0E82D89DC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5EAEA-9BAA-46B3-B5E0-AE97218E2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781659BB-5207-4E9F-81AF-86F67F52E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261804F-EB4B-47F6-B7AB-83B6A0CD7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04C9D0C-9311-4B2A-A257-E8235E1C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2ACA970-4EB3-4070-953F-94EF8DE3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760D9C8-1D20-4600-963B-8979DC76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29B74DD-3623-499E-9985-8BC4F1A7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825286A-8C33-4EDF-B10E-664E5827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54BA394-B59C-4527-A106-1447A645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C199981-83B1-4BB9-BF6C-7B1965B4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CDD00E9-3A9A-4010-9CA0-DE742D38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1C4BE-4F54-4890-AA15-87CD72892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19A5F68-2912-43D6-B779-C2C392BD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0D5BCF7-CB0C-4403-870F-F8A989094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D385674-88FD-4F41-983F-00B1A1D25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39E72C6-45EE-42A6-B509-4471723FC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9605447-D22E-4CDF-92E8-5B14F3E0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C8AAE3E-242A-408B-9277-B785C7B9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B47DE3E-984B-46A4-93E1-D6A5BA56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39DBFFB-BF0D-4E9C-BEB0-18F6C1D7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DA55CF0-B0C3-4BFE-B978-38E1508C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311247B-42D0-44E5-8CF1-09DC3957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9706-BDEB-43C0-B476-E8EB8404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1169D-E4AD-43CE-BF7C-DA1ED00C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9A72D94-F063-47C3-A3AF-94C49786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CD357EB-396A-471D-9AAA-91EF3D9C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CD37952-04D0-40A3-AF8D-6B8DEA9F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34D1A6C-FB0D-4D43-B414-0196DB022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A7B5E7C-1165-4506-936D-C84747024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6CCB1EE-66B2-4C22-A14D-95D0A49E9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4EAA37A-96C9-404F-8108-90DB0DF5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40703F0-30C5-4E8B-B23B-00185625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677CC6A-2434-4786-B833-FACA2F49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B2EBFFB-7B3B-4485-8CF8-2EDC8659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C84DF-8002-4880-B5BF-61436F14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22B2218-D14C-4CF9-8933-8B18E127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3C51F80-E26C-472B-B4E4-F2DBBD75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A7B743B-B8AF-47A3-A041-E40D821F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08DC2E8-977C-4F7C-9576-95E0DA55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2B58C49-9017-4371-A77E-73F5A057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519A8D5-65BA-4DC1-88CB-EAF384FEA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8C21E33-6A63-4454-81EA-E6E1F15C7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5234D8B-2653-4E45-A5F2-0E95E7442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43167EE-B356-4471-B2F9-5974204B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F1A3934-300A-4915-8A41-02E58D70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41A2D-9097-4112-B347-4E3A38C9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5474C7D-0C4F-452E-BCAF-2AA831E8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32C1B37-DFD5-47A0-B7AC-6FAEB952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8745C47-FDA8-4794-BAA6-A3A3FB32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BB24E1D-D962-4514-9C37-A730A522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8B36099-1A8F-41DE-9EA8-4106D419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0EF856C-2F44-4796-8218-22C887B4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AA6CC9F-3C06-4BE3-A691-40ECC51E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BB65172-BB02-43FD-8162-917C531CB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EB7D147-DDDF-46F8-A6BD-C8DEB5A14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EE34182-4C3F-4349-831D-910DD1748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E4BED-F45D-4ABA-B571-DD1185C0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3CE3463-72CD-4548-A2E5-8B3EEE99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E8BDBF3-08BF-414D-8228-5A66AB42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3253E86-04F3-42EF-BB81-816C8CBD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1ADB4B1-D2A6-4218-9713-BF0A2F03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5AC0B3C-7131-4831-8B8B-0715422E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6B2E1C3-6540-40AF-8D39-CAB646A1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DEA29C0-7311-47A4-8219-11DC6971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6926648-B45C-4555-BED4-2A215566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1D7F1D6-1FD9-441F-AA51-0DFF81DF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3C95DC4-0A25-4AC9-A139-798BCEB81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B6E87-B099-44E7-849E-CB178025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2F39E4B-76AC-4282-A926-EE1161143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A8689D6-2CE9-475E-BA6B-BE67D67D1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31A9EC0-43EB-4D73-86BB-3A050FE9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660CF41-7ACD-4A4D-94DD-F4716A8C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E7C41CC-3706-4B2F-BBB2-8FA8C04A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6FD399F-50BE-4BCA-8FEE-96452AE8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9EEB1BB-7946-4310-8EB0-BB694677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275E9DA-CB15-40FB-A76F-4323E59E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AB5FCC3-2A89-48B5-B6A7-172D241D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9D2E297-6DC2-4892-AD78-F88D4BFF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604C5-5325-4FF9-8EA5-98061F31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04934D4-F279-4890-A31D-09822B24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795BB1B-6F8C-4403-8318-B0ABD2579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0C19ACB-3C08-43D5-AAE3-3AEFE2A29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5C91593-9A9C-4558-BAAF-7DCC31694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45D3321-9EED-4ED4-ABBF-DA75CAAC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4299E5D-F8CB-432B-AC3B-740A3F13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A5B8201-09F1-46B3-B1D0-6D22BB3C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4738710-FA39-41F0-84DB-61EA9385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83D4791-A2A5-456C-A347-CDF134EE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007C42D-BBA8-46D4-B877-31464F65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84230-5093-454D-BE31-84578CA3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9CF241B-39FB-4BBF-A032-765D3772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506C9B7-BC9D-43CF-9585-718196FB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59120CC-6278-428E-B267-A951DB10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8E61152-4CC5-4277-A49B-6CC636FC4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334A951-CDC9-4557-B663-5C1C415CC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5F97CE3-AF5C-426F-9841-A4407F68D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45745AA-90B8-40E0-AE1A-B9E649FB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DAC3858-DA88-4132-925A-40BE64B7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EDDF66D-8648-45FC-9F6C-3F7E8D7A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E9675A7-BF2E-4193-BB05-8C375D5C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AD45B-8806-4A58-9127-5D6B37D8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167CD9F-2A54-48CC-B1CF-DD6E2938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B5BB9A3-F338-45D0-8610-5E8F6A58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0FA80D6-FCEF-466E-8CFD-8F969D00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AB416D2-FD63-4590-AED4-2B1D941A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45BC0F4-0103-44D3-8FB9-02043CFD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10836C2-E8DD-433D-98EC-9C25416AE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47C5AF3-4C15-461C-8AC8-16A352537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909BA75-14B8-4FF9-B7A4-EB6FD29E0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25E5212-BCA0-431C-9319-21F42866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52C1373-004E-4B62-81E5-5EBFACF1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19FFA-6EE0-48F3-9FEC-EFD42EE3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29B0C40-6413-4823-86FD-86A20EE8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61EAD3B-8E5A-4524-8031-D209288F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CD0DF95-5801-4D71-A7AB-316E80B2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E90DD2C-B4B3-45C5-9C32-4D05BE12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BEB5D9C-158F-4F2F-A582-A897A8D2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9B57550-947F-4124-BE3B-9460C7BE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BC5ADFC-1871-4590-9D60-17FD40E6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F7BD0A9-7C93-47E9-965F-E22E0A15D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EAE3D4E-4936-4AF7-AB21-781C4FB29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EC89F2D-065B-4ED4-A44A-36ACAC62B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BAD03-915A-470E-885F-0DC6B4C95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D413FFB-1859-4444-8D88-3377596B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E100D89-2EFB-4AA9-A9FB-F8DCB1D5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0B139DF-5F1A-4E85-862F-32ACC55B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8CF1B10-F69C-41AD-83C9-D4A67EC6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D22F3E6-77F7-44DB-B399-47D831E6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B198EB9-6513-4F0F-8314-824D53A7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1C10E9B-010D-4062-9651-F8A74218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7EDF4FC-E3F0-48C7-A6C9-8A3BB090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1261381-13C6-4171-869A-1C70591F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0AD1699-2E19-40F1-B02D-BF8030ACA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0000-7645-4BAD-8D92-C51ED4FA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A9DA7-9525-4B7D-8405-493A1F6E6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DEA643F-7E7E-4AB0-8372-F69372C3F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4B898-FBE0-4924-856E-C793AC412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7E463-C9FD-4C85-98F1-9ECBAF3F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4E095-1C4C-452A-8DDB-233A35CB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70765-B7F8-42F8-8526-9E6DCB99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61726-3BA0-4816-ABE6-4BAADC62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A4E17-066E-407A-B4DB-BB3411CF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8D712-A20C-45FD-AC4B-45976FCF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1843D-A328-4D1E-BADD-8108EEF6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CDF38-6C7F-47EB-A9E5-DD55F7A0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5A8D-410C-493D-8ADD-F0A0B7CD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432FE-B5A0-433A-BA23-B5D27288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4BC9B-BB72-43CC-AA62-A8EC37C1F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CD8D3-0EA4-4589-9203-7158853CA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AB99E-19FA-49E1-A420-05D67DCAF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3C610-F0C3-4250-9287-B8453086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4BC0D-02B1-42EC-8B1F-0565D1D6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AFB9A-34C0-4B34-8E95-361D84C0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E95AE-F002-4EC2-A487-1C5ECDAE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FE060-49E5-4B50-9B1A-A147F4AE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28253-80E0-47EA-90A0-C8033D42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20DE-EDCD-4F49-B0E1-99E95082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7A849-EA30-41A8-A034-5D592007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73884-77DB-417F-BC86-BB020674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1A876-9989-4E9B-BF2E-7993866C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F44EE-5641-4AE4-BAA4-F3A34A370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7B2BE-5381-4015-9AAF-11277DC6A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6F22F-E370-4A5C-B56F-13E9BB4F2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32167-E16D-459D-B1D3-7C436EC4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C68FE-41CD-4F4E-AA21-A23ABA56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A5F9D-9739-408D-819C-89198EBE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31991-147F-4E2A-A8FE-4E48A61D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35E1-3129-4968-831D-F389E5A3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72CEA-1817-4A1D-B48A-44A9D1B7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602BF-BF69-4CD0-8ABC-F5CA3B6B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03B4C-4845-41BB-8BB4-BC6334A1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37D7C-BF56-4CC2-A18F-993998E6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ECB3A-93A7-4702-8896-2BB3C432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27748-9900-46CE-AB92-BE55DDEE7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01660-3D10-4629-82AE-9563535C0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7C458E-B2B7-44A5-A2AC-C3D4D5166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63D46B-5FE7-4A1B-A1FF-CBC3F016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13ABC-4979-45AB-8331-2E1B8591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-1440"/>
            <a:ext cx="9156600" cy="103500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" name="Freeform 7"/>
          <p:cNvGrpSpPr/>
          <p:nvPr/>
        </p:nvGrpSpPr>
        <p:grpSpPr>
          <a:xfrm>
            <a:off x="4383000" y="0"/>
            <a:ext cx="4761000" cy="603360"/>
            <a:chOff x="4383000" y="0"/>
            <a:chExt cx="4761000" cy="603360"/>
          </a:xfrm>
        </p:grpSpPr>
        <p:pic>
          <p:nvPicPr>
            <p:cNvPr id="2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1080"/>
              <a:ext cx="47595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383000" y="0"/>
              <a:ext cx="476100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4" name="Group 4"/>
          <p:cNvGrpSpPr/>
          <p:nvPr/>
        </p:nvGrpSpPr>
        <p:grpSpPr>
          <a:xfrm>
            <a:off x="-12600" y="203040"/>
            <a:ext cx="9174240" cy="648000"/>
            <a:chOff x="-12600" y="203040"/>
            <a:chExt cx="9174240" cy="648000"/>
          </a:xfrm>
        </p:grpSpPr>
        <p:grpSp>
          <p:nvGrpSpPr>
            <p:cNvPr id="5" name="Group 5"/>
            <p:cNvGrpSpPr/>
            <p:nvPr/>
          </p:nvGrpSpPr>
          <p:grpSpPr>
            <a:xfrm>
              <a:off x="-12600" y="203040"/>
              <a:ext cx="9150120" cy="648000"/>
              <a:chOff x="-12600" y="203040"/>
              <a:chExt cx="9150120" cy="648000"/>
            </a:xfrm>
          </p:grpSpPr>
          <p:pic>
            <p:nvPicPr>
              <p:cNvPr id="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03040"/>
                <a:ext cx="91263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" name="Text Box 7"/>
              <p:cNvSpPr/>
              <p:nvPr/>
            </p:nvSpPr>
            <p:spPr>
              <a:xfrm rot="21435600">
                <a:off x="-1224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8" name="Group 8"/>
            <p:cNvGrpSpPr/>
            <p:nvPr/>
          </p:nvGrpSpPr>
          <p:grpSpPr>
            <a:xfrm>
              <a:off x="-12600" y="248040"/>
              <a:ext cx="9174240" cy="561600"/>
              <a:chOff x="-12600" y="248040"/>
              <a:chExt cx="9174240" cy="561600"/>
            </a:xfrm>
          </p:grpSpPr>
          <p:pic>
            <p:nvPicPr>
              <p:cNvPr id="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3240" y="248040"/>
                <a:ext cx="91584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0"/>
              <p:cNvSpPr/>
              <p:nvPr/>
            </p:nvSpPr>
            <p:spPr>
              <a:xfrm rot="21435600">
                <a:off x="-1224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74DE-7F51-404C-A878-4F93EDE0B771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591B-8928-4BC2-BDC9-34527D9B0596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reeform 6"/>
          <p:cNvSpPr/>
          <p:nvPr/>
        </p:nvSpPr>
        <p:spPr>
          <a:xfrm>
            <a:off x="-3240" y="-1440"/>
            <a:ext cx="9156600" cy="103500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46" name="Freeform 7"/>
          <p:cNvGrpSpPr/>
          <p:nvPr/>
        </p:nvGrpSpPr>
        <p:grpSpPr>
          <a:xfrm>
            <a:off x="4383000" y="0"/>
            <a:ext cx="4761000" cy="603360"/>
            <a:chOff x="4383000" y="0"/>
            <a:chExt cx="4761000" cy="603360"/>
          </a:xfrm>
        </p:grpSpPr>
        <p:pic>
          <p:nvPicPr>
            <p:cNvPr id="447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1080"/>
              <a:ext cx="47595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383000" y="0"/>
              <a:ext cx="476100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449" name="Group 4"/>
          <p:cNvGrpSpPr/>
          <p:nvPr/>
        </p:nvGrpSpPr>
        <p:grpSpPr>
          <a:xfrm>
            <a:off x="-12600" y="203040"/>
            <a:ext cx="9174240" cy="648000"/>
            <a:chOff x="-12600" y="203040"/>
            <a:chExt cx="9174240" cy="648000"/>
          </a:xfrm>
        </p:grpSpPr>
        <p:grpSp>
          <p:nvGrpSpPr>
            <p:cNvPr id="450" name="Group 5"/>
            <p:cNvGrpSpPr/>
            <p:nvPr/>
          </p:nvGrpSpPr>
          <p:grpSpPr>
            <a:xfrm>
              <a:off x="-12600" y="203040"/>
              <a:ext cx="9150120" cy="648000"/>
              <a:chOff x="-12600" y="203040"/>
              <a:chExt cx="9150120" cy="648000"/>
            </a:xfrm>
          </p:grpSpPr>
          <p:pic>
            <p:nvPicPr>
              <p:cNvPr id="451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03040"/>
                <a:ext cx="91263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2" name="Text Box 7"/>
              <p:cNvSpPr/>
              <p:nvPr/>
            </p:nvSpPr>
            <p:spPr>
              <a:xfrm rot="21435600">
                <a:off x="-1224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453" name="Group 8"/>
            <p:cNvGrpSpPr/>
            <p:nvPr/>
          </p:nvGrpSpPr>
          <p:grpSpPr>
            <a:xfrm>
              <a:off x="-12600" y="248040"/>
              <a:ext cx="9174240" cy="561600"/>
              <a:chOff x="-12600" y="248040"/>
              <a:chExt cx="9174240" cy="561600"/>
            </a:xfrm>
          </p:grpSpPr>
          <p:pic>
            <p:nvPicPr>
              <p:cNvPr id="454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3240" y="248040"/>
                <a:ext cx="91584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5" name="Text Box 10"/>
              <p:cNvSpPr/>
              <p:nvPr/>
            </p:nvSpPr>
            <p:spPr>
              <a:xfrm rot="21435600">
                <a:off x="-1224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8401-507F-4DAB-8704-E4E363A38984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1B0B-B7E3-4134-A490-984F8724AB8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reeform 6"/>
          <p:cNvSpPr/>
          <p:nvPr/>
        </p:nvSpPr>
        <p:spPr>
          <a:xfrm>
            <a:off x="-3240" y="-1440"/>
            <a:ext cx="9156600" cy="103500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98" name="Freeform 7"/>
          <p:cNvGrpSpPr/>
          <p:nvPr/>
        </p:nvGrpSpPr>
        <p:grpSpPr>
          <a:xfrm>
            <a:off x="4383000" y="0"/>
            <a:ext cx="4761000" cy="603360"/>
            <a:chOff x="4383000" y="0"/>
            <a:chExt cx="4761000" cy="603360"/>
          </a:xfrm>
        </p:grpSpPr>
        <p:pic>
          <p:nvPicPr>
            <p:cNvPr id="499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1080"/>
              <a:ext cx="47595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/>
            <p:nvPr/>
          </p:nvSpPr>
          <p:spPr>
            <a:xfrm>
              <a:off x="4383000" y="0"/>
              <a:ext cx="476100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501" name="Group 4"/>
          <p:cNvGrpSpPr/>
          <p:nvPr/>
        </p:nvGrpSpPr>
        <p:grpSpPr>
          <a:xfrm>
            <a:off x="-12600" y="203040"/>
            <a:ext cx="9174240" cy="648000"/>
            <a:chOff x="-12600" y="203040"/>
            <a:chExt cx="9174240" cy="648000"/>
          </a:xfrm>
        </p:grpSpPr>
        <p:grpSp>
          <p:nvGrpSpPr>
            <p:cNvPr id="502" name="Group 5"/>
            <p:cNvGrpSpPr/>
            <p:nvPr/>
          </p:nvGrpSpPr>
          <p:grpSpPr>
            <a:xfrm>
              <a:off x="-12600" y="203040"/>
              <a:ext cx="9150120" cy="648000"/>
              <a:chOff x="-12600" y="203040"/>
              <a:chExt cx="9150120" cy="648000"/>
            </a:xfrm>
          </p:grpSpPr>
          <p:pic>
            <p:nvPicPr>
              <p:cNvPr id="503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03040"/>
                <a:ext cx="91263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4" name="Text Box 7"/>
              <p:cNvSpPr/>
              <p:nvPr/>
            </p:nvSpPr>
            <p:spPr>
              <a:xfrm rot="21435600">
                <a:off x="-1224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505" name="Group 8"/>
            <p:cNvGrpSpPr/>
            <p:nvPr/>
          </p:nvGrpSpPr>
          <p:grpSpPr>
            <a:xfrm>
              <a:off x="-12600" y="248040"/>
              <a:ext cx="9174240" cy="561600"/>
              <a:chOff x="-12600" y="248040"/>
              <a:chExt cx="9174240" cy="561600"/>
            </a:xfrm>
          </p:grpSpPr>
          <p:pic>
            <p:nvPicPr>
              <p:cNvPr id="506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3240" y="248040"/>
                <a:ext cx="91584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7" name="Text Box 10"/>
              <p:cNvSpPr/>
              <p:nvPr/>
            </p:nvSpPr>
            <p:spPr>
              <a:xfrm rot="21435600">
                <a:off x="-1224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7C7A-BA29-4F30-83F4-89E9FC8C575B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A168-8634-49BC-8653-7881AF3BEB37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reeform 6"/>
          <p:cNvSpPr/>
          <p:nvPr/>
        </p:nvSpPr>
        <p:spPr>
          <a:xfrm>
            <a:off x="-3240" y="-1440"/>
            <a:ext cx="9156600" cy="103500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50" name="Freeform 7"/>
          <p:cNvGrpSpPr/>
          <p:nvPr/>
        </p:nvGrpSpPr>
        <p:grpSpPr>
          <a:xfrm>
            <a:off x="4383000" y="0"/>
            <a:ext cx="4761000" cy="603360"/>
            <a:chOff x="4383000" y="0"/>
            <a:chExt cx="4761000" cy="603360"/>
          </a:xfrm>
        </p:grpSpPr>
        <p:pic>
          <p:nvPicPr>
            <p:cNvPr id="551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1080"/>
              <a:ext cx="47595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"/>
            <p:cNvSpPr/>
            <p:nvPr/>
          </p:nvSpPr>
          <p:spPr>
            <a:xfrm>
              <a:off x="4383000" y="0"/>
              <a:ext cx="476100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553" name="Group 4"/>
          <p:cNvGrpSpPr/>
          <p:nvPr/>
        </p:nvGrpSpPr>
        <p:grpSpPr>
          <a:xfrm>
            <a:off x="-12600" y="203040"/>
            <a:ext cx="9174240" cy="648000"/>
            <a:chOff x="-12600" y="203040"/>
            <a:chExt cx="9174240" cy="648000"/>
          </a:xfrm>
        </p:grpSpPr>
        <p:grpSp>
          <p:nvGrpSpPr>
            <p:cNvPr id="554" name="Group 5"/>
            <p:cNvGrpSpPr/>
            <p:nvPr/>
          </p:nvGrpSpPr>
          <p:grpSpPr>
            <a:xfrm>
              <a:off x="-12600" y="203040"/>
              <a:ext cx="9150120" cy="648000"/>
              <a:chOff x="-12600" y="203040"/>
              <a:chExt cx="9150120" cy="648000"/>
            </a:xfrm>
          </p:grpSpPr>
          <p:pic>
            <p:nvPicPr>
              <p:cNvPr id="555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03040"/>
                <a:ext cx="91263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6" name="Text Box 7"/>
              <p:cNvSpPr/>
              <p:nvPr/>
            </p:nvSpPr>
            <p:spPr>
              <a:xfrm rot="21435600">
                <a:off x="-1224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557" name="Group 8"/>
            <p:cNvGrpSpPr/>
            <p:nvPr/>
          </p:nvGrpSpPr>
          <p:grpSpPr>
            <a:xfrm>
              <a:off x="-12600" y="248040"/>
              <a:ext cx="9174240" cy="561600"/>
              <a:chOff x="-12600" y="248040"/>
              <a:chExt cx="9174240" cy="561600"/>
            </a:xfrm>
          </p:grpSpPr>
          <p:pic>
            <p:nvPicPr>
              <p:cNvPr id="558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3240" y="248040"/>
                <a:ext cx="91584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9" name="Text Box 10"/>
              <p:cNvSpPr/>
              <p:nvPr/>
            </p:nvSpPr>
            <p:spPr>
              <a:xfrm rot="21435600">
                <a:off x="-1224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7D96-DAA7-48C4-821E-EF1C5C61F1A5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D050-BE38-4BB0-8027-A820B7EEA28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Freeform 6"/>
          <p:cNvSpPr/>
          <p:nvPr/>
        </p:nvSpPr>
        <p:spPr>
          <a:xfrm>
            <a:off x="-3240" y="-1440"/>
            <a:ext cx="9156600" cy="103500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02" name="Freeform 7"/>
          <p:cNvGrpSpPr/>
          <p:nvPr/>
        </p:nvGrpSpPr>
        <p:grpSpPr>
          <a:xfrm>
            <a:off x="4383000" y="0"/>
            <a:ext cx="4761000" cy="603360"/>
            <a:chOff x="4383000" y="0"/>
            <a:chExt cx="4761000" cy="603360"/>
          </a:xfrm>
        </p:grpSpPr>
        <p:pic>
          <p:nvPicPr>
            <p:cNvPr id="603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1080"/>
              <a:ext cx="47595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"/>
            <p:cNvSpPr/>
            <p:nvPr/>
          </p:nvSpPr>
          <p:spPr>
            <a:xfrm>
              <a:off x="4383000" y="0"/>
              <a:ext cx="476100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605" name="Group 4"/>
          <p:cNvGrpSpPr/>
          <p:nvPr/>
        </p:nvGrpSpPr>
        <p:grpSpPr>
          <a:xfrm>
            <a:off x="-12600" y="203040"/>
            <a:ext cx="9174240" cy="648000"/>
            <a:chOff x="-12600" y="203040"/>
            <a:chExt cx="9174240" cy="648000"/>
          </a:xfrm>
        </p:grpSpPr>
        <p:grpSp>
          <p:nvGrpSpPr>
            <p:cNvPr id="606" name="Group 5"/>
            <p:cNvGrpSpPr/>
            <p:nvPr/>
          </p:nvGrpSpPr>
          <p:grpSpPr>
            <a:xfrm>
              <a:off x="-12600" y="203040"/>
              <a:ext cx="9150120" cy="648000"/>
              <a:chOff x="-12600" y="203040"/>
              <a:chExt cx="9150120" cy="648000"/>
            </a:xfrm>
          </p:grpSpPr>
          <p:pic>
            <p:nvPicPr>
              <p:cNvPr id="6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03040"/>
                <a:ext cx="91263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8" name="Text Box 7"/>
              <p:cNvSpPr/>
              <p:nvPr/>
            </p:nvSpPr>
            <p:spPr>
              <a:xfrm rot="21435600">
                <a:off x="-1224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609" name="Group 8"/>
            <p:cNvGrpSpPr/>
            <p:nvPr/>
          </p:nvGrpSpPr>
          <p:grpSpPr>
            <a:xfrm>
              <a:off x="-12600" y="248040"/>
              <a:ext cx="9174240" cy="561600"/>
              <a:chOff x="-12600" y="248040"/>
              <a:chExt cx="9174240" cy="561600"/>
            </a:xfrm>
          </p:grpSpPr>
          <p:pic>
            <p:nvPicPr>
              <p:cNvPr id="6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3240" y="248040"/>
                <a:ext cx="91584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1" name="Text Box 10"/>
              <p:cNvSpPr/>
              <p:nvPr/>
            </p:nvSpPr>
            <p:spPr>
              <a:xfrm rot="21435600">
                <a:off x="-1224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5D63-C502-40F8-AD7C-387E2CD1B787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84D8-587F-46DB-957C-28A4B5B8976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Freeform 6"/>
          <p:cNvSpPr/>
          <p:nvPr/>
        </p:nvSpPr>
        <p:spPr>
          <a:xfrm>
            <a:off x="-3240" y="-1440"/>
            <a:ext cx="9156600" cy="103500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54" name="Freeform 7"/>
          <p:cNvGrpSpPr/>
          <p:nvPr/>
        </p:nvGrpSpPr>
        <p:grpSpPr>
          <a:xfrm>
            <a:off x="4383000" y="0"/>
            <a:ext cx="4761000" cy="603360"/>
            <a:chOff x="4383000" y="0"/>
            <a:chExt cx="4761000" cy="603360"/>
          </a:xfrm>
        </p:grpSpPr>
        <p:pic>
          <p:nvPicPr>
            <p:cNvPr id="655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1080"/>
              <a:ext cx="47595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"/>
            <p:cNvSpPr/>
            <p:nvPr/>
          </p:nvSpPr>
          <p:spPr>
            <a:xfrm>
              <a:off x="4383000" y="0"/>
              <a:ext cx="476100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657" name="Group 4"/>
          <p:cNvGrpSpPr/>
          <p:nvPr/>
        </p:nvGrpSpPr>
        <p:grpSpPr>
          <a:xfrm>
            <a:off x="-12600" y="203040"/>
            <a:ext cx="9174240" cy="648000"/>
            <a:chOff x="-12600" y="203040"/>
            <a:chExt cx="9174240" cy="648000"/>
          </a:xfrm>
        </p:grpSpPr>
        <p:grpSp>
          <p:nvGrpSpPr>
            <p:cNvPr id="658" name="Group 5"/>
            <p:cNvGrpSpPr/>
            <p:nvPr/>
          </p:nvGrpSpPr>
          <p:grpSpPr>
            <a:xfrm>
              <a:off x="-12600" y="203040"/>
              <a:ext cx="9150120" cy="648000"/>
              <a:chOff x="-12600" y="203040"/>
              <a:chExt cx="9150120" cy="648000"/>
            </a:xfrm>
          </p:grpSpPr>
          <p:pic>
            <p:nvPicPr>
              <p:cNvPr id="659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03040"/>
                <a:ext cx="91263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0" name="Text Box 7"/>
              <p:cNvSpPr/>
              <p:nvPr/>
            </p:nvSpPr>
            <p:spPr>
              <a:xfrm rot="21435600">
                <a:off x="-1224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661" name="Group 8"/>
            <p:cNvGrpSpPr/>
            <p:nvPr/>
          </p:nvGrpSpPr>
          <p:grpSpPr>
            <a:xfrm>
              <a:off x="-12600" y="248040"/>
              <a:ext cx="9174240" cy="561600"/>
              <a:chOff x="-12600" y="248040"/>
              <a:chExt cx="9174240" cy="561600"/>
            </a:xfrm>
          </p:grpSpPr>
          <p:pic>
            <p:nvPicPr>
              <p:cNvPr id="662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3240" y="248040"/>
                <a:ext cx="91584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3" name="Text Box 10"/>
              <p:cNvSpPr/>
              <p:nvPr/>
            </p:nvSpPr>
            <p:spPr>
              <a:xfrm rot="21435600">
                <a:off x="-1224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B29B-8D6C-4930-9AA4-EFCFD11CEE27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54F5-A47D-46A9-BC01-2AD3C2637EB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Freeform 6"/>
          <p:cNvSpPr/>
          <p:nvPr/>
        </p:nvSpPr>
        <p:spPr>
          <a:xfrm>
            <a:off x="-3240" y="-1440"/>
            <a:ext cx="9156600" cy="103500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706" name="Freeform 7"/>
          <p:cNvGrpSpPr/>
          <p:nvPr/>
        </p:nvGrpSpPr>
        <p:grpSpPr>
          <a:xfrm>
            <a:off x="4383000" y="0"/>
            <a:ext cx="4761000" cy="603360"/>
            <a:chOff x="4383000" y="0"/>
            <a:chExt cx="4761000" cy="603360"/>
          </a:xfrm>
        </p:grpSpPr>
        <p:pic>
          <p:nvPicPr>
            <p:cNvPr id="707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1080"/>
              <a:ext cx="47595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"/>
            <p:cNvSpPr/>
            <p:nvPr/>
          </p:nvSpPr>
          <p:spPr>
            <a:xfrm>
              <a:off x="4383000" y="0"/>
              <a:ext cx="476100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709" name="Group 4"/>
          <p:cNvGrpSpPr/>
          <p:nvPr/>
        </p:nvGrpSpPr>
        <p:grpSpPr>
          <a:xfrm>
            <a:off x="-12600" y="203040"/>
            <a:ext cx="9174240" cy="648000"/>
            <a:chOff x="-12600" y="203040"/>
            <a:chExt cx="9174240" cy="648000"/>
          </a:xfrm>
        </p:grpSpPr>
        <p:grpSp>
          <p:nvGrpSpPr>
            <p:cNvPr id="710" name="Group 5"/>
            <p:cNvGrpSpPr/>
            <p:nvPr/>
          </p:nvGrpSpPr>
          <p:grpSpPr>
            <a:xfrm>
              <a:off x="-12600" y="203040"/>
              <a:ext cx="9150120" cy="648000"/>
              <a:chOff x="-12600" y="203040"/>
              <a:chExt cx="9150120" cy="648000"/>
            </a:xfrm>
          </p:grpSpPr>
          <p:pic>
            <p:nvPicPr>
              <p:cNvPr id="711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03040"/>
                <a:ext cx="91263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2" name="Text Box 7"/>
              <p:cNvSpPr/>
              <p:nvPr/>
            </p:nvSpPr>
            <p:spPr>
              <a:xfrm rot="21435600">
                <a:off x="-1224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713" name="Group 8"/>
            <p:cNvGrpSpPr/>
            <p:nvPr/>
          </p:nvGrpSpPr>
          <p:grpSpPr>
            <a:xfrm>
              <a:off x="-12600" y="248040"/>
              <a:ext cx="9174240" cy="561600"/>
              <a:chOff x="-12600" y="248040"/>
              <a:chExt cx="9174240" cy="561600"/>
            </a:xfrm>
          </p:grpSpPr>
          <p:pic>
            <p:nvPicPr>
              <p:cNvPr id="714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3240" y="248040"/>
                <a:ext cx="91584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Text Box 10"/>
              <p:cNvSpPr/>
              <p:nvPr/>
            </p:nvSpPr>
            <p:spPr>
              <a:xfrm rot="21435600">
                <a:off x="-1224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138E-58D6-4EEA-A1C6-1300499A964F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CB67-D2D4-489D-9164-1ED5A2CCCC0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8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9" name="Freeform 15"/>
          <p:cNvSpPr/>
          <p:nvPr/>
        </p:nvSpPr>
        <p:spPr>
          <a:xfrm flipV="1">
            <a:off x="-2880" y="5815440"/>
            <a:ext cx="9156600" cy="104148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760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761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2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18C0-8478-4B87-8683-325EB10CA25F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 type="sldNum" idx="4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0523-7700-4095-AB4E-9471874AEF7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5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6" name="Freeform 15"/>
          <p:cNvSpPr/>
          <p:nvPr/>
        </p:nvSpPr>
        <p:spPr>
          <a:xfrm flipV="1">
            <a:off x="-2880" y="5815440"/>
            <a:ext cx="9156600" cy="104148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07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808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07A0-570A-49E2-AF81-740AD27C4267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ftr" idx="5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 type="sldNum" idx="51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1270-9C41-41E1-874B-8BBBC14D20B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2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3" name="Freeform 15"/>
          <p:cNvSpPr/>
          <p:nvPr/>
        </p:nvSpPr>
        <p:spPr>
          <a:xfrm flipV="1">
            <a:off x="-2880" y="5815440"/>
            <a:ext cx="9156600" cy="104148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54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855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6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AFA0-1542-4494-8742-70985896C24C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5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5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2F2D-8BDB-4E88-8AB2-6A64DCA0FFF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9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0" name="Freeform 15"/>
          <p:cNvSpPr/>
          <p:nvPr/>
        </p:nvSpPr>
        <p:spPr>
          <a:xfrm flipV="1">
            <a:off x="-2880" y="5815440"/>
            <a:ext cx="9156600" cy="104148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01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902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3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A610-E2E6-4AB5-A270-31C7D0127C74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85F8-EA54-446B-BB80-9C348B8D9AA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Freeform 15"/>
          <p:cNvSpPr/>
          <p:nvPr/>
        </p:nvSpPr>
        <p:spPr>
          <a:xfrm flipV="1">
            <a:off x="-2880" y="5815440"/>
            <a:ext cx="9156600" cy="104148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5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56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2A60-0C59-4487-A053-8699176137DB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878B-8644-42CF-91EC-69E8B77FF66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6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7" name="Freeform 15"/>
          <p:cNvSpPr/>
          <p:nvPr/>
        </p:nvSpPr>
        <p:spPr>
          <a:xfrm flipV="1">
            <a:off x="-2880" y="5815440"/>
            <a:ext cx="9156600" cy="104148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48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949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0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7D13-05A8-4A5A-AFA2-C648AF74BD9D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 type="ftr" idx="5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 type="sldNum" idx="6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F1A0-D520-4644-83C4-E4DDAF77E0B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3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4" name="Freeform 15"/>
          <p:cNvSpPr/>
          <p:nvPr/>
        </p:nvSpPr>
        <p:spPr>
          <a:xfrm flipV="1">
            <a:off x="-2880" y="5815440"/>
            <a:ext cx="9156600" cy="104148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95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996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7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D0E1-3971-43B9-806F-645ACD8C17B1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 type="ftr" idx="6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 type="sldNum" idx="6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9081-7751-4C25-B98F-38D3B1BF21A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1" name="Freeform 15"/>
          <p:cNvSpPr/>
          <p:nvPr/>
        </p:nvSpPr>
        <p:spPr>
          <a:xfrm flipV="1">
            <a:off x="-2880" y="5815440"/>
            <a:ext cx="9156600" cy="104148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042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1043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4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5F94-99A0-442D-8212-8EC1454D12B5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 type="ftr" idx="6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 type="sldNum" idx="6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CCA6-2911-412C-A543-8294A6265D4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7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8" name="Freeform 15"/>
          <p:cNvSpPr/>
          <p:nvPr/>
        </p:nvSpPr>
        <p:spPr>
          <a:xfrm flipV="1">
            <a:off x="-2880" y="5815440"/>
            <a:ext cx="9156600" cy="104148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089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1090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1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1580-0327-4F33-9B49-6DA4673E1E82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 type="ftr" idx="6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 type="sldNum" idx="6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1308-F3B6-4260-829D-936E43FE900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5" name="Freeform 15"/>
          <p:cNvSpPr/>
          <p:nvPr/>
        </p:nvSpPr>
        <p:spPr>
          <a:xfrm flipV="1">
            <a:off x="-2880" y="5815440"/>
            <a:ext cx="9156600" cy="104148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136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1137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8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095E-9620-434C-A127-1D4A7E54247E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 type="ftr" idx="7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 type="sldNum" idx="7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9186-03B8-466E-A792-39E4869146A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2" name="Freeform 15"/>
          <p:cNvSpPr/>
          <p:nvPr/>
        </p:nvSpPr>
        <p:spPr>
          <a:xfrm flipV="1">
            <a:off x="-2880" y="5815440"/>
            <a:ext cx="9156600" cy="104148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183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1184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5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353E-FE54-4580-862A-B2841F8F7936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 type="ftr" idx="7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 type="sldNum" idx="7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8A2D-E6F9-418F-9B7F-99CD581CB1E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8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9" name="Freeform 15"/>
          <p:cNvSpPr/>
          <p:nvPr/>
        </p:nvSpPr>
        <p:spPr>
          <a:xfrm flipV="1">
            <a:off x="-2880" y="5815440"/>
            <a:ext cx="9156600" cy="104148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230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1231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2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25E7-9AD4-4328-B114-F4A6578EDFF5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 type="ftr" idx="7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 type="sldNum" idx="7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0E92-22F3-4937-A437-131AF541E4F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5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 type="dt" idx="79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7D81-6BB6-435B-B4C2-819876A3BF70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1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 type="sldNum" idx="80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4797-8D70-4E78-8227-D363D6CFDA6C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PlaceHolder 5"/>
          <p:cNvSpPr>
            <a:spLocks noGrp="1"/>
          </p:cNvSpPr>
          <p:nvPr>
            <p:ph type="ftr" idx="81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8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 type="dt" idx="82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5ABA-A74D-4407-A84E-CFC8F349D15A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1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 type="ftr" idx="83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 type="sldNum" idx="84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67D9-A63B-4BBC-AE24-62B6BF8AF7CF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1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2" name="Oval 8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3" name="Oval 9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4" name="Oval 10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 type="dt" idx="85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9BA9-8E20-4B27-91B1-0E67EDE1DFE0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1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 type="ftr" idx="86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 type="sldNum" idx="87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0E7D-C48F-41D3-82B0-A5C47AA562E1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B240-060A-4976-8B83-EAE2E661AE86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1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1425-2D08-46A2-99F4-16E67EA3AA45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7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 type="dt" idx="88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0281-E9D1-4FD0-83E9-CC0484855128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1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 type="ftr" idx="89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PlaceHolder 5"/>
          <p:cNvSpPr>
            <a:spLocks noGrp="1"/>
          </p:cNvSpPr>
          <p:nvPr>
            <p:ph type="sldNum" idx="90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1F6D-50F9-452E-AB29-A1C0890BB799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0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 type="dt" idx="9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2D2F-4F9C-43AC-9081-9D732457BDD8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1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 type="ftr" idx="9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 type="sldNum" idx="9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E0EA-4FAC-49D4-B833-5BBB137D774E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3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 type="dt" idx="9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5AC3-A126-4C0B-9BF7-92873DEF4308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1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 type="ftr" idx="9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PlaceHolder 5"/>
          <p:cNvSpPr>
            <a:spLocks noGrp="1"/>
          </p:cNvSpPr>
          <p:nvPr>
            <p:ph type="sldNum" idx="9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723E-8729-46E0-863E-CC2B6470464B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 type="dt" idx="97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CC8D-F247-45E4-A218-109F98FD68AF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1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 type="ftr" idx="98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5"/>
          <p:cNvSpPr>
            <a:spLocks noGrp="1"/>
          </p:cNvSpPr>
          <p:nvPr>
            <p:ph type="sldNum" idx="99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63C8-E9FE-4BCA-8F8A-BC5225F657D0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 type="dt" idx="100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0FAC-8066-4DCB-9C88-1BD19DC6E6A8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1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 type="ftr" idx="101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 type="sldNum" idx="102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65B6-2BD7-442D-BD36-CE5B2F8C691D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2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 type="dt" idx="103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9840-0B6C-4BE4-A054-21754AEBA758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1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 type="ftr" idx="104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PlaceHolder 5"/>
          <p:cNvSpPr>
            <a:spLocks noGrp="1"/>
          </p:cNvSpPr>
          <p:nvPr>
            <p:ph type="sldNum" idx="105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561C-678F-40CB-81D1-9462CD213B1A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5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 type="dt" idx="106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88C5-C6CE-49C8-AB30-D25A1641A009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1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 type="ftr" idx="107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5"/>
          <p:cNvSpPr>
            <a:spLocks noGrp="1"/>
          </p:cNvSpPr>
          <p:nvPr>
            <p:ph type="sldNum" idx="108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4E25-CBFC-4E2B-B4AF-6942819EF3B0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8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 type="dt" idx="109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0D90-C41A-4B31-BC2E-B3D6F3182353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1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 type="ftr" idx="110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 type="sldNum" idx="111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67BB-B61A-4873-AF72-856446DB1262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1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1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901D-ECD1-45A9-BEA5-FAAE391C9CB7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1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CE53-0982-4B23-B33A-5DB0C0AC5AF5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1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 type="dt" idx="112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0E62-E831-43AA-95F7-0EAE11A0ACB1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1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PlaceHolder 4"/>
          <p:cNvSpPr>
            <a:spLocks noGrp="1"/>
          </p:cNvSpPr>
          <p:nvPr>
            <p:ph type="sldNum" idx="11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992E-11CF-45B9-90F1-033549B703FA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PlaceHolder 5"/>
          <p:cNvSpPr>
            <a:spLocks noGrp="1"/>
          </p:cNvSpPr>
          <p:nvPr>
            <p:ph type="ftr" idx="114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 type="dt" idx="115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0450-1502-475C-80CE-50861A2DA67C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1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 type="ftr" idx="116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PlaceHolder 5"/>
          <p:cNvSpPr>
            <a:spLocks noGrp="1"/>
          </p:cNvSpPr>
          <p:nvPr>
            <p:ph type="sldNum" idx="117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CD59-54E7-464D-BF8C-D31307E3DE7E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7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8" name="Oval 8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9" name="Oval 9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0" name="Oval 10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 type="dt" idx="118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AC44-6F41-4330-BBF1-933431CD6F9D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1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 type="ftr" idx="119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PlaceHolder 5"/>
          <p:cNvSpPr>
            <a:spLocks noGrp="1"/>
          </p:cNvSpPr>
          <p:nvPr>
            <p:ph type="sldNum" idx="120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BE43-4C35-43E4-8D3E-2DAC3D2EC56A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3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 type="dt" idx="12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90FA-E52A-409E-B148-B70ECB8E663F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1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 type="ftr" idx="12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PlaceHolder 5"/>
          <p:cNvSpPr>
            <a:spLocks noGrp="1"/>
          </p:cNvSpPr>
          <p:nvPr>
            <p:ph type="sldNum" idx="12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BC11-5F32-4369-AA78-1A96E53E3F64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 type="dt" idx="12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3B00-E166-4676-AF09-17E6A63098E1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1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PlaceHolder 4"/>
          <p:cNvSpPr>
            <a:spLocks noGrp="1"/>
          </p:cNvSpPr>
          <p:nvPr>
            <p:ph type="ftr" idx="12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PlaceHolder 5"/>
          <p:cNvSpPr>
            <a:spLocks noGrp="1"/>
          </p:cNvSpPr>
          <p:nvPr>
            <p:ph type="sldNum" idx="12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BC59-2804-4165-86A1-A985242D7D0D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 type="dt" idx="127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D33D-AF3A-4F2F-A759-915493D58548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1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 type="ftr" idx="128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PlaceHolder 5"/>
          <p:cNvSpPr>
            <a:spLocks noGrp="1"/>
          </p:cNvSpPr>
          <p:nvPr>
            <p:ph type="sldNum" idx="129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717E-CA3D-4A49-ABFA-5FC908DDCE25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2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95" name="PlaceHolder 3"/>
          <p:cNvSpPr>
            <a:spLocks noGrp="1"/>
          </p:cNvSpPr>
          <p:nvPr>
            <p:ph type="dt" idx="130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B1CC-37CE-475E-AD8D-963B09E23C6A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1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PlaceHolder 4"/>
          <p:cNvSpPr>
            <a:spLocks noGrp="1"/>
          </p:cNvSpPr>
          <p:nvPr>
            <p:ph type="ftr" idx="131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PlaceHolder 5"/>
          <p:cNvSpPr>
            <a:spLocks noGrp="1"/>
          </p:cNvSpPr>
          <p:nvPr>
            <p:ph type="sldNum" idx="132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456B-392B-4D3B-9CA8-BC8AC268B40F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5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 type="dt" idx="133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0FDE-C6A6-4394-8DEF-617AA1FF3763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1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 type="ftr" idx="134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PlaceHolder 5"/>
          <p:cNvSpPr>
            <a:spLocks noGrp="1"/>
          </p:cNvSpPr>
          <p:nvPr>
            <p:ph type="sldNum" idx="135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2791-85F9-4343-A696-08E604DB5B29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8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 type="dt" idx="136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BE53-7801-4F2E-B298-41E61EC3818B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1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PlaceHolder 4"/>
          <p:cNvSpPr>
            <a:spLocks noGrp="1"/>
          </p:cNvSpPr>
          <p:nvPr>
            <p:ph type="ftr" idx="137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PlaceHolder 5"/>
          <p:cNvSpPr>
            <a:spLocks noGrp="1"/>
          </p:cNvSpPr>
          <p:nvPr>
            <p:ph type="sldNum" idx="138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3348-7B75-4616-B8DE-44B909260E0E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1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 type="dt" idx="139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0790-35F3-4C8F-92F5-38ECA4595647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1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PlaceHolder 4"/>
          <p:cNvSpPr>
            <a:spLocks noGrp="1"/>
          </p:cNvSpPr>
          <p:nvPr>
            <p:ph type="ftr" idx="140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PlaceHolder 5"/>
          <p:cNvSpPr>
            <a:spLocks noGrp="1"/>
          </p:cNvSpPr>
          <p:nvPr>
            <p:ph type="sldNum" idx="141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B959-D619-48EF-8B00-24BABEF2DF32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reeform 6"/>
          <p:cNvSpPr/>
          <p:nvPr/>
        </p:nvSpPr>
        <p:spPr>
          <a:xfrm>
            <a:off x="-3240" y="-1440"/>
            <a:ext cx="9156600" cy="103500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86" name="Freeform 7"/>
          <p:cNvGrpSpPr/>
          <p:nvPr/>
        </p:nvGrpSpPr>
        <p:grpSpPr>
          <a:xfrm>
            <a:off x="4383000" y="0"/>
            <a:ext cx="4761000" cy="603360"/>
            <a:chOff x="4383000" y="0"/>
            <a:chExt cx="4761000" cy="603360"/>
          </a:xfrm>
        </p:grpSpPr>
        <p:pic>
          <p:nvPicPr>
            <p:cNvPr id="187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1080"/>
              <a:ext cx="47595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4383000" y="0"/>
              <a:ext cx="476100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89" name="Group 4"/>
          <p:cNvGrpSpPr/>
          <p:nvPr/>
        </p:nvGrpSpPr>
        <p:grpSpPr>
          <a:xfrm>
            <a:off x="-12600" y="203040"/>
            <a:ext cx="9174240" cy="648000"/>
            <a:chOff x="-12600" y="203040"/>
            <a:chExt cx="9174240" cy="648000"/>
          </a:xfrm>
        </p:grpSpPr>
        <p:grpSp>
          <p:nvGrpSpPr>
            <p:cNvPr id="190" name="Group 5"/>
            <p:cNvGrpSpPr/>
            <p:nvPr/>
          </p:nvGrpSpPr>
          <p:grpSpPr>
            <a:xfrm>
              <a:off x="-12600" y="203040"/>
              <a:ext cx="9150120" cy="648000"/>
              <a:chOff x="-12600" y="203040"/>
              <a:chExt cx="9150120" cy="648000"/>
            </a:xfrm>
          </p:grpSpPr>
          <p:pic>
            <p:nvPicPr>
              <p:cNvPr id="191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03040"/>
                <a:ext cx="91263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Text Box 7"/>
              <p:cNvSpPr/>
              <p:nvPr/>
            </p:nvSpPr>
            <p:spPr>
              <a:xfrm rot="21435600">
                <a:off x="-1224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193" name="Group 8"/>
            <p:cNvGrpSpPr/>
            <p:nvPr/>
          </p:nvGrpSpPr>
          <p:grpSpPr>
            <a:xfrm>
              <a:off x="-12600" y="248040"/>
              <a:ext cx="9174240" cy="561600"/>
              <a:chOff x="-12600" y="248040"/>
              <a:chExt cx="9174240" cy="561600"/>
            </a:xfrm>
          </p:grpSpPr>
          <p:pic>
            <p:nvPicPr>
              <p:cNvPr id="194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3240" y="248040"/>
                <a:ext cx="91584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" name="Text Box 10"/>
              <p:cNvSpPr/>
              <p:nvPr/>
            </p:nvSpPr>
            <p:spPr>
              <a:xfrm rot="21435600">
                <a:off x="-1224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CF8C-4F56-4784-87FB-132259880EDE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8C4E-9878-4E1B-A855-12804BCB5EC6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67" name="PlaceHolder 3"/>
          <p:cNvSpPr>
            <a:spLocks noGrp="1"/>
          </p:cNvSpPr>
          <p:nvPr>
            <p:ph type="dt" idx="142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71A5-5030-4C51-BDDC-45594A2764B4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1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PlaceHolder 4"/>
          <p:cNvSpPr>
            <a:spLocks noGrp="1"/>
          </p:cNvSpPr>
          <p:nvPr>
            <p:ph type="ftr" idx="143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PlaceHolder 5"/>
          <p:cNvSpPr>
            <a:spLocks noGrp="1"/>
          </p:cNvSpPr>
          <p:nvPr>
            <p:ph type="sldNum" idx="144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F027-BEEF-4696-AC27-12BD832632ED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07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47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reeform 6"/>
          <p:cNvSpPr/>
          <p:nvPr/>
        </p:nvSpPr>
        <p:spPr>
          <a:xfrm>
            <a:off x="-3240" y="-1440"/>
            <a:ext cx="9156600" cy="103500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38" name="Freeform 7"/>
          <p:cNvGrpSpPr/>
          <p:nvPr/>
        </p:nvGrpSpPr>
        <p:grpSpPr>
          <a:xfrm>
            <a:off x="4383000" y="0"/>
            <a:ext cx="4761000" cy="603360"/>
            <a:chOff x="4383000" y="0"/>
            <a:chExt cx="4761000" cy="603360"/>
          </a:xfrm>
        </p:grpSpPr>
        <p:pic>
          <p:nvPicPr>
            <p:cNvPr id="239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1080"/>
              <a:ext cx="47595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4383000" y="0"/>
              <a:ext cx="476100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41" name="Group 4"/>
          <p:cNvGrpSpPr/>
          <p:nvPr/>
        </p:nvGrpSpPr>
        <p:grpSpPr>
          <a:xfrm>
            <a:off x="-12600" y="203040"/>
            <a:ext cx="9174240" cy="648000"/>
            <a:chOff x="-12600" y="203040"/>
            <a:chExt cx="9174240" cy="648000"/>
          </a:xfrm>
        </p:grpSpPr>
        <p:grpSp>
          <p:nvGrpSpPr>
            <p:cNvPr id="242" name="Group 5"/>
            <p:cNvGrpSpPr/>
            <p:nvPr/>
          </p:nvGrpSpPr>
          <p:grpSpPr>
            <a:xfrm>
              <a:off x="-12600" y="203040"/>
              <a:ext cx="9150120" cy="648000"/>
              <a:chOff x="-12600" y="203040"/>
              <a:chExt cx="9150120" cy="648000"/>
            </a:xfrm>
          </p:grpSpPr>
          <p:pic>
            <p:nvPicPr>
              <p:cNvPr id="243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03040"/>
                <a:ext cx="91263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Text Box 7"/>
              <p:cNvSpPr/>
              <p:nvPr/>
            </p:nvSpPr>
            <p:spPr>
              <a:xfrm rot="21435600">
                <a:off x="-1224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245" name="Group 8"/>
            <p:cNvGrpSpPr/>
            <p:nvPr/>
          </p:nvGrpSpPr>
          <p:grpSpPr>
            <a:xfrm>
              <a:off x="-12600" y="248040"/>
              <a:ext cx="9174240" cy="561600"/>
              <a:chOff x="-12600" y="248040"/>
              <a:chExt cx="9174240" cy="561600"/>
            </a:xfrm>
          </p:grpSpPr>
          <p:pic>
            <p:nvPicPr>
              <p:cNvPr id="246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3240" y="248040"/>
                <a:ext cx="91584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Text Box 10"/>
              <p:cNvSpPr/>
              <p:nvPr/>
            </p:nvSpPr>
            <p:spPr>
              <a:xfrm rot="21435600">
                <a:off x="-1224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1AF0-9F88-4968-9DE3-11CB46EEB402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7D5D-FFF3-4ED1-9364-B1A174AA6FE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reeform 6"/>
          <p:cNvSpPr/>
          <p:nvPr/>
        </p:nvSpPr>
        <p:spPr>
          <a:xfrm>
            <a:off x="-3240" y="-1440"/>
            <a:ext cx="9156600" cy="103500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90" name="Freeform 7"/>
          <p:cNvGrpSpPr/>
          <p:nvPr/>
        </p:nvGrpSpPr>
        <p:grpSpPr>
          <a:xfrm>
            <a:off x="4383000" y="0"/>
            <a:ext cx="4761000" cy="603360"/>
            <a:chOff x="4383000" y="0"/>
            <a:chExt cx="4761000" cy="603360"/>
          </a:xfrm>
        </p:grpSpPr>
        <p:pic>
          <p:nvPicPr>
            <p:cNvPr id="291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1080"/>
              <a:ext cx="47595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4383000" y="0"/>
              <a:ext cx="476100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93" name="Group 4"/>
          <p:cNvGrpSpPr/>
          <p:nvPr/>
        </p:nvGrpSpPr>
        <p:grpSpPr>
          <a:xfrm>
            <a:off x="-12600" y="203040"/>
            <a:ext cx="9174240" cy="648000"/>
            <a:chOff x="-12600" y="203040"/>
            <a:chExt cx="9174240" cy="648000"/>
          </a:xfrm>
        </p:grpSpPr>
        <p:grpSp>
          <p:nvGrpSpPr>
            <p:cNvPr id="294" name="Group 5"/>
            <p:cNvGrpSpPr/>
            <p:nvPr/>
          </p:nvGrpSpPr>
          <p:grpSpPr>
            <a:xfrm>
              <a:off x="-12600" y="203040"/>
              <a:ext cx="9150120" cy="648000"/>
              <a:chOff x="-12600" y="203040"/>
              <a:chExt cx="9150120" cy="648000"/>
            </a:xfrm>
          </p:grpSpPr>
          <p:pic>
            <p:nvPicPr>
              <p:cNvPr id="295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03040"/>
                <a:ext cx="91263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6" name="Text Box 7"/>
              <p:cNvSpPr/>
              <p:nvPr/>
            </p:nvSpPr>
            <p:spPr>
              <a:xfrm rot="21435600">
                <a:off x="-1224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297" name="Group 8"/>
            <p:cNvGrpSpPr/>
            <p:nvPr/>
          </p:nvGrpSpPr>
          <p:grpSpPr>
            <a:xfrm>
              <a:off x="-12600" y="248040"/>
              <a:ext cx="9174240" cy="561600"/>
              <a:chOff x="-12600" y="248040"/>
              <a:chExt cx="9174240" cy="561600"/>
            </a:xfrm>
          </p:grpSpPr>
          <p:pic>
            <p:nvPicPr>
              <p:cNvPr id="298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3240" y="248040"/>
                <a:ext cx="91584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Text Box 10"/>
              <p:cNvSpPr/>
              <p:nvPr/>
            </p:nvSpPr>
            <p:spPr>
              <a:xfrm rot="21435600">
                <a:off x="-1224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C7FF-A8E9-4F6C-9CD9-E0DAB1073FFB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31B2-63B3-4DCF-8CCE-BAF90FB5E37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reeform 6"/>
          <p:cNvSpPr/>
          <p:nvPr/>
        </p:nvSpPr>
        <p:spPr>
          <a:xfrm>
            <a:off x="-3240" y="-1440"/>
            <a:ext cx="9156600" cy="103500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42" name="Freeform 7"/>
          <p:cNvGrpSpPr/>
          <p:nvPr/>
        </p:nvGrpSpPr>
        <p:grpSpPr>
          <a:xfrm>
            <a:off x="4383000" y="0"/>
            <a:ext cx="4761000" cy="603360"/>
            <a:chOff x="4383000" y="0"/>
            <a:chExt cx="4761000" cy="603360"/>
          </a:xfrm>
        </p:grpSpPr>
        <p:pic>
          <p:nvPicPr>
            <p:cNvPr id="343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1080"/>
              <a:ext cx="47595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4383000" y="0"/>
              <a:ext cx="476100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45" name="Group 4"/>
          <p:cNvGrpSpPr/>
          <p:nvPr/>
        </p:nvGrpSpPr>
        <p:grpSpPr>
          <a:xfrm>
            <a:off x="-12600" y="203040"/>
            <a:ext cx="9174240" cy="648000"/>
            <a:chOff x="-12600" y="203040"/>
            <a:chExt cx="9174240" cy="648000"/>
          </a:xfrm>
        </p:grpSpPr>
        <p:grpSp>
          <p:nvGrpSpPr>
            <p:cNvPr id="346" name="Group 5"/>
            <p:cNvGrpSpPr/>
            <p:nvPr/>
          </p:nvGrpSpPr>
          <p:grpSpPr>
            <a:xfrm>
              <a:off x="-12600" y="203040"/>
              <a:ext cx="9150120" cy="648000"/>
              <a:chOff x="-12600" y="203040"/>
              <a:chExt cx="9150120" cy="648000"/>
            </a:xfrm>
          </p:grpSpPr>
          <p:pic>
            <p:nvPicPr>
              <p:cNvPr id="34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03040"/>
                <a:ext cx="91263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8" name="Text Box 7"/>
              <p:cNvSpPr/>
              <p:nvPr/>
            </p:nvSpPr>
            <p:spPr>
              <a:xfrm rot="21435600">
                <a:off x="-1224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349" name="Group 8"/>
            <p:cNvGrpSpPr/>
            <p:nvPr/>
          </p:nvGrpSpPr>
          <p:grpSpPr>
            <a:xfrm>
              <a:off x="-12600" y="248040"/>
              <a:ext cx="9174240" cy="561600"/>
              <a:chOff x="-12600" y="248040"/>
              <a:chExt cx="9174240" cy="561600"/>
            </a:xfrm>
          </p:grpSpPr>
          <p:pic>
            <p:nvPicPr>
              <p:cNvPr id="35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3240" y="248040"/>
                <a:ext cx="91584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1" name="Text Box 10"/>
              <p:cNvSpPr/>
              <p:nvPr/>
            </p:nvSpPr>
            <p:spPr>
              <a:xfrm rot="21435600">
                <a:off x="-1224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B32E-A8CC-4CD6-A04E-ECAFBB2CBC2C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5AF4-3F9E-4CF1-80D2-E6F897A19487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Freeform 6"/>
          <p:cNvSpPr/>
          <p:nvPr/>
        </p:nvSpPr>
        <p:spPr>
          <a:xfrm>
            <a:off x="-3240" y="-1440"/>
            <a:ext cx="9156600" cy="103500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94" name="Freeform 7"/>
          <p:cNvGrpSpPr/>
          <p:nvPr/>
        </p:nvGrpSpPr>
        <p:grpSpPr>
          <a:xfrm>
            <a:off x="4383000" y="0"/>
            <a:ext cx="4761000" cy="603360"/>
            <a:chOff x="4383000" y="0"/>
            <a:chExt cx="4761000" cy="603360"/>
          </a:xfrm>
        </p:grpSpPr>
        <p:pic>
          <p:nvPicPr>
            <p:cNvPr id="395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1080"/>
              <a:ext cx="47595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4383000" y="0"/>
              <a:ext cx="476100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97" name="Group 4"/>
          <p:cNvGrpSpPr/>
          <p:nvPr/>
        </p:nvGrpSpPr>
        <p:grpSpPr>
          <a:xfrm>
            <a:off x="-12600" y="203040"/>
            <a:ext cx="9174240" cy="648000"/>
            <a:chOff x="-12600" y="203040"/>
            <a:chExt cx="9174240" cy="648000"/>
          </a:xfrm>
        </p:grpSpPr>
        <p:grpSp>
          <p:nvGrpSpPr>
            <p:cNvPr id="398" name="Group 5"/>
            <p:cNvGrpSpPr/>
            <p:nvPr/>
          </p:nvGrpSpPr>
          <p:grpSpPr>
            <a:xfrm>
              <a:off x="-12600" y="203040"/>
              <a:ext cx="9150120" cy="648000"/>
              <a:chOff x="-12600" y="203040"/>
              <a:chExt cx="9150120" cy="648000"/>
            </a:xfrm>
          </p:grpSpPr>
          <p:pic>
            <p:nvPicPr>
              <p:cNvPr id="399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03040"/>
                <a:ext cx="91263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Text Box 7"/>
              <p:cNvSpPr/>
              <p:nvPr/>
            </p:nvSpPr>
            <p:spPr>
              <a:xfrm rot="21435600">
                <a:off x="-1224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401" name="Group 8"/>
            <p:cNvGrpSpPr/>
            <p:nvPr/>
          </p:nvGrpSpPr>
          <p:grpSpPr>
            <a:xfrm>
              <a:off x="-12600" y="248040"/>
              <a:ext cx="9174240" cy="561600"/>
              <a:chOff x="-12600" y="248040"/>
              <a:chExt cx="9174240" cy="561600"/>
            </a:xfrm>
          </p:grpSpPr>
          <p:pic>
            <p:nvPicPr>
              <p:cNvPr id="402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3240" y="248040"/>
                <a:ext cx="91584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3" name="Text Box 10"/>
              <p:cNvSpPr/>
              <p:nvPr/>
            </p:nvSpPr>
            <p:spPr>
              <a:xfrm rot="21435600">
                <a:off x="-1224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C6B6-A468-4F90-8BCC-B7579A59C4D2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013C-ADB4-426A-BE76-7BBF2C3178C6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3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3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3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image" Target="../media/image11.pn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3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image" Target="../media/image39.wmf"/><Relationship Id="rId8" Type="http://schemas.openxmlformats.org/officeDocument/2006/relationships/image" Target="../media/image11.pn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3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image" Target="../media/image11.pn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3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49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50.wmf"/><Relationship Id="rId11" Type="http://schemas.openxmlformats.org/officeDocument/2006/relationships/slideLayout" Target="../slideLayouts/slideLayout3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3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6.wmf"/><Relationship Id="rId6" Type="http://schemas.openxmlformats.org/officeDocument/2006/relationships/slideLayout" Target="../slideLayouts/slideLayout3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0.wmf"/><Relationship Id="rId7" Type="http://schemas.openxmlformats.org/officeDocument/2006/relationships/image" Target="../media/image11.pn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3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image" Target="../media/image63.wmf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3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9.wmf"/><Relationship Id="rId11" Type="http://schemas.openxmlformats.org/officeDocument/2006/relationships/image" Target="../media/image11.pn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3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69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image" Target="../media/image11.pn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3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image" Target="../media/image11.png"/><Relationship Id="rId14" Type="http://schemas.openxmlformats.org/officeDocument/2006/relationships/image" Target="../media/image12.jpeg"/><Relationship Id="rId15" Type="http://schemas.openxmlformats.org/officeDocument/2006/relationships/slideLayout" Target="../slideLayouts/slideLayout3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image" Target="../media/image11.pn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3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Slide Number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CBEA-2696-4578-A3F6-C8975D1F7CF8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4" name="Rectangle 5"/>
          <p:cNvSpPr/>
          <p:nvPr/>
        </p:nvSpPr>
        <p:spPr>
          <a:xfrm>
            <a:off x="2362320" y="4114800"/>
            <a:ext cx="37335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395" name="Picture 4" descr="logo.gif"/>
          <p:cNvPicPr/>
          <p:nvPr/>
        </p:nvPicPr>
        <p:blipFill>
          <a:blip r:embed="rId1"/>
          <a:stretch/>
        </p:blipFill>
        <p:spPr>
          <a:xfrm>
            <a:off x="6629400" y="228600"/>
            <a:ext cx="2413080" cy="695160"/>
          </a:xfrm>
          <a:prstGeom prst="rect">
            <a:avLst/>
          </a:prstGeom>
          <a:ln w="0">
            <a:noFill/>
          </a:ln>
        </p:spPr>
      </p:pic>
      <p:sp>
        <p:nvSpPr>
          <p:cNvPr id="2396" name="Straight Connector 5"/>
          <p:cNvSpPr/>
          <p:nvPr/>
        </p:nvSpPr>
        <p:spPr>
          <a:xfrm>
            <a:off x="1752480" y="1066680"/>
            <a:ext cx="533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397" name="Picture 6" descr="ksulogo3.png"/>
          <p:cNvPicPr/>
          <p:nvPr/>
        </p:nvPicPr>
        <p:blipFill>
          <a:blip r:embed="rId2"/>
          <a:stretch/>
        </p:blipFill>
        <p:spPr>
          <a:xfrm>
            <a:off x="304920" y="295200"/>
            <a:ext cx="1752480" cy="655560"/>
          </a:xfrm>
          <a:prstGeom prst="rect">
            <a:avLst/>
          </a:prstGeom>
          <a:ln w="0">
            <a:noFill/>
          </a:ln>
        </p:spPr>
      </p:pic>
      <p:sp>
        <p:nvSpPr>
          <p:cNvPr id="2398" name="Rectangle 7"/>
          <p:cNvSpPr/>
          <p:nvPr/>
        </p:nvSpPr>
        <p:spPr>
          <a:xfrm>
            <a:off x="3593160" y="4952880"/>
            <a:ext cx="14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ambria Math"/>
              </a:rPr>
              <a:t>1435-1436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ambria Math"/>
              </a:rPr>
              <a:t>2014-2015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9" name="Rectangle 1"/>
          <p:cNvSpPr/>
          <p:nvPr/>
        </p:nvSpPr>
        <p:spPr>
          <a:xfrm>
            <a:off x="2430720" y="1828800"/>
            <a:ext cx="38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s and Phenol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00" name="Picture 1" descr="513px-Phenol-3D-balls.png"/>
          <p:cNvPicPr/>
          <p:nvPr/>
        </p:nvPicPr>
        <p:blipFill>
          <a:blip r:embed="rId3"/>
          <a:stretch/>
        </p:blipFill>
        <p:spPr>
          <a:xfrm>
            <a:off x="4724280" y="2362320"/>
            <a:ext cx="2284560" cy="2666880"/>
          </a:xfrm>
          <a:prstGeom prst="rect">
            <a:avLst/>
          </a:prstGeom>
          <a:ln w="0">
            <a:noFill/>
          </a:ln>
        </p:spPr>
      </p:pic>
      <p:pic>
        <p:nvPicPr>
          <p:cNvPr id="2401" name="Picture 2" descr="ethanol02.png"/>
          <p:cNvPicPr/>
          <p:nvPr/>
        </p:nvPicPr>
        <p:blipFill>
          <a:blip r:embed="rId4"/>
          <a:stretch/>
        </p:blipFill>
        <p:spPr>
          <a:xfrm>
            <a:off x="1523880" y="2900520"/>
            <a:ext cx="2667240" cy="1825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Footer Placeholder 1"/>
          <p:cNvSpPr/>
          <p:nvPr/>
        </p:nvSpPr>
        <p:spPr>
          <a:xfrm>
            <a:off x="152280" y="6324480"/>
            <a:ext cx="3353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0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4614-08BD-4618-BEAA-76C42AE3817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1" name="Rectangle 4"/>
          <p:cNvSpPr/>
          <p:nvPr/>
        </p:nvSpPr>
        <p:spPr>
          <a:xfrm>
            <a:off x="15840" y="1143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5252"/>
                </a:solidFill>
                <a:latin typeface="Times New Roman"/>
                <a:ea typeface="Times New Roman"/>
              </a:rPr>
              <a:t>Physical Properties of Alcoho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2" name="Rectangle 16"/>
          <p:cNvSpPr/>
          <p:nvPr/>
        </p:nvSpPr>
        <p:spPr>
          <a:xfrm>
            <a:off x="0" y="1523880"/>
            <a:ext cx="891540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1) Boiling Points of Alcohol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boiling points increase with increase in molecular weight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have  higher boiling points(b .p.) than alkanes of similar weight this is due to the presence of </a:t>
            </a:r>
            <a:r>
              <a:rPr b="0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hydrogen bonds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tween   molecules  of alcohol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03" name="Picture 1037" descr="alchb3"/>
          <p:cNvPicPr/>
          <p:nvPr/>
        </p:nvPicPr>
        <p:blipFill>
          <a:blip r:embed="rId1"/>
          <a:stretch/>
        </p:blipFill>
        <p:spPr>
          <a:xfrm>
            <a:off x="533520" y="3352680"/>
            <a:ext cx="2361960" cy="1157400"/>
          </a:xfrm>
          <a:prstGeom prst="rect">
            <a:avLst/>
          </a:prstGeom>
          <a:ln w="0">
            <a:noFill/>
          </a:ln>
        </p:spPr>
      </p:pic>
      <p:sp>
        <p:nvSpPr>
          <p:cNvPr id="2504" name="Line 7"/>
          <p:cNvSpPr/>
          <p:nvPr/>
        </p:nvSpPr>
        <p:spPr>
          <a:xfrm>
            <a:off x="1600200" y="4267080"/>
            <a:ext cx="433440" cy="333360"/>
          </a:xfrm>
          <a:prstGeom prst="line">
            <a:avLst/>
          </a:prstGeom>
          <a:ln w="9360">
            <a:solidFill>
              <a:srgbClr val="9c525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5" name="Rectangle 8"/>
          <p:cNvSpPr/>
          <p:nvPr/>
        </p:nvSpPr>
        <p:spPr>
          <a:xfrm>
            <a:off x="914400" y="47242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ff"/>
                </a:solidFill>
                <a:latin typeface="Comic Sans MS"/>
              </a:rPr>
              <a:t>hydrogen bond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6" name="Oval 1041"/>
          <p:cNvSpPr/>
          <p:nvPr/>
        </p:nvSpPr>
        <p:spPr>
          <a:xfrm>
            <a:off x="372960" y="3884760"/>
            <a:ext cx="84240" cy="777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7" name="Oval 1041"/>
          <p:cNvSpPr/>
          <p:nvPr/>
        </p:nvSpPr>
        <p:spPr>
          <a:xfrm>
            <a:off x="372960" y="4113360"/>
            <a:ext cx="84240" cy="777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08" name="صورة 3" descr=""/>
          <p:cNvPicPr/>
          <p:nvPr/>
        </p:nvPicPr>
        <p:blipFill>
          <a:blip r:embed="rId2"/>
          <a:stretch/>
        </p:blipFill>
        <p:spPr>
          <a:xfrm>
            <a:off x="3505320" y="3352680"/>
            <a:ext cx="5410080" cy="121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09" name="Picture 18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10" name="Picture 19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511" name="Straight Connector 2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12" name="Rectangle 21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513" name="Object 4"/>
          <p:cNvGraphicFramePr/>
          <p:nvPr/>
        </p:nvGraphicFramePr>
        <p:xfrm>
          <a:off x="636480" y="5029200"/>
          <a:ext cx="7821720" cy="146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1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6480" y="5029200"/>
                    <a:ext cx="7821720" cy="14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A92B-925C-421F-B85C-289A2CB961B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16" name="Footer Placeholder 2"/>
          <p:cNvSpPr/>
          <p:nvPr/>
        </p:nvSpPr>
        <p:spPr>
          <a:xfrm>
            <a:off x="152280" y="6324480"/>
            <a:ext cx="3353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17" name="Picture 10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18" name="Picture 11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519" name="Straight Connector 12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20" name="Rectangle 13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21" name="TextBox 10"/>
          <p:cNvSpPr/>
          <p:nvPr/>
        </p:nvSpPr>
        <p:spPr>
          <a:xfrm>
            <a:off x="482760" y="1001880"/>
            <a:ext cx="8766000" cy="50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2) Solubility Of Alcohols and Phenol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 and water contain </a:t>
            </a:r>
            <a:r>
              <a:rPr b="0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hydroxyl group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can form </a:t>
            </a:r>
            <a:r>
              <a:rPr b="0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hydrogen bond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ydroxyl group is</a:t>
            </a:r>
            <a:r>
              <a:rPr b="0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hydrophilic “water loving”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lkyl group of alcohols is</a:t>
            </a:r>
            <a:r>
              <a:rPr b="0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hydrophobic “ water hating”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the number of the –OH group in alcohol</a:t>
            </a:r>
            <a:r>
              <a:rPr b="0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increases, the solubility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water </a:t>
            </a:r>
            <a:r>
              <a:rPr b="0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ncrease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ols and triols are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o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luble in water than monohydroxyalcohol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30000"/>
              </a:lnSpc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The lower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s are </a:t>
            </a:r>
            <a:r>
              <a:rPr b="0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mpletely miscibl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wat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3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As the number of carbons in the alcohol increases,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solubility in water decrease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3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522" name="Object 11"/>
          <p:cNvGraphicFramePr/>
          <p:nvPr/>
        </p:nvGraphicFramePr>
        <p:xfrm>
          <a:off x="1662120" y="5132520"/>
          <a:ext cx="6702480" cy="153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23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2120" y="5132520"/>
                    <a:ext cx="670248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4" name="TextBox 4"/>
          <p:cNvSpPr/>
          <p:nvPr/>
        </p:nvSpPr>
        <p:spPr>
          <a:xfrm>
            <a:off x="267480" y="495288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mewor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Slide Number Placeholder 1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B7AF-068A-4341-8D54-17970CC2C865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26" name="Rectangle 17"/>
          <p:cNvSpPr/>
          <p:nvPr/>
        </p:nvSpPr>
        <p:spPr>
          <a:xfrm>
            <a:off x="522360" y="1143000"/>
            <a:ext cx="7859520" cy="49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3) Acidic Properties of Alcohols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re </a:t>
            </a:r>
            <a:r>
              <a:rPr b="0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ery weak acid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hydroxy proton of an alcohol is weakly acidic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ong base can abstrate the hydroxyl proton to give an alkoxide ion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ctron-withdrawing group (-I) </a:t>
            </a:r>
            <a:r>
              <a:rPr b="0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ncrease acidity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ctron-releasing group (+I)</a:t>
            </a:r>
            <a:r>
              <a:rPr b="0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decrease acidity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27" name="Picture 10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28" name="Picture 11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529" name="Straight Connector 7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30" name="Rectangle 8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531" name="Object 9"/>
          <p:cNvGraphicFramePr/>
          <p:nvPr/>
        </p:nvGraphicFramePr>
        <p:xfrm>
          <a:off x="2057400" y="2590920"/>
          <a:ext cx="4570560" cy="145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3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2590920"/>
                    <a:ext cx="4570560" cy="14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3" name="Object 10"/>
          <p:cNvGraphicFramePr/>
          <p:nvPr/>
        </p:nvGraphicFramePr>
        <p:xfrm>
          <a:off x="1219320" y="5029200"/>
          <a:ext cx="6037200" cy="86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34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5029200"/>
                    <a:ext cx="60372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5" name="Footer Placeholder 1"/>
          <p:cNvSpPr/>
          <p:nvPr/>
        </p:nvSpPr>
        <p:spPr>
          <a:xfrm>
            <a:off x="76320" y="632448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6" name="Footer Placeholder 1"/>
          <p:cNvSpPr/>
          <p:nvPr/>
        </p:nvSpPr>
        <p:spPr>
          <a:xfrm>
            <a:off x="76320" y="632448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37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809A-A98F-477C-9222-C8DD706A261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538" name="Object 2"/>
          <p:cNvGraphicFramePr/>
          <p:nvPr/>
        </p:nvGraphicFramePr>
        <p:xfrm>
          <a:off x="1914480" y="1849320"/>
          <a:ext cx="5488200" cy="10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14480" y="1849320"/>
                    <a:ext cx="548820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0" name="Object 3"/>
          <p:cNvGraphicFramePr/>
          <p:nvPr/>
        </p:nvGraphicFramePr>
        <p:xfrm>
          <a:off x="2133720" y="2973240"/>
          <a:ext cx="3590640" cy="114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2973240"/>
                    <a:ext cx="359064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2" name="Object 4"/>
          <p:cNvGraphicFramePr/>
          <p:nvPr/>
        </p:nvGraphicFramePr>
        <p:xfrm>
          <a:off x="914400" y="4497480"/>
          <a:ext cx="4500720" cy="153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4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4497480"/>
                    <a:ext cx="450072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4" name="Rectangle 4"/>
          <p:cNvSpPr/>
          <p:nvPr/>
        </p:nvSpPr>
        <p:spPr>
          <a:xfrm>
            <a:off x="304920" y="9907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5252"/>
                </a:solidFill>
                <a:latin typeface="Times New Roman"/>
                <a:ea typeface="Times New Roman"/>
              </a:rPr>
              <a:t>Synthesis (Preparation) of Alcoho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45" name="Rectangle 5"/>
          <p:cNvSpPr/>
          <p:nvPr/>
        </p:nvSpPr>
        <p:spPr>
          <a:xfrm>
            <a:off x="245880" y="1366920"/>
            <a:ext cx="37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1- Hydration From Alken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46" name="Rectangle 4"/>
          <p:cNvSpPr/>
          <p:nvPr/>
        </p:nvSpPr>
        <p:spPr>
          <a:xfrm>
            <a:off x="127800" y="3809880"/>
            <a:ext cx="29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2- From alkyl halide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47" name="Text Box 12"/>
          <p:cNvSpPr/>
          <p:nvPr/>
        </p:nvSpPr>
        <p:spPr>
          <a:xfrm>
            <a:off x="5577480" y="5638680"/>
            <a:ext cx="33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nucleophilic substitu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48" name="Text Box 13"/>
          <p:cNvSpPr/>
          <p:nvPr/>
        </p:nvSpPr>
        <p:spPr>
          <a:xfrm>
            <a:off x="5295600" y="4495680"/>
            <a:ext cx="347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limination of HX using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 gives alkene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49" name="Picture 13" descr="ksulogo2.png"/>
          <p:cNvPicPr/>
          <p:nvPr/>
        </p:nvPicPr>
        <p:blipFill>
          <a:blip r:embed="rId7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50" name="Picture 14" descr="images.jpeg"/>
          <p:cNvPicPr/>
          <p:nvPr/>
        </p:nvPicPr>
        <p:blipFill>
          <a:blip r:embed="rId8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551" name="Straight Connector 15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52" name="Rectangle 16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53" name="Rectangle 5"/>
          <p:cNvSpPr/>
          <p:nvPr/>
        </p:nvSpPr>
        <p:spPr>
          <a:xfrm>
            <a:off x="251640" y="2600280"/>
            <a:ext cx="32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1- Oxidation of Alken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54" name="TextBox 1"/>
          <p:cNvSpPr/>
          <p:nvPr/>
        </p:nvSpPr>
        <p:spPr>
          <a:xfrm>
            <a:off x="2802240" y="5946840"/>
            <a:ext cx="107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aq. KOH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Footer Placeholder 1"/>
          <p:cNvSpPr/>
          <p:nvPr/>
        </p:nvSpPr>
        <p:spPr>
          <a:xfrm>
            <a:off x="76320" y="64008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56" name="Slide Number Placeholder 2"/>
          <p:cNvSpPr/>
          <p:nvPr/>
        </p:nvSpPr>
        <p:spPr>
          <a:xfrm>
            <a:off x="7932600" y="648000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46F8-EA26-4E2B-8167-ED66F290FB4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557" name="Object 2"/>
          <p:cNvGraphicFramePr/>
          <p:nvPr/>
        </p:nvGraphicFramePr>
        <p:xfrm>
          <a:off x="914400" y="1981080"/>
          <a:ext cx="3419640" cy="82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81080"/>
                    <a:ext cx="341964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9" name="Object 3"/>
          <p:cNvGraphicFramePr/>
          <p:nvPr/>
        </p:nvGraphicFramePr>
        <p:xfrm>
          <a:off x="914400" y="3352680"/>
          <a:ext cx="5602320" cy="89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6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352680"/>
                    <a:ext cx="5602320" cy="8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1" name="Object 4"/>
          <p:cNvGraphicFramePr/>
          <p:nvPr/>
        </p:nvGraphicFramePr>
        <p:xfrm>
          <a:off x="1219320" y="4800600"/>
          <a:ext cx="3152520" cy="58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4800600"/>
                    <a:ext cx="315252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3" name="Rectangle 7"/>
          <p:cNvSpPr/>
          <p:nvPr/>
        </p:nvSpPr>
        <p:spPr>
          <a:xfrm>
            <a:off x="0" y="1062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3-  Reduction of aldehydes, ketones and carboxylic acid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64" name="Object 5" descr=""/>
          <p:cNvPicPr/>
          <p:nvPr/>
        </p:nvPicPr>
        <p:blipFill>
          <a:blip r:embed="rId7"/>
          <a:stretch/>
        </p:blipFill>
        <p:spPr>
          <a:xfrm>
            <a:off x="5105520" y="1981080"/>
            <a:ext cx="3313080" cy="863640"/>
          </a:xfrm>
          <a:prstGeom prst="rect">
            <a:avLst/>
          </a:prstGeom>
          <a:ln w="0">
            <a:noFill/>
          </a:ln>
        </p:spPr>
      </p:pic>
      <p:pic>
        <p:nvPicPr>
          <p:cNvPr id="2565" name="Picture 11" descr="ksulogo2.png"/>
          <p:cNvPicPr/>
          <p:nvPr/>
        </p:nvPicPr>
        <p:blipFill>
          <a:blip r:embed="rId8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66" name="Picture 12" descr="images.jpeg"/>
          <p:cNvPicPr/>
          <p:nvPr/>
        </p:nvPicPr>
        <p:blipFill>
          <a:blip r:embed="rId9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567" name="Straight Connector 13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8" name="Rectangle 14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Footer Placeholder 1"/>
          <p:cNvSpPr/>
          <p:nvPr/>
        </p:nvSpPr>
        <p:spPr>
          <a:xfrm>
            <a:off x="76320" y="64008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70" name="Slide Number Placeholder 2"/>
          <p:cNvSpPr/>
          <p:nvPr/>
        </p:nvSpPr>
        <p:spPr>
          <a:xfrm>
            <a:off x="7932600" y="648000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8DB6-A522-4228-BB45-54CBADC8370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571" name="Object 5"/>
          <p:cNvGraphicFramePr/>
          <p:nvPr/>
        </p:nvGraphicFramePr>
        <p:xfrm>
          <a:off x="152280" y="1676520"/>
          <a:ext cx="6040440" cy="27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76520"/>
                    <a:ext cx="6040440" cy="27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3" name="Rectangle 7"/>
          <p:cNvSpPr/>
          <p:nvPr/>
        </p:nvSpPr>
        <p:spPr>
          <a:xfrm>
            <a:off x="25560" y="1062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4-  Addition  of  Grignard compounds to aldehydes &amp; keton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74" name="مربع نص 16"/>
          <p:cNvSpPr/>
          <p:nvPr/>
        </p:nvSpPr>
        <p:spPr>
          <a:xfrm>
            <a:off x="6213600" y="243828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Tertiary alcoho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75" name="مربع نص 16"/>
          <p:cNvSpPr/>
          <p:nvPr/>
        </p:nvSpPr>
        <p:spPr>
          <a:xfrm>
            <a:off x="217080" y="29718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eton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576" name="Object 3"/>
          <p:cNvGraphicFramePr/>
          <p:nvPr/>
        </p:nvGraphicFramePr>
        <p:xfrm>
          <a:off x="533520" y="3592440"/>
          <a:ext cx="527832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3592440"/>
                    <a:ext cx="52783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8" name="Object 4"/>
          <p:cNvGraphicFramePr/>
          <p:nvPr/>
        </p:nvGraphicFramePr>
        <p:xfrm>
          <a:off x="838080" y="4888080"/>
          <a:ext cx="4753080" cy="86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7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4888080"/>
                    <a:ext cx="4753080" cy="86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0" name="مستطيل 18"/>
          <p:cNvSpPr/>
          <p:nvPr/>
        </p:nvSpPr>
        <p:spPr>
          <a:xfrm>
            <a:off x="6341760" y="3809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Secondary alcoho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81" name="مستطيل 19"/>
          <p:cNvSpPr/>
          <p:nvPr/>
        </p:nvSpPr>
        <p:spPr>
          <a:xfrm>
            <a:off x="6495120" y="504036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Primary alcoho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82" name="مستطيل 19"/>
          <p:cNvSpPr/>
          <p:nvPr/>
        </p:nvSpPr>
        <p:spPr>
          <a:xfrm>
            <a:off x="473400" y="5576760"/>
            <a:ext cx="145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thana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rmaldehyd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83" name="Picture 15" descr="ksulogo2.png"/>
          <p:cNvPicPr/>
          <p:nvPr/>
        </p:nvPicPr>
        <p:blipFill>
          <a:blip r:embed="rId7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84" name="Picture 16" descr="images.jpeg"/>
          <p:cNvPicPr/>
          <p:nvPr/>
        </p:nvPicPr>
        <p:blipFill>
          <a:blip r:embed="rId8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585" name="Straight Connector 17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86" name="Rectangle 18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Rectangle 7"/>
          <p:cNvSpPr/>
          <p:nvPr/>
        </p:nvSpPr>
        <p:spPr>
          <a:xfrm>
            <a:off x="17640" y="2589120"/>
            <a:ext cx="63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76b4"/>
                </a:solidFill>
                <a:latin typeface="Times New Roman"/>
                <a:ea typeface="Times New Roman"/>
              </a:rPr>
              <a:t>A. Formation of Salt (</a:t>
            </a:r>
            <a:r>
              <a:rPr b="0" lang="en-US" sz="2400" spc="-1" strike="noStrike">
                <a:solidFill>
                  <a:srgbClr val="6076b4"/>
                </a:solidFill>
                <a:latin typeface="Times New Roman"/>
                <a:ea typeface="Times New Roman"/>
              </a:rPr>
              <a:t>Alkoxide formation</a:t>
            </a:r>
            <a:r>
              <a:rPr b="1" lang="en-US" sz="2400" spc="-1" strike="noStrike">
                <a:solidFill>
                  <a:srgbClr val="6076b4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88" name="Footer Placeholder 1"/>
          <p:cNvSpPr/>
          <p:nvPr/>
        </p:nvSpPr>
        <p:spPr>
          <a:xfrm>
            <a:off x="58680" y="624852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89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7FC2-621B-49D6-B410-9FD7518FEA9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90" name="Rectangle 4"/>
          <p:cNvSpPr/>
          <p:nvPr/>
        </p:nvSpPr>
        <p:spPr>
          <a:xfrm>
            <a:off x="-76320" y="15588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1. Dissociation of O-H Bon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591" name="Object 1"/>
          <p:cNvGraphicFramePr/>
          <p:nvPr/>
        </p:nvGraphicFramePr>
        <p:xfrm>
          <a:off x="2057400" y="3273480"/>
          <a:ext cx="3575160" cy="44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273480"/>
                    <a:ext cx="357516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3" name="مربع نص 15"/>
          <p:cNvSpPr/>
          <p:nvPr/>
        </p:nvSpPr>
        <p:spPr>
          <a:xfrm>
            <a:off x="4500720" y="3808440"/>
            <a:ext cx="28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dium ethoxid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94" name="Rectangle 4"/>
          <p:cNvSpPr/>
          <p:nvPr/>
        </p:nvSpPr>
        <p:spPr>
          <a:xfrm>
            <a:off x="309960" y="99072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5252"/>
                </a:solidFill>
                <a:latin typeface="Times New Roman"/>
                <a:ea typeface="Times New Roman"/>
              </a:rPr>
              <a:t>Reaction of Alcoho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95" name="Rectangle 3"/>
          <p:cNvSpPr/>
          <p:nvPr/>
        </p:nvSpPr>
        <p:spPr>
          <a:xfrm>
            <a:off x="130320" y="4341960"/>
            <a:ext cx="31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76b4"/>
                </a:solidFill>
                <a:latin typeface="Times New Roman"/>
                <a:ea typeface="Times New Roman"/>
              </a:rPr>
              <a:t>B. Formation of Ester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596" name="Object 5"/>
          <p:cNvGraphicFramePr/>
          <p:nvPr/>
        </p:nvGraphicFramePr>
        <p:xfrm>
          <a:off x="990720" y="5021280"/>
          <a:ext cx="5583240" cy="84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5021280"/>
                    <a:ext cx="558324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8" name="Rectangle 6"/>
          <p:cNvSpPr/>
          <p:nvPr/>
        </p:nvSpPr>
        <p:spPr>
          <a:xfrm>
            <a:off x="4277520" y="5041800"/>
            <a:ext cx="5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76b4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30000">
                <a:solidFill>
                  <a:srgbClr val="6076b4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99" name="Rectangle 15"/>
          <p:cNvSpPr/>
          <p:nvPr/>
        </p:nvSpPr>
        <p:spPr>
          <a:xfrm>
            <a:off x="4088520" y="5700600"/>
            <a:ext cx="1019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76b4"/>
                </a:solidFill>
                <a:latin typeface="Comic Sans MS"/>
                <a:ea typeface="Times New Roman"/>
              </a:rPr>
              <a:t>H</a:t>
            </a:r>
            <a:r>
              <a:rPr b="1" lang="en-US" sz="1800" spc="-1" strike="noStrike" baseline="30000">
                <a:solidFill>
                  <a:srgbClr val="6076b4"/>
                </a:solidFill>
                <a:latin typeface="Comic Sans MS"/>
                <a:ea typeface="Times New Roman"/>
              </a:rPr>
              <a:t>+</a:t>
            </a:r>
            <a:r>
              <a:rPr b="1" lang="en-US" sz="1800" spc="-1" strike="noStrike">
                <a:solidFill>
                  <a:srgbClr val="6076b4"/>
                </a:solidFill>
                <a:latin typeface="Comic Sans MS"/>
                <a:ea typeface="Times New Roman"/>
              </a:rPr>
              <a:t>/ H</a:t>
            </a:r>
            <a:r>
              <a:rPr b="1" lang="en-US" sz="1800" spc="-1" strike="noStrike" baseline="-25000">
                <a:solidFill>
                  <a:srgbClr val="6076b4"/>
                </a:solidFill>
                <a:latin typeface="Comic Sans MS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6076b4"/>
                </a:solidFill>
                <a:latin typeface="Comic Sans MS"/>
                <a:ea typeface="Times New Roman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0" name="Text Box 15"/>
          <p:cNvSpPr/>
          <p:nvPr/>
        </p:nvSpPr>
        <p:spPr>
          <a:xfrm>
            <a:off x="232560" y="2057400"/>
            <a:ext cx="88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Reaction as acids (Breaking of oxygen- Hydrogen bond CO 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Times New Roman"/>
              </a:rPr>
              <a:t>ـــــ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H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1" name="Curve 345"/>
          <p:cNvSpPr/>
          <p:nvPr/>
        </p:nvSpPr>
        <p:spPr>
          <a:xfrm>
            <a:off x="8229600" y="2209680"/>
            <a:ext cx="8424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149" y="961"/>
                </a:moveTo>
                <a:cubicBezTo>
                  <a:pt x="11289" y="987"/>
                  <a:pt x="827" y="0"/>
                  <a:pt x="1655" y="1923"/>
                </a:cubicBezTo>
                <a:cubicBezTo>
                  <a:pt x="2483" y="3846"/>
                  <a:pt x="14977" y="8837"/>
                  <a:pt x="18288" y="10579"/>
                </a:cubicBezTo>
                <a:cubicBezTo>
                  <a:pt x="21600" y="12320"/>
                  <a:pt x="20245" y="10111"/>
                  <a:pt x="18288" y="10579"/>
                </a:cubicBezTo>
                <a:cubicBezTo>
                  <a:pt x="16331" y="11046"/>
                  <a:pt x="11891" y="11904"/>
                  <a:pt x="8579" y="12970"/>
                </a:cubicBezTo>
                <a:cubicBezTo>
                  <a:pt x="5268" y="14036"/>
                  <a:pt x="0" y="14607"/>
                  <a:pt x="1655" y="15855"/>
                </a:cubicBezTo>
                <a:cubicBezTo>
                  <a:pt x="3311" y="17103"/>
                  <a:pt x="13848" y="18532"/>
                  <a:pt x="16933" y="19208"/>
                </a:cubicBezTo>
                <a:cubicBezTo>
                  <a:pt x="20019" y="19884"/>
                  <a:pt x="18890" y="18740"/>
                  <a:pt x="16933" y="19208"/>
                </a:cubicBezTo>
                <a:cubicBezTo>
                  <a:pt x="14977" y="19676"/>
                  <a:pt x="9181" y="21132"/>
                  <a:pt x="7225" y="21600"/>
                </a:cubicBezTo>
              </a:path>
            </a:pathLst>
          </a:custGeom>
          <a:noFill/>
          <a:ln w="15840">
            <a:solidFill>
              <a:srgbClr val="2f589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02" name="Picture 16" descr="ksulogo2.png"/>
          <p:cNvPicPr/>
          <p:nvPr/>
        </p:nvPicPr>
        <p:blipFill>
          <a:blip r:embed="rId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603" name="Picture 17" descr="images.jpeg"/>
          <p:cNvPicPr/>
          <p:nvPr/>
        </p:nvPicPr>
        <p:blipFill>
          <a:blip r:embed="rId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604" name="Straight Connector 1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5" name="Rectangle 19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Rectangle 9"/>
          <p:cNvSpPr/>
          <p:nvPr/>
        </p:nvSpPr>
        <p:spPr>
          <a:xfrm>
            <a:off x="76320" y="1913040"/>
            <a:ext cx="37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76b4"/>
                </a:solidFill>
                <a:latin typeface="Times New Roman"/>
                <a:ea typeface="Times New Roman"/>
              </a:rPr>
              <a:t>A. Elimination Reactio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7" name="Footer Placeholder 1"/>
          <p:cNvSpPr/>
          <p:nvPr/>
        </p:nvSpPr>
        <p:spPr>
          <a:xfrm>
            <a:off x="27000" y="624852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8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6016-70B0-4054-A87C-5916A33F505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609" name="Object 1"/>
          <p:cNvGraphicFramePr/>
          <p:nvPr/>
        </p:nvGraphicFramePr>
        <p:xfrm>
          <a:off x="2238480" y="2827440"/>
          <a:ext cx="3238560" cy="3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8480" y="2827440"/>
                    <a:ext cx="323856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1" name="Rectangle 4"/>
          <p:cNvSpPr/>
          <p:nvPr/>
        </p:nvSpPr>
        <p:spPr>
          <a:xfrm>
            <a:off x="338760" y="3951360"/>
            <a:ext cx="34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76b4"/>
                </a:solidFill>
                <a:latin typeface="Times New Roman"/>
                <a:ea typeface="Times New Roman"/>
              </a:rPr>
              <a:t>B. Substitution Reaction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2" name="Rectangle 5"/>
          <p:cNvSpPr/>
          <p:nvPr/>
        </p:nvSpPr>
        <p:spPr>
          <a:xfrm>
            <a:off x="334080" y="1066680"/>
            <a:ext cx="37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2. Dissociation of C-O Bon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613" name="Object 3"/>
          <p:cNvGraphicFramePr/>
          <p:nvPr/>
        </p:nvGraphicFramePr>
        <p:xfrm>
          <a:off x="1143000" y="4800600"/>
          <a:ext cx="5029200" cy="133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4800600"/>
                    <a:ext cx="5029200" cy="13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5" name="Text Box 11"/>
          <p:cNvSpPr/>
          <p:nvPr/>
        </p:nvSpPr>
        <p:spPr>
          <a:xfrm>
            <a:off x="165960" y="1519200"/>
            <a:ext cx="50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568d"/>
                </a:solidFill>
                <a:latin typeface="Times New Roman"/>
                <a:ea typeface="Times New Roman"/>
              </a:rPr>
              <a:t>Reaction with C</a:t>
            </a:r>
            <a:r>
              <a:rPr b="1" lang="ar-SA" sz="2400" spc="-1" strike="noStrike">
                <a:solidFill>
                  <a:srgbClr val="42568d"/>
                </a:solidFill>
                <a:latin typeface="Times New Roman"/>
                <a:cs typeface="Times New Roman"/>
              </a:rPr>
              <a:t>ــــ</a:t>
            </a:r>
            <a:r>
              <a:rPr b="1" lang="en-US" sz="2400" spc="-1" strike="noStrike">
                <a:solidFill>
                  <a:srgbClr val="42568d"/>
                </a:solidFill>
                <a:latin typeface="Times New Roman"/>
                <a:ea typeface="Times New Roman"/>
              </a:rPr>
              <a:t>OH bond cleavag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6" name="Curve 345"/>
          <p:cNvSpPr/>
          <p:nvPr/>
        </p:nvSpPr>
        <p:spPr>
          <a:xfrm>
            <a:off x="2514600" y="1600200"/>
            <a:ext cx="8424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149" y="961"/>
                </a:moveTo>
                <a:cubicBezTo>
                  <a:pt x="11289" y="987"/>
                  <a:pt x="827" y="0"/>
                  <a:pt x="1655" y="1923"/>
                </a:cubicBezTo>
                <a:cubicBezTo>
                  <a:pt x="2483" y="3846"/>
                  <a:pt x="14977" y="8837"/>
                  <a:pt x="18288" y="10579"/>
                </a:cubicBezTo>
                <a:cubicBezTo>
                  <a:pt x="21600" y="12320"/>
                  <a:pt x="20245" y="10111"/>
                  <a:pt x="18288" y="10579"/>
                </a:cubicBezTo>
                <a:cubicBezTo>
                  <a:pt x="16331" y="11046"/>
                  <a:pt x="11891" y="11904"/>
                  <a:pt x="8579" y="12970"/>
                </a:cubicBezTo>
                <a:cubicBezTo>
                  <a:pt x="5268" y="14036"/>
                  <a:pt x="0" y="14607"/>
                  <a:pt x="1655" y="15855"/>
                </a:cubicBezTo>
                <a:cubicBezTo>
                  <a:pt x="3311" y="17103"/>
                  <a:pt x="13848" y="18532"/>
                  <a:pt x="16933" y="19208"/>
                </a:cubicBezTo>
                <a:cubicBezTo>
                  <a:pt x="20019" y="19884"/>
                  <a:pt x="18890" y="18740"/>
                  <a:pt x="16933" y="19208"/>
                </a:cubicBezTo>
                <a:cubicBezTo>
                  <a:pt x="14977" y="19676"/>
                  <a:pt x="9181" y="21132"/>
                  <a:pt x="7225" y="21600"/>
                </a:cubicBezTo>
              </a:path>
            </a:pathLst>
          </a:custGeom>
          <a:noFill/>
          <a:ln w="15840">
            <a:solidFill>
              <a:srgbClr val="2f58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7" name="AutoShape 13"/>
          <p:cNvSpPr/>
          <p:nvPr/>
        </p:nvSpPr>
        <p:spPr>
          <a:xfrm flipH="1">
            <a:off x="3656880" y="3208320"/>
            <a:ext cx="22860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18" name="Picture 13" descr="ksulogo2.png"/>
          <p:cNvPicPr/>
          <p:nvPr/>
        </p:nvPicPr>
        <p:blipFill>
          <a:blip r:embed="rId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619" name="Picture 14" descr="images.jpeg"/>
          <p:cNvPicPr/>
          <p:nvPr/>
        </p:nvPicPr>
        <p:blipFill>
          <a:blip r:embed="rId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620" name="Straight Connector 15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21" name="Rectangle 16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Footer Placeholder 1"/>
          <p:cNvSpPr/>
          <p:nvPr/>
        </p:nvSpPr>
        <p:spPr>
          <a:xfrm>
            <a:off x="76320" y="624852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23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B5E2-A2BA-4710-BDD8-DE0495232DF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24" name="Rectangle 3"/>
          <p:cNvSpPr/>
          <p:nvPr/>
        </p:nvSpPr>
        <p:spPr>
          <a:xfrm>
            <a:off x="207360" y="1066680"/>
            <a:ext cx="32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C. Oxidation Reactio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625" name="Object 10"/>
          <p:cNvGraphicFramePr/>
          <p:nvPr/>
        </p:nvGraphicFramePr>
        <p:xfrm>
          <a:off x="2590920" y="5181480"/>
          <a:ext cx="3836880" cy="6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5181480"/>
                    <a:ext cx="383688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27" name="Picture 10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628" name="Picture 11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629" name="Straight Connector 12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30" name="Rectangle 13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631" name="Object 1"/>
          <p:cNvGraphicFramePr/>
          <p:nvPr/>
        </p:nvGraphicFramePr>
        <p:xfrm>
          <a:off x="2292480" y="1828800"/>
          <a:ext cx="391140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32" name="Object 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92480" y="1828800"/>
                    <a:ext cx="39114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3" name="Object 2"/>
          <p:cNvGraphicFramePr/>
          <p:nvPr/>
        </p:nvGraphicFramePr>
        <p:xfrm>
          <a:off x="2286000" y="2895480"/>
          <a:ext cx="4829040" cy="709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34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2895480"/>
                    <a:ext cx="482904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5" name="Object 3"/>
          <p:cNvGraphicFramePr/>
          <p:nvPr/>
        </p:nvGraphicFramePr>
        <p:xfrm>
          <a:off x="2286000" y="3886200"/>
          <a:ext cx="4489560" cy="1219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36" name="Object 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0" y="3886200"/>
                    <a:ext cx="448956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Footer Placeholder 1"/>
          <p:cNvSpPr/>
          <p:nvPr/>
        </p:nvSpPr>
        <p:spPr>
          <a:xfrm>
            <a:off x="0" y="6356520"/>
            <a:ext cx="6019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38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9846-792C-4FA3-8971-03F2BB2FCC9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39" name="TextBox 6"/>
          <p:cNvSpPr/>
          <p:nvPr/>
        </p:nvSpPr>
        <p:spPr>
          <a:xfrm>
            <a:off x="85680" y="1752480"/>
            <a:ext cx="8829720" cy="47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Pheno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ompounds having hydroxyl group directly attached to a benzene ring ) are generally named as derivatives of the simplest member of the family, pheno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Acidity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: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s and phenols have weak acidic properti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enol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e much stronger acid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 alcohols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 of </a:t>
            </a:r>
            <a:r>
              <a:rPr b="0" lang="en-US" sz="2400" spc="-1" strike="noStrike">
                <a:solidFill>
                  <a:srgbClr val="6076b4"/>
                </a:solidFill>
                <a:latin typeface="Times New Roman"/>
                <a:ea typeface="Times New Roman"/>
              </a:rPr>
              <a:t>electron-withdrawing group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uch as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CN, on the ring </a:t>
            </a:r>
            <a:r>
              <a:rPr b="0" lang="en-US" sz="2400" spc="-1" strike="noStrike">
                <a:solidFill>
                  <a:srgbClr val="6076b4"/>
                </a:solidFill>
                <a:latin typeface="Times New Roman"/>
                <a:ea typeface="Times New Roman"/>
              </a:rPr>
              <a:t>increases the acid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phenol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40" name="Rectangle 11"/>
          <p:cNvSpPr/>
          <p:nvPr/>
        </p:nvSpPr>
        <p:spPr>
          <a:xfrm>
            <a:off x="228600" y="990720"/>
            <a:ext cx="71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Nomenclature and acidity of Pheno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41" name="Picture 7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642" name="Picture 8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643" name="Straight Connector 9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44" name="Rectangle 10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20160" y="762120"/>
            <a:ext cx="6629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Learning Objectives</a:t>
            </a:r>
            <a:endParaRPr b="0" lang="en-US" sz="2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403" name="Rectangle 9"/>
          <p:cNvSpPr/>
          <p:nvPr/>
        </p:nvSpPr>
        <p:spPr>
          <a:xfrm>
            <a:off x="76320" y="139068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c5252"/>
                </a:solidFill>
                <a:latin typeface="Times New Roman"/>
                <a:ea typeface="Times New Roman"/>
              </a:rPr>
              <a:t>Chapter six concerns alcohols and phenols and by the end of this chapter the student will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9c525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difference in structure between  alcohols and pheno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9c525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different classes of alcoho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9c525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how to name alcohols and pheno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9c525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physical properties (solubility, boiling and melting points)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9c525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how hydrogen bonds are formed and its effect on boiling points of alcoho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9c525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acidic properties of alcohols and pheno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9c525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different methods that can  be used to prepare  alcohols and phenol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9c525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chemical reactions of these compounds ( some reactions are review, others are extensions of the chemistry that will be discussed on chapters 8, 9 &amp; 10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04" name="Footer Placeholder 2"/>
          <p:cNvSpPr/>
          <p:nvPr/>
        </p:nvSpPr>
        <p:spPr>
          <a:xfrm>
            <a:off x="76320" y="632448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05" name="Picture 4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406" name="Picture 5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407" name="Straight Connector 6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08" name="Rectangle 7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5" name="Slide Number Placeholder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369D-93C4-4299-8E41-318E4DD96E6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46" name="Footer Placeholder 2"/>
          <p:cNvSpPr/>
          <p:nvPr/>
        </p:nvSpPr>
        <p:spPr>
          <a:xfrm>
            <a:off x="63360" y="6324480"/>
            <a:ext cx="3353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647" name="Object 6"/>
          <p:cNvGraphicFramePr/>
          <p:nvPr/>
        </p:nvGraphicFramePr>
        <p:xfrm>
          <a:off x="762120" y="1066680"/>
          <a:ext cx="7584840" cy="513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066680"/>
                    <a:ext cx="7584840" cy="513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49" name="Picture 6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650" name="Picture 7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651" name="Straight Connector 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52" name="Rectangle 9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3" name="Group 2"/>
          <p:cNvGrpSpPr/>
          <p:nvPr/>
        </p:nvGrpSpPr>
        <p:grpSpPr>
          <a:xfrm>
            <a:off x="546120" y="2487600"/>
            <a:ext cx="8153280" cy="3124080"/>
            <a:chOff x="546120" y="2487600"/>
            <a:chExt cx="8153280" cy="3124080"/>
          </a:xfrm>
        </p:grpSpPr>
        <p:sp>
          <p:nvSpPr>
            <p:cNvPr id="2654" name="Rounded Rectangle 5"/>
            <p:cNvSpPr/>
            <p:nvPr/>
          </p:nvSpPr>
          <p:spPr>
            <a:xfrm>
              <a:off x="546120" y="2487600"/>
              <a:ext cx="8153280" cy="3124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2655" name="Group 4"/>
            <p:cNvGrpSpPr/>
            <p:nvPr/>
          </p:nvGrpSpPr>
          <p:grpSpPr>
            <a:xfrm>
              <a:off x="774720" y="2563560"/>
              <a:ext cx="5672520" cy="2808000"/>
              <a:chOff x="774720" y="2563560"/>
              <a:chExt cx="5672520" cy="2808000"/>
            </a:xfrm>
          </p:grpSpPr>
          <p:pic>
            <p:nvPicPr>
              <p:cNvPr id="2656" name="Picture 3" descr="C:\Users\haltalassi\Pictures\Picture12.png"/>
              <p:cNvPicPr/>
              <p:nvPr/>
            </p:nvPicPr>
            <p:blipFill>
              <a:blip r:embed="rId1"/>
              <a:stretch/>
            </p:blipFill>
            <p:spPr>
              <a:xfrm>
                <a:off x="774720" y="2563560"/>
                <a:ext cx="5672520" cy="280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7" name="Picture 2" descr="C:\Users\haltalassi\Pictures\Picture11.png"/>
              <p:cNvPicPr/>
              <p:nvPr/>
            </p:nvPicPr>
            <p:blipFill>
              <a:blip r:embed="rId2"/>
              <a:srcRect l="14296" t="23959" r="81701" b="64787"/>
              <a:stretch/>
            </p:blipFill>
            <p:spPr>
              <a:xfrm>
                <a:off x="1460520" y="2792160"/>
                <a:ext cx="3045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58" name="Picture 4" descr="C:\Users\haltalassi\Pictures\Picture13.png"/>
            <p:cNvPicPr/>
            <p:nvPr/>
          </p:nvPicPr>
          <p:blipFill>
            <a:blip r:embed="rId3"/>
            <a:srcRect l="0" t="0" r="0" b="13608"/>
            <a:stretch/>
          </p:blipFill>
          <p:spPr>
            <a:xfrm>
              <a:off x="6566040" y="2944800"/>
              <a:ext cx="1949400" cy="15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9" name="Picture 2" descr="C:\Users\haltalassi\Pictures\Picture11.png"/>
            <p:cNvPicPr/>
            <p:nvPr/>
          </p:nvPicPr>
          <p:blipFill>
            <a:blip r:embed="rId4"/>
            <a:srcRect l="66367" t="56843" r="19617" b="22524"/>
            <a:stretch/>
          </p:blipFill>
          <p:spPr>
            <a:xfrm rot="18843600">
              <a:off x="5946840" y="3423600"/>
              <a:ext cx="10666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0" name="Picture 4" descr="C:\Users\haltalassi\Pictures\Picture13.png"/>
            <p:cNvPicPr/>
            <p:nvPr/>
          </p:nvPicPr>
          <p:blipFill>
            <a:blip r:embed="rId5"/>
            <a:srcRect l="0" t="86404" r="0" b="0"/>
            <a:stretch/>
          </p:blipFill>
          <p:spPr>
            <a:xfrm>
              <a:off x="6718320" y="5002200"/>
              <a:ext cx="1919520" cy="239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61" name="Footer Placeholder 1"/>
          <p:cNvSpPr/>
          <p:nvPr/>
        </p:nvSpPr>
        <p:spPr>
          <a:xfrm>
            <a:off x="88920" y="632448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2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A72C-FD9B-43AE-887F-4E7C0D13466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3" name="Rectangle 3"/>
          <p:cNvSpPr/>
          <p:nvPr/>
        </p:nvSpPr>
        <p:spPr>
          <a:xfrm>
            <a:off x="2514600" y="1143000"/>
            <a:ext cx="52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5252"/>
                </a:solidFill>
                <a:latin typeface="Times New Roman"/>
                <a:ea typeface="Times New Roman"/>
              </a:rPr>
              <a:t>Synthesis of Pheno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64" name="Picture 14" descr="ksulogo2.png"/>
          <p:cNvPicPr/>
          <p:nvPr/>
        </p:nvPicPr>
        <p:blipFill>
          <a:blip r:embed="rId6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665" name="Picture 15" descr="images.jpeg"/>
          <p:cNvPicPr/>
          <p:nvPr/>
        </p:nvPicPr>
        <p:blipFill>
          <a:blip r:embed="rId7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666" name="Straight Connector 16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7" name="Rectangle 17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8" name="Picture 6" descr="C:\Users\haltalassi\Pictures\Picture14.png"/>
          <p:cNvPicPr/>
          <p:nvPr/>
        </p:nvPicPr>
        <p:blipFill>
          <a:blip r:embed="rId1"/>
          <a:stretch/>
        </p:blipFill>
        <p:spPr>
          <a:xfrm>
            <a:off x="2647800" y="1905120"/>
            <a:ext cx="5658120" cy="2376360"/>
          </a:xfrm>
          <a:prstGeom prst="rect">
            <a:avLst/>
          </a:prstGeom>
          <a:ln w="0">
            <a:noFill/>
          </a:ln>
        </p:spPr>
      </p:pic>
      <p:sp>
        <p:nvSpPr>
          <p:cNvPr id="2669" name="Footer Placeholder 2"/>
          <p:cNvSpPr/>
          <p:nvPr/>
        </p:nvSpPr>
        <p:spPr>
          <a:xfrm>
            <a:off x="63360" y="6324480"/>
            <a:ext cx="3353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6A31-9583-4C6F-A9D3-8E9371E77EA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1" name="Rectangle 4"/>
          <p:cNvSpPr/>
          <p:nvPr/>
        </p:nvSpPr>
        <p:spPr>
          <a:xfrm>
            <a:off x="3124080" y="914400"/>
            <a:ext cx="41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5252"/>
                </a:solidFill>
                <a:latin typeface="Times New Roman"/>
                <a:ea typeface="Times New Roman"/>
              </a:rPr>
              <a:t>Reactions Pheno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2" name="Rectangle 5"/>
          <p:cNvSpPr/>
          <p:nvPr/>
        </p:nvSpPr>
        <p:spPr>
          <a:xfrm>
            <a:off x="19080" y="121932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Ethers form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73" name="Picture 9" descr="ksulogo2.png"/>
          <p:cNvPicPr/>
          <p:nvPr/>
        </p:nvPicPr>
        <p:blipFill>
          <a:blip r:embed="rId2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674" name="Picture 10" descr="images.jpeg"/>
          <p:cNvPicPr/>
          <p:nvPr/>
        </p:nvPicPr>
        <p:blipFill>
          <a:blip r:embed="rId3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675" name="Straight Connector 11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6" name="Rectangle 12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677" name="Object 2"/>
          <p:cNvGraphicFramePr/>
          <p:nvPr/>
        </p:nvGraphicFramePr>
        <p:xfrm>
          <a:off x="457200" y="1905120"/>
          <a:ext cx="2131920" cy="2286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7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1905120"/>
                    <a:ext cx="21319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9" name="Picture 5" descr="C:\Users\haltalassi\Pictures\Picture15.png"/>
          <p:cNvPicPr/>
          <p:nvPr/>
        </p:nvPicPr>
        <p:blipFill>
          <a:blip r:embed="rId1"/>
          <a:stretch/>
        </p:blipFill>
        <p:spPr>
          <a:xfrm>
            <a:off x="914400" y="2286000"/>
            <a:ext cx="7034040" cy="2313000"/>
          </a:xfrm>
          <a:prstGeom prst="rect">
            <a:avLst/>
          </a:prstGeom>
          <a:ln w="0">
            <a:noFill/>
          </a:ln>
        </p:spPr>
      </p:pic>
      <p:sp>
        <p:nvSpPr>
          <p:cNvPr id="2680" name="Footer Placeholder 2"/>
          <p:cNvSpPr/>
          <p:nvPr/>
        </p:nvSpPr>
        <p:spPr>
          <a:xfrm>
            <a:off x="1440" y="6324480"/>
            <a:ext cx="3353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1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0D89-DDE2-4527-890F-1096F262395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2" name="Rectangle 5"/>
          <p:cNvSpPr/>
          <p:nvPr/>
        </p:nvSpPr>
        <p:spPr>
          <a:xfrm>
            <a:off x="248760" y="1219320"/>
            <a:ext cx="51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2. Electrophilic Substitution Reactio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83" name="Picture 10" descr="ksulogo2.png"/>
          <p:cNvPicPr/>
          <p:nvPr/>
        </p:nvPicPr>
        <p:blipFill>
          <a:blip r:embed="rId2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684" name="Picture 11" descr="images.jpeg"/>
          <p:cNvPicPr/>
          <p:nvPr/>
        </p:nvPicPr>
        <p:blipFill>
          <a:blip r:embed="rId3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685" name="Straight Connector 12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6" name="Rectangle 13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Footer Placeholder 1"/>
          <p:cNvSpPr/>
          <p:nvPr/>
        </p:nvSpPr>
        <p:spPr>
          <a:xfrm>
            <a:off x="0" y="632448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8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5D69-CAB8-4802-9113-4CC822828E5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9" name="Rectangle 3"/>
          <p:cNvSpPr/>
          <p:nvPr/>
        </p:nvSpPr>
        <p:spPr>
          <a:xfrm>
            <a:off x="3490560" y="939960"/>
            <a:ext cx="17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Home Wor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690" name="Object 1"/>
          <p:cNvGraphicFramePr/>
          <p:nvPr/>
        </p:nvGraphicFramePr>
        <p:xfrm>
          <a:off x="324000" y="1790640"/>
          <a:ext cx="239544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790640"/>
                    <a:ext cx="239544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2" name="Object 2"/>
          <p:cNvGraphicFramePr/>
          <p:nvPr/>
        </p:nvGraphicFramePr>
        <p:xfrm>
          <a:off x="380880" y="2895480"/>
          <a:ext cx="2514600" cy="103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9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895480"/>
                    <a:ext cx="251460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4" name="Object 3"/>
          <p:cNvGraphicFramePr/>
          <p:nvPr/>
        </p:nvGraphicFramePr>
        <p:xfrm>
          <a:off x="380880" y="4724280"/>
          <a:ext cx="2905200" cy="104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95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724280"/>
                    <a:ext cx="290520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96" name="Picture 12" descr="ksulogo2.png"/>
          <p:cNvPicPr/>
          <p:nvPr/>
        </p:nvPicPr>
        <p:blipFill>
          <a:blip r:embed="rId7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697" name="Picture 13" descr="images.jpeg"/>
          <p:cNvPicPr/>
          <p:nvPr/>
        </p:nvPicPr>
        <p:blipFill>
          <a:blip r:embed="rId8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698" name="Straight Connector 14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99" name="Rectangle 15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0" name="Rectangle 12"/>
          <p:cNvSpPr/>
          <p:nvPr/>
        </p:nvSpPr>
        <p:spPr>
          <a:xfrm>
            <a:off x="380880" y="1053360"/>
            <a:ext cx="78487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) The IUPAC name of                         i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4-Ethyl-5-heptyn-3-o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4-Ethyl-5-heptan-3-o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4-Ethyl-5-hepten-3-o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4-Etyl-2-hepten-5-o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01" name="Rectangle 2"/>
          <p:cNvSpPr/>
          <p:nvPr/>
        </p:nvSpPr>
        <p:spPr>
          <a:xfrm>
            <a:off x="380880" y="3019680"/>
            <a:ext cx="7086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) The IUPAC name of                                      is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) 3-Methyl-1-bromocyclohexano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) 2-Bromo-3-methylcyclohexano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) 4-Bromo-2-methylcyclohexano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) 3-Bromo-1-methylcyclohxano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702" name="Object 1"/>
          <p:cNvGraphicFramePr/>
          <p:nvPr/>
        </p:nvGraphicFramePr>
        <p:xfrm>
          <a:off x="3733920" y="2610000"/>
          <a:ext cx="1612800" cy="8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2610000"/>
                    <a:ext cx="161280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4" name="Footer Placeholder 1"/>
          <p:cNvSpPr/>
          <p:nvPr/>
        </p:nvSpPr>
        <p:spPr>
          <a:xfrm>
            <a:off x="0" y="6324480"/>
            <a:ext cx="335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05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2F23-E37A-48CB-8C40-27C1AC1BF15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06" name="Rectangle 2"/>
          <p:cNvSpPr/>
          <p:nvPr/>
        </p:nvSpPr>
        <p:spPr>
          <a:xfrm>
            <a:off x="350640" y="4783680"/>
            <a:ext cx="400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Calibri"/>
              </a:rPr>
              <a:t>6)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BatangChe"/>
              </a:rPr>
              <a:t>The most acidic compound is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707" name="Object 1"/>
          <p:cNvGraphicFramePr/>
          <p:nvPr/>
        </p:nvGraphicFramePr>
        <p:xfrm>
          <a:off x="762120" y="5181480"/>
          <a:ext cx="5806800" cy="12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08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5181480"/>
                    <a:ext cx="58068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09" name="Picture 3" descr=""/>
          <p:cNvPicPr/>
          <p:nvPr/>
        </p:nvPicPr>
        <p:blipFill>
          <a:blip r:embed="rId5"/>
          <a:stretch/>
        </p:blipFill>
        <p:spPr>
          <a:xfrm>
            <a:off x="4025880" y="1001880"/>
            <a:ext cx="1371600" cy="1055520"/>
          </a:xfrm>
          <a:prstGeom prst="rect">
            <a:avLst/>
          </a:prstGeom>
          <a:ln w="0">
            <a:noFill/>
          </a:ln>
        </p:spPr>
      </p:pic>
      <p:pic>
        <p:nvPicPr>
          <p:cNvPr id="2710" name="Picture 11" descr="ksulogo2.png"/>
          <p:cNvPicPr/>
          <p:nvPr/>
        </p:nvPicPr>
        <p:blipFill>
          <a:blip r:embed="rId6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711" name="Picture 12" descr="images.jpeg"/>
          <p:cNvPicPr/>
          <p:nvPr/>
        </p:nvPicPr>
        <p:blipFill>
          <a:blip r:embed="rId7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712" name="Straight Connector 13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13" name="Rectangle 14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4" name="Rectangle 5"/>
          <p:cNvSpPr/>
          <p:nvPr/>
        </p:nvSpPr>
        <p:spPr>
          <a:xfrm>
            <a:off x="88200" y="1174320"/>
            <a:ext cx="51991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) The common name of 2-methyl-2-propanol is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Allyl alcoho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Isopropyl alcoho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Butyl alcoho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Benzyl alcoho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) The following reaction giv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4-Ethylpheno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2-Ethylpheno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Ethylphenyl eth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Ethylphenyl keton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715" name="Object 4"/>
          <p:cNvGraphicFramePr/>
          <p:nvPr/>
        </p:nvGraphicFramePr>
        <p:xfrm>
          <a:off x="1447920" y="3657600"/>
          <a:ext cx="5333760" cy="101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657600"/>
                    <a:ext cx="533376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7" name="Footer Placeholder 1"/>
          <p:cNvSpPr/>
          <p:nvPr/>
        </p:nvSpPr>
        <p:spPr>
          <a:xfrm>
            <a:off x="19080" y="632448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18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FF6D-910E-428A-B94E-16CBF95BE32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719" name="Picture 7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720" name="Picture 8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721" name="Straight Connector 9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22" name="Rectangle 10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3" name="Object 2"/>
          <p:cNvGraphicFramePr/>
          <p:nvPr/>
        </p:nvGraphicFramePr>
        <p:xfrm>
          <a:off x="2360520" y="1509840"/>
          <a:ext cx="1809720" cy="63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0520" y="1509840"/>
                    <a:ext cx="180972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5" name="Object 1"/>
          <p:cNvGraphicFramePr/>
          <p:nvPr/>
        </p:nvGraphicFramePr>
        <p:xfrm>
          <a:off x="1446120" y="2165400"/>
          <a:ext cx="5486400" cy="4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26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6120" y="2165400"/>
                    <a:ext cx="54864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7" name="Rectangle 3"/>
          <p:cNvSpPr/>
          <p:nvPr/>
        </p:nvSpPr>
        <p:spPr>
          <a:xfrm>
            <a:off x="551160" y="1053360"/>
            <a:ext cx="57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9)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he major product for the following reaction i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728" name="Object 7"/>
          <p:cNvGraphicFramePr/>
          <p:nvPr/>
        </p:nvGraphicFramePr>
        <p:xfrm>
          <a:off x="2863800" y="3338640"/>
          <a:ext cx="191628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2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63800" y="3338640"/>
                    <a:ext cx="191628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0" name="Object 6"/>
          <p:cNvGraphicFramePr/>
          <p:nvPr/>
        </p:nvGraphicFramePr>
        <p:xfrm>
          <a:off x="1598760" y="3871800"/>
          <a:ext cx="4638600" cy="704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31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98760" y="3871800"/>
                    <a:ext cx="463860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2" name="Rectangle 8"/>
          <p:cNvSpPr/>
          <p:nvPr/>
        </p:nvSpPr>
        <p:spPr>
          <a:xfrm>
            <a:off x="530280" y="2958480"/>
            <a:ext cx="55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0)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he product of the reaction shown below i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733" name="Object 4"/>
          <p:cNvGraphicFramePr/>
          <p:nvPr/>
        </p:nvGraphicFramePr>
        <p:xfrm>
          <a:off x="1219320" y="5334120"/>
          <a:ext cx="5172120" cy="637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34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19320" y="5334120"/>
                    <a:ext cx="517212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5" name="Rectangle 6"/>
          <p:cNvSpPr/>
          <p:nvPr/>
        </p:nvSpPr>
        <p:spPr>
          <a:xfrm>
            <a:off x="609480" y="48006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Calibri"/>
              </a:rPr>
              <a:t>11) Which of the following compounds has the highest boiling point?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736" name="Picture 11" descr="ksulogo2.png"/>
          <p:cNvPicPr/>
          <p:nvPr/>
        </p:nvPicPr>
        <p:blipFill>
          <a:blip r:embed="rId1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737" name="Picture 12" descr="images.jpeg"/>
          <p:cNvPicPr/>
          <p:nvPr/>
        </p:nvPicPr>
        <p:blipFill>
          <a:blip r:embed="rId1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738" name="Straight Connector 13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39" name="Rectangle 14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a7bc"/>
                </a:solidFill>
                <a:latin typeface="Palatino Linotype"/>
              </a:rPr>
              <a:t>Thank You for your kind attention !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41" name="PlaceHolder 2"/>
          <p:cNvSpPr>
            <a:spLocks noGrp="1"/>
          </p:cNvSpPr>
          <p:nvPr>
            <p:ph type="subTitle"/>
          </p:nvPr>
        </p:nvSpPr>
        <p:spPr>
          <a:xfrm>
            <a:off x="2666880" y="2819160"/>
            <a:ext cx="3695760" cy="19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Questions?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Comments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42" name="Slide Number Placeholder 2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4D0C-2F8C-48C0-9A44-48BEA4F17862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743" name="Picture 8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744" name="Picture 9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745" name="Straight Connector 1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46" name="Rectangle 11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Footer Placeholder 1"/>
          <p:cNvSpPr/>
          <p:nvPr/>
        </p:nvSpPr>
        <p:spPr>
          <a:xfrm>
            <a:off x="152280" y="6324480"/>
            <a:ext cx="3353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0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B6B2-865C-46AE-B290-0C434E4D2AD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1" name="TextBox 6"/>
          <p:cNvSpPr/>
          <p:nvPr/>
        </p:nvSpPr>
        <p:spPr>
          <a:xfrm>
            <a:off x="44280" y="1627200"/>
            <a:ext cx="899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s and phenols may be viewed as organic derivatives of water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2" name="TextBox 7"/>
          <p:cNvSpPr/>
          <p:nvPr/>
        </p:nvSpPr>
        <p:spPr>
          <a:xfrm>
            <a:off x="0" y="3124080"/>
            <a:ext cx="903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s and phenols have a common functional group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, the hydroxyl group, —O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3" name="TextBox 12"/>
          <p:cNvSpPr/>
          <p:nvPr/>
        </p:nvSpPr>
        <p:spPr>
          <a:xfrm>
            <a:off x="0" y="3886200"/>
            <a:ext cx="883908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 alcohols the hydroxyl group is attached to 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an alkyl group, —R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In phenols the hydroxyl function is directly attached t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benzene ring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4" name="مربع نص 13"/>
          <p:cNvSpPr/>
          <p:nvPr/>
        </p:nvSpPr>
        <p:spPr>
          <a:xfrm>
            <a:off x="357120" y="2108160"/>
            <a:ext cx="7925040" cy="74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-O-H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-O-H or PhC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H                  Ph-O-H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Water          Alcohol                                   Pheno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5" name="Rectangle 4"/>
          <p:cNvSpPr/>
          <p:nvPr/>
        </p:nvSpPr>
        <p:spPr>
          <a:xfrm>
            <a:off x="315720" y="990720"/>
            <a:ext cx="47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5252"/>
                </a:solidFill>
                <a:latin typeface="Times New Roman"/>
                <a:ea typeface="Times New Roman"/>
              </a:rPr>
              <a:t>Structure Of Alcohols and Pheno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416" name="Object 11"/>
          <p:cNvGraphicFramePr/>
          <p:nvPr/>
        </p:nvGraphicFramePr>
        <p:xfrm>
          <a:off x="1871640" y="4738680"/>
          <a:ext cx="4724280" cy="18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1640" y="4738680"/>
                    <a:ext cx="472428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18" name="Picture 11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419" name="Picture 12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420" name="Straight Connector 13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21" name="Rectangle 14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TextBox 13"/>
          <p:cNvSpPr/>
          <p:nvPr/>
        </p:nvSpPr>
        <p:spPr>
          <a:xfrm>
            <a:off x="152280" y="205740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lcohols are classifi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rding to the type of the carbon atom connected to the hydroxyl group (carbinol carbon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o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23" name="صورة 1" descr=""/>
          <p:cNvPicPr/>
          <p:nvPr/>
        </p:nvPicPr>
        <p:blipFill>
          <a:blip r:embed="rId1"/>
          <a:srcRect l="0" t="-4593" r="2035" b="7702"/>
          <a:stretch/>
        </p:blipFill>
        <p:spPr>
          <a:xfrm>
            <a:off x="865080" y="3657600"/>
            <a:ext cx="698832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2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B48E-BACE-4B68-B1BD-C8147C86B40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25" name="Rectangle 1"/>
          <p:cNvSpPr/>
          <p:nvPr/>
        </p:nvSpPr>
        <p:spPr>
          <a:xfrm>
            <a:off x="457200" y="1066680"/>
            <a:ext cx="825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Classification and Nomenclature of Alcohols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26" name="Footer Placeholder 2"/>
          <p:cNvSpPr/>
          <p:nvPr/>
        </p:nvSpPr>
        <p:spPr>
          <a:xfrm>
            <a:off x="152280" y="6324480"/>
            <a:ext cx="3353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27" name="Picture 8" descr="ksulogo2.png"/>
          <p:cNvPicPr/>
          <p:nvPr/>
        </p:nvPicPr>
        <p:blipFill>
          <a:blip r:embed="rId2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428" name="Picture 9" descr="images.jpeg"/>
          <p:cNvPicPr/>
          <p:nvPr/>
        </p:nvPicPr>
        <p:blipFill>
          <a:blip r:embed="rId3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429" name="Straight Connector 1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0" name="Rectangle 11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TextBox 14"/>
          <p:cNvSpPr/>
          <p:nvPr/>
        </p:nvSpPr>
        <p:spPr>
          <a:xfrm>
            <a:off x="0" y="2286000"/>
            <a:ext cx="9144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the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ongest continuou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bon chain that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tains the -OH grou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Replace the ending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alkane by  the suffix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–ol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en-US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If a molecule contains both an -OH group and a C=C or c</a:t>
            </a:r>
            <a:r>
              <a:rPr b="1" lang="el-GR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Ξ</a:t>
            </a:r>
            <a:r>
              <a:rPr b="1" lang="en-US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c bond;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he chain that include both of them even if this is  not the longest chain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just">
              <a:lnSpc>
                <a:spcPct val="100000"/>
              </a:lnSpc>
              <a:buClr>
                <a:srgbClr val="9c525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ame should include suffixes indicate presence of both the OH group and the unsaturated groups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just">
              <a:lnSpc>
                <a:spcPct val="100000"/>
              </a:lnSpc>
              <a:buClr>
                <a:srgbClr val="9c525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OH group takes precedence over the double or triple bonds in getting the lower number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just">
              <a:lnSpc>
                <a:spcPct val="100000"/>
              </a:lnSpc>
              <a:buClr>
                <a:srgbClr val="9c525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yclic alcohol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named using the prefix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cyclo-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arbon bearing the hydroxyl group is assumed to take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umber 1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uffix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o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dded to the name of the parent hydrocarbon when there are two OH group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The suffix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io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dded when there are three OH group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just">
              <a:lnSpc>
                <a:spcPct val="100000"/>
              </a:lnSpc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just"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2" name="Footer Placeholder 1"/>
          <p:cNvSpPr/>
          <p:nvPr/>
        </p:nvSpPr>
        <p:spPr>
          <a:xfrm>
            <a:off x="152280" y="6324480"/>
            <a:ext cx="3353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3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5963-F31C-469B-8727-6871962DDF1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4" name="Text Box 4105"/>
          <p:cNvSpPr/>
          <p:nvPr/>
        </p:nvSpPr>
        <p:spPr>
          <a:xfrm>
            <a:off x="0" y="10000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NOMENCLATURE OF ALCOHO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5" name="Rectangle 10"/>
          <p:cNvSpPr/>
          <p:nvPr/>
        </p:nvSpPr>
        <p:spPr>
          <a:xfrm>
            <a:off x="76320" y="1371600"/>
            <a:ext cx="8762760" cy="8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IUPAC Nomenclature Of Alcohols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re name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rding to the following rules: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36" name="Picture 8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437" name="Picture 9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438" name="Straight Connector 1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9" name="Rectangle 11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Slide Number Placeholder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60C6-6BAE-4886-B8E3-1708B19660C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1" name="Rectangle 3"/>
          <p:cNvSpPr/>
          <p:nvPr/>
        </p:nvSpPr>
        <p:spPr>
          <a:xfrm>
            <a:off x="68400" y="1209600"/>
            <a:ext cx="9144000" cy="20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Common Nomenclature Of Alcoho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t the names of </a:t>
            </a:r>
            <a:r>
              <a:rPr b="0" lang="en-US" sz="2000" spc="-1" strike="noStrike">
                <a:solidFill>
                  <a:srgbClr val="6076b4"/>
                </a:solidFill>
                <a:latin typeface="Times New Roman"/>
                <a:ea typeface="Times New Roman"/>
              </a:rPr>
              <a:t>alkyl substituent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ached to the hydroxyl group, </a:t>
            </a:r>
            <a:r>
              <a:rPr b="0" lang="en-US" sz="2000" spc="-1" strike="noStrike">
                <a:solidFill>
                  <a:srgbClr val="6076b4"/>
                </a:solidFill>
                <a:latin typeface="Times New Roman"/>
                <a:ea typeface="Times New Roman"/>
              </a:rPr>
              <a:t>followed by th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6076b4"/>
                </a:solidFill>
                <a:latin typeface="Times New Roman"/>
                <a:ea typeface="Times New Roman"/>
              </a:rPr>
              <a:t>word alcohol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6076b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two OH groups present on two adjacent carbons these known as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lycol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2" name="Rectangle 8"/>
          <p:cNvSpPr/>
          <p:nvPr/>
        </p:nvSpPr>
        <p:spPr>
          <a:xfrm>
            <a:off x="152280" y="3259080"/>
            <a:ext cx="31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imary alcohol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443" name=""/>
          <p:cNvGraphicFramePr/>
          <p:nvPr/>
        </p:nvGraphicFramePr>
        <p:xfrm>
          <a:off x="228600" y="4267080"/>
          <a:ext cx="8458200" cy="1692360"/>
        </p:xfrm>
        <a:graphic>
          <a:graphicData uri="http://schemas.openxmlformats.org/drawingml/2006/table">
            <a:tbl>
              <a:tblPr/>
              <a:tblGrid>
                <a:gridCol w="1219320"/>
                <a:gridCol w="2209680"/>
                <a:gridCol w="2438280"/>
                <a:gridCol w="2590920"/>
              </a:tblGrid>
              <a:tr h="411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OH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OH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=CH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O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Constantia"/>
                          <a:ea typeface="Majalla UI"/>
                        </a:rPr>
                        <a:t>Commo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Methyl alcoho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Ethyl alcoho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Allyl alcoh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Constantia"/>
                          <a:ea typeface="Majalla UI"/>
                        </a:rPr>
                        <a:t>IUPAC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Methano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Ethano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2-Propen-1-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4" name="Footer Placeholder 2"/>
          <p:cNvSpPr/>
          <p:nvPr/>
        </p:nvSpPr>
        <p:spPr>
          <a:xfrm>
            <a:off x="152280" y="6324480"/>
            <a:ext cx="3353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45" name="Picture 8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446" name="Picture 9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447" name="Straight Connector 1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8" name="Rectangle 11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TextBox 4"/>
          <p:cNvSpPr/>
          <p:nvPr/>
        </p:nvSpPr>
        <p:spPr>
          <a:xfrm>
            <a:off x="285840" y="1905120"/>
            <a:ext cx="885816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6076b4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6076b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5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CD7E-3816-41C4-B117-05F9CE1A60B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51" name="Rectangle 4"/>
          <p:cNvSpPr/>
          <p:nvPr/>
        </p:nvSpPr>
        <p:spPr>
          <a:xfrm>
            <a:off x="0" y="1295280"/>
            <a:ext cx="53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econdary and tertiary alcoho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452" name=""/>
          <p:cNvGraphicFramePr/>
          <p:nvPr/>
        </p:nvGraphicFramePr>
        <p:xfrm>
          <a:off x="500040" y="2214720"/>
          <a:ext cx="8458200" cy="2439720"/>
        </p:xfrm>
        <a:graphic>
          <a:graphicData uri="http://schemas.openxmlformats.org/drawingml/2006/table">
            <a:tbl>
              <a:tblPr/>
              <a:tblGrid>
                <a:gridCol w="1219320"/>
                <a:gridCol w="2038320"/>
                <a:gridCol w="2286000"/>
                <a:gridCol w="2914560"/>
              </a:tblGrid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Constantia"/>
                          <a:ea typeface="Majalla UI"/>
                        </a:rPr>
                        <a:t>Commo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Isopropyl alcoho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Cyclopentyl alcoho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Methylcyclohexyl alcohol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Constantia"/>
                          <a:ea typeface="Majalla UI"/>
                        </a:rPr>
                        <a:t>IUPAC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2-Propano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Cyclopentan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1-Methyl-1-cyclohexan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53" name="Object 2"/>
          <p:cNvGraphicFramePr/>
          <p:nvPr/>
        </p:nvGraphicFramePr>
        <p:xfrm>
          <a:off x="6880320" y="2286000"/>
          <a:ext cx="1334880" cy="10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0320" y="2286000"/>
                    <a:ext cx="133488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5" name="Object 3"/>
          <p:cNvGraphicFramePr/>
          <p:nvPr/>
        </p:nvGraphicFramePr>
        <p:xfrm>
          <a:off x="4470480" y="2254320"/>
          <a:ext cx="682560" cy="110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70480" y="2254320"/>
                    <a:ext cx="68256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7" name="Object 4"/>
          <p:cNvGraphicFramePr/>
          <p:nvPr/>
        </p:nvGraphicFramePr>
        <p:xfrm>
          <a:off x="2238480" y="2454120"/>
          <a:ext cx="717480" cy="70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5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38480" y="2454120"/>
                    <a:ext cx="71748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9" name="Footer Placeholder 2"/>
          <p:cNvSpPr/>
          <p:nvPr/>
        </p:nvSpPr>
        <p:spPr>
          <a:xfrm>
            <a:off x="152280" y="6324480"/>
            <a:ext cx="3353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60" name="Picture 11" descr="ksulogo2.png"/>
          <p:cNvPicPr/>
          <p:nvPr/>
        </p:nvPicPr>
        <p:blipFill>
          <a:blip r:embed="rId7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461" name="Picture 12" descr="images.jpeg"/>
          <p:cNvPicPr/>
          <p:nvPr/>
        </p:nvPicPr>
        <p:blipFill>
          <a:blip r:embed="rId8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462" name="Straight Connector 13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63" name="Rectangle 14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3F193-4BDC-474A-ACEE-A3A307180B4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465" name="Object 2"/>
          <p:cNvGraphicFramePr/>
          <p:nvPr/>
        </p:nvGraphicFramePr>
        <p:xfrm>
          <a:off x="444600" y="1763640"/>
          <a:ext cx="726840" cy="16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1763640"/>
                    <a:ext cx="726840" cy="16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7" name="Object 4"/>
          <p:cNvGraphicFramePr/>
          <p:nvPr/>
        </p:nvGraphicFramePr>
        <p:xfrm>
          <a:off x="7238880" y="1828800"/>
          <a:ext cx="1333800" cy="140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8880" y="1828800"/>
                    <a:ext cx="133380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9" name="Object 5"/>
          <p:cNvGraphicFramePr/>
          <p:nvPr/>
        </p:nvGraphicFramePr>
        <p:xfrm>
          <a:off x="4191120" y="1676520"/>
          <a:ext cx="995400" cy="147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7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91120" y="1676520"/>
                    <a:ext cx="99540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1" name="Object 6"/>
          <p:cNvGraphicFramePr/>
          <p:nvPr/>
        </p:nvGraphicFramePr>
        <p:xfrm>
          <a:off x="4267080" y="4952880"/>
          <a:ext cx="657360" cy="982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72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67080" y="4952880"/>
                    <a:ext cx="65736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3" name="مربع نص 12"/>
          <p:cNvSpPr/>
          <p:nvPr/>
        </p:nvSpPr>
        <p:spPr>
          <a:xfrm>
            <a:off x="-34920" y="3657600"/>
            <a:ext cx="33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-Methyl-2-cyclohexen-1-o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4" name="مربع نص 14"/>
          <p:cNvSpPr/>
          <p:nvPr/>
        </p:nvSpPr>
        <p:spPr>
          <a:xfrm>
            <a:off x="2971800" y="3429000"/>
            <a:ext cx="350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-Phenylmethano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omic Sans MS"/>
              </a:rPr>
              <a:t>Benzyl alcohol (common name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5" name="مستطيل 15"/>
          <p:cNvSpPr/>
          <p:nvPr/>
        </p:nvSpPr>
        <p:spPr>
          <a:xfrm>
            <a:off x="6819120" y="350532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-Phenylethano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6" name="مستطيل 16"/>
          <p:cNvSpPr/>
          <p:nvPr/>
        </p:nvSpPr>
        <p:spPr>
          <a:xfrm>
            <a:off x="2865960" y="6095880"/>
            <a:ext cx="36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han-1,2-dio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omic Sans MS"/>
              </a:rPr>
              <a:t>Ethelene glycol (common name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7" name="Rectangle 18"/>
          <p:cNvSpPr/>
          <p:nvPr/>
        </p:nvSpPr>
        <p:spPr>
          <a:xfrm>
            <a:off x="46800" y="927000"/>
            <a:ext cx="152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478" name="Object 6"/>
          <p:cNvGraphicFramePr/>
          <p:nvPr/>
        </p:nvGraphicFramePr>
        <p:xfrm>
          <a:off x="0" y="4952880"/>
          <a:ext cx="3809880" cy="914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79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4952880"/>
                    <a:ext cx="38098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0" name="Footer Placeholder 2"/>
          <p:cNvSpPr/>
          <p:nvPr/>
        </p:nvSpPr>
        <p:spPr>
          <a:xfrm>
            <a:off x="152280" y="6324480"/>
            <a:ext cx="3353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481" name="Object 16"/>
          <p:cNvGraphicFramePr/>
          <p:nvPr/>
        </p:nvGraphicFramePr>
        <p:xfrm>
          <a:off x="5943600" y="5029200"/>
          <a:ext cx="3276720" cy="1128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82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43600" y="5029200"/>
                    <a:ext cx="3276720" cy="11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83" name="Picture 16" descr="ksulogo2.png"/>
          <p:cNvPicPr/>
          <p:nvPr/>
        </p:nvPicPr>
        <p:blipFill>
          <a:blip r:embed="rId1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484" name="Picture 17" descr="images.jpeg"/>
          <p:cNvPicPr/>
          <p:nvPr/>
        </p:nvPicPr>
        <p:blipFill>
          <a:blip r:embed="rId1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485" name="Straight Connector 1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86" name="Rectangle 19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7" name="Object 4"/>
          <p:cNvGraphicFramePr/>
          <p:nvPr/>
        </p:nvGraphicFramePr>
        <p:xfrm>
          <a:off x="685800" y="1447920"/>
          <a:ext cx="75801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75801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9" name="Rectangle 5"/>
          <p:cNvSpPr/>
          <p:nvPr/>
        </p:nvSpPr>
        <p:spPr>
          <a:xfrm>
            <a:off x="-37800" y="1001880"/>
            <a:ext cx="152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490" name="Object 9"/>
          <p:cNvGraphicFramePr/>
          <p:nvPr/>
        </p:nvGraphicFramePr>
        <p:xfrm>
          <a:off x="1143000" y="4537080"/>
          <a:ext cx="6238800" cy="22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4537080"/>
                    <a:ext cx="6238800" cy="22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2" name="Footer Placeholder 2"/>
          <p:cNvSpPr/>
          <p:nvPr/>
        </p:nvSpPr>
        <p:spPr>
          <a:xfrm>
            <a:off x="152280" y="6324480"/>
            <a:ext cx="3353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493" name="Object 2"/>
          <p:cNvGraphicFramePr/>
          <p:nvPr/>
        </p:nvGraphicFramePr>
        <p:xfrm>
          <a:off x="1371600" y="2895480"/>
          <a:ext cx="6324480" cy="161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94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2895480"/>
                    <a:ext cx="63244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95" name="Picture 8" descr="ksulogo2.png"/>
          <p:cNvPicPr/>
          <p:nvPr/>
        </p:nvPicPr>
        <p:blipFill>
          <a:blip r:embed="rId7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496" name="Picture 9" descr="images.jpeg"/>
          <p:cNvPicPr/>
          <p:nvPr/>
        </p:nvPicPr>
        <p:blipFill>
          <a:blip r:embed="rId8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497" name="Straight Connector 1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98" name="Rectangle 11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3:16:56Z</dcterms:created>
  <dc:creator>NCCR</dc:creator>
  <dc:description/>
  <dc:language>en-US</dc:language>
  <cp:lastModifiedBy>hp</cp:lastModifiedBy>
  <dcterms:modified xsi:type="dcterms:W3CDTF">2015-02-28T11:00:03Z</dcterms:modified>
  <cp:revision>169</cp:revision>
  <dc:subject/>
  <dc:title>TYPES OF HYBRIDIZATION AND GEOMETRY OF MOLECU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480</vt:lpwstr>
  </property>
</Properties>
</file>