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3.png" ContentType="image/png"/>
  <Override PartName="/ppt/media/image49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39.wmf" ContentType="image/x-wmf"/>
  <Override PartName="/ppt/media/image18.wmf" ContentType="image/x-wmf"/>
  <Override PartName="/ppt/media/image60.wmf" ContentType="image/x-wmf"/>
  <Override PartName="/ppt/media/image57.png" ContentType="image/png"/>
  <Override PartName="/ppt/media/image20.wmf" ContentType="image/x-wmf"/>
  <Override PartName="/ppt/media/image4.png" ContentType="image/png"/>
  <Override PartName="/ppt/media/image27.png" ContentType="image/png"/>
  <Override PartName="/ppt/media/image67.wmf" ContentType="image/x-wmf"/>
  <Override PartName="/ppt/media/image30.wmf" ContentType="image/x-wmf"/>
  <Override PartName="/ppt/media/image3.png" ContentType="image/png"/>
  <Override PartName="/ppt/media/image1.jpeg" ContentType="image/jpeg"/>
  <Override PartName="/ppt/media/image10.png" ContentType="image/png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.png" ContentType="image/png"/>
  <Override PartName="/ppt/media/image14.png" ContentType="image/png"/>
  <Override PartName="/ppt/media/image69.wmf" ContentType="image/x-wmf"/>
  <Override PartName="/ppt/media/image32.wmf" ContentType="image/x-wmf"/>
  <Override PartName="/ppt/media/image68.wmf" ContentType="image/x-wmf"/>
  <Override PartName="/ppt/media/image50.wmf" ContentType="image/x-wmf"/>
  <Override PartName="/ppt/media/image28.png" ContentType="image/png"/>
  <Override PartName="/ppt/media/image31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4.png" ContentType="image/png"/>
  <Override PartName="/ppt/media/image63.wmf" ContentType="image/x-wmf"/>
  <Override PartName="/ppt/media/image26.wmf" ContentType="image/x-wmf"/>
  <Override PartName="/ppt/media/image23.wmf" ContentType="image/x-wmf"/>
  <Override PartName="/ppt/media/image62.wmf" ContentType="image/x-wmf"/>
  <Override PartName="/ppt/media/image25.wmf" ContentType="image/x-wmf"/>
  <Override PartName="/ppt/media/image5.jpeg" ContentType="image/jpeg"/>
  <Override PartName="/ppt/media/image48.wmf" ContentType="image/x-wmf"/>
  <Override PartName="/ppt/media/image29.wmf" ContentType="image/x-wmf"/>
  <Override PartName="/ppt/media/image11.png" ContentType="image/png"/>
  <Override PartName="/ppt/media/image51.wmf" ContentType="image/x-wmf"/>
  <Override PartName="/ppt/media/image15.wmf" ContentType="image/x-wmf"/>
  <Override PartName="/ppt/media/image54.png" ContentType="image/png"/>
  <Override PartName="/ppt/media/image6.png" ContentType="image/png"/>
  <Override PartName="/ppt/media/image40.wmf" ContentType="image/x-wmf"/>
  <Override PartName="/ppt/media/image16.wmf" ContentType="image/x-wmf"/>
  <Override PartName="/ppt/media/image55.png" ContentType="image/png"/>
  <Override PartName="/ppt/media/image7.png" ContentType="image/png"/>
  <Override PartName="/ppt/media/image41.wmf" ContentType="image/x-wmf"/>
  <Override PartName="/ppt/media/image17.wmf" ContentType="image/x-wmf"/>
  <Override PartName="/ppt/media/image8.png" ContentType="image/png"/>
  <Override PartName="/ppt/media/image42.wmf" ContentType="image/x-wmf"/>
  <Override PartName="/ppt/media/image13.wmf" ContentType="image/x-wmf"/>
  <Override PartName="/ppt/media/image52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12.jpeg" ContentType="image/jpeg"/>
  <Override PartName="/ppt/media/image37.wmf" ContentType="image/x-wmf"/>
  <Override PartName="/ppt/media/image38.wmf" ContentType="image/x-wm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</p:sldMasterIdLst>
  <p:notesMasterIdLst>
    <p:notesMasterId r:id="rId54"/>
  </p:notesMasterIdLst>
  <p:sldIdLst>
    <p:sldId id="256" r:id="rId55"/>
    <p:sldId id="257" r:id="rId56"/>
    <p:sldId id="258" r:id="rId57"/>
    <p:sldId id="259" r:id="rId58"/>
    <p:sldId id="260" r:id="rId59"/>
    <p:sldId id="261" r:id="rId60"/>
    <p:sldId id="262" r:id="rId61"/>
    <p:sldId id="263" r:id="rId62"/>
    <p:sldId id="264" r:id="rId63"/>
    <p:sldId id="265" r:id="rId64"/>
    <p:sldId id="266" r:id="rId65"/>
    <p:sldId id="267" r:id="rId66"/>
    <p:sldId id="268" r:id="rId67"/>
    <p:sldId id="269" r:id="rId68"/>
    <p:sldId id="270" r:id="rId69"/>
    <p:sldId id="271" r:id="rId70"/>
    <p:sldId id="272" r:id="rId71"/>
    <p:sldId id="273" r:id="rId72"/>
    <p:sldId id="274" r:id="rId73"/>
    <p:sldId id="275" r:id="rId74"/>
    <p:sldId id="276" r:id="rId75"/>
    <p:sldId id="277" r:id="rId76"/>
    <p:sldId id="278" r:id="rId77"/>
    <p:sldId id="279" r:id="rId78"/>
    <p:sldId id="280" r:id="rId79"/>
    <p:sldId id="281" r:id="rId80"/>
    <p:sldId id="282" r:id="rId81"/>
    <p:sldId id="28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notesMaster" Target="notesMasters/notesMaster1.xml"/><Relationship Id="rId55" Type="http://schemas.openxmlformats.org/officeDocument/2006/relationships/slide" Target="slides/slide1.xml"/><Relationship Id="rId56" Type="http://schemas.openxmlformats.org/officeDocument/2006/relationships/slide" Target="slides/slide2.xml"/><Relationship Id="rId57" Type="http://schemas.openxmlformats.org/officeDocument/2006/relationships/slide" Target="slides/slide3.xml"/><Relationship Id="rId58" Type="http://schemas.openxmlformats.org/officeDocument/2006/relationships/slide" Target="slides/slide4.xml"/><Relationship Id="rId59" Type="http://schemas.openxmlformats.org/officeDocument/2006/relationships/slide" Target="slides/slide5.xml"/><Relationship Id="rId60" Type="http://schemas.openxmlformats.org/officeDocument/2006/relationships/slide" Target="slides/slide6.xml"/><Relationship Id="rId61" Type="http://schemas.openxmlformats.org/officeDocument/2006/relationships/slide" Target="slides/slide7.xml"/><Relationship Id="rId62" Type="http://schemas.openxmlformats.org/officeDocument/2006/relationships/slide" Target="slides/slide8.xml"/><Relationship Id="rId63" Type="http://schemas.openxmlformats.org/officeDocument/2006/relationships/slide" Target="slides/slide9.xml"/><Relationship Id="rId64" Type="http://schemas.openxmlformats.org/officeDocument/2006/relationships/slide" Target="slides/slide10.xml"/><Relationship Id="rId65" Type="http://schemas.openxmlformats.org/officeDocument/2006/relationships/slide" Target="slides/slide11.xml"/><Relationship Id="rId66" Type="http://schemas.openxmlformats.org/officeDocument/2006/relationships/slide" Target="slides/slide12.xml"/><Relationship Id="rId67" Type="http://schemas.openxmlformats.org/officeDocument/2006/relationships/slide" Target="slides/slide13.xml"/><Relationship Id="rId68" Type="http://schemas.openxmlformats.org/officeDocument/2006/relationships/slide" Target="slides/slide14.xml"/><Relationship Id="rId69" Type="http://schemas.openxmlformats.org/officeDocument/2006/relationships/slide" Target="slides/slide15.xml"/><Relationship Id="rId70" Type="http://schemas.openxmlformats.org/officeDocument/2006/relationships/slide" Target="slides/slide16.xml"/><Relationship Id="rId71" Type="http://schemas.openxmlformats.org/officeDocument/2006/relationships/slide" Target="slides/slide17.xml"/><Relationship Id="rId72" Type="http://schemas.openxmlformats.org/officeDocument/2006/relationships/slide" Target="slides/slide18.xml"/><Relationship Id="rId73" Type="http://schemas.openxmlformats.org/officeDocument/2006/relationships/slide" Target="slides/slide19.xml"/><Relationship Id="rId74" Type="http://schemas.openxmlformats.org/officeDocument/2006/relationships/slide" Target="slides/slide20.xml"/><Relationship Id="rId75" Type="http://schemas.openxmlformats.org/officeDocument/2006/relationships/slide" Target="slides/slide21.xml"/><Relationship Id="rId76" Type="http://schemas.openxmlformats.org/officeDocument/2006/relationships/slide" Target="slides/slide22.xml"/><Relationship Id="rId77" Type="http://schemas.openxmlformats.org/officeDocument/2006/relationships/slide" Target="slides/slide23.xml"/><Relationship Id="rId78" Type="http://schemas.openxmlformats.org/officeDocument/2006/relationships/slide" Target="slides/slide24.xml"/><Relationship Id="rId79" Type="http://schemas.openxmlformats.org/officeDocument/2006/relationships/slide" Target="slides/slide25.xml"/><Relationship Id="rId80" Type="http://schemas.openxmlformats.org/officeDocument/2006/relationships/slide" Target="slides/slide26.xml"/><Relationship Id="rId81" Type="http://schemas.openxmlformats.org/officeDocument/2006/relationships/slide" Target="slides/slide27.xml"/><Relationship Id="rId82" Type="http://schemas.openxmlformats.org/officeDocument/2006/relationships/slide" Target="slides/slide2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 type="dt" idx="1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 type="ftr" idx="1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6"/>
          <p:cNvSpPr>
            <a:spLocks noGrp="1"/>
          </p:cNvSpPr>
          <p:nvPr>
            <p:ph type="sldNum" idx="1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DC15-B351-4BDF-8CCA-D867F64BD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39A5-C33E-4588-B249-969D69E9A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D3B-224A-4E20-AE0E-323F0F1F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0D5-AD2A-4650-B5AE-C7EE188F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3B1BD-D6E9-4A05-8C3A-3F4B5C35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1AD84-2BC6-4A2D-850E-DA53965D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71E23-7325-456D-824B-DE272744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5CDD6-7E5E-40C6-BF3E-2DAF8CA1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A4FDF-3549-4D38-97D3-098F57D7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543B9-68C2-445F-B8EC-2FEAB8FE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0EBF9-4FB2-4169-AB5D-1E49B71B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2D0A1-2B28-4C9B-AD06-35F86D66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B4817-D454-46D0-846F-D76E625B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0A146-D4E2-46B7-8D93-9C27B6D3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60FA-A384-483D-A30C-4B1B1598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82A95-68B1-4457-B4EB-5E2EFFDE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AF292-343A-43E6-8F88-AA238990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C9F9A-C3E2-4EAD-9FAB-13FF4900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5068C-829A-469A-BFBB-26BABDAA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D8B03-466D-4944-A95B-1B0284C7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396CA-E598-4AF3-A189-3751AFF6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E4E30-E02D-4907-914B-A43D49A0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BE167-1CA5-4FA5-82B6-B07F55A6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5DB6B-E4E8-4526-8329-BFEFE56F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28E04-015D-4293-A035-B9170324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D46F-9D95-434C-9FA7-485D477B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34E8F-C68E-4C62-9242-9B1FE1C4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863C5-CC1E-45CB-8D00-9DF32BC4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997D5-A855-4D8A-A858-DBC9E25B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108E9-DB96-4CC8-869F-C4B403B3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7F586-4704-4794-9796-58C20FB9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A6ED0-0C07-4222-AA21-417209DE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F608F-D1E8-4805-A3E8-C8100D8C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881D5-3F2D-45AE-BC41-B2070721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09A53-037D-4059-86CE-7AB46161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79ACF-10D1-48EA-8D41-B46D8722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128A-0E8B-4751-9CB4-5A2D30F4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D1DFC-4D44-4112-AB87-5DE1A162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93152-4AB9-490A-837D-9E85F608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D4538-C5C0-486D-86C3-B98CAFF6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2EFEC-FD99-4FAB-9572-F559D3D6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85007-E015-4F27-A076-8AE199B9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2AE72-AF61-47A4-B83B-C60C8CF6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E1641-E029-4200-8861-FE0BD618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1BD3D-B38B-40E3-A7C6-CCA91D47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89679-E6C5-418E-B655-14E16A68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6CE50-0D2A-475D-8034-83060071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A016-8174-4B38-AC2C-39B3B997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2A8C8-EE63-4EB3-BDC7-B11318BC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05A1C-4D24-43A2-94A9-FBC36D8F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1141D-4EF0-4F12-A719-82AFECCD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8BEA9-0CBD-4ED1-87B9-15F66AD6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5491C-3BE4-40D2-A3FC-4ED6C572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1A351-DB90-451B-A65B-DEB5BBBC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4CDC9-11D1-49E4-824F-0EE74EFC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75C70-E713-441D-8381-DB6725F5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D0EF0-FC72-4AF7-906F-3D1B1009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4BFC4-04F2-4659-A107-448454AD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CC1F-DF4E-4A0B-A4E3-EB86694C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A2C79-8CC9-4F4C-BE93-89D37D23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AE5BF-8DFE-44AE-B143-3D7C0F25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BBD98-7CA5-461A-AD58-1720A959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BCCD8-3B0A-4A50-8B86-54477244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47D67-B590-4D45-BAF3-29D5367A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F4B3E-F601-4CC8-B925-C147ADCE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80DC9-DA21-4602-932D-5A8D69A5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B0AF3-2967-4A25-87F5-7D798919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3CBDE1-30E8-4A4C-8FF0-2BB684BE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51EADB-2093-489E-B807-D5E64FAD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86FD-5E22-4388-B1B9-839474CA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FCB25E-83B3-4682-9DB6-920211BA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2039D7-2D8E-464D-A462-F739D44E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31496E-0765-43C5-B926-1A3441CE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8566D1-B8FB-4313-9A71-AF59B207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7D760-53F6-4BB2-89EB-5488F5F8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D329A-1DE1-4F5C-90E2-8AD963BB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BE0152-35E8-4016-8A5A-C1ACBD59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73E55C-9A20-4C72-8A0E-5A11C236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7AD24B-FC0A-482C-8CF2-99BD670C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2714A1-BFBF-4953-AEDD-70D38E3A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6698-7580-47C4-B8CC-461F818F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BFE4AA-2EBF-4E67-B144-270F24C3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DDDD1-DFCD-4BCF-AD92-0BCB4D2A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7D43C4-EB8D-4558-BFAF-43A3E4FF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59FB1A-A1BA-4A8F-909C-DEC274D5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DE57E4-DC4D-4505-8930-9041D375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109591-B68C-4395-982B-24152656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2137B-1B48-47AA-B22F-567D5484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7CDC98-3ECB-4E09-9A93-999D2827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E8EBAA-8C5D-426F-9B5F-7CDD13E7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761ADD-211E-49A0-AAE2-9B323A78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266D-06F4-4D7A-A1C2-36BA0901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DD2BF8-C435-4819-A474-42A44AA1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1825AC-45CD-4377-9189-0FBF8259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7064F0-56E7-4E44-A272-900F7239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2C38A8-BEFE-4818-8731-9EEB6612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B1EC89-5177-4B72-96EC-D28B3CEB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230D7A-1322-4BD7-83B2-F7DAAB44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CDA79B-6B47-4914-BDD7-21234CE0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DC652D-62A9-4A59-AFE4-4B4DA03C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018F07-3664-404E-BD5C-D80B591E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66A790-3726-402B-8036-74431849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7243-1869-45B2-81BE-7CD657F4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CC8610-5750-43B4-AF90-A7724B5E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3B9025-4BE6-488B-BE56-BF4B6020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85AFD1-E7FD-4C34-8957-95E7BF59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8C671E-1C21-4801-846B-0F9B9FCD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3BFDE3-92C3-41E3-AD33-9B700A65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E33948-1A38-4063-8294-89FE9195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826E73-2C86-40A8-BCF1-61582227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07871-0107-4123-BF51-30235AD1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E30908-140B-43CD-B676-7475108D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B549D0-5B16-4D97-BFE6-FA6993B3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074-AA14-4640-95D3-6016062C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F4C9-1C56-4947-9702-31CF51EF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E6DE0B-D37C-43D0-BFFA-E7131805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939213-4D4C-435A-9E0F-5A3DB76C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BB2B11-08CB-4DF9-A676-F7CC6C45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3C3448-97B1-4247-8DB1-5A49185B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4772A1-F2B6-48CC-9D7F-F1F4D0D2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F8464-71E5-4F5E-AA8E-7537F3FE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41B2A6-5916-4386-A354-3D9D2F36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3A64F3-4669-4E18-B463-D65252C3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238F9A-7691-41E8-BB37-0782994A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529079-FDA9-4D44-8851-30441229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CF21-6F02-45AD-9864-78D2D77F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ADAA69-CC3B-4687-A7BA-95ECB83C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86C6F3-57D8-4744-A669-56F8187D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B35B6E-FF10-4C2D-A338-167FFEB8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7B9C66-49F9-44D3-94FE-3EAF0B00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FBFB00-85BC-4DCD-A04F-B64925D5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090AF4-9D8C-4263-9259-52FEC5ED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2C0931-CCF5-48C3-8692-7917FC4C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CACAA0-1E2D-4D02-968F-C1BEDB67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FFB602-39F7-489E-8B4D-F4E78966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5193BE-5F26-4435-BC93-7DD73951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863E-65E1-4168-AB59-D205BC58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FBC0CA-6414-4974-B815-F5D65757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79A150-5EF9-4C77-93A8-7488D08A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FAFD35-A9AD-41E8-BEAD-1621FBD4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E5CF39-078B-4860-8594-CE23A142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817909-45A9-4B94-902D-1A87F330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35C452-5985-4750-840B-5257C237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469FC7-6BED-44BF-8227-938B9923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25A5C8-F454-4B5A-B6FF-9A636F48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17BE91-57EA-4892-B828-D88D0401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2468EB-8A4F-4B75-BDEF-41AC730C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01C5-16F7-46EA-A069-E33C0459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04E700-854A-4632-A957-74BE42AD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562F42-A392-499C-8A75-8A4B6A09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224B9D-4588-42B6-8F82-35F02116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3CE131-DF02-4D4F-AEFC-70C2A677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BE2C2E-8B03-4172-A657-FEAC3E99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DF0C57-6B50-4865-800A-B4189E37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EBDDBA-920E-4E74-A898-9F7432DF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B39286-1CF4-4D49-9591-3DDEE408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2B0484-68D7-444C-9118-9C817D1C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68783B-783F-4A39-83A0-62AEA26A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9600-B66B-4901-8DD7-E56FEC5C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F510BC-C3CF-4C22-91CA-FF994056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5B909C-758A-4737-98AD-53ED1C3E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1A253E-A5CC-4F02-9947-7A97B00A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3F14C9-F3F8-4515-BB92-045C31E1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363325-A6C9-4677-842B-5D75EE91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BBE2A9-ADF9-40F6-8AC3-D706B90F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D770C8-6AF6-4B4B-AD45-1DDD8A07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1DE4E0-7319-4FE1-B93D-F188EC26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B3DF11-035C-4F58-9C71-A772CB8E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689F24-9A72-49A9-8278-14C69FB0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81259-4445-4B30-8A33-60667CFF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E39F94-7523-4C9F-A562-EA67B79C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374E39-B03B-479F-A8CE-0C07DC45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EFB8BC-12F8-4184-B837-44BE9712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49CE69-30E8-4930-8E69-A28333FB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04ED2D-CC94-4F91-A678-C8200A7C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627133-4E2E-4FB5-88B3-F2846979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9C1A6E-B610-49CD-A12D-55D3C82F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532A12-B02D-47B8-A9B2-0998FBAD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AB48DC-1CEA-4091-BE53-D249FD10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F76D54-56B3-4AA0-8BE4-C6A99563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EA8AD-9E76-41EB-A1D0-D36F3137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BFA50E-B8FB-4596-A6DE-91E9B1C0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10C30F-3E39-4165-9CFA-8D092BDE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12FD9E-A6FE-44B3-9132-0E2E3B9A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0422BF-B143-44E8-8735-69DB6E80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5F5655-E338-44C5-A910-57A91465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FC5756-12B9-466D-AE82-50BAE6E1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F2FCF4-AC0F-407D-8FAF-24F5D5FC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178CE9-E2D5-42EA-AD89-492E3483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BE5105-74AB-46F6-9E03-E76D1510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E4B1B6-7238-4B38-A83A-178723AA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D0B1D-6557-4DEF-B93D-78C90A42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4EE90E-E729-48D3-A652-A36BA65D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2285EC-6ABA-4D39-8E99-FB1BCB7D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BBA3C6-24C2-4144-9002-9B3B6327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7C3FC7-C0C2-4214-9AD9-52AE80F8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2CCE23-B2D1-4FD7-BCF9-A14EA7E1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9588E3-6A31-4D70-BB01-BCEC9058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06E073-3D24-49A3-B4D8-4DF428B9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258333-29E1-4D72-A6E6-B39BBC46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0293FE-CEAF-460D-805D-0E8957D3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E552BD-3E10-405E-8E8A-17011B63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4F3EA-56A8-48A0-99FB-649D58A1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85CF52-56AE-4702-8B7F-3F89A863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9A23C7-5333-4CCC-84DC-8B3D1321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1AF1E5-E838-4F0D-8CF1-6C910ACA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318A4E-BE46-49FF-AB40-3D7DB935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777AB6-DA1B-4696-BFCF-41ED6667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3DE99F-D84A-45B0-8D58-092AF451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6D45BA-5A7A-48C5-A2AA-B210466F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0398D0-AAA0-436C-A7EE-F49C0DA7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EC136A-2DF9-40A8-A451-F53F8A7B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6CD839-1279-4ED0-A047-223B26EA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8677D-CAF2-474D-B719-3B8A0429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498278-C849-4B98-B520-F4A15537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23C740-8DB9-4A17-A054-E27B81F3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CE4F8B-70D5-4840-8FCD-B287F780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C3D46F-E477-4636-8FF6-ED7D35A2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51A7D7-B074-4DCC-B382-64536577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B09048-6B6C-4D83-80DF-D9276AE7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8FF5E3-F340-4895-AE56-7092172B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F2AFB8-0C35-470F-A55C-F6248030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DE2DB3-70E5-4BFE-809D-BE92FF44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CD6EE4-8547-4718-9E95-A55CCBE0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346-8AAA-49DB-8976-E1CF4637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1BE34-69C4-4A13-90A7-07669A4A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6DE031-25AF-4D0A-84AE-C2823018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80A4C3-39FA-415B-9EB8-21BCD4CF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D9BE5C-BE49-446F-9851-23508A1E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AA5540-B833-4042-AB8A-A7D07E24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DDD1D9-F876-4F38-9853-72BB1E3B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B19D11-FBA1-4B95-9B03-E5FC52AC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2CD160-4D91-4E9C-AF61-17A47384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018928-657B-479A-A9EF-66197570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7B36BD-2A2E-4E41-B567-4BF8B2D5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FDCCB9-889A-449C-A278-F857E50D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1135-AC5C-4BF9-971C-B214E9C6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A4C220-DC24-443E-99B1-77FB7AB1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26B88A-184C-45EF-832E-3EAF680D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63B4BF-AA83-4427-BFF2-1A4A7D4C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5E77BCB-1FDA-43F5-977A-DFD1C3DA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C9C9B03-4399-4176-A0E0-4C650DE6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5085BC6-6EDA-4354-8A86-16E39868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0342087-76B2-426E-92C6-68CFFF46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E8EE83F-F1F6-4709-A484-4C9E880E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C60B760-0555-4A5E-B4BC-86FEEAF5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1CAF227-91EE-4A80-AF14-6064A07C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0FD61-2525-4DFF-88BF-B70AA023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71F41FB-8A73-4A92-9163-B96EE965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AD47387-5BB3-4025-AD44-84CE5F4B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E08B7AC-C41E-4500-8418-2B6032A9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D58DDBF-CFE1-40EA-91CC-1084235B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16B1CDE-5656-4789-BBFD-3CB97583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72F6D3-235C-48AB-A016-83D5E690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79C1F3-7175-407F-8213-3CE4B4C5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FC508C-2DBB-4136-BD0C-9A3C80D1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6FC55A-7FF8-4534-ADEC-6783B03A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DB82C8-16B3-414D-9BC5-886E7E39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B43F4-69C2-44A7-9A3A-A9D38FE1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4476E7-3D54-4894-9FD6-6DD6145C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579C86-A628-4253-B6BF-24E4A8DB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860DEF-13C4-42AB-B3EB-64529B2C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DA6FF9-19F3-4488-8360-D3ACD1A5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05EA22-F527-4506-A241-D7C56157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B88686-0A24-4B3D-82B8-18101264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3F14AC-7F51-4C6A-9991-AA943FEE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33AB95-9830-4423-858B-8C5CFF74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E68828-21E8-4222-AD2E-A708A4F6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4FC6AA-E170-4488-97B1-A043D05B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30B6-6507-4FAF-B5A6-37845895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044F2B-AC9F-4C2C-8A87-CE3CA40D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D65B98-CFCD-44E2-8980-73A054B8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631FD7-0EB4-4637-91B3-0D4B4955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635B34-342C-46D5-8667-F352BA69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F66C78-10F1-4DF9-B8AA-49FEB5A9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452BC8-4E11-42C8-93BC-A4FBEFA0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28B648-F56B-45A9-82C0-AB2EDA8D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158173-6E9C-4CBA-9D41-4CD515BF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4191A1-ED9B-4D34-AB5F-574937E1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9214EB-47D3-4192-A579-85774B31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6293F-BB2C-4F80-A26C-FDA51E7D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83797A-B581-4B17-9819-6B480BE5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BC0D3D-BD59-4B2A-9C19-DC781909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6BB458-6CFE-4892-8CF7-73456046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801118-2CB2-4C27-B348-CA9275C3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F8E849-1ACB-4D84-AD9B-F5FDAF04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FF606F-8A74-41A7-9F52-C5615D64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A90CFF-E331-4144-99B9-1D5E852B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D98254-4446-4332-A238-871DE327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7FC85D-5975-4F36-BCE5-A7528C5F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13CF9E-2031-40FF-8502-ED074D78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38E47-FCD5-494E-9C2E-6DFBE57F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D85CB8-E472-40BA-90E1-C29D4B23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D097E5-80E8-45E4-975E-5D4196DE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98BE98-E923-47E6-B2E4-B66623B5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DE9B9F-E25C-4FA0-9176-585E9C77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ECD717-D088-4607-87F3-15BEDC9E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0332C5-9F37-4D52-BA00-AF7BB969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CC229A-BB53-403C-A0D9-531BFAA2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C04AA1-613A-4267-A370-FBE74F1E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B62906-60C2-4F8C-82E7-A67F2C5A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2E25E6-2066-42D5-B98C-73FD95BB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C3175-9B42-468C-B06B-AABD8BAE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05809C-E882-4572-B014-F4C46D2C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7754D4-E22B-47A3-8DDC-FA0D910E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7A8FFB-15E5-4F4A-B61B-D0CC9263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7F2537-3836-4DF4-8E03-BAF7405F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C4A758-9354-4B43-B310-48E9D571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003576-048E-47FF-9BB8-24D9D736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907FEF-F043-42AF-A7EC-70F04A73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8B64D7-7839-4F0D-939C-12CFEBD3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51AECE-DB01-494A-8B4F-DD3590AE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905ABF-2E56-47DA-9B0E-B6C4DC9C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D94CF-38B2-4916-A1A6-C4D8BF45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DFD1AE-5FB4-4849-8BAB-F9E3F066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025DBA-3D77-4F12-9CEA-7D0E4F72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991D51-1CFE-4774-A402-112BFCC2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F27F8E-440E-4AC1-AEB5-235F6573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F4BAE1-102E-42CC-A585-6B8D7DFE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74D6D2E-EB4E-40BA-83E5-C65E307C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9DA3BB-795F-43EC-888D-E5B21C25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683E40-5404-493D-A01B-5113291B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6AA849-8DD8-402C-91B1-97986607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396166-4A84-4052-9D49-6E0DDE5C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1BCC9-70E5-4F59-A2BE-08D44D5B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2F7E1B-2356-4C3D-8767-6D7CC8A7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8C2E58E-D31F-4F0A-8E49-20DAD0B8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448245-D784-49B6-8BE6-0204067B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881885-7683-440D-9263-A66A8B34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0BBC74-CA2D-4A8C-9ED0-D1358F55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442AA8-BFF5-42E6-85BD-EF79AB8D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14C6A8C-FB68-4E6A-AF96-FFE85EF2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D7E6464-3CE4-414D-8C0C-DD9C01D7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F154F7-CE33-4B98-86DB-4EF8E367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0EEE65-F0E8-4EC5-98C4-0C062634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A7E-C801-4D97-97DA-93A8D501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AE6B1-CD83-4E0B-8C52-A073503F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8E96867-36FF-4D86-8C5E-73580FE9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30A197-96E7-48A0-A9C6-12527C94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A9F920D-ABDC-4275-AC3A-647207ED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4DEF00-FC89-40D1-B7E4-535D6525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FD2CA5-6736-4D22-B8BA-C104D154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3215AB-4D7B-4002-B91E-D5E066B6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90B057-FBB5-488E-A179-73DC0948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116FD0-CD12-409B-95ED-23B1C33C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096B93-7C48-49DE-8879-F0FD4962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BFE411-B978-4EC7-86EC-CCECBDC4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488AB-D97C-43E3-8452-2C7F0642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737E9E6-B728-4393-9F6E-FD4A5C51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B6DA081-2D4D-4B6E-8ACB-207FEC70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17C0B25-5C32-4717-B5E8-DE5B141B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1D970C-DC97-4E72-BAC5-ED84079F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D66B10-CBD6-4239-997A-CA0657D9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7007C1-8528-447F-B083-DDF2B174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597DFD4-7142-455C-8B03-A2767878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DC6BD7-7476-4CF9-986C-60603CF2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CF22C9A-AE86-4399-A9FE-6B240EA9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1FE683-0316-4698-AD16-063A6C5A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EFC52-C530-409B-BE85-BB8DCB3E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095877-9178-41BD-BCC5-C5E78C15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AAE208-2EA4-4E10-9F2E-D9AE99EA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22A00E-3426-43BF-8D9D-507C14DA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62C041-51B2-42F1-B910-3503E326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E254B3-4E2F-40A6-80EF-F7239ACB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6877AB-8327-4C06-8A66-10A49A38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E7D360-0508-4404-97EC-D04A96E4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339803-F8B6-47BF-8240-F9AD5593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F74CAF0-3551-49BC-A732-521CC5EC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BB5D6E-4F02-4FC8-8F2A-4D878C0B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C5B69-D913-425E-A807-CF27CE34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E13AA0-E06B-40B7-A276-93927D4F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3CF4CD-D80C-46C2-89C4-C01E5FB2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85A4A78-5D9A-449A-AFBD-44CC6148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E0D6F8F-69E8-4D92-9FC7-509F816E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B29252B-2198-43FA-AC25-D344E973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55F0D24-187F-41BF-A8B2-BD8D8E75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2D6DADA-5447-4E01-816F-6541304A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5D20B82-2B3D-48ED-9171-8B023749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305919-5FDB-42D0-BD63-099937CE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40C3838-C0F5-4BB8-B957-79937752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6B6C0-354C-4500-8D8C-A1B9A3B7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86C41A-B549-408E-98D1-7024CA32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7101DBE-EE60-4074-8E8B-BB0BF5D1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D75876-3305-429C-8B49-E96489B2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2531248-65D8-46B4-94CD-67C31280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3BC3178-4BC8-432A-B3EA-C05CC577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974F3-D1A0-466C-88EF-696DD941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11F5B-D2D2-4437-9CBC-00A71E70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B878C57-439B-4482-B18B-9B5CED22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7F6B8-8806-4C05-A434-92F864F5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7012392-15DB-4568-8D63-64A4ABCC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853D115-0581-48BF-B5BC-99533B8C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2BF69D2-D3B2-46CE-8A37-7D42D29C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21C3221-0E26-4085-80B6-FB87EACC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EC14ACF-AB2A-40DF-9CF1-A053E2C9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3EFEBD7-4F68-4B08-87D6-39F31B6E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9688611-1DDA-4A8B-8DBC-3396D36E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9291869-EC4C-4BFC-A046-98714C80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49E01BA-D738-40D9-AAEE-E0DCCBF4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8E2AEAE-2BCF-44D2-8EA3-41E86746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0C8E5-E758-4880-AA6E-508D090C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AE2A16E-CB69-428F-9DBC-D497E322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37E2257-2F24-412A-BCD5-A785CFF6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69B1FF8-BB55-4039-A8DA-3B7C5D80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CFFDD96-6909-455A-B2CD-16757965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3978C83-B123-4D0C-A4B7-2F946BCC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9EAAF1D-8100-4067-8291-8D39764D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F27F85D-20AE-4B66-8850-2BBE691A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688C858-5538-45CC-834A-95313FBA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CB13097-B9B1-4A9C-A167-37FD6252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E07A9D3-CACC-4340-B6D4-551AA606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07192-B3AD-47F4-A0EF-3A3D9BAA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20B59B0-5D9D-45CA-BD46-37C03F64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099C88F-7E92-44BD-A3A5-F0643F09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EB55B42-D318-49E6-8DD2-F30291C4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9199358-1BE9-42E3-9F13-DC98F3AE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30EA6C8-DF41-4250-9F90-D6B082B1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4FE24E4-575A-49CA-84E7-BD194967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C590FD1-C035-4EDA-BC9A-1943D0E5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4BC55DF-B0CD-451E-A957-4D6C2CAA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1CE80D4-FCB6-4072-85DF-A157FFC7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D4353FA-B00E-4312-BC11-19A99444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8D0-E892-4BE7-8511-6DD5B36C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2E608-D9B2-4F5E-A82D-57AE7844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088FF5A-D7AF-4B99-A9B7-8EF1B02C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D3BC20E-9EF4-4A1E-BECF-3578EBE6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8212F75-32A8-41C5-9920-345F816C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DF227A5-4DBF-4B76-8AFD-9F69F753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ABCB725-E3B0-4BA5-9441-71FBBA27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073C9AF-3EBD-482D-B5FF-C242B21A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814F0D1-EB7A-43AA-B02A-B0C7F570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56E71C7-08F9-4304-AD59-03C88309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D7CE5AE-38DC-4C44-A5EE-A7A508F0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48D246F-42C8-47BA-95BB-61E7256B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5868C-994A-4F3F-9A0B-B5E857FA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81956D0-C110-4A99-8D3D-EB2E8431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7ED676-B5E3-44FE-81E4-1893A723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F4EA544-900F-4283-B985-0D3E4472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C9A5FE8-969F-47A8-BA86-ABC4CC18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8F55B8B-1F75-40A6-B0CA-C26E15F5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94E26F7-2501-4F96-ACBE-C89598C1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9ADB567-5686-4630-A263-0244D08A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6D0AFE7-5275-4E0A-8254-134D62D2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D148A70-C153-4BB2-85A4-AC9579DF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DCD5607-492D-43F0-8C71-A0F20CE1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93C31-22B0-4E37-A995-0C5BD092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BC45975-8E44-48C0-8A76-CE2A71A8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B06E7FE-157C-4EEE-A30B-773A185E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9955569-D648-44AF-9F4E-6CE92844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172BA97-10FB-4955-AC3D-17C4ADD8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4256D16-5CF6-4BA1-AF69-FB96193B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38C8164-A1F7-4BDA-8473-42E529D0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EE5A921-A660-4B24-B67C-AD8F3718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94AF423-966C-462B-9692-04B7FA88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005CDF7-D20A-4FAE-B596-D50C6F0A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C2557EA-B95D-44DF-B6A2-D651114A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1B594-1C1F-4C4D-927E-A9C6BEDC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F5EBFFD-576C-48CB-A039-26A2DE74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196C0C9-4413-4CAD-A6E6-0E7C8A57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01640BA-32F0-459A-8D53-CD4F771D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D3ED68D-C1D4-4D48-94B9-3AA9E215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101DB9B-7C52-470E-B644-1F44F0E7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9AF0432-25F5-4BCF-9EEC-52025E2B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7EEEE58-5438-4EB8-A5CD-7C1AE880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24CAC09-A1AA-475E-B371-14173D2B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D04457B-7619-4174-938C-209A5E30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85CC14A-53A2-4280-ABC6-3E84ABCB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20B04-B82E-4B67-BE23-67F51779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BB89A4B-97F5-418D-B703-6E7BB8CB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D6E83EA-F41C-4CAE-B79D-6FD4422B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2901777-5807-4E47-A338-41050C04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E1C0EF1-ED73-472F-AC7A-E4A59387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123CECF-1BAA-454B-8814-D7112483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44C298E-9BA1-4AD5-A76B-9D4BAA90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682B890-BC79-4186-95BC-073EFC1A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5212DA8-396E-47C6-8852-DEA6C446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A9276FF-81C5-4F48-AB88-FE131B99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336417C-8D53-4AFA-B2BB-32A7F5A4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328F2-5E6C-401F-B863-02B3D7E2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94890F8-41CE-44D2-A700-146BB244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172ED61-8981-49B0-A8EB-78B997B4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B87A496-5281-400F-A3FD-67097C85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B1A56B8-1E7B-46F1-959F-9AEB4226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11771DA-787F-4422-9B9A-51F902B8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A667692-EE40-4D43-9B49-F2021337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2821723-8AA6-47D7-BE1E-8E9DA009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9249288-4F34-4081-95DB-00174DA0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8F62305-327E-4375-BE2E-FF740F60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27A8C10-8C2C-4325-B7D4-3FBD4CDE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06982-9A40-4F5E-A7AF-111D75A3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9BBFD2E-92BE-4256-9F8D-9F91236C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5EB5F31-3366-453C-9640-FB5B38DE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ECBEFCE-AF22-4055-ABA1-C8DF88AB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60A1B51-9237-40B6-83CE-C7215CD3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556A441-9407-4DA3-900F-AFCCB415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3A4E358-0921-444B-8BBB-70A19D75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4E528A0-D828-49E3-A688-E33A2263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71CF09A-D068-471C-889A-E8966571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28E4452-B524-464F-88CF-3CE4BEC9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389377E-4D22-4567-9D1A-15633841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02F08-F0B6-4A76-B095-DFAED499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713F8BF-39B2-4952-A2E5-5DF8D1D1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C2CB405-93C8-4C48-98DC-2CEBD71B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E9D63BD-34C0-4650-B1E3-D0B0BECB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C467822-4FE2-4928-9B72-B05636DC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29828B7-60BD-49E3-8C9F-88F55EBF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BED7A2F-D7D1-4F65-89A4-A482C684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CF5F09F-A9DE-4262-B473-BFC22DCA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D728992-FCD2-4464-BF7F-A12EB7D2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0D37FFD-52FA-40EB-AE07-6D761DA9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6D00259-BBC6-4E2C-9E23-B2FDF76D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0E7A2-8C60-4318-8B3C-DD0E878F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190DBF8-EE32-42FE-8EE4-BDE987BF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BF0DA74-795B-4B98-BB48-09C672DA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C581C2E-E44A-4B09-9FEE-43B94327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5206036-F395-47F7-9F0F-79A0C6F2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B85BBDD-18A3-4725-8AE2-BC91FF0A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F65B062-62E4-471D-B398-FEBF996B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7B28911-0EAA-4B21-B57F-1FB83674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200CC35-F865-4100-8520-BE04FAD6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528E00E-E6BB-4722-B7F9-1E0AE490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E59A9E1-98E2-4487-A641-E41CDAC2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66C35-134C-4E8B-8995-9421336B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B8A5015-5D30-4207-BB29-4F101DB0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935F1B6-5202-4394-A59C-EA229CAF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F6F4185-E7F3-43A4-85E1-91431EE4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0CCF579-73FA-4326-B03B-F3C4D2B8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1BE5789-B5BF-4457-8749-D620B02A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96E7CC2-D170-47F2-A639-CA6D4648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40F7BAD-680A-4ED8-8ADA-6D747FFA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E676AA7-6659-4D61-8AF8-0D20C553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4738870-53CA-43CA-8D93-B98C6AB3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C989D43-D6D5-4129-85A1-83B56219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1D9E-BCA0-4204-811A-356050E7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00209-82B3-4687-BB1A-B754A45D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28830E0-1517-4370-9530-BD1E7079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69E9B-62BC-4B1F-B470-4CBDBF76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8852F-C899-4CEC-8200-9F379CE2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3374D-2F67-44FF-94E2-1B3895D8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6B491-5A48-4668-B5C4-79D9C3A2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006ED-790C-4AA2-B085-D4F34690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B60B4-486E-48EB-8529-757246A0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9540B-9192-48AB-9632-89CFDE7A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BFF3B-A1D7-4F2F-BDB0-F9C6DFBA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9082D-292C-4207-9EB1-1621B1B4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F85-15EC-45DB-B698-5738B337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22E52-42AC-4DCB-A4A4-921609D4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0748A-DE8E-4CD6-822B-2D6382AB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B9A9C-BD14-444F-B6B6-78BDF3D8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FA0F3-1F7F-46ED-A3A8-E4E162B6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5077D-C451-41D9-9D13-45CFFD3D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E025C-FDE6-465D-976B-3ABECC06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790D9-E522-4FB4-9B30-629E8930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93F34-B3A2-4066-A940-CDE68E85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85BC1-0850-41F9-AF7E-A6AA9584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A621B-1972-43F9-A1B7-B0CD8B0E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2B0-E0E1-4656-8358-999577BE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D056A-F071-4733-9B12-F01A439C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ABEB1-BD40-45D4-936E-4F4D8575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0DDDA-DE74-44A7-8FED-677E60EA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7ECD1-6B0A-4079-AE46-08424A9F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30A3F-54BB-4F77-BBBE-66D60390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B6777-B8BD-4018-A641-C96FC1BD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4509D-9B8D-4430-8DC5-64AE081F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62F37-2EFD-4D23-BF89-A0FDB617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B7141-7DE4-4530-9366-D9BFEA0C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A508B-291E-4E2B-884C-75E2699B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677-E0A9-4BB9-AE2B-F634B5F1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9B631-6A66-4CB4-8624-A1EE9DF1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618BE-4771-4A32-A10E-8B989E4F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7D1CF-8678-4C66-A351-2854D335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07BC2-5602-4189-A74B-FDAA56E0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B0241-3200-43B0-A686-572CCD4D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FF986-0265-4778-8745-2FF067A3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FCA59-DA0C-4FC7-869A-C133784D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3263C-A860-4B1F-AEE4-954C7988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5C2AF-42D0-4C48-9137-D240EB85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BEF9B-3985-448D-88BF-4CBE497B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2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5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8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71EA-F4B0-443B-B8CB-3D4F96E09422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275D-1589-4DCC-92CC-79AFE7A6A6C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6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447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49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450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45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453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45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4B4D-5FA5-4819-94B6-2BFEF4A95B62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DC16-FC5E-4CB5-A4EA-6A84C95A0D8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98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499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01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502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503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505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506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9027-1CE3-420C-9718-D73F79E4F203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317F-284F-41F1-87C1-95592B01AAB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50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551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53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554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555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6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557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558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6508-FF19-4172-A627-CD46BA13FBAE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DECB-54D9-4ED4-8E04-01E568AA7F4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02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603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05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606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6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609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6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6192-3D0B-4B08-AFE6-47921D81FBA9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6D6D-58AB-44E0-97DD-B6C920901F0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54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655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57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658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65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661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66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C9AE-D83E-4636-8B85-5FB7D44832B7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CF74-6BEF-4A39-9011-4350876FCF4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06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707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709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710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71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2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713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71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F761-1E8D-408E-AFA1-875F5BC94B9C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2448-B8D9-44A5-A516-1270A85AF5B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8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9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0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761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8CF6-1864-43DC-85A4-F897625EE28C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277F-9AC9-40AB-81DB-D7C45E221BB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5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6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07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808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94C0-9D68-4B42-881E-FCC00AD210FC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F318-9B1B-4144-9F69-FEB9B202B0A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3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54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855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CDA6-E682-4003-B503-FBB52511AA45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670A-E3F4-462C-9D2A-85795DB8DDC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0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1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902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2E54-65A9-4C88-8CE7-1BA9FE98C9E0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5A27-D820-4469-B1A6-5F789275AAE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5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56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0B84-B5CE-45E5-8F98-F304B1516CD3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561B-290C-41F2-ABAD-B5B6C40D123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7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48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949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57BF-8468-4406-93FB-2443E76C277F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6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CBA1-E1E5-4622-9FBC-BEFDE3056C3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4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95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996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E5D3-389D-4CF0-A69E-758576BF0518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45E7-D508-40C9-B3E5-FC7424FF8F6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1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42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043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4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F0B3-106F-4E00-8BC1-60A11CC00E45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sldNum" idx="6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1668-D591-4048-A956-BFF80D8D455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7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8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89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090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6E4F-989F-4C05-89CA-AC9C7D859124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6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BCDC-42AD-4F25-A21A-46898FD3C87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5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36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137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3309-D988-4068-8EA1-AB0F9423452F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22C1-54CF-4AAF-B89B-6071C4C4B8C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2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83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184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5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AF77-47A5-4CAE-8DB5-08111508D5DC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470C-4245-48FA-B513-638340D08BB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8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9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30" name="Freeform 16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231" name="Freeform 16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2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96FC-BDB5-4355-B9FF-89046F7BA46D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7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A05C-FB23-41D9-9627-2EC76617C9B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dt" idx="7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BE8E-A01E-4D9F-ACAE-FC8A13C85341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 type="sldNum" idx="8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9DB7-10F7-4B5A-952B-19EF7B4CA349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 type="ftr" idx="8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8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F25F-B59E-4C8A-8747-77471C72C257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8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8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7C9E-49D5-49E1-9CB4-5B840EF18497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2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3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4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8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3A53-AEAC-4111-A764-70478D8AECDA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8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8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0AB2-5EDF-4A84-93C4-724F519205D4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D1DB-4603-4B9E-BD07-B63F81259E5F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E27A-57F6-4C1D-9E22-3104AEE1A609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 type="dt" idx="8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D1DA-E007-41D2-9F3E-D81EF063EC10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 type="ftr" idx="8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 type="sldNum" idx="9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3D0A-9CCC-4F4E-8D72-08C8FAB9EFB3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9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2359-EBE5-4949-A396-DD2759D680AC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9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9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3393-0F28-4D07-85BF-D774813FB792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 type="dt" idx="9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DDFA-C019-42CC-A402-4C4D26F2EE41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 type="ftr" idx="9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 type="sldNum" idx="9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2285-C42A-4959-8828-AEFB066ACC9A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 type="dt" idx="9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3B80-EFF4-48A5-AACA-8FC28BB6C7F9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 type="ftr" idx="9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 type="sldNum" idx="9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EE8B-D631-4456-8620-270EEF4EB184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 type="dt" idx="10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EC01-E080-48C4-83B2-EEB1E77171C0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 type="ftr" idx="10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 type="sldNum" idx="10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DEF6-8755-4836-BB0B-3EDA18FDD834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 type="dt" idx="10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A304-77CD-4A9F-8B6A-BD432E99F232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 type="ftr" idx="10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 type="sldNum" idx="10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C684-3EA0-404F-B40A-A7D1186E723B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 type="dt" idx="10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64D3-C715-48E4-955E-07A14ED55329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 type="ftr" idx="10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 type="sldNum" idx="10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33DC-7EF5-4F53-AE3E-7F0B21B667D4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 type="dt" idx="10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F8CB-CD3D-4EF9-9384-9A3791DC8FED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 type="ftr" idx="11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 type="sldNum" idx="11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C9DB-613A-4C55-BF72-A22659C7B4B8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6233-5FC1-43E3-81E0-0AC937FAEC64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CB92-0934-46E7-A09D-FD2B697861F3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dt" idx="11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BB0A-754E-41EF-A109-4B97D26CBD8A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 type="sldNum" idx="11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94A9-C627-46EE-9038-91A4C185AD82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 type="ftr" idx="1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 type="dt" idx="11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3DDB-6888-41DC-8120-C9FC4B130590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 type="ftr" idx="11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 type="sldNum" idx="11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7EFE-4A62-47F6-ABBB-52F582A3721F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8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9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0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 type="dt" idx="11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095A-6011-4727-A86A-1FFFB165FA4B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 type="ftr" idx="11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 type="sldNum" idx="12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6EA9-9CC0-4324-9DC5-27F8EB3FC5CB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dt" idx="12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265E-DC8E-4F94-BB96-E5328D20954A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 type="ftr" idx="12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 type="sldNum" idx="12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FDA5-571B-4084-BFF7-073DF3FAE82A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 type="dt" idx="12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E126-4D68-4A0A-BDD1-F1A43B5FC90D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 type="ftr" idx="12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 type="sldNum" idx="12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74DD-F064-46B3-B6EF-74DB513CDF9C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2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C82F-0934-4C97-902B-DE74493235B1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2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2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5367-7EDF-4B73-B4AD-7C1DFEB58F16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 type="dt" idx="13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4739-CBCE-4507-9BCA-4DAA80B5EAD4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 type="ftr" idx="13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5"/>
          <p:cNvSpPr>
            <a:spLocks noGrp="1"/>
          </p:cNvSpPr>
          <p:nvPr>
            <p:ph type="sldNum" idx="13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74C4-79A4-426A-A6D9-3D17409812B0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 type="dt" idx="13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5C6E-1F29-4DDF-B49A-5790E1185C36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 type="ftr" idx="13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PlaceHolder 5"/>
          <p:cNvSpPr>
            <a:spLocks noGrp="1"/>
          </p:cNvSpPr>
          <p:nvPr>
            <p:ph type="sldNum" idx="13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00ED-0A70-4A39-9914-F4B739CA294D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 type="dt" idx="13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DB06-C8FE-4574-9001-5C16AD034F4E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 type="ftr" idx="13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 type="sldNum" idx="13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1700-155D-4848-AEB6-705BD255B8E3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 type="dt" idx="13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4897-9C8F-42CD-ADD5-D5BBCFDBF87A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 type="ftr" idx="14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 type="sldNum" idx="14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959A-F34F-418B-8B54-6CE084B5E748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6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187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89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190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19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93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19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3875-E622-4B5A-98DA-88980C5739B8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74D8-919F-4153-92B9-DF8183BF495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 type="dt" idx="14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DD52-0AE2-4CA7-BC22-5A27C92730DE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30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 type="ftr" idx="14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5"/>
          <p:cNvSpPr>
            <a:spLocks noGrp="1"/>
          </p:cNvSpPr>
          <p:nvPr>
            <p:ph type="sldNum" idx="14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85DD-8627-4392-9460-A33ECD657C78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8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239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41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242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243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45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246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9987-D17C-4364-ADDA-4182761D19C4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8163-317F-4D68-B203-0A897CA01FB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90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291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93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294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97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2170-844D-45B1-8F1F-A948E4FE0558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909D-A13E-488E-A414-9CF9C3115C8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42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343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45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346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34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349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35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9AD2-9173-4964-A3A4-8D4141AA485C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FDB0-182E-4BF8-9B3A-70F332CA98F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94" name="Freeform 7"/>
          <p:cNvGrpSpPr/>
          <p:nvPr/>
        </p:nvGrpSpPr>
        <p:grpSpPr>
          <a:xfrm>
            <a:off x="4383000" y="0"/>
            <a:ext cx="4761000" cy="603360"/>
            <a:chOff x="4383000" y="0"/>
            <a:chExt cx="4761000" cy="603360"/>
          </a:xfrm>
        </p:grpSpPr>
        <p:pic>
          <p:nvPicPr>
            <p:cNvPr id="395" name="Freeform 7" descr=""/>
            <p:cNvPicPr/>
            <p:nvPr/>
          </p:nvPicPr>
          <p:blipFill>
            <a:blip r:embed="rId3"/>
            <a:stretch/>
          </p:blipFill>
          <p:spPr>
            <a:xfrm>
              <a:off x="4384080" y="1080"/>
              <a:ext cx="47595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4383000" y="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97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398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401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55FF-832B-4310-94B5-830BE456A2D2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9BED-4E83-4546-866F-E45E05B9FF4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3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0.wmf"/><Relationship Id="rId11" Type="http://schemas.openxmlformats.org/officeDocument/2006/relationships/slideLayout" Target="../slideLayouts/slideLayout3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3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wmf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3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69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0C57-1DBE-4433-B030-5343D5F9F62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4" name="Rectangle 5"/>
          <p:cNvSpPr/>
          <p:nvPr/>
        </p:nvSpPr>
        <p:spPr>
          <a:xfrm>
            <a:off x="2362320" y="4114800"/>
            <a:ext cx="37335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95" name="Picture 4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2396" name="Straight Connector 5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97" name="Picture 6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2398" name="Rectangle 7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9" name="Rectangle 1"/>
          <p:cNvSpPr/>
          <p:nvPr/>
        </p:nvSpPr>
        <p:spPr>
          <a:xfrm>
            <a:off x="2430720" y="1828800"/>
            <a:ext cx="38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s and Pheno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00" name="Picture 1" descr="513px-Phenol-3D-balls.png"/>
          <p:cNvPicPr/>
          <p:nvPr/>
        </p:nvPicPr>
        <p:blipFill>
          <a:blip r:embed="rId3"/>
          <a:stretch/>
        </p:blipFill>
        <p:spPr>
          <a:xfrm>
            <a:off x="4724280" y="2362320"/>
            <a:ext cx="2284560" cy="2666880"/>
          </a:xfrm>
          <a:prstGeom prst="rect">
            <a:avLst/>
          </a:prstGeom>
          <a:ln w="0">
            <a:noFill/>
          </a:ln>
        </p:spPr>
      </p:pic>
      <p:pic>
        <p:nvPicPr>
          <p:cNvPr id="2401" name="Picture 2" descr="ethanol02.png"/>
          <p:cNvPicPr/>
          <p:nvPr/>
        </p:nvPicPr>
        <p:blipFill>
          <a:blip r:embed="rId4"/>
          <a:stretch/>
        </p:blipFill>
        <p:spPr>
          <a:xfrm>
            <a:off x="1523880" y="2900520"/>
            <a:ext cx="2667240" cy="1825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Footer Placeholder 1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0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6D8B-D256-489C-85F3-631EBEC9DDD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1" name="Rectangle 4"/>
          <p:cNvSpPr/>
          <p:nvPr/>
        </p:nvSpPr>
        <p:spPr>
          <a:xfrm>
            <a:off x="15840" y="1143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Physical Properties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2" name="Rectangle 16"/>
          <p:cNvSpPr/>
          <p:nvPr/>
        </p:nvSpPr>
        <p:spPr>
          <a:xfrm>
            <a:off x="0" y="1523880"/>
            <a:ext cx="89154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1) Boiling Points of Alcoh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oiling points increase with increase in molecular weight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have  higher boiling points(b .p.) than alkanes of similar weight this is due to the presence of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ydrogen bond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tween   molecules  of alcohol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03" name="Picture 1037" descr="alchb3"/>
          <p:cNvPicPr/>
          <p:nvPr/>
        </p:nvPicPr>
        <p:blipFill>
          <a:blip r:embed="rId1"/>
          <a:stretch/>
        </p:blipFill>
        <p:spPr>
          <a:xfrm>
            <a:off x="533520" y="3352680"/>
            <a:ext cx="2361960" cy="1157400"/>
          </a:xfrm>
          <a:prstGeom prst="rect">
            <a:avLst/>
          </a:prstGeom>
          <a:ln w="0">
            <a:noFill/>
          </a:ln>
        </p:spPr>
      </p:pic>
      <p:sp>
        <p:nvSpPr>
          <p:cNvPr id="2504" name="Line 7"/>
          <p:cNvSpPr/>
          <p:nvPr/>
        </p:nvSpPr>
        <p:spPr>
          <a:xfrm>
            <a:off x="1600200" y="4267080"/>
            <a:ext cx="433440" cy="333360"/>
          </a:xfrm>
          <a:prstGeom prst="line">
            <a:avLst/>
          </a:prstGeom>
          <a:ln w="9360">
            <a:solidFill>
              <a:srgbClr val="9c525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5" name="Rectangle 8"/>
          <p:cNvSpPr/>
          <p:nvPr/>
        </p:nvSpPr>
        <p:spPr>
          <a:xfrm>
            <a:off x="914400" y="4724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ff"/>
                </a:solidFill>
                <a:latin typeface="Comic Sans MS"/>
              </a:rPr>
              <a:t>hydrogen bon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6" name="Oval 1041"/>
          <p:cNvSpPr/>
          <p:nvPr/>
        </p:nvSpPr>
        <p:spPr>
          <a:xfrm>
            <a:off x="372960" y="3884760"/>
            <a:ext cx="84240" cy="777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7" name="Oval 1041"/>
          <p:cNvSpPr/>
          <p:nvPr/>
        </p:nvSpPr>
        <p:spPr>
          <a:xfrm>
            <a:off x="372960" y="4113360"/>
            <a:ext cx="84240" cy="777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08" name="صورة 3" descr=""/>
          <p:cNvPicPr/>
          <p:nvPr/>
        </p:nvPicPr>
        <p:blipFill>
          <a:blip r:embed="rId2"/>
          <a:stretch/>
        </p:blipFill>
        <p:spPr>
          <a:xfrm>
            <a:off x="3505320" y="3352680"/>
            <a:ext cx="5410080" cy="121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9" name="Picture 18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0" name="Picture 19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11" name="Straight Connector 2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2" name="Rectangle 2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13" name="Object 4"/>
          <p:cNvGraphicFramePr/>
          <p:nvPr/>
        </p:nvGraphicFramePr>
        <p:xfrm>
          <a:off x="636480" y="5029200"/>
          <a:ext cx="7821720" cy="14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6480" y="5029200"/>
                    <a:ext cx="782172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09A1-30D0-4E03-A766-CE8F53607D7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6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17" name="Picture 10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8" name="Picture 11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19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0" name="Rectangle 13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1" name="TextBox 10"/>
          <p:cNvSpPr/>
          <p:nvPr/>
        </p:nvSpPr>
        <p:spPr>
          <a:xfrm>
            <a:off x="482760" y="1001880"/>
            <a:ext cx="876600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2) Solubility Of Alcohols and Phen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and water contain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ydroxyl group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an form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ydrogen bond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ydroxyl group is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hydrophilic “water loving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kyl group of alcohols is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hydrophobic “ water hating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number of the –OH group in alcohol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increases, the solubility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ater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crease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ols and triols are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luble in water than monohydroxyalcohol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he lowe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s are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mpletely miscibl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wat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s the number of carbons in the alcohol increases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solubility in water decrease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22" name="Object 11"/>
          <p:cNvGraphicFramePr/>
          <p:nvPr/>
        </p:nvGraphicFramePr>
        <p:xfrm>
          <a:off x="1662120" y="5132520"/>
          <a:ext cx="6702480" cy="15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2120" y="5132520"/>
                    <a:ext cx="670248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4" name="TextBox 4"/>
          <p:cNvSpPr/>
          <p:nvPr/>
        </p:nvSpPr>
        <p:spPr>
          <a:xfrm>
            <a:off x="267480" y="49528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e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Slide Number Placeholder 1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BE93-5949-4B56-8363-4C7C48A74FDE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6" name="Rectangle 17"/>
          <p:cNvSpPr/>
          <p:nvPr/>
        </p:nvSpPr>
        <p:spPr>
          <a:xfrm>
            <a:off x="522360" y="1143000"/>
            <a:ext cx="785952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3) Acidic Properties of Alcohol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re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ery weak acid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ydroxy proton of an alcohol is weakly acidi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ong base can abstrate the hydroxyl proton to give an alkoxide io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-withdrawing group (-I)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crease acidit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-releasing group (+I)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decrease acidity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27" name="Picture 10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8" name="Picture 11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29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0" name="Rectangle 8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31" name="Object 9"/>
          <p:cNvGraphicFramePr/>
          <p:nvPr/>
        </p:nvGraphicFramePr>
        <p:xfrm>
          <a:off x="2057400" y="2590920"/>
          <a:ext cx="4570560" cy="14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2590920"/>
                    <a:ext cx="457056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3" name="Object 10"/>
          <p:cNvGraphicFramePr/>
          <p:nvPr/>
        </p:nvGraphicFramePr>
        <p:xfrm>
          <a:off x="1219320" y="5029200"/>
          <a:ext cx="603720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5029200"/>
                    <a:ext cx="60372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5" name="Footer Placeholder 1"/>
          <p:cNvSpPr/>
          <p:nvPr/>
        </p:nvSpPr>
        <p:spPr>
          <a:xfrm>
            <a:off x="7632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Footer Placeholder 1"/>
          <p:cNvSpPr/>
          <p:nvPr/>
        </p:nvSpPr>
        <p:spPr>
          <a:xfrm>
            <a:off x="7632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7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A688-8B5E-473A-8C07-AE6C9ABC651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38" name="Object 2"/>
          <p:cNvGraphicFramePr/>
          <p:nvPr/>
        </p:nvGraphicFramePr>
        <p:xfrm>
          <a:off x="1914480" y="1849320"/>
          <a:ext cx="54882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4480" y="1849320"/>
                    <a:ext cx="54882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0" name="Object 3"/>
          <p:cNvGraphicFramePr/>
          <p:nvPr/>
        </p:nvGraphicFramePr>
        <p:xfrm>
          <a:off x="2133720" y="2973240"/>
          <a:ext cx="3590640" cy="114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973240"/>
                    <a:ext cx="35906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2" name="Object 4"/>
          <p:cNvGraphicFramePr/>
          <p:nvPr/>
        </p:nvGraphicFramePr>
        <p:xfrm>
          <a:off x="914400" y="4497480"/>
          <a:ext cx="4500720" cy="15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4497480"/>
                    <a:ext cx="450072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4" name="Rectangle 4"/>
          <p:cNvSpPr/>
          <p:nvPr/>
        </p:nvSpPr>
        <p:spPr>
          <a:xfrm>
            <a:off x="304920" y="990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Synthesis (Preparation)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5" name="Rectangle 5"/>
          <p:cNvSpPr/>
          <p:nvPr/>
        </p:nvSpPr>
        <p:spPr>
          <a:xfrm>
            <a:off x="245880" y="1366920"/>
            <a:ext cx="37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1- Hydration From Alke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6" name="Rectangle 4"/>
          <p:cNvSpPr/>
          <p:nvPr/>
        </p:nvSpPr>
        <p:spPr>
          <a:xfrm>
            <a:off x="127800" y="380988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2- From alkyl halid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7" name="Text Box 12"/>
          <p:cNvSpPr/>
          <p:nvPr/>
        </p:nvSpPr>
        <p:spPr>
          <a:xfrm>
            <a:off x="5577480" y="563868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ucleophilic substitu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8" name="Text Box 13"/>
          <p:cNvSpPr/>
          <p:nvPr/>
        </p:nvSpPr>
        <p:spPr>
          <a:xfrm>
            <a:off x="5295600" y="4495680"/>
            <a:ext cx="34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limination of HX using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gives alken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49" name="Picture 13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50" name="Picture 14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51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2" name="Rectangle 16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3" name="Rectangle 5"/>
          <p:cNvSpPr/>
          <p:nvPr/>
        </p:nvSpPr>
        <p:spPr>
          <a:xfrm>
            <a:off x="251640" y="260028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1- Oxidation of Alke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4" name="TextBox 1"/>
          <p:cNvSpPr/>
          <p:nvPr/>
        </p:nvSpPr>
        <p:spPr>
          <a:xfrm>
            <a:off x="2802240" y="594684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aq. KOH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Footer Placeholder 1"/>
          <p:cNvSpPr/>
          <p:nvPr/>
        </p:nvSpPr>
        <p:spPr>
          <a:xfrm>
            <a:off x="76320" y="64008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6" name="Slide Number Placeholder 2"/>
          <p:cNvSpPr/>
          <p:nvPr/>
        </p:nvSpPr>
        <p:spPr>
          <a:xfrm>
            <a:off x="7932600" y="648000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B8AC-AC55-41D1-BD67-B491BC96E6F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57" name="Object 2"/>
          <p:cNvGraphicFramePr/>
          <p:nvPr/>
        </p:nvGraphicFramePr>
        <p:xfrm>
          <a:off x="914400" y="1981080"/>
          <a:ext cx="341964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341964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9" name="Object 3"/>
          <p:cNvGraphicFramePr/>
          <p:nvPr/>
        </p:nvGraphicFramePr>
        <p:xfrm>
          <a:off x="914400" y="3352680"/>
          <a:ext cx="5602320" cy="8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352680"/>
                    <a:ext cx="560232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1" name="Object 4"/>
          <p:cNvGraphicFramePr/>
          <p:nvPr/>
        </p:nvGraphicFramePr>
        <p:xfrm>
          <a:off x="1219320" y="4800600"/>
          <a:ext cx="3152520" cy="58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800600"/>
                    <a:ext cx="315252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3" name="Rectangle 7"/>
          <p:cNvSpPr/>
          <p:nvPr/>
        </p:nvSpPr>
        <p:spPr>
          <a:xfrm>
            <a:off x="0" y="106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3-  Reduction of aldehydes, ketones and carboxylic aci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64" name="Object 5" descr=""/>
          <p:cNvPicPr/>
          <p:nvPr/>
        </p:nvPicPr>
        <p:blipFill>
          <a:blip r:embed="rId7"/>
          <a:stretch/>
        </p:blipFill>
        <p:spPr>
          <a:xfrm>
            <a:off x="5105520" y="1981080"/>
            <a:ext cx="3313080" cy="863640"/>
          </a:xfrm>
          <a:prstGeom prst="rect">
            <a:avLst/>
          </a:prstGeom>
          <a:ln w="0">
            <a:noFill/>
          </a:ln>
        </p:spPr>
      </p:pic>
      <p:pic>
        <p:nvPicPr>
          <p:cNvPr id="2565" name="Picture 11" descr="ksulogo2.png"/>
          <p:cNvPicPr/>
          <p:nvPr/>
        </p:nvPicPr>
        <p:blipFill>
          <a:blip r:embed="rId8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66" name="Picture 12" descr="images.jpeg"/>
          <p:cNvPicPr/>
          <p:nvPr/>
        </p:nvPicPr>
        <p:blipFill>
          <a:blip r:embed="rId9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67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8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Footer Placeholder 1"/>
          <p:cNvSpPr/>
          <p:nvPr/>
        </p:nvSpPr>
        <p:spPr>
          <a:xfrm>
            <a:off x="76320" y="64008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0" name="Slide Number Placeholder 2"/>
          <p:cNvSpPr/>
          <p:nvPr/>
        </p:nvSpPr>
        <p:spPr>
          <a:xfrm>
            <a:off x="7932600" y="648000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ACE2-72BB-4D5B-B3A9-6344F460134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71" name="Object 5"/>
          <p:cNvGraphicFramePr/>
          <p:nvPr/>
        </p:nvGraphicFramePr>
        <p:xfrm>
          <a:off x="152280" y="1676520"/>
          <a:ext cx="604044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604044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3" name="Rectangle 7"/>
          <p:cNvSpPr/>
          <p:nvPr/>
        </p:nvSpPr>
        <p:spPr>
          <a:xfrm>
            <a:off x="25560" y="106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4-  Addition  of  Grignard compounds to aldehydes &amp; keto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4" name="مربع نص 16"/>
          <p:cNvSpPr/>
          <p:nvPr/>
        </p:nvSpPr>
        <p:spPr>
          <a:xfrm>
            <a:off x="6213600" y="24382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ertiary alcoh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5" name="مربع نص 16"/>
          <p:cNvSpPr/>
          <p:nvPr/>
        </p:nvSpPr>
        <p:spPr>
          <a:xfrm>
            <a:off x="217080" y="2971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to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76" name="Object 3"/>
          <p:cNvGraphicFramePr/>
          <p:nvPr/>
        </p:nvGraphicFramePr>
        <p:xfrm>
          <a:off x="533520" y="3592440"/>
          <a:ext cx="52783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592440"/>
                    <a:ext cx="5278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8" name="Object 4"/>
          <p:cNvGraphicFramePr/>
          <p:nvPr/>
        </p:nvGraphicFramePr>
        <p:xfrm>
          <a:off x="838080" y="4888080"/>
          <a:ext cx="4753080" cy="86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888080"/>
                    <a:ext cx="475308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0" name="مستطيل 18"/>
          <p:cNvSpPr/>
          <p:nvPr/>
        </p:nvSpPr>
        <p:spPr>
          <a:xfrm>
            <a:off x="6341760" y="3809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econdary alcoh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1" name="مستطيل 19"/>
          <p:cNvSpPr/>
          <p:nvPr/>
        </p:nvSpPr>
        <p:spPr>
          <a:xfrm>
            <a:off x="6495120" y="504036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rimary alcoh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2" name="مستطيل 19"/>
          <p:cNvSpPr/>
          <p:nvPr/>
        </p:nvSpPr>
        <p:spPr>
          <a:xfrm>
            <a:off x="473400" y="557676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hana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ldehyd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83" name="Picture 15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84" name="Picture 16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85" name="Straight Connector 1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6" name="Rectangle 18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Rectangle 7"/>
          <p:cNvSpPr/>
          <p:nvPr/>
        </p:nvSpPr>
        <p:spPr>
          <a:xfrm>
            <a:off x="17640" y="2589120"/>
            <a:ext cx="63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A. Formation of Salt (</a:t>
            </a:r>
            <a:r>
              <a:rPr b="0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Alkoxide formation</a:t>
            </a: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8" name="Footer Placeholder 1"/>
          <p:cNvSpPr/>
          <p:nvPr/>
        </p:nvSpPr>
        <p:spPr>
          <a:xfrm>
            <a:off x="58680" y="624852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9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B67B-366E-4D72-80D3-88E246D98CC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0" name="Rectangle 4"/>
          <p:cNvSpPr/>
          <p:nvPr/>
        </p:nvSpPr>
        <p:spPr>
          <a:xfrm>
            <a:off x="-76320" y="15588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 Dissociation of O-H Bo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91" name="Object 1"/>
          <p:cNvGraphicFramePr/>
          <p:nvPr/>
        </p:nvGraphicFramePr>
        <p:xfrm>
          <a:off x="2057400" y="3273480"/>
          <a:ext cx="357516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273480"/>
                    <a:ext cx="35751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3" name="مربع نص 15"/>
          <p:cNvSpPr/>
          <p:nvPr/>
        </p:nvSpPr>
        <p:spPr>
          <a:xfrm>
            <a:off x="4500720" y="3808440"/>
            <a:ext cx="28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 ethoxi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4" name="Rectangle 4"/>
          <p:cNvSpPr/>
          <p:nvPr/>
        </p:nvSpPr>
        <p:spPr>
          <a:xfrm>
            <a:off x="309960" y="99072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Reaction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5" name="Rectangle 3"/>
          <p:cNvSpPr/>
          <p:nvPr/>
        </p:nvSpPr>
        <p:spPr>
          <a:xfrm>
            <a:off x="130320" y="434196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B. Formation of Est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96" name="Object 5"/>
          <p:cNvGraphicFramePr/>
          <p:nvPr/>
        </p:nvGraphicFramePr>
        <p:xfrm>
          <a:off x="990720" y="5021280"/>
          <a:ext cx="558324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021280"/>
                    <a:ext cx="558324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8" name="Rectangle 6"/>
          <p:cNvSpPr/>
          <p:nvPr/>
        </p:nvSpPr>
        <p:spPr>
          <a:xfrm>
            <a:off x="4277520" y="504180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30000">
                <a:solidFill>
                  <a:srgbClr val="6076b4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9" name="Rectangle 15"/>
          <p:cNvSpPr/>
          <p:nvPr/>
        </p:nvSpPr>
        <p:spPr>
          <a:xfrm>
            <a:off x="4088520" y="5700600"/>
            <a:ext cx="101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76b4"/>
                </a:solidFill>
                <a:latin typeface="Comic Sans MS"/>
                <a:ea typeface="Times New Roman"/>
              </a:rPr>
              <a:t>H</a:t>
            </a:r>
            <a:r>
              <a:rPr b="1" lang="en-US" sz="1800" spc="-1" strike="noStrike" baseline="30000">
                <a:solidFill>
                  <a:srgbClr val="6076b4"/>
                </a:solidFill>
                <a:latin typeface="Comic Sans MS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6076b4"/>
                </a:solidFill>
                <a:latin typeface="Comic Sans MS"/>
                <a:ea typeface="Times New Roman"/>
              </a:rPr>
              <a:t>/ H</a:t>
            </a:r>
            <a:r>
              <a:rPr b="1" lang="en-US" sz="1800" spc="-1" strike="noStrike" baseline="-25000">
                <a:solidFill>
                  <a:srgbClr val="6076b4"/>
                </a:solidFill>
                <a:latin typeface="Comic Sans MS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6076b4"/>
                </a:solidFill>
                <a:latin typeface="Comic Sans MS"/>
                <a:ea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0" name="Text Box 15"/>
          <p:cNvSpPr/>
          <p:nvPr/>
        </p:nvSpPr>
        <p:spPr>
          <a:xfrm>
            <a:off x="232560" y="2057400"/>
            <a:ext cx="88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Reaction as acids (Breaking of oxygen- Hydrogen bond CO 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ـــــ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1" name="Curve 345"/>
          <p:cNvSpPr/>
          <p:nvPr/>
        </p:nvSpPr>
        <p:spPr>
          <a:xfrm>
            <a:off x="8229600" y="2209680"/>
            <a:ext cx="8424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149" y="961"/>
                </a:moveTo>
                <a:cubicBezTo>
                  <a:pt x="11289" y="987"/>
                  <a:pt x="827" y="0"/>
                  <a:pt x="1655" y="1923"/>
                </a:cubicBezTo>
                <a:cubicBezTo>
                  <a:pt x="2483" y="3846"/>
                  <a:pt x="14977" y="8837"/>
                  <a:pt x="18288" y="10579"/>
                </a:cubicBezTo>
                <a:cubicBezTo>
                  <a:pt x="21600" y="12320"/>
                  <a:pt x="20245" y="10111"/>
                  <a:pt x="18288" y="10579"/>
                </a:cubicBezTo>
                <a:cubicBezTo>
                  <a:pt x="16331" y="11046"/>
                  <a:pt x="11891" y="11904"/>
                  <a:pt x="8579" y="12970"/>
                </a:cubicBezTo>
                <a:cubicBezTo>
                  <a:pt x="5268" y="14036"/>
                  <a:pt x="0" y="14607"/>
                  <a:pt x="1655" y="15855"/>
                </a:cubicBezTo>
                <a:cubicBezTo>
                  <a:pt x="3311" y="17103"/>
                  <a:pt x="13848" y="18532"/>
                  <a:pt x="16933" y="19208"/>
                </a:cubicBezTo>
                <a:cubicBezTo>
                  <a:pt x="20019" y="19884"/>
                  <a:pt x="18890" y="18740"/>
                  <a:pt x="16933" y="19208"/>
                </a:cubicBezTo>
                <a:cubicBezTo>
                  <a:pt x="14977" y="19676"/>
                  <a:pt x="9181" y="21132"/>
                  <a:pt x="7225" y="21600"/>
                </a:cubicBezTo>
              </a:path>
            </a:pathLst>
          </a:custGeom>
          <a:noFill/>
          <a:ln w="15840">
            <a:solidFill>
              <a:srgbClr val="2f58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02" name="Picture 16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03" name="Picture 17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04" name="Straight Connector 1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5" name="Rectangle 19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Rectangle 9"/>
          <p:cNvSpPr/>
          <p:nvPr/>
        </p:nvSpPr>
        <p:spPr>
          <a:xfrm>
            <a:off x="76320" y="1913040"/>
            <a:ext cx="37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A. Elimination Re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7" name="Footer Placeholder 1"/>
          <p:cNvSpPr/>
          <p:nvPr/>
        </p:nvSpPr>
        <p:spPr>
          <a:xfrm>
            <a:off x="27000" y="624852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8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508F-D58F-4910-8ECC-880A2742D59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09" name="Object 1"/>
          <p:cNvGraphicFramePr/>
          <p:nvPr/>
        </p:nvGraphicFramePr>
        <p:xfrm>
          <a:off x="2238480" y="2827440"/>
          <a:ext cx="323856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2827440"/>
                    <a:ext cx="32385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1" name="Rectangle 4"/>
          <p:cNvSpPr/>
          <p:nvPr/>
        </p:nvSpPr>
        <p:spPr>
          <a:xfrm>
            <a:off x="338760" y="395136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B. Substitution Reactio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2" name="Rectangle 5"/>
          <p:cNvSpPr/>
          <p:nvPr/>
        </p:nvSpPr>
        <p:spPr>
          <a:xfrm>
            <a:off x="334080" y="106668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 Dissociation of C-O Bo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13" name="Object 3"/>
          <p:cNvGraphicFramePr/>
          <p:nvPr/>
        </p:nvGraphicFramePr>
        <p:xfrm>
          <a:off x="1143000" y="4800600"/>
          <a:ext cx="5029200" cy="133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800600"/>
                    <a:ext cx="502920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5" name="Text Box 11"/>
          <p:cNvSpPr/>
          <p:nvPr/>
        </p:nvSpPr>
        <p:spPr>
          <a:xfrm>
            <a:off x="165960" y="1519200"/>
            <a:ext cx="50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568d"/>
                </a:solidFill>
                <a:latin typeface="Times New Roman"/>
                <a:ea typeface="Times New Roman"/>
              </a:rPr>
              <a:t>Reaction with C</a:t>
            </a:r>
            <a:r>
              <a:rPr b="1" lang="ar-SA" sz="2400" spc="-1" strike="noStrike">
                <a:solidFill>
                  <a:srgbClr val="42568d"/>
                </a:solidFill>
                <a:latin typeface="Times New Roman"/>
                <a:cs typeface="Times New Roman"/>
              </a:rPr>
              <a:t>ــــ</a:t>
            </a:r>
            <a:r>
              <a:rPr b="1" lang="en-US" sz="2400" spc="-1" strike="noStrike">
                <a:solidFill>
                  <a:srgbClr val="42568d"/>
                </a:solidFill>
                <a:latin typeface="Times New Roman"/>
                <a:ea typeface="Times New Roman"/>
              </a:rPr>
              <a:t>OH bond cleava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6" name="Curve 345"/>
          <p:cNvSpPr/>
          <p:nvPr/>
        </p:nvSpPr>
        <p:spPr>
          <a:xfrm>
            <a:off x="2514600" y="1600200"/>
            <a:ext cx="8424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149" y="961"/>
                </a:moveTo>
                <a:cubicBezTo>
                  <a:pt x="11289" y="987"/>
                  <a:pt x="827" y="0"/>
                  <a:pt x="1655" y="1923"/>
                </a:cubicBezTo>
                <a:cubicBezTo>
                  <a:pt x="2483" y="3846"/>
                  <a:pt x="14977" y="8837"/>
                  <a:pt x="18288" y="10579"/>
                </a:cubicBezTo>
                <a:cubicBezTo>
                  <a:pt x="21600" y="12320"/>
                  <a:pt x="20245" y="10111"/>
                  <a:pt x="18288" y="10579"/>
                </a:cubicBezTo>
                <a:cubicBezTo>
                  <a:pt x="16331" y="11046"/>
                  <a:pt x="11891" y="11904"/>
                  <a:pt x="8579" y="12970"/>
                </a:cubicBezTo>
                <a:cubicBezTo>
                  <a:pt x="5268" y="14036"/>
                  <a:pt x="0" y="14607"/>
                  <a:pt x="1655" y="15855"/>
                </a:cubicBezTo>
                <a:cubicBezTo>
                  <a:pt x="3311" y="17103"/>
                  <a:pt x="13848" y="18532"/>
                  <a:pt x="16933" y="19208"/>
                </a:cubicBezTo>
                <a:cubicBezTo>
                  <a:pt x="20019" y="19884"/>
                  <a:pt x="18890" y="18740"/>
                  <a:pt x="16933" y="19208"/>
                </a:cubicBezTo>
                <a:cubicBezTo>
                  <a:pt x="14977" y="19676"/>
                  <a:pt x="9181" y="21132"/>
                  <a:pt x="7225" y="21600"/>
                </a:cubicBezTo>
              </a:path>
            </a:pathLst>
          </a:custGeom>
          <a:noFill/>
          <a:ln w="15840">
            <a:solidFill>
              <a:srgbClr val="2f58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7" name="AutoShape 13"/>
          <p:cNvSpPr/>
          <p:nvPr/>
        </p:nvSpPr>
        <p:spPr>
          <a:xfrm flipH="1">
            <a:off x="3656880" y="3208320"/>
            <a:ext cx="22860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18" name="Picture 13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19" name="Picture 14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20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1" name="Rectangle 16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Footer Placeholder 1"/>
          <p:cNvSpPr/>
          <p:nvPr/>
        </p:nvSpPr>
        <p:spPr>
          <a:xfrm>
            <a:off x="76320" y="624852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3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A1B2-14F7-4FF5-9B0B-CDBF1AE0AB4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4" name="Rectangle 3"/>
          <p:cNvSpPr/>
          <p:nvPr/>
        </p:nvSpPr>
        <p:spPr>
          <a:xfrm>
            <a:off x="207360" y="106668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. Oxidation Re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25" name="Object 10"/>
          <p:cNvGraphicFramePr/>
          <p:nvPr/>
        </p:nvGraphicFramePr>
        <p:xfrm>
          <a:off x="2590920" y="5181480"/>
          <a:ext cx="383688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181480"/>
                    <a:ext cx="38368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27" name="Picture 10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28" name="Picture 11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29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0" name="Rectangle 13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31" name="Object 1"/>
          <p:cNvGraphicFramePr/>
          <p:nvPr/>
        </p:nvGraphicFramePr>
        <p:xfrm>
          <a:off x="2292480" y="1828800"/>
          <a:ext cx="391140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2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92480" y="1828800"/>
                    <a:ext cx="3911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3" name="Object 2"/>
          <p:cNvGraphicFramePr/>
          <p:nvPr/>
        </p:nvGraphicFramePr>
        <p:xfrm>
          <a:off x="2286000" y="2895480"/>
          <a:ext cx="482904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4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2895480"/>
                    <a:ext cx="48290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5" name="Object 3"/>
          <p:cNvGraphicFramePr/>
          <p:nvPr/>
        </p:nvGraphicFramePr>
        <p:xfrm>
          <a:off x="2286000" y="3886200"/>
          <a:ext cx="4489560" cy="121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36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3886200"/>
                    <a:ext cx="44895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Footer Placeholder 1"/>
          <p:cNvSpPr/>
          <p:nvPr/>
        </p:nvSpPr>
        <p:spPr>
          <a:xfrm>
            <a:off x="0" y="6356520"/>
            <a:ext cx="601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8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2FCE-3FAB-4877-8D15-6F8E11FCE15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9" name="TextBox 6"/>
          <p:cNvSpPr/>
          <p:nvPr/>
        </p:nvSpPr>
        <p:spPr>
          <a:xfrm>
            <a:off x="85680" y="1752480"/>
            <a:ext cx="882972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Pheno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mpounds having hydroxyl group directly attached to a benzene ring ) are generally named as derivatives of the simplest member of the family, pheno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idity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s and phenols have weak acidic properti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l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much stronger aci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 alcohols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</a:t>
            </a:r>
            <a:r>
              <a:rPr b="0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electron-withdrawing grou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ch as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CN, on the ring </a:t>
            </a:r>
            <a:r>
              <a:rPr b="0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increases the acid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pheno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0" name="Rectangle 11"/>
          <p:cNvSpPr/>
          <p:nvPr/>
        </p:nvSpPr>
        <p:spPr>
          <a:xfrm>
            <a:off x="228600" y="990720"/>
            <a:ext cx="71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omenclature and acidity of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41" name="Picture 7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42" name="Picture 8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43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4" name="Rectangle 10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20160" y="7621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03" name="Rectangle 9"/>
          <p:cNvSpPr/>
          <p:nvPr/>
        </p:nvSpPr>
        <p:spPr>
          <a:xfrm>
            <a:off x="76320" y="13906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Chapter six concerns alcohols and phenols and by the end of this chapter the student will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ce in structure between  alcohols and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classes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how to name alcohols and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physical properties (solubility, boiling and melting points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how hydrogen bonds are formed and its effect on boiling points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acidic properties of alcohols and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methods that can  be used to prepare  alcohols and pheno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chemical reactions of these compounds ( some reactions are review, others are extensions of the chemistry that will be discussed on chapters 8, 9 &amp; 10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4" name="Footer Placeholder 2"/>
          <p:cNvSpPr/>
          <p:nvPr/>
        </p:nvSpPr>
        <p:spPr>
          <a:xfrm>
            <a:off x="7632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05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06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07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8" name="Rectangle 7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5F20-4936-4EBD-A2FD-C9A9475C8D6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6" name="Footer Placeholder 2"/>
          <p:cNvSpPr/>
          <p:nvPr/>
        </p:nvSpPr>
        <p:spPr>
          <a:xfrm>
            <a:off x="6336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47" name="Object 6"/>
          <p:cNvGraphicFramePr/>
          <p:nvPr/>
        </p:nvGraphicFramePr>
        <p:xfrm>
          <a:off x="762120" y="1066680"/>
          <a:ext cx="7584840" cy="513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584840" cy="51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49" name="Picture 6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50" name="Picture 7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51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2" name="Rectangle 9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3" name="Group 2"/>
          <p:cNvGrpSpPr/>
          <p:nvPr/>
        </p:nvGrpSpPr>
        <p:grpSpPr>
          <a:xfrm>
            <a:off x="546120" y="2487600"/>
            <a:ext cx="8153280" cy="3124080"/>
            <a:chOff x="546120" y="2487600"/>
            <a:chExt cx="8153280" cy="3124080"/>
          </a:xfrm>
        </p:grpSpPr>
        <p:sp>
          <p:nvSpPr>
            <p:cNvPr id="2654" name="Rounded Rectangle 5"/>
            <p:cNvSpPr/>
            <p:nvPr/>
          </p:nvSpPr>
          <p:spPr>
            <a:xfrm>
              <a:off x="546120" y="2487600"/>
              <a:ext cx="8153280" cy="3124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655" name="Group 4"/>
            <p:cNvGrpSpPr/>
            <p:nvPr/>
          </p:nvGrpSpPr>
          <p:grpSpPr>
            <a:xfrm>
              <a:off x="774720" y="2563560"/>
              <a:ext cx="5672520" cy="2808000"/>
              <a:chOff x="774720" y="2563560"/>
              <a:chExt cx="5672520" cy="2808000"/>
            </a:xfrm>
          </p:grpSpPr>
          <p:pic>
            <p:nvPicPr>
              <p:cNvPr id="2656" name="Picture 3" descr="C:\Users\haltalassi\Pictures\Picture12.png"/>
              <p:cNvPicPr/>
              <p:nvPr/>
            </p:nvPicPr>
            <p:blipFill>
              <a:blip r:embed="rId1"/>
              <a:stretch/>
            </p:blipFill>
            <p:spPr>
              <a:xfrm>
                <a:off x="774720" y="2563560"/>
                <a:ext cx="5672520" cy="28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7" name="Picture 2" descr="C:\Users\haltalassi\Pictures\Picture11.png"/>
              <p:cNvPicPr/>
              <p:nvPr/>
            </p:nvPicPr>
            <p:blipFill>
              <a:blip r:embed="rId2"/>
              <a:srcRect l="14296" t="23959" r="81701" b="64787"/>
              <a:stretch/>
            </p:blipFill>
            <p:spPr>
              <a:xfrm>
                <a:off x="1460520" y="2792160"/>
                <a:ext cx="3045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58" name="Picture 4" descr="C:\Users\haltalassi\Pictures\Picture13.png"/>
            <p:cNvPicPr/>
            <p:nvPr/>
          </p:nvPicPr>
          <p:blipFill>
            <a:blip r:embed="rId3"/>
            <a:srcRect l="0" t="0" r="0" b="13608"/>
            <a:stretch/>
          </p:blipFill>
          <p:spPr>
            <a:xfrm>
              <a:off x="6566040" y="2944800"/>
              <a:ext cx="1949400" cy="15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9" name="Picture 2" descr="C:\Users\haltalassi\Pictures\Picture11.png"/>
            <p:cNvPicPr/>
            <p:nvPr/>
          </p:nvPicPr>
          <p:blipFill>
            <a:blip r:embed="rId4"/>
            <a:srcRect l="66367" t="56843" r="19617" b="22524"/>
            <a:stretch/>
          </p:blipFill>
          <p:spPr>
            <a:xfrm rot="18843600">
              <a:off x="5946840" y="3423600"/>
              <a:ext cx="10666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0" name="Picture 4" descr="C:\Users\haltalassi\Pictures\Picture13.png"/>
            <p:cNvPicPr/>
            <p:nvPr/>
          </p:nvPicPr>
          <p:blipFill>
            <a:blip r:embed="rId5"/>
            <a:srcRect l="0" t="86404" r="0" b="0"/>
            <a:stretch/>
          </p:blipFill>
          <p:spPr>
            <a:xfrm>
              <a:off x="6718320" y="5002200"/>
              <a:ext cx="1919520" cy="23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1" name="Footer Placeholder 1"/>
          <p:cNvSpPr/>
          <p:nvPr/>
        </p:nvSpPr>
        <p:spPr>
          <a:xfrm>
            <a:off x="8892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2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7344-4C0B-410A-B023-93F0C2E99DC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3" name="Rectangle 3"/>
          <p:cNvSpPr/>
          <p:nvPr/>
        </p:nvSpPr>
        <p:spPr>
          <a:xfrm>
            <a:off x="2514600" y="1143000"/>
            <a:ext cx="52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Synthesis of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64" name="Picture 14" descr="ksulogo2.png"/>
          <p:cNvPicPr/>
          <p:nvPr/>
        </p:nvPicPr>
        <p:blipFill>
          <a:blip r:embed="rId6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65" name="Picture 15" descr="images.jpeg"/>
          <p:cNvPicPr/>
          <p:nvPr/>
        </p:nvPicPr>
        <p:blipFill>
          <a:blip r:embed="rId7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66" name="Straight Connector 1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7" name="Rectangle 17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8" name="Picture 6" descr="C:\Users\haltalassi\Pictures\Picture14.png"/>
          <p:cNvPicPr/>
          <p:nvPr/>
        </p:nvPicPr>
        <p:blipFill>
          <a:blip r:embed="rId1"/>
          <a:stretch/>
        </p:blipFill>
        <p:spPr>
          <a:xfrm>
            <a:off x="2647800" y="1905120"/>
            <a:ext cx="5658120" cy="2376360"/>
          </a:xfrm>
          <a:prstGeom prst="rect">
            <a:avLst/>
          </a:prstGeom>
          <a:ln w="0">
            <a:noFill/>
          </a:ln>
        </p:spPr>
      </p:pic>
      <p:sp>
        <p:nvSpPr>
          <p:cNvPr id="2669" name="Footer Placeholder 2"/>
          <p:cNvSpPr/>
          <p:nvPr/>
        </p:nvSpPr>
        <p:spPr>
          <a:xfrm>
            <a:off x="6336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3137-797D-4B8B-9715-8931F010DB4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1" name="Rectangle 4"/>
          <p:cNvSpPr/>
          <p:nvPr/>
        </p:nvSpPr>
        <p:spPr>
          <a:xfrm>
            <a:off x="3124080" y="914400"/>
            <a:ext cx="41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Reactions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2" name="Rectangle 5"/>
          <p:cNvSpPr/>
          <p:nvPr/>
        </p:nvSpPr>
        <p:spPr>
          <a:xfrm>
            <a:off x="19080" y="12193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Ethers form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73" name="Picture 9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74" name="Picture 10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75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6" name="Rectangle 12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77" name="Object 2"/>
          <p:cNvGraphicFramePr/>
          <p:nvPr/>
        </p:nvGraphicFramePr>
        <p:xfrm>
          <a:off x="457200" y="1905120"/>
          <a:ext cx="2131920" cy="22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1905120"/>
                    <a:ext cx="21319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9" name="Picture 5" descr="C:\Users\haltalassi\Pictures\Picture15.png"/>
          <p:cNvPicPr/>
          <p:nvPr/>
        </p:nvPicPr>
        <p:blipFill>
          <a:blip r:embed="rId1"/>
          <a:stretch/>
        </p:blipFill>
        <p:spPr>
          <a:xfrm>
            <a:off x="914400" y="2286000"/>
            <a:ext cx="7034040" cy="2313000"/>
          </a:xfrm>
          <a:prstGeom prst="rect">
            <a:avLst/>
          </a:prstGeom>
          <a:ln w="0">
            <a:noFill/>
          </a:ln>
        </p:spPr>
      </p:pic>
      <p:sp>
        <p:nvSpPr>
          <p:cNvPr id="2680" name="Footer Placeholder 2"/>
          <p:cNvSpPr/>
          <p:nvPr/>
        </p:nvSpPr>
        <p:spPr>
          <a:xfrm>
            <a:off x="144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266A-241F-453A-8F49-A9D5E3278B0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2" name="Rectangle 5"/>
          <p:cNvSpPr/>
          <p:nvPr/>
        </p:nvSpPr>
        <p:spPr>
          <a:xfrm>
            <a:off x="248760" y="1219320"/>
            <a:ext cx="51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 Electrophilic Substitution Re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83" name="Picture 10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84" name="Picture 11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85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6" name="Rectangle 13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Footer Placeholder 1"/>
          <p:cNvSpPr/>
          <p:nvPr/>
        </p:nvSpPr>
        <p:spPr>
          <a:xfrm>
            <a:off x="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8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BA02-A358-4E96-B06A-BB5F243194E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9" name="Rectangle 3"/>
          <p:cNvSpPr/>
          <p:nvPr/>
        </p:nvSpPr>
        <p:spPr>
          <a:xfrm>
            <a:off x="3490560" y="93996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ome 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90" name="Object 1"/>
          <p:cNvGraphicFramePr/>
          <p:nvPr/>
        </p:nvGraphicFramePr>
        <p:xfrm>
          <a:off x="324000" y="1790640"/>
          <a:ext cx="239544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90640"/>
                    <a:ext cx="23954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2" name="Object 2"/>
          <p:cNvGraphicFramePr/>
          <p:nvPr/>
        </p:nvGraphicFramePr>
        <p:xfrm>
          <a:off x="380880" y="2895480"/>
          <a:ext cx="251460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95480"/>
                    <a:ext cx="2514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4" name="Object 3"/>
          <p:cNvGraphicFramePr/>
          <p:nvPr/>
        </p:nvGraphicFramePr>
        <p:xfrm>
          <a:off x="380880" y="4724280"/>
          <a:ext cx="2905200" cy="10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5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724280"/>
                    <a:ext cx="290520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6" name="Picture 12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97" name="Picture 13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98" name="Straight Connector 1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9" name="Rectangle 15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Rectangle 12"/>
          <p:cNvSpPr/>
          <p:nvPr/>
        </p:nvSpPr>
        <p:spPr>
          <a:xfrm>
            <a:off x="380880" y="105336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) The IUPAC name of                         i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4-Ethyl-5-heptyn-3-o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4-Ethyl-5-heptan-3-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4-Ethyl-5-hepten-3-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4-Etyl-2-hepten-5-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1" name="Rectangle 2"/>
          <p:cNvSpPr/>
          <p:nvPr/>
        </p:nvSpPr>
        <p:spPr>
          <a:xfrm>
            <a:off x="380880" y="3019680"/>
            <a:ext cx="7086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) The IUPAC name of                                      i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) 3-Methyl-1-bromocyclohexa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) 2-Bromo-3-methylcyclohexa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) 4-Bromo-2-methylcyclohexa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) 3-Bromo-1-methylcyclohxa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02" name="Object 1"/>
          <p:cNvGraphicFramePr/>
          <p:nvPr/>
        </p:nvGraphicFramePr>
        <p:xfrm>
          <a:off x="3733920" y="2610000"/>
          <a:ext cx="161280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610000"/>
                    <a:ext cx="16128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4" name="Footer Placeholder 1"/>
          <p:cNvSpPr/>
          <p:nvPr/>
        </p:nvSpPr>
        <p:spPr>
          <a:xfrm>
            <a:off x="0" y="6324480"/>
            <a:ext cx="335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5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B9F1-179A-4B7E-B81D-4D1FDC296C1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6" name="Rectangle 2"/>
          <p:cNvSpPr/>
          <p:nvPr/>
        </p:nvSpPr>
        <p:spPr>
          <a:xfrm>
            <a:off x="350640" y="4783680"/>
            <a:ext cx="400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Calibri"/>
              </a:rPr>
              <a:t>6)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BatangChe"/>
              </a:rPr>
              <a:t>The most acidic compound i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07" name="Object 1"/>
          <p:cNvGraphicFramePr/>
          <p:nvPr/>
        </p:nvGraphicFramePr>
        <p:xfrm>
          <a:off x="762120" y="5181480"/>
          <a:ext cx="580680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181480"/>
                    <a:ext cx="58068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9" name="Picture 3" descr=""/>
          <p:cNvPicPr/>
          <p:nvPr/>
        </p:nvPicPr>
        <p:blipFill>
          <a:blip r:embed="rId5"/>
          <a:stretch/>
        </p:blipFill>
        <p:spPr>
          <a:xfrm>
            <a:off x="4025880" y="1001880"/>
            <a:ext cx="1371600" cy="1055520"/>
          </a:xfrm>
          <a:prstGeom prst="rect">
            <a:avLst/>
          </a:prstGeom>
          <a:ln w="0">
            <a:noFill/>
          </a:ln>
        </p:spPr>
      </p:pic>
      <p:pic>
        <p:nvPicPr>
          <p:cNvPr id="2710" name="Picture 11" descr="ksulogo2.png"/>
          <p:cNvPicPr/>
          <p:nvPr/>
        </p:nvPicPr>
        <p:blipFill>
          <a:blip r:embed="rId6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11" name="Picture 12" descr="images.jpeg"/>
          <p:cNvPicPr/>
          <p:nvPr/>
        </p:nvPicPr>
        <p:blipFill>
          <a:blip r:embed="rId7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12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3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Rectangle 5"/>
          <p:cNvSpPr/>
          <p:nvPr/>
        </p:nvSpPr>
        <p:spPr>
          <a:xfrm>
            <a:off x="88200" y="1174320"/>
            <a:ext cx="5199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) The common name of 2-methyl-2-propanol i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Allyl alcoh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Isopropyl alcoh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utyl alcoh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Benzyl alcoh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) The following reaction giv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4-Ethylphe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2-Ethylphe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Ethylphenyl eth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Ethylphenyl keton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15" name="Object 4"/>
          <p:cNvGraphicFramePr/>
          <p:nvPr/>
        </p:nvGraphicFramePr>
        <p:xfrm>
          <a:off x="1447920" y="3657600"/>
          <a:ext cx="5333760" cy="10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657600"/>
                    <a:ext cx="53337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7" name="Footer Placeholder 1"/>
          <p:cNvSpPr/>
          <p:nvPr/>
        </p:nvSpPr>
        <p:spPr>
          <a:xfrm>
            <a:off x="1908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8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8D30-EB78-4EF4-A630-A469722D70F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19" name="Picture 7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20" name="Picture 8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21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2" name="Rectangle 10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3" name="Object 2"/>
          <p:cNvGraphicFramePr/>
          <p:nvPr/>
        </p:nvGraphicFramePr>
        <p:xfrm>
          <a:off x="2360520" y="1509840"/>
          <a:ext cx="1809720" cy="63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0520" y="1509840"/>
                    <a:ext cx="180972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5" name="Object 1"/>
          <p:cNvGraphicFramePr/>
          <p:nvPr/>
        </p:nvGraphicFramePr>
        <p:xfrm>
          <a:off x="1446120" y="2165400"/>
          <a:ext cx="548640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6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6120" y="2165400"/>
                    <a:ext cx="54864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7" name="Rectangle 3"/>
          <p:cNvSpPr/>
          <p:nvPr/>
        </p:nvSpPr>
        <p:spPr>
          <a:xfrm>
            <a:off x="551160" y="1053360"/>
            <a:ext cx="57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9)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major product for the following reaction i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28" name="Object 7"/>
          <p:cNvGraphicFramePr/>
          <p:nvPr/>
        </p:nvGraphicFramePr>
        <p:xfrm>
          <a:off x="2863800" y="3338640"/>
          <a:ext cx="191628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2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63800" y="3338640"/>
                    <a:ext cx="1916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0" name="Object 6"/>
          <p:cNvGraphicFramePr/>
          <p:nvPr/>
        </p:nvGraphicFramePr>
        <p:xfrm>
          <a:off x="1598760" y="3871800"/>
          <a:ext cx="4638600" cy="70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3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98760" y="3871800"/>
                    <a:ext cx="46386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2" name="Rectangle 8"/>
          <p:cNvSpPr/>
          <p:nvPr/>
        </p:nvSpPr>
        <p:spPr>
          <a:xfrm>
            <a:off x="530280" y="2958480"/>
            <a:ext cx="55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)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product of the reaction shown below i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33" name="Object 4"/>
          <p:cNvGraphicFramePr/>
          <p:nvPr/>
        </p:nvGraphicFramePr>
        <p:xfrm>
          <a:off x="1219320" y="5334120"/>
          <a:ext cx="5172120" cy="63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4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5334120"/>
                    <a:ext cx="517212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5" name="Rectangle 6"/>
          <p:cNvSpPr/>
          <p:nvPr/>
        </p:nvSpPr>
        <p:spPr>
          <a:xfrm>
            <a:off x="609480" y="48006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Calibri"/>
              </a:rPr>
              <a:t>11) Which of the following compounds has the highest boiling point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36" name="Picture 11" descr="ksulogo2.png"/>
          <p:cNvPicPr/>
          <p:nvPr/>
        </p:nvPicPr>
        <p:blipFill>
          <a:blip r:embed="rId1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37" name="Picture 12" descr="images.jpeg"/>
          <p:cNvPicPr/>
          <p:nvPr/>
        </p:nvPicPr>
        <p:blipFill>
          <a:blip r:embed="rId1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38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9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a7bc"/>
                </a:solidFill>
                <a:latin typeface="Palatino Linotype"/>
              </a:rPr>
              <a:t>Thank You for your kind attention !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ents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42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80A7-9F23-4422-AD02-E97E4B054D09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43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44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45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6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Footer Placeholder 1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0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2F37-D4AE-4C5B-BFCE-ADCDE4C0873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1" name="TextBox 6"/>
          <p:cNvSpPr/>
          <p:nvPr/>
        </p:nvSpPr>
        <p:spPr>
          <a:xfrm>
            <a:off x="44280" y="162720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s and phenols may be viewed as organic derivatives of water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2" name="TextBox 7"/>
          <p:cNvSpPr/>
          <p:nvPr/>
        </p:nvSpPr>
        <p:spPr>
          <a:xfrm>
            <a:off x="0" y="31240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s and phenols have a common functional group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the hydroxyl group, —O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3" name="TextBox 12"/>
          <p:cNvSpPr/>
          <p:nvPr/>
        </p:nvSpPr>
        <p:spPr>
          <a:xfrm>
            <a:off x="0" y="3886200"/>
            <a:ext cx="88390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 alcohols the hydroxyl group is attached to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an alkyl group, —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n phenols the hydroxyl function is directly attached 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benzene r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4" name="مربع نص 13"/>
          <p:cNvSpPr/>
          <p:nvPr/>
        </p:nvSpPr>
        <p:spPr>
          <a:xfrm>
            <a:off x="357120" y="2108160"/>
            <a:ext cx="792504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-O-H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-O-H or PhC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                  Ph-O-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ter          Alcohol                                   Phe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5" name="Rectangle 4"/>
          <p:cNvSpPr/>
          <p:nvPr/>
        </p:nvSpPr>
        <p:spPr>
          <a:xfrm>
            <a:off x="315720" y="990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Structure Of Alcohols and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16" name="Object 11"/>
          <p:cNvGraphicFramePr/>
          <p:nvPr/>
        </p:nvGraphicFramePr>
        <p:xfrm>
          <a:off x="1871640" y="4738680"/>
          <a:ext cx="472428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4738680"/>
                    <a:ext cx="472428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8" name="Picture 11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19" name="Picture 12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20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1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13"/>
          <p:cNvSpPr/>
          <p:nvPr/>
        </p:nvSpPr>
        <p:spPr>
          <a:xfrm>
            <a:off x="152280" y="20574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cohols are classifi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ng to the type of the carbon atom connected to the hydroxyl group (carbinol carbon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23" name="صورة 1" descr=""/>
          <p:cNvPicPr/>
          <p:nvPr/>
        </p:nvPicPr>
        <p:blipFill>
          <a:blip r:embed="rId1"/>
          <a:srcRect l="0" t="-4593" r="2035" b="7702"/>
          <a:stretch/>
        </p:blipFill>
        <p:spPr>
          <a:xfrm>
            <a:off x="865080" y="3657600"/>
            <a:ext cx="698832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2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57CF-F861-4E2D-B8E7-8D0A741BD4C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5" name="Rectangle 1"/>
          <p:cNvSpPr/>
          <p:nvPr/>
        </p:nvSpPr>
        <p:spPr>
          <a:xfrm>
            <a:off x="457200" y="1066680"/>
            <a:ext cx="825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lassification and Nomenclature of Alcohol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6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27" name="Picture 8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28" name="Picture 9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29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0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TextBox 14"/>
          <p:cNvSpPr/>
          <p:nvPr/>
        </p:nvSpPr>
        <p:spPr>
          <a:xfrm>
            <a:off x="0" y="228600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ngest continuou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chain tha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ains the -OH 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eplace the ending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alkane by  the suffix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–o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f a molecule contains both an -OH group and a C=C or c</a:t>
            </a:r>
            <a:r>
              <a:rPr b="1" lang="el-GR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Ξ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 bond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chain that include both of them even if this is  not the longest chain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ame should include suffixes indicate presence of both the OH group and the unsaturated group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H group takes precedence over the double or triple bonds in getting the lower numb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yclic alcohol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named using the prefix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cyclo-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rbon bearing the hydroxyl group is assumed to take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umber 1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ffix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dded to the name of the parent hydrocarbon when there are two OH group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e suffix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dded when there are three OH group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2" name="Footer Placeholder 1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3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03E1-7C4C-4376-BAFD-91E59465EF2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4" name="Text Box 4105"/>
          <p:cNvSpPr/>
          <p:nvPr/>
        </p:nvSpPr>
        <p:spPr>
          <a:xfrm>
            <a:off x="0" y="1000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OMENCLATURE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5" name="Rectangle 10"/>
          <p:cNvSpPr/>
          <p:nvPr/>
        </p:nvSpPr>
        <p:spPr>
          <a:xfrm>
            <a:off x="76320" y="1371600"/>
            <a:ext cx="876276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UPAC Nomenclature Of Alcohol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re name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rding to the following rules: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36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37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38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9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F0BE-DF5A-446D-BA10-04F2D831DBF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1" name="Rectangle 3"/>
          <p:cNvSpPr/>
          <p:nvPr/>
        </p:nvSpPr>
        <p:spPr>
          <a:xfrm>
            <a:off x="68400" y="1209600"/>
            <a:ext cx="9144000" cy="20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Common Nomenclature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the names of </a:t>
            </a:r>
            <a:r>
              <a:rPr b="0" lang="en-US" sz="20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alkyl substituent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ched to the hydroxyl group, </a:t>
            </a:r>
            <a:r>
              <a:rPr b="0" lang="en-US" sz="20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followed by th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word alcohol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6076b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wo OH groups present on two adjacent carbons these known a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yc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2" name="Rectangle 8"/>
          <p:cNvSpPr/>
          <p:nvPr/>
        </p:nvSpPr>
        <p:spPr>
          <a:xfrm>
            <a:off x="152280" y="32590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imary alcoh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43" name=""/>
          <p:cNvGraphicFramePr/>
          <p:nvPr/>
        </p:nvGraphicFramePr>
        <p:xfrm>
          <a:off x="228600" y="4267080"/>
          <a:ext cx="8458200" cy="1692360"/>
        </p:xfrm>
        <a:graphic>
          <a:graphicData uri="http://schemas.openxmlformats.org/drawingml/2006/table">
            <a:tbl>
              <a:tblPr/>
              <a:tblGrid>
                <a:gridCol w="1219320"/>
                <a:gridCol w="2209680"/>
                <a:gridCol w="2438280"/>
                <a:gridCol w="2590920"/>
              </a:tblGrid>
              <a:tr h="411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OH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OH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=CH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onstantia"/>
                          <a:ea typeface="Majalla UI"/>
                        </a:rPr>
                        <a:t>Comm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Methyl alcoh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Ethyl alcoh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Allyl alcoh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onstantia"/>
                          <a:ea typeface="Majalla UI"/>
                        </a:rPr>
                        <a:t>IUPA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Methan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Ethan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-Propen-1-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4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45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46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47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8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TextBox 4"/>
          <p:cNvSpPr/>
          <p:nvPr/>
        </p:nvSpPr>
        <p:spPr>
          <a:xfrm>
            <a:off x="285840" y="1905120"/>
            <a:ext cx="88581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6076b4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6076b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6AB2-2096-40EE-8E46-AE60FB01034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1" name="Rectangle 4"/>
          <p:cNvSpPr/>
          <p:nvPr/>
        </p:nvSpPr>
        <p:spPr>
          <a:xfrm>
            <a:off x="0" y="1295280"/>
            <a:ext cx="53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econdary and tertiary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52" name=""/>
          <p:cNvGraphicFramePr/>
          <p:nvPr/>
        </p:nvGraphicFramePr>
        <p:xfrm>
          <a:off x="500040" y="2214720"/>
          <a:ext cx="8458200" cy="2439720"/>
        </p:xfrm>
        <a:graphic>
          <a:graphicData uri="http://schemas.openxmlformats.org/drawingml/2006/table">
            <a:tbl>
              <a:tblPr/>
              <a:tblGrid>
                <a:gridCol w="1219320"/>
                <a:gridCol w="2038320"/>
                <a:gridCol w="2286000"/>
                <a:gridCol w="291456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onstantia"/>
                          <a:ea typeface="Majalla UI"/>
                        </a:rPr>
                        <a:t>Comm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Isopropyl alcoh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yclopentyl alcoh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Methylcyclohexyl alcohol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onstantia"/>
                          <a:ea typeface="Majalla UI"/>
                        </a:rPr>
                        <a:t>IUPA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-Propan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yclopenta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1-Methyl-1-cyclohexa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3" name="Object 2"/>
          <p:cNvGraphicFramePr/>
          <p:nvPr/>
        </p:nvGraphicFramePr>
        <p:xfrm>
          <a:off x="6880320" y="2286000"/>
          <a:ext cx="13348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2286000"/>
                    <a:ext cx="13348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5" name="Object 3"/>
          <p:cNvGraphicFramePr/>
          <p:nvPr/>
        </p:nvGraphicFramePr>
        <p:xfrm>
          <a:off x="4470480" y="2254320"/>
          <a:ext cx="68256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0480" y="2254320"/>
                    <a:ext cx="6825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7" name="Object 4"/>
          <p:cNvGraphicFramePr/>
          <p:nvPr/>
        </p:nvGraphicFramePr>
        <p:xfrm>
          <a:off x="2238480" y="2454120"/>
          <a:ext cx="717480" cy="70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38480" y="2454120"/>
                    <a:ext cx="7174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9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60" name="Picture 11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61" name="Picture 12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62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3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8404-3286-4B4E-A031-8EFBEBBDD37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65" name="Object 2"/>
          <p:cNvGraphicFramePr/>
          <p:nvPr/>
        </p:nvGraphicFramePr>
        <p:xfrm>
          <a:off x="444600" y="1763640"/>
          <a:ext cx="72684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1763640"/>
                    <a:ext cx="72684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7" name="Object 4"/>
          <p:cNvGraphicFramePr/>
          <p:nvPr/>
        </p:nvGraphicFramePr>
        <p:xfrm>
          <a:off x="7238880" y="1828800"/>
          <a:ext cx="133380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1828800"/>
                    <a:ext cx="13338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9" name="Object 5"/>
          <p:cNvGraphicFramePr/>
          <p:nvPr/>
        </p:nvGraphicFramePr>
        <p:xfrm>
          <a:off x="4191120" y="1676520"/>
          <a:ext cx="995400" cy="147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1676520"/>
                    <a:ext cx="99540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1" name="Object 6"/>
          <p:cNvGraphicFramePr/>
          <p:nvPr/>
        </p:nvGraphicFramePr>
        <p:xfrm>
          <a:off x="4267080" y="4952880"/>
          <a:ext cx="657360" cy="98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4952880"/>
                    <a:ext cx="657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3" name="مربع نص 12"/>
          <p:cNvSpPr/>
          <p:nvPr/>
        </p:nvSpPr>
        <p:spPr>
          <a:xfrm>
            <a:off x="-34920" y="3657600"/>
            <a:ext cx="33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-Methyl-2-cyclohexen-1-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4" name="مربع نص 14"/>
          <p:cNvSpPr/>
          <p:nvPr/>
        </p:nvSpPr>
        <p:spPr>
          <a:xfrm>
            <a:off x="2971800" y="342900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-Phenylmethan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mic Sans MS"/>
              </a:rPr>
              <a:t>Benzyl alcohol (common name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5" name="مستطيل 15"/>
          <p:cNvSpPr/>
          <p:nvPr/>
        </p:nvSpPr>
        <p:spPr>
          <a:xfrm>
            <a:off x="6819120" y="35053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-Phenylethan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6" name="مستطيل 16"/>
          <p:cNvSpPr/>
          <p:nvPr/>
        </p:nvSpPr>
        <p:spPr>
          <a:xfrm>
            <a:off x="2865960" y="6095880"/>
            <a:ext cx="36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an-1,2-di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mic Sans MS"/>
              </a:rPr>
              <a:t>Ethelene glycol (common name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7" name="Rectangle 18"/>
          <p:cNvSpPr/>
          <p:nvPr/>
        </p:nvSpPr>
        <p:spPr>
          <a:xfrm>
            <a:off x="46800" y="927000"/>
            <a:ext cx="15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78" name="Object 6"/>
          <p:cNvGraphicFramePr/>
          <p:nvPr/>
        </p:nvGraphicFramePr>
        <p:xfrm>
          <a:off x="0" y="4952880"/>
          <a:ext cx="3809880" cy="91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952880"/>
                    <a:ext cx="3809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0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81" name="Object 16"/>
          <p:cNvGraphicFramePr/>
          <p:nvPr/>
        </p:nvGraphicFramePr>
        <p:xfrm>
          <a:off x="5943600" y="5029200"/>
          <a:ext cx="3276720" cy="112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2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3600" y="5029200"/>
                    <a:ext cx="327672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3" name="Picture 16" descr="ksulogo2.png"/>
          <p:cNvPicPr/>
          <p:nvPr/>
        </p:nvPicPr>
        <p:blipFill>
          <a:blip r:embed="rId1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84" name="Picture 17" descr="images.jpeg"/>
          <p:cNvPicPr/>
          <p:nvPr/>
        </p:nvPicPr>
        <p:blipFill>
          <a:blip r:embed="rId1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85" name="Straight Connector 1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6" name="Rectangle 19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7" name="Object 4"/>
          <p:cNvGraphicFramePr/>
          <p:nvPr/>
        </p:nvGraphicFramePr>
        <p:xfrm>
          <a:off x="685800" y="1447920"/>
          <a:ext cx="7580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580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9" name="Rectangle 5"/>
          <p:cNvSpPr/>
          <p:nvPr/>
        </p:nvSpPr>
        <p:spPr>
          <a:xfrm>
            <a:off x="-37800" y="1001880"/>
            <a:ext cx="15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90" name="Object 9"/>
          <p:cNvGraphicFramePr/>
          <p:nvPr/>
        </p:nvGraphicFramePr>
        <p:xfrm>
          <a:off x="1143000" y="4537080"/>
          <a:ext cx="6238800" cy="22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537080"/>
                    <a:ext cx="6238800" cy="22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2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93" name="Object 2"/>
          <p:cNvGraphicFramePr/>
          <p:nvPr/>
        </p:nvGraphicFramePr>
        <p:xfrm>
          <a:off x="1371600" y="2895480"/>
          <a:ext cx="6324480" cy="16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4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2895480"/>
                    <a:ext cx="63244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5" name="Picture 8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96" name="Picture 9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97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8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dc:language>en-US</dc:language>
  <cp:lastModifiedBy>hp</cp:lastModifiedBy>
  <dcterms:modified xsi:type="dcterms:W3CDTF">2015-02-28T11:00:03Z</dcterms:modified>
  <cp:revision>169</cp:revision>
  <dc:subject/>
  <dc:title>TYPES OF HYBRIDIZATION AND GEOMETRY OF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