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55.wmf" ContentType="image/x-wmf"/>
  <Override PartName="/ppt/media/image53.png" ContentType="image/png"/>
  <Override PartName="/ppt/media/image51.png" ContentType="image/png"/>
  <Override PartName="/ppt/media/image49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4.png" ContentType="image/png"/>
  <Override PartName="/ppt/media/image27.png" ContentType="image/png"/>
  <Override PartName="/ppt/media/image67.wmf" ContentType="image/x-wmf"/>
  <Override PartName="/ppt/media/image30.wmf" ContentType="image/x-wmf"/>
  <Override PartName="/ppt/media/image3.png" ContentType="image/png"/>
  <Override PartName="/ppt/media/image2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19.wmf" ContentType="image/x-wmf"/>
  <Override PartName="/ppt/media/image61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8.wmf" ContentType="image/x-wmf"/>
  <Override PartName="/ppt/media/image50.wmf" ContentType="image/x-wmf"/>
  <Override PartName="/ppt/media/image28.png" ContentType="image/png"/>
  <Override PartName="/ppt/media/image31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4.png" ContentType="image/png"/>
  <Override PartName="/ppt/media/image63.wmf" ContentType="image/x-wmf"/>
  <Override PartName="/ppt/media/image26.wmf" ContentType="image/x-wmf"/>
  <Override PartName="/ppt/media/image62.wmf" ContentType="image/x-wmf"/>
  <Override PartName="/ppt/media/image25.wmf" ContentType="image/x-wmf"/>
  <Override PartName="/ppt/media/image23.wmf" ContentType="image/x-wmf"/>
  <Override PartName="/ppt/media/image5.jpeg" ContentType="image/jpeg"/>
  <Override PartName="/ppt/media/image48.wmf" ContentType="image/x-wmf"/>
  <Override PartName="/ppt/media/image29.wmf" ContentType="image/x-wmf"/>
  <Override PartName="/ppt/media/image11.png" ContentType="image/png"/>
  <Override PartName="/ppt/media/image15.wmf" ContentType="image/x-wmf"/>
  <Override PartName="/ppt/media/image54.png" ContentType="image/png"/>
  <Override PartName="/ppt/media/image6.png" ContentType="image/png"/>
  <Override PartName="/ppt/media/image40.wmf" ContentType="image/x-wmf"/>
  <Override PartName="/ppt/media/image16.wmf" ContentType="image/x-wmf"/>
  <Override PartName="/ppt/media/image7.png" ContentType="image/png"/>
  <Override PartName="/ppt/media/image41.wmf" ContentType="image/x-wmf"/>
  <Override PartName="/ppt/media/image17.wmf" ContentType="image/x-wmf"/>
  <Override PartName="/ppt/media/image8.png" ContentType="image/png"/>
  <Override PartName="/ppt/media/image42.wmf" ContentType="image/x-wmf"/>
  <Override PartName="/ppt/media/image43.wmf" ContentType="image/x-wmf"/>
  <Override PartName="/ppt/media/image9.png" ContentType="image/png"/>
  <Override PartName="/ppt/media/image56.png" ContentType="image/png"/>
  <Override PartName="/ppt/media/image13.wmf" ContentType="image/x-wmf"/>
  <Override PartName="/ppt/media/image52.png" ContentType="image/png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12.jpeg" ContentType="image/jpeg"/>
  <Override PartName="/ppt/media/image37.wmf" ContentType="image/x-wmf"/>
  <Override PartName="/ppt/media/image38.wmf" ContentType="image/x-wmf"/>
  <Override PartName="/ppt/media/image39.wmf" ContentType="image/x-wmf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</p:sldMasterIdLst>
  <p:notesMasterIdLst>
    <p:notesMasterId r:id="rId54"/>
  </p:notesMasterIdLst>
  <p:sldIdLst>
    <p:sldId id="256" r:id="rId55"/>
    <p:sldId id="257" r:id="rId56"/>
    <p:sldId id="258" r:id="rId57"/>
    <p:sldId id="259" r:id="rId58"/>
    <p:sldId id="260" r:id="rId59"/>
    <p:sldId id="261" r:id="rId60"/>
    <p:sldId id="262" r:id="rId61"/>
    <p:sldId id="263" r:id="rId62"/>
    <p:sldId id="264" r:id="rId63"/>
    <p:sldId id="265" r:id="rId64"/>
    <p:sldId id="266" r:id="rId65"/>
    <p:sldId id="267" r:id="rId66"/>
    <p:sldId id="268" r:id="rId67"/>
    <p:sldId id="269" r:id="rId68"/>
    <p:sldId id="270" r:id="rId69"/>
    <p:sldId id="271" r:id="rId70"/>
    <p:sldId id="272" r:id="rId71"/>
    <p:sldId id="273" r:id="rId72"/>
    <p:sldId id="274" r:id="rId73"/>
    <p:sldId id="275" r:id="rId74"/>
    <p:sldId id="276" r:id="rId75"/>
    <p:sldId id="277" r:id="rId76"/>
    <p:sldId id="278" r:id="rId77"/>
    <p:sldId id="279" r:id="rId78"/>
    <p:sldId id="280" r:id="rId79"/>
    <p:sldId id="281" r:id="rId80"/>
    <p:sldId id="282" r:id="rId81"/>
    <p:sldId id="28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notesMaster" Target="notesMasters/notesMaster1.xml"/><Relationship Id="rId55" Type="http://schemas.openxmlformats.org/officeDocument/2006/relationships/slide" Target="slides/slide1.xml"/><Relationship Id="rId56" Type="http://schemas.openxmlformats.org/officeDocument/2006/relationships/slide" Target="slides/slide2.xml"/><Relationship Id="rId57" Type="http://schemas.openxmlformats.org/officeDocument/2006/relationships/slide" Target="slides/slide3.xml"/><Relationship Id="rId58" Type="http://schemas.openxmlformats.org/officeDocument/2006/relationships/slide" Target="slides/slide4.xml"/><Relationship Id="rId59" Type="http://schemas.openxmlformats.org/officeDocument/2006/relationships/slide" Target="slides/slide5.xml"/><Relationship Id="rId60" Type="http://schemas.openxmlformats.org/officeDocument/2006/relationships/slide" Target="slides/slide6.xml"/><Relationship Id="rId61" Type="http://schemas.openxmlformats.org/officeDocument/2006/relationships/slide" Target="slides/slide7.xml"/><Relationship Id="rId62" Type="http://schemas.openxmlformats.org/officeDocument/2006/relationships/slide" Target="slides/slide8.xml"/><Relationship Id="rId63" Type="http://schemas.openxmlformats.org/officeDocument/2006/relationships/slide" Target="slides/slide9.xml"/><Relationship Id="rId64" Type="http://schemas.openxmlformats.org/officeDocument/2006/relationships/slide" Target="slides/slide10.xml"/><Relationship Id="rId65" Type="http://schemas.openxmlformats.org/officeDocument/2006/relationships/slide" Target="slides/slide11.xml"/><Relationship Id="rId66" Type="http://schemas.openxmlformats.org/officeDocument/2006/relationships/slide" Target="slides/slide12.xml"/><Relationship Id="rId67" Type="http://schemas.openxmlformats.org/officeDocument/2006/relationships/slide" Target="slides/slide13.xml"/><Relationship Id="rId68" Type="http://schemas.openxmlformats.org/officeDocument/2006/relationships/slide" Target="slides/slide14.xml"/><Relationship Id="rId69" Type="http://schemas.openxmlformats.org/officeDocument/2006/relationships/slide" Target="slides/slide15.xml"/><Relationship Id="rId70" Type="http://schemas.openxmlformats.org/officeDocument/2006/relationships/slide" Target="slides/slide16.xml"/><Relationship Id="rId71" Type="http://schemas.openxmlformats.org/officeDocument/2006/relationships/slide" Target="slides/slide17.xml"/><Relationship Id="rId72" Type="http://schemas.openxmlformats.org/officeDocument/2006/relationships/slide" Target="slides/slide18.xml"/><Relationship Id="rId73" Type="http://schemas.openxmlformats.org/officeDocument/2006/relationships/slide" Target="slides/slide19.xml"/><Relationship Id="rId74" Type="http://schemas.openxmlformats.org/officeDocument/2006/relationships/slide" Target="slides/slide20.xml"/><Relationship Id="rId75" Type="http://schemas.openxmlformats.org/officeDocument/2006/relationships/slide" Target="slides/slide21.xml"/><Relationship Id="rId76" Type="http://schemas.openxmlformats.org/officeDocument/2006/relationships/slide" Target="slides/slide22.xml"/><Relationship Id="rId77" Type="http://schemas.openxmlformats.org/officeDocument/2006/relationships/slide" Target="slides/slide23.xml"/><Relationship Id="rId78" Type="http://schemas.openxmlformats.org/officeDocument/2006/relationships/slide" Target="slides/slide24.xml"/><Relationship Id="rId79" Type="http://schemas.openxmlformats.org/officeDocument/2006/relationships/slide" Target="slides/slide25.xml"/><Relationship Id="rId80" Type="http://schemas.openxmlformats.org/officeDocument/2006/relationships/slide" Target="slides/slide26.xml"/><Relationship Id="rId81" Type="http://schemas.openxmlformats.org/officeDocument/2006/relationships/slide" Target="slides/slide27.xml"/><Relationship Id="rId82" Type="http://schemas.openxmlformats.org/officeDocument/2006/relationships/slide" Target="slides/slide2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 type="dt" idx="1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PlaceHolder 5"/>
          <p:cNvSpPr>
            <a:spLocks noGrp="1"/>
          </p:cNvSpPr>
          <p:nvPr>
            <p:ph type="ftr" idx="1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PlaceHolder 6"/>
          <p:cNvSpPr>
            <a:spLocks noGrp="1"/>
          </p:cNvSpPr>
          <p:nvPr>
            <p:ph type="sldNum" idx="1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7AC1-E9B5-4CE5-BF05-6E41DD3B9A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6813-FC16-4C8D-B45F-E61D08581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AC8-22C3-4BC7-A145-C15FD220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C8F-BAF0-4045-A24F-9F0BB153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9A729-82DA-4C65-BE2F-D003A73D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28AAF-277B-4C52-989E-824DCBD8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E26B0-9EE4-43EE-ACEF-87EC6734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1EADD-DD86-4440-905B-755D57A4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6EC7B-13E6-4D08-8C1C-3FC444D9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43772-EA25-4B63-A01E-CEDB4B5F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0A092-BCA7-49A4-B062-0EAD8C82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54B67-151D-4DEE-825B-4C07C949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B5EDB-4572-4027-B684-27C114C4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32840-DAF9-4063-B3C9-9E69F112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B7F1-7C82-492C-ADB7-B10118A3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D94A6-5526-4F8D-B4D5-4D9185FA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CEED1-136C-4F55-BF52-652826F8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15B97-F1E7-4A7B-8F7C-CCF84AFA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C70D6-0CFC-4025-8940-7EC06ABE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3F8EF-07BA-40E0-8AC5-F8CF11AD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736B1-58FB-4AB8-B7C8-B1CDD458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9496B-0289-44B9-B111-189E89B3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C4D39-5D32-46B4-97D9-97DDD3B8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15250-5AEE-4B12-82B6-F970282E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A732F-EB6E-4666-8753-771686C5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F8E4-3119-4840-9A1A-129D4B04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C39A2-6CDC-4BF3-8E85-D2BE406A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BB9DA-F2D8-49D0-9F3B-01A546EE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E3B1D-3308-4721-B352-C32829C9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B7CE8-0DF3-48F4-B886-0FB2B6A8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59768-5036-4FD9-A37E-838821CE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31026-17DC-4407-B1CA-6DD8C506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44F37-B734-4AB6-B9F5-6C2508FD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DB658-142A-4E26-B04D-52287370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970E2-648F-48EF-8FB9-EDD7AEFA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02EB0-73F5-40B0-B2E3-2682041B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564A-05C4-4780-A605-C3DD4C73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58B36-D16D-4AE5-A47B-201C0DC5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D2C82-03EB-41B9-85F3-E5330661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78D4B-C9FF-40C4-A2CE-3E313A50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274CC-EB8A-4CD4-AE12-332F3A3BC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C2546-CAAC-4EFE-9079-F9FD9D48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8317F-9062-499A-A908-6F17E0D9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B2393-8675-4DF3-B207-5F4ED44D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79ADE-E5C4-4D81-8C17-67D1D7C7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8C40F-8EEF-466A-B6B4-AC36295D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15268-1F38-4749-81CF-971F3944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C68E-F7A3-415A-8F4F-841C58B3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E7E1F-B77B-411B-8A52-326E40B0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03C38D-800F-4D58-A985-FBB1D432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5A547-CB46-40A0-8383-6F203F6B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B66AE-AFA7-42B7-A182-2A5D4B6C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9BF0C-C7B2-4E49-9B06-D9C0E38F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27CC57-B5E5-49ED-8A77-95D5F487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76C1F1-C810-4307-AE2C-CAFEDB01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EDAFD-A57A-454C-9E45-FA82A70E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88733-E206-44DC-AA5D-A889604F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C6749-0AD5-479D-88EA-21484929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B31F-09E3-4034-BDE5-B7CD910D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EE684-0E23-4B04-93C6-5F1DC8D5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95A4A-5134-414C-8718-6795BE82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19244E-1555-4A26-B406-0E8A6D91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BC4B28-6D87-4C4A-A0A5-4EC9C309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BF6B80-7298-41E0-AACE-ECF590CF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40D3D-E40B-4EA8-B8F4-0EA3B901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866F4-75C9-49D1-9729-38F781E0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43781-E663-4DE7-92AC-A4F89C42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7FBA02-9363-4817-B5C1-AC226033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4EBBC2-09EC-488F-8707-0AEF0A24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26EE-AA6C-4075-A9F3-B4B4FE94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F987C9-F9A1-4C4A-B581-8B2648BD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280E34-0D86-484A-8C50-273252EE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BEF207-8281-400E-8621-DFCFC842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FE80C0-897C-4D88-A7BE-6F17E46A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8D7731-8FAB-4997-BF9B-46697D9D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2E8B86-FFCD-4F19-927B-673AFA05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953FD9-A773-42A3-A840-C4E6E088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52DCBF-D407-4D45-9B7F-D73E575C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8169A5-07F4-470B-9AD5-4F78C244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BD8B8C-FD70-4E48-9754-8B7E6A5D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AB50-E896-4795-B4E4-47A23A8B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A1F3E1-4B32-419B-BFE5-BB5A0474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8361EA-F60B-4D17-91CF-C29C7623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3FED02-C47E-48AA-8508-4E088E39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426CF4-CBDC-4DE7-99F4-31228CFA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366FCC-FC35-4C4D-A1FA-EB2802A0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B853EE-8BA5-4D77-8C04-1C0D8435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6C054C-2A75-4E1F-81E3-4CC1DE35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D82189-2537-43BD-8718-BFDADE74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4E0576-2681-4570-844F-9A2807FC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AB07BB-C055-4FFA-BFCE-EAD82B99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91AD-7338-4FD5-B54A-F2ABAF2D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8C5502-5C7E-4E5F-8C3F-D4E0AFA8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7EE648-EFC1-42EA-8890-548895E8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0142AE-9AA6-4F81-9535-F9C4543D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BD81CF-0FA2-495C-814F-25846D42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18D720-715E-4770-B44C-CA6DDC73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0F095A-CFCC-4F76-B9BD-2C09A96F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9EDCA2-124B-435B-876A-52BA93F8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1ADC6C-1246-4A3F-90E9-A17D7CC5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603399-BE12-4494-80D8-69AA43C6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98F0AC-158A-46A9-B1B4-789B25F5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4FEF-96F6-4F5A-A1F0-A425F92B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7CFE39-CEF0-4D06-9EFE-9DB6C7A6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56EAAB-8AE5-4FD6-9E76-6066DD58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BDF61F-DD46-49A6-A84A-741DFA25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BDB48E-49E4-4FC6-B549-55C78E6A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1C0E6B-679F-4C1E-BFC5-A9B490F3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4F725F-5265-4906-9B41-952309D8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529CAA-5F60-42C8-B5C0-85654141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1F1746-85F2-44C1-88B4-A667AEE2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40B8D5-1E46-4B22-AE1D-0A50CCE1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C6E73B-B3FD-4531-8786-4998A0CD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3C61-416C-431C-B763-4710CE91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0800-5910-4FE6-B3B9-7BFB504E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8DEBA2-CC5C-4F47-8EB4-F25F0A5D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720EF4-8B8C-4FD0-9910-996A1E7C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C0D8EF-089C-47A3-85BC-FC2C54F0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F6CB6B-A787-4F1A-9A80-251FCE39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13F294-2914-4A43-AB6A-64EE6ED2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5D8D62-73B1-49EF-AC9F-9AD1BBE4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C3415F-18C3-4870-8F97-D7195134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971991-92A9-43CF-AA5E-0EBE661B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98EF75-63F3-41CA-92C3-2BAE1F7C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96A3BF-90B7-4E61-8661-1521625F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FBCE-23B1-4747-A6C9-FA79BC5D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DBADE6-6E48-45B2-AC90-EAD6A966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80644F-65C1-4176-A975-219E03A2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1D2891-2232-4FC6-95F8-88CFF486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F385EB-F5A6-4A53-9CB2-AA439E02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3308CA-20FB-4769-A658-7D64D967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A2E293-B135-428A-B496-26653E9F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73E3D1-0C9F-4409-A025-B6663216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5EF25C-3A87-43CB-A247-830A7C79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DDAC59-AF21-4C3B-9CFA-B73EB051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FAEFAD-FF67-41CF-9F51-F0CDF6FE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B4F7-6580-4C45-BDD2-A0F483D9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EA4D9C-1324-464F-B9B7-BA51B5F2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FC98BD-4990-44D1-8F4F-B8E3F049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442FED-A3F7-497D-B70F-60AE8CC9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4EB43B-16EE-4CE0-8868-A398C7DF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2D84E5-3673-4200-A6B1-A5D78596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A7DBC1-7DAE-4813-B869-8913CD7A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CEF2A8-BBB3-4E8B-A7DC-91F86F18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55911D-D160-4470-82FF-4CB5DE9E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99D4CA-4846-4E8F-B83D-B4EA4E4E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A10B7F-9E84-4912-97D9-02B79F31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CE41-003C-4E5E-A2C1-97EF10C2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E51D74-24F0-4E1C-A08C-A054B6BD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366BEA-0404-4A59-A865-4FBEF797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81480F-718F-4FC0-97D3-B7BFFAAF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CE0AB9-125B-4CC3-8773-3E58B513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83CB13-F795-4A38-84CF-30481DFE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8DD940-03A9-4128-A915-2F03B7B7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AFDFE1-3B5C-4079-90ED-6D92D64E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6B24A5-0EA6-4FFF-A369-D4E4572B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3C7396-31DD-4021-95AB-75C6066F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A5E120-A69E-4AE9-9DC5-A3A270C6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BEF5-3157-44F2-8419-C3060FBC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A790A1-48B8-489A-A1AE-59BE371C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3F5832-A487-4894-B5C1-C090079D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A8DF6C-FB63-4D8E-A685-FEF94F68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7A4533-6840-4983-BB01-F9852419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80F6CA-D9C8-43A6-892F-7184015C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D6059A-EC9E-4D7D-8687-742E8A16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94384D-27DA-4561-BCA1-A5D1805E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024357-79D9-4E66-817F-46AF423D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D221C8-EE9A-4CD0-BB13-AE921F75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F4B339-335E-49C6-9CD0-E6F68FF6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93927-7BCA-40B5-80D8-55FD492E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FE1C78-D673-49B5-A1AE-E6D6FB60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C313DA-5FC3-4068-BB4F-2FB6793B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37CF05-CC03-4FA0-B0C0-9FE5EA45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325709-FF20-43FD-BFC9-6DF38333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FC2AF2-D223-44DA-BC0D-453D17C7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C27F42-DFDC-4555-A55B-B3784AD7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5272BB-0F3E-41A9-9B34-7F43308C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CB4618-44E6-44B7-9224-8C0EDB3D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D4A2E6-2F39-4B64-8B53-FECAB8E3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7D3B15-5863-446B-90B1-B8CEDBF6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05218-CCE6-494C-9593-AB4258CC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27EC2D-0E02-4EC0-B368-00FC4305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E652C8-356D-4495-AF20-7B8BACCA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23109A-8EB3-4212-AD5B-0C414E95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838A1A-D5CD-4AED-A697-37401485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84226E-DE25-4B80-B96E-E80CCD08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6588AB-8C3A-439D-9800-F76CB133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9DB5BA-E09F-471D-ACE1-259E5717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7145EC-C194-4617-B953-90376A02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F7B70B-6795-446A-BA63-1704C6E8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F87C34-9DEE-4AE2-9226-85A9B955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A06A9-F272-4EEE-B601-4039C520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E8179D-6DB5-417E-AF50-AEDA163E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83775F-70DA-433D-B7ED-9C34554C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6F6CCB-673F-4F20-A138-4D71495A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FB5DBC-5CD8-4413-B682-BA2C15BB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662070-1A03-447A-B9F6-75A731C3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611C31-6263-402C-88B9-D7108A5F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64C511-EBAC-48F4-B5A2-DC2C3D37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149CC2-B293-4F71-B1D2-7133118E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F3A0C7-5EFC-4E29-A271-7F7152FC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3F4C9C-DD8A-41A8-B39A-A03C38D9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9871C-B8CA-4D12-A884-6276332B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528579-DBFF-4798-AA45-923C1F72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A0D257-100F-4EE1-93A0-E5DAF3A6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16581A-8D08-452A-91AB-00E4C15C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9148F5-8091-42F4-9317-163AD8D6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80FFA7-68E9-45E0-ABE2-DC0C3FB3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7653FD-A2F6-4665-A31F-840D2F10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569F01-8F50-4FF0-B28A-DF3BCE3C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481461-6C86-44DA-8F8A-4137CD25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965FB4-E223-4FE0-B1E3-28BCC391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ECCE54-CE79-4C1F-BD1B-445C58DB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32BCC-35FD-42EA-8D9F-3F5152A8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2F720A-292B-4494-B291-E07BB2C9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5C6907-D386-4329-BE7C-7C595FA7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BA159A-6E3C-40B5-B188-8C40948D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B88545-801A-4A5B-8F26-D929F69B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067766-41BC-473A-B5F3-B0E514A9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1EEBA4-E58E-4193-B3CB-76B7401C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1B99AC-83E5-4AA8-8069-FACE5F51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AF35823-620D-4DA4-B1EB-5CDA2F2D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3D7650-8816-40A4-B005-0E784437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286BE0-AEAA-4E67-8227-570A546F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53E-2763-407A-B14F-8B6ACBFD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C7EAE-4670-4848-AADD-3AE72A9E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470D23-818A-4A3A-BD94-07418C62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BFFEA8-72AE-42B5-A305-988BBC7B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C14B62-AD29-49B0-BE2E-4ADE5E5B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95A481-DD09-434B-BD46-D8FFFA8C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193EDE-4F30-4EFD-AAD7-668610A3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7999D1-DA24-43D7-B8E2-EC0B5272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E23BFC-8A95-432C-9DAF-2EFA0957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2779BB-89C6-42D2-A4E9-1ABCCD7A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0667C1-E480-45AC-9588-A02BB9EA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DD589C-050E-48C5-8651-98BEC63C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38059-D0E4-4212-AE89-0BA474DC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FC18E9-4D77-4C74-AAEC-9E3397F9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FD2B96-E522-44FE-9A7F-A0616856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0DEE80-47F9-442F-9E86-8853BEDD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CB49161-00FE-4A7A-B995-D064CAA2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2B0B291-5E97-4318-B698-DAC00398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BFD39E8-7D9B-4A22-93ED-8E99FBC5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B947A53-FC12-437E-A3D5-285F9E70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0072F4B-5DF8-469B-ADB6-C3925CA4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9A394D1-F749-4CC6-9C94-5C3C8E8B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0A28A5F-C1AE-4C95-99CE-1515289A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39AB4-5FB7-4710-ADB6-EB4B4C23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E7C9564-B706-4950-9697-602B3CC0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23EDEC9-7AD9-42DE-AB09-73CA7E1F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86B691A-E84B-40F9-9F57-9DE1CEBD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A178012-B0C9-4407-BCA6-8FA90FD7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6CC6F8F-2DDE-4081-930A-EA15F9D5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9FF924-CB6E-406F-82CF-D8D5290E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F1AF97-E994-4BFC-BA7C-68CA8759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1C1FE6-4819-443A-8959-D113500B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334C3E-57BD-44D2-BFDD-FFE0F511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73FBFC-57B3-4C6D-A81B-21D57921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A2909-1D45-4443-BCF2-52B75767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1E97C3-6A61-4AA6-B08B-25FB7F2D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71DC02-3032-40A7-A58F-8365A3F8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2ABAAE-6DCA-4DD3-9D9D-52F7422F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3824E3-4B80-4442-9ED3-D12E2B13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595052-A594-47D4-A4B9-872B5107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0825FE-B83D-4001-9602-2B20FAFD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6C1CEA-7F9F-4DA4-B9CC-36F58836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544635-1AA3-400A-874E-B3A073D6C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17C971-FFCA-4AA6-BBF2-3BCB5A00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8EE4AC-8508-46A9-96E8-7FAC6FC7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CF262-4CF8-4E88-AA7D-A8BD8109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8A66B6-AD30-446F-994C-CDCC3AE2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388C35-66E1-4B22-BA65-834D5293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D043EB-03C5-4914-940A-08793EDB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B1F751-7C7B-4956-9E8B-78F521BE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699A0B-4666-4827-9B59-F90C670A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ECCE68C-4F71-4A8B-8628-F0CA4A15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9B130C-A6FF-4110-95B6-F4D22A83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799C90-A939-4C2C-8B3A-19CC87E4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679AD1-51EC-4C1F-873F-8397FA7B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84306F-AB0A-445A-8E0F-9FF2D1EA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D62FA-1AAB-4A0F-BC5C-3FABECD3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7F8CB5-DF51-45B5-8153-73BD91EE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7FEC82-4F19-4902-8F0D-BDC80088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65F83A-4337-4179-9FE5-ECD1ED65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4C6FC2-06FA-424D-AC93-287553F8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C69D85-0554-4988-BCF4-633D5995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B5A435-4E6C-4943-A3D2-F4A09852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FCCF82-DB8E-4D22-9E9C-E0902E25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7A9412-B897-4FAB-965A-390F167A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BCF166-88A3-401B-802C-F00ACD91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F8BF4C-7311-461C-B448-75361AF3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01F7D-1A3F-4495-B57B-BC481AA4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31C640-533E-49E8-9264-BD627E72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3D0F4C-0213-4F2A-BA4C-FAD0EA0F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1B2260-A5C6-48A5-9BA1-E253050B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A1E549-F7F2-45A6-AD80-358D02E3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8322F0-C255-45E0-BCB7-D6A28D0C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631754-882E-4B29-82D6-3EA3EE85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C6D48F-2B77-440F-96B1-D444FC5E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C9D8A1C-41C3-4543-AC15-C2760FC6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BC1043A-F2ED-4337-ADA5-E29F785C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39D19B0-7927-4F29-943D-00250FD7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1C869-858E-4E6E-BEC0-3B5072D8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B21621-36B2-4D63-805C-E09E68B6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81A228-3AC8-41CB-B80A-78A8827F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1A533C-CBC5-4847-B95D-0A131CD7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E99E83D-80B6-484B-8975-776DF63C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B789CD-1946-4921-94C8-305A50B7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23DB9CE-B7D7-4A87-B77F-EA79AD8B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0AC27F-B232-48A0-A29B-1C1D14C1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22CA5CA-B4D8-41ED-AFA4-743C9024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9B8DE1-6686-4E9A-9DFD-C9293422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9889C5F-6863-4E59-AEEE-FCC5E55C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1FE40-1CDA-4E52-B737-53451CB8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FFF48E-1D02-4D8B-8498-629BE4FA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89A6EC-4F2B-4FB3-9C2D-FA150D67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3ADC6C-636B-4A15-8712-C4505C3B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CC9640-8444-4ADC-A073-264D84AE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E45C61B-B178-49C7-88D9-A8890C65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246D55-789F-4066-A314-22F7C55A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7FF9294-F989-4BE8-B76A-D1BB13E9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A81B75-5508-4EF2-AA08-AD66F47B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024B702-543A-4795-8D0A-FB28CC9D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C2E42B6-B2D5-4087-8268-2A906F95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E5EC7-7075-4ABF-8B66-398BAF8F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1449C8-7313-4914-9F29-E69F4C6E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C48D563-92EC-4140-A8C5-82E967C0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6F42E2C-C6A0-45B3-A43C-52E74775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84B05EC-FBF7-44CD-A08D-138FF782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22AEFD4-E0A8-4BDD-94EB-4A3926B1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2835B61-B22B-44F6-8FAD-3ACD02CA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D5332E5-44FE-4774-95C1-24640844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DB666F3-9F10-4617-90C6-D0FE4CAE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A81ABED-3A02-4C3F-B0E9-F06708E3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A214979-5227-4715-B09B-D890F63B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4F0E-DDDB-4F6B-A50E-5DC45B76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8AD78-C150-4344-8868-E2435396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ECC0D8C-ABB1-45F9-A325-60038C97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75A3046-5217-4A4A-83B7-5E9A7307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16A4D14-5C6A-4579-A6C3-C9429C51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AE60534-2DBB-40A2-B400-7119A4D3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6F6A515-329E-45AD-9334-31BD6129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FAA2298-B206-45D1-8034-8B7A56E6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ABE2F6F-FFB8-4588-96DD-0BA3D57B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D12150F-6A8E-4BE6-AD4F-FD343136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A32879D-E78A-4166-92BF-8CBECBE9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6AB82F2-A616-42DE-8791-B75ACF79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95E0B-A8F0-40E8-9779-982782DD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1A34F5F-90F2-4DB4-BD38-F4DB5979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A5D0237-9749-4091-9BEC-340E4B84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B3843EC-7D52-4BAF-9CFE-14E4F4C9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B010FF-4048-40C5-835D-B68AC60C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07E4690-67C3-430D-8F45-555ACEE0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73716D4-3716-47A1-B161-0897D621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DD3C9D5-7CA9-4C48-B90D-29EA7C68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2B08136-C394-4AD0-B567-75A99FDE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0D077D7-3C86-4273-814C-60BE1760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51CE602-E866-4883-8953-53339009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6BA5E-E9F5-446A-AA5A-0D37D76F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73DE1D5-E424-4931-9FB6-01F93EAB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610EBF0-765E-4A5E-BFD1-D44040AE7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50FEF3D-547C-4725-A480-2B8E79E1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FDEF43F-27DC-4A57-B145-240E1199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C557B07-409A-4C31-B3F9-E2AE3864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8DC8BF-6EF7-4052-BEC2-4C6F9F40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095F5D-7756-4228-B6D4-86B7D596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21D521B-0977-4B78-98B4-C3196BB8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A5B366A-1D96-4869-9E17-1F6301E2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6AEADF7-EC86-4560-B32E-7017CF34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FDEA2-EAFB-427E-A210-6753095F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DD815C-5727-460A-8C38-67F7BAD6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8C656DA-D4F2-41CE-A5DD-6AB12196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0637A43-88BD-4FB7-8617-6B37627CD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0AE97C3-51AC-4944-9235-9D9B1287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2B5B56F-82CB-4AD6-8761-846128C6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EBEEAB5-89DD-414F-9094-03F078EB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A7BF51D-3954-464D-9536-0A9302C4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6EF2A0F-005C-460F-8142-05E91240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4FEF4BD-D907-42AC-87A5-28C59612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B41778D-AFB4-44D3-9205-0D7E024D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A7FCB-86F3-4E47-B696-EF1D38B1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16CEBFC-5425-401F-B9BF-8B14DA0D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E8C1C73-54CF-4DE4-ABB8-378D75E1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7C4A082-8644-4D63-9E35-42D2A313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6B98417-A479-4CC0-A1DB-ACC999DB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404A121-6DD8-46FF-95CC-34F8BC86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6043A-B052-464E-BB15-DD36CFE5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83401-21FC-48AB-B739-4BC53258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879431F-56FF-4DF9-B964-E79DA9FF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871B2-25D9-41AF-8169-02F5EF43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8C7BBB3-0CD8-40C5-87B0-EBC92D2D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32E2395-0A2C-4C6F-B339-88F91275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E5E5072-46D0-4BFE-88FE-67305141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A9A981E-A3C7-485E-B910-A9F9D81B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C494B2DC-8830-4999-B459-D4EE8C5F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19787E2-69CA-4137-9B49-D0124B6C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9FE3CC3-61EE-47E7-B52B-A3337244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EFFFA81-7D32-41A1-A9CB-685C6EDF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E439724-1A22-417A-9579-681D4E4D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DFE7075-B7F5-4CBE-845F-0D9A00F3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CE144-0EEA-44A2-B6F0-8DF1EE95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DFE5E39-2019-474A-A840-03C23FE5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D3DEF99-0D7E-435F-BC69-A7DEC173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577C199-DBBA-4F91-87B0-A823C62F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3D4AE1A-77B5-4722-81A4-ECDCE0E9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6040E14-FD72-488C-90E2-52312854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5DA1943-EEB6-4E12-9AC8-31A812C1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3886D95-EBAB-4265-BC66-70EDB76E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D2BA401-D727-4BCA-8F0C-C28DBBC3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AB85016-DC54-43FC-A36F-E7015DD0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1807170-AA54-4FB8-AC10-65C95594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18857-9A96-4B2A-AAD8-AEF092D9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E33C08E-0316-4B7A-9452-A7EB039A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7CDD108-46D1-4F3C-978A-2566EED7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8937E58-0E49-4608-9FB9-175C27D2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56AE25A-4B43-4663-8AC5-530BD819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9F83F07-7AA3-40E9-A3B4-0F4D589B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7302F3C-C907-4F8F-BD5D-DFA7F4F5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F44749C-0CB8-4E0C-A822-625CADDD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152BB4F-757A-4100-9578-2F36C6C7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25F0D13-FDBC-4B52-B29E-76B7EB48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39896BB-C4B6-48C7-8B37-D3AE2BA6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87A-482A-4E05-A1FC-5D7E4E00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85755-031D-4FC8-993A-3FEBDA62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C25128D-1F51-41BE-9A6E-DEE4FD8B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A8B7D77-4D88-4CDC-B5B1-8F53BC52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2B68E1C-EE3F-4358-A08B-A5B2A27F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2AE5F3D-DD63-41ED-87E1-B5FB3069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5E2158A-862F-4613-99A6-5059614E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C915AD6-EAE8-417F-AA38-C9DDE769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C03EF96-7400-4881-B9B8-856BC3F6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2E7B828-C289-4264-A555-AF067289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C12B516-3A98-4B7C-B51D-0A063AA5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54B780E-3458-4DC0-825C-D94C8412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EA2EB-96EF-448B-BCAF-73ED8CFD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3C6570D-EC4B-47E7-91F2-00F1394D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D9D5949-5278-485F-9C0A-DEBAEA8A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C37F9A5-D5BC-4293-B37D-FAD41369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3C141ED-BEC5-481F-9DE1-FB12545E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A1C161A-C180-459E-941F-65053B40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83CBF24-EB86-4823-BC42-524F23D5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C140315-EA17-41D8-9163-4259E610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19C4930-BEFC-4DF6-9993-51F1F0E7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9070A85-3A8B-48DA-BDC1-4D3C7188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0AD5FF5-6BE8-4052-8597-77BFD171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05F58-749A-4579-9F34-FE2BA698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2A64113-CC50-434A-BAE7-15B29F24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8C6A13E-2FEC-44AE-9C4C-59EAC25C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EB53939-DCA4-4058-9B78-1CBCBFAC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3C987A5-9EC3-4E4C-A479-9C3BF615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EF064E4-F927-4DBF-AE09-5E8F1F9E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A5EA800-FAB4-45EF-BDE4-DCD00F80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8A540CB-F1BB-4D6E-B35B-2BCBC916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B549FA8-5851-466E-BF1A-6821FC14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E346985-50FD-4F44-93AC-278B710F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42282FF-C0D3-4037-9D94-75721531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741DC-B4B8-4CD2-B303-560AD87D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680AE50-BA67-4043-8FED-EF97BF43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7BABEFD-8076-4B4D-96D8-32D2718D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DDAC554-E234-4297-86FD-EBCD7C35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9B046F1-D688-40C9-AEC1-B25BE085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4893B54-5986-4528-B30C-7F454CBD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56D354E-0BBE-41DB-AF12-C36A3490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A140D45-4626-4D1A-A627-D4DD2F46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7F41BBA-137B-4870-A79B-A01016A8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DD8C9D9-CC22-4AD1-B350-151CFB0F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7B51ADB-7F3F-4B51-8BDA-526AAC33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11AFB-E3C5-440E-81D1-E703C3C9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D031879-89EB-4100-8285-51EC5A09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59A6430-6CA6-457A-84E8-840D87A1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2BF5FD5-56A1-4209-BF04-6BE5D684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73CD96D-B920-47D0-89F5-C064A2DB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93201A8-67A2-4909-B181-D0D0D442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1F6DAA1-2089-4EA6-8F93-95B83C97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3148184-90D1-456A-B947-010D2775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595955A-6977-4F57-AE48-9CEECBCC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8A6DE71-9B32-4D94-834C-30E38229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EAA5AAF-5F9B-48C1-8CED-E40D5C37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1ADA9-9C93-42C8-9184-29A7E7B9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D5DA290-A181-47E7-B844-E2373678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113F716-492B-4697-AB61-4884E511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35C2ADA-01B9-4EAA-87E1-06D3E56C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FC4E832-7E47-4197-93D7-DBF4EA74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0CE0844-6AD1-464E-9BD2-1BAF041C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D189C13-46D5-43D1-938D-B4B48544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563A726-C773-460B-8520-714AAFA1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E3B12DB-3E09-4465-A0F5-5120E518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5288510-D3FB-44B5-A5C1-17EBA363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216DEED-991C-43B8-A9B1-3690FF54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231D0-6FA8-492F-A10E-9329CB53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4BBF727-DC37-4718-928E-BE9AFF91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783D47A-9998-443A-82B7-160FC0C2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97C0545-286D-4945-82F4-D364D92F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9A434B7-554D-484C-A2E8-89544DC9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B32001B-B1C2-4857-9689-529048A2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4EE3AD5-4AE4-465E-8312-9D7B031E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543CE37-5CA6-41F0-A3C6-DFCD4E3B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5C31993-1B42-4A50-9F6E-EC3EB321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3598CB6-6725-4452-82C5-202D031F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3522C03-3AEA-49BC-8D05-A7A35734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584D7-2B7D-4ECB-A4C7-FDF656F7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A5E3DB3-D12E-4E87-8656-D9C79DED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13DD6A3-D3EE-4F73-94B5-A96D85C1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9F1F704-D177-4BC7-AFFC-6BBBB767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072E696-AFE4-442F-9ED8-4592181C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3E472D3-3CDD-4281-A633-53B00047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80F40CE-BC15-446A-9846-DC792985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02CF8C6-D834-4CBE-8B61-BEDEF7E6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7E0F318-070F-4C6B-B1B8-CF5FFEBE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901F1E6-4B5D-43FC-85B7-461B04E2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4427EEE-0F1E-480C-81D1-9CF62D40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BA6C0-7D1D-4AB5-BE80-4B4C1444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570161D-973B-49B9-975E-7A28117D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8A27554-D2B8-4242-AD0A-0DDF8F59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570933A-8B0C-4896-8C5E-77884126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CD5B428-24F6-4DBC-ABBF-F8F31810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79A7013-07E6-4ABE-9839-1CA949D7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4954557-32EF-46E8-8EDC-4A5DD274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4467E59-6B8C-40AB-B50C-472786C6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235FADD-30B7-4E87-832B-C1FBE250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BD1178D-54D2-4B94-8A76-0174FA21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2735D65-8456-45CC-9AF4-6F68E2A7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AB99C-2F4E-466A-8C23-12B7678E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DC37E54-FDD2-4728-B086-D2BA81D0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CC13C64-E00A-4218-BC2E-4812368A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CEEC741-9C42-4A08-871C-B1AB278F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8D7F5E0-7D35-4C34-8441-DD52633F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4FE066B-5FDA-4FBD-90B8-5A22A352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C7A5B67-45EE-47A3-B84A-4B59E4A9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5D79F5D-DB7B-4ABD-A47C-528C3C30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94226EC-F993-46C2-B50D-AC541A57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CE27DD2-9D4D-400B-B869-30729429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6033DE6-7D71-4214-B7EC-4E6851E5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7306-63FA-49F6-A9B1-9C8A939E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50661-0C20-42A5-9630-D4B653D62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D09DA19-33B4-457E-99A5-54ACD44E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D9DAF-6CD8-4DC5-8D03-2EB3C28A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6EB36-9CA8-431C-A49D-514BAEF2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26F29-C465-4C0F-AB65-D230DD8A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10774-B447-4794-9FF5-1940089E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53E1E-5208-4116-841B-E1F12D4D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AD8D4-554F-49F0-99FB-B5F26FE8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A84DC-7594-4E7E-84E6-31985B7B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8754B-B33B-4547-84CB-6B840F31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48D5D-625D-4EEF-AAAF-8A870E35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328-EACC-40A3-9B8E-191753CC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89CE5-85F6-4A04-B3F9-6D00941D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442C4-9E0F-4461-8E26-D894480E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87FAE-890F-480F-B67D-6C357FA4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97DA4-2BD3-4DDD-89E5-93992037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E178E-F29F-4835-AD7A-D3A4BBC8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1EFE4-6514-4E16-ADAD-4FC205AA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A8997-C8F5-4ED8-8667-2BE94938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A744C-D44D-498A-AB10-21766107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543AE-D637-4B83-9B21-BD73A795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05B8F-12B8-4BBC-8398-DDA69EFC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45B-C998-4B64-8B86-1055332C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8C1E4-5D52-47E4-ACA4-53B4FCC0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D9F6D-FA67-41B5-A8AD-9282ABF5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76DCF-18A9-44B6-B902-066B560F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B1D15-CD6B-4C64-9352-2593E9E4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FA5CA-95CD-485C-A50B-049D6F90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31AD6-BBB4-4D77-9697-38E712D1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C6798-52C8-40F0-B94A-513793AC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FDB91-A05B-4A4E-BEF1-892B0FBC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CFDE6-39F3-49ED-9446-55284F7E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38991-0FB2-46D1-B315-9162CEE1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9835-F8D2-48D9-AF32-3D082DF1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9CD67-495C-4CA3-AA33-502398BA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D1004-E66A-4289-92D1-C55EF801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02D8A-E598-423F-8B95-2472B538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9A70A-337F-427B-AA02-1E38A32A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70E95-303D-436F-AFDF-0E6B1C85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072DB-DBE4-4074-9672-D7CD851F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F1451-2F98-42A0-BD01-55714EBE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26563-5B54-4D5D-8900-9276094D8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CBC43-429A-405B-B81A-8E598F46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1C46B-62A7-4633-91ED-669E3596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" name="Freeform 7"/>
          <p:cNvGrpSpPr/>
          <p:nvPr/>
        </p:nvGrpSpPr>
        <p:grpSpPr>
          <a:xfrm>
            <a:off x="4376880" y="-6480"/>
            <a:ext cx="4773600" cy="609840"/>
            <a:chOff x="4376880" y="-6480"/>
            <a:chExt cx="4773600" cy="609840"/>
          </a:xfrm>
        </p:grpSpPr>
        <p:pic>
          <p:nvPicPr>
            <p:cNvPr id="2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6480"/>
              <a:ext cx="477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381560" y="-1440"/>
              <a:ext cx="4762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5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8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A618-526B-4836-9C58-6D5EFB646834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B01A-9FAE-485C-8D65-D9A4BB54D5E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46" name="Freeform 7"/>
          <p:cNvGrpSpPr/>
          <p:nvPr/>
        </p:nvGrpSpPr>
        <p:grpSpPr>
          <a:xfrm>
            <a:off x="4376880" y="-6480"/>
            <a:ext cx="4773600" cy="609840"/>
            <a:chOff x="4376880" y="-6480"/>
            <a:chExt cx="4773600" cy="609840"/>
          </a:xfrm>
        </p:grpSpPr>
        <p:pic>
          <p:nvPicPr>
            <p:cNvPr id="447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6480"/>
              <a:ext cx="477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4381560" y="-1440"/>
              <a:ext cx="4762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49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450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451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453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454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7D2C-9DB3-4915-816D-B908478B0A17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9E6E-2C5A-4BF1-8246-35E5DC461DB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98" name="Freeform 7"/>
          <p:cNvGrpSpPr/>
          <p:nvPr/>
        </p:nvGrpSpPr>
        <p:grpSpPr>
          <a:xfrm>
            <a:off x="4376880" y="-6480"/>
            <a:ext cx="4773600" cy="609840"/>
            <a:chOff x="4376880" y="-6480"/>
            <a:chExt cx="4773600" cy="609840"/>
          </a:xfrm>
        </p:grpSpPr>
        <p:pic>
          <p:nvPicPr>
            <p:cNvPr id="499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6480"/>
              <a:ext cx="477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4381560" y="-1440"/>
              <a:ext cx="4762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01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502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503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505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506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1866-96DD-4D8D-97AC-4F34457B1C62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0994-A59B-4AE0-AE0C-0F2734B931D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50" name="Freeform 7"/>
          <p:cNvGrpSpPr/>
          <p:nvPr/>
        </p:nvGrpSpPr>
        <p:grpSpPr>
          <a:xfrm>
            <a:off x="4376880" y="-6480"/>
            <a:ext cx="4773600" cy="609840"/>
            <a:chOff x="4376880" y="-6480"/>
            <a:chExt cx="4773600" cy="609840"/>
          </a:xfrm>
        </p:grpSpPr>
        <p:pic>
          <p:nvPicPr>
            <p:cNvPr id="551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6480"/>
              <a:ext cx="477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4381560" y="-1440"/>
              <a:ext cx="4762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553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554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555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6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557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558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4AFAC-A6EB-454A-BEB7-F7D39D235B9A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6735-EAD9-4E8B-8EDF-10D8AAE630F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02" name="Freeform 7"/>
          <p:cNvGrpSpPr/>
          <p:nvPr/>
        </p:nvGrpSpPr>
        <p:grpSpPr>
          <a:xfrm>
            <a:off x="4376880" y="-6480"/>
            <a:ext cx="4773600" cy="609840"/>
            <a:chOff x="4376880" y="-6480"/>
            <a:chExt cx="4773600" cy="609840"/>
          </a:xfrm>
        </p:grpSpPr>
        <p:pic>
          <p:nvPicPr>
            <p:cNvPr id="603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6480"/>
              <a:ext cx="477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4381560" y="-1440"/>
              <a:ext cx="4762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05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606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6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609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6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1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1395-591C-489F-A7A5-2504457ECA72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DE73-5354-4232-91A4-F1BA9E68EB0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54" name="Freeform 7"/>
          <p:cNvGrpSpPr/>
          <p:nvPr/>
        </p:nvGrpSpPr>
        <p:grpSpPr>
          <a:xfrm>
            <a:off x="4376880" y="-6480"/>
            <a:ext cx="4773600" cy="609840"/>
            <a:chOff x="4376880" y="-6480"/>
            <a:chExt cx="4773600" cy="609840"/>
          </a:xfrm>
        </p:grpSpPr>
        <p:pic>
          <p:nvPicPr>
            <p:cNvPr id="655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6480"/>
              <a:ext cx="477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4381560" y="-1440"/>
              <a:ext cx="4762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57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658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659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661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662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5DC3-5290-4386-BB1B-8161BC11137A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50ED-112D-490B-A970-6BA8886889B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06" name="Freeform 7"/>
          <p:cNvGrpSpPr/>
          <p:nvPr/>
        </p:nvGrpSpPr>
        <p:grpSpPr>
          <a:xfrm>
            <a:off x="4376880" y="-6480"/>
            <a:ext cx="4773600" cy="609840"/>
            <a:chOff x="4376880" y="-6480"/>
            <a:chExt cx="4773600" cy="609840"/>
          </a:xfrm>
        </p:grpSpPr>
        <p:pic>
          <p:nvPicPr>
            <p:cNvPr id="707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6480"/>
              <a:ext cx="477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4381560" y="-1440"/>
              <a:ext cx="4762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709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710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711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2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713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714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D9C6-6638-47B2-B114-C6B0BC07B436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B92B-8BE6-4B04-99E8-2A40BE5DBB8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8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9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60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761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6619-2825-4AFC-A5FF-177A24B5D601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CC7F-37B1-4D82-AD01-655C9C8A51D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5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6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07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808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D12D-21C0-45F5-A990-228D4C748093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DFCD-B5DF-428A-B361-6D7E6783FCF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3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54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855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EA4B-001D-48B0-B4FA-FB7B63F3F0CD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5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AFDF-E130-405A-AEEF-B2D72DC53E2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0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01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902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50F9-130A-45A6-9334-5E51A2C2B34E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07CA-DF21-49E5-966D-B4D92C30AC0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5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56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EFCB-F2F4-4003-B3E7-423CDC59C94C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D1AC-2763-4395-8A32-6967EBD87CA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7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48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949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FBE9-F646-4BC5-A5F5-4EF7F2DBA44F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6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CD89-9307-4609-83AD-55E68712294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4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95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996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A524-F5E7-403E-B625-B2DE522D384C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sldNum" idx="6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A52C-83CA-42F2-86FE-DBA0ABD14FD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1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42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043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4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2977-A285-43C9-96FB-3D8541777075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 type="sldNum" idx="6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742D-9B76-4744-A022-BCF52CFD45F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7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8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89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090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1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A7DB-02CA-440C-AC64-8CBEF8F5B9D1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 type="sldNum" idx="6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8B9A-45F5-42CD-98B3-5F63F9A4E2F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5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36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137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F9EE-A244-40AC-9DC5-1522C68A1B31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 type="sldNum" idx="7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A8DF-44B1-49C0-95FA-1249270CA8E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2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83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184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5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66C8-43FD-49B0-987A-3D3BBCDCA3AB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7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251C-98D0-49AF-9AB8-093776DD8C3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8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9" name="Freeform 15"/>
          <p:cNvSpPr/>
          <p:nvPr/>
        </p:nvSpPr>
        <p:spPr>
          <a:xfrm flipV="1">
            <a:off x="-2880" y="5815440"/>
            <a:ext cx="9156600" cy="104148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30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231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2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5859-EE6A-4538-8385-23E32D31F7C8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7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7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43DA-7579-4028-B9DF-F9C8023BB45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 type="dt" idx="7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7C72-B4FF-4969-BCAD-3AD42DA02655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 type="sldNum" idx="8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2DB5-95EC-4F03-96E1-F41228A06458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 type="ftr" idx="8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 type="dt" idx="8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74E1-4418-45E4-A51B-C9FC4124547B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 type="ftr" idx="8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 type="sldNum" idx="8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EFC8-0C4A-4ED7-AC94-BE60A06140E7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2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3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4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 type="dt" idx="8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5E12-33F9-42E5-B88C-78D11C48B4A3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 type="ftr" idx="8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 type="sldNum" idx="8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C122-01A8-4A81-8D3C-22826F8D5B68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0803-2ADB-4586-A760-6C377948ECCA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8497-3545-4CE8-9581-C81FE0B53CA7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 type="dt" idx="8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9E53-2825-4E59-A9C8-11CAE07D703E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 type="ftr" idx="8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5"/>
          <p:cNvSpPr>
            <a:spLocks noGrp="1"/>
          </p:cNvSpPr>
          <p:nvPr>
            <p:ph type="sldNum" idx="9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FBAA-0F89-4EE5-84BA-173D0BA9E3C3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9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F684-31EE-4708-8850-65B39C243E5D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9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9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4DB0-9F5D-4C9C-8AD1-C20BA76742D8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 type="dt" idx="9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D0D8-F6F9-4531-BC2E-AE5E02F076DC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 type="ftr" idx="9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5"/>
          <p:cNvSpPr>
            <a:spLocks noGrp="1"/>
          </p:cNvSpPr>
          <p:nvPr>
            <p:ph type="sldNum" idx="9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3EC1-F189-45D6-8702-E49425ADC426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 type="dt" idx="9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1C22-6CF0-4883-AD02-61F5B9154FEE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 type="ftr" idx="9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 type="sldNum" idx="9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C915-3793-41EB-ADEE-B2039FB8E793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 type="dt" idx="10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AA32-426E-4A1E-A29A-6CE6E562E035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 type="ftr" idx="10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 type="sldNum" idx="10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2870-BD50-433B-BA32-0DD55C09A6AF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 type="dt" idx="10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C5BA-8CA9-45C4-ACFA-D862126C13F8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 type="ftr" idx="10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 type="sldNum" idx="10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3FCD-61A8-4EB7-98DD-D8677B43A177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 type="dt" idx="10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DD5E-5CF5-45E4-AD7F-942A6E443FB7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 type="ftr" idx="10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 type="sldNum" idx="10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F25D-C261-41A3-9681-15A4285AAFEA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 type="dt" idx="10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A019-1AD8-4EBF-816F-7FD250EA6E5E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 type="ftr" idx="11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 type="sldNum" idx="11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6831-21BA-44F6-A6B7-8DC158A39C9C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6C9C-25F5-4362-8172-413FDA6C7D63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F791-BB25-431C-8D08-080470E4D96E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 type="dt" idx="11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9F52-F598-42C7-8386-EEF0F0520596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 type="sldNum" idx="11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6514-30A4-4298-943E-029DD3621354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 type="ftr" idx="11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 type="dt" idx="11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CEBC-0470-4A20-809E-57865FB3AF00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 type="ftr" idx="11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 type="sldNum" idx="11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6FA0-A403-4F43-BD5D-AA677EF07797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8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9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0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 type="dt" idx="11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564C-C5A1-4921-89E5-9901279990CF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 type="ftr" idx="11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 type="sldNum" idx="12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9290-ABB6-435A-BE88-BBFDF3740A66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dt" idx="12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72AF-B78C-40E9-98B9-AE3923A160CB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 type="ftr" idx="12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 type="sldNum" idx="12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77C3-A05A-4DBA-A71D-AC4FD7920418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 type="dt" idx="12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4F69-9068-470C-84B2-4657FE56B260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 type="ftr" idx="12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5"/>
          <p:cNvSpPr>
            <a:spLocks noGrp="1"/>
          </p:cNvSpPr>
          <p:nvPr>
            <p:ph type="sldNum" idx="12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DCA6-043A-4861-AA54-FBF05BED4E3A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2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861B-2A5C-4218-86E5-2031B3D47F68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2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2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7A26-303B-4946-B7D2-39CF96637EB1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 type="dt" idx="13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1BFB-C1CB-48D0-A6B5-CE49F961008D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 type="ftr" idx="13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PlaceHolder 5"/>
          <p:cNvSpPr>
            <a:spLocks noGrp="1"/>
          </p:cNvSpPr>
          <p:nvPr>
            <p:ph type="sldNum" idx="13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C845-4B3F-4A0F-B6BE-10014280A97D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 type="dt" idx="13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C1EF-EBA2-4FDE-9F84-6CD9A7CBF96A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 type="ftr" idx="13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PlaceHolder 5"/>
          <p:cNvSpPr>
            <a:spLocks noGrp="1"/>
          </p:cNvSpPr>
          <p:nvPr>
            <p:ph type="sldNum" idx="13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ACA4-7F58-47E8-A69B-46872011782C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 type="dt" idx="13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5642-2DF1-4508-80A9-6559A53CDB39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 type="ftr" idx="13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5"/>
          <p:cNvSpPr>
            <a:spLocks noGrp="1"/>
          </p:cNvSpPr>
          <p:nvPr>
            <p:ph type="sldNum" idx="13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59AE-76B9-4F4C-81D4-2F22F8E51514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 type="dt" idx="13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D90D-9C6B-47AD-BEED-60C4BFE638BA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 type="ftr" idx="14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 type="sldNum" idx="14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F05F-CF08-4E6D-9F4A-941ECB176C0D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86" name="Freeform 7"/>
          <p:cNvGrpSpPr/>
          <p:nvPr/>
        </p:nvGrpSpPr>
        <p:grpSpPr>
          <a:xfrm>
            <a:off x="4376880" y="-6480"/>
            <a:ext cx="4773600" cy="609840"/>
            <a:chOff x="4376880" y="-6480"/>
            <a:chExt cx="4773600" cy="609840"/>
          </a:xfrm>
        </p:grpSpPr>
        <p:pic>
          <p:nvPicPr>
            <p:cNvPr id="187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6480"/>
              <a:ext cx="477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381560" y="-1440"/>
              <a:ext cx="4762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89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190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191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93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194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0463-2CE1-4CDF-9FAE-C60E294A2766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3860-66A1-4574-AD3C-E5FFEB17B0B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 type="dt" idx="14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3AF3-172E-417E-895B-F2A58F218986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 type="ftr" idx="14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5"/>
          <p:cNvSpPr>
            <a:spLocks noGrp="1"/>
          </p:cNvSpPr>
          <p:nvPr>
            <p:ph type="sldNum" idx="14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AAFD-1613-4A23-882A-467BC70EF404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8" name="Freeform 7"/>
          <p:cNvGrpSpPr/>
          <p:nvPr/>
        </p:nvGrpSpPr>
        <p:grpSpPr>
          <a:xfrm>
            <a:off x="4376880" y="-6480"/>
            <a:ext cx="4773600" cy="609840"/>
            <a:chOff x="4376880" y="-6480"/>
            <a:chExt cx="4773600" cy="609840"/>
          </a:xfrm>
        </p:grpSpPr>
        <p:pic>
          <p:nvPicPr>
            <p:cNvPr id="239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6480"/>
              <a:ext cx="477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4381560" y="-1440"/>
              <a:ext cx="4762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41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242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243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45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246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4D3A-F5E9-4A96-A14D-2116947DE649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5D72-6F50-4785-92C2-0A4CF84FB29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90" name="Freeform 7"/>
          <p:cNvGrpSpPr/>
          <p:nvPr/>
        </p:nvGrpSpPr>
        <p:grpSpPr>
          <a:xfrm>
            <a:off x="4376880" y="-6480"/>
            <a:ext cx="4773600" cy="609840"/>
            <a:chOff x="4376880" y="-6480"/>
            <a:chExt cx="4773600" cy="609840"/>
          </a:xfrm>
        </p:grpSpPr>
        <p:pic>
          <p:nvPicPr>
            <p:cNvPr id="291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6480"/>
              <a:ext cx="477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4381560" y="-1440"/>
              <a:ext cx="4762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93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294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295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297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298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D8D0-3844-48E4-8C5B-3B572B0B29E2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8051-0851-42FE-900B-B32CC506EAB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42" name="Freeform 7"/>
          <p:cNvGrpSpPr/>
          <p:nvPr/>
        </p:nvGrpSpPr>
        <p:grpSpPr>
          <a:xfrm>
            <a:off x="4376880" y="-6480"/>
            <a:ext cx="4773600" cy="609840"/>
            <a:chOff x="4376880" y="-6480"/>
            <a:chExt cx="4773600" cy="609840"/>
          </a:xfrm>
        </p:grpSpPr>
        <p:pic>
          <p:nvPicPr>
            <p:cNvPr id="343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6480"/>
              <a:ext cx="477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4381560" y="-1440"/>
              <a:ext cx="4762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45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346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34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349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35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F05E-52DA-4B74-AAFC-62D62BA5A3E8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8086-274B-4B4F-A8BA-3B01D403BBC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Freeform 6"/>
          <p:cNvSpPr/>
          <p:nvPr/>
        </p:nvSpPr>
        <p:spPr>
          <a:xfrm>
            <a:off x="-3240" y="-1440"/>
            <a:ext cx="9156600" cy="1035000"/>
          </a:xfrm>
          <a:custGeom>
            <a:avLst/>
            <a:gdLst>
              <a:gd name="textAreaLeft" fmla="*/ 0 w 9156600"/>
              <a:gd name="textAreaRight" fmla="*/ 9156960 w 915660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94" name="Freeform 7"/>
          <p:cNvGrpSpPr/>
          <p:nvPr/>
        </p:nvGrpSpPr>
        <p:grpSpPr>
          <a:xfrm>
            <a:off x="4376880" y="-6480"/>
            <a:ext cx="4773600" cy="609840"/>
            <a:chOff x="4376880" y="-6480"/>
            <a:chExt cx="4773600" cy="609840"/>
          </a:xfrm>
        </p:grpSpPr>
        <p:pic>
          <p:nvPicPr>
            <p:cNvPr id="395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6480"/>
              <a:ext cx="477360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4381560" y="-1440"/>
              <a:ext cx="47624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397" name="Group 4"/>
          <p:cNvGrpSpPr/>
          <p:nvPr/>
        </p:nvGrpSpPr>
        <p:grpSpPr>
          <a:xfrm>
            <a:off x="-12600" y="203040"/>
            <a:ext cx="9174240" cy="648000"/>
            <a:chOff x="-12600" y="203040"/>
            <a:chExt cx="9174240" cy="648000"/>
          </a:xfrm>
        </p:grpSpPr>
        <p:grpSp>
          <p:nvGrpSpPr>
            <p:cNvPr id="398" name="Group 5"/>
            <p:cNvGrpSpPr/>
            <p:nvPr/>
          </p:nvGrpSpPr>
          <p:grpSpPr>
            <a:xfrm>
              <a:off x="-12600" y="203040"/>
              <a:ext cx="9150120" cy="648000"/>
              <a:chOff x="-12600" y="203040"/>
              <a:chExt cx="9150120" cy="648000"/>
            </a:xfrm>
          </p:grpSpPr>
          <p:pic>
            <p:nvPicPr>
              <p:cNvPr id="399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03040"/>
                <a:ext cx="91263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Text Box 7"/>
              <p:cNvSpPr/>
              <p:nvPr/>
            </p:nvSpPr>
            <p:spPr>
              <a:xfrm rot="21435600">
                <a:off x="-1224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401" name="Group 8"/>
            <p:cNvGrpSpPr/>
            <p:nvPr/>
          </p:nvGrpSpPr>
          <p:grpSpPr>
            <a:xfrm>
              <a:off x="-12600" y="248040"/>
              <a:ext cx="9174240" cy="561600"/>
              <a:chOff x="-12600" y="248040"/>
              <a:chExt cx="9174240" cy="561600"/>
            </a:xfrm>
          </p:grpSpPr>
          <p:pic>
            <p:nvPicPr>
              <p:cNvPr id="402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" y="248040"/>
                <a:ext cx="91584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Text Box 10"/>
              <p:cNvSpPr/>
              <p:nvPr/>
            </p:nvSpPr>
            <p:spPr>
              <a:xfrm rot="21435600">
                <a:off x="-1224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C239-B3D5-4024-89F5-D4A08320457D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51F1-9B0D-4366-9B5C-5997598BDFE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3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9.wmf"/><Relationship Id="rId11" Type="http://schemas.openxmlformats.org/officeDocument/2006/relationships/slideLayout" Target="../slideLayouts/slideLayout3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5.wmf"/><Relationship Id="rId6" Type="http://schemas.openxmlformats.org/officeDocument/2006/relationships/slideLayout" Target="../slideLayouts/slideLayout3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8.wmf"/><Relationship Id="rId11" Type="http://schemas.openxmlformats.org/officeDocument/2006/relationships/image" Target="../media/image11.png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3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69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image" Target="../media/image11.png"/><Relationship Id="rId14" Type="http://schemas.openxmlformats.org/officeDocument/2006/relationships/image" Target="../media/image12.jpeg"/><Relationship Id="rId15" Type="http://schemas.openxmlformats.org/officeDocument/2006/relationships/slideLayout" Target="../slideLayouts/slideLayout3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3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EAE0-B92D-49FE-9539-1B8B2E25EF0F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4" name="Rectangle 5"/>
          <p:cNvSpPr/>
          <p:nvPr/>
        </p:nvSpPr>
        <p:spPr>
          <a:xfrm>
            <a:off x="2362320" y="4114800"/>
            <a:ext cx="37335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95" name="Picture 4" descr="logo.gif"/>
          <p:cNvPicPr/>
          <p:nvPr/>
        </p:nvPicPr>
        <p:blipFill>
          <a:blip r:embed="rId1"/>
          <a:stretch/>
        </p:blipFill>
        <p:spPr>
          <a:xfrm>
            <a:off x="6629400" y="228600"/>
            <a:ext cx="2413080" cy="695160"/>
          </a:xfrm>
          <a:prstGeom prst="rect">
            <a:avLst/>
          </a:prstGeom>
          <a:ln w="0">
            <a:noFill/>
          </a:ln>
        </p:spPr>
      </p:pic>
      <p:sp>
        <p:nvSpPr>
          <p:cNvPr id="2396" name="Straight Connector 5"/>
          <p:cNvSpPr/>
          <p:nvPr/>
        </p:nvSpPr>
        <p:spPr>
          <a:xfrm>
            <a:off x="1752480" y="106668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397" name="Picture 6" descr="ksulogo3.png"/>
          <p:cNvPicPr/>
          <p:nvPr/>
        </p:nvPicPr>
        <p:blipFill>
          <a:blip r:embed="rId2"/>
          <a:stretch/>
        </p:blipFill>
        <p:spPr>
          <a:xfrm>
            <a:off x="304920" y="295200"/>
            <a:ext cx="1752480" cy="655560"/>
          </a:xfrm>
          <a:prstGeom prst="rect">
            <a:avLst/>
          </a:prstGeom>
          <a:ln w="0">
            <a:noFill/>
          </a:ln>
        </p:spPr>
      </p:pic>
      <p:sp>
        <p:nvSpPr>
          <p:cNvPr id="2398" name="Rectangle 7"/>
          <p:cNvSpPr/>
          <p:nvPr/>
        </p:nvSpPr>
        <p:spPr>
          <a:xfrm>
            <a:off x="3593160" y="495288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1435-1436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2014-2015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9" name="Rectangle 1"/>
          <p:cNvSpPr/>
          <p:nvPr/>
        </p:nvSpPr>
        <p:spPr>
          <a:xfrm>
            <a:off x="2430720" y="1828800"/>
            <a:ext cx="38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s and Pheno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00" name="Picture 1" descr="513px-Phenol-3D-balls.png"/>
          <p:cNvPicPr/>
          <p:nvPr/>
        </p:nvPicPr>
        <p:blipFill>
          <a:blip r:embed="rId3"/>
          <a:stretch/>
        </p:blipFill>
        <p:spPr>
          <a:xfrm>
            <a:off x="4724280" y="2362320"/>
            <a:ext cx="2284560" cy="2666880"/>
          </a:xfrm>
          <a:prstGeom prst="rect">
            <a:avLst/>
          </a:prstGeom>
          <a:ln w="0">
            <a:noFill/>
          </a:ln>
        </p:spPr>
      </p:pic>
      <p:pic>
        <p:nvPicPr>
          <p:cNvPr id="2401" name="Picture 2" descr="ethanol02.png"/>
          <p:cNvPicPr/>
          <p:nvPr/>
        </p:nvPicPr>
        <p:blipFill>
          <a:blip r:embed="rId4"/>
          <a:stretch/>
        </p:blipFill>
        <p:spPr>
          <a:xfrm>
            <a:off x="1523880" y="2900520"/>
            <a:ext cx="2667240" cy="1825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Footer Placeholder 1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0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9487-B3FA-44F5-A8C6-5447657209B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1" name="Rectangle 4"/>
          <p:cNvSpPr/>
          <p:nvPr/>
        </p:nvSpPr>
        <p:spPr>
          <a:xfrm>
            <a:off x="15840" y="1143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Physical Properties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2" name="Rectangle 16"/>
          <p:cNvSpPr/>
          <p:nvPr/>
        </p:nvSpPr>
        <p:spPr>
          <a:xfrm>
            <a:off x="0" y="1523880"/>
            <a:ext cx="891540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1) Boiling Points of Alcoho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oiling points increase with increase in molecular weight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have  higher boiling points(b .p.) than alkanes of similar weight this is due to the presence of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ydrogen bond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tween   molecules  of alcohol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03" name="Picture 1037" descr="alchb3"/>
          <p:cNvPicPr/>
          <p:nvPr/>
        </p:nvPicPr>
        <p:blipFill>
          <a:blip r:embed="rId1"/>
          <a:stretch/>
        </p:blipFill>
        <p:spPr>
          <a:xfrm>
            <a:off x="533520" y="3352680"/>
            <a:ext cx="2361960" cy="1157400"/>
          </a:xfrm>
          <a:prstGeom prst="rect">
            <a:avLst/>
          </a:prstGeom>
          <a:ln w="0">
            <a:noFill/>
          </a:ln>
        </p:spPr>
      </p:pic>
      <p:sp>
        <p:nvSpPr>
          <p:cNvPr id="2504" name="Line 7"/>
          <p:cNvSpPr/>
          <p:nvPr/>
        </p:nvSpPr>
        <p:spPr>
          <a:xfrm>
            <a:off x="1600200" y="4267080"/>
            <a:ext cx="433440" cy="333360"/>
          </a:xfrm>
          <a:prstGeom prst="line">
            <a:avLst/>
          </a:prstGeom>
          <a:ln w="9360">
            <a:solidFill>
              <a:srgbClr val="9c525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5" name="Rectangle 8"/>
          <p:cNvSpPr/>
          <p:nvPr/>
        </p:nvSpPr>
        <p:spPr>
          <a:xfrm>
            <a:off x="914400" y="47242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ff"/>
                </a:solidFill>
                <a:latin typeface="Comic Sans MS"/>
              </a:rPr>
              <a:t>hydrogen bon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6" name="Oval 1041"/>
          <p:cNvSpPr/>
          <p:nvPr/>
        </p:nvSpPr>
        <p:spPr>
          <a:xfrm>
            <a:off x="372960" y="3884760"/>
            <a:ext cx="84240" cy="777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07" name="Oval 1041"/>
          <p:cNvSpPr/>
          <p:nvPr/>
        </p:nvSpPr>
        <p:spPr>
          <a:xfrm>
            <a:off x="372960" y="4113360"/>
            <a:ext cx="84240" cy="777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08" name="صورة 3" descr=""/>
          <p:cNvPicPr/>
          <p:nvPr/>
        </p:nvPicPr>
        <p:blipFill>
          <a:blip r:embed="rId2"/>
          <a:stretch/>
        </p:blipFill>
        <p:spPr>
          <a:xfrm>
            <a:off x="3505320" y="3352680"/>
            <a:ext cx="5410080" cy="1211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09" name="Picture 18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0" name="Picture 19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11" name="Straight Connector 2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2" name="Rectangle 21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13" name="Object 20"/>
          <p:cNvGraphicFramePr/>
          <p:nvPr/>
        </p:nvGraphicFramePr>
        <p:xfrm>
          <a:off x="636480" y="5029200"/>
          <a:ext cx="7821720" cy="14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4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6480" y="5029200"/>
                    <a:ext cx="782172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4B55-4D85-4D1E-B277-C70357F3644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16" name="Footer Placeholder 2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17" name="Picture 10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8" name="Picture 11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19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0" name="Rectangle 13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1" name="TextBox 10"/>
          <p:cNvSpPr/>
          <p:nvPr/>
        </p:nvSpPr>
        <p:spPr>
          <a:xfrm>
            <a:off x="482760" y="1001880"/>
            <a:ext cx="8766000" cy="50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2) Solubility Of Alcohols and Pheno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 and water contain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ydroxyl group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can form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ydrogen bond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ydroxyl group is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hydrophilic “water loving”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lkyl group of alcohols is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hydrophobic “ water hating”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the number of the –OH group in alcohol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increases, the solubility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water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crease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ols and triols are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r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luble in water than monohydroxyalcohol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he lower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re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mpletely miscible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wat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s the number of carbons in the alcohol increases,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solubility in water decrease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22" name="Object 14"/>
          <p:cNvGraphicFramePr/>
          <p:nvPr/>
        </p:nvGraphicFramePr>
        <p:xfrm>
          <a:off x="1662120" y="5132520"/>
          <a:ext cx="6702480" cy="15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3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2120" y="5132520"/>
                    <a:ext cx="670248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4" name="TextBox 4"/>
          <p:cNvSpPr/>
          <p:nvPr/>
        </p:nvSpPr>
        <p:spPr>
          <a:xfrm>
            <a:off x="267480" y="495288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me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Slide Number Placeholder 1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04DD-91FA-4AC6-909D-BB7594FF431B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6" name="Rectangle 17"/>
          <p:cNvSpPr/>
          <p:nvPr/>
        </p:nvSpPr>
        <p:spPr>
          <a:xfrm>
            <a:off x="522360" y="1143000"/>
            <a:ext cx="785952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3) Acidic Properties of Alcohol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re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ery weak acid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ydroxyl proton of an alcohol is weakly acidic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ong base can abstract the hydroxyl proton to give an alkoxide io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-withdrawing group (-I) 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crease acidit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-releasing group (+I)</a:t>
            </a:r>
            <a:r>
              <a:rPr b="0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decrease acidity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27" name="Picture 10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8" name="Picture 11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29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0" name="Rectangle 8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31" name="Object 17"/>
          <p:cNvGraphicFramePr/>
          <p:nvPr/>
        </p:nvGraphicFramePr>
        <p:xfrm>
          <a:off x="2057400" y="2590920"/>
          <a:ext cx="4570560" cy="145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2590920"/>
                    <a:ext cx="457056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3" name="Object 18"/>
          <p:cNvGraphicFramePr/>
          <p:nvPr/>
        </p:nvGraphicFramePr>
        <p:xfrm>
          <a:off x="1219320" y="5029200"/>
          <a:ext cx="603720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4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5029200"/>
                    <a:ext cx="60372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5" name="Footer Placeholder 1"/>
          <p:cNvSpPr/>
          <p:nvPr/>
        </p:nvSpPr>
        <p:spPr>
          <a:xfrm>
            <a:off x="76320" y="63244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Footer Placeholder 1"/>
          <p:cNvSpPr/>
          <p:nvPr/>
        </p:nvSpPr>
        <p:spPr>
          <a:xfrm>
            <a:off x="76320" y="63244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7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8016-361F-4E43-9C50-9F9787EA88B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38" name="Object 27"/>
          <p:cNvGraphicFramePr/>
          <p:nvPr/>
        </p:nvGraphicFramePr>
        <p:xfrm>
          <a:off x="1914480" y="1849320"/>
          <a:ext cx="54882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9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4480" y="1849320"/>
                    <a:ext cx="54882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0" name="Object 28"/>
          <p:cNvGraphicFramePr/>
          <p:nvPr/>
        </p:nvGraphicFramePr>
        <p:xfrm>
          <a:off x="2133720" y="2973240"/>
          <a:ext cx="3590640" cy="114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1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973240"/>
                    <a:ext cx="359064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2" name="Object 29"/>
          <p:cNvGraphicFramePr/>
          <p:nvPr/>
        </p:nvGraphicFramePr>
        <p:xfrm>
          <a:off x="914400" y="4497480"/>
          <a:ext cx="4500720" cy="15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3" name="Object 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4497480"/>
                    <a:ext cx="450072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4" name="Rectangle 4"/>
          <p:cNvSpPr/>
          <p:nvPr/>
        </p:nvSpPr>
        <p:spPr>
          <a:xfrm>
            <a:off x="304920" y="990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Synthesis (Preparation)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5" name="Rectangle 5"/>
          <p:cNvSpPr/>
          <p:nvPr/>
        </p:nvSpPr>
        <p:spPr>
          <a:xfrm>
            <a:off x="245880" y="1366920"/>
            <a:ext cx="37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1- Hydration From Alke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6" name="Rectangle 4"/>
          <p:cNvSpPr/>
          <p:nvPr/>
        </p:nvSpPr>
        <p:spPr>
          <a:xfrm>
            <a:off x="127800" y="380988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2- From alkyl halide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7" name="Text Box 12"/>
          <p:cNvSpPr/>
          <p:nvPr/>
        </p:nvSpPr>
        <p:spPr>
          <a:xfrm>
            <a:off x="5577480" y="5638680"/>
            <a:ext cx="33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ucleophilic substitu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8" name="Text Box 13"/>
          <p:cNvSpPr/>
          <p:nvPr/>
        </p:nvSpPr>
        <p:spPr>
          <a:xfrm>
            <a:off x="5295600" y="4495680"/>
            <a:ext cx="34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limination of HX using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gives alken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49" name="Picture 13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50" name="Picture 14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51" name="Straight Connector 1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2" name="Rectangle 16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3" name="Rectangle 5"/>
          <p:cNvSpPr/>
          <p:nvPr/>
        </p:nvSpPr>
        <p:spPr>
          <a:xfrm>
            <a:off x="251640" y="260028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1- Oxidation of Alke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4" name="TextBox 1"/>
          <p:cNvSpPr/>
          <p:nvPr/>
        </p:nvSpPr>
        <p:spPr>
          <a:xfrm>
            <a:off x="2802240" y="5946840"/>
            <a:ext cx="10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r aq. KOH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Footer Placeholder 1"/>
          <p:cNvSpPr/>
          <p:nvPr/>
        </p:nvSpPr>
        <p:spPr>
          <a:xfrm>
            <a:off x="76320" y="64008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6" name="Slide Number Placeholder 2"/>
          <p:cNvSpPr/>
          <p:nvPr/>
        </p:nvSpPr>
        <p:spPr>
          <a:xfrm>
            <a:off x="7932600" y="648000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AE6E-C73F-4372-8EB6-A8F7E4CD110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57" name="Object 22"/>
          <p:cNvGraphicFramePr/>
          <p:nvPr/>
        </p:nvGraphicFramePr>
        <p:xfrm>
          <a:off x="914400" y="1981080"/>
          <a:ext cx="3419640" cy="8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8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341964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9" name="Object 23"/>
          <p:cNvGraphicFramePr/>
          <p:nvPr/>
        </p:nvGraphicFramePr>
        <p:xfrm>
          <a:off x="1219320" y="4800600"/>
          <a:ext cx="3152520" cy="5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0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800600"/>
                    <a:ext cx="315252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1" name="Rectangle 7"/>
          <p:cNvSpPr/>
          <p:nvPr/>
        </p:nvSpPr>
        <p:spPr>
          <a:xfrm>
            <a:off x="0" y="1062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3-  Reduction of aldehydes, ketones and carboxylic acid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62" name="Object 5" descr=""/>
          <p:cNvPicPr/>
          <p:nvPr/>
        </p:nvPicPr>
        <p:blipFill>
          <a:blip r:embed="rId5"/>
          <a:stretch/>
        </p:blipFill>
        <p:spPr>
          <a:xfrm>
            <a:off x="914400" y="3438360"/>
            <a:ext cx="3313080" cy="863640"/>
          </a:xfrm>
          <a:prstGeom prst="rect">
            <a:avLst/>
          </a:prstGeom>
          <a:ln w="0">
            <a:noFill/>
          </a:ln>
        </p:spPr>
      </p:pic>
      <p:pic>
        <p:nvPicPr>
          <p:cNvPr id="2563" name="Picture 11" descr="ksulogo2.png"/>
          <p:cNvPicPr/>
          <p:nvPr/>
        </p:nvPicPr>
        <p:blipFill>
          <a:blip r:embed="rId6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64" name="Picture 12" descr="images.jpeg"/>
          <p:cNvPicPr/>
          <p:nvPr/>
        </p:nvPicPr>
        <p:blipFill>
          <a:blip r:embed="rId7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65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6" name="Rectangle 14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Footer Placeholder 1"/>
          <p:cNvSpPr/>
          <p:nvPr/>
        </p:nvSpPr>
        <p:spPr>
          <a:xfrm>
            <a:off x="76320" y="64008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8" name="Slide Number Placeholder 2"/>
          <p:cNvSpPr/>
          <p:nvPr/>
        </p:nvSpPr>
        <p:spPr>
          <a:xfrm>
            <a:off x="7932600" y="648000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3242-DF83-4AAB-9835-66C0FC1F251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69" name="Object 26"/>
          <p:cNvGraphicFramePr/>
          <p:nvPr/>
        </p:nvGraphicFramePr>
        <p:xfrm>
          <a:off x="152280" y="1676520"/>
          <a:ext cx="604044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0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604044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1" name="Rectangle 7"/>
          <p:cNvSpPr/>
          <p:nvPr/>
        </p:nvSpPr>
        <p:spPr>
          <a:xfrm>
            <a:off x="25560" y="1062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4-  Addition  of  Grignard compounds to aldehydes &amp; keton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2" name="مربع نص 16"/>
          <p:cNvSpPr/>
          <p:nvPr/>
        </p:nvSpPr>
        <p:spPr>
          <a:xfrm>
            <a:off x="6213600" y="24382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ertiary alcoh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3" name="مربع نص 16"/>
          <p:cNvSpPr/>
          <p:nvPr/>
        </p:nvSpPr>
        <p:spPr>
          <a:xfrm>
            <a:off x="217080" y="29718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eton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74" name="Object 27"/>
          <p:cNvGraphicFramePr/>
          <p:nvPr/>
        </p:nvGraphicFramePr>
        <p:xfrm>
          <a:off x="533520" y="3592440"/>
          <a:ext cx="52783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5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592440"/>
                    <a:ext cx="52783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6" name="Object 28"/>
          <p:cNvGraphicFramePr/>
          <p:nvPr/>
        </p:nvGraphicFramePr>
        <p:xfrm>
          <a:off x="838080" y="4888080"/>
          <a:ext cx="4753080" cy="86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7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888080"/>
                    <a:ext cx="475308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8" name="مستطيل 18"/>
          <p:cNvSpPr/>
          <p:nvPr/>
        </p:nvSpPr>
        <p:spPr>
          <a:xfrm>
            <a:off x="6341760" y="3809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econdary alcoh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9" name="مستطيل 19"/>
          <p:cNvSpPr/>
          <p:nvPr/>
        </p:nvSpPr>
        <p:spPr>
          <a:xfrm>
            <a:off x="6495120" y="504036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rimary alcoh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0" name="مستطيل 19"/>
          <p:cNvSpPr/>
          <p:nvPr/>
        </p:nvSpPr>
        <p:spPr>
          <a:xfrm>
            <a:off x="473400" y="5576760"/>
            <a:ext cx="145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thana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aldehyd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81" name="Picture 15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82" name="Picture 16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83" name="Straight Connector 1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4" name="Rectangle 18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Rectangle 7"/>
          <p:cNvSpPr/>
          <p:nvPr/>
        </p:nvSpPr>
        <p:spPr>
          <a:xfrm>
            <a:off x="17640" y="2589120"/>
            <a:ext cx="63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A. Formation of Salt (</a:t>
            </a:r>
            <a:r>
              <a:rPr b="0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Alkoxide formation</a:t>
            </a:r>
            <a:r>
              <a:rPr b="1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6" name="Footer Placeholder 1"/>
          <p:cNvSpPr/>
          <p:nvPr/>
        </p:nvSpPr>
        <p:spPr>
          <a:xfrm>
            <a:off x="58680" y="624852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7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8207-0F9F-417B-A8F8-2D5FB384271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8" name="Rectangle 4"/>
          <p:cNvSpPr/>
          <p:nvPr/>
        </p:nvSpPr>
        <p:spPr>
          <a:xfrm>
            <a:off x="-76320" y="15588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. Dissociation of O-H Bo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89" name="Object 25"/>
          <p:cNvGraphicFramePr/>
          <p:nvPr/>
        </p:nvGraphicFramePr>
        <p:xfrm>
          <a:off x="2057400" y="3273480"/>
          <a:ext cx="3575160" cy="44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0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273480"/>
                    <a:ext cx="35751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1" name="مربع نص 15"/>
          <p:cNvSpPr/>
          <p:nvPr/>
        </p:nvSpPr>
        <p:spPr>
          <a:xfrm>
            <a:off x="4500720" y="3808440"/>
            <a:ext cx="28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dium ethoxid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2" name="Rectangle 4"/>
          <p:cNvSpPr/>
          <p:nvPr/>
        </p:nvSpPr>
        <p:spPr>
          <a:xfrm>
            <a:off x="309960" y="99072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Reaction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3" name="Rectangle 3"/>
          <p:cNvSpPr/>
          <p:nvPr/>
        </p:nvSpPr>
        <p:spPr>
          <a:xfrm>
            <a:off x="130320" y="4341960"/>
            <a:ext cx="31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B. Formation of Ester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594" name="Object 26"/>
          <p:cNvGraphicFramePr/>
          <p:nvPr/>
        </p:nvGraphicFramePr>
        <p:xfrm>
          <a:off x="990720" y="5021280"/>
          <a:ext cx="5583240" cy="84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5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021280"/>
                    <a:ext cx="558324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6" name="Rectangle 6"/>
          <p:cNvSpPr/>
          <p:nvPr/>
        </p:nvSpPr>
        <p:spPr>
          <a:xfrm>
            <a:off x="4277520" y="504180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30000">
                <a:solidFill>
                  <a:srgbClr val="6076b4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7" name="Rectangle 15"/>
          <p:cNvSpPr/>
          <p:nvPr/>
        </p:nvSpPr>
        <p:spPr>
          <a:xfrm>
            <a:off x="4088520" y="5700600"/>
            <a:ext cx="1019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076b4"/>
                </a:solidFill>
                <a:latin typeface="Comic Sans MS"/>
                <a:ea typeface="Times New Roman"/>
              </a:rPr>
              <a:t>H</a:t>
            </a:r>
            <a:r>
              <a:rPr b="1" lang="en-US" sz="1800" spc="-1" strike="noStrike" baseline="30000">
                <a:solidFill>
                  <a:srgbClr val="6076b4"/>
                </a:solidFill>
                <a:latin typeface="Comic Sans MS"/>
                <a:ea typeface="Times New Roman"/>
              </a:rPr>
              <a:t>+</a:t>
            </a:r>
            <a:r>
              <a:rPr b="1" lang="en-US" sz="1800" spc="-1" strike="noStrike">
                <a:solidFill>
                  <a:srgbClr val="6076b4"/>
                </a:solidFill>
                <a:latin typeface="Comic Sans MS"/>
                <a:ea typeface="Times New Roman"/>
              </a:rPr>
              <a:t>/ H</a:t>
            </a:r>
            <a:r>
              <a:rPr b="1" lang="en-US" sz="1800" spc="-1" strike="noStrike" baseline="-25000">
                <a:solidFill>
                  <a:srgbClr val="6076b4"/>
                </a:solidFill>
                <a:latin typeface="Comic Sans MS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6076b4"/>
                </a:solidFill>
                <a:latin typeface="Comic Sans MS"/>
                <a:ea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8" name="Text Box 15"/>
          <p:cNvSpPr/>
          <p:nvPr/>
        </p:nvSpPr>
        <p:spPr>
          <a:xfrm>
            <a:off x="232560" y="2057400"/>
            <a:ext cx="88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Reaction as acids (Breaking of oxygen- Hydrogen bond CO </a:t>
            </a: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Times New Roman"/>
              </a:rPr>
              <a:t>ـــــ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H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9" name="Curve 345"/>
          <p:cNvSpPr/>
          <p:nvPr/>
        </p:nvSpPr>
        <p:spPr>
          <a:xfrm>
            <a:off x="8229600" y="2209680"/>
            <a:ext cx="84240" cy="304920"/>
          </a:xfrm>
          <a:custGeom>
            <a:avLst/>
            <a:gdLst>
              <a:gd name="textAreaLeft" fmla="*/ 0 w 84240"/>
              <a:gd name="textAreaRight" fmla="*/ 84600 w 84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14149" y="961"/>
                </a:moveTo>
                <a:cubicBezTo>
                  <a:pt x="11289" y="987"/>
                  <a:pt x="827" y="0"/>
                  <a:pt x="1655" y="1923"/>
                </a:cubicBezTo>
                <a:cubicBezTo>
                  <a:pt x="2483" y="3846"/>
                  <a:pt x="14977" y="8837"/>
                  <a:pt x="18288" y="10579"/>
                </a:cubicBezTo>
                <a:cubicBezTo>
                  <a:pt x="21600" y="12320"/>
                  <a:pt x="20245" y="10111"/>
                  <a:pt x="18288" y="10579"/>
                </a:cubicBezTo>
                <a:cubicBezTo>
                  <a:pt x="16331" y="11046"/>
                  <a:pt x="11891" y="11904"/>
                  <a:pt x="8579" y="12970"/>
                </a:cubicBezTo>
                <a:cubicBezTo>
                  <a:pt x="5268" y="14036"/>
                  <a:pt x="0" y="14607"/>
                  <a:pt x="1655" y="15855"/>
                </a:cubicBezTo>
                <a:cubicBezTo>
                  <a:pt x="3311" y="17103"/>
                  <a:pt x="13848" y="18532"/>
                  <a:pt x="16933" y="19208"/>
                </a:cubicBezTo>
                <a:cubicBezTo>
                  <a:pt x="20019" y="19884"/>
                  <a:pt x="18890" y="18740"/>
                  <a:pt x="16933" y="19208"/>
                </a:cubicBezTo>
                <a:cubicBezTo>
                  <a:pt x="14977" y="19676"/>
                  <a:pt x="9181" y="21132"/>
                  <a:pt x="7225" y="21600"/>
                </a:cubicBezTo>
              </a:path>
            </a:pathLst>
          </a:custGeom>
          <a:noFill/>
          <a:ln w="15840">
            <a:solidFill>
              <a:srgbClr val="2f58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00" name="Picture 16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01" name="Picture 17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02" name="Straight Connector 1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3" name="Rectangle 19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Rectangle 9"/>
          <p:cNvSpPr/>
          <p:nvPr/>
        </p:nvSpPr>
        <p:spPr>
          <a:xfrm>
            <a:off x="76320" y="1913040"/>
            <a:ext cx="37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A. Elimination Reac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5" name="Footer Placeholder 1"/>
          <p:cNvSpPr/>
          <p:nvPr/>
        </p:nvSpPr>
        <p:spPr>
          <a:xfrm>
            <a:off x="27000" y="624852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6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3115-3AC6-4E69-B68D-74A6FC595B9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07" name="Object 22"/>
          <p:cNvGraphicFramePr/>
          <p:nvPr/>
        </p:nvGraphicFramePr>
        <p:xfrm>
          <a:off x="2238480" y="2827440"/>
          <a:ext cx="3238560" cy="3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8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8480" y="2827440"/>
                    <a:ext cx="32385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9" name="Rectangle 4"/>
          <p:cNvSpPr/>
          <p:nvPr/>
        </p:nvSpPr>
        <p:spPr>
          <a:xfrm>
            <a:off x="338760" y="395136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B. Substitution Reaction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0" name="Rectangle 5"/>
          <p:cNvSpPr/>
          <p:nvPr/>
        </p:nvSpPr>
        <p:spPr>
          <a:xfrm>
            <a:off x="334080" y="106668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. Dissociation of C-O Bon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11" name="Object 23"/>
          <p:cNvGraphicFramePr/>
          <p:nvPr/>
        </p:nvGraphicFramePr>
        <p:xfrm>
          <a:off x="1143000" y="4800600"/>
          <a:ext cx="5029200" cy="133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2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800600"/>
                    <a:ext cx="502920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3" name="Text Box 11"/>
          <p:cNvSpPr/>
          <p:nvPr/>
        </p:nvSpPr>
        <p:spPr>
          <a:xfrm>
            <a:off x="165960" y="1519200"/>
            <a:ext cx="50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568d"/>
                </a:solidFill>
                <a:latin typeface="Times New Roman"/>
                <a:ea typeface="Times New Roman"/>
              </a:rPr>
              <a:t>Reaction with C</a:t>
            </a:r>
            <a:r>
              <a:rPr b="1" lang="ar-SA" sz="2400" spc="-1" strike="noStrike">
                <a:solidFill>
                  <a:srgbClr val="42568d"/>
                </a:solidFill>
                <a:latin typeface="Times New Roman"/>
                <a:cs typeface="Times New Roman"/>
              </a:rPr>
              <a:t>ــــ</a:t>
            </a:r>
            <a:r>
              <a:rPr b="1" lang="en-US" sz="2400" spc="-1" strike="noStrike">
                <a:solidFill>
                  <a:srgbClr val="42568d"/>
                </a:solidFill>
                <a:latin typeface="Times New Roman"/>
                <a:ea typeface="Times New Roman"/>
              </a:rPr>
              <a:t>OH bond cleavag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4" name="Curve 345"/>
          <p:cNvSpPr/>
          <p:nvPr/>
        </p:nvSpPr>
        <p:spPr>
          <a:xfrm>
            <a:off x="2514600" y="1600200"/>
            <a:ext cx="84240" cy="304920"/>
          </a:xfrm>
          <a:custGeom>
            <a:avLst/>
            <a:gdLst>
              <a:gd name="textAreaLeft" fmla="*/ 0 w 84240"/>
              <a:gd name="textAreaRight" fmla="*/ 84600 w 842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14149" y="961"/>
                </a:moveTo>
                <a:cubicBezTo>
                  <a:pt x="11289" y="987"/>
                  <a:pt x="827" y="0"/>
                  <a:pt x="1655" y="1923"/>
                </a:cubicBezTo>
                <a:cubicBezTo>
                  <a:pt x="2483" y="3846"/>
                  <a:pt x="14977" y="8837"/>
                  <a:pt x="18288" y="10579"/>
                </a:cubicBezTo>
                <a:cubicBezTo>
                  <a:pt x="21600" y="12320"/>
                  <a:pt x="20245" y="10111"/>
                  <a:pt x="18288" y="10579"/>
                </a:cubicBezTo>
                <a:cubicBezTo>
                  <a:pt x="16331" y="11046"/>
                  <a:pt x="11891" y="11904"/>
                  <a:pt x="8579" y="12970"/>
                </a:cubicBezTo>
                <a:cubicBezTo>
                  <a:pt x="5268" y="14036"/>
                  <a:pt x="0" y="14607"/>
                  <a:pt x="1655" y="15855"/>
                </a:cubicBezTo>
                <a:cubicBezTo>
                  <a:pt x="3311" y="17103"/>
                  <a:pt x="13848" y="18532"/>
                  <a:pt x="16933" y="19208"/>
                </a:cubicBezTo>
                <a:cubicBezTo>
                  <a:pt x="20019" y="19884"/>
                  <a:pt x="18890" y="18740"/>
                  <a:pt x="16933" y="19208"/>
                </a:cubicBezTo>
                <a:cubicBezTo>
                  <a:pt x="14977" y="19676"/>
                  <a:pt x="9181" y="21132"/>
                  <a:pt x="7225" y="21600"/>
                </a:cubicBezTo>
              </a:path>
            </a:pathLst>
          </a:custGeom>
          <a:noFill/>
          <a:ln w="15840">
            <a:solidFill>
              <a:srgbClr val="2f58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5" name="AutoShape 13"/>
          <p:cNvSpPr/>
          <p:nvPr/>
        </p:nvSpPr>
        <p:spPr>
          <a:xfrm flipH="1">
            <a:off x="3656880" y="3208320"/>
            <a:ext cx="22860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16" name="Picture 13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17" name="Picture 14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18" name="Straight Connector 1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9" name="Rectangle 16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Footer Placeholder 1"/>
          <p:cNvSpPr/>
          <p:nvPr/>
        </p:nvSpPr>
        <p:spPr>
          <a:xfrm>
            <a:off x="76320" y="624852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1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06AE-D5B2-4D19-A728-D99EC423920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2" name="Rectangle 3"/>
          <p:cNvSpPr/>
          <p:nvPr/>
        </p:nvSpPr>
        <p:spPr>
          <a:xfrm>
            <a:off x="207360" y="106668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. Oxidation Reac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23" name="Object 25"/>
          <p:cNvGraphicFramePr/>
          <p:nvPr/>
        </p:nvGraphicFramePr>
        <p:xfrm>
          <a:off x="2590920" y="5181480"/>
          <a:ext cx="3836880" cy="6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4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5181480"/>
                    <a:ext cx="38368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25" name="Picture 10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26" name="Picture 11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27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8" name="Rectangle 13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29" name="Object 26"/>
          <p:cNvGraphicFramePr/>
          <p:nvPr/>
        </p:nvGraphicFramePr>
        <p:xfrm>
          <a:off x="2292480" y="1828800"/>
          <a:ext cx="391140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0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92480" y="1828800"/>
                    <a:ext cx="3911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1" name="Object 27"/>
          <p:cNvGraphicFramePr/>
          <p:nvPr/>
        </p:nvGraphicFramePr>
        <p:xfrm>
          <a:off x="2286000" y="2895480"/>
          <a:ext cx="4829040" cy="70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2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2895480"/>
                    <a:ext cx="482904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3" name="Object 28"/>
          <p:cNvGraphicFramePr/>
          <p:nvPr/>
        </p:nvGraphicFramePr>
        <p:xfrm>
          <a:off x="2286000" y="3886200"/>
          <a:ext cx="4489560" cy="121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34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3886200"/>
                    <a:ext cx="44895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Footer Placeholder 1"/>
          <p:cNvSpPr/>
          <p:nvPr/>
        </p:nvSpPr>
        <p:spPr>
          <a:xfrm>
            <a:off x="0" y="6356520"/>
            <a:ext cx="6019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6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A4C9-553B-49BC-8D0E-43C070F29BA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7" name="TextBox 6"/>
          <p:cNvSpPr/>
          <p:nvPr/>
        </p:nvSpPr>
        <p:spPr>
          <a:xfrm>
            <a:off x="85680" y="1752480"/>
            <a:ext cx="882972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Pheno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compounds having hydroxyl group directly attached to a benzene ring ) are generally named as derivatives of the simplest member of the family, pheno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cidity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: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 have weak acidic properti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enol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e much stronger acid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 alcohols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of </a:t>
            </a:r>
            <a:r>
              <a:rPr b="0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electron-withdrawing group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uch as N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CN, on the ring </a:t>
            </a:r>
            <a:r>
              <a:rPr b="0" lang="en-US" sz="24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increases the acid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phenol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8" name="Rectangle 11"/>
          <p:cNvSpPr/>
          <p:nvPr/>
        </p:nvSpPr>
        <p:spPr>
          <a:xfrm>
            <a:off x="228600" y="990720"/>
            <a:ext cx="71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Nomenclature and acidity of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39" name="Picture 7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40" name="Picture 8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41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2" name="Rectangle 10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20160" y="7621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Learning Objectives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03" name="Rectangle 9"/>
          <p:cNvSpPr/>
          <p:nvPr/>
        </p:nvSpPr>
        <p:spPr>
          <a:xfrm>
            <a:off x="76320" y="13906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Chapter six concerns alcohols and phenols and by the end of this chapter the student will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difference in structure between  alcohols and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different classes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how to name alcohols and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physical properties (solubility, boiling and melting points)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how hydrogen bonds are formed and its effect on boiling points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acidic properties of alcohols and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different methods that can  be used to prepare  alcohols and phenol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chemical reactions of these compounds ( some reactions are review, others are extensions of the chemistry that will be discussed on chapters 8, 9 &amp; 10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4" name="Footer Placeholder 2"/>
          <p:cNvSpPr/>
          <p:nvPr/>
        </p:nvSpPr>
        <p:spPr>
          <a:xfrm>
            <a:off x="76320" y="63244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05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06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07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08" name="Rectangle 7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2BF2-F024-4F92-9BA3-9ABF543EBC9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44" name="Footer Placeholder 2"/>
          <p:cNvSpPr/>
          <p:nvPr/>
        </p:nvSpPr>
        <p:spPr>
          <a:xfrm>
            <a:off x="6336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45" name="Object 12"/>
          <p:cNvGraphicFramePr/>
          <p:nvPr/>
        </p:nvGraphicFramePr>
        <p:xfrm>
          <a:off x="762120" y="1066680"/>
          <a:ext cx="7584840" cy="513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584840" cy="51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47" name="Picture 6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48" name="Picture 7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49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0" name="Rectangle 9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1" name="Group 2"/>
          <p:cNvGrpSpPr/>
          <p:nvPr/>
        </p:nvGrpSpPr>
        <p:grpSpPr>
          <a:xfrm>
            <a:off x="546120" y="2487600"/>
            <a:ext cx="8153280" cy="3124080"/>
            <a:chOff x="546120" y="2487600"/>
            <a:chExt cx="8153280" cy="3124080"/>
          </a:xfrm>
        </p:grpSpPr>
        <p:sp>
          <p:nvSpPr>
            <p:cNvPr id="2652" name="Rounded Rectangle 5"/>
            <p:cNvSpPr/>
            <p:nvPr/>
          </p:nvSpPr>
          <p:spPr>
            <a:xfrm>
              <a:off x="546120" y="2487600"/>
              <a:ext cx="8153280" cy="3124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653" name="Group 4"/>
            <p:cNvGrpSpPr/>
            <p:nvPr/>
          </p:nvGrpSpPr>
          <p:grpSpPr>
            <a:xfrm>
              <a:off x="774720" y="2563560"/>
              <a:ext cx="5672520" cy="2808000"/>
              <a:chOff x="774720" y="2563560"/>
              <a:chExt cx="5672520" cy="2808000"/>
            </a:xfrm>
          </p:grpSpPr>
          <p:pic>
            <p:nvPicPr>
              <p:cNvPr id="2654" name="Picture 3" descr="C:\Users\haltalassi\Pictures\Picture12.png"/>
              <p:cNvPicPr/>
              <p:nvPr/>
            </p:nvPicPr>
            <p:blipFill>
              <a:blip r:embed="rId1"/>
              <a:stretch/>
            </p:blipFill>
            <p:spPr>
              <a:xfrm>
                <a:off x="774720" y="2563560"/>
                <a:ext cx="5672520" cy="280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5" name="Picture 2" descr="C:\Users\haltalassi\Pictures\Picture11.png"/>
              <p:cNvPicPr/>
              <p:nvPr/>
            </p:nvPicPr>
            <p:blipFill>
              <a:blip r:embed="rId2"/>
              <a:srcRect l="14296" t="23959" r="81701" b="64787"/>
              <a:stretch/>
            </p:blipFill>
            <p:spPr>
              <a:xfrm>
                <a:off x="1460520" y="2792160"/>
                <a:ext cx="3045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56" name="Picture 4" descr="C:\Users\haltalassi\Pictures\Picture13.png"/>
            <p:cNvPicPr/>
            <p:nvPr/>
          </p:nvPicPr>
          <p:blipFill>
            <a:blip r:embed="rId3"/>
            <a:srcRect l="0" t="0" r="0" b="13608"/>
            <a:stretch/>
          </p:blipFill>
          <p:spPr>
            <a:xfrm>
              <a:off x="6566040" y="2944800"/>
              <a:ext cx="1949400" cy="15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7" name="Picture 2" descr="C:\Users\haltalassi\Pictures\Picture11.png"/>
            <p:cNvPicPr/>
            <p:nvPr/>
          </p:nvPicPr>
          <p:blipFill>
            <a:blip r:embed="rId4"/>
            <a:srcRect l="66367" t="56843" r="19617" b="22524"/>
            <a:stretch/>
          </p:blipFill>
          <p:spPr>
            <a:xfrm rot="18843600">
              <a:off x="5946840" y="3423600"/>
              <a:ext cx="106668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8" name="Picture 4" descr="C:\Users\haltalassi\Pictures\Picture13.png"/>
            <p:cNvPicPr/>
            <p:nvPr/>
          </p:nvPicPr>
          <p:blipFill>
            <a:blip r:embed="rId5"/>
            <a:srcRect l="0" t="86404" r="0" b="0"/>
            <a:stretch/>
          </p:blipFill>
          <p:spPr>
            <a:xfrm>
              <a:off x="6718320" y="5002200"/>
              <a:ext cx="1919520" cy="23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9" name="Footer Placeholder 1"/>
          <p:cNvSpPr/>
          <p:nvPr/>
        </p:nvSpPr>
        <p:spPr>
          <a:xfrm>
            <a:off x="88920" y="63244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0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3665-2A9E-4AE3-A691-74CD5DB7B33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1" name="Rectangle 3"/>
          <p:cNvSpPr/>
          <p:nvPr/>
        </p:nvSpPr>
        <p:spPr>
          <a:xfrm>
            <a:off x="2514600" y="1143000"/>
            <a:ext cx="52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Synthesis of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62" name="Picture 14" descr="ksulogo2.png"/>
          <p:cNvPicPr/>
          <p:nvPr/>
        </p:nvPicPr>
        <p:blipFill>
          <a:blip r:embed="rId6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63" name="Picture 15" descr="images.jpeg"/>
          <p:cNvPicPr/>
          <p:nvPr/>
        </p:nvPicPr>
        <p:blipFill>
          <a:blip r:embed="rId7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64" name="Straight Connector 1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5" name="Rectangle 17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6" name="Picture 6" descr="C:\Users\haltalassi\Pictures\Picture14.png"/>
          <p:cNvPicPr/>
          <p:nvPr/>
        </p:nvPicPr>
        <p:blipFill>
          <a:blip r:embed="rId1"/>
          <a:stretch/>
        </p:blipFill>
        <p:spPr>
          <a:xfrm>
            <a:off x="2647800" y="1905120"/>
            <a:ext cx="5658120" cy="2376360"/>
          </a:xfrm>
          <a:prstGeom prst="rect">
            <a:avLst/>
          </a:prstGeom>
          <a:ln w="0">
            <a:noFill/>
          </a:ln>
        </p:spPr>
      </p:pic>
      <p:sp>
        <p:nvSpPr>
          <p:cNvPr id="2667" name="Footer Placeholder 2"/>
          <p:cNvSpPr/>
          <p:nvPr/>
        </p:nvSpPr>
        <p:spPr>
          <a:xfrm>
            <a:off x="6336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454D-3ED1-4F55-92DA-7FA2CD7F3D9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9" name="Rectangle 4"/>
          <p:cNvSpPr/>
          <p:nvPr/>
        </p:nvSpPr>
        <p:spPr>
          <a:xfrm>
            <a:off x="3124080" y="914400"/>
            <a:ext cx="41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Reactions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0" name="Rectangle 5"/>
          <p:cNvSpPr/>
          <p:nvPr/>
        </p:nvSpPr>
        <p:spPr>
          <a:xfrm>
            <a:off x="19080" y="12193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Ethers form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71" name="Picture 9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72" name="Picture 10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73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4" name="Rectangle 12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75" name="Object 15"/>
          <p:cNvGraphicFramePr/>
          <p:nvPr/>
        </p:nvGraphicFramePr>
        <p:xfrm>
          <a:off x="457200" y="1905120"/>
          <a:ext cx="2131920" cy="22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6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1905120"/>
                    <a:ext cx="21319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7" name="Picture 5" descr="C:\Users\haltalassi\Pictures\Picture15.png"/>
          <p:cNvPicPr/>
          <p:nvPr/>
        </p:nvPicPr>
        <p:blipFill>
          <a:blip r:embed="rId1"/>
          <a:stretch/>
        </p:blipFill>
        <p:spPr>
          <a:xfrm>
            <a:off x="914400" y="2286000"/>
            <a:ext cx="7034040" cy="2313000"/>
          </a:xfrm>
          <a:prstGeom prst="rect">
            <a:avLst/>
          </a:prstGeom>
          <a:ln w="0">
            <a:noFill/>
          </a:ln>
        </p:spPr>
      </p:pic>
      <p:sp>
        <p:nvSpPr>
          <p:cNvPr id="2678" name="Footer Placeholder 2"/>
          <p:cNvSpPr/>
          <p:nvPr/>
        </p:nvSpPr>
        <p:spPr>
          <a:xfrm>
            <a:off x="144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7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685C-0181-4ADA-9F71-4186F6B373B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0" name="Rectangle 5"/>
          <p:cNvSpPr/>
          <p:nvPr/>
        </p:nvSpPr>
        <p:spPr>
          <a:xfrm>
            <a:off x="248760" y="1219320"/>
            <a:ext cx="51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. Electrophilic Substitution Reac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681" name="Picture 10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82" name="Picture 11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83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4" name="Rectangle 13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Footer Placeholder 1"/>
          <p:cNvSpPr/>
          <p:nvPr/>
        </p:nvSpPr>
        <p:spPr>
          <a:xfrm>
            <a:off x="0" y="63244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6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E20F-D8F5-4C87-8B09-B04B0F2600C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7" name="Rectangle 3"/>
          <p:cNvSpPr/>
          <p:nvPr/>
        </p:nvSpPr>
        <p:spPr>
          <a:xfrm>
            <a:off x="3490560" y="93996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Home Wor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688" name="Object 21"/>
          <p:cNvGraphicFramePr/>
          <p:nvPr/>
        </p:nvGraphicFramePr>
        <p:xfrm>
          <a:off x="324000" y="1790640"/>
          <a:ext cx="239544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9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90640"/>
                    <a:ext cx="239544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0" name="Object 22"/>
          <p:cNvGraphicFramePr/>
          <p:nvPr/>
        </p:nvGraphicFramePr>
        <p:xfrm>
          <a:off x="380880" y="2895480"/>
          <a:ext cx="251460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1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895480"/>
                    <a:ext cx="251460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2" name="Object 23"/>
          <p:cNvGraphicFramePr/>
          <p:nvPr/>
        </p:nvGraphicFramePr>
        <p:xfrm>
          <a:off x="380880" y="4724280"/>
          <a:ext cx="2905200" cy="104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93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724280"/>
                    <a:ext cx="290520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94" name="Picture 12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95" name="Picture 13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96" name="Straight Connector 14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7" name="Rectangle 15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Rectangle 12"/>
          <p:cNvSpPr/>
          <p:nvPr/>
        </p:nvSpPr>
        <p:spPr>
          <a:xfrm>
            <a:off x="380880" y="1053360"/>
            <a:ext cx="7848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) The IUPAC name of                         i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4-Ethyl-5-heptyn-3-ol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4-Ethyl-5-heptan-3-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4-Ethyl-5-hepten-3-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4-Etyl-2-hepten-5-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9" name="Rectangle 2"/>
          <p:cNvSpPr/>
          <p:nvPr/>
        </p:nvSpPr>
        <p:spPr>
          <a:xfrm>
            <a:off x="380880" y="3019680"/>
            <a:ext cx="7086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5) The IUPAC name of                                      i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3-Methyl-1-bromocyclohexa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2-Bromo-3-methylcyclohexa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4-Bromo-2-methylcyclohexa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3-Bromo-1-methylcyclohxa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700" name="Object 20"/>
          <p:cNvGraphicFramePr/>
          <p:nvPr/>
        </p:nvGraphicFramePr>
        <p:xfrm>
          <a:off x="3733920" y="2610000"/>
          <a:ext cx="161280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1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610000"/>
                    <a:ext cx="16128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2" name="Footer Placeholder 1"/>
          <p:cNvSpPr/>
          <p:nvPr/>
        </p:nvSpPr>
        <p:spPr>
          <a:xfrm>
            <a:off x="0" y="6324480"/>
            <a:ext cx="335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3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B646-FC17-4AE1-9BE2-B32D68E5056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4" name="Rectangle 2"/>
          <p:cNvSpPr/>
          <p:nvPr/>
        </p:nvSpPr>
        <p:spPr>
          <a:xfrm>
            <a:off x="350640" y="4783680"/>
            <a:ext cx="400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Calibri"/>
              </a:rPr>
              <a:t>6)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  <a:ea typeface="BatangChe"/>
              </a:rPr>
              <a:t>The most acidic compound i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705" name="Object 21"/>
          <p:cNvGraphicFramePr/>
          <p:nvPr/>
        </p:nvGraphicFramePr>
        <p:xfrm>
          <a:off x="762120" y="5181480"/>
          <a:ext cx="580680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6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181480"/>
                    <a:ext cx="58068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07" name="Picture 3" descr=""/>
          <p:cNvPicPr/>
          <p:nvPr/>
        </p:nvPicPr>
        <p:blipFill>
          <a:blip r:embed="rId5"/>
          <a:stretch/>
        </p:blipFill>
        <p:spPr>
          <a:xfrm>
            <a:off x="4025880" y="1001880"/>
            <a:ext cx="1371600" cy="1055520"/>
          </a:xfrm>
          <a:prstGeom prst="rect">
            <a:avLst/>
          </a:prstGeom>
          <a:ln w="0">
            <a:noFill/>
          </a:ln>
        </p:spPr>
      </p:pic>
      <p:pic>
        <p:nvPicPr>
          <p:cNvPr id="2708" name="Picture 11" descr="ksulogo2.png"/>
          <p:cNvPicPr/>
          <p:nvPr/>
        </p:nvPicPr>
        <p:blipFill>
          <a:blip r:embed="rId6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09" name="Picture 12" descr="images.jpeg"/>
          <p:cNvPicPr/>
          <p:nvPr/>
        </p:nvPicPr>
        <p:blipFill>
          <a:blip r:embed="rId7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10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1" name="Rectangle 14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Rectangle 5"/>
          <p:cNvSpPr/>
          <p:nvPr/>
        </p:nvSpPr>
        <p:spPr>
          <a:xfrm>
            <a:off x="88200" y="1174320"/>
            <a:ext cx="5199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) The common name of 2-methyl-2-propanol i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Allyl alcoho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Isopropyl alcoh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er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Butyl alcoho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Benzyl alcoh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) The following reaction giv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4-Ethylphe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2-Ethylphe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Ethylphenyl eth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Ethylphenyl keton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713" name="Object 13"/>
          <p:cNvGraphicFramePr/>
          <p:nvPr/>
        </p:nvGraphicFramePr>
        <p:xfrm>
          <a:off x="1447920" y="3657600"/>
          <a:ext cx="5333760" cy="101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657600"/>
                    <a:ext cx="53337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5" name="Footer Placeholder 1"/>
          <p:cNvSpPr/>
          <p:nvPr/>
        </p:nvSpPr>
        <p:spPr>
          <a:xfrm>
            <a:off x="19080" y="63244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16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4720-AD2A-4467-BF76-26A3E7ABC77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717" name="Picture 7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18" name="Picture 8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19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20" name="Rectangle 10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1" name="Object 29"/>
          <p:cNvGraphicFramePr/>
          <p:nvPr/>
        </p:nvGraphicFramePr>
        <p:xfrm>
          <a:off x="2360520" y="1509840"/>
          <a:ext cx="1809720" cy="63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2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0520" y="1509840"/>
                    <a:ext cx="180972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3" name="Object 30"/>
          <p:cNvGraphicFramePr/>
          <p:nvPr/>
        </p:nvGraphicFramePr>
        <p:xfrm>
          <a:off x="1446120" y="2165400"/>
          <a:ext cx="548640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4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6120" y="2165400"/>
                    <a:ext cx="54864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5" name="Rectangle 3"/>
          <p:cNvSpPr/>
          <p:nvPr/>
        </p:nvSpPr>
        <p:spPr>
          <a:xfrm>
            <a:off x="551160" y="1053360"/>
            <a:ext cx="57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9)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major product for the following reaction i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726" name="Object 31"/>
          <p:cNvGraphicFramePr/>
          <p:nvPr/>
        </p:nvGraphicFramePr>
        <p:xfrm>
          <a:off x="2863800" y="3338640"/>
          <a:ext cx="191628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27" name="Object 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63800" y="3338640"/>
                    <a:ext cx="19162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8" name="Object 32"/>
          <p:cNvGraphicFramePr/>
          <p:nvPr/>
        </p:nvGraphicFramePr>
        <p:xfrm>
          <a:off x="1598760" y="3871800"/>
          <a:ext cx="4638600" cy="70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9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98760" y="3871800"/>
                    <a:ext cx="46386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0" name="Rectangle 8"/>
          <p:cNvSpPr/>
          <p:nvPr/>
        </p:nvSpPr>
        <p:spPr>
          <a:xfrm>
            <a:off x="530280" y="2958480"/>
            <a:ext cx="55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0)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he product of the reaction shown below i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731" name="Object 33"/>
          <p:cNvGraphicFramePr/>
          <p:nvPr/>
        </p:nvGraphicFramePr>
        <p:xfrm>
          <a:off x="1219320" y="5334120"/>
          <a:ext cx="5172120" cy="63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32" name="Object 3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5334120"/>
                    <a:ext cx="517212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3" name="Rectangle 6"/>
          <p:cNvSpPr/>
          <p:nvPr/>
        </p:nvSpPr>
        <p:spPr>
          <a:xfrm>
            <a:off x="609480" y="48006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Calibri"/>
              </a:rPr>
              <a:t>11) Which of the following compounds has the highest boiling point?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734" name="Picture 11" descr="ksulogo2.png"/>
          <p:cNvPicPr/>
          <p:nvPr/>
        </p:nvPicPr>
        <p:blipFill>
          <a:blip r:embed="rId1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35" name="Picture 12" descr="images.jpeg"/>
          <p:cNvPicPr/>
          <p:nvPr/>
        </p:nvPicPr>
        <p:blipFill>
          <a:blip r:embed="rId1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36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7" name="Rectangle 14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a7bc"/>
                </a:solidFill>
                <a:latin typeface="Palatino Linotype"/>
              </a:rPr>
              <a:t>Thank You for your kind attention !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39" name="PlaceHolder 2"/>
          <p:cNvSpPr>
            <a:spLocks noGrp="1"/>
          </p:cNvSpPr>
          <p:nvPr>
            <p:ph type="subTitle"/>
          </p:nvPr>
        </p:nvSpPr>
        <p:spPr>
          <a:xfrm>
            <a:off x="2666880" y="2819160"/>
            <a:ext cx="369576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Questions?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mments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40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BDC7-4C85-491E-A769-980376A436CA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741" name="Picture 8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42" name="Picture 9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43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44" name="Rectangle 11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Footer Placeholder 1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0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7C7C-BE03-4EDA-BAB9-9E2DD88DC6B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1" name="TextBox 6"/>
          <p:cNvSpPr/>
          <p:nvPr/>
        </p:nvSpPr>
        <p:spPr>
          <a:xfrm>
            <a:off x="44280" y="162720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 may be viewed as organic derivatives of water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2" name="TextBox 7"/>
          <p:cNvSpPr/>
          <p:nvPr/>
        </p:nvSpPr>
        <p:spPr>
          <a:xfrm>
            <a:off x="0" y="312408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 have a common functional group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the hydroxyl group, —O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3" name="TextBox 12"/>
          <p:cNvSpPr/>
          <p:nvPr/>
        </p:nvSpPr>
        <p:spPr>
          <a:xfrm>
            <a:off x="0" y="3886200"/>
            <a:ext cx="88390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 alcohols the hydroxyl group is attached to 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an alkyl group, —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n phenols the hydroxyl function is directly attached t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benzene rin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4" name="مربع نص 13"/>
          <p:cNvSpPr/>
          <p:nvPr/>
        </p:nvSpPr>
        <p:spPr>
          <a:xfrm>
            <a:off x="357120" y="2108160"/>
            <a:ext cx="792504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-O-H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-O-H or PhC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H                  Ph-O-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ater          Alcohol                                   Pheno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5" name="Rectangle 4"/>
          <p:cNvSpPr/>
          <p:nvPr/>
        </p:nvSpPr>
        <p:spPr>
          <a:xfrm>
            <a:off x="315720" y="99072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Times New Roman"/>
                <a:ea typeface="Times New Roman"/>
              </a:rPr>
              <a:t>Structure Of Alcohols and Phen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16" name="Object 17"/>
          <p:cNvGraphicFramePr/>
          <p:nvPr/>
        </p:nvGraphicFramePr>
        <p:xfrm>
          <a:off x="1871640" y="4738680"/>
          <a:ext cx="472428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1640" y="4738680"/>
                    <a:ext cx="472428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18" name="Picture 11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19" name="Picture 12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20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1" name="Rectangle 14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TextBox 13"/>
          <p:cNvSpPr/>
          <p:nvPr/>
        </p:nvSpPr>
        <p:spPr>
          <a:xfrm>
            <a:off x="152280" y="205740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lcohols are classifie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rding to the type of the carbon atom connected to the hydroxyl group (carbinol carbon)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o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23" name="صورة 1" descr=""/>
          <p:cNvPicPr/>
          <p:nvPr/>
        </p:nvPicPr>
        <p:blipFill>
          <a:blip r:embed="rId1"/>
          <a:srcRect l="0" t="-4593" r="2035" b="7702"/>
          <a:stretch/>
        </p:blipFill>
        <p:spPr>
          <a:xfrm>
            <a:off x="865080" y="3657600"/>
            <a:ext cx="698832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2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41CB-42DF-4B4B-9A21-A98CB20E6C1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5" name="Rectangle 1"/>
          <p:cNvSpPr/>
          <p:nvPr/>
        </p:nvSpPr>
        <p:spPr>
          <a:xfrm>
            <a:off x="457200" y="1066680"/>
            <a:ext cx="825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lassification and Nomenclature of Alcohols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26" name="Footer Placeholder 2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27" name="Picture 8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28" name="Picture 9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29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0" name="Rectangle 11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TextBox 14"/>
          <p:cNvSpPr/>
          <p:nvPr/>
        </p:nvSpPr>
        <p:spPr>
          <a:xfrm>
            <a:off x="0" y="2286000"/>
            <a:ext cx="9144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the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ongest continuou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 chain that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ains the -OH gro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Replace th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ing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the alkane by  the suffix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–o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If a molecule contains both an -OH group and a C=C or c</a:t>
            </a:r>
            <a:r>
              <a:rPr b="1" lang="el-GR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Ξ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c bond;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e the chain that include both of them even if this is  not the longest chain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ame should include suffixes indicate presence of both the OH group and the unsaturated groups.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H group takes precedence over the double or triple bonds in getting the lower numbe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buClr>
                <a:srgbClr val="9c525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yclic alcohols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named using the prefix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cyclo-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arbon bearing the hydroxyl group is assumed to take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umber 1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uffix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o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dded to the name of the parent hydrocarbon when there are two OH group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The suffix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o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dded when there are three OH group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just">
              <a:lnSpc>
                <a:spcPct val="10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2" name="Footer Placeholder 1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3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7CA8-DEBD-470A-900A-96748D4E7D9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4" name="Text Box 4105"/>
          <p:cNvSpPr/>
          <p:nvPr/>
        </p:nvSpPr>
        <p:spPr>
          <a:xfrm>
            <a:off x="0" y="10000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OMENCLATURE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5" name="Rectangle 10"/>
          <p:cNvSpPr/>
          <p:nvPr/>
        </p:nvSpPr>
        <p:spPr>
          <a:xfrm>
            <a:off x="76320" y="1371600"/>
            <a:ext cx="8762760" cy="8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IUPAC Nomenclature Of Alcohols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re name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rding to the following rules: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36" name="Picture 8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37" name="Picture 9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38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9" name="Rectangle 11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B5AC-5E85-4B44-8DB3-94C38123CF7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1" name="Rectangle 3"/>
          <p:cNvSpPr/>
          <p:nvPr/>
        </p:nvSpPr>
        <p:spPr>
          <a:xfrm>
            <a:off x="68400" y="1209600"/>
            <a:ext cx="9144000" cy="20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Common Nomenclature Of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the names of </a:t>
            </a:r>
            <a:r>
              <a:rPr b="0" lang="en-US" sz="20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alkyl substituent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ached to the hydroxyl group, </a:t>
            </a:r>
            <a:r>
              <a:rPr b="0" lang="en-US" sz="20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followed by th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6076b4"/>
                </a:solidFill>
                <a:latin typeface="Times New Roman"/>
                <a:ea typeface="Times New Roman"/>
              </a:rPr>
              <a:t>word alcohol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6076b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wo OH groups present on two adjacent carbons these known a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yco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2" name="Rectangle 8"/>
          <p:cNvSpPr/>
          <p:nvPr/>
        </p:nvSpPr>
        <p:spPr>
          <a:xfrm>
            <a:off x="152280" y="325908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imary alcoho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43" name=""/>
          <p:cNvGraphicFramePr/>
          <p:nvPr/>
        </p:nvGraphicFramePr>
        <p:xfrm>
          <a:off x="228600" y="4267080"/>
          <a:ext cx="8458200" cy="1692360"/>
        </p:xfrm>
        <a:graphic>
          <a:graphicData uri="http://schemas.openxmlformats.org/drawingml/2006/table">
            <a:tbl>
              <a:tblPr/>
              <a:tblGrid>
                <a:gridCol w="1219320"/>
                <a:gridCol w="2209680"/>
                <a:gridCol w="2438280"/>
                <a:gridCol w="2590920"/>
              </a:tblGrid>
              <a:tr h="411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OH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OH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=CHCH</a:t>
                      </a:r>
                      <a:r>
                        <a:rPr b="0" lang="en-US" sz="1800" spc="-1" strike="noStrike" baseline="-25000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Constantia"/>
                          <a:ea typeface="Majalla UI"/>
                        </a:rPr>
                        <a:t>Comm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Methyl alcoh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Ethyl alcoh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Allyl alcoh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Constantia"/>
                          <a:ea typeface="Majalla UI"/>
                        </a:rPr>
                        <a:t>IUPA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Methan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Ethan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2-Propen-1-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4" name="Footer Placeholder 2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45" name="Picture 8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46" name="Picture 9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47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8" name="Rectangle 11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TextBox 4"/>
          <p:cNvSpPr/>
          <p:nvPr/>
        </p:nvSpPr>
        <p:spPr>
          <a:xfrm>
            <a:off x="285840" y="1905120"/>
            <a:ext cx="88581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6076b4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6076b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8C5E-1E12-4CFE-9381-EB97D3E0D50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51" name="Rectangle 4"/>
          <p:cNvSpPr/>
          <p:nvPr/>
        </p:nvSpPr>
        <p:spPr>
          <a:xfrm>
            <a:off x="0" y="1295280"/>
            <a:ext cx="53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econdary and tertiary alcohol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52" name=""/>
          <p:cNvGraphicFramePr/>
          <p:nvPr/>
        </p:nvGraphicFramePr>
        <p:xfrm>
          <a:off x="500040" y="2214720"/>
          <a:ext cx="8458200" cy="2439720"/>
        </p:xfrm>
        <a:graphic>
          <a:graphicData uri="http://schemas.openxmlformats.org/drawingml/2006/table">
            <a:tbl>
              <a:tblPr/>
              <a:tblGrid>
                <a:gridCol w="1219320"/>
                <a:gridCol w="2038320"/>
                <a:gridCol w="2286000"/>
                <a:gridCol w="291456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Constantia"/>
                          <a:ea typeface="Majalla UI"/>
                        </a:rPr>
                        <a:t>Comm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Isopropyl alcoh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Cyclopentyl alcoh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Methylcyclohexyl alcohol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0"/>
                          </a:solidFill>
                          <a:latin typeface="Constantia"/>
                          <a:ea typeface="Majalla UI"/>
                        </a:rPr>
                        <a:t>IUPA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2-Propan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Cyclopentan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nstantia"/>
                          <a:ea typeface="Majalla UI"/>
                        </a:rPr>
                        <a:t>1-Methyl-1-cyclohexan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53" name="Object 44"/>
          <p:cNvGraphicFramePr/>
          <p:nvPr/>
        </p:nvGraphicFramePr>
        <p:xfrm>
          <a:off x="6880320" y="2286000"/>
          <a:ext cx="133488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4" name="Object 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80320" y="2286000"/>
                    <a:ext cx="13348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5" name="Object 45"/>
          <p:cNvGraphicFramePr/>
          <p:nvPr/>
        </p:nvGraphicFramePr>
        <p:xfrm>
          <a:off x="4470480" y="2254320"/>
          <a:ext cx="68256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6" name="Object 4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0480" y="2254320"/>
                    <a:ext cx="68256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7" name="Object 46"/>
          <p:cNvGraphicFramePr/>
          <p:nvPr/>
        </p:nvGraphicFramePr>
        <p:xfrm>
          <a:off x="2238480" y="2454120"/>
          <a:ext cx="717480" cy="70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8" name="Object 4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38480" y="2454120"/>
                    <a:ext cx="7174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9" name="Footer Placeholder 2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460" name="Picture 11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61" name="Picture 12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62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63" name="Rectangle 14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526C-AD6F-47FE-953E-187D76B0542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65" name="Object 37"/>
          <p:cNvGraphicFramePr/>
          <p:nvPr/>
        </p:nvGraphicFramePr>
        <p:xfrm>
          <a:off x="444600" y="1763640"/>
          <a:ext cx="726840" cy="16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6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1763640"/>
                    <a:ext cx="72684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7" name="Object 38"/>
          <p:cNvGraphicFramePr/>
          <p:nvPr/>
        </p:nvGraphicFramePr>
        <p:xfrm>
          <a:off x="7238880" y="1828800"/>
          <a:ext cx="1333800" cy="14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8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1828800"/>
                    <a:ext cx="13338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9" name="Object 39"/>
          <p:cNvGraphicFramePr/>
          <p:nvPr/>
        </p:nvGraphicFramePr>
        <p:xfrm>
          <a:off x="4191120" y="1676520"/>
          <a:ext cx="995400" cy="147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0" name="Object 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1676520"/>
                    <a:ext cx="99540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1" name="Object 40"/>
          <p:cNvGraphicFramePr/>
          <p:nvPr/>
        </p:nvGraphicFramePr>
        <p:xfrm>
          <a:off x="4267080" y="4952880"/>
          <a:ext cx="657360" cy="98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72" name="Object 4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4952880"/>
                    <a:ext cx="657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3" name="مربع نص 12"/>
          <p:cNvSpPr/>
          <p:nvPr/>
        </p:nvSpPr>
        <p:spPr>
          <a:xfrm>
            <a:off x="-34920" y="3657600"/>
            <a:ext cx="33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4-Methyl-2-cyclohexen-1-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4" name="مربع نص 14"/>
          <p:cNvSpPr/>
          <p:nvPr/>
        </p:nvSpPr>
        <p:spPr>
          <a:xfrm>
            <a:off x="2971800" y="342900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1-Phenylmethan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mic Sans MS"/>
              </a:rPr>
              <a:t>Benzyl alcohol (common name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5" name="مستطيل 15"/>
          <p:cNvSpPr/>
          <p:nvPr/>
        </p:nvSpPr>
        <p:spPr>
          <a:xfrm>
            <a:off x="6819120" y="350532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2-Phenylethan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6" name="مستطيل 16"/>
          <p:cNvSpPr/>
          <p:nvPr/>
        </p:nvSpPr>
        <p:spPr>
          <a:xfrm>
            <a:off x="2865960" y="6095880"/>
            <a:ext cx="36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Ethan-1,2-dio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omic Sans MS"/>
              </a:rPr>
              <a:t>Ethelene glycol (common name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7" name="Rectangle 18"/>
          <p:cNvSpPr/>
          <p:nvPr/>
        </p:nvSpPr>
        <p:spPr>
          <a:xfrm>
            <a:off x="46800" y="927000"/>
            <a:ext cx="15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78" name="Object 41"/>
          <p:cNvGraphicFramePr/>
          <p:nvPr/>
        </p:nvGraphicFramePr>
        <p:xfrm>
          <a:off x="0" y="4952880"/>
          <a:ext cx="3809880" cy="914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9" name="Object 4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4952880"/>
                    <a:ext cx="38098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0" name="Footer Placeholder 2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81" name="Object 42"/>
          <p:cNvGraphicFramePr/>
          <p:nvPr/>
        </p:nvGraphicFramePr>
        <p:xfrm>
          <a:off x="5943600" y="5029200"/>
          <a:ext cx="3276720" cy="112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2" name="Object 4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3600" y="5029200"/>
                    <a:ext cx="327672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3" name="Picture 16" descr="ksulogo2.png"/>
          <p:cNvPicPr/>
          <p:nvPr/>
        </p:nvPicPr>
        <p:blipFill>
          <a:blip r:embed="rId1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84" name="Picture 17" descr="images.jpeg"/>
          <p:cNvPicPr/>
          <p:nvPr/>
        </p:nvPicPr>
        <p:blipFill>
          <a:blip r:embed="rId1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85" name="Straight Connector 1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6" name="Rectangle 19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7" name="Object 20"/>
          <p:cNvGraphicFramePr/>
          <p:nvPr/>
        </p:nvGraphicFramePr>
        <p:xfrm>
          <a:off x="685800" y="1447920"/>
          <a:ext cx="758016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8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5801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9" name="Rectangle 5"/>
          <p:cNvSpPr/>
          <p:nvPr/>
        </p:nvSpPr>
        <p:spPr>
          <a:xfrm>
            <a:off x="-37800" y="1001880"/>
            <a:ext cx="15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90" name="Object 21"/>
          <p:cNvGraphicFramePr/>
          <p:nvPr/>
        </p:nvGraphicFramePr>
        <p:xfrm>
          <a:off x="1143000" y="4537080"/>
          <a:ext cx="6238800" cy="22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1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537080"/>
                    <a:ext cx="6238800" cy="22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2" name="Footer Placeholder 2"/>
          <p:cNvSpPr/>
          <p:nvPr/>
        </p:nvSpPr>
        <p:spPr>
          <a:xfrm>
            <a:off x="152280" y="63244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2493" name="Object 22"/>
          <p:cNvGraphicFramePr/>
          <p:nvPr/>
        </p:nvGraphicFramePr>
        <p:xfrm>
          <a:off x="1371600" y="2895480"/>
          <a:ext cx="6324480" cy="161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94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2895480"/>
                    <a:ext cx="63244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95" name="Picture 8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96" name="Picture 9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97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8" name="Rectangle 11"/>
          <p:cNvSpPr/>
          <p:nvPr/>
        </p:nvSpPr>
        <p:spPr>
          <a:xfrm>
            <a:off x="3015360" y="4572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cohols and Phenol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16:56Z</dcterms:created>
  <dc:creator>NCCR</dc:creator>
  <dc:description/>
  <dc:language>en-US</dc:language>
  <cp:lastModifiedBy>new wave</cp:lastModifiedBy>
  <dcterms:modified xsi:type="dcterms:W3CDTF">2016-01-26T20:25:49Z</dcterms:modified>
  <cp:revision>171</cp:revision>
  <dc:subject/>
  <dc:title>TYPES OF HYBRIDIZATION AND GEOMETRY OF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480</vt:lpwstr>
  </property>
</Properties>
</file>