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50.xml" ContentType="application/vnd.openxmlformats-officedocument.theme+xml"/>
  <Override PartName="/ppt/theme/theme13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53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notesSlides/_rels/notesSlide28.xml.rels" ContentType="application/vnd.openxmlformats-package.relationships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55.wmf" ContentType="image/x-wmf"/>
  <Override PartName="/ppt/media/image53.png" ContentType="image/png"/>
  <Override PartName="/ppt/media/image51.png" ContentType="image/png"/>
  <Override PartName="/ppt/media/image49.wmf" ContentType="image/x-wmf"/>
  <Override PartName="/ppt/media/image47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18.wmf" ContentType="image/x-wmf"/>
  <Override PartName="/ppt/media/image60.wmf" ContentType="image/x-wmf"/>
  <Override PartName="/ppt/media/image20.wmf" ContentType="image/x-wmf"/>
  <Override PartName="/ppt/media/image57.wmf" ContentType="image/x-wmf"/>
  <Override PartName="/ppt/media/image4.png" ContentType="image/png"/>
  <Override PartName="/ppt/media/image27.png" ContentType="image/png"/>
  <Override PartName="/ppt/media/image67.wmf" ContentType="image/x-wmf"/>
  <Override PartName="/ppt/media/image30.wmf" ContentType="image/x-wmf"/>
  <Override PartName="/ppt/media/image3.png" ContentType="image/png"/>
  <Override PartName="/ppt/media/image2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19.wmf" ContentType="image/x-wmf"/>
  <Override PartName="/ppt/media/image61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68.wmf" ContentType="image/x-wmf"/>
  <Override PartName="/ppt/media/image50.wmf" ContentType="image/x-wmf"/>
  <Override PartName="/ppt/media/image28.png" ContentType="image/png"/>
  <Override PartName="/ppt/media/image31.wmf" ContentType="image/x-wmf"/>
  <Override PartName="/ppt/media/image66.wmf" ContentType="image/x-wmf"/>
  <Override PartName="/ppt/media/image65.wmf" ContentType="image/x-wmf"/>
  <Override PartName="/ppt/media/image64.wmf" ContentType="image/x-wmf"/>
  <Override PartName="/ppt/media/image24.png" ContentType="image/png"/>
  <Override PartName="/ppt/media/image63.wmf" ContentType="image/x-wmf"/>
  <Override PartName="/ppt/media/image26.wmf" ContentType="image/x-wmf"/>
  <Override PartName="/ppt/media/image62.wmf" ContentType="image/x-wmf"/>
  <Override PartName="/ppt/media/image25.wmf" ContentType="image/x-wmf"/>
  <Override PartName="/ppt/media/image23.wmf" ContentType="image/x-wmf"/>
  <Override PartName="/ppt/media/image5.jpeg" ContentType="image/jpeg"/>
  <Override PartName="/ppt/media/image48.wmf" ContentType="image/x-wmf"/>
  <Override PartName="/ppt/media/image29.wmf" ContentType="image/x-wmf"/>
  <Override PartName="/ppt/media/image11.png" ContentType="image/png"/>
  <Override PartName="/ppt/media/image15.wmf" ContentType="image/x-wmf"/>
  <Override PartName="/ppt/media/image54.png" ContentType="image/png"/>
  <Override PartName="/ppt/media/image6.png" ContentType="image/png"/>
  <Override PartName="/ppt/media/image40.wmf" ContentType="image/x-wmf"/>
  <Override PartName="/ppt/media/image16.wmf" ContentType="image/x-wmf"/>
  <Override PartName="/ppt/media/image7.png" ContentType="image/png"/>
  <Override PartName="/ppt/media/image41.wmf" ContentType="image/x-wmf"/>
  <Override PartName="/ppt/media/image17.wmf" ContentType="image/x-wmf"/>
  <Override PartName="/ppt/media/image8.png" ContentType="image/png"/>
  <Override PartName="/ppt/media/image42.wmf" ContentType="image/x-wmf"/>
  <Override PartName="/ppt/media/image43.wmf" ContentType="image/x-wmf"/>
  <Override PartName="/ppt/media/image9.png" ContentType="image/png"/>
  <Override PartName="/ppt/media/image56.png" ContentType="image/png"/>
  <Override PartName="/ppt/media/image13.wmf" ContentType="image/x-wmf"/>
  <Override PartName="/ppt/media/image52.png" ContentType="image/png"/>
  <Override PartName="/ppt/media/image32.wmf" ContentType="image/x-wmf"/>
  <Override PartName="/ppt/media/image33.wmf" ContentType="image/x-wmf"/>
  <Override PartName="/ppt/media/image34.wmf" ContentType="image/x-wmf"/>
  <Override PartName="/ppt/media/image35.wmf" ContentType="image/x-wmf"/>
  <Override PartName="/ppt/media/image36.wmf" ContentType="image/x-wmf"/>
  <Override PartName="/ppt/media/image12.jpeg" ContentType="image/jpeg"/>
  <Override PartName="/ppt/media/image37.wmf" ContentType="image/x-wmf"/>
  <Override PartName="/ppt/media/image38.wmf" ContentType="image/x-wmf"/>
  <Override PartName="/ppt/media/image39.wmf" ContentType="image/x-wmf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40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50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</p:sldMasterIdLst>
  <p:notesMasterIdLst>
    <p:notesMasterId r:id="rId54"/>
  </p:notesMasterIdLst>
  <p:sldIdLst>
    <p:sldId id="256" r:id="rId55"/>
    <p:sldId id="257" r:id="rId56"/>
    <p:sldId id="258" r:id="rId57"/>
    <p:sldId id="259" r:id="rId58"/>
    <p:sldId id="260" r:id="rId59"/>
    <p:sldId id="261" r:id="rId60"/>
    <p:sldId id="262" r:id="rId61"/>
    <p:sldId id="263" r:id="rId62"/>
    <p:sldId id="264" r:id="rId63"/>
    <p:sldId id="265" r:id="rId64"/>
    <p:sldId id="266" r:id="rId65"/>
    <p:sldId id="267" r:id="rId66"/>
    <p:sldId id="268" r:id="rId67"/>
    <p:sldId id="269" r:id="rId68"/>
    <p:sldId id="270" r:id="rId69"/>
    <p:sldId id="271" r:id="rId70"/>
    <p:sldId id="272" r:id="rId71"/>
    <p:sldId id="273" r:id="rId72"/>
    <p:sldId id="274" r:id="rId73"/>
    <p:sldId id="275" r:id="rId74"/>
    <p:sldId id="276" r:id="rId75"/>
    <p:sldId id="277" r:id="rId76"/>
    <p:sldId id="278" r:id="rId77"/>
    <p:sldId id="279" r:id="rId78"/>
    <p:sldId id="280" r:id="rId79"/>
    <p:sldId id="281" r:id="rId80"/>
    <p:sldId id="282" r:id="rId81"/>
    <p:sldId id="283" r:id="rId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notesMaster" Target="notesMasters/notesMaster1.xml"/><Relationship Id="rId55" Type="http://schemas.openxmlformats.org/officeDocument/2006/relationships/slide" Target="slides/slide1.xml"/><Relationship Id="rId56" Type="http://schemas.openxmlformats.org/officeDocument/2006/relationships/slide" Target="slides/slide2.xml"/><Relationship Id="rId57" Type="http://schemas.openxmlformats.org/officeDocument/2006/relationships/slide" Target="slides/slide3.xml"/><Relationship Id="rId58" Type="http://schemas.openxmlformats.org/officeDocument/2006/relationships/slide" Target="slides/slide4.xml"/><Relationship Id="rId59" Type="http://schemas.openxmlformats.org/officeDocument/2006/relationships/slide" Target="slides/slide5.xml"/><Relationship Id="rId60" Type="http://schemas.openxmlformats.org/officeDocument/2006/relationships/slide" Target="slides/slide6.xml"/><Relationship Id="rId61" Type="http://schemas.openxmlformats.org/officeDocument/2006/relationships/slide" Target="slides/slide7.xml"/><Relationship Id="rId62" Type="http://schemas.openxmlformats.org/officeDocument/2006/relationships/slide" Target="slides/slide8.xml"/><Relationship Id="rId63" Type="http://schemas.openxmlformats.org/officeDocument/2006/relationships/slide" Target="slides/slide9.xml"/><Relationship Id="rId64" Type="http://schemas.openxmlformats.org/officeDocument/2006/relationships/slide" Target="slides/slide10.xml"/><Relationship Id="rId65" Type="http://schemas.openxmlformats.org/officeDocument/2006/relationships/slide" Target="slides/slide11.xml"/><Relationship Id="rId66" Type="http://schemas.openxmlformats.org/officeDocument/2006/relationships/slide" Target="slides/slide12.xml"/><Relationship Id="rId67" Type="http://schemas.openxmlformats.org/officeDocument/2006/relationships/slide" Target="slides/slide13.xml"/><Relationship Id="rId68" Type="http://schemas.openxmlformats.org/officeDocument/2006/relationships/slide" Target="slides/slide14.xml"/><Relationship Id="rId69" Type="http://schemas.openxmlformats.org/officeDocument/2006/relationships/slide" Target="slides/slide15.xml"/><Relationship Id="rId70" Type="http://schemas.openxmlformats.org/officeDocument/2006/relationships/slide" Target="slides/slide16.xml"/><Relationship Id="rId71" Type="http://schemas.openxmlformats.org/officeDocument/2006/relationships/slide" Target="slides/slide17.xml"/><Relationship Id="rId72" Type="http://schemas.openxmlformats.org/officeDocument/2006/relationships/slide" Target="slides/slide18.xml"/><Relationship Id="rId73" Type="http://schemas.openxmlformats.org/officeDocument/2006/relationships/slide" Target="slides/slide19.xml"/><Relationship Id="rId74" Type="http://schemas.openxmlformats.org/officeDocument/2006/relationships/slide" Target="slides/slide20.xml"/><Relationship Id="rId75" Type="http://schemas.openxmlformats.org/officeDocument/2006/relationships/slide" Target="slides/slide21.xml"/><Relationship Id="rId76" Type="http://schemas.openxmlformats.org/officeDocument/2006/relationships/slide" Target="slides/slide22.xml"/><Relationship Id="rId77" Type="http://schemas.openxmlformats.org/officeDocument/2006/relationships/slide" Target="slides/slide23.xml"/><Relationship Id="rId78" Type="http://schemas.openxmlformats.org/officeDocument/2006/relationships/slide" Target="slides/slide24.xml"/><Relationship Id="rId79" Type="http://schemas.openxmlformats.org/officeDocument/2006/relationships/slide" Target="slides/slide25.xml"/><Relationship Id="rId80" Type="http://schemas.openxmlformats.org/officeDocument/2006/relationships/slide" Target="slides/slide26.xml"/><Relationship Id="rId81" Type="http://schemas.openxmlformats.org/officeDocument/2006/relationships/slide" Target="slides/slide27.xml"/><Relationship Id="rId82" Type="http://schemas.openxmlformats.org/officeDocument/2006/relationships/slide" Target="slides/slide28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PlaceHolder 2"/>
          <p:cNvSpPr>
            <a:spLocks noGrp="1"/>
          </p:cNvSpPr>
          <p:nvPr>
            <p:ph type="dt" idx="14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move the slide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1" name="PlaceHolder 5"/>
          <p:cNvSpPr>
            <a:spLocks noGrp="1"/>
          </p:cNvSpPr>
          <p:nvPr>
            <p:ph type="ftr" idx="14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PlaceHolder 6"/>
          <p:cNvSpPr>
            <a:spLocks noGrp="1"/>
          </p:cNvSpPr>
          <p:nvPr>
            <p:ph type="sldNum" idx="14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A72FC-0F76-4D9E-8F58-D2BCE58AE3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8E1FF-F11E-4E52-A149-7B5C5C70FC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ECF5-BC89-4E0D-86D0-416EF137A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EFD3-12E5-4464-AA1C-A7D655C3D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3424CA-0B63-418A-A93B-7CDCED970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E4B1F8-22D2-4209-AE97-349FAFD04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1C2AE7-5BA7-4174-9091-CD37C5A3B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279576-2095-47AD-8842-A84846CB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63DDFE-4E23-4409-8B8A-4673A200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693CC3-54AD-42E1-858E-60E1A8655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E5E0E3-43DF-4798-8C71-496B6CC0D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AC8E83-A47B-492A-B4ED-EFFA69BE5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58F035-DB73-4CB7-84BE-D5A446417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0D7BA6-9B37-4273-948D-8078FEDD1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4FF3-36E1-49B9-866D-8A6DEC147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20C94B-4815-49CF-9399-C5832F0BC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6A7111-E741-4BBD-82FB-B7EE7165E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A4AA28-CA69-4A65-838D-FD7DECED9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FD85A9-9D41-4334-B6B3-508BEDADC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98287D-AE50-4CFD-939D-6F52F8478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1D9CAA-D1F8-43BC-94AE-27383AA7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5CD12B-52A5-4476-9CEC-6D2A6A70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A73A3F-9B7C-49B1-86C2-B2EFB5316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FF1655-397F-4D4B-AEC4-A5C77B62D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255202-A583-4BD5-8285-6E4967FCB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0626-CD83-47FD-8B48-6F230D000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88173F-5783-4811-B46E-42968EEC3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A5DB75-0920-4AAA-89E6-2370F822D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1DBE36-5375-4C2E-878F-D925F7BA5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34524B-CC1B-4DE1-B038-26C3689DD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D20EE1-B9AE-425A-BAC0-D60C7E10E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CEE61B-9924-4748-BBA3-0465CBFBA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6D4671-5140-49B5-906E-A5973D1F0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B9252D-8C3D-434C-9927-723412ED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1F782F-C906-4E71-B213-C7E978C2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D267A7-CA3B-47AA-B034-684987927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D8546-DC08-40F4-AA0D-683D3CCCA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BE02EA-6C16-4E9C-8C3E-7911352EA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A62824-DAF5-4504-8CA0-101EF743C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624243-C7D8-4E64-96F9-7E5880BEE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04FB98-CE9C-48B6-8670-DD66DF330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E7E436-80BC-4AD5-AC02-2C0351B54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6E24DD-AE9C-4A98-874E-4E8D84398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7C6A43-7349-4C39-9A80-030F821CE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6316B0-1250-4417-8D0C-25910BFAB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9A82BD-068D-4A42-A7AD-97EF6EEA0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482CB3-76FA-44AE-A054-9EDCC512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4F8DF-2365-47CC-9AEA-AEAA316DE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B822C0-85B0-4F35-AE59-4D7949349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918081-BB2C-4A13-B968-AC0AA134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ED0720-E777-4802-93B1-F1D307AFA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4C0130-D758-458C-8D4D-009CB0549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C7CCC5-1938-4269-9033-21C125868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C181D7-3CB2-4A89-B99E-C315BFB3E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AC99A9-838C-4225-B4D4-15A60ED2A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7FC544-FE49-46F2-939A-46A9B3BFB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2A498B-5BF5-4D39-99CE-4064466FD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782A57-02D0-40E0-AF32-0D728C2EB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6C371-BEEA-4D03-9046-0AC0B5980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539FE0-B7D0-4ECD-AE9F-3381B8E02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D6004F-A128-42A9-B3F1-758DC3F16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12CF74-7B68-4F64-89B6-4D338615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5D5DD4-3F67-4B88-AC52-781E7FA4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370E79-1C2A-4458-B4F1-1AD9AEC09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6B61CA-7D72-4B21-B608-F5240A15D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2A89A3-E098-46B1-9D19-55F3D721F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793CF9-4C0E-47B4-9502-95839C029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43CB57-5C2A-4663-892C-426705480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CAB7C0-1B42-4A89-8E3F-12FB8FCC6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87363-AD1E-484D-B9E3-6A7E95E9B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10E636-1ADE-40FD-8F18-E4D91A0DA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24BF2D-67BC-444D-9FF2-7ADA7C968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F2D78C-29DB-49FA-834D-EE4CFB269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5CD3C6-118E-4A64-9160-86A543491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B0162B-8224-4524-845F-4204FED06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F85378-9107-474C-83AF-F3B4920D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E3EBA9-3A5A-4600-8065-80671322C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8C42A2-45AC-43C4-A0B1-01C5693FD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18402F-B604-473A-993D-7137F5E59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2585E9-E2E9-497E-9A17-E3EE31C49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7A0C4-2958-4822-A2A0-7B89CA685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171B20-1F0E-4443-8431-551C74FB8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77CE49-8D6B-49B6-83D4-84FAF3237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0A357F-A8B7-4CE5-850F-925AAD6E7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DBA9C0-2DBC-4BC9-98B1-962ED0B63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5D43FC-9ADB-44A9-92DF-5B1F114B7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C761AF-537E-4E92-86D7-026103749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2677DB-8E5F-4833-AED4-A03DD75E5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329A04-0DB6-4C2A-ABAB-FFDFB7626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CD0021-0BD2-487E-BEE4-3FE0BD5D1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E0B4EB-FF7D-4017-8325-E51CCE992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28ACE-C5BC-4588-AAA3-FCE97506C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27C2A6-CCE7-45EC-8772-502A020DA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AD28F4-0340-4AE9-801A-F6AC18E00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1BFB4C-A1ED-4DE2-AA6C-DDB93CA38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68A903-827C-4384-B713-145605103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B2B735-DC6E-4DDE-8CF8-A72AF5107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E80AFA-3259-4626-995F-A10AE30B2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FFFF87-C44E-4EF8-9409-713009385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7B324D-F0D0-4788-998A-CE17DC4C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96D431-90C2-4D44-8F19-0F61819DA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44B0F7-6620-4507-8518-77102FA7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C184A-ACC7-4E8B-B4E6-51E04DE65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D4C153-A42A-4A74-BB99-E82097852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928DE0-02AF-40F8-9878-124376A6C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2766C5-7DAD-495A-BDAE-D0AB9ED4D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CCE889-76B2-4E76-99A3-9D6FC856C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E9FDE2-0D21-454B-A7C4-9ED6C92C6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1728FA-6034-4D3A-BDFC-0CF02B42F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44E6EC-1B96-4218-8880-991C2A7CD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494730-9514-4CB3-B1E6-21BA6A497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47C703-F793-40EA-AFAD-6F3FD34AD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C33D39-FD22-4CEB-AB10-F91609C1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D849-2912-42F4-9DCD-853B1A13B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7E549-0EEF-4829-827B-198581635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268612-A4B8-4E97-9429-1CC721AB5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71737C-5A01-4F65-9408-938480B81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EA4081-A2A8-437E-86DB-F3D0E8D00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6BF36C-2EF0-49F4-84A5-FC28CBCCD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EE3B73-0EC2-4574-A736-322164A45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EB844A-B595-4C5C-A2F1-F6534A925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A5EE82-BF6B-474A-9052-79FD7F1B8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61A5D2-584C-4B08-B724-1369D7721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1259F4-6BAC-4C93-AA5B-2A0E19D55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A5D72A-4904-46AC-B326-8A943AE39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F8EF3-B5E7-4502-A47C-99C0D589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2EAFA3-88D0-4FF1-9879-720E18C4D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EC0548-D068-48CD-A87C-70AB42AB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DDD89F-F14E-46A1-AEC4-3AFFBC05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84345A-B9B1-42D9-89CC-9DF5DC86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77BC30-FC74-4422-B4F8-110DD9D0F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7D2A8D-F41C-48F4-90C4-F22DC27E9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19EDC2-B028-4766-BE43-A1B9B5B42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4793BC-A384-46BC-B1B9-3D06D00E1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EFC2D6-085D-4150-AAE0-590CBC876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E808CA-417B-48E3-9785-455D7A601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B30A8-639C-4543-A958-2CDF88C17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5F67CB-C0D2-4224-B8ED-7EB14ECD9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709882-CD6C-40B6-B776-ACF0F5927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2337A0-DE3E-4580-9BE7-9CE62C9D1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C54D1E-EC03-4025-9991-B5078F9F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971A1C-FB59-4700-8B4C-A6CBDEF52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BD03C8-47C8-4854-B4C0-CAC173FD5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7AE0E9-0950-4DEA-89D9-B1E8CAF32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A619A1-73CB-4C6D-86CF-6165E0B3F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F5830E-6D7C-49BB-AA80-9E4F1EFB3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C55632-10AE-4697-8F2B-9B1356DA4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2FDE3-FB29-4256-BCD9-35D62EEC2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53345C-68AB-438F-84C6-9D39EF7D7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B2468F-E05B-4811-B290-45FF02238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910625-018C-4EFA-98F8-7A8698B67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6CD5E4-96A5-49C9-8C24-983538D3B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C2BF6C-B56E-4EAE-A9CA-79C3312FC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A7FC6D-C071-4FE3-863C-D96E0743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4062B0-5A6E-475F-A034-5B06C761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A79F89-7543-4C19-B6AC-94607605F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C47762-3B4C-4902-9557-C65B0FD4C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C5CFB7-7577-481B-879A-3D3E97457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BDED0-ABE1-4D2F-9AA2-B1C79439D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ACBC66-9A00-4733-985D-7EE732C03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6FDB1B-2032-4B89-ADCB-74EDA1344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2D7E4F4-BDFF-4038-9379-D1C9AF9BA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E22DEF-0D87-40C7-B8FF-EF7840487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58ACC7-9219-45A1-803A-BE181D0C5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10C0E8-95FD-4852-880D-A561D5DC3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CC80E6-A773-436B-90BA-5DFB6C079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AB0E044-A15B-4C54-881E-AB0C3E47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F502CF-4B51-4E13-8A2D-643593BB3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E16E76-3D11-4C5E-8008-C3B8333C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372EF-FDE6-4C2E-9223-0F2F89F85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B23923-D36D-43A6-9043-D6AA3BA7D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997027-A38F-459C-8317-071B2A3E4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08616A-4092-4524-A724-3147F6FA1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1CD597C-0568-47D0-8473-998B601D4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2AD7376-280B-452A-A148-DE99EBCB4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A95C862-98B5-4B7A-9875-D0379F02D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EBDE383-F98A-4ABC-9BB6-20D4FB582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BE393EC-BCC6-41C0-B129-CDFF3235A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7A89D2C-6935-4F9C-8FFA-27AA5CC34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68CAB25-4515-419A-93DD-1340D07AE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8E346-C659-4EB8-97E5-9C9307A56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731D339-ADDF-4689-BED3-9DC615189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64E7397-06C1-4CE8-A405-0449C957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6AADADA-045C-4B37-B2D6-1675A9773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347ABE7-2DA8-4B1C-9FDC-4D2898D6C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9B21818-B52A-4AAB-AFC9-E364098D8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EAA275E-81E5-4DFA-8052-FCA5EEC98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1271266-3843-4FDC-B8E7-1B67EFC40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E25FAF9-2DFF-419D-8915-1E939D019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88FAD06-CE8B-47B5-802C-9E93411A3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A823642-FBF5-4D59-BD3C-1EBAFDB66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E0832-E902-459C-B1EF-E0FFDF907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DB6081C-6C14-4C98-8C55-1102468DD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5C9C513-F8BC-4D95-BD51-ED49C742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E01D127-662E-4C91-94B1-2C11F199D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14C5F0F-EB69-4EDC-BB61-CE7589EC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323DA25-CFC6-4795-A0B9-4F983923E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EE3413B-E518-42DB-A7A9-861F8EB34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5F9485B-0A0C-45F4-A389-ECC55F021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53986C1-E89D-438D-A617-C4531E2E5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3B8A5AE-DAC4-4727-917E-6D0C63052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B9F2CC3-A289-426A-B44A-919C12748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50A68-678B-4C7D-B56D-BCA6195AA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B3E6652-3F2F-488D-A9C4-30DC2EEB0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6D0A5A2-78F7-4F27-91BA-1C163A236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59B5DBB-F22A-4D16-8AEB-8E2DF1E9F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680E62F-F5A8-4CC5-B10D-CC7C23AE8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C6CD95A-1DEA-4B3D-92C7-309485A5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D338C34-24CE-437D-A0DF-64B58D66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EA829CC-602C-4F97-80DE-016D9E5C7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5A682FC-3D7D-49DC-92F7-F4CE10D34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F1A13D8-13F8-410E-BCEC-0AEC36473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CD85AE1-3E89-4C44-BF70-A8E882D8C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C08A6-B9AD-441D-A64F-A0B21C6C5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D67DF5C-9ECE-420C-ACF3-943CECFC6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7B89F7D-C2CF-469F-9949-F7F8EF904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4B25D20-F4D2-494B-8F09-A0BBBFEE1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6FBA1D5-81D4-4FD3-BB30-2D99AAD84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795101E-E1C9-4D36-A554-297A6B6C2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D9C82AB-E0C2-4F66-86DE-BB8AC83E3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B5863B6-899F-44B7-B1A0-384289213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88529D2-B578-4178-A598-3C4319B4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74A37F5-AEE5-4315-AD54-C1265E5C4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2D08315-E316-45BB-B8E1-D254A5B59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DC26-CE85-4944-815E-6FE0254B7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46731-741F-407B-9FF8-710D8EB4B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8EC3542-8355-4BB2-AB5C-2D7FE3261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4179F20-4222-4F9D-AD19-D6CCC012A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3076B17-0F24-4127-A9B0-B5CD5B7FB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05B7829-FEE5-4F58-AE38-5DDC2C968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0042B94-F2E5-48DB-B7CD-F69A0091A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ECC0F8B-EBA0-45EF-8381-9D26A439E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D8B50E2-F485-443E-9B1D-CCC48B10D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32D5584-2B26-4505-A75F-04F239A7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14963E5-E21D-4E06-97ED-12452B610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EEEE9DD-A7BF-4FB2-9490-4151F470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E91C8-4EAB-4DEC-8D47-0A1C7DD17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0F9BAFA-44F3-4FD9-AB29-213FB19E5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AF108CE-2F30-42A1-BE76-D92AADC8A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83096FB-CD10-4EE5-8718-812655BFC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FABF171D-A2C8-4324-94D5-F7EB89C9B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BD826AF4-FADB-4D1D-8ECB-EA488B073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B9975885-D370-4715-97A5-82911508A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E6634920-416A-4ADF-98B7-C21498453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3C0A86A7-0B21-4CCE-83D5-EEF198F6E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998039A9-5A4E-4506-BD11-5D8A2AF5A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BD9411E7-2EF9-4F1E-A4F5-38DFB662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5789E-5BAD-4B47-A5FA-D963ED5F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7988B44F-4C71-4C15-9B00-C41F0BBD3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D36AF6A3-2971-4C17-94F9-0AF647E96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DA99D236-B79D-40CC-94D1-71C5853B0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43957D22-194A-427D-9281-124DD7334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55DF6BA0-B98B-4FA8-BB18-952C6D674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20802DA-3F88-414D-B2BC-546B6A978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8EB9531-23E1-436F-949C-8100C4A3D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38D7E78-F407-4286-857F-5204DED58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A792318-BEEC-4612-91CD-BE7B30BFB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D23D599-93D5-49B6-AE86-26A547D4F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9845D-E5D1-403C-8A84-A8023D9F6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23E7E3C-93D0-45B0-B52D-5C0187C2A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CCFC9AB-2D0B-4C88-A3B5-BF8FFBDF9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BADAFEC-43A1-4992-9C3C-C5CBF706D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E90AEB8-19A9-4F99-A6C0-ED202B24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28E2D99-8685-4FD4-9B99-72F9A47BE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134013E-8DFD-4131-AB4C-11486A131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C58FE32-68A5-48C5-8901-2B88DCA0C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7AD0DD9-C580-4612-A53B-AA16296AC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5FDF42B-77A6-407B-878E-F1AE412E5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89E3B1C-12D5-4C01-9ADA-969661970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F0D5C-D0CB-4CC9-9E0F-0F2AFB86D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5A3BDB6-CBAF-48AE-A023-F987CF200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17901F4-6705-4761-A0BA-A4BE2CCD4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1EA2B14-27BF-4AA3-A63F-E90CC9877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41A1279-3D25-4E19-9346-BAB574657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BF2DADF-E183-40AF-8597-D1492555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F25C41F-B98C-402E-B0D8-A07EF3DFB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672EB54-3012-42F4-BC26-346E22426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B01BE95-8A03-4DF2-9887-4BA8541E4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5909F83-D1A5-4562-A05C-81D5D52FF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58D5FE4-E998-4C01-BD78-7BCE212FD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AAE2E-2AC3-4472-BA08-7738880BA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3FFE37E-DADF-462A-ADB8-24D286325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9B115CA-E6DD-443A-A141-82D9A5194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E865F7B-42EA-4937-8CEB-00AB5D215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1CBA068-BAAF-4313-83E1-5050DDE2D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7EB2714-3BD4-4AA1-8366-F30C0FAC3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DC0CC36-1729-492D-97B0-383778A34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F014E81-D5A8-4CE5-8738-5EBC07384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8DD8E8F-10E8-492B-ABF0-051E2A3B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92DA6E3-891A-4F71-B5C4-0983F9824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369618B-C580-499B-A2C4-3E256A0DC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0C96E-8152-411D-927D-E42F61B92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7EAB104-7F74-4F08-88D7-F0F827C38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F0A687A-C4DD-4608-8CC2-4A72DF019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A2253F9-71C5-462A-A285-F92DE8575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D1C6317-0188-4742-9672-25CEFF610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2372DC1-D4BE-4780-8AD2-82E37EF7D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5C102FB-1FE1-45DB-BD9F-27BB38C39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41E872F-3B8D-4200-A690-1D2815614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9A96AF9-DB89-4B3E-9B6B-E3E640B6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CF60828-31FA-4EBE-807C-6802CC2F1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B5587A3-8974-47B3-81CF-5411D269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10736-F3D8-4513-BC9B-474183D35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3CCAC59-6EB1-4A7A-AABD-C2085DB91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416B977-D774-4252-80CC-A966E6144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5799682-76B4-4BB9-9ED4-43FED192A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212C3B4-7357-45A9-BCF3-9EA17DDCE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D5547F6-D3AA-4219-B749-CD2D4C9D0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DB7EE8F-CC76-4C10-90A0-1D12FA34E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E13ABC4-C722-40CC-876C-55104DCCE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313E1E3-3576-4CBB-9586-BB052FAEF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5FA10E0-E49D-4932-BEC1-9C2397C7B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8D2F55F-BBB2-4F58-B281-9F5FB3A4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5782F-5473-4540-AFD7-3D35A1381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A7537B7-4CC2-4E80-B9B9-9AC96B86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1E702A1-80C7-4B3B-B61E-FB392909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51202FF-6CA3-4FC6-8BC9-09AD9975D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6F99CD4-9062-4704-913F-CA871E896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E4862B9-9AF2-4FE5-A1CA-D6B878D80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6E494FC-7CB0-4705-B573-20E6A0A96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08A41D0-7A2E-4EB4-9994-8FB19E040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7781214-B023-4528-989F-FC7CF6262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9F356B3-74F3-4D5F-A16D-AA29D2F79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DA1B8AF-1424-4DA1-8C4C-BC968D40C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B4260-B215-4535-A163-4F0A90416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DE6CFA1-FD9C-4D76-BFF6-4F203FC72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50BEA49-C96C-4656-88C2-7E87908E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AAA31A9-7D4D-46CF-862A-35B2FFE1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D8DAF69-84E7-4240-B529-86E6D143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E39523A-E98A-4442-987D-ED9CE2049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5B28844-E992-4DAF-966A-BC7FE7FB4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4C912ED-1F02-4E7E-847D-4D9E4EBBD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D245505-A019-4084-93B5-349450E57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BED1ADE-D3E1-4CC6-AB1B-32048797D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7DD52E2-A038-434A-9B1C-16D77BAC5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F2A8-796F-4B99-86E6-EF72A2951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FA61E-FFD7-463A-A872-AC65AF583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0AA30E2-B312-4F91-9ECE-D5F7938A1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935E585-5BDE-46EE-8504-0DA290477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9AD26D1-51C5-40CC-AA64-7AB3867C3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1D256CD-2609-4769-A941-4E0AE68A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11C277B-4232-42AA-B0B4-D4E53A01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A3DE11E-C9DD-4E13-877B-221FA6810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FED60FE-085D-4236-9FA9-1A18FEF74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AB95E36-30ED-4581-91D5-E02F78278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550AEC0-2CC3-4252-ABDF-E3596AEF2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0F67424-EC17-45C6-902E-D5A44FAB6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36F59-23A3-4B60-9EBE-40490441A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D9CF786-A37A-4C5E-AB5C-E85472981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3AA461F-5DF4-4B73-B748-75D17DB4A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3FED843-7A50-4B12-BD5B-3FA3F4759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39E28C1-A0F2-44F4-BFB4-760FC9539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A871EAC-8DB7-4A52-9C5C-353EAF3A3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DE3AA11-CF02-42A2-B840-1C1FDBBBF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0CDD93C-C6E1-4857-8545-1D613728F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6B036DB-59F7-42FC-B89C-69891E4B8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02FA6AF-5955-4131-AF2B-E90B660C0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A70EDBB-988E-4996-90D5-79FA9012F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DB933-7906-4F6C-BD26-FDC077B5C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72919AA-4FF7-406F-A8E9-95AEFC28C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A4643E4-AB50-44EC-905F-38320D5D6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62DD070-1057-47C7-8900-6AF5DB35B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9ECB506-9729-45F4-BE92-446888F96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D5716A9-687B-4635-8C13-F9FDD2E14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A5BFA4D-4A5C-4597-AF6E-A3059144C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108D561-2E0C-498F-982E-062B87CAD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A8D7830-DA4E-42EB-9743-742811954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59B564F-3A11-4059-8FA3-A2942EC45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89BAB58-F73B-4495-ADD5-05CC1495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2CE28-A7AE-49CA-BB97-88C608C2A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BA0CB7A-4AA7-4ABF-9B46-9FDCC03F2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67B574C-501C-469B-9016-C056741B3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DA5C452-4F5D-40E7-A80D-108F6C418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7263201-B621-4349-AC9F-5AF53C459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E103E6F-ABDA-404F-B77D-E894B2421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72F3A9C-25CE-4D22-8935-02E9A5DD0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197B484-100B-42EE-9EE3-41DBCB604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BADE510-5EE4-4392-B828-7EDA2C355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368F8A9-A987-4D69-BC27-C1CF6E2F8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12AA69F-FB13-4862-AE4B-195E1CFB7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6D9F7-6DB3-4733-84FF-4A144292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6AF1378-399B-4BCD-820F-BC30B6FF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98F8807-8CBE-44EA-AE66-A38716AF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AE1059E-0645-45A2-B128-78BFBADB5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76EE478-9049-42BC-B3EC-E8E509752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C446C0C-9F17-40ED-A0BE-D6BA63CC3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C8208-E295-41F2-BA7C-4FD505E4B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60936-9E9C-45FC-9DFD-D7F8741CF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F3E53132-A361-4180-92BB-9E8201CDB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1073D-F59F-4BE0-8C5D-6A6791201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FD034E59-C020-4DE6-B417-0B36791E8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BEFBE9F0-A3A6-4A07-8F43-AC107A05E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95669B26-F45C-49B1-A677-4D69F7300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248CB8BA-A7D9-407C-9918-87E94AA4B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E47A6564-5E34-43D2-A1A2-CDAA7123D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C68F9BA8-91DE-480F-8349-944E49FD7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42DBE35A-A27F-47CA-AE98-E51724B5F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4791211F-FD9A-405C-8E1B-6EA5E799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CF806BC5-729E-4F09-97BA-214D858F8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FC62FF84-6CA1-44FC-A901-C6F46B61D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3D609-189A-40C7-BDCA-ED81C1FE4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2E96648D-75E2-4F26-86D5-560B088C4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F709E44-AC32-4F62-BEFB-83229C05A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312CC62-7DB8-4ABA-9F90-F82A01792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68CBED7-0A1F-4F93-B0B3-F9F881649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DFEFC2C-5667-4690-9197-2C4C61434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F4AD02D-48AF-439B-BDD8-33E4057A4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4B71136-E96D-42D1-AE18-B4196FA95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88EEC7B-5D8A-4D1C-AD04-7CAD8B9C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5527629-5864-45BA-88DF-FB6906B4F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652DF54-75DE-4A93-8F58-731B37155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930288-4259-416B-B759-AFEDD6C19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96C3F4C-23E4-44CE-A167-8105C980D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3CC17E3-8C75-40D3-BE00-732A0846D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7A7D984-BEEE-4D04-9625-C8574EF36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E1187C0-3122-410C-9ED4-0843845A3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80314A6-0502-4A7E-BC76-C179896E4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20ABB3C-0395-4754-91A9-676D07A9A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9AA0601-D09C-4559-80F3-0722E8100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474A82A-1D57-4B58-8680-6DD5E90A2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2F35615-95A9-4C8D-986D-A9533D454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3857D31-62A5-4715-9CF1-95E7C206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4D13-119A-43AF-9175-483891DA7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88E44-3058-463F-B180-0111B47A4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97C3915-2686-41A1-8B93-B22BAD2F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38321A2-6FEC-425F-843B-AAA45912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D62149B-4BBB-4A54-AC83-8FF9068CA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C28A8DC-D0B6-4145-87C9-1B06E245E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785E7B6-0C3F-400B-9935-4AFDB2830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F930784-8556-4712-88C9-BD128275E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8B8EFD0-D197-485B-B3EE-84C308B9B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E085A72-D44E-488A-AA15-13A5B1647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F98B9A1-D7DB-4B12-AB11-6A76211A0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E7975E7-CC53-459A-B73F-14F8C1E71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A4D2C-55B3-4B08-8182-2316561B1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7AED41C-60F0-4C5A-9DA8-4BEE4948E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C467965-013D-4DFD-BBDB-3803EB2F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78BFAD1-6122-4EFD-B0A9-1643B551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83227C2-9DD8-4A33-A151-0C37057E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161FF0F-AE6A-4D19-84A3-96FB36A76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06BFCD7-9900-4605-A853-095ECF2FB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162ADD9-A36E-4AE0-8E8A-C74D2D4F5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0CEE121-7989-4E73-A048-B1BA84F70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7104644-FC50-4E38-B109-6DF79CFF5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23A3891-3910-45B7-B26D-53F928FCE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3259B-4563-4691-A70D-649E29AC5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FC442F6-1761-42B7-A5A9-7FC5C4EAE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09527EC-E4AD-4B52-A252-9CC98F295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EAE84F5-2E29-40B9-A387-1CE95D8E0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F8897FE-9966-41EA-8CA5-B883DAF75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B2F64F8-1601-46F6-B439-B2E2DBFF9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E1BCC0F-DC24-4E38-8121-9851CD6A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2AB4D0F-57AB-4BA2-832B-BBD73DC41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7945293-1C31-4E7C-B76A-B472C4705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3DCF243-37D2-43BD-9F0D-BA0CD53B0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776452A-492F-430D-94FB-B7648587E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92C4E3-4CB8-42B9-9E60-83B0C233D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648115D-6A58-4F7D-807D-2E4BC68D0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CC423B8-F205-4138-9F4A-7F27B2DB9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9986A03-0E10-4967-8720-879930C55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AB36225-61BC-4C98-9B01-022C42C96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F127ED0-FD39-421C-8CA3-1A4BAF0DF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7A79966-82D1-4EB9-8CD3-DAB9E22BF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FCEF7E6-F652-4270-9008-52F000A0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78B2972-2098-408B-B420-BE5636AA0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1FCE446-8C26-473D-A06C-6212A906A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113CE6E-FAA4-45E9-8D2E-EAE6A5A71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D2AB65-FD91-454F-A609-ABB91DCD5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FE95301-FDE8-41CB-89A9-DEFDABC99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09E6749-C3BB-4173-86BF-5BB50C120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325FF29-1015-4EA1-8AD5-4E85C7DDA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833EB12-1A3F-4F37-99A7-20D3047DD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675840B-F47A-407A-941A-50C584EED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AC27454-1CED-4334-B0DA-3CDE54DCC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B70DC5E-91F0-4690-8723-D4A4B491D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D1BC2A6-C5DC-4E8C-8195-59D2D75B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A6CA2A2-82CF-41D0-8748-1C824F4D9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B5BFAB6-74EA-4AD8-AD78-F4004582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16B5D1-C15F-47CF-97F5-EC963250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22356FD-D9C6-456F-BC85-3F9E1161B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F2AEBB1-F248-4849-B6EE-1CF2ED28C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BF8FD69-E150-4527-A237-8A4E28125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BC25DC7-72A8-41E7-95C8-3CF24D1E1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7F5CEB4-CF0E-4EC6-BEAC-B8900EA50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98FBD46-EFF9-4827-9EDA-74B5309DA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01D42E4-7438-4CE3-B475-93F2B2F2F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B8A2DE2-E5EB-4300-96FA-FDBFB0491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1D1DF86-1508-48F8-9882-E32ED7AF4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52CA14B-DAF3-4437-9FFB-C1D088489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19845D-6AA8-46D2-8B40-4F94E70F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69A9735-A68C-4093-9320-A94727203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7306B73-DB82-4E7D-8D16-DFCF355B7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D1D0069-9DB7-43F1-BEFC-6B96C9F70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504CAB2-2ABD-4A3B-A175-8B95050BE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0C92CB8-70D8-481D-836B-9082D14A4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03B8F86-C3E5-4F42-AB00-6664AF2E6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4446A98-7A90-4D8A-A513-671D48730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EF0A48C-F6C6-4177-A9AB-E0E431D67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E73849A-8F06-424D-B0EF-7D00D6754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8F633BD-F9E9-4D96-A349-4A9A970B8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F2884-98E8-47BF-AD58-950CDEA76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3ACC890-F085-4A79-A7DE-8583DF49A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E909BC1-EEA0-4DA0-B15C-45EB70F6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25B070B-1565-4A51-9DBC-D1696179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049E7E2-4F81-4DCD-AED5-71D01D53F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46E2E90-2987-4E7F-B83A-A48D32DA3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FD65885-9AF4-4454-B5CC-8E606F41C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8746560-2D46-4479-A19D-22728E799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D1F69EF-0A20-48D6-A1F7-2156D21AB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B773DC2-929B-4878-9F48-F71F95B90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5BA46CD-5E17-48FC-A6BE-BE9B07C0A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B5596E-FD5B-4881-A472-F00485579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EC3FA43D-3251-4026-94FB-324B8C02C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B507621-06F1-4C4B-9AE6-688ACF3BE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12ED4FD-584A-45F8-9B35-2082A20A6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83AE437-FF38-4E40-A847-9E400C62A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73B1CD0-78C1-4ED3-8855-DE128DF9A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74BE7C3-7FCA-442F-8A9E-26EF74388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7F3B941-624B-4737-8302-1A18480F7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2C99D94-59F2-48FA-A284-5268B3604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ECCA3FF-776F-45AB-BF3F-B4993C610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0258397-A42A-4E81-B714-10B30F97C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C45D9-29AF-4C8C-9287-B4C37B5DD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3CB6EE5-F609-4DAA-BD9B-76455DAC1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86598C8-C8AE-4BBE-881B-A2885020F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DCD41FB-21E3-4C9E-8208-D234D4B94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055061E-BB6D-49CA-9DF4-A8E97F1FB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5FFD435-9619-411E-BAA8-29F03A5D7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56DD506-2606-4245-BAEE-F33F5C2CB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60D86C2-DC59-4D5F-AF89-BABCC1A7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B880B67-0EA9-4E6A-A240-E1C5240F9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22F58C4-97D7-48FD-8344-3A1423539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B3EA2B2-EFE2-43DA-9B10-C8492F5FE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84DD-095A-4D37-AD08-B4049B6BE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A95D0-9B56-4C2C-8DFB-957ED2E6D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5B4D50B-EB55-4188-8621-295B08E0E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38827F-CA77-4828-AF19-D526F0ACE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3558E0-F750-41FA-BF39-2407B822B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9CB25A-D6AD-4327-901E-0E8867814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263371-AE41-4914-A882-0322920F3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467C56-D18E-467E-802B-E3E1C2B2B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1ACC96-AD61-4D59-894C-CA4768258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264FF1-4DED-4CDF-A538-EB256367F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8EA2F-9F6A-45F3-AD33-6C49CF77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6146EF-E87B-4CF6-A4C8-DFFCF569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3C51-86A5-4161-A914-F81751C71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3134AA-392A-4312-8C9A-CCDA26F19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D6F29C-F32F-45CB-A118-36D510155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D6C8FF-C24E-44B3-BA93-426BFFCCA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99B971-B723-445D-90DE-6979FB657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58A96C-4807-4F9E-A5EC-D11948602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4B9EB6-C027-4B8E-87CD-2967A2C4F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B00076-AACA-4655-868C-922C58303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CA00B4-78CC-41F1-8E44-32455EABF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E6FC9D-5D88-410C-B2F3-3681ECFFC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68B6B9-D3ED-4219-802F-8B4B9198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2B66-23C1-4914-9A60-12A3FC465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D31FCD-1E01-4A17-95EC-2A860A29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B48939-CA4C-456A-8C4F-19909AE44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27169F-D29C-400F-B96A-C379934CF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7EEC76-9420-426F-8BA7-E394398BA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E68876-47B2-46CC-B849-DE37118DC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C8C77B-0404-4806-A570-0724B08A8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38BA08-9DDD-4496-9E1D-995C1DFE5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259FAD-CF25-498B-891F-0DFEE756D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B6A122-A1A4-41DB-ACDF-20F8DF237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DC2FA0-4CF9-47D9-B2FB-77FDBA1CB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080C-D863-4FB5-AA6B-C64C837E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23D1C0-76A4-4B96-B7F6-D7E58BA62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71F8CD-3FDC-4017-B1EE-A7DD2DE7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A59F68-CDEA-471C-B5EE-4EDE3928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90196E-8F19-462C-BA11-53056B76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BEED83-A135-4FE2-BAB9-EE76D473F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A49F6F-006A-434D-9512-580E3C6DF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459657-7A71-4AEC-80B3-66C6F10B2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BE39F6-ED15-4DDD-B0F6-81A491C85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D8459F-60E0-4250-866C-835DC90FB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E7C2FB-B61F-423D-9AB1-45E357551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05.xml"/><Relationship Id="rId4" Type="http://schemas.openxmlformats.org/officeDocument/2006/relationships/slideLayout" Target="../slideLayouts/slideLayout506.xml"/><Relationship Id="rId5" Type="http://schemas.openxmlformats.org/officeDocument/2006/relationships/slideLayout" Target="../slideLayouts/slideLayout507.xml"/><Relationship Id="rId6" Type="http://schemas.openxmlformats.org/officeDocument/2006/relationships/slideLayout" Target="../slideLayouts/slideLayout508.xml"/><Relationship Id="rId7" Type="http://schemas.openxmlformats.org/officeDocument/2006/relationships/slideLayout" Target="../slideLayouts/slideLayout509.xml"/><Relationship Id="rId8" Type="http://schemas.openxmlformats.org/officeDocument/2006/relationships/slideLayout" Target="../slideLayouts/slideLayout510.xml"/><Relationship Id="rId9" Type="http://schemas.openxmlformats.org/officeDocument/2006/relationships/slideLayout" Target="../slideLayouts/slideLayout511.xml"/><Relationship Id="rId10" Type="http://schemas.openxmlformats.org/officeDocument/2006/relationships/slideLayout" Target="../slideLayouts/slideLayout512.xml"/><Relationship Id="rId11" Type="http://schemas.openxmlformats.org/officeDocument/2006/relationships/slideLayout" Target="../slideLayouts/slideLayout513.xml"/><Relationship Id="rId12" Type="http://schemas.openxmlformats.org/officeDocument/2006/relationships/slideLayout" Target="../slideLayouts/slideLayout514.xml"/><Relationship Id="rId13" Type="http://schemas.openxmlformats.org/officeDocument/2006/relationships/slideLayout" Target="../slideLayouts/slideLayout515.xml"/><Relationship Id="rId14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17.xml"/><Relationship Id="rId4" Type="http://schemas.openxmlformats.org/officeDocument/2006/relationships/slideLayout" Target="../slideLayouts/slideLayout518.xml"/><Relationship Id="rId5" Type="http://schemas.openxmlformats.org/officeDocument/2006/relationships/slideLayout" Target="../slideLayouts/slideLayout519.xml"/><Relationship Id="rId6" Type="http://schemas.openxmlformats.org/officeDocument/2006/relationships/slideLayout" Target="../slideLayouts/slideLayout520.xml"/><Relationship Id="rId7" Type="http://schemas.openxmlformats.org/officeDocument/2006/relationships/slideLayout" Target="../slideLayouts/slideLayout521.xml"/><Relationship Id="rId8" Type="http://schemas.openxmlformats.org/officeDocument/2006/relationships/slideLayout" Target="../slideLayouts/slideLayout522.xml"/><Relationship Id="rId9" Type="http://schemas.openxmlformats.org/officeDocument/2006/relationships/slideLayout" Target="../slideLayouts/slideLayout523.xml"/><Relationship Id="rId10" Type="http://schemas.openxmlformats.org/officeDocument/2006/relationships/slideLayout" Target="../slideLayouts/slideLayout524.xml"/><Relationship Id="rId11" Type="http://schemas.openxmlformats.org/officeDocument/2006/relationships/slideLayout" Target="../slideLayouts/slideLayout525.xml"/><Relationship Id="rId12" Type="http://schemas.openxmlformats.org/officeDocument/2006/relationships/slideLayout" Target="../slideLayouts/slideLayout526.xml"/><Relationship Id="rId13" Type="http://schemas.openxmlformats.org/officeDocument/2006/relationships/slideLayout" Target="../slideLayouts/slideLayout527.xml"/><Relationship Id="rId14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29.xml"/><Relationship Id="rId4" Type="http://schemas.openxmlformats.org/officeDocument/2006/relationships/slideLayout" Target="../slideLayouts/slideLayout530.xml"/><Relationship Id="rId5" Type="http://schemas.openxmlformats.org/officeDocument/2006/relationships/slideLayout" Target="../slideLayouts/slideLayout531.xml"/><Relationship Id="rId6" Type="http://schemas.openxmlformats.org/officeDocument/2006/relationships/slideLayout" Target="../slideLayouts/slideLayout532.xml"/><Relationship Id="rId7" Type="http://schemas.openxmlformats.org/officeDocument/2006/relationships/slideLayout" Target="../slideLayouts/slideLayout533.xml"/><Relationship Id="rId8" Type="http://schemas.openxmlformats.org/officeDocument/2006/relationships/slideLayout" Target="../slideLayouts/slideLayout534.xml"/><Relationship Id="rId9" Type="http://schemas.openxmlformats.org/officeDocument/2006/relationships/slideLayout" Target="../slideLayouts/slideLayout535.xml"/><Relationship Id="rId10" Type="http://schemas.openxmlformats.org/officeDocument/2006/relationships/slideLayout" Target="../slideLayouts/slideLayout536.xml"/><Relationship Id="rId11" Type="http://schemas.openxmlformats.org/officeDocument/2006/relationships/slideLayout" Target="../slideLayouts/slideLayout537.xml"/><Relationship Id="rId12" Type="http://schemas.openxmlformats.org/officeDocument/2006/relationships/slideLayout" Target="../slideLayouts/slideLayout538.xml"/><Relationship Id="rId13" Type="http://schemas.openxmlformats.org/officeDocument/2006/relationships/slideLayout" Target="../slideLayouts/slideLayout539.xml"/><Relationship Id="rId14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41.xml"/><Relationship Id="rId4" Type="http://schemas.openxmlformats.org/officeDocument/2006/relationships/slideLayout" Target="../slideLayouts/slideLayout542.xml"/><Relationship Id="rId5" Type="http://schemas.openxmlformats.org/officeDocument/2006/relationships/slideLayout" Target="../slideLayouts/slideLayout543.xml"/><Relationship Id="rId6" Type="http://schemas.openxmlformats.org/officeDocument/2006/relationships/slideLayout" Target="../slideLayouts/slideLayout544.xml"/><Relationship Id="rId7" Type="http://schemas.openxmlformats.org/officeDocument/2006/relationships/slideLayout" Target="../slideLayouts/slideLayout545.xml"/><Relationship Id="rId8" Type="http://schemas.openxmlformats.org/officeDocument/2006/relationships/slideLayout" Target="../slideLayouts/slideLayout546.xml"/><Relationship Id="rId9" Type="http://schemas.openxmlformats.org/officeDocument/2006/relationships/slideLayout" Target="../slideLayouts/slideLayout547.xml"/><Relationship Id="rId10" Type="http://schemas.openxmlformats.org/officeDocument/2006/relationships/slideLayout" Target="../slideLayouts/slideLayout548.xml"/><Relationship Id="rId11" Type="http://schemas.openxmlformats.org/officeDocument/2006/relationships/slideLayout" Target="../slideLayouts/slideLayout549.xml"/><Relationship Id="rId12" Type="http://schemas.openxmlformats.org/officeDocument/2006/relationships/slideLayout" Target="../slideLayouts/slideLayout550.xml"/><Relationship Id="rId13" Type="http://schemas.openxmlformats.org/officeDocument/2006/relationships/slideLayout" Target="../slideLayouts/slideLayout551.xml"/><Relationship Id="rId14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53.xml"/><Relationship Id="rId4" Type="http://schemas.openxmlformats.org/officeDocument/2006/relationships/slideLayout" Target="../slideLayouts/slideLayout554.xml"/><Relationship Id="rId5" Type="http://schemas.openxmlformats.org/officeDocument/2006/relationships/slideLayout" Target="../slideLayouts/slideLayout555.xml"/><Relationship Id="rId6" Type="http://schemas.openxmlformats.org/officeDocument/2006/relationships/slideLayout" Target="../slideLayouts/slideLayout556.xml"/><Relationship Id="rId7" Type="http://schemas.openxmlformats.org/officeDocument/2006/relationships/slideLayout" Target="../slideLayouts/slideLayout557.xml"/><Relationship Id="rId8" Type="http://schemas.openxmlformats.org/officeDocument/2006/relationships/slideLayout" Target="../slideLayouts/slideLayout558.xml"/><Relationship Id="rId9" Type="http://schemas.openxmlformats.org/officeDocument/2006/relationships/slideLayout" Target="../slideLayouts/slideLayout559.xml"/><Relationship Id="rId10" Type="http://schemas.openxmlformats.org/officeDocument/2006/relationships/slideLayout" Target="../slideLayouts/slideLayout560.xml"/><Relationship Id="rId11" Type="http://schemas.openxmlformats.org/officeDocument/2006/relationships/slideLayout" Target="../slideLayouts/slideLayout561.xml"/><Relationship Id="rId12" Type="http://schemas.openxmlformats.org/officeDocument/2006/relationships/slideLayout" Target="../slideLayouts/slideLayout562.xml"/><Relationship Id="rId13" Type="http://schemas.openxmlformats.org/officeDocument/2006/relationships/slideLayout" Target="../slideLayouts/slideLayout563.xml"/><Relationship Id="rId14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65.xml"/><Relationship Id="rId4" Type="http://schemas.openxmlformats.org/officeDocument/2006/relationships/slideLayout" Target="../slideLayouts/slideLayout566.xml"/><Relationship Id="rId5" Type="http://schemas.openxmlformats.org/officeDocument/2006/relationships/slideLayout" Target="../slideLayouts/slideLayout567.xml"/><Relationship Id="rId6" Type="http://schemas.openxmlformats.org/officeDocument/2006/relationships/slideLayout" Target="../slideLayouts/slideLayout568.xml"/><Relationship Id="rId7" Type="http://schemas.openxmlformats.org/officeDocument/2006/relationships/slideLayout" Target="../slideLayouts/slideLayout569.xml"/><Relationship Id="rId8" Type="http://schemas.openxmlformats.org/officeDocument/2006/relationships/slideLayout" Target="../slideLayouts/slideLayout570.xml"/><Relationship Id="rId9" Type="http://schemas.openxmlformats.org/officeDocument/2006/relationships/slideLayout" Target="../slideLayouts/slideLayout571.xml"/><Relationship Id="rId10" Type="http://schemas.openxmlformats.org/officeDocument/2006/relationships/slideLayout" Target="../slideLayouts/slideLayout572.xml"/><Relationship Id="rId11" Type="http://schemas.openxmlformats.org/officeDocument/2006/relationships/slideLayout" Target="../slideLayouts/slideLayout573.xml"/><Relationship Id="rId12" Type="http://schemas.openxmlformats.org/officeDocument/2006/relationships/slideLayout" Target="../slideLayouts/slideLayout574.xml"/><Relationship Id="rId13" Type="http://schemas.openxmlformats.org/officeDocument/2006/relationships/slideLayout" Target="../slideLayouts/slideLayout575.xml"/><Relationship Id="rId14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77.xml"/><Relationship Id="rId4" Type="http://schemas.openxmlformats.org/officeDocument/2006/relationships/slideLayout" Target="../slideLayouts/slideLayout578.xml"/><Relationship Id="rId5" Type="http://schemas.openxmlformats.org/officeDocument/2006/relationships/slideLayout" Target="../slideLayouts/slideLayout579.xml"/><Relationship Id="rId6" Type="http://schemas.openxmlformats.org/officeDocument/2006/relationships/slideLayout" Target="../slideLayouts/slideLayout580.xml"/><Relationship Id="rId7" Type="http://schemas.openxmlformats.org/officeDocument/2006/relationships/slideLayout" Target="../slideLayouts/slideLayout581.xml"/><Relationship Id="rId8" Type="http://schemas.openxmlformats.org/officeDocument/2006/relationships/slideLayout" Target="../slideLayouts/slideLayout582.xml"/><Relationship Id="rId9" Type="http://schemas.openxmlformats.org/officeDocument/2006/relationships/slideLayout" Target="../slideLayouts/slideLayout583.xml"/><Relationship Id="rId10" Type="http://schemas.openxmlformats.org/officeDocument/2006/relationships/slideLayout" Target="../slideLayouts/slideLayout584.xml"/><Relationship Id="rId11" Type="http://schemas.openxmlformats.org/officeDocument/2006/relationships/slideLayout" Target="../slideLayouts/slideLayout585.xml"/><Relationship Id="rId12" Type="http://schemas.openxmlformats.org/officeDocument/2006/relationships/slideLayout" Target="../slideLayouts/slideLayout586.xml"/><Relationship Id="rId13" Type="http://schemas.openxmlformats.org/officeDocument/2006/relationships/slideLayout" Target="../slideLayouts/slideLayout587.xml"/><Relationship Id="rId14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89.xml"/><Relationship Id="rId4" Type="http://schemas.openxmlformats.org/officeDocument/2006/relationships/slideLayout" Target="../slideLayouts/slideLayout590.xml"/><Relationship Id="rId5" Type="http://schemas.openxmlformats.org/officeDocument/2006/relationships/slideLayout" Target="../slideLayouts/slideLayout591.xml"/><Relationship Id="rId6" Type="http://schemas.openxmlformats.org/officeDocument/2006/relationships/slideLayout" Target="../slideLayouts/slideLayout592.xml"/><Relationship Id="rId7" Type="http://schemas.openxmlformats.org/officeDocument/2006/relationships/slideLayout" Target="../slideLayouts/slideLayout593.xml"/><Relationship Id="rId8" Type="http://schemas.openxmlformats.org/officeDocument/2006/relationships/slideLayout" Target="../slideLayouts/slideLayout594.xml"/><Relationship Id="rId9" Type="http://schemas.openxmlformats.org/officeDocument/2006/relationships/slideLayout" Target="../slideLayouts/slideLayout595.xml"/><Relationship Id="rId10" Type="http://schemas.openxmlformats.org/officeDocument/2006/relationships/slideLayout" Target="../slideLayouts/slideLayout596.xml"/><Relationship Id="rId11" Type="http://schemas.openxmlformats.org/officeDocument/2006/relationships/slideLayout" Target="../slideLayouts/slideLayout597.xml"/><Relationship Id="rId12" Type="http://schemas.openxmlformats.org/officeDocument/2006/relationships/slideLayout" Target="../slideLayouts/slideLayout598.xml"/><Relationship Id="rId13" Type="http://schemas.openxmlformats.org/officeDocument/2006/relationships/slideLayout" Target="../slideLayouts/slideLayout599.xml"/><Relationship Id="rId14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01.xml"/><Relationship Id="rId4" Type="http://schemas.openxmlformats.org/officeDocument/2006/relationships/slideLayout" Target="../slideLayouts/slideLayout602.xml"/><Relationship Id="rId5" Type="http://schemas.openxmlformats.org/officeDocument/2006/relationships/slideLayout" Target="../slideLayouts/slideLayout603.xml"/><Relationship Id="rId6" Type="http://schemas.openxmlformats.org/officeDocument/2006/relationships/slideLayout" Target="../slideLayouts/slideLayout604.xml"/><Relationship Id="rId7" Type="http://schemas.openxmlformats.org/officeDocument/2006/relationships/slideLayout" Target="../slideLayouts/slideLayout605.xml"/><Relationship Id="rId8" Type="http://schemas.openxmlformats.org/officeDocument/2006/relationships/slideLayout" Target="../slideLayouts/slideLayout606.xml"/><Relationship Id="rId9" Type="http://schemas.openxmlformats.org/officeDocument/2006/relationships/slideLayout" Target="../slideLayouts/slideLayout607.xml"/><Relationship Id="rId10" Type="http://schemas.openxmlformats.org/officeDocument/2006/relationships/slideLayout" Target="../slideLayouts/slideLayout608.xml"/><Relationship Id="rId11" Type="http://schemas.openxmlformats.org/officeDocument/2006/relationships/slideLayout" Target="../slideLayouts/slideLayout609.xml"/><Relationship Id="rId12" Type="http://schemas.openxmlformats.org/officeDocument/2006/relationships/slideLayout" Target="../slideLayouts/slideLayout610.xml"/><Relationship Id="rId13" Type="http://schemas.openxmlformats.org/officeDocument/2006/relationships/slideLayout" Target="../slideLayouts/slideLayout611.xml"/><Relationship Id="rId14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3.xml"/><Relationship Id="rId4" Type="http://schemas.openxmlformats.org/officeDocument/2006/relationships/slideLayout" Target="../slideLayouts/slideLayout614.xml"/><Relationship Id="rId5" Type="http://schemas.openxmlformats.org/officeDocument/2006/relationships/slideLayout" Target="../slideLayouts/slideLayout615.xml"/><Relationship Id="rId6" Type="http://schemas.openxmlformats.org/officeDocument/2006/relationships/slideLayout" Target="../slideLayouts/slideLayout616.xml"/><Relationship Id="rId7" Type="http://schemas.openxmlformats.org/officeDocument/2006/relationships/slideLayout" Target="../slideLayouts/slideLayout617.xml"/><Relationship Id="rId8" Type="http://schemas.openxmlformats.org/officeDocument/2006/relationships/slideLayout" Target="../slideLayouts/slideLayout618.xml"/><Relationship Id="rId9" Type="http://schemas.openxmlformats.org/officeDocument/2006/relationships/slideLayout" Target="../slideLayouts/slideLayout619.xml"/><Relationship Id="rId10" Type="http://schemas.openxmlformats.org/officeDocument/2006/relationships/slideLayout" Target="../slideLayouts/slideLayout620.xml"/><Relationship Id="rId11" Type="http://schemas.openxmlformats.org/officeDocument/2006/relationships/slideLayout" Target="../slideLayouts/slideLayout621.xml"/><Relationship Id="rId12" Type="http://schemas.openxmlformats.org/officeDocument/2006/relationships/slideLayout" Target="../slideLayouts/slideLayout622.xml"/><Relationship Id="rId13" Type="http://schemas.openxmlformats.org/officeDocument/2006/relationships/slideLayout" Target="../slideLayouts/slideLayout623.xml"/><Relationship Id="rId14" Type="http://schemas.openxmlformats.org/officeDocument/2006/relationships/slideLayout" Target="../slideLayouts/slideLayout624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-1440"/>
            <a:ext cx="9156600" cy="1035000"/>
          </a:xfrm>
          <a:custGeom>
            <a:avLst/>
            <a:gdLst>
              <a:gd name="textAreaLeft" fmla="*/ 0 w 9156600"/>
              <a:gd name="textAreaRight" fmla="*/ 9156960 w 9156600"/>
              <a:gd name="textAreaTop" fmla="*/ 0 h 1035000"/>
              <a:gd name="textAreaBottom" fmla="*/ 1035360 h 103500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" name="Freeform 7"/>
          <p:cNvGrpSpPr/>
          <p:nvPr/>
        </p:nvGrpSpPr>
        <p:grpSpPr>
          <a:xfrm>
            <a:off x="4376880" y="-6480"/>
            <a:ext cx="4773600" cy="609840"/>
            <a:chOff x="4376880" y="-6480"/>
            <a:chExt cx="4773600" cy="609840"/>
          </a:xfrm>
        </p:grpSpPr>
        <p:pic>
          <p:nvPicPr>
            <p:cNvPr id="2" name="Freeform 7" descr=""/>
            <p:cNvPicPr/>
            <p:nvPr/>
          </p:nvPicPr>
          <p:blipFill>
            <a:blip r:embed="rId3"/>
            <a:stretch/>
          </p:blipFill>
          <p:spPr>
            <a:xfrm>
              <a:off x="4376880" y="-6480"/>
              <a:ext cx="4773600" cy="58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381560" y="-1440"/>
              <a:ext cx="47624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4" name="Group 4"/>
          <p:cNvGrpSpPr/>
          <p:nvPr/>
        </p:nvGrpSpPr>
        <p:grpSpPr>
          <a:xfrm>
            <a:off x="-12600" y="203040"/>
            <a:ext cx="9174240" cy="648000"/>
            <a:chOff x="-12600" y="203040"/>
            <a:chExt cx="9174240" cy="648000"/>
          </a:xfrm>
        </p:grpSpPr>
        <p:grpSp>
          <p:nvGrpSpPr>
            <p:cNvPr id="5" name="Group 5"/>
            <p:cNvGrpSpPr/>
            <p:nvPr/>
          </p:nvGrpSpPr>
          <p:grpSpPr>
            <a:xfrm>
              <a:off x="-12600" y="203040"/>
              <a:ext cx="9150120" cy="648000"/>
              <a:chOff x="-12600" y="203040"/>
              <a:chExt cx="9150120" cy="648000"/>
            </a:xfrm>
          </p:grpSpPr>
          <p:pic>
            <p:nvPicPr>
              <p:cNvPr id="6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03040"/>
                <a:ext cx="91263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" name="Text Box 7"/>
              <p:cNvSpPr/>
              <p:nvPr/>
            </p:nvSpPr>
            <p:spPr>
              <a:xfrm rot="21435600">
                <a:off x="-1224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8" name="Group 8"/>
            <p:cNvGrpSpPr/>
            <p:nvPr/>
          </p:nvGrpSpPr>
          <p:grpSpPr>
            <a:xfrm>
              <a:off x="-12600" y="248040"/>
              <a:ext cx="9174240" cy="561600"/>
              <a:chOff x="-12600" y="248040"/>
              <a:chExt cx="9174240" cy="561600"/>
            </a:xfrm>
          </p:grpSpPr>
          <p:pic>
            <p:nvPicPr>
              <p:cNvPr id="9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3240" y="248040"/>
                <a:ext cx="915840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Text Box 10"/>
              <p:cNvSpPr/>
              <p:nvPr/>
            </p:nvSpPr>
            <p:spPr>
              <a:xfrm rot="21435600">
                <a:off x="-1224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35B36-BF64-4790-85C5-529BC27EC48F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79121-A1AF-44C5-82B2-9DC0BFF0534E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Freeform 6"/>
          <p:cNvSpPr/>
          <p:nvPr/>
        </p:nvSpPr>
        <p:spPr>
          <a:xfrm>
            <a:off x="-3240" y="-1440"/>
            <a:ext cx="9156600" cy="1035000"/>
          </a:xfrm>
          <a:custGeom>
            <a:avLst/>
            <a:gdLst>
              <a:gd name="textAreaLeft" fmla="*/ 0 w 9156600"/>
              <a:gd name="textAreaRight" fmla="*/ 9156960 w 9156600"/>
              <a:gd name="textAreaTop" fmla="*/ 0 h 1035000"/>
              <a:gd name="textAreaBottom" fmla="*/ 1035360 h 103500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46" name="Freeform 7"/>
          <p:cNvGrpSpPr/>
          <p:nvPr/>
        </p:nvGrpSpPr>
        <p:grpSpPr>
          <a:xfrm>
            <a:off x="4376880" y="-6480"/>
            <a:ext cx="4773600" cy="609840"/>
            <a:chOff x="4376880" y="-6480"/>
            <a:chExt cx="4773600" cy="609840"/>
          </a:xfrm>
        </p:grpSpPr>
        <p:pic>
          <p:nvPicPr>
            <p:cNvPr id="447" name="Freeform 7" descr=""/>
            <p:cNvPicPr/>
            <p:nvPr/>
          </p:nvPicPr>
          <p:blipFill>
            <a:blip r:embed="rId3"/>
            <a:stretch/>
          </p:blipFill>
          <p:spPr>
            <a:xfrm>
              <a:off x="4376880" y="-6480"/>
              <a:ext cx="4773600" cy="58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4381560" y="-1440"/>
              <a:ext cx="47624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449" name="Group 4"/>
          <p:cNvGrpSpPr/>
          <p:nvPr/>
        </p:nvGrpSpPr>
        <p:grpSpPr>
          <a:xfrm>
            <a:off x="-12600" y="203040"/>
            <a:ext cx="9174240" cy="648000"/>
            <a:chOff x="-12600" y="203040"/>
            <a:chExt cx="9174240" cy="648000"/>
          </a:xfrm>
        </p:grpSpPr>
        <p:grpSp>
          <p:nvGrpSpPr>
            <p:cNvPr id="450" name="Group 5"/>
            <p:cNvGrpSpPr/>
            <p:nvPr/>
          </p:nvGrpSpPr>
          <p:grpSpPr>
            <a:xfrm>
              <a:off x="-12600" y="203040"/>
              <a:ext cx="9150120" cy="648000"/>
              <a:chOff x="-12600" y="203040"/>
              <a:chExt cx="9150120" cy="648000"/>
            </a:xfrm>
          </p:grpSpPr>
          <p:pic>
            <p:nvPicPr>
              <p:cNvPr id="451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03040"/>
                <a:ext cx="91263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2" name="Text Box 7"/>
              <p:cNvSpPr/>
              <p:nvPr/>
            </p:nvSpPr>
            <p:spPr>
              <a:xfrm rot="21435600">
                <a:off x="-1224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453" name="Group 8"/>
            <p:cNvGrpSpPr/>
            <p:nvPr/>
          </p:nvGrpSpPr>
          <p:grpSpPr>
            <a:xfrm>
              <a:off x="-12600" y="248040"/>
              <a:ext cx="9174240" cy="561600"/>
              <a:chOff x="-12600" y="248040"/>
              <a:chExt cx="9174240" cy="561600"/>
            </a:xfrm>
          </p:grpSpPr>
          <p:pic>
            <p:nvPicPr>
              <p:cNvPr id="454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3240" y="248040"/>
                <a:ext cx="915840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5" name="Text Box 10"/>
              <p:cNvSpPr/>
              <p:nvPr/>
            </p:nvSpPr>
            <p:spPr>
              <a:xfrm rot="21435600">
                <a:off x="-1224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67748-CCED-466A-B4CC-7446CC99B1CF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52CB7-C0D6-43CE-B8EB-7EC9CEAAA37D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Freeform 6"/>
          <p:cNvSpPr/>
          <p:nvPr/>
        </p:nvSpPr>
        <p:spPr>
          <a:xfrm>
            <a:off x="-3240" y="-1440"/>
            <a:ext cx="9156600" cy="1035000"/>
          </a:xfrm>
          <a:custGeom>
            <a:avLst/>
            <a:gdLst>
              <a:gd name="textAreaLeft" fmla="*/ 0 w 9156600"/>
              <a:gd name="textAreaRight" fmla="*/ 9156960 w 9156600"/>
              <a:gd name="textAreaTop" fmla="*/ 0 h 1035000"/>
              <a:gd name="textAreaBottom" fmla="*/ 1035360 h 103500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98" name="Freeform 7"/>
          <p:cNvGrpSpPr/>
          <p:nvPr/>
        </p:nvGrpSpPr>
        <p:grpSpPr>
          <a:xfrm>
            <a:off x="4376880" y="-6480"/>
            <a:ext cx="4773600" cy="609840"/>
            <a:chOff x="4376880" y="-6480"/>
            <a:chExt cx="4773600" cy="609840"/>
          </a:xfrm>
        </p:grpSpPr>
        <p:pic>
          <p:nvPicPr>
            <p:cNvPr id="499" name="Freeform 7" descr=""/>
            <p:cNvPicPr/>
            <p:nvPr/>
          </p:nvPicPr>
          <p:blipFill>
            <a:blip r:embed="rId3"/>
            <a:stretch/>
          </p:blipFill>
          <p:spPr>
            <a:xfrm>
              <a:off x="4376880" y="-6480"/>
              <a:ext cx="4773600" cy="58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0" name=""/>
            <p:cNvSpPr/>
            <p:nvPr/>
          </p:nvSpPr>
          <p:spPr>
            <a:xfrm>
              <a:off x="4381560" y="-1440"/>
              <a:ext cx="47624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501" name="Group 4"/>
          <p:cNvGrpSpPr/>
          <p:nvPr/>
        </p:nvGrpSpPr>
        <p:grpSpPr>
          <a:xfrm>
            <a:off x="-12600" y="203040"/>
            <a:ext cx="9174240" cy="648000"/>
            <a:chOff x="-12600" y="203040"/>
            <a:chExt cx="9174240" cy="648000"/>
          </a:xfrm>
        </p:grpSpPr>
        <p:grpSp>
          <p:nvGrpSpPr>
            <p:cNvPr id="502" name="Group 5"/>
            <p:cNvGrpSpPr/>
            <p:nvPr/>
          </p:nvGrpSpPr>
          <p:grpSpPr>
            <a:xfrm>
              <a:off x="-12600" y="203040"/>
              <a:ext cx="9150120" cy="648000"/>
              <a:chOff x="-12600" y="203040"/>
              <a:chExt cx="9150120" cy="648000"/>
            </a:xfrm>
          </p:grpSpPr>
          <p:pic>
            <p:nvPicPr>
              <p:cNvPr id="503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03040"/>
                <a:ext cx="91263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4" name="Text Box 7"/>
              <p:cNvSpPr/>
              <p:nvPr/>
            </p:nvSpPr>
            <p:spPr>
              <a:xfrm rot="21435600">
                <a:off x="-1224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505" name="Group 8"/>
            <p:cNvGrpSpPr/>
            <p:nvPr/>
          </p:nvGrpSpPr>
          <p:grpSpPr>
            <a:xfrm>
              <a:off x="-12600" y="248040"/>
              <a:ext cx="9174240" cy="561600"/>
              <a:chOff x="-12600" y="248040"/>
              <a:chExt cx="9174240" cy="561600"/>
            </a:xfrm>
          </p:grpSpPr>
          <p:pic>
            <p:nvPicPr>
              <p:cNvPr id="506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3240" y="248040"/>
                <a:ext cx="915840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7" name="Text Box 10"/>
              <p:cNvSpPr/>
              <p:nvPr/>
            </p:nvSpPr>
            <p:spPr>
              <a:xfrm rot="21435600">
                <a:off x="-1224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A5DCA-E91C-475C-B486-CDF382BBD1B6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522E3-55E3-42D2-9F95-279C5FC21443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Freeform 6"/>
          <p:cNvSpPr/>
          <p:nvPr/>
        </p:nvSpPr>
        <p:spPr>
          <a:xfrm>
            <a:off x="-3240" y="-1440"/>
            <a:ext cx="9156600" cy="1035000"/>
          </a:xfrm>
          <a:custGeom>
            <a:avLst/>
            <a:gdLst>
              <a:gd name="textAreaLeft" fmla="*/ 0 w 9156600"/>
              <a:gd name="textAreaRight" fmla="*/ 9156960 w 9156600"/>
              <a:gd name="textAreaTop" fmla="*/ 0 h 1035000"/>
              <a:gd name="textAreaBottom" fmla="*/ 1035360 h 103500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50" name="Freeform 7"/>
          <p:cNvGrpSpPr/>
          <p:nvPr/>
        </p:nvGrpSpPr>
        <p:grpSpPr>
          <a:xfrm>
            <a:off x="4376880" y="-6480"/>
            <a:ext cx="4773600" cy="609840"/>
            <a:chOff x="4376880" y="-6480"/>
            <a:chExt cx="4773600" cy="609840"/>
          </a:xfrm>
        </p:grpSpPr>
        <p:pic>
          <p:nvPicPr>
            <p:cNvPr id="551" name="Freeform 7" descr=""/>
            <p:cNvPicPr/>
            <p:nvPr/>
          </p:nvPicPr>
          <p:blipFill>
            <a:blip r:embed="rId3"/>
            <a:stretch/>
          </p:blipFill>
          <p:spPr>
            <a:xfrm>
              <a:off x="4376880" y="-6480"/>
              <a:ext cx="4773600" cy="58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2" name=""/>
            <p:cNvSpPr/>
            <p:nvPr/>
          </p:nvSpPr>
          <p:spPr>
            <a:xfrm>
              <a:off x="4381560" y="-1440"/>
              <a:ext cx="47624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553" name="Group 4"/>
          <p:cNvGrpSpPr/>
          <p:nvPr/>
        </p:nvGrpSpPr>
        <p:grpSpPr>
          <a:xfrm>
            <a:off x="-12600" y="203040"/>
            <a:ext cx="9174240" cy="648000"/>
            <a:chOff x="-12600" y="203040"/>
            <a:chExt cx="9174240" cy="648000"/>
          </a:xfrm>
        </p:grpSpPr>
        <p:grpSp>
          <p:nvGrpSpPr>
            <p:cNvPr id="554" name="Group 5"/>
            <p:cNvGrpSpPr/>
            <p:nvPr/>
          </p:nvGrpSpPr>
          <p:grpSpPr>
            <a:xfrm>
              <a:off x="-12600" y="203040"/>
              <a:ext cx="9150120" cy="648000"/>
              <a:chOff x="-12600" y="203040"/>
              <a:chExt cx="9150120" cy="648000"/>
            </a:xfrm>
          </p:grpSpPr>
          <p:pic>
            <p:nvPicPr>
              <p:cNvPr id="555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03040"/>
                <a:ext cx="91263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6" name="Text Box 7"/>
              <p:cNvSpPr/>
              <p:nvPr/>
            </p:nvSpPr>
            <p:spPr>
              <a:xfrm rot="21435600">
                <a:off x="-1224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557" name="Group 8"/>
            <p:cNvGrpSpPr/>
            <p:nvPr/>
          </p:nvGrpSpPr>
          <p:grpSpPr>
            <a:xfrm>
              <a:off x="-12600" y="248040"/>
              <a:ext cx="9174240" cy="561600"/>
              <a:chOff x="-12600" y="248040"/>
              <a:chExt cx="9174240" cy="561600"/>
            </a:xfrm>
          </p:grpSpPr>
          <p:pic>
            <p:nvPicPr>
              <p:cNvPr id="558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3240" y="248040"/>
                <a:ext cx="915840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9" name="Text Box 10"/>
              <p:cNvSpPr/>
              <p:nvPr/>
            </p:nvSpPr>
            <p:spPr>
              <a:xfrm rot="21435600">
                <a:off x="-1224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D38B9-D928-4EC0-A1DD-ECAE36C9CEE3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EA37B-D90B-49D3-A10A-82989701B99E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Freeform 6"/>
          <p:cNvSpPr/>
          <p:nvPr/>
        </p:nvSpPr>
        <p:spPr>
          <a:xfrm>
            <a:off x="-3240" y="-1440"/>
            <a:ext cx="9156600" cy="1035000"/>
          </a:xfrm>
          <a:custGeom>
            <a:avLst/>
            <a:gdLst>
              <a:gd name="textAreaLeft" fmla="*/ 0 w 9156600"/>
              <a:gd name="textAreaRight" fmla="*/ 9156960 w 9156600"/>
              <a:gd name="textAreaTop" fmla="*/ 0 h 1035000"/>
              <a:gd name="textAreaBottom" fmla="*/ 1035360 h 103500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602" name="Freeform 7"/>
          <p:cNvGrpSpPr/>
          <p:nvPr/>
        </p:nvGrpSpPr>
        <p:grpSpPr>
          <a:xfrm>
            <a:off x="4376880" y="-6480"/>
            <a:ext cx="4773600" cy="609840"/>
            <a:chOff x="4376880" y="-6480"/>
            <a:chExt cx="4773600" cy="609840"/>
          </a:xfrm>
        </p:grpSpPr>
        <p:pic>
          <p:nvPicPr>
            <p:cNvPr id="603" name="Freeform 7" descr=""/>
            <p:cNvPicPr/>
            <p:nvPr/>
          </p:nvPicPr>
          <p:blipFill>
            <a:blip r:embed="rId3"/>
            <a:stretch/>
          </p:blipFill>
          <p:spPr>
            <a:xfrm>
              <a:off x="4376880" y="-6480"/>
              <a:ext cx="4773600" cy="58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4" name=""/>
            <p:cNvSpPr/>
            <p:nvPr/>
          </p:nvSpPr>
          <p:spPr>
            <a:xfrm>
              <a:off x="4381560" y="-1440"/>
              <a:ext cx="47624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605" name="Group 4"/>
          <p:cNvGrpSpPr/>
          <p:nvPr/>
        </p:nvGrpSpPr>
        <p:grpSpPr>
          <a:xfrm>
            <a:off x="-12600" y="203040"/>
            <a:ext cx="9174240" cy="648000"/>
            <a:chOff x="-12600" y="203040"/>
            <a:chExt cx="9174240" cy="648000"/>
          </a:xfrm>
        </p:grpSpPr>
        <p:grpSp>
          <p:nvGrpSpPr>
            <p:cNvPr id="606" name="Group 5"/>
            <p:cNvGrpSpPr/>
            <p:nvPr/>
          </p:nvGrpSpPr>
          <p:grpSpPr>
            <a:xfrm>
              <a:off x="-12600" y="203040"/>
              <a:ext cx="9150120" cy="648000"/>
              <a:chOff x="-12600" y="203040"/>
              <a:chExt cx="9150120" cy="648000"/>
            </a:xfrm>
          </p:grpSpPr>
          <p:pic>
            <p:nvPicPr>
              <p:cNvPr id="607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03040"/>
                <a:ext cx="91263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8" name="Text Box 7"/>
              <p:cNvSpPr/>
              <p:nvPr/>
            </p:nvSpPr>
            <p:spPr>
              <a:xfrm rot="21435600">
                <a:off x="-1224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609" name="Group 8"/>
            <p:cNvGrpSpPr/>
            <p:nvPr/>
          </p:nvGrpSpPr>
          <p:grpSpPr>
            <a:xfrm>
              <a:off x="-12600" y="248040"/>
              <a:ext cx="9174240" cy="561600"/>
              <a:chOff x="-12600" y="248040"/>
              <a:chExt cx="9174240" cy="561600"/>
            </a:xfrm>
          </p:grpSpPr>
          <p:pic>
            <p:nvPicPr>
              <p:cNvPr id="610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3240" y="248040"/>
                <a:ext cx="915840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1" name="Text Box 10"/>
              <p:cNvSpPr/>
              <p:nvPr/>
            </p:nvSpPr>
            <p:spPr>
              <a:xfrm rot="21435600">
                <a:off x="-1224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88282-4AB5-48CE-9AAC-A36B290EA485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344B4-838C-4F09-B308-06ACBAC83656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Freeform 6"/>
          <p:cNvSpPr/>
          <p:nvPr/>
        </p:nvSpPr>
        <p:spPr>
          <a:xfrm>
            <a:off x="-3240" y="-1440"/>
            <a:ext cx="9156600" cy="1035000"/>
          </a:xfrm>
          <a:custGeom>
            <a:avLst/>
            <a:gdLst>
              <a:gd name="textAreaLeft" fmla="*/ 0 w 9156600"/>
              <a:gd name="textAreaRight" fmla="*/ 9156960 w 9156600"/>
              <a:gd name="textAreaTop" fmla="*/ 0 h 1035000"/>
              <a:gd name="textAreaBottom" fmla="*/ 1035360 h 103500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654" name="Freeform 7"/>
          <p:cNvGrpSpPr/>
          <p:nvPr/>
        </p:nvGrpSpPr>
        <p:grpSpPr>
          <a:xfrm>
            <a:off x="4376880" y="-6480"/>
            <a:ext cx="4773600" cy="609840"/>
            <a:chOff x="4376880" y="-6480"/>
            <a:chExt cx="4773600" cy="609840"/>
          </a:xfrm>
        </p:grpSpPr>
        <p:pic>
          <p:nvPicPr>
            <p:cNvPr id="655" name="Freeform 7" descr=""/>
            <p:cNvPicPr/>
            <p:nvPr/>
          </p:nvPicPr>
          <p:blipFill>
            <a:blip r:embed="rId3"/>
            <a:stretch/>
          </p:blipFill>
          <p:spPr>
            <a:xfrm>
              <a:off x="4376880" y="-6480"/>
              <a:ext cx="4773600" cy="58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6" name=""/>
            <p:cNvSpPr/>
            <p:nvPr/>
          </p:nvSpPr>
          <p:spPr>
            <a:xfrm>
              <a:off x="4381560" y="-1440"/>
              <a:ext cx="47624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657" name="Group 4"/>
          <p:cNvGrpSpPr/>
          <p:nvPr/>
        </p:nvGrpSpPr>
        <p:grpSpPr>
          <a:xfrm>
            <a:off x="-12600" y="203040"/>
            <a:ext cx="9174240" cy="648000"/>
            <a:chOff x="-12600" y="203040"/>
            <a:chExt cx="9174240" cy="648000"/>
          </a:xfrm>
        </p:grpSpPr>
        <p:grpSp>
          <p:nvGrpSpPr>
            <p:cNvPr id="658" name="Group 5"/>
            <p:cNvGrpSpPr/>
            <p:nvPr/>
          </p:nvGrpSpPr>
          <p:grpSpPr>
            <a:xfrm>
              <a:off x="-12600" y="203040"/>
              <a:ext cx="9150120" cy="648000"/>
              <a:chOff x="-12600" y="203040"/>
              <a:chExt cx="9150120" cy="648000"/>
            </a:xfrm>
          </p:grpSpPr>
          <p:pic>
            <p:nvPicPr>
              <p:cNvPr id="659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03040"/>
                <a:ext cx="91263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0" name="Text Box 7"/>
              <p:cNvSpPr/>
              <p:nvPr/>
            </p:nvSpPr>
            <p:spPr>
              <a:xfrm rot="21435600">
                <a:off x="-1224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661" name="Group 8"/>
            <p:cNvGrpSpPr/>
            <p:nvPr/>
          </p:nvGrpSpPr>
          <p:grpSpPr>
            <a:xfrm>
              <a:off x="-12600" y="248040"/>
              <a:ext cx="9174240" cy="561600"/>
              <a:chOff x="-12600" y="248040"/>
              <a:chExt cx="9174240" cy="561600"/>
            </a:xfrm>
          </p:grpSpPr>
          <p:pic>
            <p:nvPicPr>
              <p:cNvPr id="662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3240" y="248040"/>
                <a:ext cx="915840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3" name="Text Box 10"/>
              <p:cNvSpPr/>
              <p:nvPr/>
            </p:nvSpPr>
            <p:spPr>
              <a:xfrm rot="21435600">
                <a:off x="-1224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DA703-BFA5-4E85-9F17-6BBF784983A1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 type="ftr" idx="4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 type="sldNum" idx="4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8CC7B-0A3F-440F-B098-77EE12ED3FE9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Freeform 6"/>
          <p:cNvSpPr/>
          <p:nvPr/>
        </p:nvSpPr>
        <p:spPr>
          <a:xfrm>
            <a:off x="-3240" y="-1440"/>
            <a:ext cx="9156600" cy="1035000"/>
          </a:xfrm>
          <a:custGeom>
            <a:avLst/>
            <a:gdLst>
              <a:gd name="textAreaLeft" fmla="*/ 0 w 9156600"/>
              <a:gd name="textAreaRight" fmla="*/ 9156960 w 9156600"/>
              <a:gd name="textAreaTop" fmla="*/ 0 h 1035000"/>
              <a:gd name="textAreaBottom" fmla="*/ 1035360 h 103500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706" name="Freeform 7"/>
          <p:cNvGrpSpPr/>
          <p:nvPr/>
        </p:nvGrpSpPr>
        <p:grpSpPr>
          <a:xfrm>
            <a:off x="4376880" y="-6480"/>
            <a:ext cx="4773600" cy="609840"/>
            <a:chOff x="4376880" y="-6480"/>
            <a:chExt cx="4773600" cy="609840"/>
          </a:xfrm>
        </p:grpSpPr>
        <p:pic>
          <p:nvPicPr>
            <p:cNvPr id="707" name="Freeform 7" descr=""/>
            <p:cNvPicPr/>
            <p:nvPr/>
          </p:nvPicPr>
          <p:blipFill>
            <a:blip r:embed="rId3"/>
            <a:stretch/>
          </p:blipFill>
          <p:spPr>
            <a:xfrm>
              <a:off x="4376880" y="-6480"/>
              <a:ext cx="4773600" cy="58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8" name=""/>
            <p:cNvSpPr/>
            <p:nvPr/>
          </p:nvSpPr>
          <p:spPr>
            <a:xfrm>
              <a:off x="4381560" y="-1440"/>
              <a:ext cx="47624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709" name="Group 4"/>
          <p:cNvGrpSpPr/>
          <p:nvPr/>
        </p:nvGrpSpPr>
        <p:grpSpPr>
          <a:xfrm>
            <a:off x="-12600" y="203040"/>
            <a:ext cx="9174240" cy="648000"/>
            <a:chOff x="-12600" y="203040"/>
            <a:chExt cx="9174240" cy="648000"/>
          </a:xfrm>
        </p:grpSpPr>
        <p:grpSp>
          <p:nvGrpSpPr>
            <p:cNvPr id="710" name="Group 5"/>
            <p:cNvGrpSpPr/>
            <p:nvPr/>
          </p:nvGrpSpPr>
          <p:grpSpPr>
            <a:xfrm>
              <a:off x="-12600" y="203040"/>
              <a:ext cx="9150120" cy="648000"/>
              <a:chOff x="-12600" y="203040"/>
              <a:chExt cx="9150120" cy="648000"/>
            </a:xfrm>
          </p:grpSpPr>
          <p:pic>
            <p:nvPicPr>
              <p:cNvPr id="711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03040"/>
                <a:ext cx="91263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2" name="Text Box 7"/>
              <p:cNvSpPr/>
              <p:nvPr/>
            </p:nvSpPr>
            <p:spPr>
              <a:xfrm rot="21435600">
                <a:off x="-1224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713" name="Group 8"/>
            <p:cNvGrpSpPr/>
            <p:nvPr/>
          </p:nvGrpSpPr>
          <p:grpSpPr>
            <a:xfrm>
              <a:off x="-12600" y="248040"/>
              <a:ext cx="9174240" cy="561600"/>
              <a:chOff x="-12600" y="248040"/>
              <a:chExt cx="9174240" cy="561600"/>
            </a:xfrm>
          </p:grpSpPr>
          <p:pic>
            <p:nvPicPr>
              <p:cNvPr id="714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3240" y="248040"/>
                <a:ext cx="915840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5" name="Text Box 10"/>
              <p:cNvSpPr/>
              <p:nvPr/>
            </p:nvSpPr>
            <p:spPr>
              <a:xfrm rot="21435600">
                <a:off x="-1224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67BE1-9632-4529-815C-79DF38763511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 type="ftr" idx="4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 type="sldNum" idx="4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6EAEC-B32B-4904-9981-9A67F6FA38E8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25816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8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9" name="Freeform 15"/>
          <p:cNvSpPr/>
          <p:nvPr/>
        </p:nvSpPr>
        <p:spPr>
          <a:xfrm flipV="1">
            <a:off x="-2880" y="5815440"/>
            <a:ext cx="9156600" cy="1041480"/>
          </a:xfrm>
          <a:custGeom>
            <a:avLst/>
            <a:gdLst>
              <a:gd name="textAreaLeft" fmla="*/ 0 w 9156600"/>
              <a:gd name="textAreaRight" fmla="*/ 9156960 w 915660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760" name="Freeform 16"/>
          <p:cNvGrpSpPr/>
          <p:nvPr/>
        </p:nvGrpSpPr>
        <p:grpSpPr>
          <a:xfrm>
            <a:off x="4376880" y="6241680"/>
            <a:ext cx="4773600" cy="622440"/>
            <a:chOff x="4376880" y="6241680"/>
            <a:chExt cx="4773600" cy="622440"/>
          </a:xfrm>
        </p:grpSpPr>
        <p:pic>
          <p:nvPicPr>
            <p:cNvPr id="761" name="Freeform 16" descr=""/>
            <p:cNvPicPr/>
            <p:nvPr/>
          </p:nvPicPr>
          <p:blipFill>
            <a:blip r:embed="rId3"/>
            <a:stretch/>
          </p:blipFill>
          <p:spPr>
            <a:xfrm>
              <a:off x="4376880" y="6263280"/>
              <a:ext cx="4773600" cy="60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2" name=""/>
            <p:cNvSpPr/>
            <p:nvPr/>
          </p:nvSpPr>
          <p:spPr>
            <a:xfrm rot="10800000">
              <a:off x="4381200" y="6241680"/>
              <a:ext cx="4762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BAB4F-9197-4342-8A41-AFBC66E146B2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 type="ftr" idx="4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 type="sldNum" idx="48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86038-C4F4-40E2-96A4-283A143C949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25816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5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6" name="Freeform 15"/>
          <p:cNvSpPr/>
          <p:nvPr/>
        </p:nvSpPr>
        <p:spPr>
          <a:xfrm flipV="1">
            <a:off x="-2880" y="5815440"/>
            <a:ext cx="9156600" cy="1041480"/>
          </a:xfrm>
          <a:custGeom>
            <a:avLst/>
            <a:gdLst>
              <a:gd name="textAreaLeft" fmla="*/ 0 w 9156600"/>
              <a:gd name="textAreaRight" fmla="*/ 9156960 w 915660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07" name="Freeform 16"/>
          <p:cNvGrpSpPr/>
          <p:nvPr/>
        </p:nvGrpSpPr>
        <p:grpSpPr>
          <a:xfrm>
            <a:off x="4376880" y="6241680"/>
            <a:ext cx="4773600" cy="622440"/>
            <a:chOff x="4376880" y="6241680"/>
            <a:chExt cx="4773600" cy="622440"/>
          </a:xfrm>
        </p:grpSpPr>
        <p:pic>
          <p:nvPicPr>
            <p:cNvPr id="808" name="Freeform 16" descr=""/>
            <p:cNvPicPr/>
            <p:nvPr/>
          </p:nvPicPr>
          <p:blipFill>
            <a:blip r:embed="rId3"/>
            <a:stretch/>
          </p:blipFill>
          <p:spPr>
            <a:xfrm>
              <a:off x="4376880" y="6263280"/>
              <a:ext cx="4773600" cy="60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"/>
            <p:cNvSpPr/>
            <p:nvPr/>
          </p:nvSpPr>
          <p:spPr>
            <a:xfrm rot="10800000">
              <a:off x="4381200" y="6241680"/>
              <a:ext cx="4762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128E9-8132-4864-A15F-7EBEFBCA5EB3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 type="ftr" idx="5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 type="sldNum" idx="51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5A7F2-4AB5-4B64-A7CD-90195388912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25816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2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3" name="Freeform 15"/>
          <p:cNvSpPr/>
          <p:nvPr/>
        </p:nvSpPr>
        <p:spPr>
          <a:xfrm flipV="1">
            <a:off x="-2880" y="5815440"/>
            <a:ext cx="9156600" cy="1041480"/>
          </a:xfrm>
          <a:custGeom>
            <a:avLst/>
            <a:gdLst>
              <a:gd name="textAreaLeft" fmla="*/ 0 w 9156600"/>
              <a:gd name="textAreaRight" fmla="*/ 9156960 w 915660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54" name="Freeform 16"/>
          <p:cNvGrpSpPr/>
          <p:nvPr/>
        </p:nvGrpSpPr>
        <p:grpSpPr>
          <a:xfrm>
            <a:off x="4376880" y="6241680"/>
            <a:ext cx="4773600" cy="622440"/>
            <a:chOff x="4376880" y="6241680"/>
            <a:chExt cx="4773600" cy="622440"/>
          </a:xfrm>
        </p:grpSpPr>
        <p:pic>
          <p:nvPicPr>
            <p:cNvPr id="855" name="Freeform 16" descr=""/>
            <p:cNvPicPr/>
            <p:nvPr/>
          </p:nvPicPr>
          <p:blipFill>
            <a:blip r:embed="rId3"/>
            <a:stretch/>
          </p:blipFill>
          <p:spPr>
            <a:xfrm>
              <a:off x="4376880" y="6263280"/>
              <a:ext cx="4773600" cy="60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6" name=""/>
            <p:cNvSpPr/>
            <p:nvPr/>
          </p:nvSpPr>
          <p:spPr>
            <a:xfrm rot="10800000">
              <a:off x="4381200" y="6241680"/>
              <a:ext cx="4762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B7C22-7EA7-4FB9-8724-CDDA0D2C9DFE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5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54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9F640-73B7-4EEB-A58C-8CC9CC60783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25816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9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0" name="Freeform 15"/>
          <p:cNvSpPr/>
          <p:nvPr/>
        </p:nvSpPr>
        <p:spPr>
          <a:xfrm flipV="1">
            <a:off x="-2880" y="5815440"/>
            <a:ext cx="9156600" cy="1041480"/>
          </a:xfrm>
          <a:custGeom>
            <a:avLst/>
            <a:gdLst>
              <a:gd name="textAreaLeft" fmla="*/ 0 w 9156600"/>
              <a:gd name="textAreaRight" fmla="*/ 9156960 w 915660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901" name="Freeform 16"/>
          <p:cNvGrpSpPr/>
          <p:nvPr/>
        </p:nvGrpSpPr>
        <p:grpSpPr>
          <a:xfrm>
            <a:off x="4376880" y="6241680"/>
            <a:ext cx="4773600" cy="622440"/>
            <a:chOff x="4376880" y="6241680"/>
            <a:chExt cx="4773600" cy="622440"/>
          </a:xfrm>
        </p:grpSpPr>
        <p:pic>
          <p:nvPicPr>
            <p:cNvPr id="902" name="Freeform 16" descr=""/>
            <p:cNvPicPr/>
            <p:nvPr/>
          </p:nvPicPr>
          <p:blipFill>
            <a:blip r:embed="rId3"/>
            <a:stretch/>
          </p:blipFill>
          <p:spPr>
            <a:xfrm>
              <a:off x="4376880" y="6263280"/>
              <a:ext cx="4773600" cy="60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3" name=""/>
            <p:cNvSpPr/>
            <p:nvPr/>
          </p:nvSpPr>
          <p:spPr>
            <a:xfrm rot="10800000">
              <a:off x="4381200" y="6241680"/>
              <a:ext cx="4762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2E606-0ED4-48D8-AFAE-5CAA858986A0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886E5-586D-4DC0-A185-22F0B3DB813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25816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Freeform 15"/>
          <p:cNvSpPr/>
          <p:nvPr/>
        </p:nvSpPr>
        <p:spPr>
          <a:xfrm flipV="1">
            <a:off x="-2880" y="5815440"/>
            <a:ext cx="9156600" cy="1041480"/>
          </a:xfrm>
          <a:custGeom>
            <a:avLst/>
            <a:gdLst>
              <a:gd name="textAreaLeft" fmla="*/ 0 w 9156600"/>
              <a:gd name="textAreaRight" fmla="*/ 9156960 w 915660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5" name="Freeform 16"/>
          <p:cNvGrpSpPr/>
          <p:nvPr/>
        </p:nvGrpSpPr>
        <p:grpSpPr>
          <a:xfrm>
            <a:off x="4376880" y="6241680"/>
            <a:ext cx="4773600" cy="622440"/>
            <a:chOff x="4376880" y="6241680"/>
            <a:chExt cx="4773600" cy="622440"/>
          </a:xfrm>
        </p:grpSpPr>
        <p:pic>
          <p:nvPicPr>
            <p:cNvPr id="56" name="Freeform 16" descr=""/>
            <p:cNvPicPr/>
            <p:nvPr/>
          </p:nvPicPr>
          <p:blipFill>
            <a:blip r:embed="rId3"/>
            <a:stretch/>
          </p:blipFill>
          <p:spPr>
            <a:xfrm>
              <a:off x="4376880" y="6263280"/>
              <a:ext cx="4773600" cy="60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 rot="10800000">
              <a:off x="4381200" y="6241680"/>
              <a:ext cx="4762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21656-1524-46E3-B15C-BEB01D9136FA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8496C-A0F0-493E-A32C-0260F98B23B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25816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46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47" name="Freeform 15"/>
          <p:cNvSpPr/>
          <p:nvPr/>
        </p:nvSpPr>
        <p:spPr>
          <a:xfrm flipV="1">
            <a:off x="-2880" y="5815440"/>
            <a:ext cx="9156600" cy="1041480"/>
          </a:xfrm>
          <a:custGeom>
            <a:avLst/>
            <a:gdLst>
              <a:gd name="textAreaLeft" fmla="*/ 0 w 9156600"/>
              <a:gd name="textAreaRight" fmla="*/ 9156960 w 915660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948" name="Freeform 16"/>
          <p:cNvGrpSpPr/>
          <p:nvPr/>
        </p:nvGrpSpPr>
        <p:grpSpPr>
          <a:xfrm>
            <a:off x="4376880" y="6241680"/>
            <a:ext cx="4773600" cy="622440"/>
            <a:chOff x="4376880" y="6241680"/>
            <a:chExt cx="4773600" cy="622440"/>
          </a:xfrm>
        </p:grpSpPr>
        <p:pic>
          <p:nvPicPr>
            <p:cNvPr id="949" name="Freeform 16" descr=""/>
            <p:cNvPicPr/>
            <p:nvPr/>
          </p:nvPicPr>
          <p:blipFill>
            <a:blip r:embed="rId3"/>
            <a:stretch/>
          </p:blipFill>
          <p:spPr>
            <a:xfrm>
              <a:off x="4376880" y="6263280"/>
              <a:ext cx="4773600" cy="60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0" name=""/>
            <p:cNvSpPr/>
            <p:nvPr/>
          </p:nvSpPr>
          <p:spPr>
            <a:xfrm rot="10800000">
              <a:off x="4381200" y="6241680"/>
              <a:ext cx="4762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E6A78-2153-4EE0-8BB7-426E3E473126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 type="ftr" idx="5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 type="sldNum" idx="60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52AD9-C891-487C-B3E3-73A7442650D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25816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3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4" name="Freeform 15"/>
          <p:cNvSpPr/>
          <p:nvPr/>
        </p:nvSpPr>
        <p:spPr>
          <a:xfrm flipV="1">
            <a:off x="-2880" y="5815440"/>
            <a:ext cx="9156600" cy="1041480"/>
          </a:xfrm>
          <a:custGeom>
            <a:avLst/>
            <a:gdLst>
              <a:gd name="textAreaLeft" fmla="*/ 0 w 9156600"/>
              <a:gd name="textAreaRight" fmla="*/ 9156960 w 915660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995" name="Freeform 16"/>
          <p:cNvGrpSpPr/>
          <p:nvPr/>
        </p:nvGrpSpPr>
        <p:grpSpPr>
          <a:xfrm>
            <a:off x="4376880" y="6241680"/>
            <a:ext cx="4773600" cy="622440"/>
            <a:chOff x="4376880" y="6241680"/>
            <a:chExt cx="4773600" cy="622440"/>
          </a:xfrm>
        </p:grpSpPr>
        <p:pic>
          <p:nvPicPr>
            <p:cNvPr id="996" name="Freeform 16" descr=""/>
            <p:cNvPicPr/>
            <p:nvPr/>
          </p:nvPicPr>
          <p:blipFill>
            <a:blip r:embed="rId3"/>
            <a:stretch/>
          </p:blipFill>
          <p:spPr>
            <a:xfrm>
              <a:off x="4376880" y="6263280"/>
              <a:ext cx="4773600" cy="60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7" name=""/>
            <p:cNvSpPr/>
            <p:nvPr/>
          </p:nvSpPr>
          <p:spPr>
            <a:xfrm rot="10800000">
              <a:off x="4381200" y="6241680"/>
              <a:ext cx="4762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E3D93-E987-4F4D-84A2-6A086132F2ED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 type="ftr" idx="6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 type="sldNum" idx="6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A8724-A4BB-49B7-92EA-FA2730CCEB3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25816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0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1" name="Freeform 15"/>
          <p:cNvSpPr/>
          <p:nvPr/>
        </p:nvSpPr>
        <p:spPr>
          <a:xfrm flipV="1">
            <a:off x="-2880" y="5815440"/>
            <a:ext cx="9156600" cy="1041480"/>
          </a:xfrm>
          <a:custGeom>
            <a:avLst/>
            <a:gdLst>
              <a:gd name="textAreaLeft" fmla="*/ 0 w 9156600"/>
              <a:gd name="textAreaRight" fmla="*/ 9156960 w 915660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042" name="Freeform 16"/>
          <p:cNvGrpSpPr/>
          <p:nvPr/>
        </p:nvGrpSpPr>
        <p:grpSpPr>
          <a:xfrm>
            <a:off x="4376880" y="6241680"/>
            <a:ext cx="4773600" cy="622440"/>
            <a:chOff x="4376880" y="6241680"/>
            <a:chExt cx="4773600" cy="622440"/>
          </a:xfrm>
        </p:grpSpPr>
        <p:pic>
          <p:nvPicPr>
            <p:cNvPr id="1043" name="Freeform 16" descr=""/>
            <p:cNvPicPr/>
            <p:nvPr/>
          </p:nvPicPr>
          <p:blipFill>
            <a:blip r:embed="rId3"/>
            <a:stretch/>
          </p:blipFill>
          <p:spPr>
            <a:xfrm>
              <a:off x="4376880" y="6263280"/>
              <a:ext cx="4773600" cy="60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4" name=""/>
            <p:cNvSpPr/>
            <p:nvPr/>
          </p:nvSpPr>
          <p:spPr>
            <a:xfrm rot="10800000">
              <a:off x="4381200" y="6241680"/>
              <a:ext cx="4762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34746-B152-459D-AB9E-1CE25369013C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 type="ftr" idx="6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PlaceHolder 5"/>
          <p:cNvSpPr>
            <a:spLocks noGrp="1"/>
          </p:cNvSpPr>
          <p:nvPr>
            <p:ph type="sldNum" idx="6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539D6-AEA1-4CDD-88B9-601CEC365B9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25816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7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8" name="Freeform 15"/>
          <p:cNvSpPr/>
          <p:nvPr/>
        </p:nvSpPr>
        <p:spPr>
          <a:xfrm flipV="1">
            <a:off x="-2880" y="5815440"/>
            <a:ext cx="9156600" cy="1041480"/>
          </a:xfrm>
          <a:custGeom>
            <a:avLst/>
            <a:gdLst>
              <a:gd name="textAreaLeft" fmla="*/ 0 w 9156600"/>
              <a:gd name="textAreaRight" fmla="*/ 9156960 w 915660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089" name="Freeform 16"/>
          <p:cNvGrpSpPr/>
          <p:nvPr/>
        </p:nvGrpSpPr>
        <p:grpSpPr>
          <a:xfrm>
            <a:off x="4376880" y="6241680"/>
            <a:ext cx="4773600" cy="622440"/>
            <a:chOff x="4376880" y="6241680"/>
            <a:chExt cx="4773600" cy="622440"/>
          </a:xfrm>
        </p:grpSpPr>
        <p:pic>
          <p:nvPicPr>
            <p:cNvPr id="1090" name="Freeform 16" descr=""/>
            <p:cNvPicPr/>
            <p:nvPr/>
          </p:nvPicPr>
          <p:blipFill>
            <a:blip r:embed="rId3"/>
            <a:stretch/>
          </p:blipFill>
          <p:spPr>
            <a:xfrm>
              <a:off x="4376880" y="6263280"/>
              <a:ext cx="4773600" cy="60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1" name=""/>
            <p:cNvSpPr/>
            <p:nvPr/>
          </p:nvSpPr>
          <p:spPr>
            <a:xfrm rot="10800000">
              <a:off x="4381200" y="6241680"/>
              <a:ext cx="4762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2B20C-C4B4-4BC2-809D-A59A6F9C141E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 type="ftr" idx="6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PlaceHolder 5"/>
          <p:cNvSpPr>
            <a:spLocks noGrp="1"/>
          </p:cNvSpPr>
          <p:nvPr>
            <p:ph type="sldNum" idx="69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A1D7C-88BE-4302-A089-C1836E987F7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25816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4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5" name="Freeform 15"/>
          <p:cNvSpPr/>
          <p:nvPr/>
        </p:nvSpPr>
        <p:spPr>
          <a:xfrm flipV="1">
            <a:off x="-2880" y="5815440"/>
            <a:ext cx="9156600" cy="1041480"/>
          </a:xfrm>
          <a:custGeom>
            <a:avLst/>
            <a:gdLst>
              <a:gd name="textAreaLeft" fmla="*/ 0 w 9156600"/>
              <a:gd name="textAreaRight" fmla="*/ 9156960 w 915660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136" name="Freeform 16"/>
          <p:cNvGrpSpPr/>
          <p:nvPr/>
        </p:nvGrpSpPr>
        <p:grpSpPr>
          <a:xfrm>
            <a:off x="4376880" y="6241680"/>
            <a:ext cx="4773600" cy="622440"/>
            <a:chOff x="4376880" y="6241680"/>
            <a:chExt cx="4773600" cy="622440"/>
          </a:xfrm>
        </p:grpSpPr>
        <p:pic>
          <p:nvPicPr>
            <p:cNvPr id="1137" name="Freeform 16" descr=""/>
            <p:cNvPicPr/>
            <p:nvPr/>
          </p:nvPicPr>
          <p:blipFill>
            <a:blip r:embed="rId3"/>
            <a:stretch/>
          </p:blipFill>
          <p:spPr>
            <a:xfrm>
              <a:off x="4376880" y="6263280"/>
              <a:ext cx="4773600" cy="60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8" name=""/>
            <p:cNvSpPr/>
            <p:nvPr/>
          </p:nvSpPr>
          <p:spPr>
            <a:xfrm rot="10800000">
              <a:off x="4381200" y="6241680"/>
              <a:ext cx="4762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0694D-830E-474A-B188-C8296CF68F6F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 type="ftr" idx="7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 type="sldNum" idx="7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67C38-79D9-4B30-8A99-C38452BDAE7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25816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2" name="Freeform 15"/>
          <p:cNvSpPr/>
          <p:nvPr/>
        </p:nvSpPr>
        <p:spPr>
          <a:xfrm flipV="1">
            <a:off x="-2880" y="5815440"/>
            <a:ext cx="9156600" cy="1041480"/>
          </a:xfrm>
          <a:custGeom>
            <a:avLst/>
            <a:gdLst>
              <a:gd name="textAreaLeft" fmla="*/ 0 w 9156600"/>
              <a:gd name="textAreaRight" fmla="*/ 9156960 w 915660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183" name="Freeform 16"/>
          <p:cNvGrpSpPr/>
          <p:nvPr/>
        </p:nvGrpSpPr>
        <p:grpSpPr>
          <a:xfrm>
            <a:off x="4376880" y="6241680"/>
            <a:ext cx="4773600" cy="622440"/>
            <a:chOff x="4376880" y="6241680"/>
            <a:chExt cx="4773600" cy="622440"/>
          </a:xfrm>
        </p:grpSpPr>
        <p:pic>
          <p:nvPicPr>
            <p:cNvPr id="1184" name="Freeform 16" descr=""/>
            <p:cNvPicPr/>
            <p:nvPr/>
          </p:nvPicPr>
          <p:blipFill>
            <a:blip r:embed="rId3"/>
            <a:stretch/>
          </p:blipFill>
          <p:spPr>
            <a:xfrm>
              <a:off x="4376880" y="6263280"/>
              <a:ext cx="4773600" cy="60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5" name=""/>
            <p:cNvSpPr/>
            <p:nvPr/>
          </p:nvSpPr>
          <p:spPr>
            <a:xfrm rot="10800000">
              <a:off x="4381200" y="6241680"/>
              <a:ext cx="4762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E4055-362C-44D4-A5A7-E98C31A96394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 type="ftr" idx="7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PlaceHolder 5"/>
          <p:cNvSpPr>
            <a:spLocks noGrp="1"/>
          </p:cNvSpPr>
          <p:nvPr>
            <p:ph type="sldNum" idx="7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54053-C0D8-4B8B-9FCA-58499030274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25816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8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9" name="Freeform 15"/>
          <p:cNvSpPr/>
          <p:nvPr/>
        </p:nvSpPr>
        <p:spPr>
          <a:xfrm flipV="1">
            <a:off x="-2880" y="5815440"/>
            <a:ext cx="9156600" cy="1041480"/>
          </a:xfrm>
          <a:custGeom>
            <a:avLst/>
            <a:gdLst>
              <a:gd name="textAreaLeft" fmla="*/ 0 w 9156600"/>
              <a:gd name="textAreaRight" fmla="*/ 9156960 w 915660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230" name="Freeform 16"/>
          <p:cNvGrpSpPr/>
          <p:nvPr/>
        </p:nvGrpSpPr>
        <p:grpSpPr>
          <a:xfrm>
            <a:off x="4376880" y="6241680"/>
            <a:ext cx="4773600" cy="622440"/>
            <a:chOff x="4376880" y="6241680"/>
            <a:chExt cx="4773600" cy="622440"/>
          </a:xfrm>
        </p:grpSpPr>
        <p:pic>
          <p:nvPicPr>
            <p:cNvPr id="1231" name="Freeform 16" descr=""/>
            <p:cNvPicPr/>
            <p:nvPr/>
          </p:nvPicPr>
          <p:blipFill>
            <a:blip r:embed="rId3"/>
            <a:stretch/>
          </p:blipFill>
          <p:spPr>
            <a:xfrm>
              <a:off x="4376880" y="6263280"/>
              <a:ext cx="4773600" cy="60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2" name=""/>
            <p:cNvSpPr/>
            <p:nvPr/>
          </p:nvSpPr>
          <p:spPr>
            <a:xfrm rot="10800000">
              <a:off x="4381200" y="6241680"/>
              <a:ext cx="4762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6432E-C62C-4DF6-967D-24CE12011828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 type="ftr" idx="7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PlaceHolder 5"/>
          <p:cNvSpPr>
            <a:spLocks noGrp="1"/>
          </p:cNvSpPr>
          <p:nvPr>
            <p:ph type="sldNum" idx="78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AF9BB-0E41-46E7-A22B-E54B7E76379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5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 type="dt" idx="79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8A2B4-F76E-4186-AF03-5C62BE4398D8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29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PlaceHolder 4"/>
          <p:cNvSpPr>
            <a:spLocks noGrp="1"/>
          </p:cNvSpPr>
          <p:nvPr>
            <p:ph type="sldNum" idx="80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13EA3-15CD-4D6C-8DDE-AA37353FCBF5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PlaceHolder 5"/>
          <p:cNvSpPr>
            <a:spLocks noGrp="1"/>
          </p:cNvSpPr>
          <p:nvPr>
            <p:ph type="ftr" idx="81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8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 type="dt" idx="82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8D520-C7EF-478A-9A7D-669195B21187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29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 type="ftr" idx="83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PlaceHolder 5"/>
          <p:cNvSpPr>
            <a:spLocks noGrp="1"/>
          </p:cNvSpPr>
          <p:nvPr>
            <p:ph type="sldNum" idx="84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B670C-275B-4878-829E-0DCCAE9C73C4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1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2" name="Oval 8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3" name="Oval 9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4" name="Oval 10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 type="dt" idx="85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F7F57-5D84-4966-960C-94354DACFD8A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29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 type="ftr" idx="86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PlaceHolder 5"/>
          <p:cNvSpPr>
            <a:spLocks noGrp="1"/>
          </p:cNvSpPr>
          <p:nvPr>
            <p:ph type="sldNum" idx="87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232C9-4227-49D2-98A9-E0770F44151C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434A6-D87A-45AE-B0EA-5858BF4D5E0A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29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02E46-14CD-47D6-B836-4CDA3FE60DBE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7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 type="dt" idx="88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13A21-FDB3-4279-A49E-AB95AF4E8FC7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29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 type="ftr" idx="89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PlaceHolder 5"/>
          <p:cNvSpPr>
            <a:spLocks noGrp="1"/>
          </p:cNvSpPr>
          <p:nvPr>
            <p:ph type="sldNum" idx="90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9F532-2D5A-4C61-A81A-9DF04FD795AE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0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 type="dt" idx="9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61BD1-416F-46AD-8799-0A97B9978BCD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29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 type="ftr" idx="9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PlaceHolder 5"/>
          <p:cNvSpPr>
            <a:spLocks noGrp="1"/>
          </p:cNvSpPr>
          <p:nvPr>
            <p:ph type="sldNum" idx="9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1377E-E8F8-4648-A951-91E1CE509CC6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3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 type="dt" idx="9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0D763-4D66-4FFC-B42C-931A628DEAE4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29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 type="ftr" idx="9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PlaceHolder 5"/>
          <p:cNvSpPr>
            <a:spLocks noGrp="1"/>
          </p:cNvSpPr>
          <p:nvPr>
            <p:ph type="sldNum" idx="9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6B70C-B490-497B-8E14-3650462CD473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 type="dt" idx="97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2D9AC-F891-410E-BFC9-1B0B4FD66EC0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29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PlaceHolder 4"/>
          <p:cNvSpPr>
            <a:spLocks noGrp="1"/>
          </p:cNvSpPr>
          <p:nvPr>
            <p:ph type="ftr" idx="98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PlaceHolder 5"/>
          <p:cNvSpPr>
            <a:spLocks noGrp="1"/>
          </p:cNvSpPr>
          <p:nvPr>
            <p:ph type="sldNum" idx="99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7C86D-261F-4AE9-987F-FF3338027FC9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79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 type="dt" idx="100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4F256-8C8E-4EB0-823F-283529B52563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29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 type="ftr" idx="101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PlaceHolder 5"/>
          <p:cNvSpPr>
            <a:spLocks noGrp="1"/>
          </p:cNvSpPr>
          <p:nvPr>
            <p:ph type="sldNum" idx="102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1927D-57D6-4E51-8B52-28CA4F73031A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2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25" name="PlaceHolder 3"/>
          <p:cNvSpPr>
            <a:spLocks noGrp="1"/>
          </p:cNvSpPr>
          <p:nvPr>
            <p:ph type="dt" idx="103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BE435-82D8-4CDA-9567-B1E1B6ECAB5D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29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PlaceHolder 4"/>
          <p:cNvSpPr>
            <a:spLocks noGrp="1"/>
          </p:cNvSpPr>
          <p:nvPr>
            <p:ph type="ftr" idx="104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PlaceHolder 5"/>
          <p:cNvSpPr>
            <a:spLocks noGrp="1"/>
          </p:cNvSpPr>
          <p:nvPr>
            <p:ph type="sldNum" idx="105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358CA-91DA-4E3B-80EA-8E7702548BC8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65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 type="dt" idx="106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244B5-28B2-48BC-9E7D-8E659FF681EB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29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PlaceHolder 4"/>
          <p:cNvSpPr>
            <a:spLocks noGrp="1"/>
          </p:cNvSpPr>
          <p:nvPr>
            <p:ph type="ftr" idx="107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PlaceHolder 5"/>
          <p:cNvSpPr>
            <a:spLocks noGrp="1"/>
          </p:cNvSpPr>
          <p:nvPr>
            <p:ph type="sldNum" idx="108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59532-100A-49DC-A0E3-88B3334E0808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8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 type="dt" idx="109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EE6F8-2211-49B8-A529-1541515FEA63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29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PlaceHolder 4"/>
          <p:cNvSpPr>
            <a:spLocks noGrp="1"/>
          </p:cNvSpPr>
          <p:nvPr>
            <p:ph type="ftr" idx="110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PlaceHolder 5"/>
          <p:cNvSpPr>
            <a:spLocks noGrp="1"/>
          </p:cNvSpPr>
          <p:nvPr>
            <p:ph type="sldNum" idx="111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048DD-B7BB-4C07-B31E-4ECE7DBDC5B4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1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1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CD287-BCB5-4F17-AD63-C8B4668854DB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29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7E090-0C89-4CD6-BC8C-489DA03FE521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1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34" name="PlaceHolder 3"/>
          <p:cNvSpPr>
            <a:spLocks noGrp="1"/>
          </p:cNvSpPr>
          <p:nvPr>
            <p:ph type="dt" idx="112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68965-C1D0-4ADC-8C38-3039E3D9E2B5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29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PlaceHolder 4"/>
          <p:cNvSpPr>
            <a:spLocks noGrp="1"/>
          </p:cNvSpPr>
          <p:nvPr>
            <p:ph type="sldNum" idx="11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09D0E-9CD4-4047-8B61-969E0DE5FC9E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PlaceHolder 5"/>
          <p:cNvSpPr>
            <a:spLocks noGrp="1"/>
          </p:cNvSpPr>
          <p:nvPr>
            <p:ph type="ftr" idx="114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77" name="PlaceHolder 3"/>
          <p:cNvSpPr>
            <a:spLocks noGrp="1"/>
          </p:cNvSpPr>
          <p:nvPr>
            <p:ph type="dt" idx="115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34E4B-3569-4A6A-AC65-316EC079AD42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29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4"/>
          <p:cNvSpPr>
            <a:spLocks noGrp="1"/>
          </p:cNvSpPr>
          <p:nvPr>
            <p:ph type="ftr" idx="116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PlaceHolder 5"/>
          <p:cNvSpPr>
            <a:spLocks noGrp="1"/>
          </p:cNvSpPr>
          <p:nvPr>
            <p:ph type="sldNum" idx="117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E7A9F-8EF2-42D2-AED3-6B8CB48EEFD6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17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18" name="Oval 8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19" name="Oval 9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0" name="Oval 10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23" name="PlaceHolder 3"/>
          <p:cNvSpPr>
            <a:spLocks noGrp="1"/>
          </p:cNvSpPr>
          <p:nvPr>
            <p:ph type="dt" idx="118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D8FF3-7C05-407F-A9DF-64349A8BC0B0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29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PlaceHolder 4"/>
          <p:cNvSpPr>
            <a:spLocks noGrp="1"/>
          </p:cNvSpPr>
          <p:nvPr>
            <p:ph type="ftr" idx="119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PlaceHolder 5"/>
          <p:cNvSpPr>
            <a:spLocks noGrp="1"/>
          </p:cNvSpPr>
          <p:nvPr>
            <p:ph type="sldNum" idx="120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19A7F-1784-42AC-A76D-BD5DCBD9ABD2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63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66" name="PlaceHolder 3"/>
          <p:cNvSpPr>
            <a:spLocks noGrp="1"/>
          </p:cNvSpPr>
          <p:nvPr>
            <p:ph type="dt" idx="12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810DC-0176-4AFC-823A-D4CA9C2985CF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29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PlaceHolder 4"/>
          <p:cNvSpPr>
            <a:spLocks noGrp="1"/>
          </p:cNvSpPr>
          <p:nvPr>
            <p:ph type="ftr" idx="12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PlaceHolder 5"/>
          <p:cNvSpPr>
            <a:spLocks noGrp="1"/>
          </p:cNvSpPr>
          <p:nvPr>
            <p:ph type="sldNum" idx="12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6D4B9-50CE-41C8-87BA-314399A4F62D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3"/>
    <p:sldLayoutId id="2147484196" r:id="rId4"/>
    <p:sldLayoutId id="2147484197" r:id="rId5"/>
    <p:sldLayoutId id="2147484198" r:id="rId6"/>
    <p:sldLayoutId id="2147484199" r:id="rId7"/>
    <p:sldLayoutId id="2147484200" r:id="rId8"/>
    <p:sldLayoutId id="2147484201" r:id="rId9"/>
    <p:sldLayoutId id="2147484202" r:id="rId10"/>
    <p:sldLayoutId id="2147484203" r:id="rId11"/>
    <p:sldLayoutId id="2147484204" r:id="rId12"/>
    <p:sldLayoutId id="2147484205" r:id="rId13"/>
    <p:sldLayoutId id="2147484206" r:id="rId14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0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09" name="PlaceHolder 3"/>
          <p:cNvSpPr>
            <a:spLocks noGrp="1"/>
          </p:cNvSpPr>
          <p:nvPr>
            <p:ph type="dt" idx="12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73193-7689-4669-B153-D57F40B1A21E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29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PlaceHolder 4"/>
          <p:cNvSpPr>
            <a:spLocks noGrp="1"/>
          </p:cNvSpPr>
          <p:nvPr>
            <p:ph type="ftr" idx="12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PlaceHolder 5"/>
          <p:cNvSpPr>
            <a:spLocks noGrp="1"/>
          </p:cNvSpPr>
          <p:nvPr>
            <p:ph type="sldNum" idx="12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FC202-064A-4143-A0A0-38E1999B022E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3"/>
    <p:sldLayoutId id="2147484209" r:id="rId4"/>
    <p:sldLayoutId id="2147484210" r:id="rId5"/>
    <p:sldLayoutId id="2147484211" r:id="rId6"/>
    <p:sldLayoutId id="2147484212" r:id="rId7"/>
    <p:sldLayoutId id="2147484213" r:id="rId8"/>
    <p:sldLayoutId id="2147484214" r:id="rId9"/>
    <p:sldLayoutId id="2147484215" r:id="rId10"/>
    <p:sldLayoutId id="2147484216" r:id="rId11"/>
    <p:sldLayoutId id="2147484217" r:id="rId12"/>
    <p:sldLayoutId id="2147484218" r:id="rId13"/>
    <p:sldLayoutId id="2147484219" r:id="rId14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49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52" name="PlaceHolder 3"/>
          <p:cNvSpPr>
            <a:spLocks noGrp="1"/>
          </p:cNvSpPr>
          <p:nvPr>
            <p:ph type="dt" idx="127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8EFE4-DC3F-4922-8C62-85CC80E95936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29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PlaceHolder 4"/>
          <p:cNvSpPr>
            <a:spLocks noGrp="1"/>
          </p:cNvSpPr>
          <p:nvPr>
            <p:ph type="ftr" idx="128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PlaceHolder 5"/>
          <p:cNvSpPr>
            <a:spLocks noGrp="1"/>
          </p:cNvSpPr>
          <p:nvPr>
            <p:ph type="sldNum" idx="129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82D96-8443-472D-A508-EF282A2FCAAE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3"/>
    <p:sldLayoutId id="2147484222" r:id="rId4"/>
    <p:sldLayoutId id="2147484223" r:id="rId5"/>
    <p:sldLayoutId id="2147484224" r:id="rId6"/>
    <p:sldLayoutId id="2147484225" r:id="rId7"/>
    <p:sldLayoutId id="2147484226" r:id="rId8"/>
    <p:sldLayoutId id="2147484227" r:id="rId9"/>
    <p:sldLayoutId id="2147484228" r:id="rId10"/>
    <p:sldLayoutId id="2147484229" r:id="rId11"/>
    <p:sldLayoutId id="2147484230" r:id="rId12"/>
    <p:sldLayoutId id="2147484231" r:id="rId13"/>
    <p:sldLayoutId id="2147484232" r:id="rId14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92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95" name="PlaceHolder 3"/>
          <p:cNvSpPr>
            <a:spLocks noGrp="1"/>
          </p:cNvSpPr>
          <p:nvPr>
            <p:ph type="dt" idx="130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166DD-121E-4440-A862-7B268D590F5B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29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PlaceHolder 4"/>
          <p:cNvSpPr>
            <a:spLocks noGrp="1"/>
          </p:cNvSpPr>
          <p:nvPr>
            <p:ph type="ftr" idx="131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PlaceHolder 5"/>
          <p:cNvSpPr>
            <a:spLocks noGrp="1"/>
          </p:cNvSpPr>
          <p:nvPr>
            <p:ph type="sldNum" idx="132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9F42E-9A50-4D48-AC21-8B5965F604E5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3"/>
    <p:sldLayoutId id="2147484235" r:id="rId4"/>
    <p:sldLayoutId id="2147484236" r:id="rId5"/>
    <p:sldLayoutId id="2147484237" r:id="rId6"/>
    <p:sldLayoutId id="2147484238" r:id="rId7"/>
    <p:sldLayoutId id="2147484239" r:id="rId8"/>
    <p:sldLayoutId id="2147484240" r:id="rId9"/>
    <p:sldLayoutId id="2147484241" r:id="rId10"/>
    <p:sldLayoutId id="2147484242" r:id="rId11"/>
    <p:sldLayoutId id="2147484243" r:id="rId12"/>
    <p:sldLayoutId id="2147484244" r:id="rId13"/>
    <p:sldLayoutId id="2147484245" r:id="rId14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4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5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38" name="PlaceHolder 3"/>
          <p:cNvSpPr>
            <a:spLocks noGrp="1"/>
          </p:cNvSpPr>
          <p:nvPr>
            <p:ph type="dt" idx="133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E6D16-1E9B-45D3-AD92-01BA59D5A8EF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29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PlaceHolder 4"/>
          <p:cNvSpPr>
            <a:spLocks noGrp="1"/>
          </p:cNvSpPr>
          <p:nvPr>
            <p:ph type="ftr" idx="134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PlaceHolder 5"/>
          <p:cNvSpPr>
            <a:spLocks noGrp="1"/>
          </p:cNvSpPr>
          <p:nvPr>
            <p:ph type="sldNum" idx="135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2941D-85B8-42D9-9E8E-E7E26B1D26CC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3"/>
    <p:sldLayoutId id="2147484248" r:id="rId4"/>
    <p:sldLayoutId id="2147484249" r:id="rId5"/>
    <p:sldLayoutId id="2147484250" r:id="rId6"/>
    <p:sldLayoutId id="2147484251" r:id="rId7"/>
    <p:sldLayoutId id="2147484252" r:id="rId8"/>
    <p:sldLayoutId id="2147484253" r:id="rId9"/>
    <p:sldLayoutId id="2147484254" r:id="rId10"/>
    <p:sldLayoutId id="2147484255" r:id="rId11"/>
    <p:sldLayoutId id="2147484256" r:id="rId12"/>
    <p:sldLayoutId id="2147484257" r:id="rId13"/>
    <p:sldLayoutId id="2147484258" r:id="rId14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7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78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81" name="PlaceHolder 3"/>
          <p:cNvSpPr>
            <a:spLocks noGrp="1"/>
          </p:cNvSpPr>
          <p:nvPr>
            <p:ph type="dt" idx="136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C04B6-F236-4E3D-990D-4458963392F8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29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PlaceHolder 4"/>
          <p:cNvSpPr>
            <a:spLocks noGrp="1"/>
          </p:cNvSpPr>
          <p:nvPr>
            <p:ph type="ftr" idx="137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PlaceHolder 5"/>
          <p:cNvSpPr>
            <a:spLocks noGrp="1"/>
          </p:cNvSpPr>
          <p:nvPr>
            <p:ph type="sldNum" idx="138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3FD49-BCCD-4B79-9296-92BEB7E3798B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3"/>
    <p:sldLayoutId id="2147484261" r:id="rId4"/>
    <p:sldLayoutId id="2147484262" r:id="rId5"/>
    <p:sldLayoutId id="2147484263" r:id="rId6"/>
    <p:sldLayoutId id="2147484264" r:id="rId7"/>
    <p:sldLayoutId id="2147484265" r:id="rId8"/>
    <p:sldLayoutId id="2147484266" r:id="rId9"/>
    <p:sldLayoutId id="2147484267" r:id="rId10"/>
    <p:sldLayoutId id="2147484268" r:id="rId11"/>
    <p:sldLayoutId id="2147484269" r:id="rId12"/>
    <p:sldLayoutId id="2147484270" r:id="rId13"/>
    <p:sldLayoutId id="2147484271" r:id="rId14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21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24" name="PlaceHolder 3"/>
          <p:cNvSpPr>
            <a:spLocks noGrp="1"/>
          </p:cNvSpPr>
          <p:nvPr>
            <p:ph type="dt" idx="139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D8B53-37DC-486C-A95B-9F246651C806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29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PlaceHolder 4"/>
          <p:cNvSpPr>
            <a:spLocks noGrp="1"/>
          </p:cNvSpPr>
          <p:nvPr>
            <p:ph type="ftr" idx="140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PlaceHolder 5"/>
          <p:cNvSpPr>
            <a:spLocks noGrp="1"/>
          </p:cNvSpPr>
          <p:nvPr>
            <p:ph type="sldNum" idx="141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859D4-5FE7-4215-9283-32ABDD0B8790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3"/>
    <p:sldLayoutId id="2147484274" r:id="rId4"/>
    <p:sldLayoutId id="2147484275" r:id="rId5"/>
    <p:sldLayoutId id="2147484276" r:id="rId6"/>
    <p:sldLayoutId id="2147484277" r:id="rId7"/>
    <p:sldLayoutId id="2147484278" r:id="rId8"/>
    <p:sldLayoutId id="2147484279" r:id="rId9"/>
    <p:sldLayoutId id="2147484280" r:id="rId10"/>
    <p:sldLayoutId id="2147484281" r:id="rId11"/>
    <p:sldLayoutId id="2147484282" r:id="rId12"/>
    <p:sldLayoutId id="2147484283" r:id="rId13"/>
    <p:sldLayoutId id="2147484284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reeform 6"/>
          <p:cNvSpPr/>
          <p:nvPr/>
        </p:nvSpPr>
        <p:spPr>
          <a:xfrm>
            <a:off x="-3240" y="-1440"/>
            <a:ext cx="9156600" cy="1035000"/>
          </a:xfrm>
          <a:custGeom>
            <a:avLst/>
            <a:gdLst>
              <a:gd name="textAreaLeft" fmla="*/ 0 w 9156600"/>
              <a:gd name="textAreaRight" fmla="*/ 9156960 w 9156600"/>
              <a:gd name="textAreaTop" fmla="*/ 0 h 1035000"/>
              <a:gd name="textAreaBottom" fmla="*/ 1035360 h 103500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86" name="Freeform 7"/>
          <p:cNvGrpSpPr/>
          <p:nvPr/>
        </p:nvGrpSpPr>
        <p:grpSpPr>
          <a:xfrm>
            <a:off x="4376880" y="-6480"/>
            <a:ext cx="4773600" cy="609840"/>
            <a:chOff x="4376880" y="-6480"/>
            <a:chExt cx="4773600" cy="609840"/>
          </a:xfrm>
        </p:grpSpPr>
        <p:pic>
          <p:nvPicPr>
            <p:cNvPr id="187" name="Freeform 7" descr=""/>
            <p:cNvPicPr/>
            <p:nvPr/>
          </p:nvPicPr>
          <p:blipFill>
            <a:blip r:embed="rId3"/>
            <a:stretch/>
          </p:blipFill>
          <p:spPr>
            <a:xfrm>
              <a:off x="4376880" y="-6480"/>
              <a:ext cx="4773600" cy="58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4381560" y="-1440"/>
              <a:ext cx="47624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89" name="Group 4"/>
          <p:cNvGrpSpPr/>
          <p:nvPr/>
        </p:nvGrpSpPr>
        <p:grpSpPr>
          <a:xfrm>
            <a:off x="-12600" y="203040"/>
            <a:ext cx="9174240" cy="648000"/>
            <a:chOff x="-12600" y="203040"/>
            <a:chExt cx="9174240" cy="648000"/>
          </a:xfrm>
        </p:grpSpPr>
        <p:grpSp>
          <p:nvGrpSpPr>
            <p:cNvPr id="190" name="Group 5"/>
            <p:cNvGrpSpPr/>
            <p:nvPr/>
          </p:nvGrpSpPr>
          <p:grpSpPr>
            <a:xfrm>
              <a:off x="-12600" y="203040"/>
              <a:ext cx="9150120" cy="648000"/>
              <a:chOff x="-12600" y="203040"/>
              <a:chExt cx="9150120" cy="648000"/>
            </a:xfrm>
          </p:grpSpPr>
          <p:pic>
            <p:nvPicPr>
              <p:cNvPr id="191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03040"/>
                <a:ext cx="91263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2" name="Text Box 7"/>
              <p:cNvSpPr/>
              <p:nvPr/>
            </p:nvSpPr>
            <p:spPr>
              <a:xfrm rot="21435600">
                <a:off x="-1224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193" name="Group 8"/>
            <p:cNvGrpSpPr/>
            <p:nvPr/>
          </p:nvGrpSpPr>
          <p:grpSpPr>
            <a:xfrm>
              <a:off x="-12600" y="248040"/>
              <a:ext cx="9174240" cy="561600"/>
              <a:chOff x="-12600" y="248040"/>
              <a:chExt cx="9174240" cy="561600"/>
            </a:xfrm>
          </p:grpSpPr>
          <p:pic>
            <p:nvPicPr>
              <p:cNvPr id="194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3240" y="248040"/>
                <a:ext cx="915840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5" name="Text Box 10"/>
              <p:cNvSpPr/>
              <p:nvPr/>
            </p:nvSpPr>
            <p:spPr>
              <a:xfrm rot="21435600">
                <a:off x="-1224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50F5C-C224-4A45-B839-570A76B7EA9D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EF69F-4C85-484E-B2DC-3E7BE06D029E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6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67" name="PlaceHolder 3"/>
          <p:cNvSpPr>
            <a:spLocks noGrp="1"/>
          </p:cNvSpPr>
          <p:nvPr>
            <p:ph type="dt" idx="142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E9CC0-253A-4A09-BD30-D0D2969AAEE9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29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PlaceHolder 4"/>
          <p:cNvSpPr>
            <a:spLocks noGrp="1"/>
          </p:cNvSpPr>
          <p:nvPr>
            <p:ph type="ftr" idx="143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PlaceHolder 5"/>
          <p:cNvSpPr>
            <a:spLocks noGrp="1"/>
          </p:cNvSpPr>
          <p:nvPr>
            <p:ph type="sldNum" idx="144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3AFCE-1D5E-4828-ABE2-2EFDB0C36C3A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3"/>
    <p:sldLayoutId id="2147484287" r:id="rId4"/>
    <p:sldLayoutId id="2147484288" r:id="rId5"/>
    <p:sldLayoutId id="2147484289" r:id="rId6"/>
    <p:sldLayoutId id="2147484290" r:id="rId7"/>
    <p:sldLayoutId id="2147484291" r:id="rId8"/>
    <p:sldLayoutId id="2147484292" r:id="rId9"/>
    <p:sldLayoutId id="2147484293" r:id="rId10"/>
    <p:sldLayoutId id="2147484294" r:id="rId11"/>
    <p:sldLayoutId id="2147484295" r:id="rId12"/>
    <p:sldLayoutId id="2147484296" r:id="rId13"/>
    <p:sldLayoutId id="2147484297" r:id="rId14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07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3"/>
    <p:sldLayoutId id="2147484300" r:id="rId4"/>
    <p:sldLayoutId id="2147484301" r:id="rId5"/>
    <p:sldLayoutId id="2147484302" r:id="rId6"/>
    <p:sldLayoutId id="2147484303" r:id="rId7"/>
    <p:sldLayoutId id="2147484304" r:id="rId8"/>
    <p:sldLayoutId id="2147484305" r:id="rId9"/>
    <p:sldLayoutId id="2147484306" r:id="rId10"/>
    <p:sldLayoutId id="2147484307" r:id="rId11"/>
    <p:sldLayoutId id="2147484308" r:id="rId12"/>
    <p:sldLayoutId id="2147484309" r:id="rId13"/>
    <p:sldLayoutId id="2147484310" r:id="rId14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47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3"/>
    <p:sldLayoutId id="2147484313" r:id="rId4"/>
    <p:sldLayoutId id="2147484314" r:id="rId5"/>
    <p:sldLayoutId id="2147484315" r:id="rId6"/>
    <p:sldLayoutId id="2147484316" r:id="rId7"/>
    <p:sldLayoutId id="2147484317" r:id="rId8"/>
    <p:sldLayoutId id="2147484318" r:id="rId9"/>
    <p:sldLayoutId id="2147484319" r:id="rId10"/>
    <p:sldLayoutId id="2147484320" r:id="rId11"/>
    <p:sldLayoutId id="2147484321" r:id="rId12"/>
    <p:sldLayoutId id="2147484322" r:id="rId13"/>
    <p:sldLayoutId id="2147484323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Freeform 6"/>
          <p:cNvSpPr/>
          <p:nvPr/>
        </p:nvSpPr>
        <p:spPr>
          <a:xfrm>
            <a:off x="-3240" y="-1440"/>
            <a:ext cx="9156600" cy="1035000"/>
          </a:xfrm>
          <a:custGeom>
            <a:avLst/>
            <a:gdLst>
              <a:gd name="textAreaLeft" fmla="*/ 0 w 9156600"/>
              <a:gd name="textAreaRight" fmla="*/ 9156960 w 9156600"/>
              <a:gd name="textAreaTop" fmla="*/ 0 h 1035000"/>
              <a:gd name="textAreaBottom" fmla="*/ 1035360 h 103500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38" name="Freeform 7"/>
          <p:cNvGrpSpPr/>
          <p:nvPr/>
        </p:nvGrpSpPr>
        <p:grpSpPr>
          <a:xfrm>
            <a:off x="4376880" y="-6480"/>
            <a:ext cx="4773600" cy="609840"/>
            <a:chOff x="4376880" y="-6480"/>
            <a:chExt cx="4773600" cy="609840"/>
          </a:xfrm>
        </p:grpSpPr>
        <p:pic>
          <p:nvPicPr>
            <p:cNvPr id="239" name="Freeform 7" descr=""/>
            <p:cNvPicPr/>
            <p:nvPr/>
          </p:nvPicPr>
          <p:blipFill>
            <a:blip r:embed="rId3"/>
            <a:stretch/>
          </p:blipFill>
          <p:spPr>
            <a:xfrm>
              <a:off x="4376880" y="-6480"/>
              <a:ext cx="4773600" cy="58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4381560" y="-1440"/>
              <a:ext cx="47624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41" name="Group 4"/>
          <p:cNvGrpSpPr/>
          <p:nvPr/>
        </p:nvGrpSpPr>
        <p:grpSpPr>
          <a:xfrm>
            <a:off x="-12600" y="203040"/>
            <a:ext cx="9174240" cy="648000"/>
            <a:chOff x="-12600" y="203040"/>
            <a:chExt cx="9174240" cy="648000"/>
          </a:xfrm>
        </p:grpSpPr>
        <p:grpSp>
          <p:nvGrpSpPr>
            <p:cNvPr id="242" name="Group 5"/>
            <p:cNvGrpSpPr/>
            <p:nvPr/>
          </p:nvGrpSpPr>
          <p:grpSpPr>
            <a:xfrm>
              <a:off x="-12600" y="203040"/>
              <a:ext cx="9150120" cy="648000"/>
              <a:chOff x="-12600" y="203040"/>
              <a:chExt cx="9150120" cy="648000"/>
            </a:xfrm>
          </p:grpSpPr>
          <p:pic>
            <p:nvPicPr>
              <p:cNvPr id="243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03040"/>
                <a:ext cx="91263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4" name="Text Box 7"/>
              <p:cNvSpPr/>
              <p:nvPr/>
            </p:nvSpPr>
            <p:spPr>
              <a:xfrm rot="21435600">
                <a:off x="-1224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245" name="Group 8"/>
            <p:cNvGrpSpPr/>
            <p:nvPr/>
          </p:nvGrpSpPr>
          <p:grpSpPr>
            <a:xfrm>
              <a:off x="-12600" y="248040"/>
              <a:ext cx="9174240" cy="561600"/>
              <a:chOff x="-12600" y="248040"/>
              <a:chExt cx="9174240" cy="561600"/>
            </a:xfrm>
          </p:grpSpPr>
          <p:pic>
            <p:nvPicPr>
              <p:cNvPr id="246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3240" y="248040"/>
                <a:ext cx="915840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7" name="Text Box 10"/>
              <p:cNvSpPr/>
              <p:nvPr/>
            </p:nvSpPr>
            <p:spPr>
              <a:xfrm rot="21435600">
                <a:off x="-1224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2F230-FBC2-4113-A572-1F2A525FB149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750C0-9924-49AC-8C5E-F52AF7CD8C0E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Freeform 6"/>
          <p:cNvSpPr/>
          <p:nvPr/>
        </p:nvSpPr>
        <p:spPr>
          <a:xfrm>
            <a:off x="-3240" y="-1440"/>
            <a:ext cx="9156600" cy="1035000"/>
          </a:xfrm>
          <a:custGeom>
            <a:avLst/>
            <a:gdLst>
              <a:gd name="textAreaLeft" fmla="*/ 0 w 9156600"/>
              <a:gd name="textAreaRight" fmla="*/ 9156960 w 9156600"/>
              <a:gd name="textAreaTop" fmla="*/ 0 h 1035000"/>
              <a:gd name="textAreaBottom" fmla="*/ 1035360 h 103500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90" name="Freeform 7"/>
          <p:cNvGrpSpPr/>
          <p:nvPr/>
        </p:nvGrpSpPr>
        <p:grpSpPr>
          <a:xfrm>
            <a:off x="4376880" y="-6480"/>
            <a:ext cx="4773600" cy="609840"/>
            <a:chOff x="4376880" y="-6480"/>
            <a:chExt cx="4773600" cy="609840"/>
          </a:xfrm>
        </p:grpSpPr>
        <p:pic>
          <p:nvPicPr>
            <p:cNvPr id="291" name="Freeform 7" descr=""/>
            <p:cNvPicPr/>
            <p:nvPr/>
          </p:nvPicPr>
          <p:blipFill>
            <a:blip r:embed="rId3"/>
            <a:stretch/>
          </p:blipFill>
          <p:spPr>
            <a:xfrm>
              <a:off x="4376880" y="-6480"/>
              <a:ext cx="4773600" cy="58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4381560" y="-1440"/>
              <a:ext cx="47624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93" name="Group 4"/>
          <p:cNvGrpSpPr/>
          <p:nvPr/>
        </p:nvGrpSpPr>
        <p:grpSpPr>
          <a:xfrm>
            <a:off x="-12600" y="203040"/>
            <a:ext cx="9174240" cy="648000"/>
            <a:chOff x="-12600" y="203040"/>
            <a:chExt cx="9174240" cy="648000"/>
          </a:xfrm>
        </p:grpSpPr>
        <p:grpSp>
          <p:nvGrpSpPr>
            <p:cNvPr id="294" name="Group 5"/>
            <p:cNvGrpSpPr/>
            <p:nvPr/>
          </p:nvGrpSpPr>
          <p:grpSpPr>
            <a:xfrm>
              <a:off x="-12600" y="203040"/>
              <a:ext cx="9150120" cy="648000"/>
              <a:chOff x="-12600" y="203040"/>
              <a:chExt cx="9150120" cy="648000"/>
            </a:xfrm>
          </p:grpSpPr>
          <p:pic>
            <p:nvPicPr>
              <p:cNvPr id="295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03040"/>
                <a:ext cx="91263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6" name="Text Box 7"/>
              <p:cNvSpPr/>
              <p:nvPr/>
            </p:nvSpPr>
            <p:spPr>
              <a:xfrm rot="21435600">
                <a:off x="-1224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297" name="Group 8"/>
            <p:cNvGrpSpPr/>
            <p:nvPr/>
          </p:nvGrpSpPr>
          <p:grpSpPr>
            <a:xfrm>
              <a:off x="-12600" y="248040"/>
              <a:ext cx="9174240" cy="561600"/>
              <a:chOff x="-12600" y="248040"/>
              <a:chExt cx="9174240" cy="561600"/>
            </a:xfrm>
          </p:grpSpPr>
          <p:pic>
            <p:nvPicPr>
              <p:cNvPr id="298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3240" y="248040"/>
                <a:ext cx="915840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9" name="Text Box 10"/>
              <p:cNvSpPr/>
              <p:nvPr/>
            </p:nvSpPr>
            <p:spPr>
              <a:xfrm rot="21435600">
                <a:off x="-1224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6DF86-A5A0-48E0-BCDD-8F80CD898928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7F468-CAE8-4563-95F3-A3227EC76473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Freeform 6"/>
          <p:cNvSpPr/>
          <p:nvPr/>
        </p:nvSpPr>
        <p:spPr>
          <a:xfrm>
            <a:off x="-3240" y="-1440"/>
            <a:ext cx="9156600" cy="1035000"/>
          </a:xfrm>
          <a:custGeom>
            <a:avLst/>
            <a:gdLst>
              <a:gd name="textAreaLeft" fmla="*/ 0 w 9156600"/>
              <a:gd name="textAreaRight" fmla="*/ 9156960 w 9156600"/>
              <a:gd name="textAreaTop" fmla="*/ 0 h 1035000"/>
              <a:gd name="textAreaBottom" fmla="*/ 1035360 h 103500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342" name="Freeform 7"/>
          <p:cNvGrpSpPr/>
          <p:nvPr/>
        </p:nvGrpSpPr>
        <p:grpSpPr>
          <a:xfrm>
            <a:off x="4376880" y="-6480"/>
            <a:ext cx="4773600" cy="609840"/>
            <a:chOff x="4376880" y="-6480"/>
            <a:chExt cx="4773600" cy="609840"/>
          </a:xfrm>
        </p:grpSpPr>
        <p:pic>
          <p:nvPicPr>
            <p:cNvPr id="343" name="Freeform 7" descr=""/>
            <p:cNvPicPr/>
            <p:nvPr/>
          </p:nvPicPr>
          <p:blipFill>
            <a:blip r:embed="rId3"/>
            <a:stretch/>
          </p:blipFill>
          <p:spPr>
            <a:xfrm>
              <a:off x="4376880" y="-6480"/>
              <a:ext cx="4773600" cy="58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4381560" y="-1440"/>
              <a:ext cx="47624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345" name="Group 4"/>
          <p:cNvGrpSpPr/>
          <p:nvPr/>
        </p:nvGrpSpPr>
        <p:grpSpPr>
          <a:xfrm>
            <a:off x="-12600" y="203040"/>
            <a:ext cx="9174240" cy="648000"/>
            <a:chOff x="-12600" y="203040"/>
            <a:chExt cx="9174240" cy="648000"/>
          </a:xfrm>
        </p:grpSpPr>
        <p:grpSp>
          <p:nvGrpSpPr>
            <p:cNvPr id="346" name="Group 5"/>
            <p:cNvGrpSpPr/>
            <p:nvPr/>
          </p:nvGrpSpPr>
          <p:grpSpPr>
            <a:xfrm>
              <a:off x="-12600" y="203040"/>
              <a:ext cx="9150120" cy="648000"/>
              <a:chOff x="-12600" y="203040"/>
              <a:chExt cx="9150120" cy="648000"/>
            </a:xfrm>
          </p:grpSpPr>
          <p:pic>
            <p:nvPicPr>
              <p:cNvPr id="347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03040"/>
                <a:ext cx="91263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8" name="Text Box 7"/>
              <p:cNvSpPr/>
              <p:nvPr/>
            </p:nvSpPr>
            <p:spPr>
              <a:xfrm rot="21435600">
                <a:off x="-1224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349" name="Group 8"/>
            <p:cNvGrpSpPr/>
            <p:nvPr/>
          </p:nvGrpSpPr>
          <p:grpSpPr>
            <a:xfrm>
              <a:off x="-12600" y="248040"/>
              <a:ext cx="9174240" cy="561600"/>
              <a:chOff x="-12600" y="248040"/>
              <a:chExt cx="9174240" cy="561600"/>
            </a:xfrm>
          </p:grpSpPr>
          <p:pic>
            <p:nvPicPr>
              <p:cNvPr id="350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3240" y="248040"/>
                <a:ext cx="915840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1" name="Text Box 10"/>
              <p:cNvSpPr/>
              <p:nvPr/>
            </p:nvSpPr>
            <p:spPr>
              <a:xfrm rot="21435600">
                <a:off x="-1224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550BC-EEDA-493E-BE90-FC57A4FF62AD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62614-4089-42CD-95EE-100FF3F38AC9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Freeform 6"/>
          <p:cNvSpPr/>
          <p:nvPr/>
        </p:nvSpPr>
        <p:spPr>
          <a:xfrm>
            <a:off x="-3240" y="-1440"/>
            <a:ext cx="9156600" cy="1035000"/>
          </a:xfrm>
          <a:custGeom>
            <a:avLst/>
            <a:gdLst>
              <a:gd name="textAreaLeft" fmla="*/ 0 w 9156600"/>
              <a:gd name="textAreaRight" fmla="*/ 9156960 w 9156600"/>
              <a:gd name="textAreaTop" fmla="*/ 0 h 1035000"/>
              <a:gd name="textAreaBottom" fmla="*/ 1035360 h 103500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394" name="Freeform 7"/>
          <p:cNvGrpSpPr/>
          <p:nvPr/>
        </p:nvGrpSpPr>
        <p:grpSpPr>
          <a:xfrm>
            <a:off x="4376880" y="-6480"/>
            <a:ext cx="4773600" cy="609840"/>
            <a:chOff x="4376880" y="-6480"/>
            <a:chExt cx="4773600" cy="609840"/>
          </a:xfrm>
        </p:grpSpPr>
        <p:pic>
          <p:nvPicPr>
            <p:cNvPr id="395" name="Freeform 7" descr=""/>
            <p:cNvPicPr/>
            <p:nvPr/>
          </p:nvPicPr>
          <p:blipFill>
            <a:blip r:embed="rId3"/>
            <a:stretch/>
          </p:blipFill>
          <p:spPr>
            <a:xfrm>
              <a:off x="4376880" y="-6480"/>
              <a:ext cx="4773600" cy="58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>
              <a:off x="4381560" y="-1440"/>
              <a:ext cx="47624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397" name="Group 4"/>
          <p:cNvGrpSpPr/>
          <p:nvPr/>
        </p:nvGrpSpPr>
        <p:grpSpPr>
          <a:xfrm>
            <a:off x="-12600" y="203040"/>
            <a:ext cx="9174240" cy="648000"/>
            <a:chOff x="-12600" y="203040"/>
            <a:chExt cx="9174240" cy="648000"/>
          </a:xfrm>
        </p:grpSpPr>
        <p:grpSp>
          <p:nvGrpSpPr>
            <p:cNvPr id="398" name="Group 5"/>
            <p:cNvGrpSpPr/>
            <p:nvPr/>
          </p:nvGrpSpPr>
          <p:grpSpPr>
            <a:xfrm>
              <a:off x="-12600" y="203040"/>
              <a:ext cx="9150120" cy="648000"/>
              <a:chOff x="-12600" y="203040"/>
              <a:chExt cx="9150120" cy="648000"/>
            </a:xfrm>
          </p:grpSpPr>
          <p:pic>
            <p:nvPicPr>
              <p:cNvPr id="399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03040"/>
                <a:ext cx="91263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0" name="Text Box 7"/>
              <p:cNvSpPr/>
              <p:nvPr/>
            </p:nvSpPr>
            <p:spPr>
              <a:xfrm rot="21435600">
                <a:off x="-1224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401" name="Group 8"/>
            <p:cNvGrpSpPr/>
            <p:nvPr/>
          </p:nvGrpSpPr>
          <p:grpSpPr>
            <a:xfrm>
              <a:off x="-12600" y="248040"/>
              <a:ext cx="9174240" cy="561600"/>
              <a:chOff x="-12600" y="248040"/>
              <a:chExt cx="9174240" cy="561600"/>
            </a:xfrm>
          </p:grpSpPr>
          <p:pic>
            <p:nvPicPr>
              <p:cNvPr id="402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3240" y="248040"/>
                <a:ext cx="915840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3" name="Text Box 10"/>
              <p:cNvSpPr/>
              <p:nvPr/>
            </p:nvSpPr>
            <p:spPr>
              <a:xfrm rot="21435600">
                <a:off x="-1224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7F899-D4A3-4885-A950-09C53FDE0761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21095-D09A-47CF-A6F3-31E4A6086257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3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3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32.wmf"/><Relationship Id="rId7" Type="http://schemas.openxmlformats.org/officeDocument/2006/relationships/slideLayout" Target="../slideLayouts/slideLayout3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image" Target="../media/image11.pn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3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11.pn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3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image" Target="../media/image11.pn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3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3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3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oleObject" Target="../embeddings/oleObject2.bin"/><Relationship Id="rId6" Type="http://schemas.openxmlformats.org/officeDocument/2006/relationships/image" Target="../media/image47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48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49.wmf"/><Relationship Id="rId11" Type="http://schemas.openxmlformats.org/officeDocument/2006/relationships/slideLayout" Target="../slideLayouts/slideLayout3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image" Target="../media/image11.pn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3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5.wmf"/><Relationship Id="rId6" Type="http://schemas.openxmlformats.org/officeDocument/2006/relationships/slideLayout" Target="../slideLayouts/slideLayout3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9.wmf"/><Relationship Id="rId7" Type="http://schemas.openxmlformats.org/officeDocument/2006/relationships/image" Target="../media/image11.pn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3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1.wmf"/><Relationship Id="rId5" Type="http://schemas.openxmlformats.org/officeDocument/2006/relationships/image" Target="../media/image62.wmf"/><Relationship Id="rId6" Type="http://schemas.openxmlformats.org/officeDocument/2006/relationships/image" Target="../media/image11.pn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3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8.wmf"/><Relationship Id="rId11" Type="http://schemas.openxmlformats.org/officeDocument/2006/relationships/image" Target="../media/image11.png"/><Relationship Id="rId12" Type="http://schemas.openxmlformats.org/officeDocument/2006/relationships/image" Target="../media/image12.jpeg"/><Relationship Id="rId13" Type="http://schemas.openxmlformats.org/officeDocument/2006/relationships/slideLayout" Target="../slideLayouts/slideLayout3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69.xml"/><Relationship Id="rId4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image" Target="../media/image11.pn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3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3.wmf"/><Relationship Id="rId13" Type="http://schemas.openxmlformats.org/officeDocument/2006/relationships/image" Target="../media/image11.png"/><Relationship Id="rId14" Type="http://schemas.openxmlformats.org/officeDocument/2006/relationships/image" Target="../media/image12.jpeg"/><Relationship Id="rId15" Type="http://schemas.openxmlformats.org/officeDocument/2006/relationships/slideLayout" Target="../slideLayouts/slideLayout3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image" Target="../media/image11.pn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3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3" name="Slide Number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95369-082B-4EA9-8A7D-C8A66FE02AA9}" type="slidenum">
              <a:rPr b="0" lang="ar-SA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94" name="Rectangle 5"/>
          <p:cNvSpPr/>
          <p:nvPr/>
        </p:nvSpPr>
        <p:spPr>
          <a:xfrm>
            <a:off x="2362320" y="4114800"/>
            <a:ext cx="37335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395" name="Picture 4" descr="logo.gif"/>
          <p:cNvPicPr/>
          <p:nvPr/>
        </p:nvPicPr>
        <p:blipFill>
          <a:blip r:embed="rId1"/>
          <a:stretch/>
        </p:blipFill>
        <p:spPr>
          <a:xfrm>
            <a:off x="6629400" y="228600"/>
            <a:ext cx="2413080" cy="695160"/>
          </a:xfrm>
          <a:prstGeom prst="rect">
            <a:avLst/>
          </a:prstGeom>
          <a:ln w="0">
            <a:noFill/>
          </a:ln>
        </p:spPr>
      </p:pic>
      <p:sp>
        <p:nvSpPr>
          <p:cNvPr id="2396" name="Straight Connector 5"/>
          <p:cNvSpPr/>
          <p:nvPr/>
        </p:nvSpPr>
        <p:spPr>
          <a:xfrm>
            <a:off x="1752480" y="1066680"/>
            <a:ext cx="5334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397" name="Picture 6" descr="ksulogo3.png"/>
          <p:cNvPicPr/>
          <p:nvPr/>
        </p:nvPicPr>
        <p:blipFill>
          <a:blip r:embed="rId2"/>
          <a:stretch/>
        </p:blipFill>
        <p:spPr>
          <a:xfrm>
            <a:off x="304920" y="295200"/>
            <a:ext cx="1752480" cy="655560"/>
          </a:xfrm>
          <a:prstGeom prst="rect">
            <a:avLst/>
          </a:prstGeom>
          <a:ln w="0">
            <a:noFill/>
          </a:ln>
        </p:spPr>
      </p:pic>
      <p:sp>
        <p:nvSpPr>
          <p:cNvPr id="2398" name="Rectangle 7"/>
          <p:cNvSpPr/>
          <p:nvPr/>
        </p:nvSpPr>
        <p:spPr>
          <a:xfrm>
            <a:off x="3593160" y="4952880"/>
            <a:ext cx="141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ambria Math"/>
              </a:rPr>
              <a:t>1435-1436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ambria Math"/>
              </a:rPr>
              <a:t>2014-2015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99" name="Rectangle 1"/>
          <p:cNvSpPr/>
          <p:nvPr/>
        </p:nvSpPr>
        <p:spPr>
          <a:xfrm>
            <a:off x="2430720" y="1828800"/>
            <a:ext cx="389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cohols and Phenol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400" name="Picture 1" descr="513px-Phenol-3D-balls.png"/>
          <p:cNvPicPr/>
          <p:nvPr/>
        </p:nvPicPr>
        <p:blipFill>
          <a:blip r:embed="rId3"/>
          <a:stretch/>
        </p:blipFill>
        <p:spPr>
          <a:xfrm>
            <a:off x="4724280" y="2362320"/>
            <a:ext cx="2284560" cy="2666880"/>
          </a:xfrm>
          <a:prstGeom prst="rect">
            <a:avLst/>
          </a:prstGeom>
          <a:ln w="0">
            <a:noFill/>
          </a:ln>
        </p:spPr>
      </p:pic>
      <p:pic>
        <p:nvPicPr>
          <p:cNvPr id="2401" name="Picture 2" descr="ethanol02.png"/>
          <p:cNvPicPr/>
          <p:nvPr/>
        </p:nvPicPr>
        <p:blipFill>
          <a:blip r:embed="rId4"/>
          <a:stretch/>
        </p:blipFill>
        <p:spPr>
          <a:xfrm>
            <a:off x="1523880" y="2900520"/>
            <a:ext cx="2667240" cy="1825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9" name="Footer Placeholder 1"/>
          <p:cNvSpPr/>
          <p:nvPr/>
        </p:nvSpPr>
        <p:spPr>
          <a:xfrm>
            <a:off x="152280" y="6324480"/>
            <a:ext cx="3353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00" name="Slide Number Placeholder 2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82847-00B7-4A66-8F09-D0F3BE69DC1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01" name="Rectangle 4"/>
          <p:cNvSpPr/>
          <p:nvPr/>
        </p:nvSpPr>
        <p:spPr>
          <a:xfrm>
            <a:off x="15840" y="11430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c5252"/>
                </a:solidFill>
                <a:latin typeface="Times New Roman"/>
                <a:ea typeface="Times New Roman"/>
              </a:rPr>
              <a:t>Physical Properties of Alcohol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02" name="Rectangle 16"/>
          <p:cNvSpPr/>
          <p:nvPr/>
        </p:nvSpPr>
        <p:spPr>
          <a:xfrm>
            <a:off x="0" y="1523880"/>
            <a:ext cx="8915400" cy="20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00"/>
                </a:solidFill>
                <a:uFillTx/>
                <a:latin typeface="Times New Roman"/>
                <a:ea typeface="Times New Roman"/>
              </a:rPr>
              <a:t>1) Boiling Points of Alcohol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boiling points increase with increase in molecular weights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s have  higher boiling points(b .p.) than alkanes of similar weight this is due to the presence of </a:t>
            </a:r>
            <a:r>
              <a:rPr b="0" lang="en-GB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hydrogen bonds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tween   molecules  of alcohols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503" name="Picture 1037" descr="alchb3"/>
          <p:cNvPicPr/>
          <p:nvPr/>
        </p:nvPicPr>
        <p:blipFill>
          <a:blip r:embed="rId1"/>
          <a:stretch/>
        </p:blipFill>
        <p:spPr>
          <a:xfrm>
            <a:off x="533520" y="3352680"/>
            <a:ext cx="2361960" cy="1157400"/>
          </a:xfrm>
          <a:prstGeom prst="rect">
            <a:avLst/>
          </a:prstGeom>
          <a:ln w="0">
            <a:noFill/>
          </a:ln>
        </p:spPr>
      </p:pic>
      <p:sp>
        <p:nvSpPr>
          <p:cNvPr id="2504" name="Line 7"/>
          <p:cNvSpPr/>
          <p:nvPr/>
        </p:nvSpPr>
        <p:spPr>
          <a:xfrm>
            <a:off x="1600200" y="4267080"/>
            <a:ext cx="433440" cy="333360"/>
          </a:xfrm>
          <a:prstGeom prst="line">
            <a:avLst/>
          </a:prstGeom>
          <a:ln w="9360">
            <a:solidFill>
              <a:srgbClr val="9c525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05" name="Rectangle 8"/>
          <p:cNvSpPr/>
          <p:nvPr/>
        </p:nvSpPr>
        <p:spPr>
          <a:xfrm>
            <a:off x="914400" y="47242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ff"/>
                </a:solidFill>
                <a:latin typeface="Comic Sans MS"/>
              </a:rPr>
              <a:t>hydrogen bond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06" name="Oval 1041"/>
          <p:cNvSpPr/>
          <p:nvPr/>
        </p:nvSpPr>
        <p:spPr>
          <a:xfrm>
            <a:off x="372960" y="3884760"/>
            <a:ext cx="84240" cy="7776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07" name="Oval 1041"/>
          <p:cNvSpPr/>
          <p:nvPr/>
        </p:nvSpPr>
        <p:spPr>
          <a:xfrm>
            <a:off x="372960" y="4113360"/>
            <a:ext cx="84240" cy="7776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508" name="صورة 3" descr=""/>
          <p:cNvPicPr/>
          <p:nvPr/>
        </p:nvPicPr>
        <p:blipFill>
          <a:blip r:embed="rId2"/>
          <a:stretch/>
        </p:blipFill>
        <p:spPr>
          <a:xfrm>
            <a:off x="3505320" y="3352680"/>
            <a:ext cx="5410080" cy="1211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509" name="Picture 18" descr="ksulogo2.png"/>
          <p:cNvPicPr/>
          <p:nvPr/>
        </p:nvPicPr>
        <p:blipFill>
          <a:blip r:embed="rId3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10" name="Picture 19" descr="images.jpeg"/>
          <p:cNvPicPr/>
          <p:nvPr/>
        </p:nvPicPr>
        <p:blipFill>
          <a:blip r:embed="rId4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511" name="Straight Connector 20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12" name="Rectangle 21"/>
          <p:cNvSpPr/>
          <p:nvPr/>
        </p:nvSpPr>
        <p:spPr>
          <a:xfrm>
            <a:off x="3015360" y="45720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s and Phenol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513" name="Object 20"/>
          <p:cNvGraphicFramePr/>
          <p:nvPr/>
        </p:nvGraphicFramePr>
        <p:xfrm>
          <a:off x="636480" y="5029200"/>
          <a:ext cx="7821720" cy="1461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14" name="Object 2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6480" y="5029200"/>
                    <a:ext cx="7821720" cy="14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B8797-E136-4B1A-9AB5-3D7F0FD9A7D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16" name="Footer Placeholder 2"/>
          <p:cNvSpPr/>
          <p:nvPr/>
        </p:nvSpPr>
        <p:spPr>
          <a:xfrm>
            <a:off x="152280" y="6324480"/>
            <a:ext cx="3353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517" name="Picture 10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18" name="Picture 11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519" name="Straight Connector 12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20" name="Rectangle 13"/>
          <p:cNvSpPr/>
          <p:nvPr/>
        </p:nvSpPr>
        <p:spPr>
          <a:xfrm>
            <a:off x="3015360" y="45720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s and Phenol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21" name="TextBox 10"/>
          <p:cNvSpPr/>
          <p:nvPr/>
        </p:nvSpPr>
        <p:spPr>
          <a:xfrm>
            <a:off x="482760" y="1001880"/>
            <a:ext cx="8766000" cy="50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3300"/>
                </a:solidFill>
                <a:uFillTx/>
                <a:latin typeface="Times New Roman"/>
                <a:ea typeface="Times New Roman"/>
              </a:rPr>
              <a:t>2) Solubility Of Alcohols and Phenol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 and water contain </a:t>
            </a:r>
            <a:r>
              <a:rPr b="0" lang="en-GB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hydroxyl group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at can form </a:t>
            </a:r>
            <a:r>
              <a:rPr b="0" lang="en-GB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hydrogen bonds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hydroxyl group is</a:t>
            </a:r>
            <a:r>
              <a:rPr b="0" lang="en-GB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hydrophilic “water loving”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lkyl group of alcohols is</a:t>
            </a:r>
            <a:r>
              <a:rPr b="0" lang="en-GB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hydrophobic “ water hating”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 the number of the –OH group in alcohol</a:t>
            </a:r>
            <a:r>
              <a:rPr b="0" lang="en-GB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increases, the solubility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water </a:t>
            </a:r>
            <a:r>
              <a:rPr b="0" lang="en-GB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increases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ols and triols are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or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oluble in water than monohydroxyalcohols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30000"/>
              </a:lnSpc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The lower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s are </a:t>
            </a:r>
            <a:r>
              <a:rPr b="0" lang="en-GB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ompletely miscible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 water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3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As the number of carbons in the alcohol increases,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e solubility in water decreases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3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522" name="Object 14"/>
          <p:cNvGraphicFramePr/>
          <p:nvPr/>
        </p:nvGraphicFramePr>
        <p:xfrm>
          <a:off x="1662120" y="5132520"/>
          <a:ext cx="6702480" cy="153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23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62120" y="5132520"/>
                    <a:ext cx="670248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4" name="TextBox 4"/>
          <p:cNvSpPr/>
          <p:nvPr/>
        </p:nvSpPr>
        <p:spPr>
          <a:xfrm>
            <a:off x="267480" y="4952880"/>
            <a:ext cx="15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omewor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5" name="Slide Number Placeholder 1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635FD-259E-4789-B2AF-9132A962B10D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26" name="Rectangle 17"/>
          <p:cNvSpPr/>
          <p:nvPr/>
        </p:nvSpPr>
        <p:spPr>
          <a:xfrm>
            <a:off x="522360" y="1143000"/>
            <a:ext cx="7859520" cy="49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cc3300"/>
                </a:solidFill>
                <a:uFillTx/>
                <a:latin typeface="Times New Roman"/>
                <a:ea typeface="Times New Roman"/>
              </a:rPr>
              <a:t>3) Acidic Properties of Alcohols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s are </a:t>
            </a:r>
            <a:r>
              <a:rPr b="0" lang="en-GB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very weak acid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hydroxyl proton of an alcohol is weakly acidic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trong base can abstract the hydroxyl proton to give an alkoxide ion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ectron-withdrawing group (-I) </a:t>
            </a:r>
            <a:r>
              <a:rPr b="0" lang="en-GB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increase acidity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ectron-releasing group (+I)</a:t>
            </a:r>
            <a:r>
              <a:rPr b="0" lang="en-GB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decrease acidity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527" name="Picture 10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28" name="Picture 11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529" name="Straight Connector 7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30" name="Rectangle 8"/>
          <p:cNvSpPr/>
          <p:nvPr/>
        </p:nvSpPr>
        <p:spPr>
          <a:xfrm>
            <a:off x="3015360" y="45720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s and Phenol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531" name="Object 17"/>
          <p:cNvGraphicFramePr/>
          <p:nvPr/>
        </p:nvGraphicFramePr>
        <p:xfrm>
          <a:off x="2057400" y="2590920"/>
          <a:ext cx="4570560" cy="145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32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7400" y="2590920"/>
                    <a:ext cx="4570560" cy="14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3" name="Object 18"/>
          <p:cNvGraphicFramePr/>
          <p:nvPr/>
        </p:nvGraphicFramePr>
        <p:xfrm>
          <a:off x="1219320" y="5029200"/>
          <a:ext cx="6037200" cy="863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34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5029200"/>
                    <a:ext cx="603720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5" name="Footer Placeholder 1"/>
          <p:cNvSpPr/>
          <p:nvPr/>
        </p:nvSpPr>
        <p:spPr>
          <a:xfrm>
            <a:off x="76320" y="6324480"/>
            <a:ext cx="3352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6" name="Footer Placeholder 1"/>
          <p:cNvSpPr/>
          <p:nvPr/>
        </p:nvSpPr>
        <p:spPr>
          <a:xfrm>
            <a:off x="76320" y="6324480"/>
            <a:ext cx="3352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37" name="Slide Number Placeholder 2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63CF7-493B-4318-AC46-1DF61C7B20A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538" name="Object 27"/>
          <p:cNvGraphicFramePr/>
          <p:nvPr/>
        </p:nvGraphicFramePr>
        <p:xfrm>
          <a:off x="1914480" y="1849320"/>
          <a:ext cx="5488200" cy="10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9" name="Object 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14480" y="1849320"/>
                    <a:ext cx="5488200" cy="10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0" name="Object 28"/>
          <p:cNvGraphicFramePr/>
          <p:nvPr/>
        </p:nvGraphicFramePr>
        <p:xfrm>
          <a:off x="2133720" y="2973240"/>
          <a:ext cx="3590640" cy="1141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1" name="Object 2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2973240"/>
                    <a:ext cx="3590640" cy="11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2" name="Object 29"/>
          <p:cNvGraphicFramePr/>
          <p:nvPr/>
        </p:nvGraphicFramePr>
        <p:xfrm>
          <a:off x="914400" y="4497480"/>
          <a:ext cx="4500720" cy="1538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43" name="Object 2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14400" y="4497480"/>
                    <a:ext cx="4500720" cy="15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4" name="Rectangle 4"/>
          <p:cNvSpPr/>
          <p:nvPr/>
        </p:nvSpPr>
        <p:spPr>
          <a:xfrm>
            <a:off x="304920" y="9907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c5252"/>
                </a:solidFill>
                <a:latin typeface="Times New Roman"/>
                <a:ea typeface="Times New Roman"/>
              </a:rPr>
              <a:t>Synthesis (Preparation) of Alcohol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45" name="Rectangle 5"/>
          <p:cNvSpPr/>
          <p:nvPr/>
        </p:nvSpPr>
        <p:spPr>
          <a:xfrm>
            <a:off x="245880" y="1366920"/>
            <a:ext cx="37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Times New Roman"/>
                <a:ea typeface="Times New Roman"/>
              </a:rPr>
              <a:t>1- Hydration From Alken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46" name="Rectangle 4"/>
          <p:cNvSpPr/>
          <p:nvPr/>
        </p:nvSpPr>
        <p:spPr>
          <a:xfrm>
            <a:off x="127800" y="3809880"/>
            <a:ext cx="29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Times New Roman"/>
                <a:ea typeface="Times New Roman"/>
              </a:rPr>
              <a:t>2- From alkyl halide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47" name="Text Box 12"/>
          <p:cNvSpPr/>
          <p:nvPr/>
        </p:nvSpPr>
        <p:spPr>
          <a:xfrm>
            <a:off x="5577480" y="5638680"/>
            <a:ext cx="337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nucleophilic substitu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48" name="Text Box 13"/>
          <p:cNvSpPr/>
          <p:nvPr/>
        </p:nvSpPr>
        <p:spPr>
          <a:xfrm>
            <a:off x="5295600" y="4495680"/>
            <a:ext cx="347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limination of HX using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 gives alkene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549" name="Picture 13" descr="ksulogo2.png"/>
          <p:cNvPicPr/>
          <p:nvPr/>
        </p:nvPicPr>
        <p:blipFill>
          <a:blip r:embed="rId7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50" name="Picture 14" descr="images.jpeg"/>
          <p:cNvPicPr/>
          <p:nvPr/>
        </p:nvPicPr>
        <p:blipFill>
          <a:blip r:embed="rId8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551" name="Straight Connector 15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52" name="Rectangle 16"/>
          <p:cNvSpPr/>
          <p:nvPr/>
        </p:nvSpPr>
        <p:spPr>
          <a:xfrm>
            <a:off x="3015360" y="45720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s and Phenol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53" name="Rectangle 5"/>
          <p:cNvSpPr/>
          <p:nvPr/>
        </p:nvSpPr>
        <p:spPr>
          <a:xfrm>
            <a:off x="251640" y="2600280"/>
            <a:ext cx="32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Times New Roman"/>
                <a:ea typeface="Times New Roman"/>
              </a:rPr>
              <a:t>1- Oxidation of Alken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54" name="TextBox 1"/>
          <p:cNvSpPr/>
          <p:nvPr/>
        </p:nvSpPr>
        <p:spPr>
          <a:xfrm>
            <a:off x="2802240" y="5946840"/>
            <a:ext cx="107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or aq. KOH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Footer Placeholder 1"/>
          <p:cNvSpPr/>
          <p:nvPr/>
        </p:nvSpPr>
        <p:spPr>
          <a:xfrm>
            <a:off x="76320" y="64008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56" name="Slide Number Placeholder 2"/>
          <p:cNvSpPr/>
          <p:nvPr/>
        </p:nvSpPr>
        <p:spPr>
          <a:xfrm>
            <a:off x="7932600" y="648000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7C982-04DE-4B93-8059-1DEB6BAB7C9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557" name="Object 22"/>
          <p:cNvGraphicFramePr/>
          <p:nvPr/>
        </p:nvGraphicFramePr>
        <p:xfrm>
          <a:off x="914400" y="1981080"/>
          <a:ext cx="3419640" cy="82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8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81080"/>
                    <a:ext cx="3419640" cy="8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9" name="Object 23"/>
          <p:cNvGraphicFramePr/>
          <p:nvPr/>
        </p:nvGraphicFramePr>
        <p:xfrm>
          <a:off x="1219320" y="4800600"/>
          <a:ext cx="3152520" cy="58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60" name="Object 2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4800600"/>
                    <a:ext cx="315252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1" name="Rectangle 7"/>
          <p:cNvSpPr/>
          <p:nvPr/>
        </p:nvSpPr>
        <p:spPr>
          <a:xfrm>
            <a:off x="0" y="1062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Times New Roman"/>
                <a:ea typeface="Times New Roman"/>
              </a:rPr>
              <a:t>3-  Reduction of aldehydes, ketones and carboxylic acid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562" name="Object 5" descr=""/>
          <p:cNvPicPr/>
          <p:nvPr/>
        </p:nvPicPr>
        <p:blipFill>
          <a:blip r:embed="rId5"/>
          <a:stretch/>
        </p:blipFill>
        <p:spPr>
          <a:xfrm>
            <a:off x="914400" y="3438360"/>
            <a:ext cx="3313080" cy="863640"/>
          </a:xfrm>
          <a:prstGeom prst="rect">
            <a:avLst/>
          </a:prstGeom>
          <a:ln w="0">
            <a:noFill/>
          </a:ln>
        </p:spPr>
      </p:pic>
      <p:pic>
        <p:nvPicPr>
          <p:cNvPr id="2563" name="Picture 11" descr="ksulogo2.png"/>
          <p:cNvPicPr/>
          <p:nvPr/>
        </p:nvPicPr>
        <p:blipFill>
          <a:blip r:embed="rId6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64" name="Picture 12" descr="images.jpeg"/>
          <p:cNvPicPr/>
          <p:nvPr/>
        </p:nvPicPr>
        <p:blipFill>
          <a:blip r:embed="rId7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565" name="Straight Connector 13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66" name="Rectangle 14"/>
          <p:cNvSpPr/>
          <p:nvPr/>
        </p:nvSpPr>
        <p:spPr>
          <a:xfrm>
            <a:off x="3015360" y="45720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s and Phenol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Footer Placeholder 1"/>
          <p:cNvSpPr/>
          <p:nvPr/>
        </p:nvSpPr>
        <p:spPr>
          <a:xfrm>
            <a:off x="76320" y="64008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68" name="Slide Number Placeholder 2"/>
          <p:cNvSpPr/>
          <p:nvPr/>
        </p:nvSpPr>
        <p:spPr>
          <a:xfrm>
            <a:off x="7932600" y="648000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CA765-8A0E-453C-B8F0-6384322328A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569" name="Object 26"/>
          <p:cNvGraphicFramePr/>
          <p:nvPr/>
        </p:nvGraphicFramePr>
        <p:xfrm>
          <a:off x="152280" y="1676520"/>
          <a:ext cx="6040440" cy="27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0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676520"/>
                    <a:ext cx="6040440" cy="27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1" name="Rectangle 7"/>
          <p:cNvSpPr/>
          <p:nvPr/>
        </p:nvSpPr>
        <p:spPr>
          <a:xfrm>
            <a:off x="25560" y="1062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Times New Roman"/>
                <a:ea typeface="Times New Roman"/>
              </a:rPr>
              <a:t>4-  Addition  of  Grignard compounds to aldehydes &amp; keton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72" name="مربع نص 16"/>
          <p:cNvSpPr/>
          <p:nvPr/>
        </p:nvSpPr>
        <p:spPr>
          <a:xfrm>
            <a:off x="6213600" y="243828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Tertiary alcoho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73" name="مربع نص 16"/>
          <p:cNvSpPr/>
          <p:nvPr/>
        </p:nvSpPr>
        <p:spPr>
          <a:xfrm>
            <a:off x="217080" y="297180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eton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574" name="Object 27"/>
          <p:cNvGraphicFramePr/>
          <p:nvPr/>
        </p:nvGraphicFramePr>
        <p:xfrm>
          <a:off x="533520" y="3592440"/>
          <a:ext cx="5278320" cy="86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75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3592440"/>
                    <a:ext cx="527832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6" name="Object 28"/>
          <p:cNvGraphicFramePr/>
          <p:nvPr/>
        </p:nvGraphicFramePr>
        <p:xfrm>
          <a:off x="838080" y="4888080"/>
          <a:ext cx="4753080" cy="863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77" name="Object 2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4888080"/>
                    <a:ext cx="4753080" cy="86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8" name="مستطيل 18"/>
          <p:cNvSpPr/>
          <p:nvPr/>
        </p:nvSpPr>
        <p:spPr>
          <a:xfrm>
            <a:off x="6341760" y="3809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Secondary alcoho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79" name="مستطيل 19"/>
          <p:cNvSpPr/>
          <p:nvPr/>
        </p:nvSpPr>
        <p:spPr>
          <a:xfrm>
            <a:off x="6495120" y="504036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Primary alcoho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80" name="مستطيل 19"/>
          <p:cNvSpPr/>
          <p:nvPr/>
        </p:nvSpPr>
        <p:spPr>
          <a:xfrm>
            <a:off x="473400" y="5576760"/>
            <a:ext cx="145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thana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ormaldehyd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581" name="Picture 15" descr="ksulogo2.png"/>
          <p:cNvPicPr/>
          <p:nvPr/>
        </p:nvPicPr>
        <p:blipFill>
          <a:blip r:embed="rId7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82" name="Picture 16" descr="images.jpeg"/>
          <p:cNvPicPr/>
          <p:nvPr/>
        </p:nvPicPr>
        <p:blipFill>
          <a:blip r:embed="rId8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583" name="Straight Connector 17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84" name="Rectangle 18"/>
          <p:cNvSpPr/>
          <p:nvPr/>
        </p:nvSpPr>
        <p:spPr>
          <a:xfrm>
            <a:off x="3015360" y="45720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s and Phenol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5" name="Rectangle 7"/>
          <p:cNvSpPr/>
          <p:nvPr/>
        </p:nvSpPr>
        <p:spPr>
          <a:xfrm>
            <a:off x="17640" y="2589120"/>
            <a:ext cx="63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76b4"/>
                </a:solidFill>
                <a:latin typeface="Times New Roman"/>
                <a:ea typeface="Times New Roman"/>
              </a:rPr>
              <a:t>A. Formation of Salt (</a:t>
            </a:r>
            <a:r>
              <a:rPr b="0" lang="en-US" sz="2400" spc="-1" strike="noStrike">
                <a:solidFill>
                  <a:srgbClr val="6076b4"/>
                </a:solidFill>
                <a:latin typeface="Times New Roman"/>
                <a:ea typeface="Times New Roman"/>
              </a:rPr>
              <a:t>Alkoxide formation</a:t>
            </a:r>
            <a:r>
              <a:rPr b="1" lang="en-US" sz="2400" spc="-1" strike="noStrike">
                <a:solidFill>
                  <a:srgbClr val="6076b4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86" name="Footer Placeholder 1"/>
          <p:cNvSpPr/>
          <p:nvPr/>
        </p:nvSpPr>
        <p:spPr>
          <a:xfrm>
            <a:off x="58680" y="624852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87" name="Slide Number Placeholder 2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4D401-588A-4AB2-BAF0-3B6DD90B76E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88" name="Rectangle 4"/>
          <p:cNvSpPr/>
          <p:nvPr/>
        </p:nvSpPr>
        <p:spPr>
          <a:xfrm>
            <a:off x="-76320" y="155880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1. Dissociation of O-H Bon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589" name="Object 25"/>
          <p:cNvGraphicFramePr/>
          <p:nvPr/>
        </p:nvGraphicFramePr>
        <p:xfrm>
          <a:off x="2057400" y="3273480"/>
          <a:ext cx="3575160" cy="44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0" name="Object 2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3273480"/>
                    <a:ext cx="357516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1" name="مربع نص 15"/>
          <p:cNvSpPr/>
          <p:nvPr/>
        </p:nvSpPr>
        <p:spPr>
          <a:xfrm>
            <a:off x="4500720" y="3808440"/>
            <a:ext cx="281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dium ethoxid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92" name="Rectangle 4"/>
          <p:cNvSpPr/>
          <p:nvPr/>
        </p:nvSpPr>
        <p:spPr>
          <a:xfrm>
            <a:off x="309960" y="990720"/>
            <a:ext cx="28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c5252"/>
                </a:solidFill>
                <a:latin typeface="Times New Roman"/>
                <a:ea typeface="Times New Roman"/>
              </a:rPr>
              <a:t>Reaction of Alcohol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93" name="Rectangle 3"/>
          <p:cNvSpPr/>
          <p:nvPr/>
        </p:nvSpPr>
        <p:spPr>
          <a:xfrm>
            <a:off x="130320" y="4341960"/>
            <a:ext cx="314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76b4"/>
                </a:solidFill>
                <a:latin typeface="Times New Roman"/>
                <a:ea typeface="Times New Roman"/>
              </a:rPr>
              <a:t>B. Formation of Ester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594" name="Object 26"/>
          <p:cNvGraphicFramePr/>
          <p:nvPr/>
        </p:nvGraphicFramePr>
        <p:xfrm>
          <a:off x="990720" y="5021280"/>
          <a:ext cx="5583240" cy="84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95" name="Object 2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5021280"/>
                    <a:ext cx="5583240" cy="84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6" name="Rectangle 6"/>
          <p:cNvSpPr/>
          <p:nvPr/>
        </p:nvSpPr>
        <p:spPr>
          <a:xfrm>
            <a:off x="4277520" y="5041800"/>
            <a:ext cx="5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76b4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 baseline="30000">
                <a:solidFill>
                  <a:srgbClr val="6076b4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97" name="Rectangle 15"/>
          <p:cNvSpPr/>
          <p:nvPr/>
        </p:nvSpPr>
        <p:spPr>
          <a:xfrm>
            <a:off x="4088520" y="5700600"/>
            <a:ext cx="1019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076b4"/>
                </a:solidFill>
                <a:latin typeface="Comic Sans MS"/>
                <a:ea typeface="Times New Roman"/>
              </a:rPr>
              <a:t>H</a:t>
            </a:r>
            <a:r>
              <a:rPr b="1" lang="en-US" sz="1800" spc="-1" strike="noStrike" baseline="30000">
                <a:solidFill>
                  <a:srgbClr val="6076b4"/>
                </a:solidFill>
                <a:latin typeface="Comic Sans MS"/>
                <a:ea typeface="Times New Roman"/>
              </a:rPr>
              <a:t>+</a:t>
            </a:r>
            <a:r>
              <a:rPr b="1" lang="en-US" sz="1800" spc="-1" strike="noStrike">
                <a:solidFill>
                  <a:srgbClr val="6076b4"/>
                </a:solidFill>
                <a:latin typeface="Comic Sans MS"/>
                <a:ea typeface="Times New Roman"/>
              </a:rPr>
              <a:t>/ H</a:t>
            </a:r>
            <a:r>
              <a:rPr b="1" lang="en-US" sz="1800" spc="-1" strike="noStrike" baseline="-25000">
                <a:solidFill>
                  <a:srgbClr val="6076b4"/>
                </a:solidFill>
                <a:latin typeface="Comic Sans MS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6076b4"/>
                </a:solidFill>
                <a:latin typeface="Comic Sans MS"/>
                <a:ea typeface="Times New Roman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98" name="Text Box 15"/>
          <p:cNvSpPr/>
          <p:nvPr/>
        </p:nvSpPr>
        <p:spPr>
          <a:xfrm>
            <a:off x="232560" y="2057400"/>
            <a:ext cx="88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Reaction as acids (Breaking of oxygen- Hydrogen bond CO </a:t>
            </a: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Times New Roman"/>
              </a:rPr>
              <a:t>ـــــ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H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99" name="Curve 345"/>
          <p:cNvSpPr/>
          <p:nvPr/>
        </p:nvSpPr>
        <p:spPr>
          <a:xfrm>
            <a:off x="8229600" y="2209680"/>
            <a:ext cx="84240" cy="304920"/>
          </a:xfrm>
          <a:custGeom>
            <a:avLst/>
            <a:gdLst>
              <a:gd name="textAreaLeft" fmla="*/ 0 w 84240"/>
              <a:gd name="textAreaRight" fmla="*/ 84600 w 842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14149" y="961"/>
                </a:moveTo>
                <a:cubicBezTo>
                  <a:pt x="11289" y="987"/>
                  <a:pt x="827" y="0"/>
                  <a:pt x="1655" y="1923"/>
                </a:cubicBezTo>
                <a:cubicBezTo>
                  <a:pt x="2483" y="3846"/>
                  <a:pt x="14977" y="8837"/>
                  <a:pt x="18288" y="10579"/>
                </a:cubicBezTo>
                <a:cubicBezTo>
                  <a:pt x="21600" y="12320"/>
                  <a:pt x="20245" y="10111"/>
                  <a:pt x="18288" y="10579"/>
                </a:cubicBezTo>
                <a:cubicBezTo>
                  <a:pt x="16331" y="11046"/>
                  <a:pt x="11891" y="11904"/>
                  <a:pt x="8579" y="12970"/>
                </a:cubicBezTo>
                <a:cubicBezTo>
                  <a:pt x="5268" y="14036"/>
                  <a:pt x="0" y="14607"/>
                  <a:pt x="1655" y="15855"/>
                </a:cubicBezTo>
                <a:cubicBezTo>
                  <a:pt x="3311" y="17103"/>
                  <a:pt x="13848" y="18532"/>
                  <a:pt x="16933" y="19208"/>
                </a:cubicBezTo>
                <a:cubicBezTo>
                  <a:pt x="20019" y="19884"/>
                  <a:pt x="18890" y="18740"/>
                  <a:pt x="16933" y="19208"/>
                </a:cubicBezTo>
                <a:cubicBezTo>
                  <a:pt x="14977" y="19676"/>
                  <a:pt x="9181" y="21132"/>
                  <a:pt x="7225" y="21600"/>
                </a:cubicBezTo>
              </a:path>
            </a:pathLst>
          </a:custGeom>
          <a:noFill/>
          <a:ln w="15840">
            <a:solidFill>
              <a:srgbClr val="2f589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600" name="Picture 16" descr="ksulogo2.png"/>
          <p:cNvPicPr/>
          <p:nvPr/>
        </p:nvPicPr>
        <p:blipFill>
          <a:blip r:embed="rId5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601" name="Picture 17" descr="images.jpeg"/>
          <p:cNvPicPr/>
          <p:nvPr/>
        </p:nvPicPr>
        <p:blipFill>
          <a:blip r:embed="rId6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602" name="Straight Connector 18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03" name="Rectangle 19"/>
          <p:cNvSpPr/>
          <p:nvPr/>
        </p:nvSpPr>
        <p:spPr>
          <a:xfrm>
            <a:off x="3015360" y="45720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s and Phenol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4" name="Rectangle 9"/>
          <p:cNvSpPr/>
          <p:nvPr/>
        </p:nvSpPr>
        <p:spPr>
          <a:xfrm>
            <a:off x="76320" y="1913040"/>
            <a:ext cx="37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76b4"/>
                </a:solidFill>
                <a:latin typeface="Times New Roman"/>
                <a:ea typeface="Times New Roman"/>
              </a:rPr>
              <a:t>A. Elimination Reaction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05" name="Footer Placeholder 1"/>
          <p:cNvSpPr/>
          <p:nvPr/>
        </p:nvSpPr>
        <p:spPr>
          <a:xfrm>
            <a:off x="27000" y="624852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06" name="Slide Number Placeholder 2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35023-6D06-450A-A383-8AD71D05E7A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607" name="Object 22"/>
          <p:cNvGraphicFramePr/>
          <p:nvPr/>
        </p:nvGraphicFramePr>
        <p:xfrm>
          <a:off x="2238480" y="2827440"/>
          <a:ext cx="3238560" cy="3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8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8480" y="2827440"/>
                    <a:ext cx="323856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9" name="Rectangle 4"/>
          <p:cNvSpPr/>
          <p:nvPr/>
        </p:nvSpPr>
        <p:spPr>
          <a:xfrm>
            <a:off x="338760" y="3951360"/>
            <a:ext cx="343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76b4"/>
                </a:solidFill>
                <a:latin typeface="Times New Roman"/>
                <a:ea typeface="Times New Roman"/>
              </a:rPr>
              <a:t>B. Substitution Reaction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10" name="Rectangle 5"/>
          <p:cNvSpPr/>
          <p:nvPr/>
        </p:nvSpPr>
        <p:spPr>
          <a:xfrm>
            <a:off x="334080" y="1066680"/>
            <a:ext cx="379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2. Dissociation of C-O Bon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611" name="Object 23"/>
          <p:cNvGraphicFramePr/>
          <p:nvPr/>
        </p:nvGraphicFramePr>
        <p:xfrm>
          <a:off x="1143000" y="4800600"/>
          <a:ext cx="5029200" cy="1335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12" name="Object 2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4800600"/>
                    <a:ext cx="5029200" cy="13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3" name="Text Box 11"/>
          <p:cNvSpPr/>
          <p:nvPr/>
        </p:nvSpPr>
        <p:spPr>
          <a:xfrm>
            <a:off x="165960" y="1519200"/>
            <a:ext cx="508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2568d"/>
                </a:solidFill>
                <a:latin typeface="Times New Roman"/>
                <a:ea typeface="Times New Roman"/>
              </a:rPr>
              <a:t>Reaction with C</a:t>
            </a:r>
            <a:r>
              <a:rPr b="1" lang="ar-SA" sz="2400" spc="-1" strike="noStrike">
                <a:solidFill>
                  <a:srgbClr val="42568d"/>
                </a:solidFill>
                <a:latin typeface="Times New Roman"/>
                <a:cs typeface="Times New Roman"/>
              </a:rPr>
              <a:t>ــــ</a:t>
            </a:r>
            <a:r>
              <a:rPr b="1" lang="en-US" sz="2400" spc="-1" strike="noStrike">
                <a:solidFill>
                  <a:srgbClr val="42568d"/>
                </a:solidFill>
                <a:latin typeface="Times New Roman"/>
                <a:ea typeface="Times New Roman"/>
              </a:rPr>
              <a:t>OH bond cleavag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14" name="Curve 345"/>
          <p:cNvSpPr/>
          <p:nvPr/>
        </p:nvSpPr>
        <p:spPr>
          <a:xfrm>
            <a:off x="2514600" y="1600200"/>
            <a:ext cx="84240" cy="304920"/>
          </a:xfrm>
          <a:custGeom>
            <a:avLst/>
            <a:gdLst>
              <a:gd name="textAreaLeft" fmla="*/ 0 w 84240"/>
              <a:gd name="textAreaRight" fmla="*/ 84600 w 842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14149" y="961"/>
                </a:moveTo>
                <a:cubicBezTo>
                  <a:pt x="11289" y="987"/>
                  <a:pt x="827" y="0"/>
                  <a:pt x="1655" y="1923"/>
                </a:cubicBezTo>
                <a:cubicBezTo>
                  <a:pt x="2483" y="3846"/>
                  <a:pt x="14977" y="8837"/>
                  <a:pt x="18288" y="10579"/>
                </a:cubicBezTo>
                <a:cubicBezTo>
                  <a:pt x="21600" y="12320"/>
                  <a:pt x="20245" y="10111"/>
                  <a:pt x="18288" y="10579"/>
                </a:cubicBezTo>
                <a:cubicBezTo>
                  <a:pt x="16331" y="11046"/>
                  <a:pt x="11891" y="11904"/>
                  <a:pt x="8579" y="12970"/>
                </a:cubicBezTo>
                <a:cubicBezTo>
                  <a:pt x="5268" y="14036"/>
                  <a:pt x="0" y="14607"/>
                  <a:pt x="1655" y="15855"/>
                </a:cubicBezTo>
                <a:cubicBezTo>
                  <a:pt x="3311" y="17103"/>
                  <a:pt x="13848" y="18532"/>
                  <a:pt x="16933" y="19208"/>
                </a:cubicBezTo>
                <a:cubicBezTo>
                  <a:pt x="20019" y="19884"/>
                  <a:pt x="18890" y="18740"/>
                  <a:pt x="16933" y="19208"/>
                </a:cubicBezTo>
                <a:cubicBezTo>
                  <a:pt x="14977" y="19676"/>
                  <a:pt x="9181" y="21132"/>
                  <a:pt x="7225" y="21600"/>
                </a:cubicBezTo>
              </a:path>
            </a:pathLst>
          </a:custGeom>
          <a:noFill/>
          <a:ln w="15840">
            <a:solidFill>
              <a:srgbClr val="2f58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15" name="AutoShape 13"/>
          <p:cNvSpPr/>
          <p:nvPr/>
        </p:nvSpPr>
        <p:spPr>
          <a:xfrm flipH="1">
            <a:off x="3656880" y="3208320"/>
            <a:ext cx="22860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616" name="Picture 13" descr="ksulogo2.png"/>
          <p:cNvPicPr/>
          <p:nvPr/>
        </p:nvPicPr>
        <p:blipFill>
          <a:blip r:embed="rId5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617" name="Picture 14" descr="images.jpeg"/>
          <p:cNvPicPr/>
          <p:nvPr/>
        </p:nvPicPr>
        <p:blipFill>
          <a:blip r:embed="rId6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618" name="Straight Connector 15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19" name="Rectangle 16"/>
          <p:cNvSpPr/>
          <p:nvPr/>
        </p:nvSpPr>
        <p:spPr>
          <a:xfrm>
            <a:off x="3015360" y="45720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s and Phenol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0" name="Footer Placeholder 1"/>
          <p:cNvSpPr/>
          <p:nvPr/>
        </p:nvSpPr>
        <p:spPr>
          <a:xfrm>
            <a:off x="76320" y="624852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21" name="Slide Number Placeholder 2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BAA58-2B1F-484E-A89D-68ED9583D2C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22" name="Rectangle 3"/>
          <p:cNvSpPr/>
          <p:nvPr/>
        </p:nvSpPr>
        <p:spPr>
          <a:xfrm>
            <a:off x="207360" y="1066680"/>
            <a:ext cx="32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C. Oxidation Reaction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623" name="Object 25"/>
          <p:cNvGraphicFramePr/>
          <p:nvPr/>
        </p:nvGraphicFramePr>
        <p:xfrm>
          <a:off x="2590920" y="5181480"/>
          <a:ext cx="3836880" cy="6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4" name="Object 2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5181480"/>
                    <a:ext cx="383688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25" name="Picture 10" descr="ksulogo2.png"/>
          <p:cNvPicPr/>
          <p:nvPr/>
        </p:nvPicPr>
        <p:blipFill>
          <a:blip r:embed="rId3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626" name="Picture 11" descr="images.jpeg"/>
          <p:cNvPicPr/>
          <p:nvPr/>
        </p:nvPicPr>
        <p:blipFill>
          <a:blip r:embed="rId4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627" name="Straight Connector 12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28" name="Rectangle 13"/>
          <p:cNvSpPr/>
          <p:nvPr/>
        </p:nvSpPr>
        <p:spPr>
          <a:xfrm>
            <a:off x="3015360" y="45720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s and Phenol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629" name="Object 26"/>
          <p:cNvGraphicFramePr/>
          <p:nvPr/>
        </p:nvGraphicFramePr>
        <p:xfrm>
          <a:off x="2292480" y="1828800"/>
          <a:ext cx="3911400" cy="83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30" name="Object 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92480" y="1828800"/>
                    <a:ext cx="39114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1" name="Object 27"/>
          <p:cNvGraphicFramePr/>
          <p:nvPr/>
        </p:nvGraphicFramePr>
        <p:xfrm>
          <a:off x="2286000" y="2895480"/>
          <a:ext cx="4829040" cy="709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32" name="Object 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0" y="2895480"/>
                    <a:ext cx="482904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3" name="Object 28"/>
          <p:cNvGraphicFramePr/>
          <p:nvPr/>
        </p:nvGraphicFramePr>
        <p:xfrm>
          <a:off x="2286000" y="3886200"/>
          <a:ext cx="4489560" cy="1219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34" name="Object 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86000" y="3886200"/>
                    <a:ext cx="448956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5" name="Footer Placeholder 1"/>
          <p:cNvSpPr/>
          <p:nvPr/>
        </p:nvSpPr>
        <p:spPr>
          <a:xfrm>
            <a:off x="0" y="6356520"/>
            <a:ext cx="6019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36" name="Slide Number Placeholder 2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62E14-31A7-4BB4-A0AC-B77DAF02E48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37" name="TextBox 6"/>
          <p:cNvSpPr/>
          <p:nvPr/>
        </p:nvSpPr>
        <p:spPr>
          <a:xfrm>
            <a:off x="85680" y="1752480"/>
            <a:ext cx="8829720" cy="47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Phenol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compounds having hydroxyl group directly attached to a benzene ring ) are generally named as derivatives of the simplest member of the family, pheno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Acidity</a:t>
            </a: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: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s and phenols have weak acidic propertie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enol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e much stronger acid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an alcohols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roduction of </a:t>
            </a:r>
            <a:r>
              <a:rPr b="0" lang="en-US" sz="2400" spc="-1" strike="noStrike">
                <a:solidFill>
                  <a:srgbClr val="6076b4"/>
                </a:solidFill>
                <a:latin typeface="Times New Roman"/>
                <a:ea typeface="Times New Roman"/>
              </a:rPr>
              <a:t>electron-withdrawing group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such as N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 CN, on the ring </a:t>
            </a:r>
            <a:r>
              <a:rPr b="0" lang="en-US" sz="2400" spc="-1" strike="noStrike">
                <a:solidFill>
                  <a:srgbClr val="6076b4"/>
                </a:solidFill>
                <a:latin typeface="Times New Roman"/>
                <a:ea typeface="Times New Roman"/>
              </a:rPr>
              <a:t>increases the acidit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f phenol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38" name="Rectangle 11"/>
          <p:cNvSpPr/>
          <p:nvPr/>
        </p:nvSpPr>
        <p:spPr>
          <a:xfrm>
            <a:off x="228600" y="990720"/>
            <a:ext cx="71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Nomenclature and acidity of Phenol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639" name="Picture 7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640" name="Picture 8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641" name="Straight Connector 9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42" name="Rectangle 10"/>
          <p:cNvSpPr/>
          <p:nvPr/>
        </p:nvSpPr>
        <p:spPr>
          <a:xfrm>
            <a:off x="3015360" y="45720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s and Phenol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2" name="PlaceHolder 1"/>
          <p:cNvSpPr>
            <a:spLocks noGrp="1"/>
          </p:cNvSpPr>
          <p:nvPr>
            <p:ph type="title"/>
          </p:nvPr>
        </p:nvSpPr>
        <p:spPr>
          <a:xfrm>
            <a:off x="20160" y="762120"/>
            <a:ext cx="66294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Learning Objectives</a:t>
            </a:r>
            <a:endParaRPr b="0" lang="en-US" sz="2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403" name="Rectangle 9"/>
          <p:cNvSpPr/>
          <p:nvPr/>
        </p:nvSpPr>
        <p:spPr>
          <a:xfrm>
            <a:off x="76320" y="1390680"/>
            <a:ext cx="91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c5252"/>
                </a:solidFill>
                <a:latin typeface="Times New Roman"/>
                <a:ea typeface="Times New Roman"/>
              </a:rPr>
              <a:t>Chapter six concerns alcohols and phenols and by the end of this chapter the student will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buClr>
                <a:srgbClr val="9c525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ow the difference in structure between  alcohols and phenol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buClr>
                <a:srgbClr val="9c525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ow the different classes of alcohol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buClr>
                <a:srgbClr val="9c525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ow how to name alcohols and phenol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buClr>
                <a:srgbClr val="9c525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ow the physical properties (solubility, boiling and melting points)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buClr>
                <a:srgbClr val="9c525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ow how hydrogen bonds are formed and its effect on boiling points of alcohol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buClr>
                <a:srgbClr val="9c525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ow the acidic properties of alcohols and phenol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buClr>
                <a:srgbClr val="9c525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ow the different methods that can  be used to prepare  alcohols and phenol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buClr>
                <a:srgbClr val="9c525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ow the chemical reactions of these compounds ( some reactions are review, others are extensions of the chemistry that will be discussed on chapters 8, 9 &amp; 10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04" name="Footer Placeholder 2"/>
          <p:cNvSpPr/>
          <p:nvPr/>
        </p:nvSpPr>
        <p:spPr>
          <a:xfrm>
            <a:off x="76320" y="6324480"/>
            <a:ext cx="3352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405" name="Picture 4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406" name="Picture 5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407" name="Straight Connector 6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08" name="Rectangle 7"/>
          <p:cNvSpPr/>
          <p:nvPr/>
        </p:nvSpPr>
        <p:spPr>
          <a:xfrm>
            <a:off x="3015360" y="45720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s and Phenol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3" name="Slide Number Placeholder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740DF-83E2-4634-BD50-EFB1924CB80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44" name="Footer Placeholder 2"/>
          <p:cNvSpPr/>
          <p:nvPr/>
        </p:nvSpPr>
        <p:spPr>
          <a:xfrm>
            <a:off x="63360" y="6324480"/>
            <a:ext cx="3353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645" name="Object 12"/>
          <p:cNvGraphicFramePr/>
          <p:nvPr/>
        </p:nvGraphicFramePr>
        <p:xfrm>
          <a:off x="762120" y="1066680"/>
          <a:ext cx="7584840" cy="513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46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066680"/>
                    <a:ext cx="7584840" cy="513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47" name="Picture 6" descr="ksulogo2.png"/>
          <p:cNvPicPr/>
          <p:nvPr/>
        </p:nvPicPr>
        <p:blipFill>
          <a:blip r:embed="rId3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648" name="Picture 7" descr="images.jpeg"/>
          <p:cNvPicPr/>
          <p:nvPr/>
        </p:nvPicPr>
        <p:blipFill>
          <a:blip r:embed="rId4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649" name="Straight Connector 8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50" name="Rectangle 9"/>
          <p:cNvSpPr/>
          <p:nvPr/>
        </p:nvSpPr>
        <p:spPr>
          <a:xfrm>
            <a:off x="3015360" y="45720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s and Phenol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1" name="Group 2"/>
          <p:cNvGrpSpPr/>
          <p:nvPr/>
        </p:nvGrpSpPr>
        <p:grpSpPr>
          <a:xfrm>
            <a:off x="546120" y="2487600"/>
            <a:ext cx="8153280" cy="3124080"/>
            <a:chOff x="546120" y="2487600"/>
            <a:chExt cx="8153280" cy="3124080"/>
          </a:xfrm>
        </p:grpSpPr>
        <p:sp>
          <p:nvSpPr>
            <p:cNvPr id="2652" name="Rounded Rectangle 5"/>
            <p:cNvSpPr/>
            <p:nvPr/>
          </p:nvSpPr>
          <p:spPr>
            <a:xfrm>
              <a:off x="546120" y="2487600"/>
              <a:ext cx="8153280" cy="3124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2653" name="Group 4"/>
            <p:cNvGrpSpPr/>
            <p:nvPr/>
          </p:nvGrpSpPr>
          <p:grpSpPr>
            <a:xfrm>
              <a:off x="774720" y="2563560"/>
              <a:ext cx="5672520" cy="2808000"/>
              <a:chOff x="774720" y="2563560"/>
              <a:chExt cx="5672520" cy="2808000"/>
            </a:xfrm>
          </p:grpSpPr>
          <p:pic>
            <p:nvPicPr>
              <p:cNvPr id="2654" name="Picture 3" descr="C:\Users\haltalassi\Pictures\Picture12.png"/>
              <p:cNvPicPr/>
              <p:nvPr/>
            </p:nvPicPr>
            <p:blipFill>
              <a:blip r:embed="rId1"/>
              <a:stretch/>
            </p:blipFill>
            <p:spPr>
              <a:xfrm>
                <a:off x="774720" y="2563560"/>
                <a:ext cx="5672520" cy="280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55" name="Picture 2" descr="C:\Users\haltalassi\Pictures\Picture11.png"/>
              <p:cNvPicPr/>
              <p:nvPr/>
            </p:nvPicPr>
            <p:blipFill>
              <a:blip r:embed="rId2"/>
              <a:srcRect l="14296" t="23959" r="81701" b="64787"/>
              <a:stretch/>
            </p:blipFill>
            <p:spPr>
              <a:xfrm>
                <a:off x="1460520" y="2792160"/>
                <a:ext cx="3045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656" name="Picture 4" descr="C:\Users\haltalassi\Pictures\Picture13.png"/>
            <p:cNvPicPr/>
            <p:nvPr/>
          </p:nvPicPr>
          <p:blipFill>
            <a:blip r:embed="rId3"/>
            <a:srcRect l="0" t="0" r="0" b="13608"/>
            <a:stretch/>
          </p:blipFill>
          <p:spPr>
            <a:xfrm>
              <a:off x="6566040" y="2944800"/>
              <a:ext cx="1949400" cy="15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7" name="Picture 2" descr="C:\Users\haltalassi\Pictures\Picture11.png"/>
            <p:cNvPicPr/>
            <p:nvPr/>
          </p:nvPicPr>
          <p:blipFill>
            <a:blip r:embed="rId4"/>
            <a:srcRect l="66367" t="56843" r="19617" b="22524"/>
            <a:stretch/>
          </p:blipFill>
          <p:spPr>
            <a:xfrm rot="18843600">
              <a:off x="5946840" y="3423600"/>
              <a:ext cx="106668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8" name="Picture 4" descr="C:\Users\haltalassi\Pictures\Picture13.png"/>
            <p:cNvPicPr/>
            <p:nvPr/>
          </p:nvPicPr>
          <p:blipFill>
            <a:blip r:embed="rId5"/>
            <a:srcRect l="0" t="86404" r="0" b="0"/>
            <a:stretch/>
          </p:blipFill>
          <p:spPr>
            <a:xfrm>
              <a:off x="6718320" y="5002200"/>
              <a:ext cx="1919520" cy="239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9" name="Footer Placeholder 1"/>
          <p:cNvSpPr/>
          <p:nvPr/>
        </p:nvSpPr>
        <p:spPr>
          <a:xfrm>
            <a:off x="88920" y="6324480"/>
            <a:ext cx="3352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60" name="Slide Number Placeholder 2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8FF7A-0551-4AA1-B4C0-00F5035075A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61" name="Rectangle 3"/>
          <p:cNvSpPr/>
          <p:nvPr/>
        </p:nvSpPr>
        <p:spPr>
          <a:xfrm>
            <a:off x="2514600" y="1143000"/>
            <a:ext cx="528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c5252"/>
                </a:solidFill>
                <a:latin typeface="Times New Roman"/>
                <a:ea typeface="Times New Roman"/>
              </a:rPr>
              <a:t>Synthesis of Phenol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662" name="Picture 14" descr="ksulogo2.png"/>
          <p:cNvPicPr/>
          <p:nvPr/>
        </p:nvPicPr>
        <p:blipFill>
          <a:blip r:embed="rId6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663" name="Picture 15" descr="images.jpeg"/>
          <p:cNvPicPr/>
          <p:nvPr/>
        </p:nvPicPr>
        <p:blipFill>
          <a:blip r:embed="rId7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664" name="Straight Connector 16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65" name="Rectangle 17"/>
          <p:cNvSpPr/>
          <p:nvPr/>
        </p:nvSpPr>
        <p:spPr>
          <a:xfrm>
            <a:off x="3015360" y="45720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s and Phenol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6" name="Picture 6" descr="C:\Users\haltalassi\Pictures\Picture14.png"/>
          <p:cNvPicPr/>
          <p:nvPr/>
        </p:nvPicPr>
        <p:blipFill>
          <a:blip r:embed="rId1"/>
          <a:stretch/>
        </p:blipFill>
        <p:spPr>
          <a:xfrm>
            <a:off x="2647800" y="1905120"/>
            <a:ext cx="5658120" cy="2376360"/>
          </a:xfrm>
          <a:prstGeom prst="rect">
            <a:avLst/>
          </a:prstGeom>
          <a:ln w="0">
            <a:noFill/>
          </a:ln>
        </p:spPr>
      </p:pic>
      <p:sp>
        <p:nvSpPr>
          <p:cNvPr id="2667" name="Footer Placeholder 2"/>
          <p:cNvSpPr/>
          <p:nvPr/>
        </p:nvSpPr>
        <p:spPr>
          <a:xfrm>
            <a:off x="63360" y="6324480"/>
            <a:ext cx="3353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68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9C441-2A4E-4199-BA56-79A74D0BA01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69" name="Rectangle 4"/>
          <p:cNvSpPr/>
          <p:nvPr/>
        </p:nvSpPr>
        <p:spPr>
          <a:xfrm>
            <a:off x="3124080" y="914400"/>
            <a:ext cx="41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c5252"/>
                </a:solidFill>
                <a:latin typeface="Times New Roman"/>
                <a:ea typeface="Times New Roman"/>
              </a:rPr>
              <a:t>Reactions Phenol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70" name="Rectangle 5"/>
          <p:cNvSpPr/>
          <p:nvPr/>
        </p:nvSpPr>
        <p:spPr>
          <a:xfrm>
            <a:off x="19080" y="1219320"/>
            <a:ext cx="24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Times New Roman"/>
                <a:ea typeface="Times New Roman"/>
              </a:rPr>
              <a:t>Ethers forma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671" name="Picture 9" descr="ksulogo2.png"/>
          <p:cNvPicPr/>
          <p:nvPr/>
        </p:nvPicPr>
        <p:blipFill>
          <a:blip r:embed="rId2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672" name="Picture 10" descr="images.jpeg"/>
          <p:cNvPicPr/>
          <p:nvPr/>
        </p:nvPicPr>
        <p:blipFill>
          <a:blip r:embed="rId3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673" name="Straight Connector 11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74" name="Rectangle 12"/>
          <p:cNvSpPr/>
          <p:nvPr/>
        </p:nvSpPr>
        <p:spPr>
          <a:xfrm>
            <a:off x="3015360" y="45720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s and Phenol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675" name="Object 15"/>
          <p:cNvGraphicFramePr/>
          <p:nvPr/>
        </p:nvGraphicFramePr>
        <p:xfrm>
          <a:off x="457200" y="1905120"/>
          <a:ext cx="2131920" cy="2286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76" name="Object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1905120"/>
                    <a:ext cx="213192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7" name="Picture 5" descr="C:\Users\haltalassi\Pictures\Picture15.png"/>
          <p:cNvPicPr/>
          <p:nvPr/>
        </p:nvPicPr>
        <p:blipFill>
          <a:blip r:embed="rId1"/>
          <a:stretch/>
        </p:blipFill>
        <p:spPr>
          <a:xfrm>
            <a:off x="914400" y="2286000"/>
            <a:ext cx="7034040" cy="2313000"/>
          </a:xfrm>
          <a:prstGeom prst="rect">
            <a:avLst/>
          </a:prstGeom>
          <a:ln w="0">
            <a:noFill/>
          </a:ln>
        </p:spPr>
      </p:pic>
      <p:sp>
        <p:nvSpPr>
          <p:cNvPr id="2678" name="Footer Placeholder 2"/>
          <p:cNvSpPr/>
          <p:nvPr/>
        </p:nvSpPr>
        <p:spPr>
          <a:xfrm>
            <a:off x="1440" y="6324480"/>
            <a:ext cx="3353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79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AD3B6-0614-47BB-BB29-43F9B995822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80" name="Rectangle 5"/>
          <p:cNvSpPr/>
          <p:nvPr/>
        </p:nvSpPr>
        <p:spPr>
          <a:xfrm>
            <a:off x="248760" y="1219320"/>
            <a:ext cx="51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2. Electrophilic Substitution Reaction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681" name="Picture 10" descr="ksulogo2.png"/>
          <p:cNvPicPr/>
          <p:nvPr/>
        </p:nvPicPr>
        <p:blipFill>
          <a:blip r:embed="rId2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682" name="Picture 11" descr="images.jpeg"/>
          <p:cNvPicPr/>
          <p:nvPr/>
        </p:nvPicPr>
        <p:blipFill>
          <a:blip r:embed="rId3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683" name="Straight Connector 12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84" name="Rectangle 13"/>
          <p:cNvSpPr/>
          <p:nvPr/>
        </p:nvSpPr>
        <p:spPr>
          <a:xfrm>
            <a:off x="3015360" y="45720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s and Phenol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5" name="Footer Placeholder 1"/>
          <p:cNvSpPr/>
          <p:nvPr/>
        </p:nvSpPr>
        <p:spPr>
          <a:xfrm>
            <a:off x="0" y="6324480"/>
            <a:ext cx="3352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86" name="Slide Number Placeholder 2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28061-8C56-47E5-A005-E9FA4628C8C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87" name="Rectangle 3"/>
          <p:cNvSpPr/>
          <p:nvPr/>
        </p:nvSpPr>
        <p:spPr>
          <a:xfrm>
            <a:off x="3490560" y="939960"/>
            <a:ext cx="179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Home Wor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688" name="Object 21"/>
          <p:cNvGraphicFramePr/>
          <p:nvPr/>
        </p:nvGraphicFramePr>
        <p:xfrm>
          <a:off x="324000" y="1790640"/>
          <a:ext cx="239544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9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790640"/>
                    <a:ext cx="239544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0" name="Object 22"/>
          <p:cNvGraphicFramePr/>
          <p:nvPr/>
        </p:nvGraphicFramePr>
        <p:xfrm>
          <a:off x="380880" y="2895480"/>
          <a:ext cx="2514600" cy="103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91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895480"/>
                    <a:ext cx="251460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2" name="Object 23"/>
          <p:cNvGraphicFramePr/>
          <p:nvPr/>
        </p:nvGraphicFramePr>
        <p:xfrm>
          <a:off x="380880" y="4724280"/>
          <a:ext cx="2905200" cy="1044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93" name="Object 2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4724280"/>
                    <a:ext cx="2905200" cy="10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94" name="Picture 12" descr="ksulogo2.png"/>
          <p:cNvPicPr/>
          <p:nvPr/>
        </p:nvPicPr>
        <p:blipFill>
          <a:blip r:embed="rId7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695" name="Picture 13" descr="images.jpeg"/>
          <p:cNvPicPr/>
          <p:nvPr/>
        </p:nvPicPr>
        <p:blipFill>
          <a:blip r:embed="rId8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696" name="Straight Connector 14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97" name="Rectangle 15"/>
          <p:cNvSpPr/>
          <p:nvPr/>
        </p:nvSpPr>
        <p:spPr>
          <a:xfrm>
            <a:off x="3015360" y="45720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s and Phenol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8" name="Rectangle 12"/>
          <p:cNvSpPr/>
          <p:nvPr/>
        </p:nvSpPr>
        <p:spPr>
          <a:xfrm>
            <a:off x="380880" y="1053360"/>
            <a:ext cx="784872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) The IUPAC name of                         is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) 4-Ethyl-5-heptyn-3-ol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) 4-Ethyl-5-heptan-3-o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) 4-Ethyl-5-hepten-3-o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) 4-Etyl-2-hepten-5-o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99" name="Rectangle 2"/>
          <p:cNvSpPr/>
          <p:nvPr/>
        </p:nvSpPr>
        <p:spPr>
          <a:xfrm>
            <a:off x="380880" y="3019680"/>
            <a:ext cx="70866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5) The IUPAC name of                                      is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) 3-Methyl-1-bromocyclohexano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) 2-Bromo-3-methylcyclohexano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) 4-Bromo-2-methylcyclohexano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) 3-Bromo-1-methylcyclohxano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700" name="Object 20"/>
          <p:cNvGraphicFramePr/>
          <p:nvPr/>
        </p:nvGraphicFramePr>
        <p:xfrm>
          <a:off x="3733920" y="2610000"/>
          <a:ext cx="1612800" cy="89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1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2610000"/>
                    <a:ext cx="161280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2" name="Footer Placeholder 1"/>
          <p:cNvSpPr/>
          <p:nvPr/>
        </p:nvSpPr>
        <p:spPr>
          <a:xfrm>
            <a:off x="0" y="6324480"/>
            <a:ext cx="335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03" name="Slide Number Placeholder 2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3EE0D-A455-401C-B869-3F87F7ACBBB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04" name="Rectangle 2"/>
          <p:cNvSpPr/>
          <p:nvPr/>
        </p:nvSpPr>
        <p:spPr>
          <a:xfrm>
            <a:off x="350640" y="4783680"/>
            <a:ext cx="400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  <a:ea typeface="Calibri"/>
              </a:rPr>
              <a:t>6)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  <a:ea typeface="BatangChe"/>
              </a:rPr>
              <a:t>The most acidic compound is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705" name="Object 21"/>
          <p:cNvGraphicFramePr/>
          <p:nvPr/>
        </p:nvGraphicFramePr>
        <p:xfrm>
          <a:off x="762120" y="5181480"/>
          <a:ext cx="5806800" cy="12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06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5181480"/>
                    <a:ext cx="580680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07" name="Picture 3" descr=""/>
          <p:cNvPicPr/>
          <p:nvPr/>
        </p:nvPicPr>
        <p:blipFill>
          <a:blip r:embed="rId5"/>
          <a:stretch/>
        </p:blipFill>
        <p:spPr>
          <a:xfrm>
            <a:off x="4025880" y="1001880"/>
            <a:ext cx="1371600" cy="1055520"/>
          </a:xfrm>
          <a:prstGeom prst="rect">
            <a:avLst/>
          </a:prstGeom>
          <a:ln w="0">
            <a:noFill/>
          </a:ln>
        </p:spPr>
      </p:pic>
      <p:pic>
        <p:nvPicPr>
          <p:cNvPr id="2708" name="Picture 11" descr="ksulogo2.png"/>
          <p:cNvPicPr/>
          <p:nvPr/>
        </p:nvPicPr>
        <p:blipFill>
          <a:blip r:embed="rId6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709" name="Picture 12" descr="images.jpeg"/>
          <p:cNvPicPr/>
          <p:nvPr/>
        </p:nvPicPr>
        <p:blipFill>
          <a:blip r:embed="rId7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710" name="Straight Connector 13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11" name="Rectangle 14"/>
          <p:cNvSpPr/>
          <p:nvPr/>
        </p:nvSpPr>
        <p:spPr>
          <a:xfrm>
            <a:off x="3015360" y="45720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s and Phenol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2" name="Rectangle 5"/>
          <p:cNvSpPr/>
          <p:nvPr/>
        </p:nvSpPr>
        <p:spPr>
          <a:xfrm>
            <a:off x="88200" y="1174320"/>
            <a:ext cx="51991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) The common name of 2-methyl-2-propanol is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) Allyl alcoho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) Isopropyl alcoho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)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er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Butyl alcoho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) Benzyl alcoho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) The following reaction give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) 4-Ethylpheno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) 2-Ethylpheno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) Ethylphenyl ether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) Ethylphenyl keton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713" name="Object 13"/>
          <p:cNvGraphicFramePr/>
          <p:nvPr/>
        </p:nvGraphicFramePr>
        <p:xfrm>
          <a:off x="1447920" y="3657600"/>
          <a:ext cx="5333760" cy="101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4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657600"/>
                    <a:ext cx="5333760" cy="10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5" name="Footer Placeholder 1"/>
          <p:cNvSpPr/>
          <p:nvPr/>
        </p:nvSpPr>
        <p:spPr>
          <a:xfrm>
            <a:off x="19080" y="6324480"/>
            <a:ext cx="3352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16" name="Slide Number Placeholder 2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01318-EF44-4524-ACE6-8A77BB9EEA5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717" name="Picture 7" descr="ksulogo2.png"/>
          <p:cNvPicPr/>
          <p:nvPr/>
        </p:nvPicPr>
        <p:blipFill>
          <a:blip r:embed="rId3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718" name="Picture 8" descr="images.jpeg"/>
          <p:cNvPicPr/>
          <p:nvPr/>
        </p:nvPicPr>
        <p:blipFill>
          <a:blip r:embed="rId4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719" name="Straight Connector 9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20" name="Rectangle 10"/>
          <p:cNvSpPr/>
          <p:nvPr/>
        </p:nvSpPr>
        <p:spPr>
          <a:xfrm>
            <a:off x="3015360" y="45720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s and Phenol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21" name="Object 29"/>
          <p:cNvGraphicFramePr/>
          <p:nvPr/>
        </p:nvGraphicFramePr>
        <p:xfrm>
          <a:off x="2360520" y="1509840"/>
          <a:ext cx="1809720" cy="63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2" name="Object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0520" y="1509840"/>
                    <a:ext cx="1809720" cy="63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3" name="Object 30"/>
          <p:cNvGraphicFramePr/>
          <p:nvPr/>
        </p:nvGraphicFramePr>
        <p:xfrm>
          <a:off x="1446120" y="2165400"/>
          <a:ext cx="5486400" cy="43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24" name="Object 3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6120" y="2165400"/>
                    <a:ext cx="548640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5" name="Rectangle 3"/>
          <p:cNvSpPr/>
          <p:nvPr/>
        </p:nvSpPr>
        <p:spPr>
          <a:xfrm>
            <a:off x="551160" y="1053360"/>
            <a:ext cx="578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9)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The major product for the following reaction i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726" name="Object 31"/>
          <p:cNvGraphicFramePr/>
          <p:nvPr/>
        </p:nvGraphicFramePr>
        <p:xfrm>
          <a:off x="2863800" y="3338640"/>
          <a:ext cx="1916280" cy="40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27" name="Object 3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63800" y="3338640"/>
                    <a:ext cx="191628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8" name="Object 32"/>
          <p:cNvGraphicFramePr/>
          <p:nvPr/>
        </p:nvGraphicFramePr>
        <p:xfrm>
          <a:off x="1598760" y="3871800"/>
          <a:ext cx="4638600" cy="704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29" name="Object 3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98760" y="3871800"/>
                    <a:ext cx="463860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0" name="Rectangle 8"/>
          <p:cNvSpPr/>
          <p:nvPr/>
        </p:nvSpPr>
        <p:spPr>
          <a:xfrm>
            <a:off x="530280" y="2958480"/>
            <a:ext cx="55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0)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The product of the reaction shown below i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731" name="Object 33"/>
          <p:cNvGraphicFramePr/>
          <p:nvPr/>
        </p:nvGraphicFramePr>
        <p:xfrm>
          <a:off x="1219320" y="5334120"/>
          <a:ext cx="5172120" cy="637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32" name="Object 3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19320" y="5334120"/>
                    <a:ext cx="5172120" cy="63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3" name="Rectangle 6"/>
          <p:cNvSpPr/>
          <p:nvPr/>
        </p:nvSpPr>
        <p:spPr>
          <a:xfrm>
            <a:off x="609480" y="480060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Calibri"/>
              </a:rPr>
              <a:t>11) Which of the following compounds has the highest boiling point?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734" name="Picture 11" descr="ksulogo2.png"/>
          <p:cNvPicPr/>
          <p:nvPr/>
        </p:nvPicPr>
        <p:blipFill>
          <a:blip r:embed="rId1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735" name="Picture 12" descr="images.jpeg"/>
          <p:cNvPicPr/>
          <p:nvPr/>
        </p:nvPicPr>
        <p:blipFill>
          <a:blip r:embed="rId1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736" name="Straight Connector 13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37" name="Rectangle 14"/>
          <p:cNvSpPr/>
          <p:nvPr/>
        </p:nvSpPr>
        <p:spPr>
          <a:xfrm>
            <a:off x="3015360" y="45720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s and Phenol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9a7bc"/>
                </a:solidFill>
                <a:latin typeface="Palatino Linotype"/>
              </a:rPr>
              <a:t>Thank You for your kind attention !</a:t>
            </a:r>
            <a:endParaRPr b="0" lang="en-US" sz="2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739" name="PlaceHolder 2"/>
          <p:cNvSpPr>
            <a:spLocks noGrp="1"/>
          </p:cNvSpPr>
          <p:nvPr>
            <p:ph type="subTitle"/>
          </p:nvPr>
        </p:nvSpPr>
        <p:spPr>
          <a:xfrm>
            <a:off x="2666880" y="2819160"/>
            <a:ext cx="3695760" cy="191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Questions?</a:t>
            </a:r>
            <a:endParaRPr b="0" lang="en-US" sz="40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Comments</a:t>
            </a:r>
            <a:endParaRPr b="0" lang="en-US" sz="40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40" name="Slide Number Placeholder 2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B2E92-3FE4-4C0C-B68D-82E3A1E4E41C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741" name="Picture 8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742" name="Picture 9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743" name="Straight Connector 10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44" name="Rectangle 11"/>
          <p:cNvSpPr/>
          <p:nvPr/>
        </p:nvSpPr>
        <p:spPr>
          <a:xfrm>
            <a:off x="3015360" y="45720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s and Phenol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9" name="Footer Placeholder 1"/>
          <p:cNvSpPr/>
          <p:nvPr/>
        </p:nvSpPr>
        <p:spPr>
          <a:xfrm>
            <a:off x="152280" y="6324480"/>
            <a:ext cx="3353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10" name="Slide Number Placeholder 2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2F330-9ABC-4FE2-A753-E042D84DAD9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11" name="TextBox 6"/>
          <p:cNvSpPr/>
          <p:nvPr/>
        </p:nvSpPr>
        <p:spPr>
          <a:xfrm>
            <a:off x="44280" y="1627200"/>
            <a:ext cx="899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s and phenols may be viewed as organic derivatives of water.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12" name="TextBox 7"/>
          <p:cNvSpPr/>
          <p:nvPr/>
        </p:nvSpPr>
        <p:spPr>
          <a:xfrm>
            <a:off x="0" y="3124080"/>
            <a:ext cx="903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s and phenols have a common functional group</a:t>
            </a:r>
            <a:r>
              <a:rPr b="1" lang="en-US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, the hydroxyl group, —OH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13" name="TextBox 12"/>
          <p:cNvSpPr/>
          <p:nvPr/>
        </p:nvSpPr>
        <p:spPr>
          <a:xfrm>
            <a:off x="0" y="3886200"/>
            <a:ext cx="883908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n alcohols the hydroxyl group is attached to 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an alkyl group, —R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1" lang="en-US" sz="2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In phenols the hydroxyl function is directly attached to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benzene ring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14" name="مربع نص 13"/>
          <p:cNvSpPr/>
          <p:nvPr/>
        </p:nvSpPr>
        <p:spPr>
          <a:xfrm>
            <a:off x="357120" y="2108160"/>
            <a:ext cx="7925040" cy="74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-O-H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-O-H or PhCH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H                  Ph-O-H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Water          Alcohol                                   Pheno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15" name="Rectangle 4"/>
          <p:cNvSpPr/>
          <p:nvPr/>
        </p:nvSpPr>
        <p:spPr>
          <a:xfrm>
            <a:off x="315720" y="990720"/>
            <a:ext cx="47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c5252"/>
                </a:solidFill>
                <a:latin typeface="Times New Roman"/>
                <a:ea typeface="Times New Roman"/>
              </a:rPr>
              <a:t>Structure Of Alcohols and Phenol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416" name="Object 17"/>
          <p:cNvGraphicFramePr/>
          <p:nvPr/>
        </p:nvGraphicFramePr>
        <p:xfrm>
          <a:off x="1871640" y="4738680"/>
          <a:ext cx="4724280" cy="187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7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1640" y="4738680"/>
                    <a:ext cx="4724280" cy="18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18" name="Picture 11" descr="ksulogo2.png"/>
          <p:cNvPicPr/>
          <p:nvPr/>
        </p:nvPicPr>
        <p:blipFill>
          <a:blip r:embed="rId3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419" name="Picture 12" descr="images.jpeg"/>
          <p:cNvPicPr/>
          <p:nvPr/>
        </p:nvPicPr>
        <p:blipFill>
          <a:blip r:embed="rId4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420" name="Straight Connector 13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21" name="Rectangle 14"/>
          <p:cNvSpPr/>
          <p:nvPr/>
        </p:nvSpPr>
        <p:spPr>
          <a:xfrm>
            <a:off x="3015360" y="45720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s and Phenol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TextBox 13"/>
          <p:cNvSpPr/>
          <p:nvPr/>
        </p:nvSpPr>
        <p:spPr>
          <a:xfrm>
            <a:off x="152280" y="205740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lcohols are classified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ording to the type of the carbon atom connected to the hydroxyl group (carbinol carbon)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o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423" name="صورة 1" descr=""/>
          <p:cNvPicPr/>
          <p:nvPr/>
        </p:nvPicPr>
        <p:blipFill>
          <a:blip r:embed="rId1"/>
          <a:srcRect l="0" t="-4593" r="2035" b="7702"/>
          <a:stretch/>
        </p:blipFill>
        <p:spPr>
          <a:xfrm>
            <a:off x="865080" y="3657600"/>
            <a:ext cx="6988320" cy="1600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424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98F8D-366D-49B7-9176-80F791C9C2A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25" name="Rectangle 1"/>
          <p:cNvSpPr/>
          <p:nvPr/>
        </p:nvSpPr>
        <p:spPr>
          <a:xfrm>
            <a:off x="457200" y="1066680"/>
            <a:ext cx="825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Classification and Nomenclature of Alcohols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26" name="Footer Placeholder 2"/>
          <p:cNvSpPr/>
          <p:nvPr/>
        </p:nvSpPr>
        <p:spPr>
          <a:xfrm>
            <a:off x="152280" y="6324480"/>
            <a:ext cx="3353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427" name="Picture 8" descr="ksulogo2.png"/>
          <p:cNvPicPr/>
          <p:nvPr/>
        </p:nvPicPr>
        <p:blipFill>
          <a:blip r:embed="rId2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428" name="Picture 9" descr="images.jpeg"/>
          <p:cNvPicPr/>
          <p:nvPr/>
        </p:nvPicPr>
        <p:blipFill>
          <a:blip r:embed="rId3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429" name="Straight Connector 10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30" name="Rectangle 11"/>
          <p:cNvSpPr/>
          <p:nvPr/>
        </p:nvSpPr>
        <p:spPr>
          <a:xfrm>
            <a:off x="3015360" y="45720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s and Phenol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TextBox 14"/>
          <p:cNvSpPr/>
          <p:nvPr/>
        </p:nvSpPr>
        <p:spPr>
          <a:xfrm>
            <a:off x="0" y="2286000"/>
            <a:ext cx="91440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the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ongest continuou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bon chain that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tains the -OH grou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Replace the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ding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f the alkane by  the suffix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–ol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20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r>
              <a:rPr b="1" lang="en-US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If a molecule contains both an -OH group and a C=C or c</a:t>
            </a:r>
            <a:r>
              <a:rPr b="1" lang="el-GR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Ξ</a:t>
            </a:r>
            <a:r>
              <a:rPr b="1" lang="en-US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c bond;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oose the chain that include both of them even if this is  not the longest chain.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 algn="just">
              <a:lnSpc>
                <a:spcPct val="100000"/>
              </a:lnSpc>
              <a:buClr>
                <a:srgbClr val="9c525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name should include suffixes indicate presence of both the OH group and the unsaturated groups.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 algn="just">
              <a:lnSpc>
                <a:spcPct val="100000"/>
              </a:lnSpc>
              <a:buClr>
                <a:srgbClr val="9c525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OH group takes precedence over the double or triple bonds in getting the lower number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 algn="just">
              <a:lnSpc>
                <a:spcPct val="100000"/>
              </a:lnSpc>
              <a:buClr>
                <a:srgbClr val="9c525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yclic alcohols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e named using the prefix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cyclo-,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carbon bearing the hydroxyl group is assumed to take 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number 1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uffix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o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added to the name of the parent hydrocarbon when there are two OH groups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The suffix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rio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added when there are three OH group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 algn="just">
              <a:lnSpc>
                <a:spcPct val="100000"/>
              </a:lnSpc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 algn="just">
              <a:lnSpc>
                <a:spcPct val="100000"/>
              </a:lnSpc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32" name="Footer Placeholder 1"/>
          <p:cNvSpPr/>
          <p:nvPr/>
        </p:nvSpPr>
        <p:spPr>
          <a:xfrm>
            <a:off x="152280" y="6324480"/>
            <a:ext cx="3353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33" name="Slide Number Placeholder 2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6BC45-EF24-40D8-8C6B-78EA84AC0A1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34" name="Text Box 4105"/>
          <p:cNvSpPr/>
          <p:nvPr/>
        </p:nvSpPr>
        <p:spPr>
          <a:xfrm>
            <a:off x="0" y="10000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NOMENCLATURE OF ALCOHOL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35" name="Rectangle 10"/>
          <p:cNvSpPr/>
          <p:nvPr/>
        </p:nvSpPr>
        <p:spPr>
          <a:xfrm>
            <a:off x="76320" y="1371600"/>
            <a:ext cx="8762760" cy="8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IUPAC Nomenclature Of Alcohols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s are named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ording to the following rules: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436" name="Picture 8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437" name="Picture 9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438" name="Straight Connector 10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39" name="Rectangle 11"/>
          <p:cNvSpPr/>
          <p:nvPr/>
        </p:nvSpPr>
        <p:spPr>
          <a:xfrm>
            <a:off x="3015360" y="45720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s and Phenol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0" name="Slide Number Placeholder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871C3-C884-4588-B579-9D630F362FC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41" name="Rectangle 3"/>
          <p:cNvSpPr/>
          <p:nvPr/>
        </p:nvSpPr>
        <p:spPr>
          <a:xfrm>
            <a:off x="68400" y="1209600"/>
            <a:ext cx="9144000" cy="20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c0000"/>
                </a:solidFill>
                <a:uFillTx/>
                <a:latin typeface="Times New Roman"/>
                <a:ea typeface="Times New Roman"/>
              </a:rPr>
              <a:t>Common Nomenclature Of Alcohol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st the names of </a:t>
            </a:r>
            <a:r>
              <a:rPr b="0" lang="en-US" sz="2000" spc="-1" strike="noStrike">
                <a:solidFill>
                  <a:srgbClr val="6076b4"/>
                </a:solidFill>
                <a:latin typeface="Times New Roman"/>
                <a:ea typeface="Times New Roman"/>
              </a:rPr>
              <a:t>alkyl substituents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ached to the hydroxyl group, </a:t>
            </a:r>
            <a:r>
              <a:rPr b="0" lang="en-US" sz="2000" spc="-1" strike="noStrike">
                <a:solidFill>
                  <a:srgbClr val="6076b4"/>
                </a:solidFill>
                <a:latin typeface="Times New Roman"/>
                <a:ea typeface="Times New Roman"/>
              </a:rPr>
              <a:t>followed by th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6076b4"/>
                </a:solidFill>
                <a:latin typeface="Times New Roman"/>
                <a:ea typeface="Times New Roman"/>
              </a:rPr>
              <a:t>word alcohol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buClr>
                <a:srgbClr val="6076b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two OH groups present on two adjacent carbons these known as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lycol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42" name="Rectangle 8"/>
          <p:cNvSpPr/>
          <p:nvPr/>
        </p:nvSpPr>
        <p:spPr>
          <a:xfrm>
            <a:off x="152280" y="3259080"/>
            <a:ext cx="312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rimary alcohol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443" name=""/>
          <p:cNvGraphicFramePr/>
          <p:nvPr/>
        </p:nvGraphicFramePr>
        <p:xfrm>
          <a:off x="228600" y="4267080"/>
          <a:ext cx="8458200" cy="1692360"/>
        </p:xfrm>
        <a:graphic>
          <a:graphicData uri="http://schemas.openxmlformats.org/drawingml/2006/table">
            <a:tbl>
              <a:tblPr/>
              <a:tblGrid>
                <a:gridCol w="1219320"/>
                <a:gridCol w="2209680"/>
                <a:gridCol w="2438280"/>
                <a:gridCol w="2590920"/>
              </a:tblGrid>
              <a:tr h="411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Majalla UI"/>
                        </a:rPr>
                        <a:t>C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Constantia"/>
                          <a:ea typeface="Majalla UI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Majalla UI"/>
                        </a:rPr>
                        <a:t>OH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Majalla UI"/>
                        </a:rPr>
                        <a:t>C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Constantia"/>
                          <a:ea typeface="Majalla UI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Majalla UI"/>
                        </a:rPr>
                        <a:t>C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Constantia"/>
                          <a:ea typeface="Majalla U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Majalla UI"/>
                        </a:rPr>
                        <a:t>OH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Majalla U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Majalla UI"/>
                        </a:rPr>
                        <a:t>C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Constantia"/>
                          <a:ea typeface="Majalla U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Majalla UI"/>
                        </a:rPr>
                        <a:t>=CHC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Constantia"/>
                          <a:ea typeface="Majalla U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Majalla UI"/>
                        </a:rPr>
                        <a:t>O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0"/>
                          </a:solidFill>
                          <a:latin typeface="Constantia"/>
                          <a:ea typeface="Majalla UI"/>
                        </a:rPr>
                        <a:t>Common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Majalla UI"/>
                        </a:rPr>
                        <a:t>Methyl alcohol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Majalla UI"/>
                        </a:rPr>
                        <a:t>Ethyl alcohol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Majalla UI"/>
                        </a:rPr>
                        <a:t>Allyl alcoh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0"/>
                          </a:solidFill>
                          <a:latin typeface="Constantia"/>
                          <a:ea typeface="Majalla UI"/>
                        </a:rPr>
                        <a:t>IUPAC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Majalla UI"/>
                        </a:rPr>
                        <a:t>Methanol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Majalla UI"/>
                        </a:rPr>
                        <a:t>Ethanol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Majalla UI"/>
                        </a:rPr>
                        <a:t>2-Propen-1-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4" name="Footer Placeholder 2"/>
          <p:cNvSpPr/>
          <p:nvPr/>
        </p:nvSpPr>
        <p:spPr>
          <a:xfrm>
            <a:off x="152280" y="6324480"/>
            <a:ext cx="3353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445" name="Picture 8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446" name="Picture 9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447" name="Straight Connector 10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48" name="Rectangle 11"/>
          <p:cNvSpPr/>
          <p:nvPr/>
        </p:nvSpPr>
        <p:spPr>
          <a:xfrm>
            <a:off x="3015360" y="45720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s and Phenol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9" name="TextBox 4"/>
          <p:cNvSpPr/>
          <p:nvPr/>
        </p:nvSpPr>
        <p:spPr>
          <a:xfrm>
            <a:off x="285840" y="1905120"/>
            <a:ext cx="885816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6076b4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6076b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50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D68DC-5E67-43A1-B2FD-69F4DC53257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51" name="Rectangle 4"/>
          <p:cNvSpPr/>
          <p:nvPr/>
        </p:nvSpPr>
        <p:spPr>
          <a:xfrm>
            <a:off x="0" y="1295280"/>
            <a:ext cx="533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econdary and tertiary alcohol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452" name=""/>
          <p:cNvGraphicFramePr/>
          <p:nvPr/>
        </p:nvGraphicFramePr>
        <p:xfrm>
          <a:off x="500040" y="2214720"/>
          <a:ext cx="8458200" cy="2439720"/>
        </p:xfrm>
        <a:graphic>
          <a:graphicData uri="http://schemas.openxmlformats.org/drawingml/2006/table">
            <a:tbl>
              <a:tblPr/>
              <a:tblGrid>
                <a:gridCol w="1219320"/>
                <a:gridCol w="2038320"/>
                <a:gridCol w="2286000"/>
                <a:gridCol w="2914560"/>
              </a:tblGrid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0"/>
                          </a:solidFill>
                          <a:latin typeface="Constantia"/>
                          <a:ea typeface="Majalla UI"/>
                        </a:rPr>
                        <a:t>Common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Majalla UI"/>
                        </a:rPr>
                        <a:t>Isopropyl alcohol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Majalla UI"/>
                        </a:rPr>
                        <a:t>Cyclopentyl alcohol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Majalla UI"/>
                        </a:rPr>
                        <a:t>Methylcyclohexyl alcohol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0"/>
                          </a:solidFill>
                          <a:latin typeface="Constantia"/>
                          <a:ea typeface="Majalla UI"/>
                        </a:rPr>
                        <a:t>IUPAC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Majalla UI"/>
                        </a:rPr>
                        <a:t>2-Propanol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Majalla UI"/>
                        </a:rPr>
                        <a:t>Cyclopentan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Majalla UI"/>
                        </a:rPr>
                        <a:t>1-Methyl-1-cyclohexan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53" name="Object 44"/>
          <p:cNvGraphicFramePr/>
          <p:nvPr/>
        </p:nvGraphicFramePr>
        <p:xfrm>
          <a:off x="6880320" y="2286000"/>
          <a:ext cx="1334880" cy="104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4" name="Object 4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80320" y="2286000"/>
                    <a:ext cx="133488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5" name="Object 45"/>
          <p:cNvGraphicFramePr/>
          <p:nvPr/>
        </p:nvGraphicFramePr>
        <p:xfrm>
          <a:off x="4470480" y="2254320"/>
          <a:ext cx="682560" cy="110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56" name="Object 4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70480" y="2254320"/>
                    <a:ext cx="68256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7" name="Object 46"/>
          <p:cNvGraphicFramePr/>
          <p:nvPr/>
        </p:nvGraphicFramePr>
        <p:xfrm>
          <a:off x="2238480" y="2454120"/>
          <a:ext cx="717480" cy="708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58" name="Object 4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38480" y="2454120"/>
                    <a:ext cx="71748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9" name="Footer Placeholder 2"/>
          <p:cNvSpPr/>
          <p:nvPr/>
        </p:nvSpPr>
        <p:spPr>
          <a:xfrm>
            <a:off x="152280" y="6324480"/>
            <a:ext cx="3353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460" name="Picture 11" descr="ksulogo2.png"/>
          <p:cNvPicPr/>
          <p:nvPr/>
        </p:nvPicPr>
        <p:blipFill>
          <a:blip r:embed="rId7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461" name="Picture 12" descr="images.jpeg"/>
          <p:cNvPicPr/>
          <p:nvPr/>
        </p:nvPicPr>
        <p:blipFill>
          <a:blip r:embed="rId8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462" name="Straight Connector 13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63" name="Rectangle 14"/>
          <p:cNvSpPr/>
          <p:nvPr/>
        </p:nvSpPr>
        <p:spPr>
          <a:xfrm>
            <a:off x="3015360" y="45720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s and Phenol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4" name="Slide Number Placeholder 2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AD2A2-1D79-487D-9406-34E7D983C22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465" name="Object 37"/>
          <p:cNvGraphicFramePr/>
          <p:nvPr/>
        </p:nvGraphicFramePr>
        <p:xfrm>
          <a:off x="444600" y="1763640"/>
          <a:ext cx="726840" cy="16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6" name="Object 3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1763640"/>
                    <a:ext cx="726840" cy="16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7" name="Object 38"/>
          <p:cNvGraphicFramePr/>
          <p:nvPr/>
        </p:nvGraphicFramePr>
        <p:xfrm>
          <a:off x="7238880" y="1828800"/>
          <a:ext cx="1333800" cy="140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68" name="Object 3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38880" y="1828800"/>
                    <a:ext cx="1333800" cy="14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9" name="Object 39"/>
          <p:cNvGraphicFramePr/>
          <p:nvPr/>
        </p:nvGraphicFramePr>
        <p:xfrm>
          <a:off x="4191120" y="1676520"/>
          <a:ext cx="995400" cy="1479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70" name="Object 3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91120" y="1676520"/>
                    <a:ext cx="995400" cy="14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1" name="Object 40"/>
          <p:cNvGraphicFramePr/>
          <p:nvPr/>
        </p:nvGraphicFramePr>
        <p:xfrm>
          <a:off x="4267080" y="4952880"/>
          <a:ext cx="657360" cy="982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72" name="Object 4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67080" y="4952880"/>
                    <a:ext cx="657360" cy="9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3" name="مربع نص 12"/>
          <p:cNvSpPr/>
          <p:nvPr/>
        </p:nvSpPr>
        <p:spPr>
          <a:xfrm>
            <a:off x="-34920" y="3657600"/>
            <a:ext cx="33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4-Methyl-2-cyclohexen-1-o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74" name="مربع نص 14"/>
          <p:cNvSpPr/>
          <p:nvPr/>
        </p:nvSpPr>
        <p:spPr>
          <a:xfrm>
            <a:off x="2971800" y="3429000"/>
            <a:ext cx="350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1-Phenylmethano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omic Sans MS"/>
              </a:rPr>
              <a:t>Benzyl alcohol (common name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75" name="مستطيل 15"/>
          <p:cNvSpPr/>
          <p:nvPr/>
        </p:nvSpPr>
        <p:spPr>
          <a:xfrm>
            <a:off x="6819120" y="3505320"/>
            <a:ext cx="19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2-Phenylethano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76" name="مستطيل 16"/>
          <p:cNvSpPr/>
          <p:nvPr/>
        </p:nvSpPr>
        <p:spPr>
          <a:xfrm>
            <a:off x="2865960" y="6095880"/>
            <a:ext cx="362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Ethan-1,2-dio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omic Sans MS"/>
              </a:rPr>
              <a:t>Ethelene glycol (common name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77" name="Rectangle 18"/>
          <p:cNvSpPr/>
          <p:nvPr/>
        </p:nvSpPr>
        <p:spPr>
          <a:xfrm>
            <a:off x="46800" y="927000"/>
            <a:ext cx="152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xampl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478" name="Object 41"/>
          <p:cNvGraphicFramePr/>
          <p:nvPr/>
        </p:nvGraphicFramePr>
        <p:xfrm>
          <a:off x="0" y="4952880"/>
          <a:ext cx="3809880" cy="914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79" name="Object 4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4952880"/>
                    <a:ext cx="380988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0" name="Footer Placeholder 2"/>
          <p:cNvSpPr/>
          <p:nvPr/>
        </p:nvSpPr>
        <p:spPr>
          <a:xfrm>
            <a:off x="152280" y="6324480"/>
            <a:ext cx="3353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481" name="Object 42"/>
          <p:cNvGraphicFramePr/>
          <p:nvPr/>
        </p:nvGraphicFramePr>
        <p:xfrm>
          <a:off x="5943600" y="5029200"/>
          <a:ext cx="3276720" cy="1128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82" name="Object 4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943600" y="5029200"/>
                    <a:ext cx="3276720" cy="11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83" name="Picture 16" descr="ksulogo2.png"/>
          <p:cNvPicPr/>
          <p:nvPr/>
        </p:nvPicPr>
        <p:blipFill>
          <a:blip r:embed="rId13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484" name="Picture 17" descr="images.jpeg"/>
          <p:cNvPicPr/>
          <p:nvPr/>
        </p:nvPicPr>
        <p:blipFill>
          <a:blip r:embed="rId14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485" name="Straight Connector 18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86" name="Rectangle 19"/>
          <p:cNvSpPr/>
          <p:nvPr/>
        </p:nvSpPr>
        <p:spPr>
          <a:xfrm>
            <a:off x="3015360" y="45720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s and Phenol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7" name="Object 20"/>
          <p:cNvGraphicFramePr/>
          <p:nvPr/>
        </p:nvGraphicFramePr>
        <p:xfrm>
          <a:off x="685800" y="1447920"/>
          <a:ext cx="75801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8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75801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9" name="Rectangle 5"/>
          <p:cNvSpPr/>
          <p:nvPr/>
        </p:nvSpPr>
        <p:spPr>
          <a:xfrm>
            <a:off x="-37800" y="1001880"/>
            <a:ext cx="152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xampl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490" name="Object 21"/>
          <p:cNvGraphicFramePr/>
          <p:nvPr/>
        </p:nvGraphicFramePr>
        <p:xfrm>
          <a:off x="1143000" y="4537080"/>
          <a:ext cx="6238800" cy="224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91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4537080"/>
                    <a:ext cx="6238800" cy="22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2" name="Footer Placeholder 2"/>
          <p:cNvSpPr/>
          <p:nvPr/>
        </p:nvSpPr>
        <p:spPr>
          <a:xfrm>
            <a:off x="152280" y="6324480"/>
            <a:ext cx="3353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493" name="Object 22"/>
          <p:cNvGraphicFramePr/>
          <p:nvPr/>
        </p:nvGraphicFramePr>
        <p:xfrm>
          <a:off x="1371600" y="2895480"/>
          <a:ext cx="6324480" cy="1619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94" name="Object 2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71600" y="2895480"/>
                    <a:ext cx="63244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95" name="Picture 8" descr="ksulogo2.png"/>
          <p:cNvPicPr/>
          <p:nvPr/>
        </p:nvPicPr>
        <p:blipFill>
          <a:blip r:embed="rId7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496" name="Picture 9" descr="images.jpeg"/>
          <p:cNvPicPr/>
          <p:nvPr/>
        </p:nvPicPr>
        <p:blipFill>
          <a:blip r:embed="rId8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497" name="Straight Connector 10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98" name="Rectangle 11"/>
          <p:cNvSpPr/>
          <p:nvPr/>
        </p:nvSpPr>
        <p:spPr>
          <a:xfrm>
            <a:off x="3015360" y="45720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s and Phenol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3:16:56Z</dcterms:created>
  <dc:creator>NCCR</dc:creator>
  <dc:description/>
  <dc:language>en-US</dc:language>
  <cp:lastModifiedBy>new wave</cp:lastModifiedBy>
  <dcterms:modified xsi:type="dcterms:W3CDTF">2016-01-26T20:25:49Z</dcterms:modified>
  <cp:revision>171</cp:revision>
  <dc:subject/>
  <dc:title>TYPES OF HYBRIDIZATION AND GEOMETRY OF MOLECU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480</vt:lpwstr>
  </property>
</Properties>
</file>