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10.wmf" ContentType="image/x-wmf"/>
  <Override PartName="/ppt/media/image2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12.wmf" ContentType="image/x-wmf"/>
  <Override PartName="/ppt/media/image4.png" ContentType="image/png"/>
  <Override PartName="/ppt/media/image30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CB42-8B17-4375-8ED3-152C09F7F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91B3-B9C6-41A7-9F25-8F9DC4F4D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2715-ABC7-4D85-93F7-C7A8EBEF7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511-7270-4689-8E8B-1A1567E9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6EE-3D45-48CA-85BA-1FE163B1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760DE-92F1-4415-9878-369292A2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D8D1A-D9FD-4443-BC57-BBD744EE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22F7D-098B-4132-ACE9-FBA32870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B6D78-5AF6-4C52-82A5-1DF63C15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ECB2A-6432-455D-A4EC-4DE7ED4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BEFE9-183C-47F7-A392-9147DD76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BC3B7-237A-4860-BDC8-D11C45FA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DDA8A-49E7-4A99-9960-5C87FC5D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53ADA-4477-403E-A87A-D0995640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D8C79-2FC7-4A8C-8591-BEAE3A90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64C-B1B4-4595-84F8-C87610C1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19774-B1CC-4D28-B8FE-F447BF5A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68CD9-6807-45CF-8505-EA8EABCD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A2E9E-FA2C-4860-8998-BADF22E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32EED-12A1-436F-B560-4819C5BB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DBAF6-560E-4CE8-A0D8-F9ED999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779BD-E143-4B0F-A227-1C32E60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AA034-0028-4B9A-ACD7-9859C21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57BB7-F3FD-4155-B7B3-EB95F7E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349F7-BAEF-4A2B-AEC8-24BD3449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88916-EF33-4DF5-A653-9D69D8BA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401-4BA2-41CE-9AA0-C63164BA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35D9C-AF63-4C0D-B9AE-290EA06F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24274-C5E4-48E1-9EEF-2A6432F2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D1E9A-7348-48BE-B152-599D5EB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B998B-C1BD-4E72-B748-43EA1AC4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E0D74-2C68-4C3F-98F0-4B493876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B2FE4-0E5D-4E90-A95B-CBE9EB1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4FF79-67B6-4F75-A59A-23C77426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CAA52-78A6-498F-AD23-80979A3D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DDF4-15C9-4840-B130-CB7DC2E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6990E-0620-478E-ABB0-F2B82D9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FECC-3687-40A8-93EE-A0C56D0B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7457D-81E9-4413-9502-EBEBE38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13516-011C-4688-8EC7-F75EBB20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55A70-D8A3-4549-83C2-BEEC5099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E8CA7-0505-4FBC-8E47-3ED8273E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95BAB-17F3-4C0B-A0B7-C487A43B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C15F8-C35F-4D4A-9C11-78C63A24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ABA43-15B9-4F95-A985-7D9770CE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B3464-BF20-46CF-817F-20C74F31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B4471-EA13-49F2-921D-800FFCDD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286DD-B0BB-4149-86C1-3CCE685F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488F-10CC-4E25-8DC3-DE64C692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6830A-AF3F-4125-AD5A-2B890EF5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66219-69BC-45B7-A7EE-9977FDC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C0326-1E8E-42FD-ACA5-6B542CE3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9878F-A1A0-4E57-A095-D314FE8A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F9B6B-BD10-4BB8-86E1-509BB09D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43298-FF89-4C71-BB86-3E0B5355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BE4FF-BD1E-41F2-89EF-AE5D3181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EF1EE-994D-471D-B560-46B6A3D6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38743-884C-4E1D-9C78-69777F08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8886F-FEEC-457D-AB67-AE3A9F61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EDCF-B83A-4704-838C-3FC7C439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71C13-C5BD-4C69-A994-3C3B1F6D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5641F-E136-4310-886E-F2661DDB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2BD28-A70D-476F-8805-DA18B78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609B3-2E31-4F93-8A36-CE1E01DE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DAE3C-F6C3-400E-9915-D559F53C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EF73E-FF8D-41D7-9DE8-EE54A974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6E88A-3510-40C3-967C-CC712D9D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4CE34A-58E5-4918-8F91-DAB76D17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2190E2-5DAF-44DA-A767-F39106A8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5538ED-A216-44D4-A168-FBC6854C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9CEB-944C-42AB-936C-6EFE187B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8567EE-B956-4A13-B86B-9DE272F4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4EB28E-5CDA-4D36-9E25-72094660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2FD04E-EC79-4DA9-81B4-D238B85A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D06FE0-7C8A-4FAE-A499-996C6DD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98EC1B-2F11-4EFF-8D07-B00B49E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4A8CFB-8EA3-4C34-AE63-22E74C51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DB963E-FD4A-4191-90E7-0319F991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B11153-3C34-4145-87BD-33F2215D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227116-75EC-46B7-AC1D-22534176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46E4E-A720-4F7F-9FC7-4DB69913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24D4-21A4-4FC1-843F-029857A4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6FAEF-1F40-478B-8B03-74C03ED7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91B37-0F30-472A-9005-493628C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14D89-3B35-4CC4-9F8E-C71ECEFD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4D2CB-DBCD-4DA0-917E-55DC15DC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F1F88-93D9-4907-9C3F-9A6D3B6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044CF-EA99-4E6B-B5F0-0295E442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BA90C-A4DF-4261-ABB0-42C72A8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76B1B-3759-4162-8257-5271191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701BC-CDEE-4A77-A21B-3344154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CC7A2-909A-4C55-8CA7-0BF0A9F3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3CF0-8210-42B9-A070-B8100640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0480F-9E5B-4BCD-986C-1C957FB0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C3173-3BA3-40C8-B7E1-84298894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BFA69-4748-447E-B053-18948995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E2DAC-64B2-4654-98D1-1215A9BB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EFADF-1B4C-40C6-9ECE-701A6943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412E7-24FD-4723-A8F6-11BB5761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BB3F4-6FBB-435D-838A-C117F3F2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82A63-CC84-4739-9C26-ECA79A1A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5BAD2-1F5F-423A-86A7-C067ADDF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2510C-EC84-4E33-ABF6-87BE116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2AA4-5BF6-4FBE-9DC8-7B423645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10D62-1E41-4EEF-9A4F-7DBF0C31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89D82-04EA-4217-B0B9-4CA67019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12AF9-29AC-47A4-BCAC-24AAA095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6958E-DACC-4E7D-96C6-1EA29F67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7C0E3-3068-453C-86B4-4A9923E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39735-9839-484D-A9E7-FE60771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722CC-31CB-428D-829D-5DB82B49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FCCFA-7752-44CF-A850-79816565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6C1BE-911D-4830-A0BE-76658CC5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F0F55-7CBF-4CE8-AA30-7F420ADF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0F1-9DA0-42CA-8D84-642E5061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C4A2-67A2-44C0-958B-F7BECA2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43DA9-ACCE-4A37-83A4-555F4AB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071F7-3349-4DE0-9E84-6D0B8C46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92893-16D2-4CCE-B7E5-52A7FE52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2BC3B-2FA0-4553-8385-8E017154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C6AB9-8CE7-46CE-B955-CFEBB128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FD554-33CD-49B1-8BD2-6D61137C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BFBC5-81A1-4475-9E6F-A2F365CA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70BA69-5CE3-466A-84A0-FF8201BA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2F432-70B6-492C-B807-B375201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CF671-EB90-4AF1-AAE2-DA9A2BA6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24B7-62CA-4C35-A35B-54653BF7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909A3-91A9-4BE7-A125-7B525796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F52DC-02E4-4F25-8257-3F1CFB9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FFDFF-2B77-416B-BF7A-B78B420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13B98-593B-4BED-9484-C9B02784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8D1C9-8A61-4158-B050-D27A434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2E0C0-ED79-4F72-BCDF-67308F0E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4DE417-DB2A-411C-B9F6-049BDE3A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B7900-F688-4F2A-9018-80CA479D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333A2-F72C-4217-A203-582BAA92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60473-78EA-464B-A46C-0CFB80ED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B6E8-FF04-4C20-8C71-6AA99B83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AA2F4-7805-4788-A730-7CF42757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C3895-DD16-4862-AE21-9CACEE01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466904-DE59-421D-8EBC-C1A8EA72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E5253-3E19-418B-A1E6-6887682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A62EA-73B7-49F9-8991-A973B5E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4B1571-256B-4526-8168-7A91DAE2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82F3E-72B6-4DE3-879D-A66D6750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1448A-E660-4B71-BB04-81492CE6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008DB-A817-43B4-B935-E86E91D8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B83DC-E66E-4A09-A415-C14FD282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689E-7080-475D-AEAE-5C7B51B0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3D132-0592-4CBF-883C-554C5FEC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DB784-F05E-47C8-81AB-4701EBBF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B7024-83A0-4C56-842F-ABC5B9FD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A9D0F-0E37-4BE0-A400-EF4B15CC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81E8B8-AB83-4D2B-B316-ECC1961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730F4-AF0F-4E98-B084-BBFD328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C40E6-1FA2-4F9F-AA1C-88E59555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AA67E-5B7F-485A-AF1F-0B58AD94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A5454-DBBF-4ED4-AA72-C0F0DD0A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DE189-3B4B-44A7-8625-6636E843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3233-2C4D-4919-9874-5804AA9B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D606D2-6581-4B73-A566-F7E1C191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56512-CAF4-4F49-BB5D-9E07C76B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078E4D-6DAE-4BAA-B8A2-DD33631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34165-61B3-4675-A209-2ED60DE2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1D7BC5-DFDC-47CA-858B-3760BAB0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EB0B6-744E-475A-982E-7DA7A991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D33F0-3D57-489A-8208-090BDECB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83E23-B420-42D5-9337-AE03FDF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939CE-78FB-4747-A0D5-7B642CC7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17FFA6-FCFD-4DF1-BA44-BFECB2F3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24DD-5E65-4E66-86CB-009ACC81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D9993-EE81-4184-AFE5-94598C5E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3785E-D2C3-4AC0-913E-3325A8B4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BDEA1-EB0E-401A-A8FC-2B3E18B5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B32EED-8906-4946-BB19-9F43C907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E2D17-20FD-4D37-8186-7253874A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F1A38-A13B-48EF-87B5-0C25949F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C75DA3-C5F7-49C0-8835-0ECD8E63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3EDC13-699D-410C-A457-2B1F46C6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AC0F7F-98B3-48BA-B2BD-F38AD575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58947D-5BDB-4C39-8BD7-D72BA6D1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476C-5A97-4DA9-A455-C51C4CF0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971D68-42C9-48BA-8BC8-715657F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ED6CB7-F05F-4D7B-954C-759F0E8B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04D2A2-1E4F-4C50-A4D6-775C1146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FAF672-0DDF-47E2-AA4A-D16439D9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FF6EE9-2F9A-48F5-91D2-C51993D0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71E92-4C6C-4268-A34A-A75E8494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73F40-0CCB-44C3-9D87-85E93848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EC79F6-9B74-4AE9-82F3-98306729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4DB34C-F049-43C6-BD24-1766DF5A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48C90-33C7-45A1-AC98-28D8DDD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50E7-A117-49CF-A0A0-F7330511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9B6DFF-5F2C-4AFB-AD34-96DE502C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C9F3A1-4E21-45F5-856B-E3D13BEB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EAF97D-B89F-48E6-8C34-C338528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FD0EA5-6E44-4FB2-8F6C-A84CA392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04523F-10E4-4784-B3B0-7DBA5DDB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BE30AC-F3D4-4C6D-9A30-508F2FE0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4CB282-39BE-4713-93A0-80AC202A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C488D1-EBD2-4B7D-BAFC-7D13F4E1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7C3BC1-F4D9-43A4-90A0-CB5B6E5C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02DCD8-45B0-48B7-9B38-8F468582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01F2-A14D-4BE7-8C18-C3B5E539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6919E5-9D6E-4B1C-A6CC-5E7DFE8C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97E9F1-31FC-44C6-8ADE-6AAA0BBF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CEBED7-D166-4D4C-87CE-6D3FB9EE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1A8D61-76EC-4002-A397-236D21F4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6506C6-CF49-448D-89AF-896FEF5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2FDE3D-9612-4B34-AF43-2160877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E54F42-18DD-4051-A59E-FC22C537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6B00D6-0CE5-4D73-AD25-D54EF992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8FA8D8-0CC9-42BF-8512-37DAB1D6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B0A8-7C57-4D16-A656-8E496D08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08C-36DD-4E41-9746-131236A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BFBF-F571-4110-94CC-C2F9AAE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F8A3-FF65-4826-90FB-12355A4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784B-8AFB-42B6-802C-ED7B09F6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A743-22A8-4786-B627-D01DBC1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71AD-F779-4FD6-93E8-BAFC6AC7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AB88-5E3A-4032-8D10-EB934663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4EBB-30DB-4CC5-A819-63D94922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8317-0012-4122-8F5F-7750F6B4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C7F2-465E-4708-9EF9-3F38DB17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0531F-1BEF-4BD8-87FC-B01925B6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0A2-D344-4520-BFDF-B69A4E8E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0FDD-B5AE-4386-B875-A9F4422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CDA2-09CF-4D8A-A7F5-44A1C886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CEE9-6921-4F37-BADC-A53E84BD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FC2F-5BB7-4E1D-B98C-D230C01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E1A2-43E9-4442-BD7E-ECD5BBD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38E9-F3C5-4C93-898E-C86C5F7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69EC-F58B-4640-8F8B-BA221693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CAB9-290F-48D3-8FF0-8C09AAF1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C4C7-92C9-4234-A031-AD75C57E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8089-C98E-4D43-AEEA-6C8437D1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303-0661-49B1-8EBC-ECFFE9CA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1205-9977-458E-B192-711F62EF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70FD-F050-483E-B5F1-852372E4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8CE0C-94E0-4CCE-A64E-7172CE1C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3E68-498D-4BFC-B368-3C65DAD6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1CA16-FBB9-4461-A50B-144AD62B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F67E4-6DEA-48F5-A92D-0276728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08E11-DA73-43C7-B072-004FA9F1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1F54-83A4-4E60-864D-AA01AB4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8AC02-8568-4CB0-8E18-DEAE8E9E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37FF6-5808-4F61-ADA7-2C954AB2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842-FBA0-47DB-91E3-5CBAC978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AAE1-917A-455D-B324-71D0BE2B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CE212-6BDE-47C9-9FE3-6E454276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E9BAC-099A-4444-BD8E-93CF5D0B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B5AB-6EBF-4B38-911E-6ABA003F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D40BF-70DD-4572-8157-B57E555E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D8279-D3B9-41F1-BC2F-E9458E2A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909A7-B213-4CD6-9ED5-12F7AF1B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7B078-C100-4A80-879F-B6B108C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1B89D-1FE5-409F-B2D0-CF53F04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4FA8-1DC2-4EB6-9290-FF83B5F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11C-E4CC-461D-B1B4-4B0D951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5C98-076F-4DCB-8071-5B88C080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95CE7-5B69-45ED-875F-F6B7B1F2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5D4B-7CA1-4534-B467-ACC1AC8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C11AE-9301-409C-A570-4EA57C68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AA17-8B0A-4D26-8DF8-35F52E8A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2129-A558-413D-A9C0-A9A76D0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5B3B3-9D57-4245-BCAE-1D2F0C3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3F52-A4FB-4F54-805E-32076D4F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894E0-EBBE-4E82-9B38-40B4DAA4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D51A-A35E-4434-B6F9-5127AA3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147-EAE9-4749-812A-D8CAD80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D304-C6BA-41F8-9564-4F52556A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C6607-CC92-44E9-ABA5-C42099D2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E4533-35CB-4704-B2AC-7D6AD95A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E6CF-8081-40E5-BDEF-3A88CD7B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B02F-B67C-41E9-8FDB-CF8981B1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907E5-0AB0-49D3-88AF-4C38E4DC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03725-F0C0-46BA-98F2-75FAD14D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AE6C5-D303-4ADE-A7FF-02F7612D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615EA-D264-4A18-B492-DF74D758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2C5A3-99FE-4470-87BB-C4F16595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A42-831E-4410-B441-240EF78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C642-3B0F-4711-9AE1-7945F2BE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7A181-CA40-457E-9100-3231B12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C23B3-DE36-4EDF-B494-202BBE77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AD41C-D630-4A53-9AFE-CA756B54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F7C1F-F907-4BE3-97A3-C738C38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6E52B-CBF9-444B-8074-32DEF083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95954-99AC-4190-91B9-A0B4E7AD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5892E-BC1C-4E6D-A334-7EE235F2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35F61-C7EA-40E5-8BAB-318E30A8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3160B-54D1-47D7-94B2-15688DBC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800-FA72-4510-B641-857FD951E812}" type="datetime5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1403-D5ED-498B-B733-7D12C66D8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38F5-896E-4A2F-9F5D-F60AD86BC7C0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A242-7303-4535-9C75-3A99503436AF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C423-4E6F-450C-8A40-1E4ABC694E3C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3B0-C332-4AFA-AFBD-2F0E4997E244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36E9-7557-44C4-8BC8-C381DC666556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E60E-3541-45D2-92E5-FE8FB7803275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00C5-6C37-4EBA-839B-A0F6368F228F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1531-4D9D-4EC9-A5A5-AEE23F0A954A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C907-69CF-45A5-A304-4BBA7D15A3A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F14E-C9E0-494F-92C3-E81B65300F1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4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0871-E6C6-4402-B72C-2072BF24B21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6C41-C8AA-42C1-B074-D7CC2F40C2FF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3E14-0A27-400D-BF35-44C9CCE7E6B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C96-AD65-4EAA-B4FC-3A666E97097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162D-31BA-464D-8A52-0B4AAF02545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C43C-D51D-4BCF-B042-635D8C46D2F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5E9-7B32-4B5A-9046-D016D23DEFB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FD82-47C9-4F3D-B399-462A1AE8CE9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FA3A-FFC6-4F08-ACAA-2D2E5D3116F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76F5-331D-4330-9FC8-3257F73C36EF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122-4736-4571-9DEF-117DEEE5C72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4CC6-D91D-4040-824F-C37A5C21C6C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465D-EAAE-4B9E-B2CF-1B8DC1BBEEA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E2AE-2350-49BF-9B61-5D9D1EA9ED9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1EE5-B988-4C16-93F6-4D02056C981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0E66-7208-4AB2-B538-31B6820FB64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3DD2-C937-4DB9-B65C-1CCFA796B16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8373-ACCD-4BF8-90D5-79C1A6BB65A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16A4-CB76-47B4-9BB8-AB4DC45FB40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6EB4-950B-444F-B4FC-114409D25E2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6628-EF8C-42D7-9329-D932BC3C80C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84A0-9DDE-4D8E-A4F2-C4B765BEF51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CDF-D43C-48D5-8B80-95E6E3F2FD5F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408-9F20-4FAB-91BD-6F7EC272DBB2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152-9D40-4644-AEB4-67EC0B7661FE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65A-84F4-48D3-B92E-ADA7D44BEB10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F198-4630-4B7D-9388-60D42F573F03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73A8-7E1F-4096-9A7D-67F1467306F6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CC38-9120-42B0-BC86-1BD56C4EE725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6EF2-8E7A-4574-9460-BEF2D70C5E8B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67F-A3C8-452F-95BB-8F6FFABE876F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1757-2A58-4FCE-9D3D-7DFD3ABE3FB6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460F-2991-4407-867E-71D89195E40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B92-1D96-451E-901C-FE6F46052B78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1B1F-E809-4CE4-AEF6-B34AA9819926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A13D-99AE-4B83-8BEA-4B3CB1731CA6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rganic_compound" TargetMode="External"/><Relationship Id="rId2" Type="http://schemas.openxmlformats.org/officeDocument/2006/relationships/hyperlink" Target="http://en.wikipedia.org/wiki/Oxygen" TargetMode="External"/><Relationship Id="rId3" Type="http://schemas.openxmlformats.org/officeDocument/2006/relationships/hyperlink" Target="http://en.wikipedia.org/wiki/Atom" TargetMode="External"/><Relationship Id="rId4" Type="http://schemas.openxmlformats.org/officeDocument/2006/relationships/hyperlink" Target="http://en.wikipedia.org/wiki/Alkyl" TargetMode="External"/><Relationship Id="rId5" Type="http://schemas.openxmlformats.org/officeDocument/2006/relationships/hyperlink" Target="http://en.wikipedia.org/wiki/Aryl" TargetMode="External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96F3-D82C-460A-A3F9-F064066BC4C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3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1100" name="Straight Connector 4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5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6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"/>
          <p:cNvSpPr/>
          <p:nvPr/>
        </p:nvSpPr>
        <p:spPr>
          <a:xfrm>
            <a:off x="2008080" y="2057400"/>
            <a:ext cx="43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2" descr="2d567265ef611378e0093ac560e30f62_a344e1b54f4f10f79bdaf4a9ab8df430.png"/>
          <p:cNvPicPr/>
          <p:nvPr/>
        </p:nvPicPr>
        <p:blipFill>
          <a:blip r:embed="rId3"/>
          <a:stretch/>
        </p:blipFill>
        <p:spPr>
          <a:xfrm>
            <a:off x="1066680" y="3124080"/>
            <a:ext cx="2987640" cy="1602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200px-Ethylene-oxide-3D-balls.png"/>
          <p:cNvPicPr/>
          <p:nvPr/>
        </p:nvPicPr>
        <p:blipFill>
          <a:blip r:embed="rId4"/>
          <a:stretch/>
        </p:blipFill>
        <p:spPr>
          <a:xfrm>
            <a:off x="4191120" y="2895480"/>
            <a:ext cx="2539800" cy="1968480"/>
          </a:xfrm>
          <a:prstGeom prst="rect">
            <a:avLst/>
          </a:prstGeom>
          <a:ln w="0">
            <a:noFill/>
          </a:ln>
        </p:spPr>
      </p:pic>
      <p:sp>
        <p:nvSpPr>
          <p:cNvPr id="1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C088-5F15-447D-8C90-67995D3E1253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4"/>
          <p:cNvSpPr/>
          <p:nvPr/>
        </p:nvSpPr>
        <p:spPr>
          <a:xfrm>
            <a:off x="165960" y="10666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Reactions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66600" y="130500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leavage of ethers by hot concentrated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s are quite stable compounds. Ethers react only under strongly acidic condition.When ethers are heated in concentrated acid solutions, the ether linkage is bro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General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Image 19" descr=""/>
          <p:cNvPicPr/>
          <p:nvPr/>
        </p:nvPicPr>
        <p:blipFill>
          <a:blip r:embed="rId1"/>
          <a:stretch/>
        </p:blipFill>
        <p:spPr>
          <a:xfrm>
            <a:off x="2819520" y="3613320"/>
            <a:ext cx="4897440" cy="82368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6"/>
          <p:cNvSpPr/>
          <p:nvPr/>
        </p:nvSpPr>
        <p:spPr>
          <a:xfrm>
            <a:off x="-15840" y="5944680"/>
            <a:ext cx="91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s most often used in this reaction are HI, HBr, and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5"/>
          <p:cNvSpPr/>
          <p:nvPr/>
        </p:nvSpPr>
        <p:spPr>
          <a:xfrm>
            <a:off x="77040" y="4440240"/>
            <a:ext cx="236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Specific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Image 20" descr=""/>
          <p:cNvPicPr/>
          <p:nvPr/>
        </p:nvPicPr>
        <p:blipFill>
          <a:blip r:embed="rId2"/>
          <a:stretch/>
        </p:blipFill>
        <p:spPr>
          <a:xfrm>
            <a:off x="1523880" y="5029200"/>
            <a:ext cx="6767640" cy="8478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94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5208-A6F2-4E79-8853-CD0DD6F27E6C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Image 25" descr=""/>
          <p:cNvPicPr/>
          <p:nvPr/>
        </p:nvPicPr>
        <p:blipFill>
          <a:blip r:embed="rId1"/>
          <a:stretch/>
        </p:blipFill>
        <p:spPr>
          <a:xfrm>
            <a:off x="369720" y="4724280"/>
            <a:ext cx="8442360" cy="157824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3"/>
          <p:cNvSpPr/>
          <p:nvPr/>
        </p:nvSpPr>
        <p:spPr>
          <a:xfrm>
            <a:off x="39600" y="1076040"/>
            <a:ext cx="9126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id is present, the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lly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verted to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lkyl hali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the net products will be 2 moles of alkyl hal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46080" y="411696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Object 12"/>
          <p:cNvGraphicFramePr/>
          <p:nvPr/>
        </p:nvGraphicFramePr>
        <p:xfrm>
          <a:off x="533520" y="3124080"/>
          <a:ext cx="8127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124080"/>
                    <a:ext cx="8127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2" name="Picture 4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5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04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271F-C648-49FB-A41E-F6E5C9D52B7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"/>
          <p:cNvSpPr/>
          <p:nvPr/>
        </p:nvSpPr>
        <p:spPr>
          <a:xfrm>
            <a:off x="92160" y="159696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yclic ethers (heterocyclic), one or more carbons are replaced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xides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clic eth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the ether oxygen is part of a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ree-membered 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55440" y="5601240"/>
            <a:ext cx="90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and most important epoxide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ylene oxi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6"/>
          <p:cNvSpPr/>
          <p:nvPr/>
        </p:nvSpPr>
        <p:spPr>
          <a:xfrm>
            <a:off x="141120" y="1001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yclic Ethers-Epox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1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5" name="Object 1"/>
          <p:cNvGraphicFramePr/>
          <p:nvPr/>
        </p:nvGraphicFramePr>
        <p:xfrm>
          <a:off x="733320" y="2514600"/>
          <a:ext cx="779472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320" y="2514600"/>
                    <a:ext cx="77947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4200-9307-4C5E-AE9B-15289454193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14"/>
          <p:cNvSpPr/>
          <p:nvPr/>
        </p:nvSpPr>
        <p:spPr>
          <a:xfrm>
            <a:off x="0" y="1094760"/>
            <a:ext cx="9144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roxyacid Ep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oxyacid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 (sometimes called peracids) are used to conver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ene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 to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poxide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. If the reaction takes place in aqueous acid, the epoxide opens to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. Because of its desirable solubility properties,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-chloroperoxybenzoic acid 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(MCPBA) is often used for these epoxid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15" descr=""/>
          <p:cNvPicPr/>
          <p:nvPr/>
        </p:nvPicPr>
        <p:blipFill>
          <a:blip r:embed="rId1"/>
          <a:stretch/>
        </p:blipFill>
        <p:spPr>
          <a:xfrm>
            <a:off x="971640" y="3505320"/>
            <a:ext cx="7704000" cy="97452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6" descr=""/>
          <p:cNvPicPr/>
          <p:nvPr/>
        </p:nvPicPr>
        <p:blipFill>
          <a:blip r:embed="rId2"/>
          <a:stretch/>
        </p:blipFill>
        <p:spPr>
          <a:xfrm>
            <a:off x="2367000" y="4543560"/>
            <a:ext cx="3816360" cy="2390760"/>
          </a:xfrm>
          <a:prstGeom prst="rect">
            <a:avLst/>
          </a:prstGeom>
          <a:ln w="0">
            <a:noFill/>
          </a:ln>
        </p:spPr>
      </p:pic>
      <p:sp>
        <p:nvSpPr>
          <p:cNvPr id="1221" name="Rectangle 17"/>
          <p:cNvSpPr/>
          <p:nvPr/>
        </p:nvSpPr>
        <p:spPr>
          <a:xfrm>
            <a:off x="279720" y="4420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24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1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04F4-CDC5-48D6-A314-6C447489F57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1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xides are much more reactive than common dialkyl ether, because of the strain 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e-membered 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relieved when the epoxide ring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a reaction has taken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ring-opening reactions(cleavage carbon-oxygen bond) of ethylene oxide that form commercially important produc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138240" y="3962520"/>
            <a:ext cx="87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in water </a:t>
            </a:r>
            <a:r>
              <a:rPr b="0" lang="en-US" sz="2400" spc="-1" strike="noStrike">
                <a:solidFill>
                  <a:srgbClr val="0c0c0f"/>
                </a:solidFill>
                <a:latin typeface="Times New Roman"/>
                <a:ea typeface="Times New Roman"/>
              </a:rPr>
              <a:t>to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s</a:t>
            </a:r>
            <a:r>
              <a:rPr b="0" lang="en-US" sz="2400" spc="-1" strike="noStrike">
                <a:solidFill>
                  <a:srgbClr val="0c0c0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Object 11"/>
          <p:cNvGraphicFramePr/>
          <p:nvPr/>
        </p:nvGraphicFramePr>
        <p:xfrm>
          <a:off x="1154160" y="4495680"/>
          <a:ext cx="677052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4495680"/>
                    <a:ext cx="677052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1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3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71AB-146A-418D-8796-5813EB054A6A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4"/>
          <p:cNvSpPr/>
          <p:nvPr/>
        </p:nvSpPr>
        <p:spPr>
          <a:xfrm>
            <a:off x="117360" y="1222200"/>
            <a:ext cx="89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f13"/>
                </a:solidFill>
                <a:latin typeface="Times New Roman"/>
                <a:ea typeface="Times New Roman"/>
              </a:rPr>
              <a:t>2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400" spc="-1" strike="noStrike">
                <a:solidFill>
                  <a:srgbClr val="0e0f13"/>
                </a:solidFill>
                <a:latin typeface="Times New Roman"/>
                <a:ea typeface="Times New Roman"/>
              </a:rPr>
              <a:t>to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oxy a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117360" y="3193200"/>
            <a:ext cx="90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3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 </a:t>
            </a: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halic acid</a:t>
            </a: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(HCl, HBr, or HI), a halide ion attacks the protonated epoxide to give halo alcoho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Espace réservé du numéro de diapositive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E7B-F4FD-440B-9FDB-DB7C6162DF43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9" name="Object 14"/>
          <p:cNvGraphicFramePr/>
          <p:nvPr/>
        </p:nvGraphicFramePr>
        <p:xfrm>
          <a:off x="1371600" y="4871880"/>
          <a:ext cx="66657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871880"/>
                    <a:ext cx="66657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1" name="Object 16"/>
          <p:cNvGraphicFramePr/>
          <p:nvPr/>
        </p:nvGraphicFramePr>
        <p:xfrm>
          <a:off x="985680" y="1984320"/>
          <a:ext cx="766296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5680" y="1984320"/>
                    <a:ext cx="7662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3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45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8"/>
          <p:cNvSpPr/>
          <p:nvPr/>
        </p:nvSpPr>
        <p:spPr>
          <a:xfrm>
            <a:off x="357120" y="1371600"/>
            <a:ext cx="850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ing opening of  epoxid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ignard and Organolithium Reag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onger  a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Object 1"/>
          <p:cNvGraphicFramePr/>
          <p:nvPr/>
        </p:nvGraphicFramePr>
        <p:xfrm>
          <a:off x="685800" y="2438280"/>
          <a:ext cx="619272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619272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0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52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8"/>
          <p:cNvSpPr/>
          <p:nvPr/>
        </p:nvSpPr>
        <p:spPr>
          <a:xfrm>
            <a:off x="355680" y="4040280"/>
            <a:ext cx="85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ing opening of  epoxid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5" name="Object 9"/>
          <p:cNvGraphicFramePr/>
          <p:nvPr/>
        </p:nvGraphicFramePr>
        <p:xfrm>
          <a:off x="380880" y="4648320"/>
          <a:ext cx="8001000" cy="13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648320"/>
                    <a:ext cx="800100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81E3-A628-44D8-895B-FD7733BFD252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1"/>
          <p:cNvSpPr/>
          <p:nvPr/>
        </p:nvSpPr>
        <p:spPr>
          <a:xfrm>
            <a:off x="34920" y="11620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correct name for each of the following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Image 6" descr=""/>
          <p:cNvPicPr/>
          <p:nvPr/>
        </p:nvPicPr>
        <p:blipFill>
          <a:blip r:embed="rId1"/>
          <a:stretch/>
        </p:blipFill>
        <p:spPr>
          <a:xfrm>
            <a:off x="324000" y="2438280"/>
            <a:ext cx="6337080" cy="2514600"/>
          </a:xfrm>
          <a:prstGeom prst="rect">
            <a:avLst/>
          </a:prstGeom>
          <a:ln w="0">
            <a:noFill/>
          </a:ln>
        </p:spPr>
      </p:pic>
      <p:sp>
        <p:nvSpPr>
          <p:cNvPr id="1260" name="Rectangle 1"/>
          <p:cNvSpPr/>
          <p:nvPr/>
        </p:nvSpPr>
        <p:spPr>
          <a:xfrm>
            <a:off x="34920" y="4829040"/>
            <a:ext cx="91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c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a Williamson synthesis of 3-butoxy-1,1-dimethylcyclohexane from 3,3-dimethylcyclohexanol and but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6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C7A-DB56-4E6C-8488-C9EC45F6CE98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2"/>
          <p:cNvSpPr/>
          <p:nvPr/>
        </p:nvSpPr>
        <p:spPr>
          <a:xfrm>
            <a:off x="0" y="10666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 the products of the following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7" name="Object 8"/>
          <p:cNvGraphicFramePr/>
          <p:nvPr/>
        </p:nvGraphicFramePr>
        <p:xfrm>
          <a:off x="228600" y="2209680"/>
          <a:ext cx="82598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2598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9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7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35DA-BDA7-4657-A948-DE0722548F8F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90ab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6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CC3B-7610-4B08-A9CB-8A24B20A3AF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79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9"/>
          <p:cNvSpPr/>
          <p:nvPr/>
        </p:nvSpPr>
        <p:spPr>
          <a:xfrm>
            <a:off x="0" y="1459440"/>
            <a:ext cx="914400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seven discusses the following topics and by the end of this chapter the students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structure  of e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of naming e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physical properties of ethers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used in preparation of e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eactions of opened ethers with H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used in synthesis of epox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eactions of epoxides with different nucleophiles such as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ROH, HX, Grignard and organolithium e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11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8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8F91-0067-42B4-B090-8F9B9B9428C5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4"/>
          <p:cNvSpPr/>
          <p:nvPr/>
        </p:nvSpPr>
        <p:spPr>
          <a:xfrm>
            <a:off x="10800" y="1295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tructure 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0" y="1752480"/>
            <a:ext cx="91440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Ether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lass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organic compounds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t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nected to two organic groups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alky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ary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enzene 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 by σ bonds. thus Ethers are compounds of general formula R–O–R or Ar–O–Ar or  Ar–O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 Of E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Common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names of ethers are derived by naming the  alkyl groups bonded to the oxygen then listing them in alphabetical order followed by the word "ethe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c8c93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IUPAC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ther functional group does not have a characteristic IUPAC nomenclature suffix, so it is necessary to designate the smaller alkyl group as an alkoxy substituent of a parent compound (alkane , or alkene, or alkyne,or alcohol,---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Image 1" descr=""/>
          <p:cNvPicPr/>
          <p:nvPr/>
        </p:nvPicPr>
        <p:blipFill>
          <a:blip r:embed="rId6"/>
          <a:stretch/>
        </p:blipFill>
        <p:spPr>
          <a:xfrm>
            <a:off x="2268360" y="2908440"/>
            <a:ext cx="5545440" cy="7491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1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B07B-AB27-46BF-AD20-09D0518ED117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2" name=""/>
          <p:cNvGraphicFramePr/>
          <p:nvPr/>
        </p:nvGraphicFramePr>
        <p:xfrm>
          <a:off x="685800" y="1981080"/>
          <a:ext cx="7772400" cy="4635720"/>
        </p:xfrm>
        <a:graphic>
          <a:graphicData uri="http://schemas.openxmlformats.org/drawingml/2006/table">
            <a:tbl>
              <a:tblPr/>
              <a:tblGrid>
                <a:gridCol w="1596960"/>
                <a:gridCol w="1960560"/>
                <a:gridCol w="1895400"/>
                <a:gridCol w="2319480"/>
              </a:tblGrid>
              <a:tr h="698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lkyl grou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lkox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Group 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h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h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prop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prop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t-Bu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t-But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3" name="Rectangle 33"/>
          <p:cNvSpPr/>
          <p:nvPr/>
        </p:nvSpPr>
        <p:spPr>
          <a:xfrm>
            <a:off x="-5760" y="990720"/>
            <a:ext cx="9198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he common alkoxy substituents are given names derived from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lky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26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6AB-A44E-4F5E-A630-D9919E44249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Box 2"/>
          <p:cNvSpPr/>
          <p:nvPr/>
        </p:nvSpPr>
        <p:spPr>
          <a:xfrm>
            <a:off x="0" y="2284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Arial"/>
              </a:rPr>
              <a:t>Common    Dimethyl ether             Diethyl ether             Divinyl ether              Diphenyl 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UP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Methoxy methane      Ethoxy ethane                                    Phen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4"/>
          <p:cNvSpPr/>
          <p:nvPr/>
        </p:nvSpPr>
        <p:spPr>
          <a:xfrm>
            <a:off x="0" y="394488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 Hexyl methyl ether       Ethyl methyl ether   Ethyl vinyl ether   Methyl Phenyl ether                       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anis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UPAC     Methoxy hexane              Methoxy ethane          Ethoxy ethene       Meth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0" y="6262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UPAC  3-Methoxyhexane                 5-Ethoxy-2-heptene                      Propenyl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2" name="Object 8"/>
          <p:cNvGraphicFramePr/>
          <p:nvPr/>
        </p:nvGraphicFramePr>
        <p:xfrm>
          <a:off x="838080" y="1295280"/>
          <a:ext cx="81536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15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Object 9"/>
          <p:cNvGraphicFramePr/>
          <p:nvPr/>
        </p:nvGraphicFramePr>
        <p:xfrm>
          <a:off x="838080" y="3048120"/>
          <a:ext cx="8226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8226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10"/>
          <p:cNvGraphicFramePr/>
          <p:nvPr/>
        </p:nvGraphicFramePr>
        <p:xfrm>
          <a:off x="457200" y="4815000"/>
          <a:ext cx="85201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815000"/>
                    <a:ext cx="8520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8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4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36CA-0208-4C7B-9A82-FDA61EA19A8E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1055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al Properties of 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1"/>
          <p:cNvSpPr/>
          <p:nvPr/>
        </p:nvSpPr>
        <p:spPr>
          <a:xfrm>
            <a:off x="0" y="1287720"/>
            <a:ext cx="91440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1) Boil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iling points of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t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those of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lcoho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ame molecular we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2) Solubility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s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l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in water than alcohols (Because they don’t have –OH group, So they are not hydrogen bond dono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ore water-solu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hydrocarbons of similar molecular weight (Because they are pol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326880" y="2895480"/>
          <a:ext cx="8425080" cy="1501920"/>
        </p:xfrm>
        <a:graphic>
          <a:graphicData uri="http://schemas.openxmlformats.org/drawingml/2006/table">
            <a:tbl>
              <a:tblPr/>
              <a:tblGrid>
                <a:gridCol w="2106720"/>
                <a:gridCol w="2862360"/>
                <a:gridCol w="1349280"/>
                <a:gridCol w="2106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orm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Bp (°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thano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methyl e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O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o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6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48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9DD-DF38-462A-8909-9660AD96181A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6"/>
          <p:cNvSpPr/>
          <p:nvPr/>
        </p:nvSpPr>
        <p:spPr>
          <a:xfrm>
            <a:off x="0" y="1384200"/>
            <a:ext cx="89042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a5002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hydration of alcohols: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only Symmetric e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hydration of alcoho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place in the presence of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id cataly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und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olled 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general reaction for ether form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6"/>
          <p:cNvSpPr/>
          <p:nvPr/>
        </p:nvSpPr>
        <p:spPr>
          <a:xfrm>
            <a:off x="2286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reparation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Image 2" descr=""/>
          <p:cNvPicPr/>
          <p:nvPr/>
        </p:nvPicPr>
        <p:blipFill>
          <a:blip r:embed="rId1"/>
          <a:stretch/>
        </p:blipFill>
        <p:spPr>
          <a:xfrm>
            <a:off x="2381400" y="2816280"/>
            <a:ext cx="4552920" cy="100332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3"/>
          <p:cNvSpPr/>
          <p:nvPr/>
        </p:nvSpPr>
        <p:spPr>
          <a:xfrm>
            <a:off x="7560" y="34311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Image 8" descr=""/>
          <p:cNvPicPr/>
          <p:nvPr/>
        </p:nvPicPr>
        <p:blipFill>
          <a:blip r:embed="rId2"/>
          <a:stretch/>
        </p:blipFill>
        <p:spPr>
          <a:xfrm>
            <a:off x="1066680" y="4076640"/>
            <a:ext cx="6248520" cy="2598840"/>
          </a:xfrm>
          <a:prstGeom prst="rect">
            <a:avLst/>
          </a:prstGeom>
          <a:ln w="0">
            <a:noFill/>
          </a:ln>
        </p:spPr>
      </p:pic>
      <p:sp>
        <p:nvSpPr>
          <p:cNvPr id="1156" name="Text Box 9"/>
          <p:cNvSpPr/>
          <p:nvPr/>
        </p:nvSpPr>
        <p:spPr>
          <a:xfrm>
            <a:off x="5106600" y="35053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mmetric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59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912E-D72C-4878-B151-4AC8A11852C7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Cloud 4"/>
          <p:cNvSpPr/>
          <p:nvPr/>
        </p:nvSpPr>
        <p:spPr>
          <a:xfrm>
            <a:off x="-1440" y="5557680"/>
            <a:ext cx="5518080" cy="1224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240120" y="9097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reparation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"/>
          <p:cNvSpPr/>
          <p:nvPr/>
        </p:nvSpPr>
        <p:spPr>
          <a:xfrm>
            <a:off x="206280" y="1390680"/>
            <a:ext cx="91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)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he Williamson syn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ually used for preparation of unsymmetrical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Image 3" descr=""/>
          <p:cNvPicPr/>
          <p:nvPr/>
        </p:nvPicPr>
        <p:blipFill>
          <a:blip r:embed="rId1"/>
          <a:stretch/>
        </p:blipFill>
        <p:spPr>
          <a:xfrm>
            <a:off x="152280" y="2390760"/>
            <a:ext cx="8839440" cy="1571760"/>
          </a:xfrm>
          <a:prstGeom prst="rect">
            <a:avLst/>
          </a:prstGeom>
          <a:ln w="0">
            <a:noFill/>
          </a:ln>
        </p:spPr>
      </p:pic>
      <p:pic>
        <p:nvPicPr>
          <p:cNvPr id="1166" name="Image 4" descr=""/>
          <p:cNvPicPr/>
          <p:nvPr/>
        </p:nvPicPr>
        <p:blipFill>
          <a:blip r:embed="rId2"/>
          <a:stretch/>
        </p:blipFill>
        <p:spPr>
          <a:xfrm>
            <a:off x="122400" y="3962520"/>
            <a:ext cx="8866080" cy="15224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69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Object 2"/>
          <p:cNvGraphicFramePr/>
          <p:nvPr/>
        </p:nvGraphicFramePr>
        <p:xfrm>
          <a:off x="438120" y="5715000"/>
          <a:ext cx="429408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20" y="5715000"/>
                    <a:ext cx="4294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Right Arrow 3"/>
          <p:cNvSpPr/>
          <p:nvPr/>
        </p:nvSpPr>
        <p:spPr>
          <a:xfrm rot="15336000">
            <a:off x="2265120" y="5466600"/>
            <a:ext cx="490680" cy="182880"/>
          </a:xfrm>
          <a:prstGeom prst="rightArrow">
            <a:avLst>
              <a:gd name="adj1" fmla="val 50000"/>
              <a:gd name="adj2" fmla="val 4992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86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8A00-9DB4-45AD-8530-886D641295F4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280B-C62B-4D83-9CA6-171B3A4767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Image 5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869080" cy="2089440"/>
          </a:xfrm>
          <a:prstGeom prst="rect">
            <a:avLst/>
          </a:prstGeom>
          <a:ln w="0">
            <a:noFill/>
          </a:ln>
        </p:spPr>
      </p:pic>
      <p:sp>
        <p:nvSpPr>
          <p:cNvPr id="1177" name="Rectangle 3"/>
          <p:cNvSpPr/>
          <p:nvPr/>
        </p:nvSpPr>
        <p:spPr>
          <a:xfrm>
            <a:off x="151920" y="221940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6"/>
          <p:cNvSpPr/>
          <p:nvPr/>
        </p:nvSpPr>
        <p:spPr>
          <a:xfrm>
            <a:off x="-25560" y="1395000"/>
            <a:ext cx="89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The alkoxide 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only made 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by adding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to the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The phenoxide 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only made 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by adding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OH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to the phe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24480" y="9907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)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lkoxide  from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0" name="Object 9"/>
          <p:cNvGraphicFramePr/>
          <p:nvPr/>
        </p:nvGraphicFramePr>
        <p:xfrm>
          <a:off x="914400" y="4876920"/>
          <a:ext cx="640080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876920"/>
                    <a:ext cx="64008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2" name="Picture 4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5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84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cp:keywords/>
  <dc:language>en-US</dc:language>
  <cp:lastModifiedBy>hp</cp:lastModifiedBy>
  <dcterms:modified xsi:type="dcterms:W3CDTF">2015-02-28T11:02:29Z</dcterms:modified>
  <cp:revision>118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