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19.xml.rels" ContentType="application/vnd.openxmlformats-package.relationships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29.wmf" ContentType="image/x-wmf"/>
  <Override PartName="/ppt/media/image28.wmf" ContentType="image/x-wmf"/>
  <Override PartName="/ppt/media/image27.wmf" ContentType="image/x-wmf"/>
  <Override PartName="/ppt/media/image10.wmf" ContentType="image/x-wmf"/>
  <Override PartName="/ppt/media/image2.png" ContentType="image/png"/>
  <Override PartName="/ppt/media/image5.png" ContentType="image/png"/>
  <Override PartName="/ppt/media/image13.wmf" ContentType="image/x-wmf"/>
  <Override PartName="/ppt/media/image8.wmf" ContentType="image/x-wmf"/>
  <Override PartName="/ppt/media/image9.wmf" ContentType="image/x-wmf"/>
  <Override PartName="/ppt/media/image3.png" ContentType="image/png"/>
  <Override PartName="/ppt/media/image11.wmf" ContentType="image/x-wmf"/>
  <Override PartName="/ppt/media/image12.wmf" ContentType="image/x-wmf"/>
  <Override PartName="/ppt/media/image4.png" ContentType="image/png"/>
  <Override PartName="/ppt/media/image30.wmf" ContentType="image/x-wmf"/>
  <Override PartName="/ppt/media/image32.wmf" ContentType="image/x-wmf"/>
  <Override PartName="/ppt/media/image31.wmf" ContentType="image/x-wmf"/>
  <Override PartName="/ppt/media/image7.jpeg" ContentType="image/jpeg"/>
  <Override PartName="/ppt/media/image6.png" ContentType="image/png"/>
  <Override PartName="/ppt/media/image14.wmf" ContentType="image/x-wmf"/>
  <Override PartName="/ppt/media/image1.jpeg" ContentType="image/jpeg"/>
  <Override PartName="/ppt/media/image15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media/image22.wmf" ContentType="image/x-wmf"/>
  <Override PartName="/ppt/media/image23.wmf" ContentType="image/x-wmf"/>
  <Override PartName="/ppt/media/image24.wmf" ContentType="image/x-wmf"/>
  <Override PartName="/ppt/media/image25.wmf" ContentType="image/x-wmf"/>
  <Override PartName="/ppt/media/image26.wmf" ContentType="image/x-wmf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notesMasterIdLst>
    <p:notesMasterId r:id="rId28"/>
  </p:notes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  <p:sldId id="265" r:id="rId38"/>
    <p:sldId id="266" r:id="rId39"/>
    <p:sldId id="267" r:id="rId40"/>
    <p:sldId id="268" r:id="rId41"/>
    <p:sldId id="269" r:id="rId42"/>
    <p:sldId id="270" r:id="rId43"/>
    <p:sldId id="271" r:id="rId44"/>
    <p:sldId id="272" r:id="rId45"/>
    <p:sldId id="273" r:id="rId46"/>
    <p:sldId id="274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notesMaster" Target="notesMasters/notesMaster1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slide" Target="slides/slide10.xml"/><Relationship Id="rId39" Type="http://schemas.openxmlformats.org/officeDocument/2006/relationships/slide" Target="slides/slide11.xml"/><Relationship Id="rId40" Type="http://schemas.openxmlformats.org/officeDocument/2006/relationships/slide" Target="slides/slide12.xml"/><Relationship Id="rId41" Type="http://schemas.openxmlformats.org/officeDocument/2006/relationships/slide" Target="slides/slide13.xml"/><Relationship Id="rId42" Type="http://schemas.openxmlformats.org/officeDocument/2006/relationships/slide" Target="slides/slide14.xml"/><Relationship Id="rId43" Type="http://schemas.openxmlformats.org/officeDocument/2006/relationships/slide" Target="slides/slide15.xml"/><Relationship Id="rId44" Type="http://schemas.openxmlformats.org/officeDocument/2006/relationships/slide" Target="slides/slide16.xml"/><Relationship Id="rId45" Type="http://schemas.openxmlformats.org/officeDocument/2006/relationships/slide" Target="slides/slide17.xml"/><Relationship Id="rId46" Type="http://schemas.openxmlformats.org/officeDocument/2006/relationships/slide" Target="slides/slide18.xml"/><Relationship Id="rId47" Type="http://schemas.openxmlformats.org/officeDocument/2006/relationships/slide" Target="slides/slide19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 type="dt" idx="7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6" name="PlaceHolder 5"/>
          <p:cNvSpPr>
            <a:spLocks noGrp="1"/>
          </p:cNvSpPr>
          <p:nvPr>
            <p:ph type="ftr" idx="7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PlaceHolder 6"/>
          <p:cNvSpPr>
            <a:spLocks noGrp="1"/>
          </p:cNvSpPr>
          <p:nvPr>
            <p:ph type="sldNum" idx="7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FB4EC-2EB9-4AC9-B4E1-DD0FC620DB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FFB76-E54C-41A6-9B31-59D4C859DC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44EF7-023F-4777-B97F-AB84D74D1A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5D5CE-9485-4155-8441-71B98C80B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AA775-41A4-4D07-A11B-3F93FFFDD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D655CD-CCDB-4ECA-BA16-B84C5B199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190905-8EDF-4D9A-934B-26CF8E12A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BDB600-35CD-4B2D-9F47-FF102D1D3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C6C9F7-1FF0-47DA-9938-160CA8741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76CD01-1E4D-4C85-B6B9-F809DD8EC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C5DFA6-5AD2-4031-AEBB-300E65FD7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83F70D-D97C-449A-A7A3-DD49848D3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644CB2-E208-43F2-9976-4883CADF9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790E3B-8AFA-47FE-BB79-936747DD4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5151B4-E88D-47A5-A765-E569270A7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137DC-09EA-43E0-9D3E-98D1A7A9E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F8F957-8935-4B48-BB02-19F52F70A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8E0CB7-5D81-4C8C-9621-70C0BB401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289F5A-59C4-4B61-AE1D-14476BC56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96B38C-C632-44D2-A1FA-8FCAF2183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C335D3-4753-46D8-A3D1-B13EEDEFA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9B1A09-B4C4-4333-899B-DA4741239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5249BC-15A7-40A7-BFDD-BC21C51DC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AB04F9-CDAF-4000-A95F-449B60DDC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84D97A-3570-407C-8D8D-9251BEB75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279209-6C79-498A-B133-4A4AB5AE2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E0B0B-25FE-4DAB-A520-3DD122235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1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1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79E654-678B-4779-A8ED-A5A41CB9D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64929B-C8D1-4D78-B60E-9535B7490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73E09F-3AAE-4EB6-BA94-462EE86E4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4E2F1C-3827-4F96-B84C-0FA885AE3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E055F2-D7B4-4A2D-95D2-5A3646EE5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DEEAE4-D764-4DD2-8E54-690C12299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27323F-41AA-4997-B136-1EBA0D4EC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271F57-CEA0-40BC-AA25-94C61005C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5FA558-34F9-4E8E-BF6C-D89547C34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46562D-9BCA-4A49-91E5-FC549E6EB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F369E-007A-4AA8-BC1A-90CA52D3F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27FF8C-C7E5-47DD-B1F4-AE2DD6317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DF36AA-91D4-418B-A36B-C0D482B71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B66509-B4F9-4D01-A6CD-66702F778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9F8ABF-8B6B-4A47-9B68-4ACB5AFB5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8946F7-D7AA-470B-87D6-36EDFA360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FC6557-254E-4D7F-83E0-D86D3849D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582716-A3D2-4D74-852C-FE5027775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5AD853-D777-4FA7-845B-878CDA2EA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007B2D-0238-4F40-BA8D-A199664EA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9CBBA2-BA98-4D12-92B1-4DC69CCDD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9B375-D816-4443-ACCF-ABFB4BA88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507932-532B-4FFF-BDB8-74734D419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76E42C-D2CC-4A6F-B680-BF76BDCDF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857223-7E1F-4FE1-9AC2-21C866BDE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76F0AF-83A0-4C47-9081-EAAE224D8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75A5E7-49AA-4F18-89BE-F6C19A48A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1F948B1-0E3C-41CD-8FFD-DA193B2D6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8C835BA-3F24-473A-8190-D99636B34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D275B9B-02A8-4FCA-BF84-DEC15407D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0BD5816-67AA-4AF6-A6A1-1AF213CBD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2FAF32D-7E03-443C-9F2F-53175349C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73C4E-B70C-46FE-B9FD-8FC5430CA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2F42ED4-ABD0-416F-A914-296CD4475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2DC7419-777B-40FC-A87E-569452C05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98A21B1-9B08-4171-B771-8FDE8230D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3CCFBF0-8BD4-4B1B-97CF-6E91FDF6E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7BE9F21-5AE6-4ABF-96E7-E1029BBAB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C42A6CE-09B2-4CAD-8084-0EA220760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D3C4721-6371-4517-B38F-B64657B58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9E8E547D-69E5-4C0B-B109-3FF492141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48BE0788-0CBA-40A2-9E56-7F342DD54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220A5B41-049D-4E29-A2C1-A874D82F8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F170D-B55C-4826-9BDE-D429B8719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63282892-07C9-4B6A-BE92-67DA9C965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5C820AF1-9031-4539-9790-34A735BC9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542C4AC1-39BB-42C2-BF21-024ACD005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291A972A-4932-4184-8C01-84A764F3B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5E3C3A69-08A7-40FF-B5F7-8EF421B78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8A0BD29C-EE93-47E2-A631-EF51233A5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748C1171-7F7A-4CCE-92A0-5DC14DB4F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014A8316-A2C8-4D0E-9895-E0384D6E4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6004E382-9F01-4A89-A020-DB837F2D7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8E174CC-65B6-4E4B-8BE5-74A896160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C16D0-EB4E-4131-8797-A8840E433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0E4E137-B74A-4B9B-9787-129E4AE25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B31A401-7405-4CF7-BAB4-D98B83DD2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34AC97E-29F2-4A3F-8037-2C314D341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4EFD215-F613-48E3-9372-53C0766DA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AB567BC-0C36-4701-B6EC-612F33121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F621179-B48A-41A7-A8B6-7C17FFC0D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DB2685C-3BB0-48AF-B556-73FA217C2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3ED3249-9E54-4CCF-A055-3C56B0110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4E89CAC-A28D-412A-9D5F-8FD072DC3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B51794E-2D67-4B3E-B16C-2BFA8212D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0AFBA-EF66-4299-B161-A33ACE293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B5EFAC1-D551-42B2-B433-952CE6445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6F895A0-A176-41FF-B99A-9E4968903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AA4E905-1B84-494D-8992-7BDD5F0EA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197B613-8802-4161-8EA4-DDDD26D6C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9830A68-08AC-43FC-87B7-133CDCC05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444773B-3C0F-4B4F-8C4A-17E88B206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8A988B0-9E7B-4E80-A558-960AB41D2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ECCB82C-88E8-4826-AAFF-9418066DA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2202890-42F3-4A54-A020-30E7D2754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64CEB30-998E-4EF4-B252-A53CD5222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C8CA7-BC82-4B16-994F-14B35E89E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C932D1B-7349-4E9A-9121-D5074C8E6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3EBF04A-0890-44E2-BBF3-F22453782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5E218F9-B21F-436F-9688-700988A05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93251CE-DC2C-4733-AD31-D83D9FDE5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5153DDD-4A6D-4BA7-90C7-9FC20D9CB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D543D1F-8D57-40FF-BCD6-80FE582FF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88F4317-586D-4B88-9442-3C0D8CA6E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77A1AAB-3B0A-4820-9C72-4285EED1F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145A8F6-BFE7-4F55-A62A-8BE87190A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C7040B0-DCA4-444A-8E8E-4324FBA4D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72CDF-63A9-44A1-8D4F-5DE7441C7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ADDFE-7024-4439-A04A-DBE1653EE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A27C6B6-89CD-4485-A584-148E79126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D077F82-FCE4-4BF5-8118-C938F5880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CBA1F1E-7B2E-4162-9073-352866423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CC05706-9B69-498F-BD88-56FA83705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9AA06C7-2218-4122-AF5C-107A6DA94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97F58A8-B4BB-424F-BF35-EA139F42A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F19823D-34C7-4919-A03D-E189A3833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08A568A-61E2-46F3-9534-594F5777B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3346BB7-8A06-43B7-9EFE-B9BD5C116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7C8E494-8C37-49F5-ADCC-78BD3AB53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7329D-E33B-4D7F-A09B-5281F860C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4FA19A6-AF32-4DA7-9B10-55E236081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130E625-F30A-483E-9AE8-400D36F50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3EEE0EA-82A6-4C47-8A0E-ED3C116CB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BB95FCB-FD4F-40F6-9756-8B305BAEE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990E66F-0218-4F5E-AA3D-832DF2D0A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C0B6B18-C755-4BF4-86FE-AA459F716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C65FB6D-B8ED-424F-8F47-9FC4D519C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3AAFA76-3146-4144-B0B6-662D81A6E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A3859AC-387F-42D0-84EA-B8C63F0C6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9FFF38F-FC8F-4024-9A00-44A645A9A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ED5FC-23A5-4349-8CD8-893E5D16D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D3248E7-E946-4F8E-8E5C-2D9E715D8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E7A1CB6-7899-46F9-99B0-3D9B8D4C5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A8D4F75-2FD0-4F9B-A7F5-A18E46D1C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7EADE98-F836-4F3A-AAE3-955905A96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1FF984E-FF59-4A8C-A854-244821490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801EC3B-D9A2-4DB1-8826-9BF46B557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1410097-EF28-428C-AF15-F0E23ECA9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8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F9174CA-5D4E-40E2-83E2-667A19024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9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9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9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546259C-11C3-473B-882D-9EA11F7B9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2147B94-8BCC-449E-85DA-C7736777C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AD35C-7177-4C17-8175-A1016D5AB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6BFA9C7-6BD6-40D3-B5C8-CB796D5ED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B9738F9-9CB4-408E-B2E8-623AD0182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AEB7B04-1B92-4213-9B65-101324D54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8A1A06E-1DE7-4CB8-9BA1-73B523EF4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318CF59-FCC7-4D9D-A99E-72709EE06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789B062-1664-48BD-949C-6441C91CE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550C6C1-E90C-45B7-A355-D6200F07A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CB6C83D-81B3-4353-B494-CAB3233B5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3FABCF9-C57D-449E-8F9F-998AB5A53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9871778-0DEE-4FB8-AE64-B0CDA3280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D25E4-AED1-470E-A39E-728888ABB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A3B462E-070F-4A4F-AA66-B21B6307B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84A65D4-DFD2-4411-9E28-C4D84300C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D7E6FFD-4923-4E8B-9500-183452E90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A230C83-BD19-4450-8DC0-B4030857A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7D2F48F-3E8B-4282-87DB-EA5991EB9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020CD5A-96A0-4198-882C-C75A93F42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BCA8185-29FC-489B-8494-15A1CC625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EF9444F-519D-4F25-8E9C-3EE0061E5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1A707F6-695B-49A7-AA73-E36FEA9AA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3CA705B-9A44-4712-83AA-7F4C1BC0C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67ABF3-CF17-4D42-9107-83637B908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B4AB2BC-4182-41DA-BF5E-350CFEA4D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61EC284-644F-4D63-8F94-1EEB741B0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3D14F20-D394-4813-959B-E6878FBF5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6122EEA-ABDB-4ED7-8E6E-AC17C054D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EE356F3-A0FD-40D9-8E12-E46F751FE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C6F97FD-2846-47A5-844E-D159A5819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CD5DFC2-CFD4-4201-B0BD-E346D5F5C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37813FB-69FF-41A8-B0DA-96E459C8D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FE99A47-4FE0-4410-BB78-4F29BA499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31FB40D-AD47-4E51-B52B-0DC6001BA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3F1B1C-34D8-40B0-A8B1-EB6032E3E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8AD79CF-6F7C-405A-A7BC-6A86F55AE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F3D8542-0623-465E-9B0F-BC8F01802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AA0C376-92A0-4E09-AC25-0E1188882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B7A5B78-9D54-4761-81B1-98D7AF7CC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94BD75F-EB75-4D00-A789-D05C255AE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55E1375-5C9B-4EB9-B454-882FBE20C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E05BF5C-014E-4B77-9688-D697B9F7F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FC2C7E3-7079-424C-83EE-2E32F054D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0DDF47E-3A5C-4806-8561-DAF23A986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961ADA1-D80A-4ECA-BDD3-3200A3B22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F73461-4BE1-40BE-85B4-12F367C9C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FB75411-646E-40EF-BEB2-4BE88FA49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AC9DD82-75F6-4475-9999-88C8E1EAD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CD0FC86-1455-43A1-AC58-8AA4DB8D0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FA4FEDF-AABE-4D44-BE0A-7B455E91C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35F427D-5442-4A63-B272-605E260C9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2437719-D2EE-4A67-913F-EBB0DBCB3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7289F51-2F6F-4779-BD42-7831250D0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3A3F6A2-8243-4310-8516-D35816678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16AAFB5-6499-4E11-9561-16D05E64D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1A237B7-11CB-47B1-9A8C-AF2890B90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E373D1-8316-4379-B260-ED83E7848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3D25A9E-F9FC-4602-8FC0-0E3B465AF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63349A9-5A90-48F8-A734-A853657C7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7CF7DEB-CB4B-4ABD-B50E-1DEECEBC5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E77587F-F2AA-44EA-BA98-C2BB29F2B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9A3D38E-8CDC-4757-AC6C-47AE7E929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458D9B4-AE50-4EA7-94D1-C0A3F3372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60ED79A-1CA7-468F-A6DC-8308E392F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103D5F8-42CC-4243-8292-06EA9CD2B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B8985CE-4AF9-48E2-93CE-3E2AFD9DC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1A74BC-B90B-480B-B63C-01B7E812F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FDD7E-6041-41DC-B0B1-7127D283F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8DEA22-DD71-432A-B2BF-0E7E85696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6543FC-77E5-4372-B5CA-C33E12EB1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875D89-E622-4388-9B51-0A14C75B9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F7BA25-6F80-4286-AC0D-142ADB8C6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840F95-497A-4109-A428-EAE4D3FE6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278EAE-4D8C-4E32-9D5F-A3EF35B97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EB8643-94C7-4C29-88A2-013D7EC2E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E9182F-2353-4995-8946-62FFC8352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DE8546-BE98-4A79-B19D-35365FB10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9CCBDF-2696-466D-8BCE-9893D0245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B7AE7-6CAF-40DF-B7E8-8F7560C07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F21032-35FF-41D5-A389-DFBA6F36A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CA34A2-292A-4210-B403-4F38F7242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5484DA-0D1D-4A68-B51B-804478041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9868B4-4101-4248-B434-456B817C1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CB0733-DC01-48EA-BC1B-73DC29E43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D02D25-E160-4FAC-A061-072F80FB9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680F8D-873E-486D-A4BB-589339BA0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7835C1-4571-41B1-B74B-BA3ACBAE0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FD0400-8C3E-4489-B4EC-9569EB955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2DB497-BFE3-42F4-9618-C5E4761D1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4D793-5A0C-4DD7-BF78-5AA8D0C4A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938C86-19E5-41B9-8137-4118D1556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43C337-7FE2-4D79-956A-8EC887443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824219-E410-42B6-89D9-D58DADA59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A1D2BE-765E-40DC-8D76-A81928506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325630-844D-4537-A35C-E33D89482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BC641A-C95E-4FCB-8119-257545185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6932E1-FDE1-4121-A147-FF3261F69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762A47-C4F0-4DA9-8A7F-30F841A0F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360B27-5255-4E23-BA09-7AFB32354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307196-ED9A-4E84-9786-0BDBB1B7A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6BA3A-EE35-4C9D-A000-6C6119540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BC45EA-79CD-4F01-AE4C-8FE9EF434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AC267C-7A59-4DD0-9582-A23120954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340406-C6AB-4DB9-965B-C48848CF3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E9E458-32E1-42EB-9D38-4E63DBF3F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26E28E-1FB7-4D9C-B204-4B3E7EBDD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8A9F19-4CD5-4A08-B596-A0A52E000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B1A5C2-7DF5-44D8-89D4-00D61F75C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A1AFCE-63C5-4B00-A1F3-62DA1A83F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856209-2930-41ED-9557-8DAE2E9F8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BC7D9F-2446-421C-B655-F17FC5D99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78BC8-5104-4365-B111-A6D76AA99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9FA807-B3C6-4355-8CC6-594C60757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8816BE-184C-4542-A22D-0AB07A4AC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709CF4-07D7-4001-B581-25015E162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8C4C4E-3C22-4B4F-BCFE-BC05DB689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133C74-F029-4545-AC70-A25237B4E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6F5FA8-4174-4C4B-B161-B3DCA30D4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C8680B-6F70-4D2F-9A5D-A0EEBD1A1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298EE8-7FA8-434F-942A-5CA4C2ADD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C5C663-0608-4060-B6C3-C2B5659E4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E4D355-EAC3-42BC-B49E-D63766622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59CFE-B208-4591-8C78-8235A7367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E25D2A-11E9-4721-8EF2-FC3945FCF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613558-32FE-4737-865D-FAC3D3873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827E2B-D3A6-4403-9AFF-7D50488C1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AF3FEB-EE76-4D11-90AE-E3A76DB64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714172-120E-4C5D-A2FA-11F7E7154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ABFEC8-983F-4962-B4DF-21627BEC9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43A506-B35E-4EBF-8D0F-D084F6DD2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5C1E0A-A013-44BF-A672-68881846C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6C6A91-EF2B-4792-9541-A2F10B719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0F4094-25B9-40A8-A09E-B92167458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EA95E-BD47-4329-9C90-9EFDB24E3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ED8787-2D5E-4F36-9996-6D2C6A0FB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B6B153-B65E-4E16-A474-3116BC14D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6D51E9-92E8-48FA-972A-D3BC305A9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2EA4D5-627F-46B4-B133-0BA86DBD3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399B71-CDAB-4720-B1C5-0AC0779DF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B24A56-CDDE-4745-AD23-E0DF9C929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16F2A1-8DEE-4309-B763-3C7F77C96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787FC9-2074-4F68-8CEB-608548CEE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A23657-3110-4A2E-819D-C195D5534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1AA38B-F22E-4FB8-B5D7-104CE7E10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48E58-9825-4529-8165-9FE1F7E7C06D}" type="datetime5">
              <a:rPr b="0" lang="ar-SA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31 يوليو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A502F-2BF2-4D27-8244-F4235FC1C9A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95959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695A2-5147-484C-BB78-E1301B8CB73F}" type="datetime5">
              <a:rPr b="0" lang="ar-SA" sz="1200" spc="-1" strike="noStrike">
                <a:solidFill>
                  <a:srgbClr val="595959"/>
                </a:solidFill>
                <a:latin typeface="Times New Roman"/>
                <a:ea typeface="Arial"/>
              </a:rPr>
              <a:t>31 يوليو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Times New Roman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47BB5-62B9-4DCE-A497-9D5A67B78D80}" type="slidenum">
              <a:rPr b="0" lang="en-US" sz="12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95959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FD0BC-9629-4131-BE17-5E73BE6510BE}" type="datetime5">
              <a:rPr b="0" lang="ar-SA" sz="1200" spc="-1" strike="noStrike">
                <a:solidFill>
                  <a:srgbClr val="595959"/>
                </a:solidFill>
                <a:latin typeface="Times New Roman"/>
                <a:ea typeface="Arial"/>
              </a:rPr>
              <a:t>31 يوليو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Times New Roman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4A64E-503C-439A-8791-AB4D72E6E33D}" type="slidenum">
              <a:rPr b="0" lang="en-US" sz="12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95959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7F3BD-E166-4824-996A-712D2E3D19FE}" type="datetime5">
              <a:rPr b="0" lang="ar-SA" sz="1200" spc="-1" strike="noStrike">
                <a:solidFill>
                  <a:srgbClr val="595959"/>
                </a:solidFill>
                <a:latin typeface="Times New Roman"/>
                <a:ea typeface="Arial"/>
              </a:rPr>
              <a:t>31 يوليو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Times New Roman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53EDC-1A42-4539-B430-9B540C9BC36F}" type="slidenum">
              <a:rPr b="0" lang="en-US" sz="12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95959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81876-E870-4D61-880B-848D633C22F7}" type="datetime5">
              <a:rPr b="0" lang="ar-SA" sz="1200" spc="-1" strike="noStrike">
                <a:solidFill>
                  <a:srgbClr val="595959"/>
                </a:solidFill>
                <a:latin typeface="Times New Roman"/>
                <a:ea typeface="Arial"/>
              </a:rPr>
              <a:t>31 يوليو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Times New Roman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7F3CE-28F4-4D4D-9EBF-179CA54248C6}" type="slidenum">
              <a:rPr b="0" lang="en-US" sz="12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 type="dt" idx="40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95959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58A88-C388-442A-AA26-F456A1171CFB}" type="datetime5">
              <a:rPr b="0" lang="ar-SA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31 يوليو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 type="sldNum" idx="41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29C2D-05F3-4941-8A5F-BF63B844305A}" type="slidenum">
              <a:rPr b="0" lang="en-US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 type="ftr" idx="42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 type="dt" idx="43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95959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06AB9-9D25-456F-B999-28445431D6CF}" type="datetime5">
              <a:rPr b="0" lang="ar-SA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31 يوليو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 type="ftr" idx="44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 type="sldNum" idx="45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6CE3B-48B3-4DF7-978B-55B5CADE5957}" type="slidenum">
              <a:rPr b="0" lang="en-US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Oval 8"/>
          <p:cNvSpPr/>
          <p:nvPr/>
        </p:nvSpPr>
        <p:spPr>
          <a:xfrm>
            <a:off x="449568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Oval 9"/>
          <p:cNvSpPr/>
          <p:nvPr/>
        </p:nvSpPr>
        <p:spPr>
          <a:xfrm>
            <a:off x="469584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Oval 10"/>
          <p:cNvSpPr/>
          <p:nvPr/>
        </p:nvSpPr>
        <p:spPr>
          <a:xfrm>
            <a:off x="429732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 type="dt" idx="46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95959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9E70A-8385-44FB-8F80-0162CF83F1C3}" type="datetime5">
              <a:rPr b="0" lang="ar-SA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31 يوليو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 type="ftr" idx="47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 type="sldNum" idx="48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0A95D-811F-4F92-B03C-EAF702F99277}" type="slidenum">
              <a:rPr b="0" lang="en-US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 type="dt" idx="49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95959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21FE7-C96A-4B6B-AD12-10419AB0A7BE}" type="datetime5">
              <a:rPr b="0" lang="ar-SA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31 يوليو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 type="ftr" idx="50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 type="sldNum" idx="51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4B594-7CD5-47E6-9743-E52E7A0BCC77}" type="slidenum">
              <a:rPr b="0" lang="en-US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 type="dt" idx="52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95959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F04FB-F66A-4D84-8594-77A8AB106432}" type="datetime5">
              <a:rPr b="0" lang="ar-SA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31 يوليو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 type="ftr" idx="53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 type="sldNum" idx="54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A3507-B649-439F-B589-065A027D93C6}" type="slidenum">
              <a:rPr b="0" lang="en-US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 type="dt" idx="55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95959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3B06F-D5EF-4DFE-8436-5D9F8C4CE2F8}" type="datetime5">
              <a:rPr b="0" lang="ar-SA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31 يوليو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 type="ftr" idx="56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 type="sldNum" idx="57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06EAC-8B9C-4D09-9373-D34F5FB09214}" type="slidenum">
              <a:rPr b="0" lang="en-US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95959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515C3-0EB1-40EB-97D9-88A24DDCFB9E}" type="datetime5">
              <a:rPr b="0" lang="ar-SA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31 يوليو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0AE8D-7C64-43AE-9901-7294DDEE0E42}" type="slidenum">
              <a:rPr b="0" lang="en-US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 type="dt" idx="58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95959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27A54-69AB-4D55-A9D7-F34B3B55B011}" type="datetime5">
              <a:rPr b="0" lang="ar-SA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31 يوليو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 type="ftr" idx="59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PlaceHolder 5"/>
          <p:cNvSpPr>
            <a:spLocks noGrp="1"/>
          </p:cNvSpPr>
          <p:nvPr>
            <p:ph type="sldNum" idx="60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034ED-A4A3-4025-A87D-30EDA13C6C49}" type="slidenum">
              <a:rPr b="0" lang="en-US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 type="dt" idx="61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95959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05D03-86CB-4C15-8E47-FC607B36629A}" type="datetime5">
              <a:rPr b="0" lang="ar-SA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31 يوليو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PlaceHolder 4"/>
          <p:cNvSpPr>
            <a:spLocks noGrp="1"/>
          </p:cNvSpPr>
          <p:nvPr>
            <p:ph type="ftr" idx="62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PlaceHolder 5"/>
          <p:cNvSpPr>
            <a:spLocks noGrp="1"/>
          </p:cNvSpPr>
          <p:nvPr>
            <p:ph type="sldNum" idx="63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186FC-1A06-41B7-9BEE-DC7CA1E0DF97}" type="slidenum">
              <a:rPr b="0" lang="en-US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 type="dt" idx="64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95959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FD9C8-2513-4522-A93A-8DB679777565}" type="datetime5">
              <a:rPr b="0" lang="ar-SA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31 يوليو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 type="ftr" idx="65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5"/>
          <p:cNvSpPr>
            <a:spLocks noGrp="1"/>
          </p:cNvSpPr>
          <p:nvPr>
            <p:ph type="sldNum" idx="66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1066D-942D-4055-8E2D-D5301DEDD7A7}" type="slidenum">
              <a:rPr b="0" lang="en-US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 type="dt" idx="67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95959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85074-6C22-48B0-931B-F3D53EC46DC2}" type="datetime5">
              <a:rPr b="0" lang="ar-SA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31 يوليو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 type="ftr" idx="68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PlaceHolder 5"/>
          <p:cNvSpPr>
            <a:spLocks noGrp="1"/>
          </p:cNvSpPr>
          <p:nvPr>
            <p:ph type="sldNum" idx="69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DC368-339C-4955-8C5A-670323D28F3D}" type="slidenum">
              <a:rPr b="0" lang="en-US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 type="dt" idx="70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95959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16CFF-A47C-458E-81D7-6213AD44C4DA}" type="datetime5">
              <a:rPr b="0" lang="ar-SA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31 يوليو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PlaceHolder 4"/>
          <p:cNvSpPr>
            <a:spLocks noGrp="1"/>
          </p:cNvSpPr>
          <p:nvPr>
            <p:ph type="ftr" idx="71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PlaceHolder 5"/>
          <p:cNvSpPr>
            <a:spLocks noGrp="1"/>
          </p:cNvSpPr>
          <p:nvPr>
            <p:ph type="sldNum" idx="72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572E6-0B34-407B-898B-FCBB7560ED7D}" type="slidenum">
              <a:rPr b="0" lang="en-US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95959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2C84F-94E0-484F-9D7D-12209C473D30}" type="datetime5">
              <a:rPr b="0" lang="ar-SA" sz="1200" spc="-1" strike="noStrike">
                <a:solidFill>
                  <a:srgbClr val="595959"/>
                </a:solidFill>
                <a:latin typeface="Times New Roman"/>
                <a:ea typeface="Arial"/>
              </a:rPr>
              <a:t>31 يوليو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Times New Roman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8EFC8-62A4-4A71-BFDC-A3A152927044}" type="slidenum">
              <a:rPr b="0" lang="en-US" sz="12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95959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150E6-7694-4F47-BAB9-1202837B1402}" type="datetime5">
              <a:rPr b="0" lang="ar-SA" sz="1200" spc="-1" strike="noStrike">
                <a:solidFill>
                  <a:srgbClr val="595959"/>
                </a:solidFill>
                <a:latin typeface="Times New Roman"/>
                <a:ea typeface="Arial"/>
              </a:rPr>
              <a:t>31 يوليو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Times New Roman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DB085-10DF-4287-9690-E1DE1D9981F4}" type="slidenum">
              <a:rPr b="0" lang="en-US" sz="12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95959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ABC71-4EB8-4B44-B422-F8E35277FE9D}" type="datetime5">
              <a:rPr b="0" lang="ar-SA" sz="1200" spc="-1" strike="noStrike">
                <a:solidFill>
                  <a:srgbClr val="595959"/>
                </a:solidFill>
                <a:latin typeface="Times New Roman"/>
                <a:ea typeface="Arial"/>
              </a:rPr>
              <a:t>31 يوليو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Times New Roman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1BD1D-5671-4B42-B95D-541802AF94B8}" type="slidenum">
              <a:rPr b="0" lang="en-US" sz="12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95959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06BFB-E2C3-40FF-AF48-19ED4CDF6B94}" type="datetime5">
              <a:rPr b="0" lang="ar-SA" sz="1200" spc="-1" strike="noStrike">
                <a:solidFill>
                  <a:srgbClr val="595959"/>
                </a:solidFill>
                <a:latin typeface="Times New Roman"/>
                <a:ea typeface="Arial"/>
              </a:rPr>
              <a:t>31 يوليو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Times New Roman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59C5E-8CB8-4811-B82E-F0A40CF7FD99}" type="slidenum">
              <a:rPr b="0" lang="en-US" sz="12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95959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657A3-DFD8-4E1E-B8A7-316A3629CF09}" type="datetime5">
              <a:rPr b="0" lang="ar-SA" sz="1200" spc="-1" strike="noStrike">
                <a:solidFill>
                  <a:srgbClr val="595959"/>
                </a:solidFill>
                <a:latin typeface="Times New Roman"/>
                <a:ea typeface="Arial"/>
              </a:rPr>
              <a:t>31 يوليو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Times New Roman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AAC29-F740-47CF-AE88-728D5586D7C8}" type="slidenum">
              <a:rPr b="0" lang="en-US" sz="12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95959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0F0AF-A4B9-4850-9FA1-B18036BC8118}" type="datetime5">
              <a:rPr b="0" lang="ar-SA" sz="1200" spc="-1" strike="noStrike">
                <a:solidFill>
                  <a:srgbClr val="595959"/>
                </a:solidFill>
                <a:latin typeface="Times New Roman"/>
                <a:ea typeface="Arial"/>
              </a:rPr>
              <a:t>31 يوليو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Times New Roman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CA8CC-D453-436E-8880-BD4146FA2BE5}" type="slidenum">
              <a:rPr b="0" lang="en-US" sz="12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95959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DECB2-1C30-4FB9-B4EE-A74DDFAC3DB7}" type="datetime5">
              <a:rPr b="0" lang="ar-SA" sz="1200" spc="-1" strike="noStrike">
                <a:solidFill>
                  <a:srgbClr val="595959"/>
                </a:solidFill>
                <a:latin typeface="Times New Roman"/>
                <a:ea typeface="Arial"/>
              </a:rPr>
              <a:t>31 يوليو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Times New Roman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12C29-1CD2-4332-9810-3AD60F040CD2}" type="slidenum">
              <a:rPr b="0" lang="en-US" sz="12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9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image" Target="../media/image6.pn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9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22.wmf"/><Relationship Id="rId4" Type="http://schemas.openxmlformats.org/officeDocument/2006/relationships/image" Target="../media/image6.pn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9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97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image" Target="../media/image6.pn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9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image" Target="../media/image6.pn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9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wmf"/><Relationship Id="rId5" Type="http://schemas.openxmlformats.org/officeDocument/2006/relationships/image" Target="../media/image6.pn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9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image" Target="../media/image6.png"/><Relationship Id="rId4" Type="http://schemas.openxmlformats.org/officeDocument/2006/relationships/image" Target="../media/image7.jpeg"/><Relationship Id="rId5" Type="http://schemas.openxmlformats.org/officeDocument/2006/relationships/oleObject" Target="../embeddings/oleObject2.bin"/><Relationship Id="rId6" Type="http://schemas.openxmlformats.org/officeDocument/2006/relationships/image" Target="../media/image30.wmf"/><Relationship Id="rId7" Type="http://schemas.openxmlformats.org/officeDocument/2006/relationships/slideLayout" Target="../slideLayouts/slideLayout9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9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image" Target="../media/image6.pn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9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57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en.wikipedia.org/wiki/Organic_compound" TargetMode="External"/><Relationship Id="rId2" Type="http://schemas.openxmlformats.org/officeDocument/2006/relationships/hyperlink" Target="http://en.wikipedia.org/wiki/Oxygen" TargetMode="External"/><Relationship Id="rId3" Type="http://schemas.openxmlformats.org/officeDocument/2006/relationships/hyperlink" Target="http://en.wikipedia.org/wiki/Atom" TargetMode="External"/><Relationship Id="rId4" Type="http://schemas.openxmlformats.org/officeDocument/2006/relationships/hyperlink" Target="http://en.wikipedia.org/wiki/Alkyl" TargetMode="External"/><Relationship Id="rId5" Type="http://schemas.openxmlformats.org/officeDocument/2006/relationships/hyperlink" Target="http://en.wikipedia.org/wiki/Aryl" TargetMode="External"/><Relationship Id="rId6" Type="http://schemas.openxmlformats.org/officeDocument/2006/relationships/image" Target="../media/image8.wmf"/><Relationship Id="rId7" Type="http://schemas.openxmlformats.org/officeDocument/2006/relationships/image" Target="../media/image6.png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image" Target="../media/image6.png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6.pn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image" Target="../media/image6.png"/><Relationship Id="rId4" Type="http://schemas.openxmlformats.org/officeDocument/2006/relationships/image" Target="../media/image7.jpeg"/><Relationship Id="rId5" Type="http://schemas.openxmlformats.org/officeDocument/2006/relationships/oleObject" Target="../embeddings/oleObject1.bin"/><Relationship Id="rId6" Type="http://schemas.openxmlformats.org/officeDocument/2006/relationships/image" Target="../media/image16.wmf"/><Relationship Id="rId7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wmf"/><Relationship Id="rId4" Type="http://schemas.openxmlformats.org/officeDocument/2006/relationships/image" Target="../media/image6.pn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Slide Number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8BB9C-2C57-4C0F-A2AA-00A65AFCF47B}" type="slidenum">
              <a:rPr b="0" lang="ar-SA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9" name="Picture 3" descr="logo.gif"/>
          <p:cNvPicPr/>
          <p:nvPr/>
        </p:nvPicPr>
        <p:blipFill>
          <a:blip r:embed="rId1"/>
          <a:stretch/>
        </p:blipFill>
        <p:spPr>
          <a:xfrm>
            <a:off x="6629400" y="228600"/>
            <a:ext cx="2413080" cy="695160"/>
          </a:xfrm>
          <a:prstGeom prst="rect">
            <a:avLst/>
          </a:prstGeom>
          <a:ln w="0">
            <a:noFill/>
          </a:ln>
        </p:spPr>
      </p:pic>
      <p:sp>
        <p:nvSpPr>
          <p:cNvPr id="1100" name="Straight Connector 4"/>
          <p:cNvSpPr/>
          <p:nvPr/>
        </p:nvSpPr>
        <p:spPr>
          <a:xfrm>
            <a:off x="1752480" y="1066680"/>
            <a:ext cx="53341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1" name="Picture 5" descr="ksulogo3.png"/>
          <p:cNvPicPr/>
          <p:nvPr/>
        </p:nvPicPr>
        <p:blipFill>
          <a:blip r:embed="rId2"/>
          <a:stretch/>
        </p:blipFill>
        <p:spPr>
          <a:xfrm>
            <a:off x="304920" y="295200"/>
            <a:ext cx="1752480" cy="655560"/>
          </a:xfrm>
          <a:prstGeom prst="rect">
            <a:avLst/>
          </a:prstGeom>
          <a:ln w="0">
            <a:noFill/>
          </a:ln>
        </p:spPr>
      </p:pic>
      <p:sp>
        <p:nvSpPr>
          <p:cNvPr id="1102" name="Rectangle 6"/>
          <p:cNvSpPr/>
          <p:nvPr/>
        </p:nvSpPr>
        <p:spPr>
          <a:xfrm>
            <a:off x="3593160" y="4952880"/>
            <a:ext cx="141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ambria Math"/>
              </a:rPr>
              <a:t>1435-14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ambria Math"/>
              </a:rPr>
              <a:t>2014-20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Rectangle 1"/>
          <p:cNvSpPr/>
          <p:nvPr/>
        </p:nvSpPr>
        <p:spPr>
          <a:xfrm>
            <a:off x="2008080" y="2057400"/>
            <a:ext cx="438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alatino Linotype"/>
                <a:ea typeface="Tahoma"/>
              </a:rPr>
              <a:t>Ethers and Epoxi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4" name="Picture 2" descr="2d567265ef611378e0093ac560e30f62_a344e1b54f4f10f79bdaf4a9ab8df430.png"/>
          <p:cNvPicPr/>
          <p:nvPr/>
        </p:nvPicPr>
        <p:blipFill>
          <a:blip r:embed="rId3"/>
          <a:stretch/>
        </p:blipFill>
        <p:spPr>
          <a:xfrm>
            <a:off x="1066680" y="3124080"/>
            <a:ext cx="2987640" cy="1602000"/>
          </a:xfrm>
          <a:prstGeom prst="rect">
            <a:avLst/>
          </a:prstGeom>
          <a:ln w="0">
            <a:noFill/>
          </a:ln>
        </p:spPr>
      </p:pic>
      <p:pic>
        <p:nvPicPr>
          <p:cNvPr id="1105" name="Picture 3" descr="200px-Ethylene-oxide-3D-balls.png"/>
          <p:cNvPicPr/>
          <p:nvPr/>
        </p:nvPicPr>
        <p:blipFill>
          <a:blip r:embed="rId4"/>
          <a:stretch/>
        </p:blipFill>
        <p:spPr>
          <a:xfrm>
            <a:off x="4191120" y="2895480"/>
            <a:ext cx="2539800" cy="1968480"/>
          </a:xfrm>
          <a:prstGeom prst="rect">
            <a:avLst/>
          </a:prstGeom>
          <a:ln w="0">
            <a:noFill/>
          </a:ln>
        </p:spPr>
      </p:pic>
      <p:sp>
        <p:nvSpPr>
          <p:cNvPr id="1106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B2A37-D2AB-4972-85D7-C375370F2C81}" type="slidenum">
              <a:rPr b="0" lang="en-US" sz="1200" spc="-1" strike="noStrike">
                <a:solidFill>
                  <a:srgbClr val="59595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Rectangle 4"/>
          <p:cNvSpPr/>
          <p:nvPr/>
        </p:nvSpPr>
        <p:spPr>
          <a:xfrm>
            <a:off x="165960" y="1066680"/>
            <a:ext cx="28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Reactions Of Et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Rectangle 11"/>
          <p:cNvSpPr/>
          <p:nvPr/>
        </p:nvSpPr>
        <p:spPr>
          <a:xfrm>
            <a:off x="66600" y="1305000"/>
            <a:ext cx="8785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Cleavage of ethers by hot concentrated aci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thers are quite stable compounds. Ethers react only under strongly acidic condition.When ethers are heated in concentrated acid solutions, the ether linkage is brok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b050"/>
                </a:solidFill>
                <a:uFillTx/>
                <a:latin typeface="Times New Roman"/>
                <a:ea typeface="Times New Roman"/>
              </a:rPr>
              <a:t>General equ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8" name="Image 19" descr=""/>
          <p:cNvPicPr/>
          <p:nvPr/>
        </p:nvPicPr>
        <p:blipFill>
          <a:blip r:embed="rId1"/>
          <a:stretch/>
        </p:blipFill>
        <p:spPr>
          <a:xfrm>
            <a:off x="2819520" y="3613320"/>
            <a:ext cx="4897440" cy="823680"/>
          </a:xfrm>
          <a:prstGeom prst="rect">
            <a:avLst/>
          </a:prstGeom>
          <a:ln w="0">
            <a:noFill/>
          </a:ln>
        </p:spPr>
      </p:pic>
      <p:sp>
        <p:nvSpPr>
          <p:cNvPr id="1189" name="Rectangle 6"/>
          <p:cNvSpPr/>
          <p:nvPr/>
        </p:nvSpPr>
        <p:spPr>
          <a:xfrm>
            <a:off x="-15840" y="5944680"/>
            <a:ext cx="915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acids most often used in this reaction are HI, HBr, and H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Rectangle 5"/>
          <p:cNvSpPr/>
          <p:nvPr/>
        </p:nvSpPr>
        <p:spPr>
          <a:xfrm>
            <a:off x="77040" y="4440240"/>
            <a:ext cx="2360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9900"/>
                </a:solidFill>
                <a:uFillTx/>
                <a:latin typeface="Times New Roman"/>
                <a:ea typeface="Times New Roman"/>
              </a:rPr>
              <a:t>Specific ex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1" name="Image 20" descr=""/>
          <p:cNvPicPr/>
          <p:nvPr/>
        </p:nvPicPr>
        <p:blipFill>
          <a:blip r:embed="rId2"/>
          <a:stretch/>
        </p:blipFill>
        <p:spPr>
          <a:xfrm>
            <a:off x="1523880" y="5029200"/>
            <a:ext cx="6767640" cy="847800"/>
          </a:xfrm>
          <a:prstGeom prst="rect">
            <a:avLst/>
          </a:prstGeom>
          <a:ln w="0">
            <a:noFill/>
          </a:ln>
        </p:spPr>
      </p:pic>
      <p:pic>
        <p:nvPicPr>
          <p:cNvPr id="1192" name="Picture 4" descr="ksulogo2.png"/>
          <p:cNvPicPr/>
          <p:nvPr/>
        </p:nvPicPr>
        <p:blipFill>
          <a:blip r:embed="rId3"/>
          <a:stretch/>
        </p:blipFill>
        <p:spPr>
          <a:xfrm>
            <a:off x="152280" y="76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1193" name="Picture 5" descr="images.jpeg"/>
          <p:cNvPicPr/>
          <p:nvPr/>
        </p:nvPicPr>
        <p:blipFill>
          <a:blip r:embed="rId4"/>
          <a:stretch/>
        </p:blipFill>
        <p:spPr>
          <a:xfrm>
            <a:off x="7848720" y="0"/>
            <a:ext cx="1066680" cy="1001880"/>
          </a:xfrm>
          <a:prstGeom prst="rect">
            <a:avLst/>
          </a:prstGeom>
          <a:ln w="0">
            <a:noFill/>
          </a:ln>
        </p:spPr>
      </p:pic>
      <p:sp>
        <p:nvSpPr>
          <p:cNvPr id="1194" name="Straight Connector 11"/>
          <p:cNvSpPr/>
          <p:nvPr/>
        </p:nvSpPr>
        <p:spPr>
          <a:xfrm>
            <a:off x="457200" y="914400"/>
            <a:ext cx="8305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Rectangle 12"/>
          <p:cNvSpPr/>
          <p:nvPr/>
        </p:nvSpPr>
        <p:spPr>
          <a:xfrm>
            <a:off x="2770200" y="380880"/>
            <a:ext cx="281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alatino Linotype"/>
                <a:ea typeface="Tahoma"/>
              </a:rPr>
              <a:t>Ethers and Epox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06AE4-F57D-469E-A32D-2295E663886D}" type="slidenum">
              <a:rPr b="0" lang="en-US" sz="1200" spc="-1" strike="noStrike">
                <a:solidFill>
                  <a:srgbClr val="59595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7" name="Image 25" descr=""/>
          <p:cNvPicPr/>
          <p:nvPr/>
        </p:nvPicPr>
        <p:blipFill>
          <a:blip r:embed="rId1"/>
          <a:stretch/>
        </p:blipFill>
        <p:spPr>
          <a:xfrm>
            <a:off x="369720" y="4724280"/>
            <a:ext cx="8442360" cy="1578240"/>
          </a:xfrm>
          <a:prstGeom prst="rect">
            <a:avLst/>
          </a:prstGeom>
          <a:ln w="0">
            <a:noFill/>
          </a:ln>
        </p:spPr>
      </p:pic>
      <p:sp>
        <p:nvSpPr>
          <p:cNvPr id="1198" name="Rectangle 3"/>
          <p:cNvSpPr/>
          <p:nvPr/>
        </p:nvSpPr>
        <p:spPr>
          <a:xfrm>
            <a:off x="39600" y="1076040"/>
            <a:ext cx="9126720" cy="21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an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xces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 acid is present, the </a:t>
            </a:r>
            <a:r>
              <a:rPr b="0" lang="en-US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alcoho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itially produ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converted to </a:t>
            </a:r>
            <a:r>
              <a:rPr b="0" lang="en-US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alkyl halid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us the net products will be 2 moles of alkyl halid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Rectangle 4"/>
          <p:cNvSpPr/>
          <p:nvPr/>
        </p:nvSpPr>
        <p:spPr>
          <a:xfrm>
            <a:off x="46080" y="4116960"/>
            <a:ext cx="1815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For ex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0" name="Object 12"/>
          <p:cNvGraphicFramePr/>
          <p:nvPr/>
        </p:nvGraphicFramePr>
        <p:xfrm>
          <a:off x="533520" y="3124080"/>
          <a:ext cx="8127720" cy="528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01" name="Object 1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520" y="3124080"/>
                    <a:ext cx="8127720" cy="52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02" name="Picture 4" descr="ksulogo2.png"/>
          <p:cNvPicPr/>
          <p:nvPr/>
        </p:nvPicPr>
        <p:blipFill>
          <a:blip r:embed="rId4"/>
          <a:stretch/>
        </p:blipFill>
        <p:spPr>
          <a:xfrm>
            <a:off x="152280" y="76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1203" name="Picture 5" descr="images.jpeg"/>
          <p:cNvPicPr/>
          <p:nvPr/>
        </p:nvPicPr>
        <p:blipFill>
          <a:blip r:embed="rId5"/>
          <a:stretch/>
        </p:blipFill>
        <p:spPr>
          <a:xfrm>
            <a:off x="7848720" y="0"/>
            <a:ext cx="1066680" cy="1001880"/>
          </a:xfrm>
          <a:prstGeom prst="rect">
            <a:avLst/>
          </a:prstGeom>
          <a:ln w="0">
            <a:noFill/>
          </a:ln>
        </p:spPr>
      </p:pic>
      <p:sp>
        <p:nvSpPr>
          <p:cNvPr id="1204" name="Straight Connector 9"/>
          <p:cNvSpPr/>
          <p:nvPr/>
        </p:nvSpPr>
        <p:spPr>
          <a:xfrm>
            <a:off x="457200" y="914400"/>
            <a:ext cx="8305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Rectangle 10"/>
          <p:cNvSpPr/>
          <p:nvPr/>
        </p:nvSpPr>
        <p:spPr>
          <a:xfrm>
            <a:off x="2770200" y="380880"/>
            <a:ext cx="281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alatino Linotype"/>
                <a:ea typeface="Tahoma"/>
              </a:rPr>
              <a:t>Ethers and Epox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5745E-2996-499D-8BFD-EF1DA0D61919}" type="slidenum">
              <a:rPr b="0" lang="en-US" sz="1200" spc="-1" strike="noStrike">
                <a:solidFill>
                  <a:srgbClr val="59595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Rectangle 5"/>
          <p:cNvSpPr/>
          <p:nvPr/>
        </p:nvSpPr>
        <p:spPr>
          <a:xfrm>
            <a:off x="0" y="118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Rectangle 2"/>
          <p:cNvSpPr/>
          <p:nvPr/>
        </p:nvSpPr>
        <p:spPr>
          <a:xfrm>
            <a:off x="92160" y="1596960"/>
            <a:ext cx="9036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cyclic ethers (heterocyclic), one or more carbons are replaced with oxyg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poxides are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yclic ether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which the ether oxygen is part of a </a:t>
            </a:r>
            <a:r>
              <a:rPr b="0" lang="en-US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three-membered ring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Rectangle 3"/>
          <p:cNvSpPr/>
          <p:nvPr/>
        </p:nvSpPr>
        <p:spPr>
          <a:xfrm>
            <a:off x="55440" y="5601240"/>
            <a:ext cx="9033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implest and most important epoxide is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thylene oxid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Rectangle 6"/>
          <p:cNvSpPr/>
          <p:nvPr/>
        </p:nvSpPr>
        <p:spPr>
          <a:xfrm>
            <a:off x="141120" y="1001880"/>
            <a:ext cx="55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Cyclic Ethers-Epoxid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1" name="Picture 4" descr="ksulogo2.png"/>
          <p:cNvPicPr/>
          <p:nvPr/>
        </p:nvPicPr>
        <p:blipFill>
          <a:blip r:embed="rId1"/>
          <a:stretch/>
        </p:blipFill>
        <p:spPr>
          <a:xfrm>
            <a:off x="152280" y="76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1212" name="Picture 5" descr="images.jpeg"/>
          <p:cNvPicPr/>
          <p:nvPr/>
        </p:nvPicPr>
        <p:blipFill>
          <a:blip r:embed="rId2"/>
          <a:stretch/>
        </p:blipFill>
        <p:spPr>
          <a:xfrm>
            <a:off x="7848720" y="0"/>
            <a:ext cx="1066680" cy="1001880"/>
          </a:xfrm>
          <a:prstGeom prst="rect">
            <a:avLst/>
          </a:prstGeom>
          <a:ln w="0">
            <a:noFill/>
          </a:ln>
        </p:spPr>
      </p:pic>
      <p:sp>
        <p:nvSpPr>
          <p:cNvPr id="1213" name="Straight Connector 12"/>
          <p:cNvSpPr/>
          <p:nvPr/>
        </p:nvSpPr>
        <p:spPr>
          <a:xfrm>
            <a:off x="457200" y="914400"/>
            <a:ext cx="8305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Rectangle 13"/>
          <p:cNvSpPr/>
          <p:nvPr/>
        </p:nvSpPr>
        <p:spPr>
          <a:xfrm>
            <a:off x="2770200" y="380880"/>
            <a:ext cx="281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alatino Linotype"/>
                <a:ea typeface="Tahoma"/>
              </a:rPr>
              <a:t>Ethers and Epox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5" name="Object 1"/>
          <p:cNvGraphicFramePr/>
          <p:nvPr/>
        </p:nvGraphicFramePr>
        <p:xfrm>
          <a:off x="733320" y="2514600"/>
          <a:ext cx="7794720" cy="1905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16" name="Object 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33320" y="2514600"/>
                    <a:ext cx="7794720" cy="190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7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1B791-E369-49BF-9D19-97D9FD62CBC8}" type="slidenum">
              <a:rPr b="0" lang="en-US" sz="1200" spc="-1" strike="noStrike">
                <a:solidFill>
                  <a:srgbClr val="59595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Rectangle 14"/>
          <p:cNvSpPr/>
          <p:nvPr/>
        </p:nvSpPr>
        <p:spPr>
          <a:xfrm>
            <a:off x="0" y="1094760"/>
            <a:ext cx="9144000" cy="24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Peroxyacid Epoxid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eroxyacids</a:t>
            </a:r>
            <a:r>
              <a:rPr b="0" lang="en-US" sz="2000" spc="-1" strike="noStrike">
                <a:solidFill>
                  <a:srgbClr val="0e0d0e"/>
                </a:solidFill>
                <a:latin typeface="Times New Roman"/>
                <a:ea typeface="Times New Roman"/>
              </a:rPr>
              <a:t> (sometimes called peracids) are used to convert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lkenes</a:t>
            </a:r>
            <a:r>
              <a:rPr b="0" lang="en-US" sz="2000" spc="-1" strike="noStrike">
                <a:solidFill>
                  <a:srgbClr val="0e0d0e"/>
                </a:solidFill>
                <a:latin typeface="Times New Roman"/>
                <a:ea typeface="Times New Roman"/>
              </a:rPr>
              <a:t> to </a:t>
            </a:r>
            <a:r>
              <a:rPr b="0" lang="en-US" sz="2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epoxides</a:t>
            </a:r>
            <a:r>
              <a:rPr b="0" lang="en-US" sz="2000" spc="-1" strike="noStrike">
                <a:solidFill>
                  <a:srgbClr val="0e0d0e"/>
                </a:solidFill>
                <a:latin typeface="Times New Roman"/>
                <a:ea typeface="Times New Roman"/>
              </a:rPr>
              <a:t>. If the reaction takes place in aqueous acid, the epoxide opens to a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glycol</a:t>
            </a:r>
            <a:r>
              <a:rPr b="0" lang="en-US" sz="2000" spc="-1" strike="noStrike">
                <a:solidFill>
                  <a:srgbClr val="0e0d0e"/>
                </a:solidFill>
                <a:latin typeface="Times New Roman"/>
                <a:ea typeface="Times New Roman"/>
              </a:rPr>
              <a:t>. Because of its desirable solubility properties, </a:t>
            </a:r>
            <a:r>
              <a:rPr b="0" lang="en-US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meta-chloroperoxybenzoic acid </a:t>
            </a:r>
            <a:r>
              <a:rPr b="0" lang="en-US" sz="2000" spc="-1" strike="noStrike">
                <a:solidFill>
                  <a:srgbClr val="0e0d0e"/>
                </a:solidFill>
                <a:latin typeface="Times New Roman"/>
                <a:ea typeface="Times New Roman"/>
              </a:rPr>
              <a:t>(MCPBA) is often used for these epoxid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9" name="Picture 15" descr=""/>
          <p:cNvPicPr/>
          <p:nvPr/>
        </p:nvPicPr>
        <p:blipFill>
          <a:blip r:embed="rId1"/>
          <a:stretch/>
        </p:blipFill>
        <p:spPr>
          <a:xfrm>
            <a:off x="971640" y="3505320"/>
            <a:ext cx="7704000" cy="974520"/>
          </a:xfrm>
          <a:prstGeom prst="rect">
            <a:avLst/>
          </a:prstGeom>
          <a:ln w="0">
            <a:noFill/>
          </a:ln>
        </p:spPr>
      </p:pic>
      <p:pic>
        <p:nvPicPr>
          <p:cNvPr id="1220" name="Picture 16" descr=""/>
          <p:cNvPicPr/>
          <p:nvPr/>
        </p:nvPicPr>
        <p:blipFill>
          <a:blip r:embed="rId2"/>
          <a:stretch/>
        </p:blipFill>
        <p:spPr>
          <a:xfrm>
            <a:off x="2367000" y="4543560"/>
            <a:ext cx="3816360" cy="2390760"/>
          </a:xfrm>
          <a:prstGeom prst="rect">
            <a:avLst/>
          </a:prstGeom>
          <a:ln w="0">
            <a:noFill/>
          </a:ln>
        </p:spPr>
      </p:pic>
      <p:sp>
        <p:nvSpPr>
          <p:cNvPr id="1221" name="Rectangle 17"/>
          <p:cNvSpPr/>
          <p:nvPr/>
        </p:nvSpPr>
        <p:spPr>
          <a:xfrm>
            <a:off x="279720" y="4420800"/>
            <a:ext cx="13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2" name="Picture 4" descr="ksulogo2.png"/>
          <p:cNvPicPr/>
          <p:nvPr/>
        </p:nvPicPr>
        <p:blipFill>
          <a:blip r:embed="rId3"/>
          <a:stretch/>
        </p:blipFill>
        <p:spPr>
          <a:xfrm>
            <a:off x="152280" y="76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1223" name="Picture 5" descr="images.jpeg"/>
          <p:cNvPicPr/>
          <p:nvPr/>
        </p:nvPicPr>
        <p:blipFill>
          <a:blip r:embed="rId4"/>
          <a:stretch/>
        </p:blipFill>
        <p:spPr>
          <a:xfrm>
            <a:off x="7848720" y="0"/>
            <a:ext cx="1066680" cy="1001880"/>
          </a:xfrm>
          <a:prstGeom prst="rect">
            <a:avLst/>
          </a:prstGeom>
          <a:ln w="0">
            <a:noFill/>
          </a:ln>
        </p:spPr>
      </p:pic>
      <p:sp>
        <p:nvSpPr>
          <p:cNvPr id="1224" name="Straight Connector 10"/>
          <p:cNvSpPr/>
          <p:nvPr/>
        </p:nvSpPr>
        <p:spPr>
          <a:xfrm>
            <a:off x="457200" y="914400"/>
            <a:ext cx="8305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Rectangle 11"/>
          <p:cNvSpPr/>
          <p:nvPr/>
        </p:nvSpPr>
        <p:spPr>
          <a:xfrm>
            <a:off x="2770200" y="380880"/>
            <a:ext cx="281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alatino Linotype"/>
                <a:ea typeface="Tahoma"/>
              </a:rPr>
              <a:t>Ethers and Epox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9132C-A3CF-42F6-AE18-1E14ADFCE69B}" type="slidenum">
              <a:rPr b="0" lang="en-US" sz="1200" spc="-1" strike="noStrike">
                <a:solidFill>
                  <a:srgbClr val="59595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Rectangle 1"/>
          <p:cNvSpPr/>
          <p:nvPr/>
        </p:nvSpPr>
        <p:spPr>
          <a:xfrm>
            <a:off x="0" y="99072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poxides are much more reactive than common dialkyl ether, because of the strain in the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hree-membered r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which is relieved when the epoxide ring is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pen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fter a reaction has taken plac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 of ring-opening reactions(cleavage carbon-oxygen bond) of ethylene oxide that form commercially important products a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Rectangle 2"/>
          <p:cNvSpPr/>
          <p:nvPr/>
        </p:nvSpPr>
        <p:spPr>
          <a:xfrm>
            <a:off x="138240" y="3962520"/>
            <a:ext cx="8777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- </a:t>
            </a:r>
            <a:r>
              <a:rPr b="0" lang="en-US" sz="2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Acid –Catalyzed ring opening of  epoxides in water </a:t>
            </a:r>
            <a:r>
              <a:rPr b="0" lang="en-US" sz="2400" spc="-1" strike="noStrike">
                <a:solidFill>
                  <a:srgbClr val="0c0c0f"/>
                </a:solidFill>
                <a:latin typeface="Times New Roman"/>
                <a:ea typeface="Times New Roman"/>
              </a:rPr>
              <a:t>to form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glycols</a:t>
            </a:r>
            <a:r>
              <a:rPr b="0" lang="en-US" sz="2400" spc="-1" strike="noStrike">
                <a:solidFill>
                  <a:srgbClr val="0c0c0f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9" name="Object 11"/>
          <p:cNvGraphicFramePr/>
          <p:nvPr/>
        </p:nvGraphicFramePr>
        <p:xfrm>
          <a:off x="1154160" y="4495680"/>
          <a:ext cx="6770520" cy="172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0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54160" y="4495680"/>
                    <a:ext cx="6770520" cy="172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31" name="Picture 4" descr="ksulogo2.png"/>
          <p:cNvPicPr/>
          <p:nvPr/>
        </p:nvPicPr>
        <p:blipFill>
          <a:blip r:embed="rId3"/>
          <a:stretch/>
        </p:blipFill>
        <p:spPr>
          <a:xfrm>
            <a:off x="152280" y="76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1232" name="Picture 5" descr="images.jpeg"/>
          <p:cNvPicPr/>
          <p:nvPr/>
        </p:nvPicPr>
        <p:blipFill>
          <a:blip r:embed="rId4"/>
          <a:stretch/>
        </p:blipFill>
        <p:spPr>
          <a:xfrm>
            <a:off x="7848720" y="0"/>
            <a:ext cx="1066680" cy="1001880"/>
          </a:xfrm>
          <a:prstGeom prst="rect">
            <a:avLst/>
          </a:prstGeom>
          <a:ln w="0">
            <a:noFill/>
          </a:ln>
        </p:spPr>
      </p:pic>
      <p:sp>
        <p:nvSpPr>
          <p:cNvPr id="1233" name="Straight Connector 8"/>
          <p:cNvSpPr/>
          <p:nvPr/>
        </p:nvSpPr>
        <p:spPr>
          <a:xfrm>
            <a:off x="457200" y="914400"/>
            <a:ext cx="8305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Rectangle 9"/>
          <p:cNvSpPr/>
          <p:nvPr/>
        </p:nvSpPr>
        <p:spPr>
          <a:xfrm>
            <a:off x="2770200" y="380880"/>
            <a:ext cx="281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alatino Linotype"/>
                <a:ea typeface="Tahoma"/>
              </a:rPr>
              <a:t>Ethers and Epox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96213-3922-4C28-B6A2-B8B25A3FE149}" type="slidenum">
              <a:rPr b="0" lang="en-US" sz="1200" spc="-1" strike="noStrike">
                <a:solidFill>
                  <a:srgbClr val="59595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Rectangle 4"/>
          <p:cNvSpPr/>
          <p:nvPr/>
        </p:nvSpPr>
        <p:spPr>
          <a:xfrm>
            <a:off x="117360" y="1222200"/>
            <a:ext cx="8950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e0f13"/>
                </a:solidFill>
                <a:latin typeface="Times New Roman"/>
                <a:ea typeface="Times New Roman"/>
              </a:rPr>
              <a:t>2- </a:t>
            </a:r>
            <a:r>
              <a:rPr b="0" lang="en-US" sz="2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Acid –Catalyzed ring opening of  epoxides in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lcohol </a:t>
            </a:r>
            <a:r>
              <a:rPr b="0" lang="en-US" sz="2400" spc="-1" strike="noStrike">
                <a:solidFill>
                  <a:srgbClr val="0e0f13"/>
                </a:solidFill>
                <a:latin typeface="Times New Roman"/>
                <a:ea typeface="Times New Roman"/>
              </a:rPr>
              <a:t>to form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lkoxy alcoh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Rectangle 5"/>
          <p:cNvSpPr/>
          <p:nvPr/>
        </p:nvSpPr>
        <p:spPr>
          <a:xfrm>
            <a:off x="117360" y="3193200"/>
            <a:ext cx="9026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0c0e"/>
                </a:solidFill>
                <a:latin typeface="Times New Roman"/>
                <a:ea typeface="Times New Roman"/>
              </a:rPr>
              <a:t>3- </a:t>
            </a:r>
            <a:r>
              <a:rPr b="0" lang="en-US" sz="2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Acid –Catalyzed ring opening of  epoxides  </a:t>
            </a:r>
            <a:r>
              <a:rPr b="0" lang="en-US" sz="2400" spc="-1" strike="noStrike">
                <a:solidFill>
                  <a:srgbClr val="0c0c0e"/>
                </a:solidFill>
                <a:latin typeface="Times New Roman"/>
                <a:ea typeface="Times New Roman"/>
              </a:rPr>
              <a:t> with a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ydrohalic acid</a:t>
            </a:r>
            <a:r>
              <a:rPr b="0" lang="en-US" sz="2400" spc="-1" strike="noStrike">
                <a:solidFill>
                  <a:srgbClr val="0c0c0e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0c0e"/>
                </a:solidFill>
                <a:latin typeface="Times New Roman"/>
                <a:ea typeface="Times New Roman"/>
              </a:rPr>
              <a:t>(HCl, HBr, or HI), a halide ion attacks the protonated epoxide to give halo alcohol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Espace réservé du numéro de diapositive 10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7CD92-0734-45D4-98DC-225D21C49937}" type="slidenum">
              <a:rPr b="0" lang="ar-SA" sz="1200" spc="-1" strike="noStrike">
                <a:solidFill>
                  <a:srgbClr val="045c75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9" name="Object 14"/>
          <p:cNvGraphicFramePr/>
          <p:nvPr/>
        </p:nvGraphicFramePr>
        <p:xfrm>
          <a:off x="1371600" y="4871880"/>
          <a:ext cx="6665760" cy="122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0" name="Object 1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4871880"/>
                    <a:ext cx="6665760" cy="12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41" name="Object 16"/>
          <p:cNvGraphicFramePr/>
          <p:nvPr/>
        </p:nvGraphicFramePr>
        <p:xfrm>
          <a:off x="985680" y="1984320"/>
          <a:ext cx="7662960" cy="1368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42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85680" y="1984320"/>
                    <a:ext cx="7662960" cy="13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43" name="Picture 4" descr="ksulogo2.png"/>
          <p:cNvPicPr/>
          <p:nvPr/>
        </p:nvPicPr>
        <p:blipFill>
          <a:blip r:embed="rId5"/>
          <a:stretch/>
        </p:blipFill>
        <p:spPr>
          <a:xfrm>
            <a:off x="152280" y="76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1244" name="Picture 5" descr="images.jpeg"/>
          <p:cNvPicPr/>
          <p:nvPr/>
        </p:nvPicPr>
        <p:blipFill>
          <a:blip r:embed="rId6"/>
          <a:stretch/>
        </p:blipFill>
        <p:spPr>
          <a:xfrm>
            <a:off x="7848720" y="0"/>
            <a:ext cx="1066680" cy="1001880"/>
          </a:xfrm>
          <a:prstGeom prst="rect">
            <a:avLst/>
          </a:prstGeom>
          <a:ln w="0">
            <a:noFill/>
          </a:ln>
        </p:spPr>
      </p:pic>
      <p:sp>
        <p:nvSpPr>
          <p:cNvPr id="1245" name="Straight Connector 12"/>
          <p:cNvSpPr/>
          <p:nvPr/>
        </p:nvSpPr>
        <p:spPr>
          <a:xfrm>
            <a:off x="457200" y="914400"/>
            <a:ext cx="8305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Rectangle 13"/>
          <p:cNvSpPr/>
          <p:nvPr/>
        </p:nvSpPr>
        <p:spPr>
          <a:xfrm>
            <a:off x="2770200" y="380880"/>
            <a:ext cx="281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alatino Linotype"/>
                <a:ea typeface="Tahoma"/>
              </a:rPr>
              <a:t>Ethers and Epox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Rectangle 8"/>
          <p:cNvSpPr/>
          <p:nvPr/>
        </p:nvSpPr>
        <p:spPr>
          <a:xfrm>
            <a:off x="357120" y="1371600"/>
            <a:ext cx="8504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- </a:t>
            </a:r>
            <a:r>
              <a:rPr b="0" lang="en-US" sz="2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Ring opening of  epoxides with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Grignard and Organolithium Reagen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giv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longer  alcoh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8" name="Object 1"/>
          <p:cNvGraphicFramePr/>
          <p:nvPr/>
        </p:nvGraphicFramePr>
        <p:xfrm>
          <a:off x="685800" y="2438280"/>
          <a:ext cx="6192720" cy="124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9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438280"/>
                    <a:ext cx="6192720" cy="124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50" name="Picture 4" descr="ksulogo2.png"/>
          <p:cNvPicPr/>
          <p:nvPr/>
        </p:nvPicPr>
        <p:blipFill>
          <a:blip r:embed="rId3"/>
          <a:stretch/>
        </p:blipFill>
        <p:spPr>
          <a:xfrm>
            <a:off x="152280" y="76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1251" name="Picture 5" descr="images.jpeg"/>
          <p:cNvPicPr/>
          <p:nvPr/>
        </p:nvPicPr>
        <p:blipFill>
          <a:blip r:embed="rId4"/>
          <a:stretch/>
        </p:blipFill>
        <p:spPr>
          <a:xfrm>
            <a:off x="7848720" y="0"/>
            <a:ext cx="1066680" cy="1001880"/>
          </a:xfrm>
          <a:prstGeom prst="rect">
            <a:avLst/>
          </a:prstGeom>
          <a:ln w="0">
            <a:noFill/>
          </a:ln>
        </p:spPr>
      </p:pic>
      <p:sp>
        <p:nvSpPr>
          <p:cNvPr id="1252" name="Straight Connector 5"/>
          <p:cNvSpPr/>
          <p:nvPr/>
        </p:nvSpPr>
        <p:spPr>
          <a:xfrm>
            <a:off x="457200" y="914400"/>
            <a:ext cx="8305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Rectangle 6"/>
          <p:cNvSpPr/>
          <p:nvPr/>
        </p:nvSpPr>
        <p:spPr>
          <a:xfrm>
            <a:off x="2770200" y="380880"/>
            <a:ext cx="281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alatino Linotype"/>
                <a:ea typeface="Tahoma"/>
              </a:rPr>
              <a:t>Ethers and Epox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Rectangle 8"/>
          <p:cNvSpPr/>
          <p:nvPr/>
        </p:nvSpPr>
        <p:spPr>
          <a:xfrm>
            <a:off x="355680" y="4040280"/>
            <a:ext cx="850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- </a:t>
            </a:r>
            <a:r>
              <a:rPr b="0" lang="en-US" sz="2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Ring opening of  epoxides with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m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5" name="Object 9"/>
          <p:cNvGraphicFramePr/>
          <p:nvPr/>
        </p:nvGraphicFramePr>
        <p:xfrm>
          <a:off x="380880" y="4648320"/>
          <a:ext cx="8001000" cy="13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56" name="Object 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80880" y="4648320"/>
                    <a:ext cx="8001000" cy="13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7" name="Slide Number Placeholder 10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CD595-CF66-418C-98F5-F4E65B96AB11}" type="slidenum">
              <a:rPr b="0" lang="en-US" sz="1200" spc="-1" strike="noStrike">
                <a:solidFill>
                  <a:srgbClr val="59595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Rectangle 1"/>
          <p:cNvSpPr/>
          <p:nvPr/>
        </p:nvSpPr>
        <p:spPr>
          <a:xfrm>
            <a:off x="34920" y="1162080"/>
            <a:ext cx="878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70c0"/>
                </a:solidFill>
                <a:uFillTx/>
                <a:latin typeface="Times New Roman"/>
                <a:ea typeface="Times New Roman"/>
              </a:rPr>
              <a:t>Exercis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 a correct name for each of the following comp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9" name="Image 6" descr=""/>
          <p:cNvPicPr/>
          <p:nvPr/>
        </p:nvPicPr>
        <p:blipFill>
          <a:blip r:embed="rId1"/>
          <a:stretch/>
        </p:blipFill>
        <p:spPr>
          <a:xfrm>
            <a:off x="324000" y="2438280"/>
            <a:ext cx="6337080" cy="2514600"/>
          </a:xfrm>
          <a:prstGeom prst="rect">
            <a:avLst/>
          </a:prstGeom>
          <a:ln w="0">
            <a:noFill/>
          </a:ln>
        </p:spPr>
      </p:pic>
      <p:sp>
        <p:nvSpPr>
          <p:cNvPr id="1260" name="Rectangle 1"/>
          <p:cNvSpPr/>
          <p:nvPr/>
        </p:nvSpPr>
        <p:spPr>
          <a:xfrm>
            <a:off x="34920" y="4829040"/>
            <a:ext cx="9109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 u="sng">
                <a:solidFill>
                  <a:srgbClr val="0070c0"/>
                </a:solidFill>
                <a:uFillTx/>
                <a:latin typeface="Times New Roman"/>
                <a:ea typeface="Times New Roman"/>
              </a:rPr>
              <a:t>Exercice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ose a Williamson synthesis of 3-butoxy-1,1-dimethylcyclohexane from 3,3-dimethylcyclohexanol and butan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1" name="Picture 4" descr="ksulogo2.png"/>
          <p:cNvPicPr/>
          <p:nvPr/>
        </p:nvPicPr>
        <p:blipFill>
          <a:blip r:embed="rId2"/>
          <a:stretch/>
        </p:blipFill>
        <p:spPr>
          <a:xfrm>
            <a:off x="152280" y="76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1262" name="Picture 5" descr="images.jpeg"/>
          <p:cNvPicPr/>
          <p:nvPr/>
        </p:nvPicPr>
        <p:blipFill>
          <a:blip r:embed="rId3"/>
          <a:stretch/>
        </p:blipFill>
        <p:spPr>
          <a:xfrm>
            <a:off x="7848720" y="0"/>
            <a:ext cx="1066680" cy="1001880"/>
          </a:xfrm>
          <a:prstGeom prst="rect">
            <a:avLst/>
          </a:prstGeom>
          <a:ln w="0">
            <a:noFill/>
          </a:ln>
        </p:spPr>
      </p:pic>
      <p:sp>
        <p:nvSpPr>
          <p:cNvPr id="1263" name="Straight Connector 9"/>
          <p:cNvSpPr/>
          <p:nvPr/>
        </p:nvSpPr>
        <p:spPr>
          <a:xfrm>
            <a:off x="457200" y="914400"/>
            <a:ext cx="8305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Rectangle 10"/>
          <p:cNvSpPr/>
          <p:nvPr/>
        </p:nvSpPr>
        <p:spPr>
          <a:xfrm>
            <a:off x="2770200" y="380880"/>
            <a:ext cx="281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alatino Linotype"/>
                <a:ea typeface="Tahoma"/>
              </a:rPr>
              <a:t>Ethers and Epox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DDDA9-4210-4AE4-B7F1-114314ED0C4A}" type="slidenum">
              <a:rPr b="0" lang="en-US" sz="1200" spc="-1" strike="noStrike">
                <a:solidFill>
                  <a:srgbClr val="59595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Rectangle 2"/>
          <p:cNvSpPr/>
          <p:nvPr/>
        </p:nvSpPr>
        <p:spPr>
          <a:xfrm>
            <a:off x="0" y="1066680"/>
            <a:ext cx="882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70c0"/>
                </a:solidFill>
                <a:uFillTx/>
                <a:latin typeface="Times New Roman"/>
                <a:ea typeface="Times New Roman"/>
              </a:rPr>
              <a:t>Exercise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dict the products of the following reac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67" name="Object 8"/>
          <p:cNvGraphicFramePr/>
          <p:nvPr/>
        </p:nvGraphicFramePr>
        <p:xfrm>
          <a:off x="228600" y="2209680"/>
          <a:ext cx="8259840" cy="417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8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209680"/>
                    <a:ext cx="8259840" cy="41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69" name="Picture 4" descr="ksulogo2.png"/>
          <p:cNvPicPr/>
          <p:nvPr/>
        </p:nvPicPr>
        <p:blipFill>
          <a:blip r:embed="rId3"/>
          <a:stretch/>
        </p:blipFill>
        <p:spPr>
          <a:xfrm>
            <a:off x="152280" y="76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1270" name="Picture 5" descr="images.jpeg"/>
          <p:cNvPicPr/>
          <p:nvPr/>
        </p:nvPicPr>
        <p:blipFill>
          <a:blip r:embed="rId4"/>
          <a:stretch/>
        </p:blipFill>
        <p:spPr>
          <a:xfrm>
            <a:off x="7848720" y="0"/>
            <a:ext cx="1066680" cy="1001880"/>
          </a:xfrm>
          <a:prstGeom prst="rect">
            <a:avLst/>
          </a:prstGeom>
          <a:ln w="0">
            <a:noFill/>
          </a:ln>
        </p:spPr>
      </p:pic>
      <p:sp>
        <p:nvSpPr>
          <p:cNvPr id="1271" name="Straight Connector 8"/>
          <p:cNvSpPr/>
          <p:nvPr/>
        </p:nvSpPr>
        <p:spPr>
          <a:xfrm>
            <a:off x="457200" y="914400"/>
            <a:ext cx="8305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Rectangle 10"/>
          <p:cNvSpPr/>
          <p:nvPr/>
        </p:nvSpPr>
        <p:spPr>
          <a:xfrm>
            <a:off x="2770200" y="380880"/>
            <a:ext cx="281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alatino Linotype"/>
                <a:ea typeface="Tahoma"/>
              </a:rPr>
              <a:t>Ethers and Epox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71CB0-DE8F-444A-AB69-F5BF64A17425}" type="slidenum">
              <a:rPr b="0" lang="en-US" sz="1200" spc="-1" strike="noStrike">
                <a:solidFill>
                  <a:srgbClr val="59595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290ab"/>
                </a:solidFill>
                <a:latin typeface="Palatino Linotype"/>
              </a:rPr>
              <a:t>Thank You for your kind attention !</a:t>
            </a:r>
            <a:endParaRPr b="0" lang="en-US" sz="28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75" name="PlaceHolder 2"/>
          <p:cNvSpPr>
            <a:spLocks noGrp="1"/>
          </p:cNvSpPr>
          <p:nvPr>
            <p:ph type="subTitle"/>
          </p:nvPr>
        </p:nvSpPr>
        <p:spPr>
          <a:xfrm>
            <a:off x="2666880" y="2819160"/>
            <a:ext cx="3695760" cy="191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Questions?</a:t>
            </a:r>
            <a:endParaRPr b="0" lang="en-US" sz="4000" spc="-1" strike="noStrike">
              <a:solidFill>
                <a:srgbClr val="7f7f7f"/>
              </a:solidFill>
              <a:latin typeface="Century Gothic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Comments</a:t>
            </a:r>
            <a:endParaRPr b="0" lang="en-US" sz="4000" spc="-1" strike="noStrike">
              <a:solidFill>
                <a:srgbClr val="7f7f7f"/>
              </a:solidFill>
              <a:latin typeface="Century Gothic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76" name="Slide Number Placeholder 2"/>
          <p:cNvSpPr/>
          <p:nvPr/>
        </p:nvSpPr>
        <p:spPr>
          <a:xfrm>
            <a:off x="854388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4572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9EFD2-5990-4A5F-B8E7-0B8BE2DA52EB}" type="slidenum">
              <a:rPr b="0" lang="en-US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7" name="Picture 4" descr="ksulogo2.png"/>
          <p:cNvPicPr/>
          <p:nvPr/>
        </p:nvPicPr>
        <p:blipFill>
          <a:blip r:embed="rId1"/>
          <a:stretch/>
        </p:blipFill>
        <p:spPr>
          <a:xfrm>
            <a:off x="152280" y="76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1278" name="Picture 5" descr="images.jpeg"/>
          <p:cNvPicPr/>
          <p:nvPr/>
        </p:nvPicPr>
        <p:blipFill>
          <a:blip r:embed="rId2"/>
          <a:stretch/>
        </p:blipFill>
        <p:spPr>
          <a:xfrm>
            <a:off x="7848720" y="0"/>
            <a:ext cx="1066680" cy="1001880"/>
          </a:xfrm>
          <a:prstGeom prst="rect">
            <a:avLst/>
          </a:prstGeom>
          <a:ln w="0">
            <a:noFill/>
          </a:ln>
        </p:spPr>
      </p:pic>
      <p:sp>
        <p:nvSpPr>
          <p:cNvPr id="1279" name="Straight Connector 10"/>
          <p:cNvSpPr/>
          <p:nvPr/>
        </p:nvSpPr>
        <p:spPr>
          <a:xfrm>
            <a:off x="457200" y="914400"/>
            <a:ext cx="8305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Rectangle 13"/>
          <p:cNvSpPr/>
          <p:nvPr/>
        </p:nvSpPr>
        <p:spPr>
          <a:xfrm>
            <a:off x="2770200" y="380880"/>
            <a:ext cx="281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alatino Linotype"/>
                <a:ea typeface="Tahoma"/>
              </a:rPr>
              <a:t>Ethers and Epox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-360" y="1066320"/>
            <a:ext cx="2895480" cy="38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Learning Objectiv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8" name="Rectangle 9"/>
          <p:cNvSpPr/>
          <p:nvPr/>
        </p:nvSpPr>
        <p:spPr>
          <a:xfrm>
            <a:off x="0" y="1459440"/>
            <a:ext cx="9144000" cy="425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Chapter seven discusses the following topics and by the end of this chapter the students wil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504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now the structure  of eth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504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now the different methods of naming eth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504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now the physical properties of ethers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504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now the different methods used in preparation of ethe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504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now the reactions of opened ethers with HX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504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now the different methods used in synthesis of epoxid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504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now the reactions of epoxides with different nucleophiles such as  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, ROH, HX, Grignard and organolithium eagen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c0504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9" name="Picture 4" descr="ksulogo2.png"/>
          <p:cNvPicPr/>
          <p:nvPr/>
        </p:nvPicPr>
        <p:blipFill>
          <a:blip r:embed="rId1"/>
          <a:stretch/>
        </p:blipFill>
        <p:spPr>
          <a:xfrm>
            <a:off x="152280" y="76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1110" name="Picture 5" descr="images.jpeg"/>
          <p:cNvPicPr/>
          <p:nvPr/>
        </p:nvPicPr>
        <p:blipFill>
          <a:blip r:embed="rId2"/>
          <a:stretch/>
        </p:blipFill>
        <p:spPr>
          <a:xfrm>
            <a:off x="7848720" y="0"/>
            <a:ext cx="1066680" cy="1001880"/>
          </a:xfrm>
          <a:prstGeom prst="rect">
            <a:avLst/>
          </a:prstGeom>
          <a:ln w="0">
            <a:noFill/>
          </a:ln>
        </p:spPr>
      </p:pic>
      <p:sp>
        <p:nvSpPr>
          <p:cNvPr id="1111" name="Straight Connector 5"/>
          <p:cNvSpPr/>
          <p:nvPr/>
        </p:nvSpPr>
        <p:spPr>
          <a:xfrm>
            <a:off x="457200" y="914400"/>
            <a:ext cx="8305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Rectangle 8"/>
          <p:cNvSpPr/>
          <p:nvPr/>
        </p:nvSpPr>
        <p:spPr>
          <a:xfrm>
            <a:off x="2770200" y="380880"/>
            <a:ext cx="281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alatino Linotype"/>
                <a:ea typeface="Tahoma"/>
              </a:rPr>
              <a:t>Ethers and Epox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F1229-0DF0-4F3B-86D8-E9D990110C54}" type="slidenum">
              <a:rPr b="0" lang="en-US" sz="1200" spc="-1" strike="noStrike">
                <a:solidFill>
                  <a:srgbClr val="59595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Rectangle 4"/>
          <p:cNvSpPr/>
          <p:nvPr/>
        </p:nvSpPr>
        <p:spPr>
          <a:xfrm>
            <a:off x="10800" y="1295280"/>
            <a:ext cx="286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Structure  Of Et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Rectangle 5"/>
          <p:cNvSpPr/>
          <p:nvPr/>
        </p:nvSpPr>
        <p:spPr>
          <a:xfrm>
            <a:off x="0" y="1752480"/>
            <a:ext cx="9144000" cy="51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Ether: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 class of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"/>
              </a:rPr>
              <a:t>organic compounds</a:t>
            </a:r>
            <a:r>
              <a:rPr b="1" lang="en-US" sz="20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which an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2"/>
              </a:rPr>
              <a:t>oxyge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3"/>
              </a:rPr>
              <a:t>atom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nected to two organic groups (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4"/>
              </a:rPr>
              <a:t>alkyl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5"/>
              </a:rPr>
              <a:t>aryl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</a:t>
            </a:r>
            <a:r>
              <a:rPr b="1" lang="en-US" sz="2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benzene ring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 by σ bonds. thus Ethers are compounds of general formula R–O–R or Ar–O–Ar or  Ar–O–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Nomenclature  Of Ethe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c0504d"/>
                </a:solidFill>
                <a:uFillTx/>
                <a:latin typeface="Times New Roman"/>
                <a:ea typeface="Times New Roman"/>
              </a:rPr>
              <a:t>Common nam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ommon names of ethers are derived by naming the  alkyl groups bonded to the oxygen then listing them in alphabetical order followed by the word "ether"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c8c93"/>
                </a:solidFill>
                <a:uFillTx/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c0504d"/>
                </a:solidFill>
                <a:uFillTx/>
                <a:latin typeface="Times New Roman"/>
                <a:ea typeface="Times New Roman"/>
              </a:rPr>
              <a:t>IUPAC nam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ther functional group does not have a characteristic IUPAC nomenclature suffix, so it is necessary to designate the smaller alkyl group as an alkoxy substituent of a parent compound (alkane , or alkene, or alkyne,or alcohol,----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6" name="Image 1" descr=""/>
          <p:cNvPicPr/>
          <p:nvPr/>
        </p:nvPicPr>
        <p:blipFill>
          <a:blip r:embed="rId6"/>
          <a:stretch/>
        </p:blipFill>
        <p:spPr>
          <a:xfrm>
            <a:off x="2268360" y="2908440"/>
            <a:ext cx="5545440" cy="749160"/>
          </a:xfrm>
          <a:prstGeom prst="rect">
            <a:avLst/>
          </a:prstGeom>
          <a:ln w="0">
            <a:noFill/>
          </a:ln>
        </p:spPr>
      </p:pic>
      <p:pic>
        <p:nvPicPr>
          <p:cNvPr id="1117" name="Picture 4" descr="ksulogo2.png"/>
          <p:cNvPicPr/>
          <p:nvPr/>
        </p:nvPicPr>
        <p:blipFill>
          <a:blip r:embed="rId7"/>
          <a:stretch/>
        </p:blipFill>
        <p:spPr>
          <a:xfrm>
            <a:off x="152280" y="76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1118" name="Picture 5" descr="images.jpeg"/>
          <p:cNvPicPr/>
          <p:nvPr/>
        </p:nvPicPr>
        <p:blipFill>
          <a:blip r:embed="rId8"/>
          <a:stretch/>
        </p:blipFill>
        <p:spPr>
          <a:xfrm>
            <a:off x="7848720" y="0"/>
            <a:ext cx="1066680" cy="1001880"/>
          </a:xfrm>
          <a:prstGeom prst="rect">
            <a:avLst/>
          </a:prstGeom>
          <a:ln w="0">
            <a:noFill/>
          </a:ln>
        </p:spPr>
      </p:pic>
      <p:sp>
        <p:nvSpPr>
          <p:cNvPr id="1119" name="Straight Connector 8"/>
          <p:cNvSpPr/>
          <p:nvPr/>
        </p:nvSpPr>
        <p:spPr>
          <a:xfrm>
            <a:off x="457200" y="914400"/>
            <a:ext cx="8305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Rectangle 9"/>
          <p:cNvSpPr/>
          <p:nvPr/>
        </p:nvSpPr>
        <p:spPr>
          <a:xfrm>
            <a:off x="2770200" y="380880"/>
            <a:ext cx="281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alatino Linotype"/>
                <a:ea typeface="Tahoma"/>
              </a:rPr>
              <a:t>Ethers and Epox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3F733-B746-449C-8DE9-8D79FB22242D}" type="slidenum">
              <a:rPr b="0" lang="en-US" sz="1200" spc="-1" strike="noStrike">
                <a:solidFill>
                  <a:srgbClr val="59595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22" name=""/>
          <p:cNvGraphicFramePr/>
          <p:nvPr/>
        </p:nvGraphicFramePr>
        <p:xfrm>
          <a:off x="685800" y="1981080"/>
          <a:ext cx="7772400" cy="4635720"/>
        </p:xfrm>
        <a:graphic>
          <a:graphicData uri="http://schemas.openxmlformats.org/drawingml/2006/table">
            <a:tbl>
              <a:tblPr/>
              <a:tblGrid>
                <a:gridCol w="1596960"/>
                <a:gridCol w="1960560"/>
                <a:gridCol w="1895400"/>
                <a:gridCol w="2319480"/>
              </a:tblGrid>
              <a:tr h="69876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800000"/>
                          </a:solidFill>
                          <a:latin typeface="Arial"/>
                          <a:ea typeface="Arial"/>
                        </a:rPr>
                        <a:t>Alkyl group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800000"/>
                          </a:solidFill>
                          <a:latin typeface="Arial"/>
                          <a:ea typeface="Arial"/>
                        </a:rPr>
                        <a:t>Nam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800000"/>
                          </a:solidFill>
                          <a:latin typeface="Arial"/>
                          <a:ea typeface="Arial"/>
                        </a:rPr>
                        <a:t>Alkoxy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800000"/>
                          </a:solidFill>
                          <a:latin typeface="Arial"/>
                          <a:ea typeface="Arial"/>
                        </a:rPr>
                        <a:t>Group Nam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787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H</a:t>
                      </a:r>
                      <a:r>
                        <a:rPr b="1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ethy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H</a:t>
                      </a:r>
                      <a:r>
                        <a:rPr b="1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ethox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7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H</a:t>
                      </a:r>
                      <a:r>
                        <a:rPr b="1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H</a:t>
                      </a:r>
                      <a:r>
                        <a:rPr b="1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thy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H</a:t>
                      </a:r>
                      <a:r>
                        <a:rPr b="1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H</a:t>
                      </a:r>
                      <a:r>
                        <a:rPr b="1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–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thox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91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CH</a:t>
                      </a:r>
                      <a:r>
                        <a:rPr b="1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)</a:t>
                      </a:r>
                      <a:r>
                        <a:rPr b="1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H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sopropy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CH</a:t>
                      </a:r>
                      <a:r>
                        <a:rPr b="1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)</a:t>
                      </a:r>
                      <a:r>
                        <a:rPr b="1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HO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–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sopropox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58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CH</a:t>
                      </a:r>
                      <a:r>
                        <a:rPr b="1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)</a:t>
                      </a:r>
                      <a:r>
                        <a:rPr b="1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t-Buty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CH</a:t>
                      </a:r>
                      <a:r>
                        <a:rPr b="1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)</a:t>
                      </a:r>
                      <a:r>
                        <a:rPr b="1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–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t-Butox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7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</a:t>
                      </a:r>
                      <a:r>
                        <a:rPr b="1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</a:t>
                      </a:r>
                      <a:r>
                        <a:rPr b="1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heny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</a:t>
                      </a:r>
                      <a:r>
                        <a:rPr b="1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</a:t>
                      </a:r>
                      <a:r>
                        <a:rPr b="1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–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henox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23" name="Rectangle 33"/>
          <p:cNvSpPr/>
          <p:nvPr/>
        </p:nvSpPr>
        <p:spPr>
          <a:xfrm>
            <a:off x="-5760" y="990720"/>
            <a:ext cx="9198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The common alkoxy substituents are given names derived from thei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alkyl compon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4" name="Picture 4" descr="ksulogo2.png"/>
          <p:cNvPicPr/>
          <p:nvPr/>
        </p:nvPicPr>
        <p:blipFill>
          <a:blip r:embed="rId1"/>
          <a:stretch/>
        </p:blipFill>
        <p:spPr>
          <a:xfrm>
            <a:off x="152280" y="76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1125" name="Picture 5" descr="images.jpeg"/>
          <p:cNvPicPr/>
          <p:nvPr/>
        </p:nvPicPr>
        <p:blipFill>
          <a:blip r:embed="rId2"/>
          <a:stretch/>
        </p:blipFill>
        <p:spPr>
          <a:xfrm>
            <a:off x="7848720" y="0"/>
            <a:ext cx="1066680" cy="1001880"/>
          </a:xfrm>
          <a:prstGeom prst="rect">
            <a:avLst/>
          </a:prstGeom>
          <a:ln w="0">
            <a:noFill/>
          </a:ln>
        </p:spPr>
      </p:pic>
      <p:sp>
        <p:nvSpPr>
          <p:cNvPr id="1126" name="Straight Connector 7"/>
          <p:cNvSpPr/>
          <p:nvPr/>
        </p:nvSpPr>
        <p:spPr>
          <a:xfrm>
            <a:off x="457200" y="914400"/>
            <a:ext cx="8305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Rectangle 9"/>
          <p:cNvSpPr/>
          <p:nvPr/>
        </p:nvSpPr>
        <p:spPr>
          <a:xfrm>
            <a:off x="2770200" y="380880"/>
            <a:ext cx="281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alatino Linotype"/>
                <a:ea typeface="Tahoma"/>
              </a:rPr>
              <a:t>Ethers and Epox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AEF39-0F12-47C0-91E8-81FFBF63FAC9}" type="slidenum">
              <a:rPr b="0" lang="en-US" sz="1200" spc="-1" strike="noStrike">
                <a:solidFill>
                  <a:srgbClr val="59595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TextBox 2"/>
          <p:cNvSpPr/>
          <p:nvPr/>
        </p:nvSpPr>
        <p:spPr>
          <a:xfrm>
            <a:off x="0" y="2284560"/>
            <a:ext cx="91440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f81bd"/>
                </a:solidFill>
                <a:latin typeface="Arial"/>
              </a:rPr>
              <a:t>Common    Dimethyl ether             Diethyl ether             Divinyl ether              Diphenyl eth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Arial"/>
              </a:rPr>
              <a:t>IUPA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c00000"/>
                </a:solidFill>
                <a:latin typeface="Arial"/>
              </a:rPr>
              <a:t>Methoxy methane      Ethoxy ethane                                    Phenoxy benze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TextBox 4"/>
          <p:cNvSpPr/>
          <p:nvPr/>
        </p:nvSpPr>
        <p:spPr>
          <a:xfrm>
            <a:off x="0" y="3944880"/>
            <a:ext cx="9677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Common  Hexyl methyl ether       Ethyl methyl ether   Ethyl vinyl ether   Methyl Phenyl ether                        </a:t>
            </a:r>
            <a:r>
              <a:rPr b="1" lang="en-US" sz="18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(aniso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IUPAC     Methoxy hexane              Methoxy ethane          Ethoxy ethene       Methoxy benze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TextBox 7"/>
          <p:cNvSpPr/>
          <p:nvPr/>
        </p:nvSpPr>
        <p:spPr>
          <a:xfrm>
            <a:off x="0" y="626256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IUPAC  3-Methoxyhexane                 5-Ethoxy-2-heptene                      Propenyloxy benze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2" name="Object 8"/>
          <p:cNvGraphicFramePr/>
          <p:nvPr/>
        </p:nvGraphicFramePr>
        <p:xfrm>
          <a:off x="838080" y="1295280"/>
          <a:ext cx="8153640" cy="83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3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295280"/>
                    <a:ext cx="8153640" cy="8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4" name="Object 9"/>
          <p:cNvGraphicFramePr/>
          <p:nvPr/>
        </p:nvGraphicFramePr>
        <p:xfrm>
          <a:off x="838080" y="3048120"/>
          <a:ext cx="8226720" cy="914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35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8080" y="3048120"/>
                    <a:ext cx="822672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6" name="Object 10"/>
          <p:cNvGraphicFramePr/>
          <p:nvPr/>
        </p:nvGraphicFramePr>
        <p:xfrm>
          <a:off x="457200" y="4815000"/>
          <a:ext cx="8520120" cy="1447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37" name="Object 1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" y="4815000"/>
                    <a:ext cx="8520120" cy="14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38" name="Picture 4" descr="ksulogo2.png"/>
          <p:cNvPicPr/>
          <p:nvPr/>
        </p:nvPicPr>
        <p:blipFill>
          <a:blip r:embed="rId7"/>
          <a:stretch/>
        </p:blipFill>
        <p:spPr>
          <a:xfrm>
            <a:off x="152280" y="76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1139" name="Picture 5" descr="images.jpeg"/>
          <p:cNvPicPr/>
          <p:nvPr/>
        </p:nvPicPr>
        <p:blipFill>
          <a:blip r:embed="rId8"/>
          <a:stretch/>
        </p:blipFill>
        <p:spPr>
          <a:xfrm>
            <a:off x="7848720" y="0"/>
            <a:ext cx="1066680" cy="1001880"/>
          </a:xfrm>
          <a:prstGeom prst="rect">
            <a:avLst/>
          </a:prstGeom>
          <a:ln w="0">
            <a:noFill/>
          </a:ln>
        </p:spPr>
      </p:pic>
      <p:sp>
        <p:nvSpPr>
          <p:cNvPr id="1140" name="Straight Connector 11"/>
          <p:cNvSpPr/>
          <p:nvPr/>
        </p:nvSpPr>
        <p:spPr>
          <a:xfrm>
            <a:off x="457200" y="914400"/>
            <a:ext cx="8305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Rectangle 13"/>
          <p:cNvSpPr/>
          <p:nvPr/>
        </p:nvSpPr>
        <p:spPr>
          <a:xfrm>
            <a:off x="2770200" y="380880"/>
            <a:ext cx="281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alatino Linotype"/>
                <a:ea typeface="Tahoma"/>
              </a:rPr>
              <a:t>Ethers and Epox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16260-C9FC-452B-811B-652F1171461A}" type="slidenum">
              <a:rPr b="0" lang="en-US" sz="1200" spc="-1" strike="noStrike">
                <a:solidFill>
                  <a:srgbClr val="59595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1828800" y="762120"/>
            <a:ext cx="5105520" cy="79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hysical Properties of Eth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4" name="Rectangle 1"/>
          <p:cNvSpPr/>
          <p:nvPr/>
        </p:nvSpPr>
        <p:spPr>
          <a:xfrm>
            <a:off x="0" y="1287720"/>
            <a:ext cx="9144000" cy="49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70c0"/>
                </a:solidFill>
                <a:uFillTx/>
                <a:latin typeface="Times New Roman"/>
                <a:ea typeface="Times New Roman"/>
              </a:rPr>
              <a:t>1) Boiling Poi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boiling points of </a:t>
            </a:r>
            <a:r>
              <a:rPr b="0" lang="en-US" sz="2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ether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re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low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han those of </a:t>
            </a:r>
            <a:r>
              <a:rPr b="0" lang="en-US" sz="2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alcohol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ving the same molecular weigh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70c0"/>
                </a:solidFill>
                <a:uFillTx/>
                <a:latin typeface="Times New Roman"/>
                <a:ea typeface="Times New Roman"/>
              </a:rPr>
              <a:t>2) Solubility in wat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thers are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much les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ble in water than alcohols (Because they don’t have –OH group, So they are not hydrogen bond donor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More water-solubl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an hydrocarbons of similar molecular weight (Because they are polar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5" name=""/>
          <p:cNvGraphicFramePr/>
          <p:nvPr/>
        </p:nvGraphicFramePr>
        <p:xfrm>
          <a:off x="326880" y="2895480"/>
          <a:ext cx="8425080" cy="1501920"/>
        </p:xfrm>
        <a:graphic>
          <a:graphicData uri="http://schemas.openxmlformats.org/drawingml/2006/table">
            <a:tbl>
              <a:tblPr/>
              <a:tblGrid>
                <a:gridCol w="2106720"/>
                <a:gridCol w="2862360"/>
                <a:gridCol w="1349280"/>
                <a:gridCol w="2106720"/>
              </a:tblGrid>
              <a:tr h="371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compou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Formul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MW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Bp (°C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3762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ethanol</a:t>
                      </a: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	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CH</a:t>
                      </a:r>
                      <a:r>
                        <a:rPr b="0" lang="fr-FR" sz="1600" spc="-1" strike="noStrike" baseline="-25000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3</a:t>
                      </a: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-CH</a:t>
                      </a:r>
                      <a:r>
                        <a:rPr b="0" lang="fr-FR" sz="1600" spc="-1" strike="noStrike" baseline="-25000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2</a:t>
                      </a: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-O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4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8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Dimethyl eth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CH</a:t>
                      </a:r>
                      <a:r>
                        <a:rPr b="0" lang="fr-FR" sz="1600" spc="-1" strike="noStrike" baseline="-25000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3</a:t>
                      </a: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-O-CH</a:t>
                      </a:r>
                      <a:r>
                        <a:rPr b="0" lang="fr-FR" sz="1600" spc="-1" strike="noStrike" baseline="-25000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4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-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2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propa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CH</a:t>
                      </a:r>
                      <a:r>
                        <a:rPr b="0" lang="fr-FR" sz="1600" spc="-1" strike="noStrike" baseline="-25000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3</a:t>
                      </a: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-CH</a:t>
                      </a:r>
                      <a:r>
                        <a:rPr b="0" lang="fr-FR" sz="1600" spc="-1" strike="noStrike" baseline="-25000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2</a:t>
                      </a: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-CH</a:t>
                      </a:r>
                      <a:r>
                        <a:rPr b="0" lang="fr-FR" sz="1600" spc="-1" strike="noStrike" baseline="-25000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4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-4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146" name="Picture 4" descr="ksulogo2.png"/>
          <p:cNvPicPr/>
          <p:nvPr/>
        </p:nvPicPr>
        <p:blipFill>
          <a:blip r:embed="rId1"/>
          <a:stretch/>
        </p:blipFill>
        <p:spPr>
          <a:xfrm>
            <a:off x="152280" y="76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1147" name="Picture 5" descr="images.jpeg"/>
          <p:cNvPicPr/>
          <p:nvPr/>
        </p:nvPicPr>
        <p:blipFill>
          <a:blip r:embed="rId2"/>
          <a:stretch/>
        </p:blipFill>
        <p:spPr>
          <a:xfrm>
            <a:off x="7848720" y="0"/>
            <a:ext cx="1066680" cy="1001880"/>
          </a:xfrm>
          <a:prstGeom prst="rect">
            <a:avLst/>
          </a:prstGeom>
          <a:ln w="0">
            <a:noFill/>
          </a:ln>
        </p:spPr>
      </p:pic>
      <p:sp>
        <p:nvSpPr>
          <p:cNvPr id="1148" name="Straight Connector 9"/>
          <p:cNvSpPr/>
          <p:nvPr/>
        </p:nvSpPr>
        <p:spPr>
          <a:xfrm>
            <a:off x="457200" y="914400"/>
            <a:ext cx="8305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Rectangle 10"/>
          <p:cNvSpPr/>
          <p:nvPr/>
        </p:nvSpPr>
        <p:spPr>
          <a:xfrm>
            <a:off x="2770200" y="380880"/>
            <a:ext cx="281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alatino Linotype"/>
                <a:ea typeface="Tahoma"/>
              </a:rPr>
              <a:t>Ethers and Epox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48B58-93DD-4CC9-B02C-44A3F6839821}" type="slidenum">
              <a:rPr b="0" lang="en-US" sz="1200" spc="-1" strike="noStrike">
                <a:solidFill>
                  <a:srgbClr val="59595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Text Box 6"/>
          <p:cNvSpPr/>
          <p:nvPr/>
        </p:nvSpPr>
        <p:spPr>
          <a:xfrm>
            <a:off x="0" y="1384200"/>
            <a:ext cx="8904240" cy="16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buClr>
                <a:srgbClr val="a50021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 u="sng">
                <a:solidFill>
                  <a:srgbClr val="a50021"/>
                </a:solidFill>
                <a:uFillTx/>
                <a:latin typeface="Times New Roman"/>
                <a:ea typeface="Times New Roman"/>
              </a:rPr>
              <a:t>Dehydration of alcohols:</a:t>
            </a:r>
            <a:r>
              <a:rPr b="1" lang="en-US" sz="24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(only Symmetric eth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ehydration of alcohol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kes place in the presence of </a:t>
            </a:r>
            <a:r>
              <a:rPr b="0" lang="en-US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acid catalys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H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H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under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ontrolled temperat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The general reaction for ether formation 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Rectangle 6"/>
          <p:cNvSpPr/>
          <p:nvPr/>
        </p:nvSpPr>
        <p:spPr>
          <a:xfrm>
            <a:off x="228600" y="914400"/>
            <a:ext cx="51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Preparation of Et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3" name="Image 2" descr=""/>
          <p:cNvPicPr/>
          <p:nvPr/>
        </p:nvPicPr>
        <p:blipFill>
          <a:blip r:embed="rId1"/>
          <a:stretch/>
        </p:blipFill>
        <p:spPr>
          <a:xfrm>
            <a:off x="2381400" y="2816280"/>
            <a:ext cx="4552920" cy="1003320"/>
          </a:xfrm>
          <a:prstGeom prst="rect">
            <a:avLst/>
          </a:prstGeom>
          <a:ln w="0">
            <a:noFill/>
          </a:ln>
        </p:spPr>
      </p:pic>
      <p:sp>
        <p:nvSpPr>
          <p:cNvPr id="1154" name="Rectangle 3"/>
          <p:cNvSpPr/>
          <p:nvPr/>
        </p:nvSpPr>
        <p:spPr>
          <a:xfrm>
            <a:off x="7560" y="3431160"/>
            <a:ext cx="145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70c0"/>
                </a:solidFill>
                <a:uFillTx/>
                <a:latin typeface="Times New Roman"/>
                <a:ea typeface="Times New Roman"/>
              </a:rPr>
              <a:t>Exa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5" name="Image 8" descr=""/>
          <p:cNvPicPr/>
          <p:nvPr/>
        </p:nvPicPr>
        <p:blipFill>
          <a:blip r:embed="rId2"/>
          <a:stretch/>
        </p:blipFill>
        <p:spPr>
          <a:xfrm>
            <a:off x="1066680" y="4076640"/>
            <a:ext cx="6248520" cy="2598840"/>
          </a:xfrm>
          <a:prstGeom prst="rect">
            <a:avLst/>
          </a:prstGeom>
          <a:ln w="0">
            <a:noFill/>
          </a:ln>
        </p:spPr>
      </p:pic>
      <p:sp>
        <p:nvSpPr>
          <p:cNvPr id="1156" name="Text Box 9"/>
          <p:cNvSpPr/>
          <p:nvPr/>
        </p:nvSpPr>
        <p:spPr>
          <a:xfrm>
            <a:off x="5106600" y="350532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symmetric e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7" name="Picture 4" descr="ksulogo2.png"/>
          <p:cNvPicPr/>
          <p:nvPr/>
        </p:nvPicPr>
        <p:blipFill>
          <a:blip r:embed="rId3"/>
          <a:stretch/>
        </p:blipFill>
        <p:spPr>
          <a:xfrm>
            <a:off x="152280" y="76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1158" name="Picture 5" descr="images.jpeg"/>
          <p:cNvPicPr/>
          <p:nvPr/>
        </p:nvPicPr>
        <p:blipFill>
          <a:blip r:embed="rId4"/>
          <a:stretch/>
        </p:blipFill>
        <p:spPr>
          <a:xfrm>
            <a:off x="7848720" y="0"/>
            <a:ext cx="1066680" cy="1001880"/>
          </a:xfrm>
          <a:prstGeom prst="rect">
            <a:avLst/>
          </a:prstGeom>
          <a:ln w="0">
            <a:noFill/>
          </a:ln>
        </p:spPr>
      </p:pic>
      <p:sp>
        <p:nvSpPr>
          <p:cNvPr id="1159" name="Straight Connector 11"/>
          <p:cNvSpPr/>
          <p:nvPr/>
        </p:nvSpPr>
        <p:spPr>
          <a:xfrm>
            <a:off x="457200" y="914400"/>
            <a:ext cx="8305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Rectangle 12"/>
          <p:cNvSpPr/>
          <p:nvPr/>
        </p:nvSpPr>
        <p:spPr>
          <a:xfrm>
            <a:off x="2770200" y="380880"/>
            <a:ext cx="281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alatino Linotype"/>
                <a:ea typeface="Tahoma"/>
              </a:rPr>
              <a:t>Ethers and Epox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4F6DC-32CE-4BFB-A98D-6EF2C4BFE5AD}" type="slidenum">
              <a:rPr b="0" lang="en-US" sz="1200" spc="-1" strike="noStrike">
                <a:solidFill>
                  <a:srgbClr val="59595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Cloud 4"/>
          <p:cNvSpPr/>
          <p:nvPr/>
        </p:nvSpPr>
        <p:spPr>
          <a:xfrm>
            <a:off x="-1440" y="5557680"/>
            <a:ext cx="5518080" cy="1224000"/>
          </a:xfrm>
          <a:custGeom>
            <a:avLst/>
            <a:gdLst/>
            <a:ahLst/>
            <a:rect l="l" t="t" r="r" b="b"/>
            <a:pathLst>
              <a:path w="43200" h="43200">
                <a:moveTo>
                  <a:pt x="3900" y="14370"/>
                </a:moveTo>
                <a:cubicBezTo>
                  <a:pt x="3629" y="11657"/>
                  <a:pt x="4261" y="8921"/>
                  <a:pt x="5623" y="6907"/>
                </a:cubicBezTo>
                <a:cubicBezTo>
                  <a:pt x="7775" y="3726"/>
                  <a:pt x="11264" y="3017"/>
                  <a:pt x="14005" y="5202"/>
                </a:cubicBezTo>
                <a:cubicBezTo>
                  <a:pt x="15678" y="909"/>
                  <a:pt x="19914" y="22"/>
                  <a:pt x="22456" y="3432"/>
                </a:cubicBezTo>
                <a:cubicBezTo>
                  <a:pt x="23097" y="1683"/>
                  <a:pt x="24328" y="474"/>
                  <a:pt x="25749" y="200"/>
                </a:cubicBezTo>
                <a:cubicBezTo>
                  <a:pt x="27313" y="-102"/>
                  <a:pt x="28875" y="770"/>
                  <a:pt x="29833" y="2481"/>
                </a:cubicBezTo>
                <a:cubicBezTo>
                  <a:pt x="31215" y="267"/>
                  <a:pt x="33501" y="-460"/>
                  <a:pt x="35463" y="690"/>
                </a:cubicBezTo>
                <a:cubicBezTo>
                  <a:pt x="36958" y="1566"/>
                  <a:pt x="38030" y="3400"/>
                  <a:pt x="38318" y="5576"/>
                </a:cubicBezTo>
                <a:cubicBezTo>
                  <a:pt x="40046" y="6218"/>
                  <a:pt x="41422" y="7998"/>
                  <a:pt x="41982" y="10318"/>
                </a:cubicBezTo>
                <a:cubicBezTo>
                  <a:pt x="42389" y="12002"/>
                  <a:pt x="42331" y="13831"/>
                  <a:pt x="41818" y="15460"/>
                </a:cubicBezTo>
                <a:cubicBezTo>
                  <a:pt x="43079" y="17694"/>
                  <a:pt x="43520" y="20590"/>
                  <a:pt x="43016" y="23322"/>
                </a:cubicBezTo>
                <a:cubicBezTo>
                  <a:pt x="42346" y="26954"/>
                  <a:pt x="40128" y="29674"/>
                  <a:pt x="37404" y="30204"/>
                </a:cubicBezTo>
                <a:cubicBezTo>
                  <a:pt x="37391" y="32471"/>
                  <a:pt x="36658" y="34621"/>
                  <a:pt x="35395" y="36101"/>
                </a:cubicBezTo>
                <a:cubicBezTo>
                  <a:pt x="33476" y="38350"/>
                  <a:pt x="30704" y="38639"/>
                  <a:pt x="28555" y="36815"/>
                </a:cubicBezTo>
                <a:cubicBezTo>
                  <a:pt x="27860" y="39948"/>
                  <a:pt x="25999" y="42343"/>
                  <a:pt x="23667" y="43106"/>
                </a:cubicBezTo>
                <a:cubicBezTo>
                  <a:pt x="20919" y="44005"/>
                  <a:pt x="18051" y="42473"/>
                  <a:pt x="16480" y="39266"/>
                </a:cubicBezTo>
                <a:cubicBezTo>
                  <a:pt x="12772" y="42310"/>
                  <a:pt x="7956" y="40599"/>
                  <a:pt x="5804" y="35472"/>
                </a:cubicBezTo>
                <a:cubicBezTo>
                  <a:pt x="3690" y="35809"/>
                  <a:pt x="1705" y="34024"/>
                  <a:pt x="1110" y="31250"/>
                </a:cubicBezTo>
                <a:cubicBezTo>
                  <a:pt x="679" y="29243"/>
                  <a:pt x="1060" y="27077"/>
                  <a:pt x="2113" y="25551"/>
                </a:cubicBezTo>
                <a:cubicBezTo>
                  <a:pt x="619" y="24354"/>
                  <a:pt x="-213" y="22057"/>
                  <a:pt x="-5" y="19704"/>
                </a:cubicBezTo>
                <a:cubicBezTo>
                  <a:pt x="239" y="16949"/>
                  <a:pt x="1845" y="14791"/>
                  <a:pt x="3863" y="14507"/>
                </a:cubicBezTo>
                <a:cubicBezTo>
                  <a:pt x="3875" y="14461"/>
                  <a:pt x="3888" y="14416"/>
                  <a:pt x="3900" y="14370"/>
                </a:cubicBezTo>
                <a:close/>
              </a:path>
              <a:path fill="none" w="43200" h="43200">
                <a:moveTo>
                  <a:pt x="4693" y="26177"/>
                </a:moveTo>
                <a:cubicBezTo>
                  <a:pt x="3809" y="26271"/>
                  <a:pt x="2925" y="25993"/>
                  <a:pt x="2160" y="25380"/>
                </a:cubicBezTo>
                <a:moveTo>
                  <a:pt x="6928" y="34899"/>
                </a:moveTo>
                <a:cubicBezTo>
                  <a:pt x="6573" y="35092"/>
                  <a:pt x="6200" y="35220"/>
                  <a:pt x="5820" y="35280"/>
                </a:cubicBezTo>
                <a:moveTo>
                  <a:pt x="16478" y="39090"/>
                </a:moveTo>
                <a:cubicBezTo>
                  <a:pt x="16211" y="38544"/>
                  <a:pt x="15987" y="37961"/>
                  <a:pt x="15810" y="37350"/>
                </a:cubicBezTo>
                <a:moveTo>
                  <a:pt x="28827" y="34751"/>
                </a:moveTo>
                <a:cubicBezTo>
                  <a:pt x="28788" y="35398"/>
                  <a:pt x="28698" y="36038"/>
                  <a:pt x="28560" y="36660"/>
                </a:cubicBezTo>
                <a:moveTo>
                  <a:pt x="34129" y="22954"/>
                </a:moveTo>
                <a:cubicBezTo>
                  <a:pt x="36133" y="24282"/>
                  <a:pt x="37398" y="27058"/>
                  <a:pt x="37380" y="30090"/>
                </a:cubicBezTo>
                <a:moveTo>
                  <a:pt x="41798" y="15354"/>
                </a:moveTo>
                <a:cubicBezTo>
                  <a:pt x="41473" y="16386"/>
                  <a:pt x="40978" y="17302"/>
                  <a:pt x="40350" y="18030"/>
                </a:cubicBezTo>
                <a:moveTo>
                  <a:pt x="38324" y="5426"/>
                </a:moveTo>
                <a:cubicBezTo>
                  <a:pt x="38379" y="5843"/>
                  <a:pt x="38405" y="6266"/>
                  <a:pt x="38400" y="6690"/>
                </a:cubicBezTo>
                <a:moveTo>
                  <a:pt x="29078" y="3952"/>
                </a:moveTo>
                <a:cubicBezTo>
                  <a:pt x="29267" y="3369"/>
                  <a:pt x="29516" y="2826"/>
                  <a:pt x="29820" y="2340"/>
                </a:cubicBezTo>
                <a:moveTo>
                  <a:pt x="22141" y="4720"/>
                </a:moveTo>
                <a:cubicBezTo>
                  <a:pt x="22218" y="4238"/>
                  <a:pt x="22339" y="3771"/>
                  <a:pt x="22500" y="3330"/>
                </a:cubicBezTo>
                <a:moveTo>
                  <a:pt x="14000" y="5192"/>
                </a:moveTo>
                <a:cubicBezTo>
                  <a:pt x="14472" y="5568"/>
                  <a:pt x="14908" y="6021"/>
                  <a:pt x="15300" y="6540"/>
                </a:cubicBezTo>
                <a:moveTo>
                  <a:pt x="4127" y="15789"/>
                </a:moveTo>
                <a:cubicBezTo>
                  <a:pt x="4024" y="15325"/>
                  <a:pt x="3948" y="14851"/>
                  <a:pt x="3900" y="14370"/>
                </a:cubicBezTo>
              </a:path>
            </a:pathLst>
          </a:custGeom>
          <a:gradFill rotWithShape="0">
            <a:gsLst>
              <a:gs pos="0">
                <a:srgbClr val="3f80cd"/>
              </a:gs>
              <a:gs pos="100000">
                <a:srgbClr val="9bc1ff"/>
              </a:gs>
            </a:gsLst>
            <a:lin ang="16200000"/>
          </a:gradFill>
          <a:ln w="9360">
            <a:solidFill>
              <a:srgbClr val="4a7ebb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Rectangle 6"/>
          <p:cNvSpPr/>
          <p:nvPr/>
        </p:nvSpPr>
        <p:spPr>
          <a:xfrm>
            <a:off x="240120" y="909720"/>
            <a:ext cx="302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Preparation of Et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Rectangle 1"/>
          <p:cNvSpPr/>
          <p:nvPr/>
        </p:nvSpPr>
        <p:spPr>
          <a:xfrm>
            <a:off x="206280" y="1390680"/>
            <a:ext cx="9166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2)</a:t>
            </a:r>
            <a:r>
              <a:rPr b="1" lang="en-US" sz="2400" spc="-1" strike="noStrike" u="sng">
                <a:solidFill>
                  <a:srgbClr val="a50021"/>
                </a:solidFill>
                <a:uFillTx/>
                <a:latin typeface="Times New Roman"/>
                <a:ea typeface="Times New Roman"/>
              </a:rPr>
              <a:t>The Williamson synt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method is usually used for preparation of unsymmetrical et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5" name="Image 3" descr=""/>
          <p:cNvPicPr/>
          <p:nvPr/>
        </p:nvPicPr>
        <p:blipFill>
          <a:blip r:embed="rId1"/>
          <a:stretch/>
        </p:blipFill>
        <p:spPr>
          <a:xfrm>
            <a:off x="152280" y="2390760"/>
            <a:ext cx="8839440" cy="1571760"/>
          </a:xfrm>
          <a:prstGeom prst="rect">
            <a:avLst/>
          </a:prstGeom>
          <a:ln w="0">
            <a:noFill/>
          </a:ln>
        </p:spPr>
      </p:pic>
      <p:pic>
        <p:nvPicPr>
          <p:cNvPr id="1166" name="Image 4" descr=""/>
          <p:cNvPicPr/>
          <p:nvPr/>
        </p:nvPicPr>
        <p:blipFill>
          <a:blip r:embed="rId2"/>
          <a:stretch/>
        </p:blipFill>
        <p:spPr>
          <a:xfrm>
            <a:off x="122400" y="3962520"/>
            <a:ext cx="8866080" cy="1522440"/>
          </a:xfrm>
          <a:prstGeom prst="rect">
            <a:avLst/>
          </a:prstGeom>
          <a:ln w="0">
            <a:noFill/>
          </a:ln>
        </p:spPr>
      </p:pic>
      <p:pic>
        <p:nvPicPr>
          <p:cNvPr id="1167" name="Picture 4" descr="ksulogo2.png"/>
          <p:cNvPicPr/>
          <p:nvPr/>
        </p:nvPicPr>
        <p:blipFill>
          <a:blip r:embed="rId3"/>
          <a:stretch/>
        </p:blipFill>
        <p:spPr>
          <a:xfrm>
            <a:off x="152280" y="76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1168" name="Picture 5" descr="images.jpeg"/>
          <p:cNvPicPr/>
          <p:nvPr/>
        </p:nvPicPr>
        <p:blipFill>
          <a:blip r:embed="rId4"/>
          <a:stretch/>
        </p:blipFill>
        <p:spPr>
          <a:xfrm>
            <a:off x="7848720" y="0"/>
            <a:ext cx="1066680" cy="1001880"/>
          </a:xfrm>
          <a:prstGeom prst="rect">
            <a:avLst/>
          </a:prstGeom>
          <a:ln w="0">
            <a:noFill/>
          </a:ln>
        </p:spPr>
      </p:pic>
      <p:sp>
        <p:nvSpPr>
          <p:cNvPr id="1169" name="Straight Connector 9"/>
          <p:cNvSpPr/>
          <p:nvPr/>
        </p:nvSpPr>
        <p:spPr>
          <a:xfrm>
            <a:off x="457200" y="914400"/>
            <a:ext cx="8305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Rectangle 10"/>
          <p:cNvSpPr/>
          <p:nvPr/>
        </p:nvSpPr>
        <p:spPr>
          <a:xfrm>
            <a:off x="2770200" y="380880"/>
            <a:ext cx="281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alatino Linotype"/>
                <a:ea typeface="Tahoma"/>
              </a:rPr>
              <a:t>Ethers and Epox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1" name="Object 2"/>
          <p:cNvGraphicFramePr/>
          <p:nvPr/>
        </p:nvGraphicFramePr>
        <p:xfrm>
          <a:off x="438120" y="5715000"/>
          <a:ext cx="4294080" cy="871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72" name="Object 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38120" y="5715000"/>
                    <a:ext cx="42940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3" name="Right Arrow 3"/>
          <p:cNvSpPr/>
          <p:nvPr/>
        </p:nvSpPr>
        <p:spPr>
          <a:xfrm rot="15336000">
            <a:off x="2265120" y="5466600"/>
            <a:ext cx="490680" cy="182880"/>
          </a:xfrm>
          <a:prstGeom prst="rightArrow">
            <a:avLst>
              <a:gd name="adj1" fmla="val 50000"/>
              <a:gd name="adj2" fmla="val 49922"/>
            </a:avLst>
          </a:prstGeom>
          <a:gradFill rotWithShape="0">
            <a:gsLst>
              <a:gs pos="0">
                <a:srgbClr val="3f80cd"/>
              </a:gs>
              <a:gs pos="100000">
                <a:srgbClr val="9bc1ff"/>
              </a:gs>
            </a:gsLst>
            <a:lin ang="864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87200-AA03-45C2-BEDE-137BBA6A6232}" type="slidenum">
              <a:rPr b="0" lang="en-US" sz="1200" spc="-1" strike="noStrike">
                <a:solidFill>
                  <a:srgbClr val="59595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Slide Number Placeholder 1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D62B0-B9D0-4338-AB5C-E2FE5AD13AFB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6" name="Image 5" descr=""/>
          <p:cNvPicPr/>
          <p:nvPr/>
        </p:nvPicPr>
        <p:blipFill>
          <a:blip r:embed="rId1"/>
          <a:stretch/>
        </p:blipFill>
        <p:spPr>
          <a:xfrm>
            <a:off x="1066680" y="2666880"/>
            <a:ext cx="5869080" cy="2089440"/>
          </a:xfrm>
          <a:prstGeom prst="rect">
            <a:avLst/>
          </a:prstGeom>
          <a:ln w="0">
            <a:noFill/>
          </a:ln>
        </p:spPr>
      </p:pic>
      <p:sp>
        <p:nvSpPr>
          <p:cNvPr id="1177" name="Rectangle 3"/>
          <p:cNvSpPr/>
          <p:nvPr/>
        </p:nvSpPr>
        <p:spPr>
          <a:xfrm>
            <a:off x="151920" y="2219400"/>
            <a:ext cx="145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70c0"/>
                </a:solidFill>
                <a:uFillTx/>
                <a:latin typeface="Times New Roman"/>
                <a:ea typeface="Times New Roman"/>
              </a:rPr>
              <a:t>Exa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Rectangle 6"/>
          <p:cNvSpPr/>
          <p:nvPr/>
        </p:nvSpPr>
        <p:spPr>
          <a:xfrm>
            <a:off x="-25560" y="1395000"/>
            <a:ext cx="8940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51618"/>
                </a:solidFill>
                <a:latin typeface="Times New Roman"/>
                <a:ea typeface="Times New Roman"/>
              </a:rPr>
              <a:t>The alkoxide is </a:t>
            </a:r>
            <a:r>
              <a:rPr b="0" lang="en-US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commonly made </a:t>
            </a:r>
            <a:r>
              <a:rPr b="0" lang="en-US" sz="2400" spc="-1" strike="noStrike">
                <a:solidFill>
                  <a:srgbClr val="151618"/>
                </a:solidFill>
                <a:latin typeface="Times New Roman"/>
                <a:ea typeface="Times New Roman"/>
              </a:rPr>
              <a:t>by adding </a:t>
            </a:r>
            <a:r>
              <a:rPr b="0" lang="en-US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Na</a:t>
            </a:r>
            <a:r>
              <a:rPr b="0" lang="en-US" sz="2400" spc="-1" strike="noStrike">
                <a:solidFill>
                  <a:srgbClr val="151618"/>
                </a:solidFill>
                <a:latin typeface="Times New Roman"/>
                <a:ea typeface="Times New Roman"/>
              </a:rPr>
              <a:t> or </a:t>
            </a:r>
            <a:r>
              <a:rPr b="0" lang="en-US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K</a:t>
            </a:r>
            <a:r>
              <a:rPr b="0" lang="en-US" sz="2400" spc="-1" strike="noStrike">
                <a:solidFill>
                  <a:srgbClr val="151618"/>
                </a:solidFill>
                <a:latin typeface="Times New Roman"/>
                <a:ea typeface="Times New Roman"/>
              </a:rPr>
              <a:t> to the alcoh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51618"/>
                </a:solidFill>
                <a:latin typeface="Times New Roman"/>
                <a:ea typeface="Times New Roman"/>
              </a:rPr>
              <a:t>The phenoxide is </a:t>
            </a:r>
            <a:r>
              <a:rPr b="0" lang="en-US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commonly made </a:t>
            </a:r>
            <a:r>
              <a:rPr b="0" lang="en-US" sz="2400" spc="-1" strike="noStrike">
                <a:solidFill>
                  <a:srgbClr val="151618"/>
                </a:solidFill>
                <a:latin typeface="Times New Roman"/>
                <a:ea typeface="Times New Roman"/>
              </a:rPr>
              <a:t>by adding </a:t>
            </a:r>
            <a:r>
              <a:rPr b="0" lang="en-US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NaOH</a:t>
            </a:r>
            <a:r>
              <a:rPr b="0" lang="en-US" sz="2400" spc="-1" strike="noStrike">
                <a:solidFill>
                  <a:srgbClr val="151618"/>
                </a:solidFill>
                <a:latin typeface="Times New Roman"/>
                <a:ea typeface="Times New Roman"/>
              </a:rPr>
              <a:t> to the phen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Text Box 6"/>
          <p:cNvSpPr/>
          <p:nvPr/>
        </p:nvSpPr>
        <p:spPr>
          <a:xfrm>
            <a:off x="24480" y="990720"/>
            <a:ext cx="340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3)</a:t>
            </a:r>
            <a:r>
              <a:rPr b="1" lang="en-US" sz="2400" spc="-1" strike="noStrike" u="sng">
                <a:solidFill>
                  <a:srgbClr val="a50021"/>
                </a:solidFill>
                <a:uFillTx/>
                <a:latin typeface="Times New Roman"/>
                <a:ea typeface="Times New Roman"/>
              </a:rPr>
              <a:t>Alkoxide  from alcoh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0" name="Object 9"/>
          <p:cNvGraphicFramePr/>
          <p:nvPr/>
        </p:nvGraphicFramePr>
        <p:xfrm>
          <a:off x="914400" y="4876920"/>
          <a:ext cx="6400800" cy="1447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81" name="Object 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14400" y="4876920"/>
                    <a:ext cx="6400800" cy="14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82" name="Picture 4" descr="ksulogo2.png"/>
          <p:cNvPicPr/>
          <p:nvPr/>
        </p:nvPicPr>
        <p:blipFill>
          <a:blip r:embed="rId4"/>
          <a:stretch/>
        </p:blipFill>
        <p:spPr>
          <a:xfrm>
            <a:off x="152280" y="76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1183" name="Picture 5" descr="images.jpeg"/>
          <p:cNvPicPr/>
          <p:nvPr/>
        </p:nvPicPr>
        <p:blipFill>
          <a:blip r:embed="rId5"/>
          <a:stretch/>
        </p:blipFill>
        <p:spPr>
          <a:xfrm>
            <a:off x="7848720" y="0"/>
            <a:ext cx="1066680" cy="1001880"/>
          </a:xfrm>
          <a:prstGeom prst="rect">
            <a:avLst/>
          </a:prstGeom>
          <a:ln w="0">
            <a:noFill/>
          </a:ln>
        </p:spPr>
      </p:pic>
      <p:sp>
        <p:nvSpPr>
          <p:cNvPr id="1184" name="Straight Connector 11"/>
          <p:cNvSpPr/>
          <p:nvPr/>
        </p:nvSpPr>
        <p:spPr>
          <a:xfrm>
            <a:off x="457200" y="914400"/>
            <a:ext cx="8305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2770200" y="380880"/>
            <a:ext cx="281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alatino Linotype"/>
                <a:ea typeface="Tahoma"/>
              </a:rPr>
              <a:t>Ethers and Epox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9T13:16:56Z</dcterms:created>
  <dc:creator>NCCR</dc:creator>
  <dc:description/>
  <cp:keywords/>
  <dc:language>en-US</dc:language>
  <cp:lastModifiedBy>hp</cp:lastModifiedBy>
  <dcterms:modified xsi:type="dcterms:W3CDTF">2015-02-28T11:02:29Z</dcterms:modified>
  <cp:revision>118</cp:revision>
  <dc:subject/>
  <dc:title>TYPES OF HYBRIDIZATION AND GEOMETRY OF MOLECUL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9.1.0.4480</vt:lpwstr>
  </property>
</Properties>
</file>