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8.wmf" ContentType="image/x-wmf"/>
  <Override PartName="/ppt/media/image27.wmf" ContentType="image/x-wmf"/>
  <Override PartName="/ppt/media/image10.wmf" ContentType="image/x-wmf"/>
  <Override PartName="/ppt/media/image2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.png" ContentType="image/png"/>
  <Override PartName="/ppt/media/image11.wmf" ContentType="image/x-wmf"/>
  <Override PartName="/ppt/media/image12.wmf" ContentType="image/x-wmf"/>
  <Override PartName="/ppt/media/image4.png" ContentType="image/png"/>
  <Override PartName="/ppt/media/image30.wmf" ContentType="image/x-wmf"/>
  <Override PartName="/ppt/media/image32.wmf" ContentType="image/x-wmf"/>
  <Override PartName="/ppt/media/image31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067A-6B00-4F09-BA65-7012005E5C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945E-37CB-434E-B098-340374667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6A99-B8A1-4D62-9178-B1683564E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FCB-0321-4489-A2EB-CAF6B3D9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253-B713-4375-B798-CF0087FE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E347A-FA12-471E-B8D7-3BF5A08E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6EB91-FA48-4E28-B0B8-91940626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EEED0-EA5E-4A3E-885E-770BD00C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58C8C-4999-45D0-83E0-718F83E1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C4D6-54AD-49A6-AC5D-FEB6D555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74E4D-170D-496A-96C4-D9B4B510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FA221-62F7-4818-A3DE-AF7F4394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68CDA-261D-4DB2-BC43-80D294C7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1450A-7397-405F-AA10-DE23E278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9D761-2051-4666-9487-379AB1742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1FE-F2B8-4114-9059-8E0FE21E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1C3CB-707B-48BE-97FC-6E82A0B2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3937C-8245-4A8D-A9E3-61A9AE6E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0469E-9DA0-4B2B-ACD7-4916F6F9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F7EAD-DFE9-478E-918C-FCDBF752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DE569-E764-4F29-8895-6F44C9B4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72629-D152-44D5-BB45-A1EC542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550E3-4253-44D6-A4A9-D5C2B474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53430-98AE-4DB5-B444-F4274FB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7E77F-BA35-438C-8708-5B7403C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B9E0E-8AFB-4F97-B6F4-CB7053C7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44BB-0430-45A3-82EA-5AAE249E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5B447-FB13-4A99-90B3-356A52C7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792F8-174F-4607-9DA5-49993A96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73AC5-782B-46F4-91AB-4925950B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437F0-CDC6-4D19-996B-A61FC28C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3E93A-4945-4A8D-AFC2-48AB9D00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62849-E2AA-4BD4-AA1B-B747A372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9F7F1-E159-4054-93CA-E84E1A9D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B1170-DAAE-4679-9411-481AB890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230C6-5FE5-496E-9A17-28BAF40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5442A-F864-4907-8735-52762447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54C-AB5D-493D-8F24-C0FE0D4B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8DCEA-212A-4C84-9613-4CD08985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3910D-A9B3-4CAB-BA0B-0931E3B4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19DBA-62C4-457F-AF79-553B3E91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F19A1-E3F4-4F20-A56E-972D74A3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D6A38-C6F4-45E6-A4AE-0639E818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7C3B2-996E-4AC1-B054-446122E8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D97AA-051B-4C37-8009-52958F6E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99989-3119-40FC-8FA3-795E0508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044EB-36DF-417D-AE88-2998BE69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ECB5B-6F22-41AD-B2D7-3E7AFB5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3736-375F-4DD0-9CE3-F9809655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B57DE-CEBA-4845-9877-662F8FC5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4D359-C85C-43C1-BF2F-6B5999B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956D2-7967-4670-A1E6-8C635283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5491B-33A9-40CD-A730-270F63D9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C0F87-7E8F-4B0D-8737-67927458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DC47C-C6E0-4DFD-953A-DD46B154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FE1AA-1127-487D-93EC-7F43FF15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9D544-28D0-4882-9301-9A45292C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4A23C-6A4F-4026-8D74-5FAC5438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DF52E-58F8-49AF-A72B-A99A7DA1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1A18-ECF6-4F98-B422-F05E73E6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DE517-BCD5-4DFD-806F-2D17298B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95ECA-82AF-4053-835E-B820FA09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499DC6-E6CB-4768-A82B-89CEE2E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0EDA3-5D86-4554-A742-8551E46D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080BE-25F9-4C61-BA54-2D660611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1957B-4264-4169-B97D-F40496E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2154E-94BA-4B0B-9E8D-A45998E2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CF94BD-EEED-4BA8-B9A1-80342548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41FF898-06CE-49AB-8AE1-AF5F9616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B26A0F-A427-4363-A17D-2E22AF32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D882-1688-4A37-8DBE-67B2D810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078BCA2-6089-4E3C-BD16-9A67DAF5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FEACD4-A8D3-4DB1-BCCD-00827CAF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B6D060-F030-4B1E-9CB8-7A047223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50BED6-62F5-4F7F-B754-E22C8030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DDA444-129F-487F-A1F5-B91C9C12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BA2A67-AE2F-47E5-8464-F3E6402D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F19F0C-E510-4B32-A0A3-BCCC199A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15B749-0F41-4429-8D1C-E58C9024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F77C4D-3267-498C-9A8A-E71FE4F3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A16C4-E352-4E31-95A7-6CA14EAE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094E-B685-4178-9DCA-1BD334F0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62C9B-4F6F-46A6-8745-4CCD7FBE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3EBCC-26A3-40FA-9718-FB22099F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F07AD-85E2-4F59-92E5-B098604A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251D1-3A17-451C-88C3-AD2D80CA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65982-32AF-402A-A712-F16E115F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295DD-1502-4D7A-84F6-9659CA1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056BC-DBF5-4AB6-B5EA-82FB8B62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E7371-FDCD-4989-A370-79588D06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5138E-13B1-47F4-904D-E1EBB781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3F7E7B-5881-4AC1-819E-B55560B8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DF1E-0331-4DD5-89CA-99AC880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F6339-B19A-48FD-8AEB-5AF84289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EB475E-0BA4-4B41-B97A-707107B7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407BD-127C-45C0-B560-4E2F9D6F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B1601-67C8-467A-A8F3-83A621F7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D7FFCF-B13A-4FF9-B290-10FBD1BB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7C07A-A2FA-4E72-884C-C33F4AB7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B60FE-C20D-40EC-B180-43016096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991F6-4364-49F8-924F-47987DB1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0B3AC-311D-4AF2-A3FD-C45CAB2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BB261-F535-41C3-B7D8-3168F34E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9D1A-3CB5-41AC-9038-4E9B253F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1E70C-7541-4C17-B84F-71E62D89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5DF9A-749F-46A9-BFB9-F91286EE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7A67F3-7E38-4553-9C3C-6697B55A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C37E73-EBFE-463D-A8E7-86DFE18B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F0269F-28DD-47C4-8DC5-6E8DDB94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581E6-9046-4FF1-B587-8F8E716F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A0160-47E8-4042-9414-5AA84350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9C154D-DDF6-4823-829C-5C2C915E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E3E50-11CA-4A0F-845C-2AB42CCB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F2958-12AA-4616-96E3-41301B8C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F83-7C8F-440A-AC88-1B65D031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BF9C-A053-44E7-827B-1062BB9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78A9D-165C-411F-A690-4614CE26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0D7955-4AAE-42C3-B263-205896B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F93ED2-E3E9-4368-B4FE-1C49655E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2D213-9BE0-4B21-AE95-FD6D7FE4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73EBB-099B-4A19-AFD1-AD646B698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6F856-EC15-461E-B87B-CC9377518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EAD4C-3EFC-419B-A6F1-03CB3BB0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690717-8450-4049-AAB9-E0B42658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C667B-565D-4441-B776-EC2FC1EE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226215-463E-4BFF-BA38-2D27CB98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F73C-CF70-422D-894C-58E3CE53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34AAFE-9CA2-4D6A-B7BC-757C55C2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1D411F-C027-4010-B504-2650CA66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59FDD3-FCAD-4448-AC35-0372C8F2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92BCD-D0D7-4B68-BBBB-40EF5D8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A5228-28F8-4FD0-BAB7-429A7EBC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DA3EC1-21EF-4D38-B7E9-A8B9E135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5F3796-097C-415C-A709-88085401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BC50D-35FF-41D7-B020-B1826B11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D17FFB-D2D1-4B5A-B436-0B2C8D5E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80B77E-5CE0-4C24-91F3-CE38796C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7E5A-0D09-4BCE-95E2-94FE6119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C83E0-BA25-4EF5-8E33-D0B719B5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D6C6A-914E-463A-A53F-80A6D5DF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54CAC-770C-4714-9668-81F78F8D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5E5AE3-A07E-4B85-AA03-81EEACA8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5F1E2F-EEC2-492B-A27B-9431AF3F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95685A-15DE-462F-91B5-2EFB721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FB448B-5812-40E0-B764-49423B9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EA5494-45CF-4A51-B14E-AB535EFE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B3DCF-DAD3-4BF5-8088-CB289D7B2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B969C1-3301-4D77-95F7-2D8B6FE1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7FC2-19FE-43F3-8C6A-7566DCD4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B08663-027A-4BB3-B926-E0AADA79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B00BE9-C5F2-4396-B15A-8C5F0938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B6897-F582-4088-B3BF-3CB0AB6B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16EA5A-8571-4787-945B-0241B00A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B8718F-3826-4AE3-A485-F541ABD9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49A60-E615-4519-8965-8CD5D858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5FA187-537F-4D19-9A39-EFCE3E52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D079E2-224C-451E-B261-CF09145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A3E8ED-D263-4355-AF2D-7A682393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BB2E6-5D85-4414-A14C-AAEAE639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909D-6964-4F57-B13C-7D69C802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B5B8F-31D9-4103-AB3D-8CE0B09E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769F82-4D21-4985-99A0-1BB9243B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039FCE-3F62-4AF4-A3A8-0C9AD99B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95C02D-9292-45B5-AF16-43CF1BFB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A16DA6-AE79-4EC8-AC0C-C0C1522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28FEB9-D805-4719-8746-EB4759BC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AE0F84-9C88-4BCD-A433-8E72C57E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34D8AB-FFE2-4FAD-B135-C3025680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2D4D25-6DEB-499F-91F6-9F8EE333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E2478C-C7E4-4E6A-B8B1-77F75176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9A3D-002B-4600-B0C6-BCA2B563E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8D0C22-0676-4577-AE48-831E215F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9CE95-1DA7-4971-99D1-BCBF7912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D8F87-9A91-443E-8448-A3201F09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58F2A4-CBF7-4E23-9161-22E1C4CC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65B045-AE68-429D-ADF1-D50B64E9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ED7A07-6420-424C-879F-25204AEC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8B2C12-7B6C-4B28-9A49-CB9901AC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1E9807-88C8-4F02-8338-6CAF85FA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C594B9-D6B9-423A-81AD-6984D428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A38472-625B-4F5F-BDB6-6C4266E1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221A-7B9F-4D7E-BCE3-B77B9226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B9582-BA2A-4C43-849C-6479994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96133E-102B-48B3-B13C-33F3E12F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919B0-16D1-4980-AB39-D5EE36D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C6D161-A281-4582-AD99-0FE04771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EAB472-9416-4B73-94CC-2398E3B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CCE3DB-2CDC-4DA0-85C2-05E50A86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1A2857-C87D-4A35-90E5-E8C4AE94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B07965-C171-449C-847E-8E7C277C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B0F199-1418-4D4A-A5E6-074C0F04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BC848D-883D-4CE3-B2C3-3061761F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E35B1-4765-49D5-A893-A7FEF5A9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8BAF9A-4DF8-4F68-A82C-C549A3D19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28AD8-0FB7-4DDC-B7BA-D3EEE005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E4BC90-2295-4D77-B024-A2CB31E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E53DD5-94CB-428A-9D56-A421B8D8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3DB8CA-BE3D-4E6B-B60D-DB6E91B0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E0D69A-BC44-4616-BB73-12D304D9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3FEA97-8168-466E-9B6D-9137C31C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2B3FC0-3897-4C5C-A367-5FBA5FF6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4910AF-F344-45AB-B1E8-A3801A3C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11761C-0A73-4AFA-81A2-C420EB74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18E6-4400-4ADC-9824-2B5A2F62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DABDF5-C05B-431E-9640-A9401F68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5E2DAC-1EA1-4F56-AB3F-31C451AF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32DCED-A9B7-4552-8B4A-F5CCCD90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9C331A-7AC2-41B4-86EC-5C7B189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445EFA8-34E1-4663-8AF5-A78C704C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C0FC01-10BC-4FB3-8BAF-35E268C1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CCE827-D80B-4B98-B6A8-F464D51A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281A49-5E21-475D-A8E0-2ED2349E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BD7034-76DD-4DF5-A3B9-6AD43A54F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05AE-98DF-4CFE-8647-4C5F43B1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DFD-DB63-4EB8-BB65-611BAF83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0CA81-7F77-4E23-B19C-4236F99C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D932-5AE7-4E14-9CE4-765B7CB6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5782-09ED-4DB3-B8FD-294EFAB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73E1-6356-4B51-8C70-AEE2272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A1AB-3638-420C-B063-DC2D53B0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3849-E316-430D-AD18-E12904C2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CF67-A451-4CCD-9AA9-C27037A0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00AAC-D11A-455E-9CCD-27193E3A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50A80-4D02-4BE8-81BA-0E768B74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EDD76-D8CE-4528-80CD-15945569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6D3-D50E-49E1-B372-1E07128B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B680E-4F08-49ED-8293-DB06D30D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48F2F-456B-4C12-B667-D34414EC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EE77-EE6D-40F2-9543-EB1A81E6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D21E6-6D48-4F79-8EB0-4CA1F83D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F050-C37B-4FBB-BD1C-B1C73B64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233B-8654-48A0-BA57-32268EB5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7241E-C702-4400-8479-F0B99CF9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EE0F1-A6DC-4182-977E-7CE3CD8D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8BD35-5F98-4011-ADFC-7A122B78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7F2A9-6077-4BEC-83ED-3B43CA7F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EB0-827A-47F9-A6DD-E56AC848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21704-0012-4906-965C-9E5B8D17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43209-9C73-4D0C-B232-F8C1643C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50C16-E564-403B-82C9-7D8D5BF7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A800E-25A7-4903-8996-2674E93A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4C87D-5331-4261-A140-981B09DF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25B81-58E3-4E2E-B450-8D8473D5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8D00C-6989-4B86-AF09-D0EACD15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867C1-C714-48D8-8BEA-6F375A98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4A87-6DAD-4226-AFDD-C87D10D0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185D2-5912-4231-BEBE-72EAC12D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DFD-1034-4549-9155-6A3B56F6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6A421-75A0-4CBF-9BDE-ECEE86EA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5A9C7-8AAC-4760-A4F9-C48CD150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51B1-B444-4C87-B792-1A8BA5E1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5E4B0-ADCF-4F8A-9911-050D356A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4425C-2C19-4266-ABF0-0803AF33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C7AAC-1FAB-459A-94E3-1D8BFDF0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55997-2959-4D9B-BB24-C14EAD6D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6FF6F-2A29-4CF1-9F89-32E26D25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8E86-4BBE-447A-BDED-391EFBB8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2633C-3AD5-42BB-B43B-367BF760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430-4910-4831-9B43-3617709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65436-76BC-4319-A818-8B0B37E9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31129-60AC-4264-8DB0-5A9C6240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1C838-0F87-467B-9451-D48CD909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D6C78-A2F6-4B79-9300-CE306437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8C424-5309-48F1-A7DB-B56020B3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AF68B-05BF-4F3B-83BA-4BA17E5C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CB3B5-AB03-44D2-93A7-AC0564C1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2191F-9525-4785-9D89-2A7D142F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F36BF-4F56-4F49-BEAF-D937ED35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539FD-CF55-4295-904B-7D33467D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088-4808-4A2A-BC75-6A2BC119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99766-EE45-4C8F-AB4A-A5319D46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3ACB1-C289-49C6-AA1C-0F56FFB7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D693-2BA5-4A06-AAF5-8177247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2E705-501F-48EF-8F79-67575A01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88DF8-7A03-40DD-BB15-C9936562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0D74C-D6AF-4B85-94BD-94AA0188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BAE8-68FC-436A-ACF8-FEEE48DA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BA87F-6EFD-4247-A9ED-0C00F443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C3CFE-CADC-4CF9-9591-9AC5AB3E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BF21F-8E7D-4951-B9ED-298C6886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5EB6-25ED-40A4-BFA3-4D1EE32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ED0BF-A5EA-45CA-BBF7-D43083A3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53C84-9DB0-458C-9ABA-7AD40BF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E709A-3EBD-43BE-9660-BC6CB763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B98B9-4CF8-440C-89A3-912EE02D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7C4DF-177B-44B5-8E0A-974CDE3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BEB62-39B3-455A-8790-D00C4D1D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994C3-F4B7-4774-A551-8765632D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EEDB2-C43E-4B12-8936-728FADDD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CAAA7-9412-4D2E-8DD7-E893007D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3EF2E-5CE0-4E65-9C9F-37FE6F4D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B57B-134A-4D06-BA43-DB50F3DF209C}" type="datetime5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65B4-29E5-4A89-91BE-FBE08F7768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7E2E-14C6-4BA7-ACC4-588734116374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6989-999F-44BA-8461-C8CE11267C07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722D-2345-4588-8E3B-20811CBE5440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CEE0-2144-4536-AFC4-BE5D8B2D6EF2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9150-A393-4E43-827F-EA04353E34FB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3417-EF6B-464B-BE7C-8B55CFEB06BC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FF3-FFA8-4DC9-8811-47629C4A5CFE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15D1-FB63-4F04-AB18-A32C5AEB7B82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87A2-4F77-48BA-987A-B5BC9A5327C9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4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D84D-D0AB-4C8E-B254-7385304612F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4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1CF8-A9EE-437F-9349-8DC8021262A5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74CB-B89B-4E42-81F0-9541F503BDD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4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74B2-5201-4678-B757-A54A9C1DF90D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4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4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DC0D-5BE6-4319-B77F-06D64FC41892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40A5-F774-465A-9801-7BF4876F52E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937F-728D-4F62-AF9A-94DB01831EA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5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20FC-669E-4E9D-BA02-6EACEDCC18D7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1C58-3FA1-49B3-86FA-9A6BE5552C3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B4BF-0ACE-4447-8E07-C279988B3F51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854B-93F7-4A63-830C-33D002CCC72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C8E7-36AE-4078-B224-DCE8C7591F62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74C3-550F-4DB3-88B6-BD70EB02894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E72E-B400-45D9-A127-83413E3CF432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6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C1FC-A743-4935-ACC6-DDDF6050EC6D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dt" idx="6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6703-3A6D-4BBC-AA3C-54A97BE1714A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ftr" idx="6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sldNum" idx="6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8945-CAF3-4140-942A-9E646D8D601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6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D3B2-E47A-4F89-8D78-686BADEE790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6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6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5200-5506-45FE-9348-159E1725FE8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dt" idx="6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205-531B-4C7E-861F-FFE17BD4F3D5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ftr" idx="6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sldNum" idx="6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C69-B87F-4D72-A63D-7A84D5E0491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7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13B3-EB87-4833-98EB-F48167354D48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7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7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88AF-8F82-4DFE-9728-3B128F82BEB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FEB6-02E8-4B74-92C6-147CA50D06A2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DD3D-7D20-4718-8D08-B7174B77F7A8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1406-5E1D-491B-950C-9448141B46B7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ED73-D031-471B-AEFE-E11141805B1C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F5F4-E101-432B-ADBA-8C40AADFB7EC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A0CE-A69D-433D-A981-837059B622EA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9866-0845-4AF0-B0E1-DCD77FDF3E75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D627-1280-4EE2-B6B6-FA1568A392CC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15FD-5F3F-4044-94E7-B9ABDDE173D1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50B5-E53A-4795-93C1-8C48CC2B0266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C4D5-821F-49BA-A830-DB0F9BA64EE0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F4A0-0DD5-4E1A-9176-2235F7D99127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A7B8-CC41-4FE0-8605-6ECABD55707C}" type="datetime5">
              <a:rPr b="0" lang="ar-SA" sz="1200" spc="-1" strike="noStrike">
                <a:solidFill>
                  <a:srgbClr val="595959"/>
                </a:solidFill>
                <a:latin typeface="Times New Roman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8F52-E632-4F7F-917C-D179230CEA16}" type="slidenum"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Organic_compound" TargetMode="External"/><Relationship Id="rId2" Type="http://schemas.openxmlformats.org/officeDocument/2006/relationships/hyperlink" Target="http://en.wikipedia.org/wiki/Oxygen" TargetMode="External"/><Relationship Id="rId3" Type="http://schemas.openxmlformats.org/officeDocument/2006/relationships/hyperlink" Target="http://en.wikipedia.org/wiki/Atom" TargetMode="External"/><Relationship Id="rId4" Type="http://schemas.openxmlformats.org/officeDocument/2006/relationships/hyperlink" Target="http://en.wikipedia.org/wiki/Alkyl" TargetMode="External"/><Relationship Id="rId5" Type="http://schemas.openxmlformats.org/officeDocument/2006/relationships/hyperlink" Target="http://en.wikipedia.org/wiki/Aryl" TargetMode="External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D70C-5FE0-4FFC-9F61-2C0A1C4D067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Picture 3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1100" name="Straight Connector 4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1" name="Picture 5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6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"/>
          <p:cNvSpPr/>
          <p:nvPr/>
        </p:nvSpPr>
        <p:spPr>
          <a:xfrm>
            <a:off x="2008080" y="2057400"/>
            <a:ext cx="43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Picture 2" descr="2d567265ef611378e0093ac560e30f62_a344e1b54f4f10f79bdaf4a9ab8df430.png"/>
          <p:cNvPicPr/>
          <p:nvPr/>
        </p:nvPicPr>
        <p:blipFill>
          <a:blip r:embed="rId3"/>
          <a:stretch/>
        </p:blipFill>
        <p:spPr>
          <a:xfrm>
            <a:off x="1066680" y="3124080"/>
            <a:ext cx="2987640" cy="16020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" descr="200px-Ethylene-oxide-3D-balls.png"/>
          <p:cNvPicPr/>
          <p:nvPr/>
        </p:nvPicPr>
        <p:blipFill>
          <a:blip r:embed="rId4"/>
          <a:stretch/>
        </p:blipFill>
        <p:spPr>
          <a:xfrm>
            <a:off x="4191120" y="2895480"/>
            <a:ext cx="2539800" cy="1968480"/>
          </a:xfrm>
          <a:prstGeom prst="rect">
            <a:avLst/>
          </a:prstGeom>
          <a:ln w="0">
            <a:noFill/>
          </a:ln>
        </p:spPr>
      </p:pic>
      <p:sp>
        <p:nvSpPr>
          <p:cNvPr id="1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0AA8-087E-4F22-9062-6FAD808C675F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4"/>
          <p:cNvSpPr/>
          <p:nvPr/>
        </p:nvSpPr>
        <p:spPr>
          <a:xfrm>
            <a:off x="165960" y="10666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Reactions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11"/>
          <p:cNvSpPr/>
          <p:nvPr/>
        </p:nvSpPr>
        <p:spPr>
          <a:xfrm>
            <a:off x="66600" y="130500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leavage of ethers by hot concentrated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s are quite stable compounds. Ethers react only under strongly acidic condition.When ethers are heated in concentrated acid solutions, the ether linkage is brok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General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Image 19" descr=""/>
          <p:cNvPicPr/>
          <p:nvPr/>
        </p:nvPicPr>
        <p:blipFill>
          <a:blip r:embed="rId1"/>
          <a:stretch/>
        </p:blipFill>
        <p:spPr>
          <a:xfrm>
            <a:off x="2819520" y="3613320"/>
            <a:ext cx="4897440" cy="823680"/>
          </a:xfrm>
          <a:prstGeom prst="rect">
            <a:avLst/>
          </a:prstGeom>
          <a:ln w="0">
            <a:noFill/>
          </a:ln>
        </p:spPr>
      </p:pic>
      <p:sp>
        <p:nvSpPr>
          <p:cNvPr id="1189" name="Rectangle 6"/>
          <p:cNvSpPr/>
          <p:nvPr/>
        </p:nvSpPr>
        <p:spPr>
          <a:xfrm>
            <a:off x="-15840" y="5944680"/>
            <a:ext cx="91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s most often used in this reaction are HI, HBr, and H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5"/>
          <p:cNvSpPr/>
          <p:nvPr/>
        </p:nvSpPr>
        <p:spPr>
          <a:xfrm>
            <a:off x="77040" y="4440240"/>
            <a:ext cx="236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Specific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1" name="Image 20" descr=""/>
          <p:cNvPicPr/>
          <p:nvPr/>
        </p:nvPicPr>
        <p:blipFill>
          <a:blip r:embed="rId2"/>
          <a:stretch/>
        </p:blipFill>
        <p:spPr>
          <a:xfrm>
            <a:off x="1523880" y="5029200"/>
            <a:ext cx="6767640" cy="8478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94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ABE7-F313-4CBC-A30E-4ACEF005FB4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Image 25" descr=""/>
          <p:cNvPicPr/>
          <p:nvPr/>
        </p:nvPicPr>
        <p:blipFill>
          <a:blip r:embed="rId1"/>
          <a:stretch/>
        </p:blipFill>
        <p:spPr>
          <a:xfrm>
            <a:off x="369720" y="4724280"/>
            <a:ext cx="8442360" cy="157824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3"/>
          <p:cNvSpPr/>
          <p:nvPr/>
        </p:nvSpPr>
        <p:spPr>
          <a:xfrm>
            <a:off x="39600" y="1076040"/>
            <a:ext cx="91267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id is present, the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lcoh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tially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nverted to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lkyl hali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the net products will be 2 moles of alkyl hal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46080" y="411696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0" name="Object 15"/>
          <p:cNvGraphicFramePr/>
          <p:nvPr/>
        </p:nvGraphicFramePr>
        <p:xfrm>
          <a:off x="533520" y="3124080"/>
          <a:ext cx="8127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124080"/>
                    <a:ext cx="8127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2" name="Picture 4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5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04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B8C1-72AC-45AF-9E9F-B54617DC4F83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2"/>
          <p:cNvSpPr/>
          <p:nvPr/>
        </p:nvSpPr>
        <p:spPr>
          <a:xfrm>
            <a:off x="92160" y="1596960"/>
            <a:ext cx="90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yclic ethers (heterocyclic), one or more carbons are replaced with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xides ar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clic eth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the ether oxygen is part of a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ree-membered 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55440" y="5601240"/>
            <a:ext cx="90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and most important epoxide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ylene oxid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Rectangle 6"/>
          <p:cNvSpPr/>
          <p:nvPr/>
        </p:nvSpPr>
        <p:spPr>
          <a:xfrm>
            <a:off x="141120" y="1001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yclic Ethers-Epox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1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5" name="Object 16"/>
          <p:cNvGraphicFramePr/>
          <p:nvPr/>
        </p:nvGraphicFramePr>
        <p:xfrm>
          <a:off x="733320" y="2514600"/>
          <a:ext cx="7794720" cy="190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6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3320" y="2514600"/>
                    <a:ext cx="77947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D04A-3D7B-4FD6-9AFE-B2D986EC2BA0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14"/>
          <p:cNvSpPr/>
          <p:nvPr/>
        </p:nvSpPr>
        <p:spPr>
          <a:xfrm>
            <a:off x="0" y="1094760"/>
            <a:ext cx="9144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roxyacid Ep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oxyacid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 (sometimes called peracids) are used to conver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ene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 to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poxides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. If the reaction takes place in aqueous acid, the epoxide opens to a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. Because of its desirable solubility properties,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ta-chloroperoxybenzoic acid </a:t>
            </a:r>
            <a:r>
              <a:rPr b="0" lang="en-US" sz="2000" spc="-1" strike="noStrike">
                <a:solidFill>
                  <a:srgbClr val="0e0d0e"/>
                </a:solidFill>
                <a:latin typeface="Times New Roman"/>
                <a:ea typeface="Times New Roman"/>
              </a:rPr>
              <a:t>(MCPBA) is often used for these epoxid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9" name="Picture 15" descr=""/>
          <p:cNvPicPr/>
          <p:nvPr/>
        </p:nvPicPr>
        <p:blipFill>
          <a:blip r:embed="rId1"/>
          <a:stretch/>
        </p:blipFill>
        <p:spPr>
          <a:xfrm>
            <a:off x="971640" y="3505320"/>
            <a:ext cx="7704000" cy="97452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6" descr=""/>
          <p:cNvPicPr/>
          <p:nvPr/>
        </p:nvPicPr>
        <p:blipFill>
          <a:blip r:embed="rId2"/>
          <a:stretch/>
        </p:blipFill>
        <p:spPr>
          <a:xfrm>
            <a:off x="2367000" y="4543560"/>
            <a:ext cx="3816360" cy="2390760"/>
          </a:xfrm>
          <a:prstGeom prst="rect">
            <a:avLst/>
          </a:prstGeom>
          <a:ln w="0">
            <a:noFill/>
          </a:ln>
        </p:spPr>
      </p:pic>
      <p:sp>
        <p:nvSpPr>
          <p:cNvPr id="1221" name="Rectangle 17"/>
          <p:cNvSpPr/>
          <p:nvPr/>
        </p:nvSpPr>
        <p:spPr>
          <a:xfrm>
            <a:off x="279720" y="44208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2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23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24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11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00E3-BCDD-425C-A761-BAD390F97396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1"/>
          <p:cNvSpPr/>
          <p:nvPr/>
        </p:nvSpPr>
        <p:spPr>
          <a:xfrm>
            <a:off x="0" y="99072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oxides are much more reactive than common dialkyl ether, because of the strain 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e-membered 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relieved when the epoxide ring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fter a reaction has taken pl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of ring-opening reactions(cleavage carbon-oxygen bond) of ethylene oxide that form commercially important product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2"/>
          <p:cNvSpPr/>
          <p:nvPr/>
        </p:nvSpPr>
        <p:spPr>
          <a:xfrm>
            <a:off x="138240" y="3962520"/>
            <a:ext cx="877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in water </a:t>
            </a:r>
            <a:r>
              <a:rPr b="0" lang="en-US" sz="2400" spc="-1" strike="noStrike">
                <a:solidFill>
                  <a:srgbClr val="0c0c0f"/>
                </a:solidFill>
                <a:latin typeface="Times New Roman"/>
                <a:ea typeface="Times New Roman"/>
              </a:rPr>
              <a:t>to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ls</a:t>
            </a:r>
            <a:r>
              <a:rPr b="0" lang="en-US" sz="2400" spc="-1" strike="noStrike">
                <a:solidFill>
                  <a:srgbClr val="0c0c0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Object 14"/>
          <p:cNvGraphicFramePr/>
          <p:nvPr/>
        </p:nvGraphicFramePr>
        <p:xfrm>
          <a:off x="1154160" y="4495680"/>
          <a:ext cx="677052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4495680"/>
                    <a:ext cx="677052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1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3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3C6F-FFFD-41EA-AFE2-7EAF80BD34A2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4"/>
          <p:cNvSpPr/>
          <p:nvPr/>
        </p:nvSpPr>
        <p:spPr>
          <a:xfrm>
            <a:off x="117360" y="1222200"/>
            <a:ext cx="89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e0f13"/>
                </a:solidFill>
                <a:latin typeface="Times New Roman"/>
                <a:ea typeface="Times New Roman"/>
              </a:rPr>
              <a:t>2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i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cohol </a:t>
            </a:r>
            <a:r>
              <a:rPr b="0" lang="en-US" sz="2400" spc="-1" strike="noStrike">
                <a:solidFill>
                  <a:srgbClr val="0e0f13"/>
                </a:solidFill>
                <a:latin typeface="Times New Roman"/>
                <a:ea typeface="Times New Roman"/>
              </a:rPr>
              <a:t>to form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oxy alco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117360" y="3193200"/>
            <a:ext cx="9026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3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–Catalyzed ring opening of  epoxides  </a:t>
            </a: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halic acid</a:t>
            </a: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0c0e"/>
                </a:solidFill>
                <a:latin typeface="Times New Roman"/>
                <a:ea typeface="Times New Roman"/>
              </a:rPr>
              <a:t>(HCl, HBr, or HI), a halide ion attacks the protonated epoxide to give halo alcoho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Espace réservé du numéro de diapositive 10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60CB-47A9-4A54-A0C2-CC77F50C630C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9" name="Object 19"/>
          <p:cNvGraphicFramePr/>
          <p:nvPr/>
        </p:nvGraphicFramePr>
        <p:xfrm>
          <a:off x="1371600" y="4871880"/>
          <a:ext cx="666576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4871880"/>
                    <a:ext cx="666576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1" name="Object 20"/>
          <p:cNvGraphicFramePr/>
          <p:nvPr/>
        </p:nvGraphicFramePr>
        <p:xfrm>
          <a:off x="985680" y="1984320"/>
          <a:ext cx="7662960" cy="13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5680" y="1984320"/>
                    <a:ext cx="76629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3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45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8"/>
          <p:cNvSpPr/>
          <p:nvPr/>
        </p:nvSpPr>
        <p:spPr>
          <a:xfrm>
            <a:off x="357120" y="1371600"/>
            <a:ext cx="850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ing opening of  epoxide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ignard and Organolithium Reage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iv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onger  alcoh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Object 19"/>
          <p:cNvGraphicFramePr/>
          <p:nvPr/>
        </p:nvGraphicFramePr>
        <p:xfrm>
          <a:off x="685800" y="2438280"/>
          <a:ext cx="6192720" cy="12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9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38280"/>
                    <a:ext cx="619272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0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52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6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8"/>
          <p:cNvSpPr/>
          <p:nvPr/>
        </p:nvSpPr>
        <p:spPr>
          <a:xfrm>
            <a:off x="355680" y="4040280"/>
            <a:ext cx="85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ing opening of  epoxides with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5" name="Object 20"/>
          <p:cNvGraphicFramePr/>
          <p:nvPr/>
        </p:nvGraphicFramePr>
        <p:xfrm>
          <a:off x="380880" y="4648320"/>
          <a:ext cx="8001000" cy="13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6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648320"/>
                    <a:ext cx="8001000" cy="13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7" name="Slide Number Placeholder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6E4E-3CDA-447A-8ACB-E5CFD544C6F5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1"/>
          <p:cNvSpPr/>
          <p:nvPr/>
        </p:nvSpPr>
        <p:spPr>
          <a:xfrm>
            <a:off x="34920" y="11620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a correct name for each of the following comp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9" name="Image 6" descr=""/>
          <p:cNvPicPr/>
          <p:nvPr/>
        </p:nvPicPr>
        <p:blipFill>
          <a:blip r:embed="rId1"/>
          <a:stretch/>
        </p:blipFill>
        <p:spPr>
          <a:xfrm>
            <a:off x="324000" y="2438280"/>
            <a:ext cx="6337080" cy="2514600"/>
          </a:xfrm>
          <a:prstGeom prst="rect">
            <a:avLst/>
          </a:prstGeom>
          <a:ln w="0">
            <a:noFill/>
          </a:ln>
        </p:spPr>
      </p:pic>
      <p:sp>
        <p:nvSpPr>
          <p:cNvPr id="1260" name="Rectangle 1"/>
          <p:cNvSpPr/>
          <p:nvPr/>
        </p:nvSpPr>
        <p:spPr>
          <a:xfrm>
            <a:off x="34920" y="4829040"/>
            <a:ext cx="91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c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a Williamson synthesis of 3-butoxy-1,1-dimethylcyclohexane from 3,3-dimethylcyclohexanol and but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1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6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CFA3-307C-4F8C-9457-2D4741AB9778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2"/>
          <p:cNvSpPr/>
          <p:nvPr/>
        </p:nvSpPr>
        <p:spPr>
          <a:xfrm>
            <a:off x="0" y="10666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erci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ict the products of the following rea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7" name="Object 13"/>
          <p:cNvGraphicFramePr/>
          <p:nvPr/>
        </p:nvGraphicFramePr>
        <p:xfrm>
          <a:off x="228600" y="2209680"/>
          <a:ext cx="82598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82598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69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70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7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D856-B11D-4E29-8A6A-71C07F9E7CDA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90ab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6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D073-DCF8-423A-B7BE-604A4F64446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7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278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279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-360" y="10663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9"/>
          <p:cNvSpPr/>
          <p:nvPr/>
        </p:nvSpPr>
        <p:spPr>
          <a:xfrm>
            <a:off x="0" y="1459440"/>
            <a:ext cx="914400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seven discusses the following topics and by the end of this chapter the students wi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structure  of e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of naming e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physical properties of ethers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used in preparation of e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eactions of opened ethers with H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methods used in synthesis of epoxi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reactions of epoxides with different nucleophiles such as 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ROH, HX, Grignard and organolithium eag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11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8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CDB7-DFD6-4C71-B854-80004C93206C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4"/>
          <p:cNvSpPr/>
          <p:nvPr/>
        </p:nvSpPr>
        <p:spPr>
          <a:xfrm>
            <a:off x="10800" y="12952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tructure 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Rectangle 5"/>
          <p:cNvSpPr/>
          <p:nvPr/>
        </p:nvSpPr>
        <p:spPr>
          <a:xfrm>
            <a:off x="0" y="1752480"/>
            <a:ext cx="914400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Ether: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lass of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organic compounds</a:t>
            </a:r>
            <a:r>
              <a:rPr b="1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hich an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ato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nected to two organic groups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alky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ary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enzene r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 by σ bonds. thus Ethers are compounds of general formula R–O–R or Ar–O–Ar or  Ar–O–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 Of Eth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Common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names of ethers are derived by naming the  alkyl groups bonded to the oxygen then listing them in alphabetical order followed by the word "ether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c8c93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IUPAC n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ther functional group does not have a characteristic IUPAC nomenclature suffix, so it is necessary to designate the smaller alkyl group as an alkoxy substituent of a parent compound (alkane , or alkene, or alkyne,or alcohol,----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Image 1" descr=""/>
          <p:cNvPicPr/>
          <p:nvPr/>
        </p:nvPicPr>
        <p:blipFill>
          <a:blip r:embed="rId6"/>
          <a:stretch/>
        </p:blipFill>
        <p:spPr>
          <a:xfrm>
            <a:off x="2268360" y="2908440"/>
            <a:ext cx="5545440" cy="7491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1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7D83-1B49-4897-84D6-BE9A36D4084E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2" name=""/>
          <p:cNvGraphicFramePr/>
          <p:nvPr/>
        </p:nvGraphicFramePr>
        <p:xfrm>
          <a:off x="685800" y="1981080"/>
          <a:ext cx="7772400" cy="4635720"/>
        </p:xfrm>
        <a:graphic>
          <a:graphicData uri="http://schemas.openxmlformats.org/drawingml/2006/table">
            <a:tbl>
              <a:tblPr/>
              <a:tblGrid>
                <a:gridCol w="1596960"/>
                <a:gridCol w="1960560"/>
                <a:gridCol w="1895400"/>
                <a:gridCol w="2319480"/>
              </a:tblGrid>
              <a:tr h="698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lkyl grou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Alkox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  <a:ea typeface="Arial"/>
                        </a:rPr>
                        <a:t>Group Na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h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h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th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oprop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oprop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t-But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t-But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y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–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enox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3" name="Rectangle 33"/>
          <p:cNvSpPr/>
          <p:nvPr/>
        </p:nvSpPr>
        <p:spPr>
          <a:xfrm>
            <a:off x="-5760" y="990720"/>
            <a:ext cx="9198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he common alkoxy substituents are given names derived from the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alky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26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9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956F-1FB5-4F68-9B3E-D135D6C4E207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Box 2"/>
          <p:cNvSpPr/>
          <p:nvPr/>
        </p:nvSpPr>
        <p:spPr>
          <a:xfrm>
            <a:off x="0" y="228456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Arial"/>
              </a:rPr>
              <a:t>Common    Dimethyl ether             Diethyl ether             Divinyl ether              Diphenyl 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UP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Methoxy methane      Ethoxy ethane                                    Phen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Box 4"/>
          <p:cNvSpPr/>
          <p:nvPr/>
        </p:nvSpPr>
        <p:spPr>
          <a:xfrm>
            <a:off x="0" y="394488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 Hexyl methyl ether       Ethyl methyl ether   Ethyl vinyl ether   Methyl Phenyl ether                       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anis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UPAC     Methoxy hexane              Methoxy ethane          Ethoxy ethene       Meth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0" y="6262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UPAC  3-Methoxyhexane                 5-Ethoxy-2-heptene                      Propenyloxy benz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2" name="Object 25"/>
          <p:cNvGraphicFramePr/>
          <p:nvPr/>
        </p:nvGraphicFramePr>
        <p:xfrm>
          <a:off x="838080" y="1295280"/>
          <a:ext cx="815364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153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4" name="Object 26"/>
          <p:cNvGraphicFramePr/>
          <p:nvPr/>
        </p:nvGraphicFramePr>
        <p:xfrm>
          <a:off x="838080" y="3048120"/>
          <a:ext cx="822672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5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82267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6" name="Object 27"/>
          <p:cNvGraphicFramePr/>
          <p:nvPr/>
        </p:nvGraphicFramePr>
        <p:xfrm>
          <a:off x="457200" y="4815000"/>
          <a:ext cx="85201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815000"/>
                    <a:ext cx="85201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8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4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3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F2BC-1B87-4D0C-91C5-C7851BCFBB62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51055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cal Properties of E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1"/>
          <p:cNvSpPr/>
          <p:nvPr/>
        </p:nvSpPr>
        <p:spPr>
          <a:xfrm>
            <a:off x="0" y="1287720"/>
            <a:ext cx="91440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1) Boil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iling points of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th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those of </a:t>
            </a:r>
            <a:r>
              <a:rPr b="0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lcohol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ame molecular we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2) Solubility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s a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le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in water than alcohols (Because they don’t have –OH group, So they are not hydrogen bond dono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ore water-solu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hydrocarbons of similar molecular weight (Because they are pol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5" name=""/>
          <p:cNvGraphicFramePr/>
          <p:nvPr/>
        </p:nvGraphicFramePr>
        <p:xfrm>
          <a:off x="326880" y="2895480"/>
          <a:ext cx="8425080" cy="1501920"/>
        </p:xfrm>
        <a:graphic>
          <a:graphicData uri="http://schemas.openxmlformats.org/drawingml/2006/table">
            <a:tbl>
              <a:tblPr/>
              <a:tblGrid>
                <a:gridCol w="2106720"/>
                <a:gridCol w="2862360"/>
                <a:gridCol w="1349280"/>
                <a:gridCol w="2106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omp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Form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Bp (°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ethanol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Dimethyl e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O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rop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CH</a:t>
                      </a:r>
                      <a:r>
                        <a:rPr b="0" lang="fr-FR" sz="1600" spc="-1" strike="noStrike" baseline="-25000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-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6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48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3967-3638-4C1B-8FB2-A2CC8CC7E957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Text Box 6"/>
          <p:cNvSpPr/>
          <p:nvPr/>
        </p:nvSpPr>
        <p:spPr>
          <a:xfrm>
            <a:off x="0" y="1384200"/>
            <a:ext cx="890424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a50021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Dehydration of alcohols: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only Symmetric e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hydration of alcoho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s place in the presence of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cid cataly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und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olled temperature (140 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general reaction for ether forma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6"/>
          <p:cNvSpPr/>
          <p:nvPr/>
        </p:nvSpPr>
        <p:spPr>
          <a:xfrm>
            <a:off x="228600" y="914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reparation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Image 2" descr=""/>
          <p:cNvPicPr/>
          <p:nvPr/>
        </p:nvPicPr>
        <p:blipFill>
          <a:blip r:embed="rId1"/>
          <a:stretch/>
        </p:blipFill>
        <p:spPr>
          <a:xfrm>
            <a:off x="2381400" y="2816280"/>
            <a:ext cx="4552920" cy="100332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3"/>
          <p:cNvSpPr/>
          <p:nvPr/>
        </p:nvSpPr>
        <p:spPr>
          <a:xfrm>
            <a:off x="7560" y="343116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Image 8" descr=""/>
          <p:cNvPicPr/>
          <p:nvPr/>
        </p:nvPicPr>
        <p:blipFill>
          <a:blip r:embed="rId2"/>
          <a:stretch/>
        </p:blipFill>
        <p:spPr>
          <a:xfrm>
            <a:off x="1066680" y="4076640"/>
            <a:ext cx="6248520" cy="2598840"/>
          </a:xfrm>
          <a:prstGeom prst="rect">
            <a:avLst/>
          </a:prstGeom>
          <a:ln w="0">
            <a:noFill/>
          </a:ln>
        </p:spPr>
      </p:pic>
      <p:sp>
        <p:nvSpPr>
          <p:cNvPr id="1156" name="Text Box 9"/>
          <p:cNvSpPr/>
          <p:nvPr/>
        </p:nvSpPr>
        <p:spPr>
          <a:xfrm>
            <a:off x="5106600" y="350532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mmetric 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7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59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174-7B65-4622-A60B-E81C21457788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Cloud 4"/>
          <p:cNvSpPr/>
          <p:nvPr/>
        </p:nvSpPr>
        <p:spPr>
          <a:xfrm>
            <a:off x="-1440" y="5557680"/>
            <a:ext cx="5518080" cy="1224000"/>
          </a:xfrm>
          <a:custGeom>
            <a:avLst/>
            <a:gdLst>
              <a:gd name="textAreaLeft" fmla="*/ 760320 w 5518080"/>
              <a:gd name="textAreaRight" fmla="*/ 4365360 w 5518080"/>
              <a:gd name="textAreaTop" fmla="*/ 184680 h 1224000"/>
              <a:gd name="textAreaBottom" fmla="*/ 982440 h 12240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6"/>
          <p:cNvSpPr/>
          <p:nvPr/>
        </p:nvSpPr>
        <p:spPr>
          <a:xfrm>
            <a:off x="240120" y="9097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Preparation of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"/>
          <p:cNvSpPr/>
          <p:nvPr/>
        </p:nvSpPr>
        <p:spPr>
          <a:xfrm>
            <a:off x="206280" y="1390680"/>
            <a:ext cx="91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2)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The Williamson syn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ethod is usually used for preparation of unsymmetrical e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Image 3" descr=""/>
          <p:cNvPicPr/>
          <p:nvPr/>
        </p:nvPicPr>
        <p:blipFill>
          <a:blip r:embed="rId1"/>
          <a:stretch/>
        </p:blipFill>
        <p:spPr>
          <a:xfrm>
            <a:off x="152280" y="2390760"/>
            <a:ext cx="8839440" cy="1571760"/>
          </a:xfrm>
          <a:prstGeom prst="rect">
            <a:avLst/>
          </a:prstGeom>
          <a:ln w="0">
            <a:noFill/>
          </a:ln>
        </p:spPr>
      </p:pic>
      <p:pic>
        <p:nvPicPr>
          <p:cNvPr id="1166" name="Image 4" descr=""/>
          <p:cNvPicPr/>
          <p:nvPr/>
        </p:nvPicPr>
        <p:blipFill>
          <a:blip r:embed="rId2"/>
          <a:stretch/>
        </p:blipFill>
        <p:spPr>
          <a:xfrm>
            <a:off x="122400" y="3962520"/>
            <a:ext cx="8866080" cy="152244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69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0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1" name="Object 18"/>
          <p:cNvGraphicFramePr/>
          <p:nvPr/>
        </p:nvGraphicFramePr>
        <p:xfrm>
          <a:off x="438120" y="5715000"/>
          <a:ext cx="4294080" cy="871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2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8120" y="5715000"/>
                    <a:ext cx="42940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Right Arrow 3"/>
          <p:cNvSpPr/>
          <p:nvPr/>
        </p:nvSpPr>
        <p:spPr>
          <a:xfrm rot="15336000">
            <a:off x="2265120" y="5466600"/>
            <a:ext cx="490680" cy="182880"/>
          </a:xfrm>
          <a:prstGeom prst="rightArrow">
            <a:avLst>
              <a:gd name="adj1" fmla="val 50000"/>
              <a:gd name="adj2" fmla="val 4992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86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9A09-D6FE-4C00-A6E8-EBD114A301B1}" type="slidenum">
              <a:rPr b="0" lang="en-US" sz="12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98FC-CCF4-4595-BBEA-5FCB0A5D4EB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6" name="Image 5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869080" cy="2089440"/>
          </a:xfrm>
          <a:prstGeom prst="rect">
            <a:avLst/>
          </a:prstGeom>
          <a:ln w="0">
            <a:noFill/>
          </a:ln>
        </p:spPr>
      </p:pic>
      <p:sp>
        <p:nvSpPr>
          <p:cNvPr id="1177" name="Rectangle 3"/>
          <p:cNvSpPr/>
          <p:nvPr/>
        </p:nvSpPr>
        <p:spPr>
          <a:xfrm>
            <a:off x="151920" y="2219400"/>
            <a:ext cx="14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6"/>
          <p:cNvSpPr/>
          <p:nvPr/>
        </p:nvSpPr>
        <p:spPr>
          <a:xfrm>
            <a:off x="-25560" y="1395000"/>
            <a:ext cx="894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The alkoxide 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only made 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by adding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or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to the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The phenoxide is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mmonly made 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by adding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aOH</a:t>
            </a:r>
            <a:r>
              <a:rPr b="0" lang="en-US" sz="2400" spc="-1" strike="noStrike">
                <a:solidFill>
                  <a:srgbClr val="151618"/>
                </a:solidFill>
                <a:latin typeface="Times New Roman"/>
                <a:ea typeface="Times New Roman"/>
              </a:rPr>
              <a:t> to the phe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24480" y="9907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3)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Alkoxide  from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0" name="Object 16"/>
          <p:cNvGraphicFramePr/>
          <p:nvPr/>
        </p:nvGraphicFramePr>
        <p:xfrm>
          <a:off x="914400" y="4876920"/>
          <a:ext cx="6400800" cy="144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1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876920"/>
                    <a:ext cx="64008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2" name="Picture 4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5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184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2770200" y="380880"/>
            <a:ext cx="281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  <a:ea typeface="Tahoma"/>
              </a:rPr>
              <a:t>Ethers and Ep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20:35:59Z</dcterms:modified>
  <cp:revision>119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