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12.wmf" ContentType="image/x-wmf"/>
  <Override PartName="/ppt/media/image4.png" ContentType="image/png"/>
  <Override PartName="/ppt/media/image30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9DFA-8030-4D71-B6EC-F65CA5E77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00A-67F0-4BBE-848A-E371F6992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7F50-BB41-4FBB-A21B-A11C0D8A5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AFC-D643-498B-99DC-54D62605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4FB-DD9F-4F43-9997-DF577AAB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94355-2927-48F9-9C3D-39DC8D71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05F9E-4172-45C7-BB7D-8CB5095E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F2C3C-6C40-48BD-B6BF-4E5377A3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18B37-DF1E-463B-8EAB-FC15115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8CC7D-EB71-4E88-AB8E-D0D7F4B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E9914-98DA-48E0-9C70-5240A8A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3D9F1-1C69-455B-AFF4-AA5F81F8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44735-CC5B-4846-8E34-3AB9039C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DF04B-FB95-4E17-AC09-12E96D02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E4CD2-88CC-40A9-BA27-6C33FAB7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BEA-34A9-44BA-8DEC-FF0A6FEA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7FE95-BF22-4417-9CE4-B928596B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EB647-E483-4D6B-9F6F-C38FBCCD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3AD1E-E965-4222-B924-55D59992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1CD8F-C0BE-4B1E-AB38-62F926E0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D2FB-7C66-47FF-A1E5-342EA252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865D3-1DBE-4865-B65E-6FF9F41D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42D58-F2D8-4996-AF71-F9C1CFA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EDF0B-7F37-48A1-9587-47AA8AC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DC89A-4AFD-433C-9C9E-4DDA4F4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3FABD-0A86-412C-A389-5111BB82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062-C5BB-4E6B-8714-93D68DBA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EF9AF-8B62-45BD-9A6B-3CB033C0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7C321-164F-43D5-BB4A-CA6ECED9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16971-F4AB-439A-A567-C5E679DD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6D6A3-6228-4545-80A3-AAA2CBE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A5AE3-CB6D-45C2-9113-72BAA46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D53D1-F321-4B49-8D63-C4B15FA1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5120F-886E-4D8A-8D2E-22DD6CF0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D77AF-4183-45CA-82F5-6443129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EB608-4C19-45DA-8309-52D3645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9E1D6-EF1B-4606-A213-0AFC3E1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EA5-9809-45F8-BC13-72D621BD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AF34-1F41-47CA-8D36-45E8060E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F8D8-F1F2-482A-A2E1-75F05F46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E3EEF-F653-4135-B22C-697EFECF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F34A8-F810-4220-B7C5-B75A0DBD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C7A44-49F7-4E66-BBFC-9AC43F13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875B1-617E-4BE0-8356-A272567B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438A1-22BF-48A6-93E8-6FF7BC81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DCF65-8186-40DF-879C-58334BB0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CA068-782E-4ED3-902D-5683B43D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04881-0CA2-4D47-A048-878D670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0ACD-8AEF-498C-9413-5CF66A80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FF7C9-7FA7-4752-ADFC-A2A9BF6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C96B8-319C-4812-A517-EB77765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2AE51-1F26-4FFB-AE8D-98147E9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0D14C-6357-484B-AE33-36684E4B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192B5-5A64-4646-B57B-16FDB225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41561-3FBC-46CA-87F8-21D49E7C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BA6E2-3BD6-4375-B31D-ADE30BAB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6D46C-4B7A-4CD2-BD7E-7B7FE7F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6408B-D1DB-4B58-9ACA-4680755E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4B7A0-494C-4836-BBA5-CBC6E72F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DE6F-B488-4D7B-807A-565D6F34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81B38-5C5D-4837-821C-5120C544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ED2F9-AD2C-4583-832E-833BD52D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69171-62A1-4759-8654-13F5A3F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3E8CE-AE8F-4C16-8497-CB2D2AF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7EBA7-CCB1-408A-9D38-090EBA2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ACD22-2107-4B47-A3C0-52424ABA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6EBE5-0D5A-48AE-B295-69457026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108001-FFC8-4AAF-9BEA-A6440DFE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162AE2-5ACA-4C49-9C79-D8A25D8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D299BA-CCCB-46A0-AF15-4B141BE8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0949-E547-4ED9-8D99-C7F3771C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0A28AF-754F-43CC-965C-BDA9BFCD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865A5A-6331-445E-9DC7-9547FFE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CB4B39-A309-4182-AC30-69B590C2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5A2429-2E59-46A4-9AD3-96E4181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4E9C8E-2138-494C-8287-A34F019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A381AC-F2D9-433E-83A8-1F8554A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2145E7-9001-42AB-9CFF-587093C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E74D29-E3B0-477C-B73F-0CCF62A3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E95A48-EF0B-4692-B0B8-689C7550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928F7-F5AC-4872-A69A-D543B9BD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749-B5AF-4EA3-A658-577DCE22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ACABF-64D7-4F15-8972-132A5DB1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07547-DCC3-4E13-A685-F78C1C9B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F05F2-4313-4026-8DA9-A3FE348E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EC3A2-3732-4FAF-8D1A-1665E4C7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3A50F-F13C-4BAE-9A0A-26390A6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58221-6F13-45D5-9812-9E96B74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F6F4F-B5B2-4B48-9F0C-CFB782E9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4E458-BB12-46F3-BB21-2462AF7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25771-75B0-4B4A-88ED-F807C916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5F7AE-79FF-456A-A55D-2D6AECC4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CD0-EF9B-4673-9643-21C20CB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1066D3-F8C0-44DD-8B4A-7FC5596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B18D7-C4AB-4ACA-9F8D-C8049090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F438F-3855-4BA8-806F-527C6FB8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F293A-4F94-420D-877E-B841609B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EBBF3-E94C-40DF-AD7D-F4408F7D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C9BBE-7238-47DB-93AA-9490B40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882D8-7611-4112-9DBC-BAFBC21E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F1FAA-4484-4973-B16E-80194143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15E46-74E5-4265-83A2-0140914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60BFD-A320-4DD4-B3E2-7308A27A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0122-AEBC-41BD-A131-5A5216E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BDCC9-87A6-432A-89EF-CF816FB1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44C3B-777D-4E16-BE69-D09E2474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DEDD6-5F82-494E-9D2E-0E42D5F9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67A28-3F3D-4F82-82EC-246290D3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B21A0-8B9A-472F-B0E7-DC4F2CA1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33AA7-F047-4C30-808A-722B9D1F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76ADC-783E-46C2-BB04-0E9B9DB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21734-59B0-4071-9438-42C65F90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9E446-F9F0-4BA1-90EA-B1C6214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ADD98-B41A-4C93-B7C8-591927EA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637-6CF3-4F9E-ADD6-49A4249E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0751-F3C8-460D-87B7-BBEA0FA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725FA-646C-4E7A-9FB4-467F7975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441A9-EA90-4DF1-9637-C41CC61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A4E14-D029-495E-8BCD-0514402A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214CA-EDB4-4519-AACE-FDBE364D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10F35-C500-4864-8FD3-AD9D99D0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3452C-BA22-4889-8EB4-B7EB3F66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EFCA3-A01B-4B5F-A4B1-BD30CA4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9AFD3-DCFA-4906-8481-DCEEDB9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A61B7-6E2F-4FD6-9025-A6A48F7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1F307-B175-439C-88D3-060B2D46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D076-2C38-4E79-B4E1-BF7F27F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7CE0A-63A7-4021-B989-D689448D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3D1406-BDD2-41EC-8D10-3B6FB20E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1DCD5-639F-43CA-B695-6682C45E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03044-AD59-4F34-A1AA-C2091D15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37DE7-6D0E-4953-8FCC-3BC1FA45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A5079-12B8-43EF-B95F-154EE16C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BCCB2-D38C-40D4-9D1F-E1B66BDD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DEFA8-3851-4BA7-A47D-56376D0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7B416-18AA-4232-98B0-216AE537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DD218-EE6A-47D6-8397-3168D8CC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124F-1B07-4958-B2B6-2F149C4B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675A5-CE43-4317-8B0A-C6D330D0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FFB61-364C-4BC5-B26E-2F7AB14F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CF693-20AC-4CDD-B143-C2DBCA4A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6BEDD-C514-4602-B36C-4A7A5A1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3C9D6-9629-449C-B34A-79DCC91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5626F-8709-4EDE-B7A4-6211341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0AD1A-4CAD-4102-A85E-31B459B3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B3C9F7-250E-4AC0-ACCD-5C9B008C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76419-1596-48A6-8EC5-2FAECE1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D403A9-7229-4445-90EF-10B2C3C1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250F-869F-4C1F-B74A-A5A56451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B57E9-5E18-4171-9C37-57A39AB4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0A0E7-7B9C-476E-8224-224A2927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00199-566C-4F23-8656-56EBF8AA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1F8CF-64BF-4528-905B-3BD12801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19A65-1D61-419F-B520-27DB56B8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59BBEC-D023-4E74-A28D-97889EF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8DF48-3899-4028-B2B2-3BB5E0A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81A18-FBCF-4F6C-A8D2-8902960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BB670-F8B6-4626-AAAA-5BB7C16E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B734D-18E0-4917-AFE6-F4E53FCF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B4F4-E25E-4857-9640-D1A8FDE6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FB407-80EF-4847-A182-8549436F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7EB6E-309B-4EEB-A5AE-DAED1C8D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80D9E-9543-4179-AFF8-0EFE471E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F2B2C9-22EB-4DC1-A8E9-FC5C17FF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6F23A-9D2C-4377-956A-B17CE8A7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50CCA-620A-4AE7-8411-005955F9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FEFBF-8C38-40E4-89EF-2D6E912C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10288-7610-40E0-B8E8-0C1B320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80113-3B96-4413-8EED-A9B82F39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AE644-3641-4584-8787-5A66FF95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8649-A453-4576-B335-A749E01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A6F74-390C-4AE3-AC54-24F9CF36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B66D7-206D-44A0-8305-7B507373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E3EDF-1E20-42FC-832F-08AFF0F0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BA972B-6EBE-4BB2-8BDF-BE3E4618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607BE-BF47-4174-9139-48F9E3AF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9809E5-64AE-4C01-9B49-13F94266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92B66-FA75-4BBB-A618-5C368377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2C6BBC-E7ED-4DF5-A08E-058BE58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F07D6-C10C-4825-8EB4-A8672C35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AC6FF-6A5F-4436-9E6B-A392C01B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863FC-3B9E-4EC5-ADF6-BD8FA8F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6D8E69-02B2-4118-B4DA-9B29D0D2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FEB8F-353E-4E99-9A88-FA85E69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D67B3A-42C9-4D53-B38C-DCB65F74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93C897-1B97-4897-9895-0622AB59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C956C6-F201-4241-A902-3142AE59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E5E2A4-61CE-4F30-BB38-01DC3EB8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0454FC-0CC9-4639-976C-44C373E7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43AC8-7646-4248-B969-3330CD1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487DA8-59F9-4686-A860-CF2258DD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3F536-3961-4446-ABD8-B7F66086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E935-3E13-453E-AFB8-3E18561E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E4E35-815D-43A9-B44D-D474966F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FF11DF-314F-4688-B8C8-335A2F3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DF620-29DD-452E-937C-D005C74C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124E59-72C8-483B-AA99-3285860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585A67-E73C-426C-A9DF-349E27EC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3395AF-8735-4BF9-9AF3-CB72EA09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1A41F5-5A1B-43E1-866B-DD935307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1C8907-53ED-49EF-A65F-6BAF7D53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2CFBFC-EE86-4E6B-88AD-1CFAB630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1FD85-5E69-477C-9150-F045665A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E4C7-8B41-44CA-BB69-672A0AF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C8C9B7-7529-4537-A631-64408C5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B33C97-4EC2-4672-A30C-ED11A77C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3D3DE9-944C-4F11-B071-95D7F212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E0CF03-8415-4BA6-8272-78F13DE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5414A-63AA-4816-95CC-404F48AB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3738AF-E200-46E7-B604-C2CA4E7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0E86E7-406A-42FF-B0CE-718EBDB2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6DB0A3-9AFE-4362-B832-CBF7598D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515D8D-3470-49F8-BC68-E3EFED24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3360-C932-4570-BEA0-120EEF4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9C9-F9A9-4A0B-B629-E8116992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B737-5D5F-4C6F-8F16-0599452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FD63-E80F-45F7-A436-75D2CDD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CBBA-5735-4765-94E7-F5582ED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9AD0-3EA7-40B9-A609-5872AF42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0F75-27AE-4805-9A6D-A87D8396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D4B8-B384-4ACF-9699-E720031B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E1DC-3D83-4CC7-8437-F45B805E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0F58-F7E5-4B78-A5B7-613597E2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7566-4F28-4418-B4EF-878AFFF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BA09-C88E-44EF-A4D3-94244338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1ED-B9ED-4E52-B6B3-81EE6B4A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990D-D6B6-4C3E-80AB-98FF18A6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CDDF-4DB1-4C7D-A4E8-9351BD32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974B-88EA-44AF-8C7F-8B8EB02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2C9D-4DFE-4F3A-8DED-F6372F3C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DAB2-E727-4F4A-80F1-38654B10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5F42-D4AA-4370-8BCD-AD31230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C4A8-308F-4739-A88E-0C149C9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39B3-B466-4150-B74B-6A88ABE3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F143-ECA7-493D-9AB6-36C2D8A5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69C32-38EA-48C0-9DFB-BAB467AF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1C8-FFE8-4137-9C0F-08D43046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8DC0-2C03-4328-BDD1-20451394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51CD-E300-4C6B-B63C-11DD635A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342C-1AC5-4146-9F57-7AA67D94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5995-EFE1-4D85-AD52-9BBB9B43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DCE5-58EF-4468-A440-069D4D6B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6904-DEC0-4BA7-BFBB-6E7E6C7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30931-DFA5-4E64-861D-3AFFB8E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314E-B4F3-4098-BB4F-6EE2C2B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9D56-A05D-4925-A836-24B7732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4D38-D9FC-485F-8166-B0BC3822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5B2-0C3F-46FE-8DEE-23E6497A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7690-AE10-4DE8-B389-9B71FDED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CB75A-6FD9-4A62-A412-D66FCF8B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8B0C0-237C-4AB5-AA93-2E484EA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E7E9-B8A2-4B8C-8E91-7A06C4BC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897C-B2ED-4472-A36E-A8886A85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6E3E-1C29-4A6F-BE20-A353400F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4A31-B70F-46D6-8705-EE23828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A22CF-C824-4CC9-A652-CFF13F2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59B5E-6D6D-41CC-87E1-44B0028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491A-9DBF-436B-8490-BEA17E9E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3BE-1D84-4775-8C56-052921D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88044-13A6-4AC0-9040-2E1D184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0ABB-78DE-4DA3-B911-72A34AEB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87AD6-20D3-4332-A225-D5961D82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D174C-A2DC-4FD7-860A-9C24C3B7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77F0-10DB-4FD7-A1BD-3279DB25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E4E6-1397-4C83-A518-3BF1B9F3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86484-5C7F-4D93-A2F9-BDCD49EF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2195E-C1FF-4E47-A696-2C50F915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6C09-3D50-47AF-B6AC-6FE5C47B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6D78-5D8C-4F41-B237-605B94C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9CA-7BE1-450E-9139-216B3CC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AB055-BFCC-48D2-82D2-841BD92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C26D0-CB12-4482-A9E4-6042577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A8D73-D377-41A0-AD3E-1B5FD435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89CB9-4A11-49E6-A672-4B2EEF0A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A161-C567-4EBA-9721-18974075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6F01-722E-4555-9038-9B1E9220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D9374-906B-40E0-8D08-A2FDFBC3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D54FE-3877-49D7-B600-F400FD41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77E0A-1631-4FA0-AA0D-77E580E8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4C5EC-A95D-4647-8FEB-6CF9B415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14E-DA94-45BC-8689-CD1A06A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B413D-6A9A-4DF0-80A7-C137D23A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8C73E-DDEA-4AED-A555-B0EAF931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CC1B4-5779-4E53-996C-15BC37A0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B969-176B-45CE-9DD2-D4F8BB86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9545-9868-4CFD-8074-E2173A0F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E4ED-B833-428B-8191-9A699627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DB3D-B675-4D47-BFEF-E4A3ACC3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E4A47-2027-420F-9EE0-9730839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AC22-5FC4-4E2A-90F3-D30C9A00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6485B-BDDD-4C54-837A-1126B84B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02F3-65D1-4E64-BBC9-BCD5E8297B28}" type="datetime5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79A7-8EEB-4455-A4BA-DF7E22EEF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AC16-08EC-4D88-A844-686CEBF3F658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86DF-97DA-4207-AB56-E3A143B66D25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AFDB-F53B-4B83-9824-BAEC171AC3A8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751-CD9C-4479-A7A9-6E1DE050FD9E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BB8C-8D1B-450B-8459-AB023EB3BE19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D5E9-344F-4E1A-A39B-15FDD3DEA93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B0F9-7E3C-4853-A819-AC8E04EFC5F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CAA4-3690-4F89-82E8-22807B7125A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F109-A6D6-4A65-9D42-68445BC737C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8977-D240-4418-9018-2F236B13282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4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07CD-56DC-49AC-92BB-0058C7F772C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0BB-D404-48D6-B349-67323236E0E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A173-18B8-445A-88BE-494D267ADE1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0541-1FA3-4AC2-9AAA-E599ED55C26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6254-D933-4818-9D13-040FA69CDAA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0EC2-052C-4F86-9DB0-ADC32812D4D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1FD5-A1C3-4DBD-BB4D-6AAEE74D6E9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CE1-6D61-4777-9AA5-0C8599D1B35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DAC5-DFE8-47FD-9BE4-01DA57CF64F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DA00-2384-4118-9D13-F15BCB35F01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3081-E3C7-4FC6-9FC5-A9F036A15D5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91EF-9872-4FD0-B879-2A1DC2CD858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C3F-E8E1-4800-B2A5-B00EA4D54C4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A0C3-8E8A-4B65-A4F9-F4C6D760052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7E5A-C22D-4E85-BDED-42B3A28C41C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6EA1-667C-4C49-BFE9-59DFF2126E3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623A-4975-4D63-8057-F7BC64715C1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9CBE-7C68-419C-9EA2-E27DE6F83AD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310-2EC6-4C8D-A740-92D32F85E9A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ADFB-09DA-4743-8EE4-E8AB0DCC136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4CAC-28A6-47DD-B4AF-AF546441F84C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ADF7-9740-4CF5-A93E-379A6DFF7DC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CDDC-3204-4DA1-AFD8-6671B90D225A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FBC2-9C40-4166-97E6-3DB9F2B4DA38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9212-B72F-4B9A-BF55-15490C7D6BBF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63B-2B70-4614-A25D-6D5F9F339C0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B907-6FF7-4FDE-9B2A-88D815EDA318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8BAE-00CD-42F9-B1F6-64EC24AC826B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E0B1-79D4-4D8D-90A0-C419920FC837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78F-D240-4D5D-A7A9-25950A03AD6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73E4-115E-4691-AD70-9D69F2531AF1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E8F1-22A7-4947-833E-5E69F7243228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7E2B-0E6B-4648-B0F5-668720374E06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41F-512F-4C2C-9681-B2D3B3BC66D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C50-5600-4D7B-BBE8-A06DA96B444D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FD8-AF9D-481D-8AAB-1CEE0EA54D7B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rganic_compound" TargetMode="External"/><Relationship Id="rId2" Type="http://schemas.openxmlformats.org/officeDocument/2006/relationships/hyperlink" Target="http://en.wikipedia.org/wiki/Oxygen" TargetMode="External"/><Relationship Id="rId3" Type="http://schemas.openxmlformats.org/officeDocument/2006/relationships/hyperlink" Target="http://en.wikipedia.org/wiki/Atom" TargetMode="External"/><Relationship Id="rId4" Type="http://schemas.openxmlformats.org/officeDocument/2006/relationships/hyperlink" Target="http://en.wikipedia.org/wiki/Alkyl" TargetMode="External"/><Relationship Id="rId5" Type="http://schemas.openxmlformats.org/officeDocument/2006/relationships/hyperlink" Target="http://en.wikipedia.org/wiki/Aryl" TargetMode="External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276-5AE5-4DC3-B10D-22C75EBB678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3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1100" name="Straight Connector 4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5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6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"/>
          <p:cNvSpPr/>
          <p:nvPr/>
        </p:nvSpPr>
        <p:spPr>
          <a:xfrm>
            <a:off x="2008080" y="2057400"/>
            <a:ext cx="43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2d567265ef611378e0093ac560e30f62_a344e1b54f4f10f79bdaf4a9ab8df430.png"/>
          <p:cNvPicPr/>
          <p:nvPr/>
        </p:nvPicPr>
        <p:blipFill>
          <a:blip r:embed="rId3"/>
          <a:stretch/>
        </p:blipFill>
        <p:spPr>
          <a:xfrm>
            <a:off x="1066680" y="3124080"/>
            <a:ext cx="2987640" cy="1602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200px-Ethylene-oxide-3D-balls.png"/>
          <p:cNvPicPr/>
          <p:nvPr/>
        </p:nvPicPr>
        <p:blipFill>
          <a:blip r:embed="rId4"/>
          <a:stretch/>
        </p:blipFill>
        <p:spPr>
          <a:xfrm>
            <a:off x="4191120" y="2895480"/>
            <a:ext cx="2539800" cy="1968480"/>
          </a:xfrm>
          <a:prstGeom prst="rect">
            <a:avLst/>
          </a:prstGeom>
          <a:ln w="0">
            <a:noFill/>
          </a:ln>
        </p:spPr>
      </p:pic>
      <p:sp>
        <p:nvSpPr>
          <p:cNvPr id="1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04A-B7D1-4EB2-BF5E-23247137143B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4"/>
          <p:cNvSpPr/>
          <p:nvPr/>
        </p:nvSpPr>
        <p:spPr>
          <a:xfrm>
            <a:off x="165960" y="10666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Reactions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66600" y="130500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leavage of ethers by hot concentrated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quite stable compounds. Ethers react only under strongly acidic condition.When ethers are heated in concentrated acid solutions, the ether linkage is bro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Gener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Image 19" descr=""/>
          <p:cNvPicPr/>
          <p:nvPr/>
        </p:nvPicPr>
        <p:blipFill>
          <a:blip r:embed="rId1"/>
          <a:stretch/>
        </p:blipFill>
        <p:spPr>
          <a:xfrm>
            <a:off x="2819520" y="3613320"/>
            <a:ext cx="4897440" cy="82368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6"/>
          <p:cNvSpPr/>
          <p:nvPr/>
        </p:nvSpPr>
        <p:spPr>
          <a:xfrm>
            <a:off x="-15840" y="5944680"/>
            <a:ext cx="91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s most often used in this reaction are HI, HBr, and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5"/>
          <p:cNvSpPr/>
          <p:nvPr/>
        </p:nvSpPr>
        <p:spPr>
          <a:xfrm>
            <a:off x="77040" y="4440240"/>
            <a:ext cx="236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Specific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Image 20" descr=""/>
          <p:cNvPicPr/>
          <p:nvPr/>
        </p:nvPicPr>
        <p:blipFill>
          <a:blip r:embed="rId2"/>
          <a:stretch/>
        </p:blipFill>
        <p:spPr>
          <a:xfrm>
            <a:off x="1523880" y="5029200"/>
            <a:ext cx="6767640" cy="8478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9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2785-08D8-441F-ABAD-6AB379D9B909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Image 25" descr=""/>
          <p:cNvPicPr/>
          <p:nvPr/>
        </p:nvPicPr>
        <p:blipFill>
          <a:blip r:embed="rId1"/>
          <a:stretch/>
        </p:blipFill>
        <p:spPr>
          <a:xfrm>
            <a:off x="369720" y="4724280"/>
            <a:ext cx="8442360" cy="157824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3"/>
          <p:cNvSpPr/>
          <p:nvPr/>
        </p:nvSpPr>
        <p:spPr>
          <a:xfrm>
            <a:off x="39600" y="1076040"/>
            <a:ext cx="9126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id is present, the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lly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verted to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lkyl hali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the net products will be 2 moles of alkyl ha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46080" y="411696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15"/>
          <p:cNvGraphicFramePr/>
          <p:nvPr/>
        </p:nvGraphicFramePr>
        <p:xfrm>
          <a:off x="533520" y="3124080"/>
          <a:ext cx="8127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24080"/>
                    <a:ext cx="8127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04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C586-039E-4661-AABD-90DBA08E396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92160" y="159696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yclic ethers (heterocyclic), one or more carbons are replaced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clic eth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ether oxygen is part of a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ree-membered 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55440" y="5601240"/>
            <a:ext cx="90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nd most important epoxide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ene oxi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6"/>
          <p:cNvSpPr/>
          <p:nvPr/>
        </p:nvSpPr>
        <p:spPr>
          <a:xfrm>
            <a:off x="141120" y="1001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yclic Ethers-Epox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1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Object 16"/>
          <p:cNvGraphicFramePr/>
          <p:nvPr/>
        </p:nvGraphicFramePr>
        <p:xfrm>
          <a:off x="733320" y="2514600"/>
          <a:ext cx="77947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320" y="2514600"/>
                    <a:ext cx="77947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0F4-54CF-4A50-B1B0-9988FF6133BD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14"/>
          <p:cNvSpPr/>
          <p:nvPr/>
        </p:nvSpPr>
        <p:spPr>
          <a:xfrm>
            <a:off x="0" y="109476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roxyacid Ep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oxyacid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(sometimes called peracids) are used to conver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en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to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poxid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If the reaction takes place in aqueous acid, the epoxide opens to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Because of its desirable solubility properties,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-chloroperoxybenzoic acid 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(MCPBA) is often used for these epoxid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15" descr=""/>
          <p:cNvPicPr/>
          <p:nvPr/>
        </p:nvPicPr>
        <p:blipFill>
          <a:blip r:embed="rId1"/>
          <a:stretch/>
        </p:blipFill>
        <p:spPr>
          <a:xfrm>
            <a:off x="971640" y="3505320"/>
            <a:ext cx="7704000" cy="97452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6" descr=""/>
          <p:cNvPicPr/>
          <p:nvPr/>
        </p:nvPicPr>
        <p:blipFill>
          <a:blip r:embed="rId2"/>
          <a:stretch/>
        </p:blipFill>
        <p:spPr>
          <a:xfrm>
            <a:off x="2367000" y="4543560"/>
            <a:ext cx="3816360" cy="2390760"/>
          </a:xfrm>
          <a:prstGeom prst="rect">
            <a:avLst/>
          </a:prstGeom>
          <a:ln w="0">
            <a:noFill/>
          </a:ln>
        </p:spPr>
      </p:pic>
      <p:sp>
        <p:nvSpPr>
          <p:cNvPr id="1221" name="Rectangle 17"/>
          <p:cNvSpPr/>
          <p:nvPr/>
        </p:nvSpPr>
        <p:spPr>
          <a:xfrm>
            <a:off x="279720" y="4420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2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1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8821-C2A9-4D7A-BAF8-CBBBA7C9BEB4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1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much more reactive than common dialkyl ether, because of the strain 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e-membered 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relieved when the epoxide ring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a reaction has taken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ring-opening reactions(cleavage carbon-oxygen bond) of ethylene oxide that form commercially important produc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138240" y="3962520"/>
            <a:ext cx="87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water 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14"/>
          <p:cNvGraphicFramePr/>
          <p:nvPr/>
        </p:nvGraphicFramePr>
        <p:xfrm>
          <a:off x="1154160" y="4495680"/>
          <a:ext cx="677052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4495680"/>
                    <a:ext cx="67705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1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3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C18B-BC4C-40F8-8EF5-E9275DC07D95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4"/>
          <p:cNvSpPr/>
          <p:nvPr/>
        </p:nvSpPr>
        <p:spPr>
          <a:xfrm>
            <a:off x="117360" y="1222200"/>
            <a:ext cx="89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2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oxy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117360" y="3193200"/>
            <a:ext cx="90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3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 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halic acid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(HCl, HBr, or HI), a halide ion attacks the protonated epoxide to give halo alcoho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Espace réservé du numéro de diapositive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5E88-075D-4FCF-A795-AD8475143431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Object 19"/>
          <p:cNvGraphicFramePr/>
          <p:nvPr/>
        </p:nvGraphicFramePr>
        <p:xfrm>
          <a:off x="1371600" y="4871880"/>
          <a:ext cx="6665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871880"/>
                    <a:ext cx="6665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1" name="Object 20"/>
          <p:cNvGraphicFramePr/>
          <p:nvPr/>
        </p:nvGraphicFramePr>
        <p:xfrm>
          <a:off x="985680" y="1984320"/>
          <a:ext cx="766296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5680" y="1984320"/>
                    <a:ext cx="7662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3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45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8"/>
          <p:cNvSpPr/>
          <p:nvPr/>
        </p:nvSpPr>
        <p:spPr>
          <a:xfrm>
            <a:off x="357120" y="1371600"/>
            <a:ext cx="850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ignard and Organolithium Reag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onger 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Object 19"/>
          <p:cNvGraphicFramePr/>
          <p:nvPr/>
        </p:nvGraphicFramePr>
        <p:xfrm>
          <a:off x="685800" y="2438280"/>
          <a:ext cx="619272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619272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8"/>
          <p:cNvSpPr/>
          <p:nvPr/>
        </p:nvSpPr>
        <p:spPr>
          <a:xfrm>
            <a:off x="355680" y="4040280"/>
            <a:ext cx="85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5" name="Object 20"/>
          <p:cNvGraphicFramePr/>
          <p:nvPr/>
        </p:nvGraphicFramePr>
        <p:xfrm>
          <a:off x="380880" y="4648320"/>
          <a:ext cx="8001000" cy="13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6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648320"/>
                    <a:ext cx="800100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6FFF-60AE-4B0B-9DAC-1B2A5DDFB853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"/>
          <p:cNvSpPr/>
          <p:nvPr/>
        </p:nvSpPr>
        <p:spPr>
          <a:xfrm>
            <a:off x="34920" y="11620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correct name for each of the following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Image 6" descr=""/>
          <p:cNvPicPr/>
          <p:nvPr/>
        </p:nvPicPr>
        <p:blipFill>
          <a:blip r:embed="rId1"/>
          <a:stretch/>
        </p:blipFill>
        <p:spPr>
          <a:xfrm>
            <a:off x="324000" y="2438280"/>
            <a:ext cx="6337080" cy="2514600"/>
          </a:xfrm>
          <a:prstGeom prst="rect">
            <a:avLst/>
          </a:prstGeom>
          <a:ln w="0">
            <a:noFill/>
          </a:ln>
        </p:spPr>
      </p:pic>
      <p:sp>
        <p:nvSpPr>
          <p:cNvPr id="1260" name="Rectangle 1"/>
          <p:cNvSpPr/>
          <p:nvPr/>
        </p:nvSpPr>
        <p:spPr>
          <a:xfrm>
            <a:off x="34920" y="4829040"/>
            <a:ext cx="91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c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a Williamson synthesis of 3-butoxy-1,1-dimethylcyclohexane from 3,3-dimethylcyclohexanol and but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DD6-98CD-41F1-A22F-F44F25CD727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2"/>
          <p:cNvSpPr/>
          <p:nvPr/>
        </p:nvSpPr>
        <p:spPr>
          <a:xfrm>
            <a:off x="0" y="10666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 the products of the following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Object 13"/>
          <p:cNvGraphicFramePr/>
          <p:nvPr/>
        </p:nvGraphicFramePr>
        <p:xfrm>
          <a:off x="228600" y="2209680"/>
          <a:ext cx="82598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2598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9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F8F-591B-4289-AC12-61A21710B82A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90ab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6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5A2-7CD6-496A-B9F3-7F1CB0E3A92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9"/>
          <p:cNvSpPr/>
          <p:nvPr/>
        </p:nvSpPr>
        <p:spPr>
          <a:xfrm>
            <a:off x="0" y="1459440"/>
            <a:ext cx="914400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seven discusses the following topics and by the end of this chapter the students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structure  of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of naming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physical properties of ethers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preparation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opened ethers with H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synthesis of epox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epoxides with different nucleophiles such as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ROH, HX, Grignard and organolithium e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8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1BA7-2921-414D-957B-4B411DF9B9D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4"/>
          <p:cNvSpPr/>
          <p:nvPr/>
        </p:nvSpPr>
        <p:spPr>
          <a:xfrm>
            <a:off x="10800" y="1295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tructure 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0" y="1752480"/>
            <a:ext cx="91440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Ether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lass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organic compound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t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nected to two organic groups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alk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ar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enzene 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 by σ bonds. thus Ethers are compounds of general formula R–O–R or Ar–O–Ar or  Ar–O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Common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names of ethers are derived by naming the  alkyl groups bonded to the oxygen then listing them in alphabetical order followed by the word "ethe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c8c93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IUPAC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ther functional group does not have a characteristic IUPAC nomenclature suffix, so it is necessary to designate the smaller alkyl group as an alkoxy substituent of a parent compound (alkane , or alkene, or alkyne,or alcohol,---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Image 1" descr=""/>
          <p:cNvPicPr/>
          <p:nvPr/>
        </p:nvPicPr>
        <p:blipFill>
          <a:blip r:embed="rId6"/>
          <a:stretch/>
        </p:blipFill>
        <p:spPr>
          <a:xfrm>
            <a:off x="2268360" y="2908440"/>
            <a:ext cx="5545440" cy="7491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0471-2C86-4BAD-BBE0-B7B9C3DB8A92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2" name=""/>
          <p:cNvGraphicFramePr/>
          <p:nvPr/>
        </p:nvGraphicFramePr>
        <p:xfrm>
          <a:off x="685800" y="1981080"/>
          <a:ext cx="7772400" cy="4635720"/>
        </p:xfrm>
        <a:graphic>
          <a:graphicData uri="http://schemas.openxmlformats.org/drawingml/2006/table">
            <a:tbl>
              <a:tblPr/>
              <a:tblGrid>
                <a:gridCol w="1596960"/>
                <a:gridCol w="1960560"/>
                <a:gridCol w="1895400"/>
                <a:gridCol w="2319480"/>
              </a:tblGrid>
              <a:tr h="698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yl grou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ox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Group 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3" name="Rectangle 33"/>
          <p:cNvSpPr/>
          <p:nvPr/>
        </p:nvSpPr>
        <p:spPr>
          <a:xfrm>
            <a:off x="-5760" y="990720"/>
            <a:ext cx="9198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he common alkoxy substituents are given names derived from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lky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26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E046-4D88-41BD-B127-D1312306733B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Box 2"/>
          <p:cNvSpPr/>
          <p:nvPr/>
        </p:nvSpPr>
        <p:spPr>
          <a:xfrm>
            <a:off x="0" y="2284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Arial"/>
              </a:rPr>
              <a:t>Common    Dimethyl ether             Diethyl ether             Divinyl ether              Diphenyl 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UP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Methoxy methane      Ethoxy ethane                                    Phen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"/>
          <p:cNvSpPr/>
          <p:nvPr/>
        </p:nvSpPr>
        <p:spPr>
          <a:xfrm>
            <a:off x="0" y="394488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 Hexyl methyl ether       Ethyl methyl ether   Ethyl vinyl ether   Methyl Phenyl ether                       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anis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   Methoxy hexane              Methoxy ethane          Ethoxy ethene       Meth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0" y="6262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3-Methoxyhexane                 5-Ethoxy-2-heptene                      Propenyl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2" name="Object 25"/>
          <p:cNvGraphicFramePr/>
          <p:nvPr/>
        </p:nvGraphicFramePr>
        <p:xfrm>
          <a:off x="838080" y="1295280"/>
          <a:ext cx="81536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15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Object 26"/>
          <p:cNvGraphicFramePr/>
          <p:nvPr/>
        </p:nvGraphicFramePr>
        <p:xfrm>
          <a:off x="838080" y="3048120"/>
          <a:ext cx="8226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8226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27"/>
          <p:cNvGraphicFramePr/>
          <p:nvPr/>
        </p:nvGraphicFramePr>
        <p:xfrm>
          <a:off x="457200" y="4815000"/>
          <a:ext cx="85201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815000"/>
                    <a:ext cx="8520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B029-7AF5-4255-B237-E90FAC7DD6E8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1055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al Properties of 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1"/>
          <p:cNvSpPr/>
          <p:nvPr/>
        </p:nvSpPr>
        <p:spPr>
          <a:xfrm>
            <a:off x="0" y="1287720"/>
            <a:ext cx="91440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1) Boil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t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those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ame molecular we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) Solubility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l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water than alcohols (Because they don’t have –OH group, So they are not hydrogen bond don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ore water-solu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hydrocarbons of similar molecular weight (Because they are pol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326880" y="2895480"/>
          <a:ext cx="8425080" cy="1501920"/>
        </p:xfrm>
        <a:graphic>
          <a:graphicData uri="http://schemas.openxmlformats.org/drawingml/2006/table">
            <a:tbl>
              <a:tblPr/>
              <a:tblGrid>
                <a:gridCol w="2106720"/>
                <a:gridCol w="2862360"/>
                <a:gridCol w="1349280"/>
                <a:gridCol w="2106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orm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Bp (°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thano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methyl 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o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6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8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60F8-5DD8-436D-8D1A-54518FF7D30B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6"/>
          <p:cNvSpPr/>
          <p:nvPr/>
        </p:nvSpPr>
        <p:spPr>
          <a:xfrm>
            <a:off x="0" y="1384200"/>
            <a:ext cx="89042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a5002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hydration of alcohols: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only Symmetric e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hydration of alcoho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place in the presence of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id cataly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nd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olled temperature (140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general reaction for ether form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6"/>
          <p:cNvSpPr/>
          <p:nvPr/>
        </p:nvSpPr>
        <p:spPr>
          <a:xfrm>
            <a:off x="2286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Image 2" descr=""/>
          <p:cNvPicPr/>
          <p:nvPr/>
        </p:nvPicPr>
        <p:blipFill>
          <a:blip r:embed="rId1"/>
          <a:stretch/>
        </p:blipFill>
        <p:spPr>
          <a:xfrm>
            <a:off x="2381400" y="2816280"/>
            <a:ext cx="4552920" cy="100332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3"/>
          <p:cNvSpPr/>
          <p:nvPr/>
        </p:nvSpPr>
        <p:spPr>
          <a:xfrm>
            <a:off x="7560" y="34311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Image 8" descr=""/>
          <p:cNvPicPr/>
          <p:nvPr/>
        </p:nvPicPr>
        <p:blipFill>
          <a:blip r:embed="rId2"/>
          <a:stretch/>
        </p:blipFill>
        <p:spPr>
          <a:xfrm>
            <a:off x="1066680" y="4076640"/>
            <a:ext cx="6248520" cy="2598840"/>
          </a:xfrm>
          <a:prstGeom prst="rect">
            <a:avLst/>
          </a:prstGeom>
          <a:ln w="0">
            <a:noFill/>
          </a:ln>
        </p:spPr>
      </p:pic>
      <p:sp>
        <p:nvSpPr>
          <p:cNvPr id="1156" name="Text Box 9"/>
          <p:cNvSpPr/>
          <p:nvPr/>
        </p:nvSpPr>
        <p:spPr>
          <a:xfrm>
            <a:off x="5106600" y="35053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mmetric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59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9DD3-6AA9-439F-91C1-6A0A9A1BCC13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Cloud 4"/>
          <p:cNvSpPr/>
          <p:nvPr/>
        </p:nvSpPr>
        <p:spPr>
          <a:xfrm>
            <a:off x="-1440" y="5557680"/>
            <a:ext cx="5518080" cy="1224000"/>
          </a:xfrm>
          <a:custGeom>
            <a:avLst/>
            <a:gdLst>
              <a:gd name="textAreaLeft" fmla="*/ 760320 w 5518080"/>
              <a:gd name="textAreaRight" fmla="*/ 4365360 w 551808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40120" y="9097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"/>
          <p:cNvSpPr/>
          <p:nvPr/>
        </p:nvSpPr>
        <p:spPr>
          <a:xfrm>
            <a:off x="206280" y="1390680"/>
            <a:ext cx="91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he Williamson syn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ually used for preparation of unsymmetrical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Image 3" descr=""/>
          <p:cNvPicPr/>
          <p:nvPr/>
        </p:nvPicPr>
        <p:blipFill>
          <a:blip r:embed="rId1"/>
          <a:stretch/>
        </p:blipFill>
        <p:spPr>
          <a:xfrm>
            <a:off x="152280" y="2390760"/>
            <a:ext cx="8839440" cy="1571760"/>
          </a:xfrm>
          <a:prstGeom prst="rect">
            <a:avLst/>
          </a:prstGeom>
          <a:ln w="0">
            <a:noFill/>
          </a:ln>
        </p:spPr>
      </p:pic>
      <p:pic>
        <p:nvPicPr>
          <p:cNvPr id="1166" name="Image 4" descr=""/>
          <p:cNvPicPr/>
          <p:nvPr/>
        </p:nvPicPr>
        <p:blipFill>
          <a:blip r:embed="rId2"/>
          <a:stretch/>
        </p:blipFill>
        <p:spPr>
          <a:xfrm>
            <a:off x="122400" y="3962520"/>
            <a:ext cx="8866080" cy="15224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6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Object 18"/>
          <p:cNvGraphicFramePr/>
          <p:nvPr/>
        </p:nvGraphicFramePr>
        <p:xfrm>
          <a:off x="438120" y="5715000"/>
          <a:ext cx="429408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20" y="5715000"/>
                    <a:ext cx="4294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Right Arrow 3"/>
          <p:cNvSpPr/>
          <p:nvPr/>
        </p:nvSpPr>
        <p:spPr>
          <a:xfrm rot="15336000">
            <a:off x="2265120" y="5466600"/>
            <a:ext cx="490680" cy="182880"/>
          </a:xfrm>
          <a:prstGeom prst="rightArrow">
            <a:avLst>
              <a:gd name="adj1" fmla="val 50000"/>
              <a:gd name="adj2" fmla="val 4992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86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97D-A4F5-423A-A291-888FDCDA206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C457-8E81-406B-8412-254A1A7D236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Image 5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869080" cy="2089440"/>
          </a:xfrm>
          <a:prstGeom prst="rect">
            <a:avLst/>
          </a:prstGeom>
          <a:ln w="0">
            <a:noFill/>
          </a:ln>
        </p:spPr>
      </p:pic>
      <p:sp>
        <p:nvSpPr>
          <p:cNvPr id="1177" name="Rectangle 3"/>
          <p:cNvSpPr/>
          <p:nvPr/>
        </p:nvSpPr>
        <p:spPr>
          <a:xfrm>
            <a:off x="151920" y="221940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-25560" y="1395000"/>
            <a:ext cx="89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alk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phen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OH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phe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24480" y="9907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lkoxide  from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0" name="Object 16"/>
          <p:cNvGraphicFramePr/>
          <p:nvPr/>
        </p:nvGraphicFramePr>
        <p:xfrm>
          <a:off x="914400" y="4876920"/>
          <a:ext cx="640080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876920"/>
                    <a:ext cx="64008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8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35:59Z</dcterms:modified>
  <cp:revision>119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