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7.png" ContentType="image/png"/>
  <Override PartName="/ppt/media/image20.wmf" ContentType="image/x-wmf"/>
  <Override PartName="/ppt/media/image28.wmf" ContentType="image/x-wmf"/>
  <Override PartName="/ppt/media/image10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30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13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2.wmf" ContentType="image/x-wmf"/>
  <Override PartName="/ppt/media/image9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18.wmf" ContentType="image/x-wmf"/>
  <Override PartName="/ppt/media/image1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DB25-19C6-4D69-9991-E13C00E3D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9761-9DDA-4B7F-96A5-5D2FBF6877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AD6A-AE1A-40B8-AC18-687191846B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C439-7B24-49D9-AF41-6DF010D4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402-7248-416C-8E73-40BC9CD5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8D4-63E5-4C27-97BB-5D65C9EC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12D-B024-4533-A973-67CE1ACF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2B5A-7B73-4048-8EF9-DBD029A8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C2F5-3631-4379-A9AF-09D63B77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1BD7-AEE0-466B-9AA9-9A5973D7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7C7F-3626-4609-B80F-25AC13B3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FB38-31FA-4336-A7BF-C9FEEF32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DA9A-69A8-45E8-B464-89199346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E61A-0210-4D43-86F2-1252AB95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5F9C-3B3F-4EF3-A73A-9CBF5E0F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D824-B437-4638-B5B2-2C888139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E3BB-798A-4ECA-AB05-49930CD8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7215-5F79-4B7A-B7C2-6B609C0B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5FD0-C6A6-40E2-AD52-B7F64E9BB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1A47-0DBB-4D12-AB71-ED7F7E9A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D006-D42B-4646-A8C6-1653E9AD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E2E2B-8E33-40F1-9B88-77C984E9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696A-F6BA-4C9B-9B61-5F72B7C1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BB174-AC92-4269-A2D7-E457543A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D90A4-A86F-4174-9611-2D0CE38C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B18-7D5F-4212-9FD2-C07C7416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24E1-6C78-4922-A9AE-5BEB53EB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F69FD-062F-4896-A901-CD223BB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45F77-ACC9-4425-A722-00404424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C7124-6BB1-47A6-84A1-E0345F5B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00CB-BBAC-4FD1-8290-FE636E2A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1EA7-10D8-4707-B6AD-725E2087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B7BB5-FF21-46D3-BEAE-763248E1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D56-7991-4B6A-BD6B-AB9862A7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4CD-C1F2-4E4D-AABE-26E7D1AD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CFE-FE21-4E34-933E-12801C2A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01BD-7204-4E38-8E21-391B3B32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2E57-7DC2-4E62-B1A0-F2A66D24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D94-DFD5-448A-AFAD-01C26DCF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4A5E-2CD3-4975-8648-DD0137AE4ACB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CFC1-AD64-4D3C-8305-53F351E7337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BF6F-3136-4AC8-9F51-80426E44B61F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A6E0-6970-4DB0-B1A9-7FE8EFD67DE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C80E-37FA-4D78-B1CE-429F70297CE9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CE6A-9C42-4A3A-8727-B2B8737B95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image" Target="../media/image11.png"/><Relationship Id="rId8" Type="http://schemas.openxmlformats.org/officeDocument/2006/relationships/image" Target="../media/image12.jpe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/>
          <p:nvPr/>
        </p:nvSpPr>
        <p:spPr>
          <a:xfrm>
            <a:off x="1143000" y="2514600"/>
            <a:ext cx="6629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149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2533320" y="2057400"/>
            <a:ext cx="36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ehydes and ke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150px-Acetone-3D-balls.png"/>
          <p:cNvPicPr/>
          <p:nvPr/>
        </p:nvPicPr>
        <p:blipFill>
          <a:blip r:embed="rId3"/>
          <a:stretch/>
        </p:blipFill>
        <p:spPr>
          <a:xfrm>
            <a:off x="4267080" y="2505240"/>
            <a:ext cx="3124440" cy="2436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Acetaldehyde-3D-balls.png"/>
          <p:cNvPicPr/>
          <p:nvPr/>
        </p:nvPicPr>
        <p:blipFill>
          <a:blip r:embed="rId4"/>
          <a:stretch/>
        </p:blipFill>
        <p:spPr>
          <a:xfrm>
            <a:off x="1447920" y="2666880"/>
            <a:ext cx="2438280" cy="234324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9CCD-40AC-4136-93DB-316274A1A8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152280" y="106668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) Solubil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aldehydes and ketones are  are more soluble than alkanes but less soluble than alcohols in aqueous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" name="Object 30"/>
          <p:cNvGraphicFramePr/>
          <p:nvPr/>
        </p:nvGraphicFramePr>
        <p:xfrm>
          <a:off x="2133720" y="3200400"/>
          <a:ext cx="449568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4956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6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8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AAB4-2BF1-4C90-8C1A-FFAF256B60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371240"/>
            <a:ext cx="5529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eparation Of Aldehydes And ketones:</a:t>
            </a:r>
            <a:br>
              <a:rPr sz="2400"/>
            </a:b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- Oxidation of Alcohol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64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Object 59"/>
          <p:cNvGraphicFramePr/>
          <p:nvPr/>
        </p:nvGraphicFramePr>
        <p:xfrm>
          <a:off x="1676520" y="2133720"/>
          <a:ext cx="5486400" cy="421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486400" cy="42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FF64-6E62-4353-AC25-520FF92EF4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- Ozonolysis of Alkene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in formation of aldehydes or ketones depending on structure of the alkene use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Object 71"/>
          <p:cNvGraphicFramePr/>
          <p:nvPr/>
        </p:nvGraphicFramePr>
        <p:xfrm>
          <a:off x="1219320" y="3657600"/>
          <a:ext cx="6629400" cy="20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7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62940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72"/>
          <p:cNvGraphicFramePr/>
          <p:nvPr/>
        </p:nvGraphicFramePr>
        <p:xfrm>
          <a:off x="990720" y="2362320"/>
          <a:ext cx="734364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362320"/>
                    <a:ext cx="734364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6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04E3-1CE9-4F27-966E-E719297E09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-360" y="990720"/>
            <a:ext cx="90615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- Hydration Of Alky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4- Friedel Crafts Acy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.B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OR group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irector and deactivating towards electrophil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0" name="Object 70"/>
          <p:cNvGraphicFramePr/>
          <p:nvPr/>
        </p:nvGraphicFramePr>
        <p:xfrm>
          <a:off x="1295280" y="5029200"/>
          <a:ext cx="662940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029200"/>
                    <a:ext cx="66294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71"/>
          <p:cNvGraphicFramePr/>
          <p:nvPr/>
        </p:nvGraphicFramePr>
        <p:xfrm>
          <a:off x="533520" y="1447920"/>
          <a:ext cx="8250120" cy="26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447920"/>
                    <a:ext cx="825012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6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42B5-187C-41F5-A648-52A4DDF89F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76680" y="837720"/>
            <a:ext cx="952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Reactions Of Aldehydes And Ketones</a:t>
            </a:r>
            <a:br>
              <a:rPr sz="2400"/>
            </a:b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the most common reactions are :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Nucleophilic addition re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- Reduction : Formation Of Alcoh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3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" name="Object 42"/>
          <p:cNvGraphicFramePr/>
          <p:nvPr/>
        </p:nvGraphicFramePr>
        <p:xfrm>
          <a:off x="1770120" y="2895480"/>
          <a:ext cx="5184720" cy="353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0120" y="2895480"/>
                    <a:ext cx="518472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2"/>
          <p:cNvSpPr/>
          <p:nvPr/>
        </p:nvSpPr>
        <p:spPr>
          <a:xfrm>
            <a:off x="228600" y="2362320"/>
            <a:ext cx="8077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duction by NaB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iAl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;  the hydride ion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serve  as nucleop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3700-DB95-4444-9947-6D65B5017C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0" y="909720"/>
            <a:ext cx="8934480" cy="20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2-Nucleophilic addition of Grignard reagent (formation of alcoho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 of RMgX  to formaldehyde give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 of RMgX  to any other aldehyde give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 of RMgX  to ketones gives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0" name="Object 72"/>
          <p:cNvGraphicFramePr/>
          <p:nvPr/>
        </p:nvGraphicFramePr>
        <p:xfrm>
          <a:off x="1905120" y="2895480"/>
          <a:ext cx="4800600" cy="10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95480"/>
                    <a:ext cx="480060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Content Placeholder 2"/>
          <p:cNvSpPr/>
          <p:nvPr/>
        </p:nvSpPr>
        <p:spPr>
          <a:xfrm>
            <a:off x="76320" y="3886200"/>
            <a:ext cx="8762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- Oxidation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ldehydes can be oxidized ketones resist ox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73"/>
          <p:cNvGraphicFramePr/>
          <p:nvPr/>
        </p:nvGraphicFramePr>
        <p:xfrm>
          <a:off x="1252440" y="5334120"/>
          <a:ext cx="640872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2440" y="5334120"/>
                    <a:ext cx="64087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5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07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1A6E-239D-4E98-8307-0484942F97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5-Addition of Hydrogen Cyanide: Formation Of Cynohydr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Object 103"/>
          <p:cNvGraphicFramePr/>
          <p:nvPr/>
        </p:nvGraphicFramePr>
        <p:xfrm>
          <a:off x="493560" y="4705200"/>
          <a:ext cx="5411880" cy="8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705200"/>
                    <a:ext cx="54118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Object 104"/>
          <p:cNvGraphicFramePr/>
          <p:nvPr/>
        </p:nvGraphicFramePr>
        <p:xfrm>
          <a:off x="533520" y="1905120"/>
          <a:ext cx="6910200" cy="94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905120"/>
                    <a:ext cx="691020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5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17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5523-4099-4352-9E44-801F314171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Object 105"/>
          <p:cNvGraphicFramePr/>
          <p:nvPr/>
        </p:nvGraphicFramePr>
        <p:xfrm>
          <a:off x="450720" y="3200400"/>
          <a:ext cx="799488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1" name="Object 10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720" y="3200400"/>
                    <a:ext cx="7994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Object 39"/>
          <p:cNvGraphicFramePr/>
          <p:nvPr/>
        </p:nvGraphicFramePr>
        <p:xfrm>
          <a:off x="233280" y="2062080"/>
          <a:ext cx="8312400" cy="40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2062080"/>
                    <a:ext cx="8312400" cy="40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Rectangle 5"/>
          <p:cNvSpPr/>
          <p:nvPr/>
        </p:nvSpPr>
        <p:spPr>
          <a:xfrm>
            <a:off x="189000" y="106668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6- Addition Of Alcohols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27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FDD6-BCC6-4088-B9E4-2CCD8FDDA8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4CDD-6792-4F43-BF03-499503B52B44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0" y="1119240"/>
            <a:ext cx="90676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- Addition of Ammonia and Ammonia Deriv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ooter Placeholder 1"/>
          <p:cNvSpPr/>
          <p:nvPr/>
        </p:nvSpPr>
        <p:spPr>
          <a:xfrm>
            <a:off x="0" y="64720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Object 42"/>
          <p:cNvGraphicFramePr/>
          <p:nvPr/>
        </p:nvGraphicFramePr>
        <p:xfrm>
          <a:off x="1066680" y="1981080"/>
          <a:ext cx="6480360" cy="38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6480360" cy="38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5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37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1E0F-071E-4B46-B650-1B61FA17E9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9"/>
          <p:cNvSpPr/>
          <p:nvPr/>
        </p:nvSpPr>
        <p:spPr>
          <a:xfrm>
            <a:off x="9360" y="780840"/>
            <a:ext cx="177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6"/>
          <p:cNvSpPr/>
          <p:nvPr/>
        </p:nvSpPr>
        <p:spPr>
          <a:xfrm>
            <a:off x="36360" y="1701360"/>
            <a:ext cx="9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1- The correct name of the following compound                            is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Object 79"/>
          <p:cNvGraphicFramePr/>
          <p:nvPr/>
        </p:nvGraphicFramePr>
        <p:xfrm>
          <a:off x="6019920" y="1454040"/>
          <a:ext cx="1912680" cy="10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454040"/>
                    <a:ext cx="191268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Rectangle 37"/>
          <p:cNvSpPr/>
          <p:nvPr/>
        </p:nvSpPr>
        <p:spPr>
          <a:xfrm>
            <a:off x="185760" y="2252160"/>
            <a:ext cx="265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3-hydroxyhexa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3-hydroxy-4-hexe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4-hydroxy-5-hexe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3-hydroxy-1-hexe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39"/>
          <p:cNvSpPr/>
          <p:nvPr/>
        </p:nvSpPr>
        <p:spPr>
          <a:xfrm>
            <a:off x="9360" y="3885840"/>
            <a:ext cx="68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2- The structure of Acetal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" name="Object 80"/>
          <p:cNvGraphicFramePr/>
          <p:nvPr/>
        </p:nvGraphicFramePr>
        <p:xfrm>
          <a:off x="1116000" y="4437000"/>
          <a:ext cx="6442200" cy="18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4437000"/>
                    <a:ext cx="64422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Footer Placeholder 1"/>
          <p:cNvSpPr/>
          <p:nvPr/>
        </p:nvSpPr>
        <p:spPr>
          <a:xfrm>
            <a:off x="36360" y="6472080"/>
            <a:ext cx="3353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8B6B-1DF5-4FC4-BDA1-F3A6163BB5C4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52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7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CE29-0296-4B1C-A1D8-2282F77246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320" y="837720"/>
            <a:ext cx="3504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76320" y="1484280"/>
            <a:ext cx="8915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eight introduces carbonyl compounds and reactions that involve a nucleophilic attack at the carbonyl carbon in addition to the other topic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By the end of this chapter the student wi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structural differences between 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how to draw 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common and IUPAC nomenclature of 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physical properties of 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how  to  synthesize an  aldehyde   or a  ketone  from  a  compound  without 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 the  different   nucleophilic  attack  reactions  at  the  carbonyl  carbon  and  the specific products formed in each c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60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6A5A-6CD5-4F9D-9819-2B56D59A19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3"/>
          <p:cNvSpPr/>
          <p:nvPr/>
        </p:nvSpPr>
        <p:spPr>
          <a:xfrm>
            <a:off x="0" y="64720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C278-3162-4A88-A7B6-2EA756EDF49C}" type="slidenum">
              <a:rPr b="0" lang="ar-SA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41"/>
          <p:cNvSpPr/>
          <p:nvPr/>
        </p:nvSpPr>
        <p:spPr>
          <a:xfrm>
            <a:off x="30240" y="1086840"/>
            <a:ext cx="89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3- Reaction of phenyhydrazine with carbonyl compounds (aldyhydes or ketones) giv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Oxi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Phenylhydrazo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I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Hemiac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43"/>
          <p:cNvSpPr/>
          <p:nvPr/>
        </p:nvSpPr>
        <p:spPr>
          <a:xfrm>
            <a:off x="81000" y="361440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4 - Which of the following compounds has the highest boiling poi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Object 43"/>
          <p:cNvGraphicFramePr/>
          <p:nvPr/>
        </p:nvGraphicFramePr>
        <p:xfrm>
          <a:off x="101520" y="4495680"/>
          <a:ext cx="8821800" cy="12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4495680"/>
                    <a:ext cx="882180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63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5BAF-7C39-4E1A-B64D-CA924CFEAD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Thank You for your kind attention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9EEA-E55C-45FE-9129-34136F1BFE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71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560" y="837720"/>
            <a:ext cx="8472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1859c"/>
                </a:solidFill>
                <a:latin typeface="Times New Roman"/>
                <a:ea typeface="Times New Roman"/>
              </a:rPr>
              <a:t>ALDEHYDES: STRUCTURE AND NOMENCL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1295280"/>
            <a:ext cx="895176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formula: RCHO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ond line form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larity of C=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dehyde group is always (terminal)at the end of a ch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0" y="645804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Equal 26"/>
          <p:cNvSpPr/>
          <p:nvPr/>
        </p:nvSpPr>
        <p:spPr>
          <a:xfrm>
            <a:off x="4673520" y="1946160"/>
            <a:ext cx="405000" cy="357480"/>
          </a:xfrm>
          <a:custGeom>
            <a:avLst/>
            <a:gdLst>
              <a:gd name="textAreaLeft" fmla="*/ 53640 w 405000"/>
              <a:gd name="textAreaRight" fmla="*/ 351360 w 405000"/>
              <a:gd name="textAreaTop" fmla="*/ 73440 h 357480"/>
              <a:gd name="textAreaBottom" fmla="*/ 284040 h 357480"/>
            </a:gdLst>
            <a:ahLst/>
            <a:rect l="textAreaLeft" t="textAreaTop" r="textAreaRight" b="textAreaBottom"/>
            <a:pathLst>
              <a:path w="404813" h="357187">
                <a:moveTo>
                  <a:pt x="53658" y="73581"/>
                </a:moveTo>
                <a:lnTo>
                  <a:pt x="351155" y="73581"/>
                </a:lnTo>
                <a:lnTo>
                  <a:pt x="351155" y="157591"/>
                </a:lnTo>
                <a:lnTo>
                  <a:pt x="53658" y="157591"/>
                </a:lnTo>
                <a:lnTo>
                  <a:pt x="53658" y="73581"/>
                </a:lnTo>
                <a:close/>
                <a:moveTo>
                  <a:pt x="53658" y="199596"/>
                </a:moveTo>
                <a:lnTo>
                  <a:pt x="351155" y="199596"/>
                </a:lnTo>
                <a:lnTo>
                  <a:pt x="351155" y="283606"/>
                </a:lnTo>
                <a:lnTo>
                  <a:pt x="53658" y="283606"/>
                </a:lnTo>
                <a:lnTo>
                  <a:pt x="53658" y="199596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8160" y="3714840"/>
            <a:ext cx="914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ommon Nomenclature Of Aldehy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name of aldehydes are derived from the common name of the corresponding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liphatic  aldehydes have common names which have to be memoriz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46840" y="6261120"/>
            <a:ext cx="81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Formaldehyde      Acetaldehyde              Propionaldehyde          Butyraldehy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71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55"/>
          <p:cNvGraphicFramePr/>
          <p:nvPr/>
        </p:nvGraphicFramePr>
        <p:xfrm>
          <a:off x="3973680" y="1295280"/>
          <a:ext cx="67932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15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73680" y="1295280"/>
                    <a:ext cx="679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56"/>
          <p:cNvGraphicFramePr/>
          <p:nvPr/>
        </p:nvGraphicFramePr>
        <p:xfrm>
          <a:off x="2971800" y="1752480"/>
          <a:ext cx="1430280" cy="560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" name="Object 1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752480"/>
                    <a:ext cx="14302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57"/>
          <p:cNvGraphicFramePr/>
          <p:nvPr/>
        </p:nvGraphicFramePr>
        <p:xfrm>
          <a:off x="5334120" y="1371600"/>
          <a:ext cx="106668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8" name="Object 15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1371600"/>
                    <a:ext cx="106668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58"/>
          <p:cNvGraphicFramePr/>
          <p:nvPr/>
        </p:nvGraphicFramePr>
        <p:xfrm>
          <a:off x="4197240" y="1801800"/>
          <a:ext cx="3264120" cy="1855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Object 15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7240" y="1801800"/>
                    <a:ext cx="326412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59"/>
          <p:cNvGraphicFramePr/>
          <p:nvPr/>
        </p:nvGraphicFramePr>
        <p:xfrm>
          <a:off x="457200" y="5562720"/>
          <a:ext cx="8459640" cy="78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2" name="Object 15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5562720"/>
                    <a:ext cx="84596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D3CC-DFE9-4200-88D0-9EA5CDDFAC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848720" y="2568600"/>
            <a:ext cx="761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B7C2-567E-47C8-9D91-6E15ECB8D5D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98640" y="909720"/>
            <a:ext cx="72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omatic aldehydes have common names such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Object 42"/>
          <p:cNvGraphicFramePr/>
          <p:nvPr/>
        </p:nvGraphicFramePr>
        <p:xfrm>
          <a:off x="1295280" y="1447920"/>
          <a:ext cx="64008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64008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 txBox="1"/>
          <p:nvPr/>
        </p:nvSpPr>
        <p:spPr>
          <a:xfrm>
            <a:off x="173160" y="3124080"/>
            <a:ext cx="895176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UPAC Nomencla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longest continuous carbon chain that contains the H-C=O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get the name of the parent hydrocarbon, then replace the ending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the suffix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is assigned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cal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akes precedence over other functional groups that may present such 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(ketone),–OH, C=C, C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yclic aldehydes in which the –CHO group is attached to the ring, the suffix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baldehy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-73080" y="2666880"/>
            <a:ext cx="91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alicylaldehyde (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-Hydroxybenzaldehyde)           Anisaldehyde (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-methoxybezaldehy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192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3E67-92B5-4780-A09B-C4B3B001BA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133"/>
          <p:cNvGraphicFramePr/>
          <p:nvPr/>
        </p:nvGraphicFramePr>
        <p:xfrm>
          <a:off x="609480" y="1123920"/>
          <a:ext cx="8077320" cy="6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1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23920"/>
                    <a:ext cx="80773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134"/>
          <p:cNvGraphicFramePr/>
          <p:nvPr/>
        </p:nvGraphicFramePr>
        <p:xfrm>
          <a:off x="372960" y="2509920"/>
          <a:ext cx="640872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960" y="2509920"/>
                    <a:ext cx="6408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6"/>
          <p:cNvSpPr/>
          <p:nvPr/>
        </p:nvSpPr>
        <p:spPr>
          <a:xfrm>
            <a:off x="354960" y="1752480"/>
            <a:ext cx="79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thanal            Ethanal                                 Propanal                        Butan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478440" y="3668760"/>
            <a:ext cx="63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-Chlorobutanal              3-Hydroxypropanal              2-Buten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322200" y="4105440"/>
            <a:ext cx="905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matic aldehydes are usually designated as derivatives of the simplest aromatic aldehyde, </a:t>
            </a: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Benzaldehyde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Object 135"/>
          <p:cNvGraphicFramePr/>
          <p:nvPr/>
        </p:nvGraphicFramePr>
        <p:xfrm>
          <a:off x="272880" y="4800600"/>
          <a:ext cx="845820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13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880" y="4800600"/>
                    <a:ext cx="8458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16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enzaldehyde                                                  2-Hydroxybenzaldehy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-Nitrobenzaldehyde                                                 4-Methoxybenzaldehyde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07" name="Straight Connector 13"/>
          <p:cNvSpPr/>
          <p:nvPr/>
        </p:nvSpPr>
        <p:spPr>
          <a:xfrm>
            <a:off x="73008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Object 136"/>
          <p:cNvGraphicFramePr/>
          <p:nvPr/>
        </p:nvGraphicFramePr>
        <p:xfrm>
          <a:off x="7324560" y="2286000"/>
          <a:ext cx="1339920" cy="108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Object 1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24560" y="2286000"/>
                    <a:ext cx="13399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Box 2"/>
          <p:cNvSpPr/>
          <p:nvPr/>
        </p:nvSpPr>
        <p:spPr>
          <a:xfrm>
            <a:off x="7331400" y="3276720"/>
            <a:ext cx="167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is-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-Hydrox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clopenta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baldehy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4BD0-FDAA-40D5-878D-25FC38BBC54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0" y="1828800"/>
            <a:ext cx="908064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eneral formu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COR’     (R and R’=alkyl or ary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Common nam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keton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ived by listing the alky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ents attached to the carbonyl group in alphabetical order, followed by the word ket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on names carbon atoms near the carbonyl group are often designated using Greek letters (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ɣ ,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..)  beginning with carbon next the carbonyl gro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complex molecules contains more than one of functional groups, an order of precedence is used to determine the n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al group priority order in nomenclature system is as follow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 and derivatives &gt;  aldehyde &gt; ketone &gt; alcohol &gt; amine &gt;    alkene &gt; alkyne &gt; e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8939-FBCF-4E1A-ADA6-27D4FEA42637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52280" y="1170000"/>
            <a:ext cx="81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KETONES:STRUCTUR AND NOMENC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18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C214-0AB1-42CF-93EA-A93B90A936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77400" y="2227320"/>
            <a:ext cx="9083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UPAC Nomencaltu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longest continuous carbon chain that contains the C=O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get the name of the parent hydrocarbon, then replace the ending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the suffix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in is numbered in such a way as give the lowest number to the C=O grou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efix of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if there are  higher ranking functional groups present.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203F-D443-4510-9B46-D28034E967C1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25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" name="Object 12"/>
          <p:cNvGraphicFramePr/>
          <p:nvPr/>
        </p:nvGraphicFramePr>
        <p:xfrm>
          <a:off x="252360" y="914400"/>
          <a:ext cx="871560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60" y="914400"/>
                    <a:ext cx="87156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Rectangle 17"/>
          <p:cNvSpPr/>
          <p:nvPr/>
        </p:nvSpPr>
        <p:spPr>
          <a:xfrm>
            <a:off x="47520" y="1752480"/>
            <a:ext cx="91440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etone                         Acetophenone            3-Buten-2-one                 Benzophenone 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Dimethyl ketone      Methyl phenyl ketone      Methyl vinyl ketone       Diphenyl ket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7809-0D17-4253-A3DC-544E818F98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Object 72"/>
          <p:cNvGraphicFramePr/>
          <p:nvPr/>
        </p:nvGraphicFramePr>
        <p:xfrm>
          <a:off x="0" y="1295280"/>
          <a:ext cx="88390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8839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73"/>
          <p:cNvGraphicFramePr/>
          <p:nvPr/>
        </p:nvGraphicFramePr>
        <p:xfrm>
          <a:off x="457200" y="3505320"/>
          <a:ext cx="777240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505320"/>
                    <a:ext cx="7772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11"/>
          <p:cNvSpPr/>
          <p:nvPr/>
        </p:nvSpPr>
        <p:spPr>
          <a:xfrm>
            <a:off x="26280" y="2743200"/>
            <a:ext cx="91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panone                Phenyl ethanone                     3-Buten-2-one              Diphenylmetha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28080" y="5105520"/>
            <a:ext cx="86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yclopentylpropanone           3-Ethyl-2-hydroxycyclohexanone                 5-Oxohex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39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3938-632A-43B3-85CA-BAE8900653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400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Physical Properties OF Aldehydes And Ket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560" y="1371600"/>
            <a:ext cx="892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arbonyl group is polar; with a partial negative charge on oxygen atom, and partial positive charge on carbon atom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 polarity of the carbonyl group, aldehydes and ketones are polar compoun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) Boiling and melting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melting and boiling points compared to analogous alkanes due to they show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pole-dipole attrac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attractions although important, are not as strong as interactions due to hydrogen bonding as a result, the </a:t>
            </a:r>
            <a:r>
              <a:rPr b="1" lang="en-US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boiling poin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1" lang="en-US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aldehydes and ketones are higher th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ose of non polar </a:t>
            </a:r>
            <a:r>
              <a:rPr b="1" lang="en-US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alkane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t lower tha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se of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cohols who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es  are connected together  by H-bon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Object 78"/>
          <p:cNvGraphicFramePr/>
          <p:nvPr/>
        </p:nvGraphicFramePr>
        <p:xfrm>
          <a:off x="3581280" y="2590920"/>
          <a:ext cx="266724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7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590920"/>
                    <a:ext cx="26672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79"/>
          <p:cNvGraphicFramePr/>
          <p:nvPr/>
        </p:nvGraphicFramePr>
        <p:xfrm>
          <a:off x="3692520" y="3962520"/>
          <a:ext cx="232740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7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2520" y="3962520"/>
                    <a:ext cx="232740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Picture 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50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2791800" y="380880"/>
            <a:ext cx="31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Palatino Linotype"/>
                <a:ea typeface="Tahoma"/>
              </a:rPr>
              <a:t>Aldehydes and ke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905B-5F9C-4858-9C08-7657C4FBC7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dcterms:modified xsi:type="dcterms:W3CDTF">2016-01-26T20:37:10Z</dcterms:modified>
  <cp:revision>146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