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7.png" ContentType="image/png"/>
  <Override PartName="/ppt/media/image20.wmf" ContentType="image/x-wmf"/>
  <Override PartName="/ppt/media/image28.wmf" ContentType="image/x-wmf"/>
  <Override PartName="/ppt/media/image10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30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2.wmf" ContentType="image/x-wmf"/>
  <Override PartName="/ppt/media/image9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18.wmf" ContentType="image/x-wmf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0F6E-D90E-4CAB-9A1A-CB69EDC70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6CBE-AB09-4E3A-B45E-DFD9BF1A1F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9E70-A791-480E-BBB6-41C0D79A65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DA5-6128-4655-B807-82CD28E7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69B-A660-476D-99DB-48483870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AB2-81C8-4031-9A03-04BA2D25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337-6B2A-4BF1-BEDE-700A419D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6208-ADA8-4A51-8D6B-FDF849F8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9934-8957-45EF-B710-6F2497FB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31E2-24A8-4F5E-9FB4-7F8EF9BA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E704-8129-4B8C-B912-CCE6B683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3A97-CA26-472B-9BBA-A8D9F1ED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C88D-834F-4FEE-84AA-E2EACF3B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7D5F-5E1D-4CF8-B875-A6C78A09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D74-79F1-4788-819D-DF280A1B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445D-2A40-433E-91B9-51EA9CCE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C59E-CCE2-4ACE-BB89-C9391065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273B-CE6B-4BD4-A689-67D3DDD7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CDFB-0563-4493-B622-C80D2D12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F6E4-BE02-41A7-9A32-45AA5C9D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0198-4F66-4364-B5C5-94794D85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6BE8-7C2C-412C-8391-183BF964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97A8-3ADC-41DB-BC70-CC46FD8C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E432-841F-4C32-B923-34E42D75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4DD30-9193-41FB-BD92-16E56470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FFE-74B7-4C99-914A-B21BBAAB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FCF8E-CA96-420D-BBEF-4DB263EB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4F23-71B5-440C-BC51-2B53F5E2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53EF-E095-4917-A7DE-3C750D9F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5191-4B28-45A0-BC72-0D7A235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49167-CE01-439F-B5D4-F0D32347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5B83-3061-42BC-8489-BB9DE55F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617A0-EEAA-4537-A1E2-97117A26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A5C-8D53-4276-A4DC-BAE2407A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4D2-0FA8-4B42-8D40-71EF403B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69A-CD35-4BB7-A5F3-FD4A7077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722-C695-4256-9AAA-C03785A5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C09-55C7-4D47-8D42-CA0DEB7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F77-BAAC-4CD9-96A2-BD046FA9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E915-CF6B-4D8D-98DD-FFEE83232613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F7F1-F716-439A-8EB4-EEE5482BA34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D89A-451B-4411-B1C8-BE60CB2AB6CD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E324-C6F1-443A-B7B3-C6CECABEEA1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CDB6-B741-4DDF-A762-B4F534C93E7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825B-3183-4DCE-A102-3907D35E8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/>
          <p:nvPr/>
        </p:nvSpPr>
        <p:spPr>
          <a:xfrm>
            <a:off x="1143000" y="251460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2533320" y="205740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ehydes and ke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150px-Acetone-3D-balls.png"/>
          <p:cNvPicPr/>
          <p:nvPr/>
        </p:nvPicPr>
        <p:blipFill>
          <a:blip r:embed="rId3"/>
          <a:stretch/>
        </p:blipFill>
        <p:spPr>
          <a:xfrm>
            <a:off x="4267080" y="2505240"/>
            <a:ext cx="3124440" cy="2436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Acetaldehyde-3D-balls.png"/>
          <p:cNvPicPr/>
          <p:nvPr/>
        </p:nvPicPr>
        <p:blipFill>
          <a:blip r:embed="rId4"/>
          <a:stretch/>
        </p:blipFill>
        <p:spPr>
          <a:xfrm>
            <a:off x="1447920" y="2666880"/>
            <a:ext cx="2438280" cy="234324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8B4E-7B7E-4215-AA34-CDD447BA76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152280" y="1066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) Solu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aldehydes and ketones are  are more soluble than alkanes but less soluble than alcohols in aqueous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Object 30"/>
          <p:cNvGraphicFramePr/>
          <p:nvPr/>
        </p:nvGraphicFramePr>
        <p:xfrm>
          <a:off x="2133720" y="3200400"/>
          <a:ext cx="44956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4956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8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F62C-DCE9-4EA3-8936-1343397C53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5529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eparation Of Aldehydes And ketones:</a:t>
            </a:r>
            <a:br>
              <a:rPr sz="2400"/>
            </a:b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Oxidation of Alcohol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4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Object 59"/>
          <p:cNvGraphicFramePr/>
          <p:nvPr/>
        </p:nvGraphicFramePr>
        <p:xfrm>
          <a:off x="1676520" y="2133720"/>
          <a:ext cx="5486400" cy="421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48640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1B0-B5E0-4E80-871B-BDEF9563FA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- Ozonolysis of Alkene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in formation of aldehydes or ketones depending on structure of the alkene use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Object 71"/>
          <p:cNvGraphicFramePr/>
          <p:nvPr/>
        </p:nvGraphicFramePr>
        <p:xfrm>
          <a:off x="1219320" y="3657600"/>
          <a:ext cx="6629400" cy="20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62940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72"/>
          <p:cNvGraphicFramePr/>
          <p:nvPr/>
        </p:nvGraphicFramePr>
        <p:xfrm>
          <a:off x="990720" y="2362320"/>
          <a:ext cx="734364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362320"/>
                    <a:ext cx="734364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6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419F-4305-45EF-9391-9F8E35560E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-360" y="990720"/>
            <a:ext cx="90615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- Hydration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- Friedel Crafts Acy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.B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OR group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irector and deactivating towards electrophi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Object 70"/>
          <p:cNvGraphicFramePr/>
          <p:nvPr/>
        </p:nvGraphicFramePr>
        <p:xfrm>
          <a:off x="1295280" y="5029200"/>
          <a:ext cx="66294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029200"/>
                    <a:ext cx="66294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71"/>
          <p:cNvGraphicFramePr/>
          <p:nvPr/>
        </p:nvGraphicFramePr>
        <p:xfrm>
          <a:off x="533520" y="1447920"/>
          <a:ext cx="8250120" cy="26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447920"/>
                    <a:ext cx="825012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6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C6C5-3B04-4746-81C0-1BBC64A75D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76680" y="83772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Reactions Of Aldehydes And Ketones</a:t>
            </a:r>
            <a:br>
              <a:rPr sz="2400"/>
            </a:b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the most common reactions are :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Nucleophilic addition re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Reduction : Formation Of Alcoh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Object 42"/>
          <p:cNvGraphicFramePr/>
          <p:nvPr/>
        </p:nvGraphicFramePr>
        <p:xfrm>
          <a:off x="1770120" y="2895480"/>
          <a:ext cx="5184720" cy="35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0120" y="2895480"/>
                    <a:ext cx="518472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2"/>
          <p:cNvSpPr/>
          <p:nvPr/>
        </p:nvSpPr>
        <p:spPr>
          <a:xfrm>
            <a:off x="228600" y="236232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duction by NaB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iAl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;  the hydride ion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serve  as nucleop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B1A-FD99-4AFA-BCFA-DB966F23AD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0" y="909720"/>
            <a:ext cx="8934480" cy="20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2-Nucleophilic addition of Grignard reagent (formation of alcoho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 of RMgX  to formaldehyde give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 of RMgX  to any other aldehyde give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 of RMgX  to ketones gives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0" name="Object 72"/>
          <p:cNvGraphicFramePr/>
          <p:nvPr/>
        </p:nvGraphicFramePr>
        <p:xfrm>
          <a:off x="1905120" y="2895480"/>
          <a:ext cx="4800600" cy="10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48006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Content Placeholder 2"/>
          <p:cNvSpPr/>
          <p:nvPr/>
        </p:nvSpPr>
        <p:spPr>
          <a:xfrm>
            <a:off x="76320" y="3886200"/>
            <a:ext cx="876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- Oxidation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ldehydes can be oxidized ketones resist ox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73"/>
          <p:cNvGraphicFramePr/>
          <p:nvPr/>
        </p:nvGraphicFramePr>
        <p:xfrm>
          <a:off x="1252440" y="5334120"/>
          <a:ext cx="640872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440" y="5334120"/>
                    <a:ext cx="6408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5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07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C455-973E-4A91-90D7-0B672CECD4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5-Addition of Hydrogen Cyanide: Formation Of Cynohydr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Object 103"/>
          <p:cNvGraphicFramePr/>
          <p:nvPr/>
        </p:nvGraphicFramePr>
        <p:xfrm>
          <a:off x="493560" y="4705200"/>
          <a:ext cx="541188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705200"/>
                    <a:ext cx="5411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104"/>
          <p:cNvGraphicFramePr/>
          <p:nvPr/>
        </p:nvGraphicFramePr>
        <p:xfrm>
          <a:off x="533520" y="1905120"/>
          <a:ext cx="6910200" cy="94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905120"/>
                    <a:ext cx="691020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5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17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68B0-D41B-4472-AFAA-58350F4ED9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105"/>
          <p:cNvGraphicFramePr/>
          <p:nvPr/>
        </p:nvGraphicFramePr>
        <p:xfrm>
          <a:off x="450720" y="3200400"/>
          <a:ext cx="799488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Object 10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720" y="3200400"/>
                    <a:ext cx="7994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Object 39"/>
          <p:cNvGraphicFramePr/>
          <p:nvPr/>
        </p:nvGraphicFramePr>
        <p:xfrm>
          <a:off x="233280" y="2062080"/>
          <a:ext cx="8312400" cy="40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2062080"/>
                    <a:ext cx="831240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Rectangle 5"/>
          <p:cNvSpPr/>
          <p:nvPr/>
        </p:nvSpPr>
        <p:spPr>
          <a:xfrm>
            <a:off x="189000" y="10666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6- Addition Of Alcohols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27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834-6652-4554-8181-772E695206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0094-4CB0-4E96-AC1F-36A780A18383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0" y="1119240"/>
            <a:ext cx="90676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- Addition of Ammonia and Ammonia Deriv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ooter Placeholder 1"/>
          <p:cNvSpPr/>
          <p:nvPr/>
        </p:nvSpPr>
        <p:spPr>
          <a:xfrm>
            <a:off x="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Object 42"/>
          <p:cNvGraphicFramePr/>
          <p:nvPr/>
        </p:nvGraphicFramePr>
        <p:xfrm>
          <a:off x="1066680" y="1981080"/>
          <a:ext cx="6480360" cy="38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6480360" cy="38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5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3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2BBE-A490-4CCE-9BAE-CF08673A8F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9"/>
          <p:cNvSpPr/>
          <p:nvPr/>
        </p:nvSpPr>
        <p:spPr>
          <a:xfrm>
            <a:off x="9360" y="780840"/>
            <a:ext cx="177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6"/>
          <p:cNvSpPr/>
          <p:nvPr/>
        </p:nvSpPr>
        <p:spPr>
          <a:xfrm>
            <a:off x="36360" y="1701360"/>
            <a:ext cx="9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- The correct name of the following compound                            i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Object 79"/>
          <p:cNvGraphicFramePr/>
          <p:nvPr/>
        </p:nvGraphicFramePr>
        <p:xfrm>
          <a:off x="6019920" y="1454040"/>
          <a:ext cx="1912680" cy="10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454040"/>
                    <a:ext cx="19126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Rectangle 37"/>
          <p:cNvSpPr/>
          <p:nvPr/>
        </p:nvSpPr>
        <p:spPr>
          <a:xfrm>
            <a:off x="185760" y="2252160"/>
            <a:ext cx="265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3-hydroxyhexa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3-hydroxy-4-hexe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4-hydroxy-5-hexe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3-hydroxy-1-hexe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9"/>
          <p:cNvSpPr/>
          <p:nvPr/>
        </p:nvSpPr>
        <p:spPr>
          <a:xfrm>
            <a:off x="9360" y="3885840"/>
            <a:ext cx="68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2- The structure of Acetal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Object 80"/>
          <p:cNvGraphicFramePr/>
          <p:nvPr/>
        </p:nvGraphicFramePr>
        <p:xfrm>
          <a:off x="1116000" y="4437000"/>
          <a:ext cx="6442200" cy="18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437000"/>
                    <a:ext cx="64422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Footer Placeholder 1"/>
          <p:cNvSpPr/>
          <p:nvPr/>
        </p:nvSpPr>
        <p:spPr>
          <a:xfrm>
            <a:off x="36360" y="64720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930A-541B-48BE-97DD-7DCCAB4FAE28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52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F5E7-88F0-4C03-8970-C36BD0D2D5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837720"/>
            <a:ext cx="3504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76320" y="1484280"/>
            <a:ext cx="8915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eight introduces carbonyl compounds and reactions that involve a nucleophilic attack at the carbonyl carbon in addition to the other topic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By the end of this chapter the student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structural differences between 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how to draw 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common and IUPAC nomenclature of 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physical properties of 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how  to  synthesize an  aldehyde   or a  ketone  from  a  compound  without 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 the  different   nucleophilic  attack  reactions  at  the  carbonyl  carbon  and  the specific products formed in each c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60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72BE-1B6C-4C90-A185-3DBF599895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3"/>
          <p:cNvSpPr/>
          <p:nvPr/>
        </p:nvSpPr>
        <p:spPr>
          <a:xfrm>
            <a:off x="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101A-23C8-4078-A147-EAC0208778C0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41"/>
          <p:cNvSpPr/>
          <p:nvPr/>
        </p:nvSpPr>
        <p:spPr>
          <a:xfrm>
            <a:off x="30240" y="1086840"/>
            <a:ext cx="89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3- Reaction of phenyhydrazine with carbonyl compounds (aldyhydes or ketones) giv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Oxi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Phenylhydraz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I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Hemiac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43"/>
          <p:cNvSpPr/>
          <p:nvPr/>
        </p:nvSpPr>
        <p:spPr>
          <a:xfrm>
            <a:off x="81000" y="36144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4 - Which of the following compounds has the highest boiling poi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43"/>
          <p:cNvGraphicFramePr/>
          <p:nvPr/>
        </p:nvGraphicFramePr>
        <p:xfrm>
          <a:off x="101520" y="4495680"/>
          <a:ext cx="8821800" cy="12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4495680"/>
                    <a:ext cx="882180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63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8686-1FAE-4B3A-B80D-EB9E521E52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ank You for your kind attention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9585-0E73-4505-A5EC-F59D5B25D7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71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560" y="837720"/>
            <a:ext cx="8472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ALDEHYDES: STRUCTURE AND NOMENCL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295280"/>
            <a:ext cx="89517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formula: RCHO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ond line form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larity of C=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dehyde group is always (terminal)at the end of a ch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0" y="645804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Equal 26"/>
          <p:cNvSpPr/>
          <p:nvPr/>
        </p:nvSpPr>
        <p:spPr>
          <a:xfrm>
            <a:off x="4673520" y="1946160"/>
            <a:ext cx="405000" cy="357480"/>
          </a:xfrm>
          <a:custGeom>
            <a:avLst/>
            <a:gdLst>
              <a:gd name="textAreaLeft" fmla="*/ 53640 w 405000"/>
              <a:gd name="textAreaRight" fmla="*/ 351360 w 405000"/>
              <a:gd name="textAreaTop" fmla="*/ 73440 h 357480"/>
              <a:gd name="textAreaBottom" fmla="*/ 284040 h 357480"/>
            </a:gdLst>
            <a:ahLst/>
            <a:rect l="textAreaLeft" t="textAreaTop" r="textAreaRight" b="textAreaBottom"/>
            <a:pathLst>
              <a:path w="404813" h="357187">
                <a:moveTo>
                  <a:pt x="53658" y="73581"/>
                </a:moveTo>
                <a:lnTo>
                  <a:pt x="351155" y="73581"/>
                </a:lnTo>
                <a:lnTo>
                  <a:pt x="351155" y="157591"/>
                </a:lnTo>
                <a:lnTo>
                  <a:pt x="53658" y="157591"/>
                </a:lnTo>
                <a:lnTo>
                  <a:pt x="53658" y="73581"/>
                </a:lnTo>
                <a:close/>
                <a:moveTo>
                  <a:pt x="53658" y="199596"/>
                </a:moveTo>
                <a:lnTo>
                  <a:pt x="351155" y="199596"/>
                </a:lnTo>
                <a:lnTo>
                  <a:pt x="351155" y="283606"/>
                </a:lnTo>
                <a:lnTo>
                  <a:pt x="53658" y="283606"/>
                </a:lnTo>
                <a:lnTo>
                  <a:pt x="53658" y="19959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8160" y="371484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ommon Nomenclature Of Aldehy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name of aldehydes are derived from the common name of the corresponding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liphatic  aldehydes have common names which have to be memoriz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46840" y="6261120"/>
            <a:ext cx="81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ormaldehyde      Acetaldehyde              Propionaldehyde          Butyraldehy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71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55"/>
          <p:cNvGraphicFramePr/>
          <p:nvPr/>
        </p:nvGraphicFramePr>
        <p:xfrm>
          <a:off x="3973680" y="1295280"/>
          <a:ext cx="6793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3680" y="1295280"/>
                    <a:ext cx="679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56"/>
          <p:cNvGraphicFramePr/>
          <p:nvPr/>
        </p:nvGraphicFramePr>
        <p:xfrm>
          <a:off x="2971800" y="1752480"/>
          <a:ext cx="143028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Object 1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752480"/>
                    <a:ext cx="14302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57"/>
          <p:cNvGraphicFramePr/>
          <p:nvPr/>
        </p:nvGraphicFramePr>
        <p:xfrm>
          <a:off x="5334120" y="1371600"/>
          <a:ext cx="106668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Object 1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1371600"/>
                    <a:ext cx="106668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58"/>
          <p:cNvGraphicFramePr/>
          <p:nvPr/>
        </p:nvGraphicFramePr>
        <p:xfrm>
          <a:off x="4197240" y="1801800"/>
          <a:ext cx="3264120" cy="185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Object 15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7240" y="1801800"/>
                    <a:ext cx="326412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59"/>
          <p:cNvGraphicFramePr/>
          <p:nvPr/>
        </p:nvGraphicFramePr>
        <p:xfrm>
          <a:off x="457200" y="5562720"/>
          <a:ext cx="845964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2" name="Object 15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5562720"/>
                    <a:ext cx="84596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2C1D-4D9B-4ADF-BA61-BDDE4B7F4F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848720" y="25686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3C82-0F38-4448-8255-9E8C19EBC0E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98640" y="909720"/>
            <a:ext cx="72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omatic aldehydes have common names such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Object 42"/>
          <p:cNvGraphicFramePr/>
          <p:nvPr/>
        </p:nvGraphicFramePr>
        <p:xfrm>
          <a:off x="1295280" y="1447920"/>
          <a:ext cx="64008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6400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 txBox="1"/>
          <p:nvPr/>
        </p:nvSpPr>
        <p:spPr>
          <a:xfrm>
            <a:off x="173160" y="3124080"/>
            <a:ext cx="89517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UPAC Nomencla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longest continuous carbon chain that contains the H-C=O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get the name of the parent hydrocarbon, then replace the ending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the suffix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is assigned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cal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akes precedence over other functional groups that may present such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(ketone),–OH, C=C, 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yclic aldehydes in which the –CHO group is attached to the ring, the suffix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aldehy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-73080" y="2666880"/>
            <a:ext cx="91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alicylaldehyde (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-Hydroxybenzaldehyde)           Anisaldehyde (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-methoxybezaldehy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92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1E6F-1DF7-4159-8D8B-71C0A1E1D1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133"/>
          <p:cNvGraphicFramePr/>
          <p:nvPr/>
        </p:nvGraphicFramePr>
        <p:xfrm>
          <a:off x="609480" y="1123920"/>
          <a:ext cx="807732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23920"/>
                    <a:ext cx="80773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34"/>
          <p:cNvGraphicFramePr/>
          <p:nvPr/>
        </p:nvGraphicFramePr>
        <p:xfrm>
          <a:off x="372960" y="2509920"/>
          <a:ext cx="64087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960" y="2509920"/>
                    <a:ext cx="6408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6"/>
          <p:cNvSpPr/>
          <p:nvPr/>
        </p:nvSpPr>
        <p:spPr>
          <a:xfrm>
            <a:off x="354960" y="1752480"/>
            <a:ext cx="79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thanal            Ethanal                                 Propanal                        Butan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78440" y="3668760"/>
            <a:ext cx="63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-Chlorobutanal              3-Hydroxypropanal              2-Buten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322200" y="4105440"/>
            <a:ext cx="905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matic aldehydes are usually designated as derivatives of the simplest aromatic aldehyde, 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enzaldehyde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135"/>
          <p:cNvGraphicFramePr/>
          <p:nvPr/>
        </p:nvGraphicFramePr>
        <p:xfrm>
          <a:off x="272880" y="4800600"/>
          <a:ext cx="8458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1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880" y="4800600"/>
                    <a:ext cx="8458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16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enzaldehyde                                                  2-Hydroxybenzaldehy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-Nitrobenzaldehyde                                                 4-Methoxybenzaldehyde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07" name="Straight Connector 13"/>
          <p:cNvSpPr/>
          <p:nvPr/>
        </p:nvSpPr>
        <p:spPr>
          <a:xfrm>
            <a:off x="73008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Object 136"/>
          <p:cNvGraphicFramePr/>
          <p:nvPr/>
        </p:nvGraphicFramePr>
        <p:xfrm>
          <a:off x="7324560" y="2286000"/>
          <a:ext cx="1339920" cy="108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1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24560" y="2286000"/>
                    <a:ext cx="13399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Box 2"/>
          <p:cNvSpPr/>
          <p:nvPr/>
        </p:nvSpPr>
        <p:spPr>
          <a:xfrm>
            <a:off x="7331400" y="3276720"/>
            <a:ext cx="167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is-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Hydrox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clopenta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aldehy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8C31-BCC7-48B0-A529-5684AEB2FE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1828800"/>
            <a:ext cx="908064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eneral formu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COR’     (R and R’=alkyl or ary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ommon nam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keto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 by listing the alky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ents attached to the carbonyl group in alphabetical order, followed by the word ket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on names carbon atoms near the carbonyl group are often designated using Greek letters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ɣ 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..)  beginning with carbon next the carbonyl gro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omplex molecules contains more than one of functional groups, an order of precedence is used to determine the n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al group priority order in nomenclature system is as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and derivatives &gt;  aldehyde &gt; ketone &gt; alcohol &gt; amine &gt;    alkene &gt; alkyne &gt; e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0C2-5BD3-4A13-A12C-39830739747F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52280" y="1170000"/>
            <a:ext cx="81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KETONES:STRUCTUR AND NOMENC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18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FEF-FCDB-480D-87CD-E4A5B46BCF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77400" y="2227320"/>
            <a:ext cx="9083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UPAC Nomencalt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longest continuous carbon chain that contains the C=O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get the name of the parent hydrocarbon, then replace the ending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the suffix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in is numbered in such a way as give the lowest number to the C=O gro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fix of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if there are  higher ranking functional groups present.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835A-4334-4304-B9EF-2E13AD62685F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Object 12"/>
          <p:cNvGraphicFramePr/>
          <p:nvPr/>
        </p:nvGraphicFramePr>
        <p:xfrm>
          <a:off x="252360" y="914400"/>
          <a:ext cx="871560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60" y="914400"/>
                    <a:ext cx="87156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Rectangle 17"/>
          <p:cNvSpPr/>
          <p:nvPr/>
        </p:nvSpPr>
        <p:spPr>
          <a:xfrm>
            <a:off x="47520" y="1752480"/>
            <a:ext cx="91440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etone                         Acetophenone            3-Buten-2-one                 Benzophenone 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Dimethyl ketone      Methyl phenyl ketone      Methyl vinyl ketone       Diphenyl ket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B78F-A580-43D6-ADB5-54D9DB7D27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72"/>
          <p:cNvGraphicFramePr/>
          <p:nvPr/>
        </p:nvGraphicFramePr>
        <p:xfrm>
          <a:off x="0" y="1295280"/>
          <a:ext cx="88390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839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73"/>
          <p:cNvGraphicFramePr/>
          <p:nvPr/>
        </p:nvGraphicFramePr>
        <p:xfrm>
          <a:off x="457200" y="3505320"/>
          <a:ext cx="777240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05320"/>
                    <a:ext cx="7772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1"/>
          <p:cNvSpPr/>
          <p:nvPr/>
        </p:nvSpPr>
        <p:spPr>
          <a:xfrm>
            <a:off x="26280" y="2743200"/>
            <a:ext cx="91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anone                Phenyl ethanone                     3-Buten-2-one              Diphenylmetha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28080" y="5105520"/>
            <a:ext cx="86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yclopentylpropanone           3-Ethyl-2-hydroxycyclohexanone                 5-Oxohex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9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67AE-120F-42ED-9D77-ACEDF5F979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400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Physical Properties OF Aldehydes And Ket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560" y="1371600"/>
            <a:ext cx="892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rbonyl group is polar; with a partial negative charge on oxygen atom, and partial positive charge on carbon atom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 polarity of the carbonyl group, aldehydes and ketones are polar compoun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) Boiling and melting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melting and boiling points compared to analogous alkanes due to they show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pole-dipole attr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ttractions although important, are not as strong as interactions due to hydrogen bonding as a result, the </a:t>
            </a:r>
            <a:r>
              <a:rPr b="1" lang="en-US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boiling poi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1" lang="en-US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aldehydes and ketones are higher th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ose of non polar </a:t>
            </a:r>
            <a:r>
              <a:rPr b="1" lang="en-US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alkane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t lower th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se of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cohols who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es  are connected together  by H-bo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Object 78"/>
          <p:cNvGraphicFramePr/>
          <p:nvPr/>
        </p:nvGraphicFramePr>
        <p:xfrm>
          <a:off x="3581280" y="2590920"/>
          <a:ext cx="266724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7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590920"/>
                    <a:ext cx="26672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79"/>
          <p:cNvGraphicFramePr/>
          <p:nvPr/>
        </p:nvGraphicFramePr>
        <p:xfrm>
          <a:off x="3692520" y="3962520"/>
          <a:ext cx="232740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7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2520" y="3962520"/>
                    <a:ext cx="23274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0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A60F-09CF-4AF9-85CF-1012765AC2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20:37:10Z</dcterms:modified>
  <cp:revision>146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