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4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5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25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62.xml" ContentType="application/vnd.openxmlformats-officedocument.theme+xml"/>
  <Override PartName="/ppt/theme/theme1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18.xml" ContentType="application/vnd.openxmlformats-officedocument.theme+xml"/>
  <Override PartName="/ppt/theme/theme29.xml" ContentType="application/vnd.openxmlformats-officedocument.theme+xml"/>
  <Override PartName="/ppt/theme/theme16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53.xml" ContentType="application/vnd.openxmlformats-officedocument.theme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56.wmf" ContentType="image/x-wmf"/>
  <Override PartName="/ppt/media/image54.wmf" ContentType="image/x-wmf"/>
  <Override PartName="/ppt/media/image14.wmf" ContentType="image/x-wmf"/>
  <Override PartName="/ppt/media/image53.png" ContentType="image/png"/>
  <Override PartName="/ppt/media/image29.png" ContentType="image/png"/>
  <Override PartName="/ppt/media/image32.wmf" ContentType="image/x-wmf"/>
  <Override PartName="/ppt/media/image50.png" ContentType="image/png"/>
  <Override PartName="/ppt/media/image5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55.wmf" ContentType="image/x-wmf"/>
  <Override PartName="/ppt/media/image26.png" ContentType="image/png"/>
  <Override PartName="/ppt/media/image2.png" ContentType="image/png"/>
  <Override PartName="/ppt/media/image25.png" ContentType="image/png"/>
  <Override PartName="/ppt/media/image47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57.wmf" ContentType="image/x-wmf"/>
  <Override PartName="/ppt/media/image20.wmf" ContentType="image/x-wmf"/>
  <Override PartName="/ppt/media/image22.wmf" ContentType="image/x-wmf"/>
  <Override PartName="/ppt/media/image59.wmf" ContentType="image/x-wmf"/>
  <Override PartName="/ppt/media/image58.wmf" ContentType="image/x-wmf"/>
  <Override PartName="/ppt/media/image21.wmf" ContentType="image/x-wmf"/>
  <Override PartName="/ppt/media/image61.wmf" ContentType="image/x-wmf"/>
  <Override PartName="/ppt/media/image19.wmf" ContentType="image/x-wmf"/>
  <Override PartName="/ppt/media/image24.wmf" ContentType="image/x-wmf"/>
  <Override PartName="/ppt/media/image18.wmf" ContentType="image/x-wmf"/>
  <Override PartName="/ppt/media/image28.wmf" ContentType="image/x-wmf"/>
  <Override PartName="/ppt/media/image30.png" ContentType="image/png"/>
  <Override PartName="/ppt/media/image36.png" ContentType="image/png"/>
  <Override PartName="/ppt/media/image37.png" ContentType="image/png"/>
  <Override PartName="/ppt/media/image6.png" ContentType="image/png"/>
  <Override PartName="/ppt/media/image40.wmf" ContentType="image/x-wmf"/>
  <Override PartName="/ppt/media/image12.png" ContentType="image/png"/>
  <Override PartName="/ppt/media/image49.png" ContentType="image/png"/>
  <Override PartName="/ppt/media/image16.wmf" ContentType="image/x-wmf"/>
  <Override PartName="/ppt/media/image60.wmf" ContentType="image/x-wmf"/>
  <Override PartName="/ppt/media/image38.png" ContentType="image/png"/>
  <Override PartName="/ppt/media/image7.png" ContentType="image/png"/>
  <Override PartName="/ppt/media/image41.wmf" ContentType="image/x-wmf"/>
  <Override PartName="/ppt/media/image23.wmf" ContentType="image/x-wmf"/>
  <Override PartName="/ppt/media/image27.wmf" ContentType="image/x-wmf"/>
  <Override PartName="/ppt/media/image11.jpeg" ContentType="image/jpeg"/>
  <Override PartName="/ppt/media/image17.wmf" ContentType="image/x-wmf"/>
  <Override PartName="/ppt/media/image9.png" ContentType="image/png"/>
  <Override PartName="/ppt/media/image8.png" ContentType="image/png"/>
  <Override PartName="/ppt/media/image42.wmf" ContentType="image/x-wmf"/>
  <Override PartName="/ppt/media/image13.wmf" ContentType="image/x-wmf"/>
  <Override PartName="/ppt/media/image52.png" ContentType="image/png"/>
  <Override PartName="/ppt/media/image31.png" ContentType="image/png"/>
  <Override PartName="/ppt/media/image34.wmf" ContentType="image/x-wmf"/>
  <Override PartName="/ppt/media/image39.wmf" ContentType="image/x-wmf"/>
  <Override PartName="/ppt/media/image43.png" ContentType="image/png"/>
  <Override PartName="/ppt/media/image44.png" ContentType="image/png"/>
  <Override PartName="/ppt/media/image45.png" ContentType="image/png"/>
  <Override PartName="/ppt/media/image46.wmf" ContentType="image/x-wmf"/>
  <Override PartName="/ppt/media/image48.png" ContentType="image/png"/>
  <Override PartName="/ppt/media/image51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</p:sldMasterIdLst>
  <p:notesMasterIdLst>
    <p:notesMasterId r:id="rId63"/>
  </p:notesMasterIdLst>
  <p:sldIdLst>
    <p:sldId id="256" r:id="rId64"/>
    <p:sldId id="257" r:id="rId65"/>
    <p:sldId id="258" r:id="rId66"/>
    <p:sldId id="259" r:id="rId67"/>
    <p:sldId id="260" r:id="rId68"/>
    <p:sldId id="261" r:id="rId69"/>
    <p:sldId id="262" r:id="rId70"/>
    <p:sldId id="263" r:id="rId71"/>
    <p:sldId id="264" r:id="rId72"/>
    <p:sldId id="265" r:id="rId73"/>
    <p:sldId id="266" r:id="rId74"/>
    <p:sldId id="267" r:id="rId75"/>
    <p:sldId id="268" r:id="rId76"/>
    <p:sldId id="269" r:id="rId77"/>
    <p:sldId id="270" r:id="rId78"/>
    <p:sldId id="271" r:id="rId79"/>
    <p:sldId id="272" r:id="rId80"/>
    <p:sldId id="273" r:id="rId81"/>
    <p:sldId id="274" r:id="rId82"/>
    <p:sldId id="275" r:id="rId83"/>
    <p:sldId id="276" r:id="rId84"/>
    <p:sldId id="277" r:id="rId85"/>
    <p:sldId id="278" r:id="rId86"/>
    <p:sldId id="279" r:id="rId87"/>
    <p:sldId id="280" r:id="rId8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notesMaster" Target="notesMasters/notesMaster1.xml"/><Relationship Id="rId64" Type="http://schemas.openxmlformats.org/officeDocument/2006/relationships/slide" Target="slides/slide1.xml"/><Relationship Id="rId65" Type="http://schemas.openxmlformats.org/officeDocument/2006/relationships/slide" Target="slides/slide2.xml"/><Relationship Id="rId66" Type="http://schemas.openxmlformats.org/officeDocument/2006/relationships/slide" Target="slides/slide3.xml"/><Relationship Id="rId67" Type="http://schemas.openxmlformats.org/officeDocument/2006/relationships/slide" Target="slides/slide4.xml"/><Relationship Id="rId68" Type="http://schemas.openxmlformats.org/officeDocument/2006/relationships/slide" Target="slides/slide5.xml"/><Relationship Id="rId69" Type="http://schemas.openxmlformats.org/officeDocument/2006/relationships/slide" Target="slides/slide6.xml"/><Relationship Id="rId70" Type="http://schemas.openxmlformats.org/officeDocument/2006/relationships/slide" Target="slides/slide7.xml"/><Relationship Id="rId71" Type="http://schemas.openxmlformats.org/officeDocument/2006/relationships/slide" Target="slides/slide8.xml"/><Relationship Id="rId72" Type="http://schemas.openxmlformats.org/officeDocument/2006/relationships/slide" Target="slides/slide9.xml"/><Relationship Id="rId73" Type="http://schemas.openxmlformats.org/officeDocument/2006/relationships/slide" Target="slides/slide10.xml"/><Relationship Id="rId74" Type="http://schemas.openxmlformats.org/officeDocument/2006/relationships/slide" Target="slides/slide11.xml"/><Relationship Id="rId75" Type="http://schemas.openxmlformats.org/officeDocument/2006/relationships/slide" Target="slides/slide12.xml"/><Relationship Id="rId76" Type="http://schemas.openxmlformats.org/officeDocument/2006/relationships/slide" Target="slides/slide13.xml"/><Relationship Id="rId77" Type="http://schemas.openxmlformats.org/officeDocument/2006/relationships/slide" Target="slides/slide14.xml"/><Relationship Id="rId78" Type="http://schemas.openxmlformats.org/officeDocument/2006/relationships/slide" Target="slides/slide15.xml"/><Relationship Id="rId79" Type="http://schemas.openxmlformats.org/officeDocument/2006/relationships/slide" Target="slides/slide16.xml"/><Relationship Id="rId80" Type="http://schemas.openxmlformats.org/officeDocument/2006/relationships/slide" Target="slides/slide17.xml"/><Relationship Id="rId81" Type="http://schemas.openxmlformats.org/officeDocument/2006/relationships/slide" Target="slides/slide18.xml"/><Relationship Id="rId82" Type="http://schemas.openxmlformats.org/officeDocument/2006/relationships/slide" Target="slides/slide19.xml"/><Relationship Id="rId83" Type="http://schemas.openxmlformats.org/officeDocument/2006/relationships/slide" Target="slides/slide20.xml"/><Relationship Id="rId84" Type="http://schemas.openxmlformats.org/officeDocument/2006/relationships/slide" Target="slides/slide21.xml"/><Relationship Id="rId85" Type="http://schemas.openxmlformats.org/officeDocument/2006/relationships/slide" Target="slides/slide22.xml"/><Relationship Id="rId86" Type="http://schemas.openxmlformats.org/officeDocument/2006/relationships/slide" Target="slides/slide23.xml"/><Relationship Id="rId87" Type="http://schemas.openxmlformats.org/officeDocument/2006/relationships/slide" Target="slides/slide24.xml"/><Relationship Id="rId88" Type="http://schemas.openxmlformats.org/officeDocument/2006/relationships/slide" Target="slides/slide25.xml"/><Relationship Id="rId8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6" name="PlaceHolder 2"/>
          <p:cNvSpPr>
            <a:spLocks noGrp="1"/>
          </p:cNvSpPr>
          <p:nvPr>
            <p:ph type="dt" idx="18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9" name="PlaceHolder 5"/>
          <p:cNvSpPr>
            <a:spLocks noGrp="1"/>
          </p:cNvSpPr>
          <p:nvPr>
            <p:ph type="ftr" idx="18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0" name="PlaceHolder 6"/>
          <p:cNvSpPr>
            <a:spLocks noGrp="1"/>
          </p:cNvSpPr>
          <p:nvPr>
            <p:ph type="sldNum" idx="18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A9114-EDEF-4E42-B54D-CCA65FC50C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1FAAA-D590-42C4-8F99-20FADE5E448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3C28B-D868-4210-9AEA-2F9BD038365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E09A9-A69F-47B4-B127-22F158C733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4AC6-253F-4844-9FF6-C5073EC81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EA21-2FAD-4923-8845-9BA5107D1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BFC111-E853-4FB6-8136-AE6B23CAF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F074CF-13E6-48E6-BD72-161D2C82C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BC7CC1-9588-48D4-86CE-5FF62449E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797C41-CB60-474C-9330-9CCFDED9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B5C76E-8F69-455A-96A8-5FAB64FF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7520EB-6B47-417A-BC77-2EB7787F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0D7914-6F35-40B8-96BB-438161F44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12E2E7-36A0-4E2B-9ED9-F1F010F70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C85767-461B-4BF5-B0F5-D9F958F3D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A692E0-D6D8-4AA8-ADAA-417184493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1231-AA9B-4177-8AD3-71BB9060F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2D38D8-06EB-47AE-B36E-36AB64F41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8671EE-31D7-45CB-9C4D-D17CA9AE6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EE6BB5-7946-401D-8E35-7CB681517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E871C4-B8BD-45F2-B5C3-6224CACD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06EDC7-56EE-457A-BECE-6CE1EFF8B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766880-F79E-400E-A065-0C2D1FD1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668CFA-2B9B-4A29-9C3B-6CA2F2C8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731CFA-AAD2-49EB-B05E-F88D8E2B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23AA34-8288-44CD-81D1-7B7B835A1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C19716-87D9-4CD6-A44F-3427C010F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BCB7-F6A7-426C-9FE4-9D57F40FC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755E22-BB25-4FCF-8DF4-F246D4743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558D48-38F2-474C-A711-2264E6006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972CDC-6FC1-474C-AE30-70D5A2DDC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C826C4-6528-4203-BFF9-7D45B6EC2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156758-3108-4EB1-A4C1-896315EB9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4ED1D5-F9A2-4A7F-B59D-C7B89C788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1040DC-4C33-4120-958A-4461AE522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F8CFA6-8563-47C1-9E03-2D86CF46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8441B7-D0D2-47C7-A527-AF012148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481021-7FE6-4A52-A084-6B7CEABE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889AB-A354-426F-82C6-278023B24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A41853-500A-4260-955E-51BE35173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5BE2B3-ADAB-4EC8-BA05-E9BFEB95C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496241-FCA7-44C4-B200-F52A4866F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055FCB-94C6-4CA2-833E-98198FB3A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4CA427-1EA0-4E76-B649-594BCB77D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4D1441-03D6-49B8-97F5-5BBB594B6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E62DE5-52C5-4521-95FF-CDCB9538B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607966-F370-417B-8EA6-DFB5084EB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57B189-25A5-4C3E-BD43-C94C1A80D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547B5F-EF52-4A45-9CF4-75385208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EA414-A6B3-4466-8070-296D1FBB1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6A9552-1091-4486-8A31-DC24556A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B04599-7E9D-4951-BB14-4D992788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38000F-536B-45B1-9DEA-BC8C97F1A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EC6BF2-42A2-4D31-B70E-D7A6E3B94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8B045D-7D0A-460C-B3CC-DF861F7E8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BC0632-11DC-4B48-95BD-A535774F4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2249B0-A907-46FC-ABA9-6E0FFC79F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FB0AD9-0809-43CB-999F-7F5DADDC5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D074F5-1447-4869-85C5-2B903948B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536814-FDBD-4B98-B862-974A925A4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B8BDB-537D-4042-8F58-E8BD5434C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3B04A0-07B7-4A88-A795-E1605E45C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2A082B-95A3-4E50-AF08-86DC2C2F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537F7F-3B12-431F-A41E-1A4634D7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F39C76-578A-4FF5-AEFF-9A3E8416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FAFBCA-987D-4317-8988-0E33F7B17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5D7DF2-B07E-40CE-9977-65852DFFC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117732-C881-497F-8F36-24484BB87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57DE0C-7A62-4A92-8B10-22B015420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BAA1A2-72C2-41B0-83C9-B7249B38E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00B30C-D1F4-471B-BD34-8875E3541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34438-E132-4E99-99FA-17469998E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1A79B8-5B28-4798-A1D3-45F73A0CB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FD7E93-AA48-4F53-8598-F0510608D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E5D198-6393-40B5-81D5-8AE09F653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F33545-0B9C-4405-A21F-37B7FF92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A0F2B0-C9DE-4C73-9571-32ABA3E0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0BE81B-F228-46DF-87F8-ECF37553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D9302D-B982-4C81-97A1-C9D269E04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346BAF-71F1-4445-B615-66081D2A7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83EDBA-4E44-4FA8-B611-7B5476A5B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061ED2-BF33-451B-A886-699EA4293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03362-01C4-46AA-B837-930563E5B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A29040-8D8B-4C5D-B97C-28511DB02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388141-5BA8-4EFD-991C-C0BB4A224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10DD29-4C8B-4CA5-9FB8-8187A712C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EA9191-A791-4614-84E4-D06646427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BC04A7-FD28-4CD7-9239-72DEF45DD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77770D-EE9D-4AEB-B35A-AD1B640D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B11CC2-3E32-46BA-98BE-331ECFB3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1E9F44-D26A-4354-AB94-187479FD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3D88C5-6553-4B9E-9C57-1EE296474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696871-A473-4841-BB71-BBC8C27B1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E65DF-F457-4EFB-80CD-EB693725A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AB2B5E-D5A7-4E13-BFEF-E13F2CEB5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9431C9-E8A9-42CC-AB3E-B5C82F50E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DEC967-F0A5-4FA5-8481-F9E2A6EE5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A171F4-C6FC-491B-B891-9C78C25BA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C72DD2-FF51-4562-A96D-B947056D9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3CB610-0AA1-472B-89F2-DF71B8DDD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F3F8B1-1FDD-40A7-BA62-0FED08B8D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F4DB84-6A51-4C83-AF81-E41BAEEE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A33E86-9FDE-49B6-9DB0-DC5A1946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C4146F-F120-4E94-BC30-E7BECCF0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F7E44-E5E5-4D63-8F0B-3E02C259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4A808A-012B-4F24-97EF-A88697279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ED9F95-6A6A-44D8-95A5-925D9F541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B0CA92-2A03-462A-BE0A-60446E19E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E175BD-B4F0-469A-9AFB-EFBB91FCA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392219-7F5C-486A-897E-54082546A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FBAB45-E807-4900-B960-AE044F3EC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D1F615-421D-447B-B9E7-B6C97A4F2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F39499-6547-4305-995E-EC0564548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9BF5BB-366E-457D-AFAE-DB3931478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9D5529-78DA-467E-87EB-27B15B64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3ED2-7B1F-4A38-B082-222D7A093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017AD-E27B-4B85-BDB0-110F8804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9F817C-C528-4A12-95F8-EFD04597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CC2BE7-3D3E-4F3F-82AB-0B067104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50E5B8-F369-483C-8331-5623F5CC6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B802EA-0B50-41DA-BF78-F6D9EAC1E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8CFD05-786B-439A-8AE5-3C3B474B7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6D4B81-DB6F-4BD3-8981-1C8D97F2B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331E61-DE17-4C7B-9B09-367FD95FD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43A995-E629-4973-8EAC-3C0496731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D0F71D-BE7A-4E1E-86CA-F7ABF878E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66C930-965D-4631-849A-D2316CB55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A9B12-CD70-4603-8B8E-AC7360F5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6C112C-0193-4DA4-9B51-54B57CC6A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5CD7D5-A0C0-4589-85A8-3520A833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999AFF-02A2-43AE-850B-133F5935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E5F6E4-9C7B-4359-A71E-8BBDE273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4BCF89-14C4-4D50-9B77-84A45F748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31A42F-EA0A-481D-B74B-DEF6B4F85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0282E6-317E-416A-86D5-D054D8276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9394AA-B890-4463-8ED4-0A022130B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44150E-0E12-4478-8992-49A9A3615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DB382D-362F-4E01-A401-5C07AD4F6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9B660-D339-427E-A7E0-A3EF4C630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6CE048-57A6-4228-85C2-438860697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AE974C-4FE2-4FB9-A370-D3A6D53CE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9B076A-40B9-465E-B9B6-D7E025A0D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2185E3-624A-478E-AC52-F0EC6CD9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6E2CF9-1E27-4A76-AB5A-176B2FCC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216269-D9F9-4DC3-846D-E3FD41AA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D4E292-2EFD-4DE3-AA9E-9A44BD4AB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3D4A1B-1D9C-4FB6-9AF8-EA3ADA241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86D5D3-30A6-41C5-8D99-AED1F6FDE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A3A92B-9674-45BC-BADB-22A6E2334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C20C3-F9A7-4B19-918C-B79F599C4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F51EAA-03AC-410F-8129-A032A825A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FC51EA-7645-4492-A119-346372109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51582A-AC25-4D1E-9FA8-44B4D48D9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D60BAB-307F-4B46-BF6B-390F6688C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BF909F-70BA-41E2-945B-4F408B27E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6054BD-B5BB-419C-B495-462BDB48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E72C02-2306-45FE-AFEA-96DF4EF6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EA4E71-CA53-4515-B8C6-08E470D2F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BEBE63-B026-4175-9835-EC13D6DD3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57C84D-3528-483C-B41B-09AAEF9F7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1BBCF-DDD3-4D4A-83CC-F1BCCFAD4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7EF8D7-AE0C-4DAE-9EF9-29E88DB22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05AA07-FF59-48D1-BF21-1B49EC135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CE0CD9-42D2-44E1-8262-D66A7FE7F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44D43E-68FC-4C2A-9BF4-32D02F806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49BF04-BB1F-4BFA-8D59-335B30565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8CF800-6240-4008-9528-9D7C3953B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4BEB08-5BBA-4DA9-9AB2-578642D85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DFD297-393B-41F1-BEFA-B72C8CFB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75BB15-4B7D-4C78-9242-7817A96A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09231C-EBF5-42DE-A6CF-13470F2E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A8FBA-66FB-4177-9A71-DD0E278B6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B8992B-7B96-419D-BA8F-BD2F1E72A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05E2B8-58C0-46B6-8C0B-97354EB60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AA74CE-7139-439C-A325-E89A36CEC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6187482-0C01-4BC3-8DC2-9517945DA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0DC1C10-DB62-44D1-8D13-235CF1A3C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2B0444B-F483-4C2B-A75D-F4F51440A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0420DBC-9B16-459D-A3E2-823E6C43F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D9A2321-4E87-48D2-AF6C-0041CEEBE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E0E8939-A26C-45D6-BF9A-6A61BE401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F3FACFD-D406-4AAE-B040-4D8CB4AC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C8827-3586-4BA6-90EA-8C606C9C4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58E6A6-B24D-42C5-A53C-C4674912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F0D8E14-A4E0-4A22-8A2E-2540461D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EF8DAC9-8201-410D-B48D-467CB0A81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96C5C5A-503F-4695-AC0E-43F46BB7C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92E1131-DE60-4743-A5C1-BF308C86B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52E8E8C-0A2F-474C-ADBE-C949A84E3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9EA2AD9-955F-40A1-8B13-34769B0B5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F92BDF4-AC4E-4E00-88D2-915F57AD2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8E654D7-D1AD-48E4-91F5-D49D14A3B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2F5AAED-3AD5-4AA5-861E-66118BEE2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5244D-4244-4131-8BED-4ADEB9DD2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0834EB5-F068-4745-BC5D-34B312D34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398DB6D-AB13-4927-98FC-3598A78A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1E5396B-4594-492C-A2E0-54D7F2CE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C436EAD-049D-47B7-8421-B8167F34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3F23A52-0A4E-40FB-B453-17E977859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E70E719-6594-42FE-8EA5-C106D80C8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997B8A5-87E5-4043-BB15-9B7BB33BC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9C34B6E-501E-4604-83D7-D63B0C353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CAE9554-4FC6-45E5-9F10-426EB97F8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894552F-6B72-4BCA-B088-4A0335B0E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CC9B6-D81F-4CAB-A3AB-2887EF87A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06F3FD5-3064-455D-8CB7-819658B63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12A2A24-47A4-4F38-B557-1D3708DA7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E6EA111-6701-45B7-BD9C-02E7BEA6F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5FDCABD-EE1E-4A4C-A731-AEBD85E9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4927A99-CEEA-46DF-8409-AA4F1223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F8E1FF9-3068-4D95-B536-DEF808FA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883D085-49C8-4A53-9523-B6F631941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CA4BB5F-EE63-4510-A6FD-A41820197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8E4CAEB-9C3A-4931-A3E0-9AD633895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351D436-654F-41D1-97E0-D1EFF793B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EB6EB-4C05-4CE0-A52C-858AC213E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0C49F6C-F0C7-4523-82B0-2430DA710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1131C76-D137-4A75-AE6A-924AE23EF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B4A72B9-6C44-41BD-B807-ABDED198D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7FC4BCB-F4B9-418D-A14A-3C5A77C54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84243B4-7AB5-45D4-B3A6-8B5DD8663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CAB7F14-ABA2-44EF-9C17-1A4AAE0C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97519F0-353E-45F6-9A8F-A1E60B74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251AB88-108F-4986-A9C3-F45AB918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FFF3682-FAEE-41C9-A342-BFD4B07B6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6114A19-B55A-45BC-B1EB-D22217CBC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4988-61B6-461D-95D0-AB17FA01A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D9660-A52D-4B4C-8FC6-B2A30050E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F476999-E377-474D-BFF7-A210BEB9D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B6D66D2-9D80-4A93-BFC9-04BAFFFBF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49E8EB8-012A-4904-B0E7-21A632044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213A167-4C37-4E7D-88A4-F02CD4BEF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B11B6AB-20BE-42E7-823E-014C2E89D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7E559B6-BA55-4A15-9B5E-7602264E7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B6D67A9-F125-48C6-82F3-D436F782E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3F9B095-699E-4473-976B-C1D73EAE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8CDF6F2-3FB8-4D42-800C-DBB256CE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EC13410-231E-47B9-89BE-CFF738FE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0C625-7A29-415A-9E61-7F2AAF18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D98FB09-C867-4784-8957-C02428730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ACB70E5-542D-4AD2-9002-120BC03F5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83934B3-6098-40FB-937E-5B6175EAE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F9C3A3F-49A0-4F60-97A7-559B81373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F3477C3-1AAC-484A-899E-A6D7FFAF2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F3F8F59-681F-4FC0-81A9-AFC280CFF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49096C3-EA34-4D19-A3BF-0188B3176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9854E10-5408-4BFF-A226-F2F9256EE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3893C20-FB39-4940-8CCD-537C506BF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8516D60-FE5E-40BC-850F-E07332C6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25E8F-72E3-4DFB-9FDC-1A851D71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FC733CD-8BC3-4569-9653-0EC9CA17F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F843C86-433E-4025-8C66-98A26CA10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E929595-99E0-466F-9293-2A63834D1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6CADFAE-5E08-4FE7-B29B-57128F4B8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40ECEDD-0860-4631-9BFD-E488D3805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38B49CF-9CFF-43A0-9D6D-126275B57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5381F7E-7B65-4DFE-B379-25BBAD837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47F0191-C01F-4623-8EB5-036DC193C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A4581ED-37E5-4733-A388-3E35E5DFF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E83956C-3DDA-4103-A3D6-18E9E2C26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A6F1A-925B-4984-87F9-08943A21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6BDFB15-8A1F-4585-99BB-DCD1A5A0E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8708F2E-9E39-4C17-B210-70A10592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27EB41A-AE26-4F23-9D77-7F2A13CB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D54E242-9094-4E2E-8813-8256883C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12BABC2-6207-47D7-B570-B8B88D59E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808B1E2-3456-49C7-95DE-EE74C708A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CA35526-B8DB-45CD-9992-9F1BDA938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C14C6EA-018B-4BC0-B159-94C821E4E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1C73310-FEBB-4C40-9863-15E4FDBAB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88304D0-C40B-4DC1-93B3-E597C4CED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E0E9D-49E9-4047-BA06-9D9C297ED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09AF52A-220D-4FDE-87D6-114ABAEAC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6F5AC1B-0201-45AF-8805-873B8563D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AAC21A1-D943-4D25-98A6-5435A49F8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25BBA9B-E3F2-4AA6-9B93-C8832A1A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2A5BB30-FA27-4F85-8D7D-F8319A8E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6717B76-2036-4C22-BC23-192054AD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49C709A-15F3-4363-8511-4E77BFC54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0BB1D1C-8977-43B1-8400-E49900604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66BD986-6093-4FA6-955E-A56A097AB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2576730-9AF8-424F-AF17-CD5FCDF1C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CF1D1-C314-4F37-806E-D3FEE5F21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239396D-3880-4A45-AD28-959E851C5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B8EC123-24CE-4237-A2D0-6272D00E2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158AE14-CC8E-45A0-89C6-35F2A6027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B5D7B0F-F823-43D9-AE1A-E009D9FFF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F2AE6BF-E7AA-451B-AFDB-985BD0570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88B1876-BB8A-4494-970F-BB0A331D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2F45AD8-7246-4FEF-A009-D82B0559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A6F1454-20ED-4A2F-961A-763CB470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2EC115D-1305-4322-B7DD-895F5EAA5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29E62FE-4025-4B12-BF84-1297E6F23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59D0F-FF67-4BE6-B1C1-6FE7EE8E7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F3A068F-B9E6-4058-BDB7-1EC189A81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C90796A-7EEA-4324-9BFE-9510B7CD9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3E9970C-7D24-4168-8F66-842EAAA15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000E72C-4412-409E-A571-546967264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85A5661-0B2E-464F-A29C-9AF52415B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F23D9D0-5E86-4FF3-8778-720E99D1F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15EDF64-4430-4D16-ABBD-5682C3983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B3C5E8B-16C6-4715-8B99-316F5676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65623EC-3838-4E7B-9557-279ED508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4497970-13C4-4361-9B99-81775E3EC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FB47A-6EC7-42F5-9DF4-912A66FA4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D44FEA3-D737-4028-A09B-14B82FC18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A90386F-4F50-4EB5-AACD-F6CF3244A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661704C-1BCA-49FD-A21C-97B11FDFA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ECB7995-E070-4FDB-BE25-AE6F77F9B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A1904B7-F3FF-4267-8800-43E680B1D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1A91682-3C63-4653-AE0C-E6F86CCEE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44FF41F-EC8A-4C7E-8CD3-58A54B0C9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1A25BB7-513C-4E90-AA91-AD839E4E1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9219B4F-B953-46D6-AD08-4AB7EC958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ABE37A3-7B1C-47D4-A549-810DE0B3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30F55-9377-4E8E-984B-2FEE67D51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DE7142C-62E0-4533-BD5C-B0002DC8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38A78AC-7A86-4C71-A954-60E8E6E6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60819AE-960F-4A6D-B3E5-D5EE859A1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FC9BA78-2BE4-4AF8-9A65-5DFF9DF60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2A53DB3-E213-4A03-B65D-B056C31F9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BFBA071-BEF1-4475-A4F6-CAD416D03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C2891FA-B919-491F-BB4F-6B71BADBA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FA3526E-96AA-4387-A717-8EAB605F9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AC9CAA8-2133-4C88-9BC6-B2C3D8225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D0D0FA5-C113-4B18-9006-81FCC7006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8BF64-58A2-4CC8-BB56-5E2D5255E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CB4B4AD-6757-408E-8653-17DCD9FF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C45C5B4-A815-44C8-81FC-0C60414A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97BF57B-6B20-48B4-97E0-10500CFE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1462058-F05A-42D4-926C-8CF7E3D9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1179D08-6EB3-4AFE-BC45-725893306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C641A31-24DD-45A8-AB14-747E24254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D8D0DEE-C40C-4EEC-9F76-E9A16490C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B9DAEDA-E4C2-4E57-90AE-CEBDF1E35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87E2758-CBB0-404B-A4F0-6BC532289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9A528F5-CAA5-45A1-969A-2EA1535B5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0A31-9AEB-4789-967C-D4BCD02DD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A26F9-A7A2-4714-841B-4CDA35241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ACCFC02-39D6-4040-A724-1B1312405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C94D093-A327-40C5-B832-54A4A2C27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3223296-73FE-46D5-AF1E-BE5099AAE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7FF8B63-8216-4F65-BBF7-458B0C43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8299A96-C14B-4E48-9EAF-1DCEC294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941EC15-01E2-46AE-993C-C023364A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6ED944D-5D98-4129-87DC-7780D9C71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F51AF6C-35F2-48E1-ADCE-6A7AE6BB9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508E436-4690-417E-A469-98C472BFA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352BDC9-5A35-49D8-87C2-BAEBEC52E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4D1DE-D962-4BFC-B0B5-D2C2C3F3E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B45F6B2-2FCA-49A9-AE50-C3F9DDA25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4417741-FAE6-4136-A57B-22C5ABA28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5E88D1D-6EC3-4D55-AD82-72BC57193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4A247ED-6993-4FBF-98B2-768C5AFA9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EEE7C74-77E0-47BC-AEB5-C91B21B2F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69D3293-B877-4BCD-AC5B-4B89188C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9257241-5F23-4410-9CB4-F0AFBAF5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72268B9-F0D1-4892-98AC-A7C36087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3F56A61-4015-48A5-B395-547852D0D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3222506-A844-4628-AD9F-F45460627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162AE-EF07-4E49-8CB2-7E14FB58C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C26DEBA-008F-4EFB-82E2-08D07C393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CE4FC06-B5FF-491C-AB76-EA398617A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400029D-4961-448C-869F-273E67072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96B0A80-859A-42FA-9F4E-1631EB9E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550638E-C819-44FD-9ED9-A074AAFA3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9AC80AB-A23C-441C-ABF8-208B74741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6529C4E-98BF-4CF5-9C65-E3B0C3EFF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CE59169-4F24-40C2-BA36-24294CE6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DD6CDF4-EEB6-431F-9D45-4D005E45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3654EDB-A153-402E-9F59-61A7EAC9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A4CB8-0942-469C-BBEA-F04BA168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D77EA39-4B94-45EB-8F3F-BAEC91F65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1C37A01-7DDA-4053-9739-D60DA1090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770BAE7-463D-41B7-B7FE-80A06339E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E92DBF8-56D9-45D8-B29C-F51B745D4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5D7CC1F-2034-42DE-9B1C-5AF7FFDFB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D80EBEB-6EF6-4F9E-AED4-0A59FBCC8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FEE2198-D426-43AA-9234-897DEAE0C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EC6C85E-1160-4266-A855-97FEDBC9F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22C8FE6-C96D-4FD6-85B3-E31455E98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2238E1F-276E-4F22-8333-7DA8CA8B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6951A-C86F-4A50-9736-37ACA3DE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85BAEBA-66DE-468F-8C33-6866A6CE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AD253FA-802E-4820-8BAF-FC42D4DB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6BE098C-6DE2-43A2-851C-89CF05BD6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931060F-9919-42AD-B7D9-07C4CEC76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7E97926-DD98-4BBE-BD48-0F0943358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62059DA-7E6A-4A05-992D-6FDA62EA6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1469AE7-8883-4D04-A5DE-BA64B44CE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6E5EA8B-8F2B-4B95-BCDF-791CCF31B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06616B1-164B-4914-B078-0B5342C7B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124DCA4-B52C-454F-9212-8AB1454D9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F9BA6-11F0-453D-9867-E51A2F34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F3F80CA-EC17-4AEE-AF0B-631797354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29D6E42-6630-4DD3-996D-87519793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D831390-6D97-4F22-8F88-D12D37DA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6C342E5-7C10-4A1C-AA5C-F7D3BE9F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83BEE54-A4E3-43F6-97CA-BCA59A82E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2F732C8-19E5-4083-8DAC-197E49B9C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6FF1B6A-0255-4068-9049-FAB56D5C9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DA36AD9-2A01-4098-91D4-A072B365B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6BAFFB8-E869-489E-8947-FBCD7A1A9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7DB51C2-0028-4C76-9CCD-5BD106A09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9EE24-DE12-40AB-BBF1-051633475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CDBE679-5855-460F-BFDB-C7480BB3A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D04B7FE-009D-4C42-854D-FBE1F7B9E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DBFD5FC-24E7-40BD-8A80-2D5FEA775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13F84E0-FD69-412F-BCA3-0E4830C4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7A06950-6DE7-4D2B-B263-EC679375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46E093E-202D-4C28-985B-D7656188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FED5847-514A-4914-A8CC-7DBDC1CEB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5A17405-B014-4B4E-9743-DBA4E621C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E52A46F-F5C2-4268-AEA0-6ADC7D5A7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9200817-E1F6-44B1-84AA-481F9AAE4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2E95B-7434-4D64-BFFF-B174A14A7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4DED3D4-AA13-4701-82AC-0F3951DB1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5C77C09-75C6-4DB5-AC6A-E4D3FBB6C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B119AA9-5EED-4FA1-A7E0-CC6B21A26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B849E39-6AE0-4464-8AE8-02FAA0ABA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7C78344-B730-41C5-AE36-19A304236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6897265-FEB4-40FB-BA0B-62593BCD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E554F1C-5D13-47AA-97C1-82B2FFA9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B6B0AEB-2766-4978-B4CC-0A9CD57D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FD43B3D-05A0-4CBE-8FC5-0A36C8B83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3F228E0-53CA-4A8E-B43D-C6FCFD84F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A030E-C054-46BF-A2D9-44ED97CB0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2B53811-3E6C-4B0A-97A5-F6525F70B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BB4AA69-DBE3-462C-8624-BACB0CAFD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798F4A6-C2B4-48CC-92D1-E7DCCEC49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DE08394-8C57-4CF7-9381-7F00E423A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2ACE14B-C23A-41A2-9FB5-4B56B8D70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76088DA-E5E4-4ACF-8A6E-90603CF98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A4290A1-AD52-4B2E-A381-B69136F0C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11D5423-5EB5-428A-94ED-65FED5AA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4E5803C-7978-4435-B889-ED53DB21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861BC8D-9655-457C-869D-863332E1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16E74-957B-4335-8430-116D8EE2B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E06C514-4BBD-4E44-938E-172216CF4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D715DA8-949A-4DA7-B388-EA2241FCC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5855D05-E2D0-40A3-9EFE-FD48CCAF5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8EFB2E2-9BCC-4F1D-ADAD-1DAE13F2B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2A0CC90-D0DC-41DC-9C0D-6B534524E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052F797-0032-4221-B448-8A16C5A49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05C10D4-CB47-41C2-AFB9-5154825D1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89094CE-B164-449A-A16F-16C1C6C9F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838D348-EE17-4F5C-881C-540873955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BF1E8AF-6BA3-4CDE-B318-E276113A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542B-BB4A-4992-842A-25D1EED3A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8C78A-47F2-4E64-9065-8ABF886C0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8570C95-8907-45BE-8A24-83341D7A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59C0B16-7CFD-48E4-BCAF-27AA09F7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A33DB5B-6742-40F8-9214-264776CAC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257CB1B-2DFC-44B4-A8B0-4B2B5694F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E161B8E-F7D5-43BB-8E31-76A1987ED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AE46140-00F6-4131-83E1-BE0ECDDB1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054B259-6BB8-4BBE-9036-ED873F884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5A40ECB-EA28-4D5D-AC46-F25AB79D5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8DC545F-C101-4549-8970-907E27E05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C6ED274-DDDD-421A-A9E4-CE438BE70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8A187-4ADF-40C8-8CF7-3B2A2FAB1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2146DD9-6C80-46C8-8C59-7493B8675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891FBC8-82C5-4FAB-ACB6-CA0B1BBD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EB113A4-7158-4BE6-BE07-4C314917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0CF64EE-5242-4323-B244-D4328CA9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3EE0DF6-8552-4B0F-8471-7E09488BD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3957985-09C7-4BE2-9A21-68FC805F0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83E2EF8-F1DD-4CBD-9A88-D6D7EB467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47862FA-9243-456F-94B5-CFDDA665A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9BDE60A-87E7-4DD8-A81C-9C049A323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B3A0C18-EC47-49BC-ACAD-E5CB514B6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ACEA0-C27D-43FF-ADA8-E5FDF256C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4393AB6-D63A-48B2-AD94-C72F022F1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6E17BAE-32F5-4E10-891A-011B69A4F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D842A14-FA92-4DFA-BC91-352ABDF20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901ED38-38B0-4AE8-9FAE-9A1CD2E3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C15CC7F-F3B0-40B8-971E-2CD13997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83C35F6-060D-4772-8BFC-25DAA89B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93F795A-901B-4765-A605-337FD29A8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DA0660D-AF8E-4629-8E18-802605568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73ED0BB-B954-4DE6-B34B-2F118C046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BABCB33-F2F8-441F-A502-00CF7FFC8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12ACB-1CB0-417C-B5DF-0F7BA4FAB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97A5043-6C66-430C-8EFA-C4B1E888F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0E267FF-E229-4969-B900-C25F45400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C74A167-4DA7-4EA2-B731-5D58EEC2C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528452B-ABD1-42ED-979B-4EB3EBCD7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DFD8354-CC72-4372-A874-7F177BE0A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8DF6E05-5637-42DA-88D9-F9C86DEF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0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F7280FA-EF4B-4077-9055-DEC5ED19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968F2D2-F078-45BD-B2E3-C73402A2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E0CB7B0-5A9D-4735-81FB-0E48AF63D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F39BCFA-77C3-493A-A101-E588D041C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1E8B9-B0E2-49E3-AC35-4580E69A2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A82BA80-E0ED-4CC6-B153-5C0DF33A0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1D44A68-CF36-4284-B506-F20BB5A26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0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B471045-046E-4DDC-88A2-DA49FF7E5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EA598F5-DF3B-48CD-8261-A4098988C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2B38589-6586-4CB6-937B-8240EA6F0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5920453-C879-420C-901C-206CAD178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0EA626E-D1C2-4F01-92D0-46D985328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6273D4E-537A-4BC2-8937-3157813B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0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8CA72B3-6A22-4A9E-BEFD-F1284D84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99D81E7-2474-4C95-8467-7C344C0D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0231D-EB95-47E6-9021-45EE4D1F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0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057A07C-F0F7-4964-A458-978F0F3DC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12EC127-79B0-4C84-8030-D52239973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0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B8B1B42-92A3-4B75-8F1A-356F27346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4E84A33-D519-4ABE-9E1F-363333233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C5242F6-2A33-4D78-8E11-E2CB82E1A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1D2C982-5ACD-44A4-ACCD-9E7A9705B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11CF264-CC96-42CE-A98C-341513D66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B439DA7-8456-4C0A-AC5F-8D1585C7D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A44A096-5F03-40FD-B28A-3EDD1B7FF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E1FA8A1-F1A9-4C1A-BF82-92D03B13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56A0B-F799-4011-A84D-F1AC3D8B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1EB6AF1-2A08-429E-B530-20FAF930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5C0C079-C835-4DF8-B9A5-42B30659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B6BF920-75AA-4BF1-A358-B97255738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EB1FC63-25FB-49EA-8316-5C34CE46C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910DCA7-EF7C-429A-B880-5A9627451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3D4D9F2-2F53-443E-A3FA-D120C8EEF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8190B9F-86A6-4A51-9CE6-D57BFFDCB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9DFB8C8-93D9-40C7-8E55-FEC7AE78F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0C41202-7AD9-48CD-99DF-05AACF2C4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63AAD9D-FD2D-444B-A432-42517BCFC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060D4-E207-4874-A3A2-D8D4BD2B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7812C4F-337F-4749-9F07-E997A82BE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BC6E392-233E-42BC-98AF-B01B988F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1DA6701-6451-4402-B778-82A7E3C8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56275B9-B67F-45BF-BE37-C1EFDE33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1E20A81-247B-465A-BB69-680A199E7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C2FD9E3-84E2-4E4C-926D-4543B5DB6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55DFF28-B97B-4073-8531-D158D9062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6C77DB9-6DB4-44A5-8B7C-F19CD8CED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B684A48-899C-4A48-BF15-FEB07AA04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7598B60-0AD1-463E-BDA8-7185B5B8C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D0D9D-C245-4919-93CA-D3E1965C3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8CB1CE2-9E7B-46EB-A08C-B18F80C0A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EA3FC5D-1DD7-42CF-8757-8A456B091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61C8462-9A34-4783-A74C-ED1A547DC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F27627F-3216-4693-94C1-2DF2C30E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16F4D60-DDA4-4E68-BB5E-26F7BCAA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B420461-A8FD-4D5F-9F4A-CD616DA0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CFF7232-2C5E-4303-B50E-CB2B1C232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C918773B-2F15-4287-B5E1-0A6F41E96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E8BAFA1-C12F-4731-B770-972A379F9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F5EDE8CC-1EBB-4C8D-BE5F-0081FD97B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4F381-04D9-4F5F-8A0E-051FCA27D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EA098BCF-5FC9-4B9B-B007-111C33D5F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BBA5F4B2-C754-42B6-9AD7-3363BCD4B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36A05E87-7381-4EC8-8987-6AA479619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E95114A3-1A05-46E2-8270-E6532768C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9E1D2771-AED4-4CFB-B4E4-B407B81C6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8DC4364E-97AF-4089-8B59-66374FA8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A16B4F97-05DD-47D0-8A73-8D8D843A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B0DE547E-802D-4F73-9AF1-3835F69A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0C550BF5-BDBF-451E-A136-F67D0C983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74F7D762-023F-486D-804F-8B65BA77F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D6D8-B06F-4CBC-BD68-61AE212C4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6ED9C-0A5D-4143-8CD5-2FA643CAD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74DB57F7-3DE5-4240-9819-08D7400DE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247392D-6911-40E5-865D-9CDE14F8D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2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7E45CA2E-2F9B-4E09-8E34-3E6F12D82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BA951ADE-474F-47E4-89C0-7C959D540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ED29081-E959-4503-8835-A083B0E34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DA90B18B-FD32-42A5-83F1-44717EBA9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2DA702C-A3DD-4534-B2F9-568DC6133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FCA5BAB9-A31A-413D-9D8F-BAC77F79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242EDB97-34B2-49BD-ACC1-8366FFA2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A91FC134-0BCF-4A9B-8A3D-002A1CAE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677E65-45CE-4DC2-BB3B-2984A297C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B11B466-EB39-4ACB-891B-80B765178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B288AB0-61A4-4A4F-915B-CEB35A625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2ACD692D-80EB-45A8-8490-6CB4D3FF4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B109CF1-0150-4281-B5CA-7AF71271F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3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DC4FFB0-876C-4358-AFE4-CE9A11A5A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8DA8874-EA92-4442-B337-17D536001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3FB5368-E9ED-4FF2-817C-268740E82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3A091CEF-C320-419C-85FF-26B877F95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FF97344-1520-419D-94A3-21CF324BD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DA30ABF9-8D2D-4476-9138-F18E3682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F4D619-D645-4DAE-A263-43FCC414D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DC792F7-B9D0-4846-A6D1-72FED0C8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A40FC76-E441-4CE6-BC78-3BE4CDCE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D0235432-FA45-43F8-B70D-F4CE5B3E1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D7671AC0-CB5B-4D23-A3C5-55A40F793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8213F8CE-C900-4F50-913D-0145E32C1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6A60D7E6-E7AE-4C0E-AF5C-CE91E5F43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0B7A09F3-6E91-43AD-9103-37C0C493D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FD9C2BB-7929-47C8-AFCF-3387AAFA0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7175463-35BD-484D-91AD-488F02C30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F8865222-7216-4CF8-8534-43330E726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BFFE5-0441-4195-B21E-2D30BBFB3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DBA65CBF-A2BD-4233-B1FA-F83F0B37F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AA7E7B11-F8DA-466F-8D1F-B18355E8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3D292D3E-E6CE-4D46-ABB6-33A25168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D11B17E6-0495-43A1-A183-B17F4DDF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A349E61-3C6C-4E4D-A408-A47E6E6C4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94791FA-CD2C-40C2-8E99-962F42CE9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2D854D4-EEBA-4B3D-ACCA-A550ABD9D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330D7AC2-D592-4C57-9516-46D0850EB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3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DB1EA01-B1D6-4D86-8319-07494798C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A676582A-108C-4F50-99F8-897747919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25DD03-A8A7-41E2-B47C-4930140E9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37800347-BE8A-4BEE-AAEB-027F584AD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2A7022D-2752-4BB8-B287-19C297799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63CE9D37-008F-4479-B6A8-3BB8E7945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69E6BE2-A789-46CC-8C43-E2F0DF2F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A207D6A-F2FF-4972-9E72-16B9ED59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3C3ABC1-37B5-4E93-B520-D1B7C62B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9BFD0908-6437-4CF3-846D-E727DEE5C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93A7E6F-AD49-405D-A17D-87309BA86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A37F71B7-EC20-4CF0-B7D4-A907ACDF6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267E5545-3B1D-4F78-8AFF-33F377C01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8B060-1708-40EC-B9AC-216306276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5ADD6B48-73DB-473F-916B-706E04F3B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BFE4A764-EDDC-4BB7-8778-CC9229194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D9471B55-3FEC-4847-A5F0-83DDACA30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2801AFD-070B-43F1-9492-BF85BDB28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A61036E6-C7DD-4751-86F8-59D1D309C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11F4B08-D3F2-48C4-B7B5-3283B580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02607E3B-0952-4E64-925C-6B973831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3AF8574B-E8F5-4CF0-A1D3-27DF721B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C76821AC-0ECC-4A02-9C49-6CCE69CDE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59369E4D-67DD-4F6A-9F0E-E6EA45534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EA907-D81E-483D-9EF1-F79F48BE1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2A58661F-827B-44B1-813F-D61F35B74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8703B08-8F58-489B-90F7-E6322F190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4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15DDD5E-404A-494F-90DC-824C9D807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065A095-5A4E-4C22-9726-849DB4FDF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D253B05-CB06-4E34-8D82-5AAAAE58E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041D41F3-85D5-46C5-A3DB-FDC97C120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D6723BC-2697-48C4-A399-3F9F48187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DB5DD78A-EF3E-41D4-84CC-0797813F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1B61116-0CBF-469F-97F7-F64D9EF1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D0CD3C43-EFAC-4734-81C7-5BD7BCEA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47340-7902-4745-9A6E-995D422C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0C45890F-89D4-47D2-9B0B-1535CEB36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E04F25E9-444D-4469-94E8-997C4F057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A1FB36BF-4C53-4881-B5F5-49C5FE204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705DED25-5E0F-4B0F-BAF4-01F11FADF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10B85E13-1FB4-4EE3-BFFB-04481D796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29D3D511-BF26-4432-AFB6-A5CA8E79F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961801F7-02DD-4B5D-9653-4D12AF10F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3C35F557-360C-4230-B2BB-98BC15051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33078417-5FAC-4C38-ADF4-8E7854EA8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18D3A0A1-D02E-4E12-A516-51EDE1E1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6F001E-8B68-4E86-BCA7-56F67FA0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7F8E8B8B-3603-445B-B236-31134081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79CDCF88-668B-4203-B17C-0FBDC5A5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DFBB2323-38D4-46F1-BAE0-708D6CCAF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432A734A-B265-42BE-AB0D-6B8F45677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6103BEF5-AC8C-476C-A9C0-59E7545CF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FC786562-86A0-4C7D-9BA5-A81C18823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5D40575C-1F4F-4070-AFDB-FD53E0514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441EEADC-75B5-41E6-8B7D-738876045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8DB42E8A-F126-4C51-B525-E89848A0B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C30D9CA4-C4C6-46CB-8739-7DA3FB86C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255BD-0285-4CF3-BCB7-EF76F2E8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640A7C0E-6B0E-459A-991F-DA40C3163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6A064C5D-FFE5-4681-8F2B-0BE792CC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4A51F9C7-A4C5-4CD8-8CA9-A670AF49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CD0FD94A-A156-4E07-B550-6F90938E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728D8FA5-3658-4755-9539-546648C23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3F2535B1-1BB1-402A-94EE-CF743B86E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3C4DFCE6-5599-46AF-9854-FDE9EA8BC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70A4B6D0-4B09-4341-997E-D5C662441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6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E8DE3E44-24EC-4D48-8627-089B7E526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0910E1FA-C9F3-494B-852C-A6E199A7C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B2C1-726A-4AD1-9B05-567B3BF3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C2130-7536-4D2E-8625-FD021B2D4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326573B3-4532-49AA-B89D-4B21FAF41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55953273-68AA-4D7F-B402-AA8ABD484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BD023BA5-4C1D-4AA3-B34A-F03599AEC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BD2FD026-1979-4408-9ABC-8BC4FC64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5F7A7A0F-A82F-4392-9542-D5B5238F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7A2476C6-DF26-431D-9E7C-7FF96E7A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CB27FAE5-B596-4612-ABD6-5738C35AC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623D009F-7CE6-43B3-8B5B-DFA15496E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C624D339-D02A-4293-88AC-C05B75DEC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D5CB1C0C-8F77-4E73-8CF9-2831BC2EF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377AF-E0F3-4AD7-8721-604C8E8FC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6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E1C509B6-E66F-48CD-829C-42401D498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18FD34A3-987A-486A-A4B7-47060D6FB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E1562CF6-7BEB-464B-A743-0913EA978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7A651A88-B687-400B-A545-5B141E5E6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9598AE9C-91C6-4C88-86DE-39C1B549F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A6A6F7A2-0338-4B5B-9749-BF987B65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F8C28D19-C0E4-4825-B6C8-13E6B0B9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38120281-D7AC-4F11-BE43-48B81B29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9B162083-60FE-46FB-BA11-910BA542A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49DEC5E1-B3CE-4D58-87D3-303DC5F6A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801E6-DD81-4D1F-AED4-6B29A7CB5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CE247762-D7BC-4132-A456-8987D9D34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5FC0E628-D7FB-4081-968D-1E45093BA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6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E56A4548-A067-4613-9A3E-34BE484B2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312F2040-537E-42CD-ACAF-C4D6B61EB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FF81E69E-79DC-4659-8EDA-C5BF5B095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0380E0F6-4C65-4398-B623-135D081B4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6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13EC4D10-D569-4B18-9F01-99B53CCD5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7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C2348B3F-220C-4B31-883A-9ABC1D90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7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75E29DA9-A87B-4155-92FD-28554150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7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4529D666-65AC-4362-8F9D-15B08941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A811F8-867A-4696-9824-F52D7B784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7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2226429E-E19D-4C0B-AE65-23523B37D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7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7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7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E37104B1-63D4-4EBA-8C28-16339263B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7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7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7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7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7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D693FA75-DC48-471D-8EF8-ED0988508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9FE073-C4FF-49B2-AEA0-1A320F8F0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ADBB66-4B54-41C2-A4FC-F4F10579F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18686-6C99-49A9-9825-848A36892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625186-6C8F-470E-A32E-4AFD0713E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962DE-07F8-40BB-966D-E3171703C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DDD61B-DCB7-406D-ACEE-19D9F4AE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6BD5-AF9E-4811-BC0B-556AE552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F0034F-A37C-4256-B44A-695B9BD6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9ED7C6-C8FB-4965-8729-F4BD41FD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D0E946-C94F-4462-99EC-2F88BC177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AAE491-005D-467E-9010-31F7348A7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8C3D67-A4E7-428B-856C-CDB9867B5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3685B2-E682-400B-901D-4C096A119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AD6CC0-6D11-4F4C-8D58-884DED6CE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86B6A9-806F-4946-9B9D-F976F89F7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FEFFC9-0B5A-4292-84D8-0591DE438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1D3EFD-DEB4-4152-9DB5-6958CEFE0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E7FD-BBF8-460D-910B-7353DAB4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54B5C6-BF65-4B8B-B0F7-D1A7CF6D7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B3ECD3-8CA6-40B4-A7A8-D89356DD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DF1A54-251A-4E63-8227-C8B15D4D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2561D1-8AD5-4EBA-8AAA-8E17ADAC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A505CE-3035-4F76-8948-E5B193E31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443871-3312-4E6F-9F72-EE9C408F2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A8F9EA-7435-4AB1-BCF2-89F8A88B0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A97246-3AA7-4612-9D50-FF3A7231F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973FC9-CC23-4252-A059-DBECD840B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6F6F69-4FDE-45BC-9A78-DA5FDECA0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29.xml"/><Relationship Id="rId4" Type="http://schemas.openxmlformats.org/officeDocument/2006/relationships/slideLayout" Target="../slideLayouts/slideLayout530.xml"/><Relationship Id="rId5" Type="http://schemas.openxmlformats.org/officeDocument/2006/relationships/slideLayout" Target="../slideLayouts/slideLayout531.xml"/><Relationship Id="rId6" Type="http://schemas.openxmlformats.org/officeDocument/2006/relationships/slideLayout" Target="../slideLayouts/slideLayout532.xml"/><Relationship Id="rId7" Type="http://schemas.openxmlformats.org/officeDocument/2006/relationships/slideLayout" Target="../slideLayouts/slideLayout533.xml"/><Relationship Id="rId8" Type="http://schemas.openxmlformats.org/officeDocument/2006/relationships/slideLayout" Target="../slideLayouts/slideLayout534.xml"/><Relationship Id="rId9" Type="http://schemas.openxmlformats.org/officeDocument/2006/relationships/slideLayout" Target="../slideLayouts/slideLayout535.xml"/><Relationship Id="rId10" Type="http://schemas.openxmlformats.org/officeDocument/2006/relationships/slideLayout" Target="../slideLayouts/slideLayout536.xml"/><Relationship Id="rId11" Type="http://schemas.openxmlformats.org/officeDocument/2006/relationships/slideLayout" Target="../slideLayouts/slideLayout537.xml"/><Relationship Id="rId12" Type="http://schemas.openxmlformats.org/officeDocument/2006/relationships/slideLayout" Target="../slideLayouts/slideLayout538.xml"/><Relationship Id="rId13" Type="http://schemas.openxmlformats.org/officeDocument/2006/relationships/slideLayout" Target="../slideLayouts/slideLayout539.xml"/><Relationship Id="rId14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41.xml"/><Relationship Id="rId4" Type="http://schemas.openxmlformats.org/officeDocument/2006/relationships/slideLayout" Target="../slideLayouts/slideLayout542.xml"/><Relationship Id="rId5" Type="http://schemas.openxmlformats.org/officeDocument/2006/relationships/slideLayout" Target="../slideLayouts/slideLayout543.xml"/><Relationship Id="rId6" Type="http://schemas.openxmlformats.org/officeDocument/2006/relationships/slideLayout" Target="../slideLayouts/slideLayout544.xml"/><Relationship Id="rId7" Type="http://schemas.openxmlformats.org/officeDocument/2006/relationships/slideLayout" Target="../slideLayouts/slideLayout545.xml"/><Relationship Id="rId8" Type="http://schemas.openxmlformats.org/officeDocument/2006/relationships/slideLayout" Target="../slideLayouts/slideLayout546.xml"/><Relationship Id="rId9" Type="http://schemas.openxmlformats.org/officeDocument/2006/relationships/slideLayout" Target="../slideLayouts/slideLayout547.xml"/><Relationship Id="rId10" Type="http://schemas.openxmlformats.org/officeDocument/2006/relationships/slideLayout" Target="../slideLayouts/slideLayout548.xml"/><Relationship Id="rId11" Type="http://schemas.openxmlformats.org/officeDocument/2006/relationships/slideLayout" Target="../slideLayouts/slideLayout549.xml"/><Relationship Id="rId12" Type="http://schemas.openxmlformats.org/officeDocument/2006/relationships/slideLayout" Target="../slideLayouts/slideLayout550.xml"/><Relationship Id="rId13" Type="http://schemas.openxmlformats.org/officeDocument/2006/relationships/slideLayout" Target="../slideLayouts/slideLayout551.xml"/><Relationship Id="rId14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53.xml"/><Relationship Id="rId4" Type="http://schemas.openxmlformats.org/officeDocument/2006/relationships/slideLayout" Target="../slideLayouts/slideLayout554.xml"/><Relationship Id="rId5" Type="http://schemas.openxmlformats.org/officeDocument/2006/relationships/slideLayout" Target="../slideLayouts/slideLayout555.xml"/><Relationship Id="rId6" Type="http://schemas.openxmlformats.org/officeDocument/2006/relationships/slideLayout" Target="../slideLayouts/slideLayout556.xml"/><Relationship Id="rId7" Type="http://schemas.openxmlformats.org/officeDocument/2006/relationships/slideLayout" Target="../slideLayouts/slideLayout557.xml"/><Relationship Id="rId8" Type="http://schemas.openxmlformats.org/officeDocument/2006/relationships/slideLayout" Target="../slideLayouts/slideLayout558.xml"/><Relationship Id="rId9" Type="http://schemas.openxmlformats.org/officeDocument/2006/relationships/slideLayout" Target="../slideLayouts/slideLayout559.xml"/><Relationship Id="rId10" Type="http://schemas.openxmlformats.org/officeDocument/2006/relationships/slideLayout" Target="../slideLayouts/slideLayout560.xml"/><Relationship Id="rId11" Type="http://schemas.openxmlformats.org/officeDocument/2006/relationships/slideLayout" Target="../slideLayouts/slideLayout561.xml"/><Relationship Id="rId12" Type="http://schemas.openxmlformats.org/officeDocument/2006/relationships/slideLayout" Target="../slideLayouts/slideLayout562.xml"/><Relationship Id="rId13" Type="http://schemas.openxmlformats.org/officeDocument/2006/relationships/slideLayout" Target="../slideLayouts/slideLayout563.xml"/><Relationship Id="rId14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65.xml"/><Relationship Id="rId4" Type="http://schemas.openxmlformats.org/officeDocument/2006/relationships/slideLayout" Target="../slideLayouts/slideLayout566.xml"/><Relationship Id="rId5" Type="http://schemas.openxmlformats.org/officeDocument/2006/relationships/slideLayout" Target="../slideLayouts/slideLayout567.xml"/><Relationship Id="rId6" Type="http://schemas.openxmlformats.org/officeDocument/2006/relationships/slideLayout" Target="../slideLayouts/slideLayout568.xml"/><Relationship Id="rId7" Type="http://schemas.openxmlformats.org/officeDocument/2006/relationships/slideLayout" Target="../slideLayouts/slideLayout569.xml"/><Relationship Id="rId8" Type="http://schemas.openxmlformats.org/officeDocument/2006/relationships/slideLayout" Target="../slideLayouts/slideLayout570.xml"/><Relationship Id="rId9" Type="http://schemas.openxmlformats.org/officeDocument/2006/relationships/slideLayout" Target="../slideLayouts/slideLayout571.xml"/><Relationship Id="rId10" Type="http://schemas.openxmlformats.org/officeDocument/2006/relationships/slideLayout" Target="../slideLayouts/slideLayout572.xml"/><Relationship Id="rId11" Type="http://schemas.openxmlformats.org/officeDocument/2006/relationships/slideLayout" Target="../slideLayouts/slideLayout573.xml"/><Relationship Id="rId12" Type="http://schemas.openxmlformats.org/officeDocument/2006/relationships/slideLayout" Target="../slideLayouts/slideLayout574.xml"/><Relationship Id="rId13" Type="http://schemas.openxmlformats.org/officeDocument/2006/relationships/slideLayout" Target="../slideLayouts/slideLayout575.xml"/><Relationship Id="rId14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77.xml"/><Relationship Id="rId4" Type="http://schemas.openxmlformats.org/officeDocument/2006/relationships/slideLayout" Target="../slideLayouts/slideLayout578.xml"/><Relationship Id="rId5" Type="http://schemas.openxmlformats.org/officeDocument/2006/relationships/slideLayout" Target="../slideLayouts/slideLayout579.xml"/><Relationship Id="rId6" Type="http://schemas.openxmlformats.org/officeDocument/2006/relationships/slideLayout" Target="../slideLayouts/slideLayout580.xml"/><Relationship Id="rId7" Type="http://schemas.openxmlformats.org/officeDocument/2006/relationships/slideLayout" Target="../slideLayouts/slideLayout581.xml"/><Relationship Id="rId8" Type="http://schemas.openxmlformats.org/officeDocument/2006/relationships/slideLayout" Target="../slideLayouts/slideLayout582.xml"/><Relationship Id="rId9" Type="http://schemas.openxmlformats.org/officeDocument/2006/relationships/slideLayout" Target="../slideLayouts/slideLayout583.xml"/><Relationship Id="rId10" Type="http://schemas.openxmlformats.org/officeDocument/2006/relationships/slideLayout" Target="../slideLayouts/slideLayout584.xml"/><Relationship Id="rId11" Type="http://schemas.openxmlformats.org/officeDocument/2006/relationships/slideLayout" Target="../slideLayouts/slideLayout585.xml"/><Relationship Id="rId12" Type="http://schemas.openxmlformats.org/officeDocument/2006/relationships/slideLayout" Target="../slideLayouts/slideLayout586.xml"/><Relationship Id="rId13" Type="http://schemas.openxmlformats.org/officeDocument/2006/relationships/slideLayout" Target="../slideLayouts/slideLayout587.xml"/><Relationship Id="rId14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89.xml"/><Relationship Id="rId4" Type="http://schemas.openxmlformats.org/officeDocument/2006/relationships/slideLayout" Target="../slideLayouts/slideLayout590.xml"/><Relationship Id="rId5" Type="http://schemas.openxmlformats.org/officeDocument/2006/relationships/slideLayout" Target="../slideLayouts/slideLayout591.xml"/><Relationship Id="rId6" Type="http://schemas.openxmlformats.org/officeDocument/2006/relationships/slideLayout" Target="../slideLayouts/slideLayout592.xml"/><Relationship Id="rId7" Type="http://schemas.openxmlformats.org/officeDocument/2006/relationships/slideLayout" Target="../slideLayouts/slideLayout593.xml"/><Relationship Id="rId8" Type="http://schemas.openxmlformats.org/officeDocument/2006/relationships/slideLayout" Target="../slideLayouts/slideLayout594.xml"/><Relationship Id="rId9" Type="http://schemas.openxmlformats.org/officeDocument/2006/relationships/slideLayout" Target="../slideLayouts/slideLayout595.xml"/><Relationship Id="rId10" Type="http://schemas.openxmlformats.org/officeDocument/2006/relationships/slideLayout" Target="../slideLayouts/slideLayout596.xml"/><Relationship Id="rId11" Type="http://schemas.openxmlformats.org/officeDocument/2006/relationships/slideLayout" Target="../slideLayouts/slideLayout597.xml"/><Relationship Id="rId12" Type="http://schemas.openxmlformats.org/officeDocument/2006/relationships/slideLayout" Target="../slideLayouts/slideLayout598.xml"/><Relationship Id="rId13" Type="http://schemas.openxmlformats.org/officeDocument/2006/relationships/slideLayout" Target="../slideLayouts/slideLayout599.xml"/><Relationship Id="rId14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01.xml"/><Relationship Id="rId4" Type="http://schemas.openxmlformats.org/officeDocument/2006/relationships/slideLayout" Target="../slideLayouts/slideLayout602.xml"/><Relationship Id="rId5" Type="http://schemas.openxmlformats.org/officeDocument/2006/relationships/slideLayout" Target="../slideLayouts/slideLayout603.xml"/><Relationship Id="rId6" Type="http://schemas.openxmlformats.org/officeDocument/2006/relationships/slideLayout" Target="../slideLayouts/slideLayout604.xml"/><Relationship Id="rId7" Type="http://schemas.openxmlformats.org/officeDocument/2006/relationships/slideLayout" Target="../slideLayouts/slideLayout605.xml"/><Relationship Id="rId8" Type="http://schemas.openxmlformats.org/officeDocument/2006/relationships/slideLayout" Target="../slideLayouts/slideLayout606.xml"/><Relationship Id="rId9" Type="http://schemas.openxmlformats.org/officeDocument/2006/relationships/slideLayout" Target="../slideLayouts/slideLayout607.xml"/><Relationship Id="rId10" Type="http://schemas.openxmlformats.org/officeDocument/2006/relationships/slideLayout" Target="../slideLayouts/slideLayout608.xml"/><Relationship Id="rId11" Type="http://schemas.openxmlformats.org/officeDocument/2006/relationships/slideLayout" Target="../slideLayouts/slideLayout609.xml"/><Relationship Id="rId12" Type="http://schemas.openxmlformats.org/officeDocument/2006/relationships/slideLayout" Target="../slideLayouts/slideLayout610.xml"/><Relationship Id="rId13" Type="http://schemas.openxmlformats.org/officeDocument/2006/relationships/slideLayout" Target="../slideLayouts/slideLayout611.xml"/><Relationship Id="rId14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3.xml"/><Relationship Id="rId4" Type="http://schemas.openxmlformats.org/officeDocument/2006/relationships/slideLayout" Target="../slideLayouts/slideLayout614.xml"/><Relationship Id="rId5" Type="http://schemas.openxmlformats.org/officeDocument/2006/relationships/slideLayout" Target="../slideLayouts/slideLayout615.xml"/><Relationship Id="rId6" Type="http://schemas.openxmlformats.org/officeDocument/2006/relationships/slideLayout" Target="../slideLayouts/slideLayout616.xml"/><Relationship Id="rId7" Type="http://schemas.openxmlformats.org/officeDocument/2006/relationships/slideLayout" Target="../slideLayouts/slideLayout617.xml"/><Relationship Id="rId8" Type="http://schemas.openxmlformats.org/officeDocument/2006/relationships/slideLayout" Target="../slideLayouts/slideLayout618.xml"/><Relationship Id="rId9" Type="http://schemas.openxmlformats.org/officeDocument/2006/relationships/slideLayout" Target="../slideLayouts/slideLayout619.xml"/><Relationship Id="rId10" Type="http://schemas.openxmlformats.org/officeDocument/2006/relationships/slideLayout" Target="../slideLayouts/slideLayout620.xml"/><Relationship Id="rId11" Type="http://schemas.openxmlformats.org/officeDocument/2006/relationships/slideLayout" Target="../slideLayouts/slideLayout621.xml"/><Relationship Id="rId12" Type="http://schemas.openxmlformats.org/officeDocument/2006/relationships/slideLayout" Target="../slideLayouts/slideLayout622.xml"/><Relationship Id="rId13" Type="http://schemas.openxmlformats.org/officeDocument/2006/relationships/slideLayout" Target="../slideLayouts/slideLayout623.xml"/><Relationship Id="rId14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25.xml"/><Relationship Id="rId4" Type="http://schemas.openxmlformats.org/officeDocument/2006/relationships/slideLayout" Target="../slideLayouts/slideLayout626.xml"/><Relationship Id="rId5" Type="http://schemas.openxmlformats.org/officeDocument/2006/relationships/slideLayout" Target="../slideLayouts/slideLayout627.xml"/><Relationship Id="rId6" Type="http://schemas.openxmlformats.org/officeDocument/2006/relationships/slideLayout" Target="../slideLayouts/slideLayout628.xml"/><Relationship Id="rId7" Type="http://schemas.openxmlformats.org/officeDocument/2006/relationships/slideLayout" Target="../slideLayouts/slideLayout629.xml"/><Relationship Id="rId8" Type="http://schemas.openxmlformats.org/officeDocument/2006/relationships/slideLayout" Target="../slideLayouts/slideLayout630.xml"/><Relationship Id="rId9" Type="http://schemas.openxmlformats.org/officeDocument/2006/relationships/slideLayout" Target="../slideLayouts/slideLayout631.xml"/><Relationship Id="rId10" Type="http://schemas.openxmlformats.org/officeDocument/2006/relationships/slideLayout" Target="../slideLayouts/slideLayout632.xml"/><Relationship Id="rId11" Type="http://schemas.openxmlformats.org/officeDocument/2006/relationships/slideLayout" Target="../slideLayouts/slideLayout633.xml"/><Relationship Id="rId12" Type="http://schemas.openxmlformats.org/officeDocument/2006/relationships/slideLayout" Target="../slideLayouts/slideLayout634.xml"/><Relationship Id="rId13" Type="http://schemas.openxmlformats.org/officeDocument/2006/relationships/slideLayout" Target="../slideLayouts/slideLayout635.xml"/><Relationship Id="rId14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37.xml"/><Relationship Id="rId4" Type="http://schemas.openxmlformats.org/officeDocument/2006/relationships/slideLayout" Target="../slideLayouts/slideLayout638.xml"/><Relationship Id="rId5" Type="http://schemas.openxmlformats.org/officeDocument/2006/relationships/slideLayout" Target="../slideLayouts/slideLayout639.xml"/><Relationship Id="rId6" Type="http://schemas.openxmlformats.org/officeDocument/2006/relationships/slideLayout" Target="../slideLayouts/slideLayout640.xml"/><Relationship Id="rId7" Type="http://schemas.openxmlformats.org/officeDocument/2006/relationships/slideLayout" Target="../slideLayouts/slideLayout641.xml"/><Relationship Id="rId8" Type="http://schemas.openxmlformats.org/officeDocument/2006/relationships/slideLayout" Target="../slideLayouts/slideLayout642.xml"/><Relationship Id="rId9" Type="http://schemas.openxmlformats.org/officeDocument/2006/relationships/slideLayout" Target="../slideLayouts/slideLayout643.xml"/><Relationship Id="rId10" Type="http://schemas.openxmlformats.org/officeDocument/2006/relationships/slideLayout" Target="../slideLayouts/slideLayout644.xml"/><Relationship Id="rId11" Type="http://schemas.openxmlformats.org/officeDocument/2006/relationships/slideLayout" Target="../slideLayouts/slideLayout645.xml"/><Relationship Id="rId12" Type="http://schemas.openxmlformats.org/officeDocument/2006/relationships/slideLayout" Target="../slideLayouts/slideLayout646.xml"/><Relationship Id="rId13" Type="http://schemas.openxmlformats.org/officeDocument/2006/relationships/slideLayout" Target="../slideLayouts/slideLayout647.xml"/><Relationship Id="rId14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49.xml"/><Relationship Id="rId4" Type="http://schemas.openxmlformats.org/officeDocument/2006/relationships/slideLayout" Target="../slideLayouts/slideLayout650.xml"/><Relationship Id="rId5" Type="http://schemas.openxmlformats.org/officeDocument/2006/relationships/slideLayout" Target="../slideLayouts/slideLayout651.xml"/><Relationship Id="rId6" Type="http://schemas.openxmlformats.org/officeDocument/2006/relationships/slideLayout" Target="../slideLayouts/slideLayout652.xml"/><Relationship Id="rId7" Type="http://schemas.openxmlformats.org/officeDocument/2006/relationships/slideLayout" Target="../slideLayouts/slideLayout653.xml"/><Relationship Id="rId8" Type="http://schemas.openxmlformats.org/officeDocument/2006/relationships/slideLayout" Target="../slideLayouts/slideLayout654.xml"/><Relationship Id="rId9" Type="http://schemas.openxmlformats.org/officeDocument/2006/relationships/slideLayout" Target="../slideLayouts/slideLayout655.xml"/><Relationship Id="rId10" Type="http://schemas.openxmlformats.org/officeDocument/2006/relationships/slideLayout" Target="../slideLayouts/slideLayout656.xml"/><Relationship Id="rId11" Type="http://schemas.openxmlformats.org/officeDocument/2006/relationships/slideLayout" Target="../slideLayouts/slideLayout657.xml"/><Relationship Id="rId12" Type="http://schemas.openxmlformats.org/officeDocument/2006/relationships/slideLayout" Target="../slideLayouts/slideLayout658.xml"/><Relationship Id="rId13" Type="http://schemas.openxmlformats.org/officeDocument/2006/relationships/slideLayout" Target="../slideLayouts/slideLayout659.xml"/><Relationship Id="rId14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61.xml"/><Relationship Id="rId4" Type="http://schemas.openxmlformats.org/officeDocument/2006/relationships/slideLayout" Target="../slideLayouts/slideLayout662.xml"/><Relationship Id="rId5" Type="http://schemas.openxmlformats.org/officeDocument/2006/relationships/slideLayout" Target="../slideLayouts/slideLayout663.xml"/><Relationship Id="rId6" Type="http://schemas.openxmlformats.org/officeDocument/2006/relationships/slideLayout" Target="../slideLayouts/slideLayout664.xml"/><Relationship Id="rId7" Type="http://schemas.openxmlformats.org/officeDocument/2006/relationships/slideLayout" Target="../slideLayouts/slideLayout665.xml"/><Relationship Id="rId8" Type="http://schemas.openxmlformats.org/officeDocument/2006/relationships/slideLayout" Target="../slideLayouts/slideLayout666.xml"/><Relationship Id="rId9" Type="http://schemas.openxmlformats.org/officeDocument/2006/relationships/slideLayout" Target="../slideLayouts/slideLayout667.xml"/><Relationship Id="rId10" Type="http://schemas.openxmlformats.org/officeDocument/2006/relationships/slideLayout" Target="../slideLayouts/slideLayout668.xml"/><Relationship Id="rId11" Type="http://schemas.openxmlformats.org/officeDocument/2006/relationships/slideLayout" Target="../slideLayouts/slideLayout669.xml"/><Relationship Id="rId12" Type="http://schemas.openxmlformats.org/officeDocument/2006/relationships/slideLayout" Target="../slideLayouts/slideLayout670.xml"/><Relationship Id="rId13" Type="http://schemas.openxmlformats.org/officeDocument/2006/relationships/slideLayout" Target="../slideLayouts/slideLayout671.xml"/><Relationship Id="rId14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73.xml"/><Relationship Id="rId4" Type="http://schemas.openxmlformats.org/officeDocument/2006/relationships/slideLayout" Target="../slideLayouts/slideLayout674.xml"/><Relationship Id="rId5" Type="http://schemas.openxmlformats.org/officeDocument/2006/relationships/slideLayout" Target="../slideLayouts/slideLayout675.xml"/><Relationship Id="rId6" Type="http://schemas.openxmlformats.org/officeDocument/2006/relationships/slideLayout" Target="../slideLayouts/slideLayout676.xml"/><Relationship Id="rId7" Type="http://schemas.openxmlformats.org/officeDocument/2006/relationships/slideLayout" Target="../slideLayouts/slideLayout677.xml"/><Relationship Id="rId8" Type="http://schemas.openxmlformats.org/officeDocument/2006/relationships/slideLayout" Target="../slideLayouts/slideLayout678.xml"/><Relationship Id="rId9" Type="http://schemas.openxmlformats.org/officeDocument/2006/relationships/slideLayout" Target="../slideLayouts/slideLayout679.xml"/><Relationship Id="rId10" Type="http://schemas.openxmlformats.org/officeDocument/2006/relationships/slideLayout" Target="../slideLayouts/slideLayout680.xml"/><Relationship Id="rId11" Type="http://schemas.openxmlformats.org/officeDocument/2006/relationships/slideLayout" Target="../slideLayouts/slideLayout681.xml"/><Relationship Id="rId12" Type="http://schemas.openxmlformats.org/officeDocument/2006/relationships/slideLayout" Target="../slideLayouts/slideLayout682.xml"/><Relationship Id="rId13" Type="http://schemas.openxmlformats.org/officeDocument/2006/relationships/slideLayout" Target="../slideLayouts/slideLayout683.xml"/><Relationship Id="rId14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85.xml"/><Relationship Id="rId4" Type="http://schemas.openxmlformats.org/officeDocument/2006/relationships/slideLayout" Target="../slideLayouts/slideLayout686.xml"/><Relationship Id="rId5" Type="http://schemas.openxmlformats.org/officeDocument/2006/relationships/slideLayout" Target="../slideLayouts/slideLayout687.xml"/><Relationship Id="rId6" Type="http://schemas.openxmlformats.org/officeDocument/2006/relationships/slideLayout" Target="../slideLayouts/slideLayout688.xml"/><Relationship Id="rId7" Type="http://schemas.openxmlformats.org/officeDocument/2006/relationships/slideLayout" Target="../slideLayouts/slideLayout689.xml"/><Relationship Id="rId8" Type="http://schemas.openxmlformats.org/officeDocument/2006/relationships/slideLayout" Target="../slideLayouts/slideLayout690.xml"/><Relationship Id="rId9" Type="http://schemas.openxmlformats.org/officeDocument/2006/relationships/slideLayout" Target="../slideLayouts/slideLayout691.xml"/><Relationship Id="rId10" Type="http://schemas.openxmlformats.org/officeDocument/2006/relationships/slideLayout" Target="../slideLayouts/slideLayout692.xml"/><Relationship Id="rId11" Type="http://schemas.openxmlformats.org/officeDocument/2006/relationships/slideLayout" Target="../slideLayouts/slideLayout693.xml"/><Relationship Id="rId12" Type="http://schemas.openxmlformats.org/officeDocument/2006/relationships/slideLayout" Target="../slideLayouts/slideLayout694.xml"/><Relationship Id="rId13" Type="http://schemas.openxmlformats.org/officeDocument/2006/relationships/slideLayout" Target="../slideLayouts/slideLayout695.xml"/><Relationship Id="rId14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97.xml"/><Relationship Id="rId4" Type="http://schemas.openxmlformats.org/officeDocument/2006/relationships/slideLayout" Target="../slideLayouts/slideLayout698.xml"/><Relationship Id="rId5" Type="http://schemas.openxmlformats.org/officeDocument/2006/relationships/slideLayout" Target="../slideLayouts/slideLayout699.xml"/><Relationship Id="rId6" Type="http://schemas.openxmlformats.org/officeDocument/2006/relationships/slideLayout" Target="../slideLayouts/slideLayout700.xml"/><Relationship Id="rId7" Type="http://schemas.openxmlformats.org/officeDocument/2006/relationships/slideLayout" Target="../slideLayouts/slideLayout701.xml"/><Relationship Id="rId8" Type="http://schemas.openxmlformats.org/officeDocument/2006/relationships/slideLayout" Target="../slideLayouts/slideLayout702.xml"/><Relationship Id="rId9" Type="http://schemas.openxmlformats.org/officeDocument/2006/relationships/slideLayout" Target="../slideLayouts/slideLayout703.xml"/><Relationship Id="rId10" Type="http://schemas.openxmlformats.org/officeDocument/2006/relationships/slideLayout" Target="../slideLayouts/slideLayout704.xml"/><Relationship Id="rId11" Type="http://schemas.openxmlformats.org/officeDocument/2006/relationships/slideLayout" Target="../slideLayouts/slideLayout705.xml"/><Relationship Id="rId12" Type="http://schemas.openxmlformats.org/officeDocument/2006/relationships/slideLayout" Target="../slideLayouts/slideLayout706.xml"/><Relationship Id="rId13" Type="http://schemas.openxmlformats.org/officeDocument/2006/relationships/slideLayout" Target="../slideLayouts/slideLayout707.xml"/><Relationship Id="rId14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09.xml"/><Relationship Id="rId4" Type="http://schemas.openxmlformats.org/officeDocument/2006/relationships/slideLayout" Target="../slideLayouts/slideLayout710.xml"/><Relationship Id="rId5" Type="http://schemas.openxmlformats.org/officeDocument/2006/relationships/slideLayout" Target="../slideLayouts/slideLayout711.xml"/><Relationship Id="rId6" Type="http://schemas.openxmlformats.org/officeDocument/2006/relationships/slideLayout" Target="../slideLayouts/slideLayout712.xml"/><Relationship Id="rId7" Type="http://schemas.openxmlformats.org/officeDocument/2006/relationships/slideLayout" Target="../slideLayouts/slideLayout713.xml"/><Relationship Id="rId8" Type="http://schemas.openxmlformats.org/officeDocument/2006/relationships/slideLayout" Target="../slideLayouts/slideLayout714.xml"/><Relationship Id="rId9" Type="http://schemas.openxmlformats.org/officeDocument/2006/relationships/slideLayout" Target="../slideLayouts/slideLayout715.xml"/><Relationship Id="rId10" Type="http://schemas.openxmlformats.org/officeDocument/2006/relationships/slideLayout" Target="../slideLayouts/slideLayout716.xml"/><Relationship Id="rId11" Type="http://schemas.openxmlformats.org/officeDocument/2006/relationships/slideLayout" Target="../slideLayouts/slideLayout717.xml"/><Relationship Id="rId12" Type="http://schemas.openxmlformats.org/officeDocument/2006/relationships/slideLayout" Target="../slideLayouts/slideLayout718.xml"/><Relationship Id="rId13" Type="http://schemas.openxmlformats.org/officeDocument/2006/relationships/slideLayout" Target="../slideLayouts/slideLayout719.xml"/><Relationship Id="rId14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21.xml"/><Relationship Id="rId4" Type="http://schemas.openxmlformats.org/officeDocument/2006/relationships/slideLayout" Target="../slideLayouts/slideLayout722.xml"/><Relationship Id="rId5" Type="http://schemas.openxmlformats.org/officeDocument/2006/relationships/slideLayout" Target="../slideLayouts/slideLayout723.xml"/><Relationship Id="rId6" Type="http://schemas.openxmlformats.org/officeDocument/2006/relationships/slideLayout" Target="../slideLayouts/slideLayout724.xml"/><Relationship Id="rId7" Type="http://schemas.openxmlformats.org/officeDocument/2006/relationships/slideLayout" Target="../slideLayouts/slideLayout725.xml"/><Relationship Id="rId8" Type="http://schemas.openxmlformats.org/officeDocument/2006/relationships/slideLayout" Target="../slideLayouts/slideLayout726.xml"/><Relationship Id="rId9" Type="http://schemas.openxmlformats.org/officeDocument/2006/relationships/slideLayout" Target="../slideLayouts/slideLayout727.xml"/><Relationship Id="rId10" Type="http://schemas.openxmlformats.org/officeDocument/2006/relationships/slideLayout" Target="../slideLayouts/slideLayout728.xml"/><Relationship Id="rId11" Type="http://schemas.openxmlformats.org/officeDocument/2006/relationships/slideLayout" Target="../slideLayouts/slideLayout729.xml"/><Relationship Id="rId12" Type="http://schemas.openxmlformats.org/officeDocument/2006/relationships/slideLayout" Target="../slideLayouts/slideLayout730.xml"/><Relationship Id="rId13" Type="http://schemas.openxmlformats.org/officeDocument/2006/relationships/slideLayout" Target="../slideLayouts/slideLayout731.xml"/><Relationship Id="rId14" Type="http://schemas.openxmlformats.org/officeDocument/2006/relationships/slideLayout" Target="../slideLayouts/slideLayout73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6480" y="-4680"/>
            <a:ext cx="9159840" cy="103824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Freeform 7"/>
          <p:cNvGrpSpPr/>
          <p:nvPr/>
        </p:nvGrpSpPr>
        <p:grpSpPr>
          <a:xfrm>
            <a:off x="4383000" y="-6480"/>
            <a:ext cx="4761000" cy="603360"/>
            <a:chOff x="4383000" y="-6480"/>
            <a:chExt cx="4761000" cy="603360"/>
          </a:xfrm>
        </p:grpSpPr>
        <p:pic>
          <p:nvPicPr>
            <p:cNvPr id="2" name="Freeform 7" descr=""/>
            <p:cNvPicPr/>
            <p:nvPr/>
          </p:nvPicPr>
          <p:blipFill>
            <a:blip r:embed="rId3"/>
            <a:stretch/>
          </p:blipFill>
          <p:spPr>
            <a:xfrm>
              <a:off x="4384080" y="-6480"/>
              <a:ext cx="475956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383000" y="-4680"/>
              <a:ext cx="476100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" name="Group 4"/>
          <p:cNvGrpSpPr/>
          <p:nvPr/>
        </p:nvGrpSpPr>
        <p:grpSpPr>
          <a:xfrm>
            <a:off x="-15840" y="203040"/>
            <a:ext cx="9177480" cy="648000"/>
            <a:chOff x="-15840" y="203040"/>
            <a:chExt cx="9177480" cy="648000"/>
          </a:xfrm>
        </p:grpSpPr>
        <p:grpSp>
          <p:nvGrpSpPr>
            <p:cNvPr id="5" name="Group 5"/>
            <p:cNvGrpSpPr/>
            <p:nvPr/>
          </p:nvGrpSpPr>
          <p:grpSpPr>
            <a:xfrm>
              <a:off x="-15840" y="203040"/>
              <a:ext cx="9153360" cy="648000"/>
              <a:chOff x="-15840" y="203040"/>
              <a:chExt cx="9153360" cy="648000"/>
            </a:xfrm>
          </p:grpSpPr>
          <p:pic>
            <p:nvPicPr>
              <p:cNvPr id="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7920" y="203040"/>
                <a:ext cx="91296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" name="Text Box 7"/>
              <p:cNvSpPr/>
              <p:nvPr/>
            </p:nvSpPr>
            <p:spPr>
              <a:xfrm rot="21435600">
                <a:off x="-1548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" name="Group 8"/>
            <p:cNvGrpSpPr/>
            <p:nvPr/>
          </p:nvGrpSpPr>
          <p:grpSpPr>
            <a:xfrm>
              <a:off x="-15840" y="248040"/>
              <a:ext cx="9177480" cy="561600"/>
              <a:chOff x="-15840" y="248040"/>
              <a:chExt cx="9177480" cy="561600"/>
            </a:xfrm>
          </p:grpSpPr>
          <p:pic>
            <p:nvPicPr>
              <p:cNvPr id="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248040"/>
                <a:ext cx="91616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0"/>
              <p:cNvSpPr/>
              <p:nvPr/>
            </p:nvSpPr>
            <p:spPr>
              <a:xfrm rot="21435600">
                <a:off x="-1548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6F8EF-D450-4CE5-8CB2-59EDBEB2A97C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55BF6-2252-4A3B-820B-C497A8309981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Freeform 6"/>
          <p:cNvSpPr/>
          <p:nvPr/>
        </p:nvSpPr>
        <p:spPr>
          <a:xfrm>
            <a:off x="-6480" y="-4680"/>
            <a:ext cx="9159840" cy="103824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3" name="Freeform 7"/>
          <p:cNvGrpSpPr/>
          <p:nvPr/>
        </p:nvGrpSpPr>
        <p:grpSpPr>
          <a:xfrm>
            <a:off x="4383000" y="-6480"/>
            <a:ext cx="4761000" cy="603360"/>
            <a:chOff x="4383000" y="-6480"/>
            <a:chExt cx="4761000" cy="603360"/>
          </a:xfrm>
        </p:grpSpPr>
        <p:pic>
          <p:nvPicPr>
            <p:cNvPr id="434" name="Freeform 7" descr=""/>
            <p:cNvPicPr/>
            <p:nvPr/>
          </p:nvPicPr>
          <p:blipFill>
            <a:blip r:embed="rId3"/>
            <a:stretch/>
          </p:blipFill>
          <p:spPr>
            <a:xfrm>
              <a:off x="4384080" y="-6480"/>
              <a:ext cx="475956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"/>
            <p:cNvSpPr/>
            <p:nvPr/>
          </p:nvSpPr>
          <p:spPr>
            <a:xfrm>
              <a:off x="4383000" y="-4680"/>
              <a:ext cx="476100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6" name="Group 4"/>
          <p:cNvGrpSpPr/>
          <p:nvPr/>
        </p:nvGrpSpPr>
        <p:grpSpPr>
          <a:xfrm>
            <a:off x="-15840" y="203040"/>
            <a:ext cx="9177480" cy="648000"/>
            <a:chOff x="-15840" y="203040"/>
            <a:chExt cx="9177480" cy="648000"/>
          </a:xfrm>
        </p:grpSpPr>
        <p:grpSp>
          <p:nvGrpSpPr>
            <p:cNvPr id="437" name="Group 5"/>
            <p:cNvGrpSpPr/>
            <p:nvPr/>
          </p:nvGrpSpPr>
          <p:grpSpPr>
            <a:xfrm>
              <a:off x="-15840" y="203040"/>
              <a:ext cx="9153360" cy="648000"/>
              <a:chOff x="-15840" y="203040"/>
              <a:chExt cx="9153360" cy="648000"/>
            </a:xfrm>
          </p:grpSpPr>
          <p:pic>
            <p:nvPicPr>
              <p:cNvPr id="438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7920" y="203040"/>
                <a:ext cx="91296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9" name="Text Box 7"/>
              <p:cNvSpPr/>
              <p:nvPr/>
            </p:nvSpPr>
            <p:spPr>
              <a:xfrm rot="21435600">
                <a:off x="-1548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0" name="Group 8"/>
            <p:cNvGrpSpPr/>
            <p:nvPr/>
          </p:nvGrpSpPr>
          <p:grpSpPr>
            <a:xfrm>
              <a:off x="-15840" y="248040"/>
              <a:ext cx="9177480" cy="561600"/>
              <a:chOff x="-15840" y="248040"/>
              <a:chExt cx="9177480" cy="561600"/>
            </a:xfrm>
          </p:grpSpPr>
          <p:pic>
            <p:nvPicPr>
              <p:cNvPr id="441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248040"/>
                <a:ext cx="91616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2" name="Text Box 10"/>
              <p:cNvSpPr/>
              <p:nvPr/>
            </p:nvSpPr>
            <p:spPr>
              <a:xfrm rot="21435600">
                <a:off x="-1548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9C205-5E33-4548-B5AA-E716D41C59CB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CCAD7-5B0E-4B18-82F7-B899A0495378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Freeform 6"/>
          <p:cNvSpPr/>
          <p:nvPr/>
        </p:nvSpPr>
        <p:spPr>
          <a:xfrm>
            <a:off x="-6480" y="-4680"/>
            <a:ext cx="9159840" cy="103824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5" name="Freeform 7"/>
          <p:cNvGrpSpPr/>
          <p:nvPr/>
        </p:nvGrpSpPr>
        <p:grpSpPr>
          <a:xfrm>
            <a:off x="4383000" y="-6480"/>
            <a:ext cx="4761000" cy="603360"/>
            <a:chOff x="4383000" y="-6480"/>
            <a:chExt cx="4761000" cy="603360"/>
          </a:xfrm>
        </p:grpSpPr>
        <p:pic>
          <p:nvPicPr>
            <p:cNvPr id="486" name="Freeform 7" descr=""/>
            <p:cNvPicPr/>
            <p:nvPr/>
          </p:nvPicPr>
          <p:blipFill>
            <a:blip r:embed="rId3"/>
            <a:stretch/>
          </p:blipFill>
          <p:spPr>
            <a:xfrm>
              <a:off x="4384080" y="-6480"/>
              <a:ext cx="475956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"/>
            <p:cNvSpPr/>
            <p:nvPr/>
          </p:nvSpPr>
          <p:spPr>
            <a:xfrm>
              <a:off x="4383000" y="-4680"/>
              <a:ext cx="476100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8" name="Group 4"/>
          <p:cNvGrpSpPr/>
          <p:nvPr/>
        </p:nvGrpSpPr>
        <p:grpSpPr>
          <a:xfrm>
            <a:off x="-15840" y="203040"/>
            <a:ext cx="9177480" cy="648000"/>
            <a:chOff x="-15840" y="203040"/>
            <a:chExt cx="9177480" cy="648000"/>
          </a:xfrm>
        </p:grpSpPr>
        <p:grpSp>
          <p:nvGrpSpPr>
            <p:cNvPr id="489" name="Group 5"/>
            <p:cNvGrpSpPr/>
            <p:nvPr/>
          </p:nvGrpSpPr>
          <p:grpSpPr>
            <a:xfrm>
              <a:off x="-15840" y="203040"/>
              <a:ext cx="9153360" cy="648000"/>
              <a:chOff x="-15840" y="203040"/>
              <a:chExt cx="9153360" cy="648000"/>
            </a:xfrm>
          </p:grpSpPr>
          <p:pic>
            <p:nvPicPr>
              <p:cNvPr id="490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7920" y="203040"/>
                <a:ext cx="91296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1" name="Text Box 7"/>
              <p:cNvSpPr/>
              <p:nvPr/>
            </p:nvSpPr>
            <p:spPr>
              <a:xfrm rot="21435600">
                <a:off x="-1548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2" name="Group 8"/>
            <p:cNvGrpSpPr/>
            <p:nvPr/>
          </p:nvGrpSpPr>
          <p:grpSpPr>
            <a:xfrm>
              <a:off x="-15840" y="248040"/>
              <a:ext cx="9177480" cy="561600"/>
              <a:chOff x="-15840" y="248040"/>
              <a:chExt cx="9177480" cy="561600"/>
            </a:xfrm>
          </p:grpSpPr>
          <p:pic>
            <p:nvPicPr>
              <p:cNvPr id="493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248040"/>
                <a:ext cx="91616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4" name="Text Box 10"/>
              <p:cNvSpPr/>
              <p:nvPr/>
            </p:nvSpPr>
            <p:spPr>
              <a:xfrm rot="21435600">
                <a:off x="-1548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99D4B-E652-4A9F-A126-DFF3409E5074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95E43-6C8D-4456-BA7C-06D3102D333C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Freeform 6"/>
          <p:cNvSpPr/>
          <p:nvPr/>
        </p:nvSpPr>
        <p:spPr>
          <a:xfrm>
            <a:off x="-6480" y="-4680"/>
            <a:ext cx="9159840" cy="103824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7" name="Freeform 7"/>
          <p:cNvGrpSpPr/>
          <p:nvPr/>
        </p:nvGrpSpPr>
        <p:grpSpPr>
          <a:xfrm>
            <a:off x="4383000" y="-6480"/>
            <a:ext cx="4761000" cy="603360"/>
            <a:chOff x="4383000" y="-6480"/>
            <a:chExt cx="4761000" cy="603360"/>
          </a:xfrm>
        </p:grpSpPr>
        <p:pic>
          <p:nvPicPr>
            <p:cNvPr id="538" name="Freeform 7" descr=""/>
            <p:cNvPicPr/>
            <p:nvPr/>
          </p:nvPicPr>
          <p:blipFill>
            <a:blip r:embed="rId3"/>
            <a:stretch/>
          </p:blipFill>
          <p:spPr>
            <a:xfrm>
              <a:off x="4384080" y="-6480"/>
              <a:ext cx="475956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4383000" y="-4680"/>
              <a:ext cx="476100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0" name="Group 4"/>
          <p:cNvGrpSpPr/>
          <p:nvPr/>
        </p:nvGrpSpPr>
        <p:grpSpPr>
          <a:xfrm>
            <a:off x="-15840" y="203040"/>
            <a:ext cx="9177480" cy="648000"/>
            <a:chOff x="-15840" y="203040"/>
            <a:chExt cx="9177480" cy="648000"/>
          </a:xfrm>
        </p:grpSpPr>
        <p:grpSp>
          <p:nvGrpSpPr>
            <p:cNvPr id="541" name="Group 5"/>
            <p:cNvGrpSpPr/>
            <p:nvPr/>
          </p:nvGrpSpPr>
          <p:grpSpPr>
            <a:xfrm>
              <a:off x="-15840" y="203040"/>
              <a:ext cx="9153360" cy="648000"/>
              <a:chOff x="-15840" y="203040"/>
              <a:chExt cx="9153360" cy="648000"/>
            </a:xfrm>
          </p:grpSpPr>
          <p:pic>
            <p:nvPicPr>
              <p:cNvPr id="542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7920" y="203040"/>
                <a:ext cx="91296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3" name="Text Box 7"/>
              <p:cNvSpPr/>
              <p:nvPr/>
            </p:nvSpPr>
            <p:spPr>
              <a:xfrm rot="21435600">
                <a:off x="-1548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4" name="Group 8"/>
            <p:cNvGrpSpPr/>
            <p:nvPr/>
          </p:nvGrpSpPr>
          <p:grpSpPr>
            <a:xfrm>
              <a:off x="-15840" y="248040"/>
              <a:ext cx="9177480" cy="561600"/>
              <a:chOff x="-15840" y="248040"/>
              <a:chExt cx="9177480" cy="561600"/>
            </a:xfrm>
          </p:grpSpPr>
          <p:pic>
            <p:nvPicPr>
              <p:cNvPr id="545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248040"/>
                <a:ext cx="91616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6" name="Text Box 10"/>
              <p:cNvSpPr/>
              <p:nvPr/>
            </p:nvSpPr>
            <p:spPr>
              <a:xfrm rot="21435600">
                <a:off x="-1548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D2A9D-83A7-47C9-A213-BEDFEC544B95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AF278-7257-44BF-ADB5-51C585487A36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Freeform 6"/>
          <p:cNvSpPr/>
          <p:nvPr/>
        </p:nvSpPr>
        <p:spPr>
          <a:xfrm>
            <a:off x="-6480" y="-4680"/>
            <a:ext cx="9159840" cy="103824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9" name="Freeform 7"/>
          <p:cNvGrpSpPr/>
          <p:nvPr/>
        </p:nvGrpSpPr>
        <p:grpSpPr>
          <a:xfrm>
            <a:off x="4383000" y="-6480"/>
            <a:ext cx="4761000" cy="603360"/>
            <a:chOff x="4383000" y="-6480"/>
            <a:chExt cx="4761000" cy="603360"/>
          </a:xfrm>
        </p:grpSpPr>
        <p:pic>
          <p:nvPicPr>
            <p:cNvPr id="590" name="Freeform 7" descr=""/>
            <p:cNvPicPr/>
            <p:nvPr/>
          </p:nvPicPr>
          <p:blipFill>
            <a:blip r:embed="rId3"/>
            <a:stretch/>
          </p:blipFill>
          <p:spPr>
            <a:xfrm>
              <a:off x="4384080" y="-6480"/>
              <a:ext cx="475956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"/>
            <p:cNvSpPr/>
            <p:nvPr/>
          </p:nvSpPr>
          <p:spPr>
            <a:xfrm>
              <a:off x="4383000" y="-4680"/>
              <a:ext cx="476100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2" name="Group 4"/>
          <p:cNvGrpSpPr/>
          <p:nvPr/>
        </p:nvGrpSpPr>
        <p:grpSpPr>
          <a:xfrm>
            <a:off x="-15840" y="203040"/>
            <a:ext cx="9177480" cy="648000"/>
            <a:chOff x="-15840" y="203040"/>
            <a:chExt cx="9177480" cy="648000"/>
          </a:xfrm>
        </p:grpSpPr>
        <p:grpSp>
          <p:nvGrpSpPr>
            <p:cNvPr id="593" name="Group 5"/>
            <p:cNvGrpSpPr/>
            <p:nvPr/>
          </p:nvGrpSpPr>
          <p:grpSpPr>
            <a:xfrm>
              <a:off x="-15840" y="203040"/>
              <a:ext cx="9153360" cy="648000"/>
              <a:chOff x="-15840" y="203040"/>
              <a:chExt cx="9153360" cy="648000"/>
            </a:xfrm>
          </p:grpSpPr>
          <p:pic>
            <p:nvPicPr>
              <p:cNvPr id="594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7920" y="203040"/>
                <a:ext cx="91296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5" name="Text Box 7"/>
              <p:cNvSpPr/>
              <p:nvPr/>
            </p:nvSpPr>
            <p:spPr>
              <a:xfrm rot="21435600">
                <a:off x="-1548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6" name="Group 8"/>
            <p:cNvGrpSpPr/>
            <p:nvPr/>
          </p:nvGrpSpPr>
          <p:grpSpPr>
            <a:xfrm>
              <a:off x="-15840" y="248040"/>
              <a:ext cx="9177480" cy="561600"/>
              <a:chOff x="-15840" y="248040"/>
              <a:chExt cx="9177480" cy="561600"/>
            </a:xfrm>
          </p:grpSpPr>
          <p:pic>
            <p:nvPicPr>
              <p:cNvPr id="597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248040"/>
                <a:ext cx="91616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8" name="Text Box 10"/>
              <p:cNvSpPr/>
              <p:nvPr/>
            </p:nvSpPr>
            <p:spPr>
              <a:xfrm rot="21435600">
                <a:off x="-1548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255FD-053D-4320-A9A2-C5E231E58B45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8478E-9FF2-4884-B6C4-C40E61037E44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Freeform 6"/>
          <p:cNvSpPr/>
          <p:nvPr/>
        </p:nvSpPr>
        <p:spPr>
          <a:xfrm>
            <a:off x="-6480" y="-4680"/>
            <a:ext cx="9159840" cy="103824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1" name="Freeform 7"/>
          <p:cNvGrpSpPr/>
          <p:nvPr/>
        </p:nvGrpSpPr>
        <p:grpSpPr>
          <a:xfrm>
            <a:off x="4383000" y="-6480"/>
            <a:ext cx="4761000" cy="603360"/>
            <a:chOff x="4383000" y="-6480"/>
            <a:chExt cx="4761000" cy="603360"/>
          </a:xfrm>
        </p:grpSpPr>
        <p:pic>
          <p:nvPicPr>
            <p:cNvPr id="642" name="Freeform 7" descr=""/>
            <p:cNvPicPr/>
            <p:nvPr/>
          </p:nvPicPr>
          <p:blipFill>
            <a:blip r:embed="rId3"/>
            <a:stretch/>
          </p:blipFill>
          <p:spPr>
            <a:xfrm>
              <a:off x="4384080" y="-6480"/>
              <a:ext cx="475956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4383000" y="-4680"/>
              <a:ext cx="476100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4" name="Group 4"/>
          <p:cNvGrpSpPr/>
          <p:nvPr/>
        </p:nvGrpSpPr>
        <p:grpSpPr>
          <a:xfrm>
            <a:off x="-15840" y="203040"/>
            <a:ext cx="9177480" cy="648000"/>
            <a:chOff x="-15840" y="203040"/>
            <a:chExt cx="9177480" cy="648000"/>
          </a:xfrm>
        </p:grpSpPr>
        <p:grpSp>
          <p:nvGrpSpPr>
            <p:cNvPr id="645" name="Group 5"/>
            <p:cNvGrpSpPr/>
            <p:nvPr/>
          </p:nvGrpSpPr>
          <p:grpSpPr>
            <a:xfrm>
              <a:off x="-15840" y="203040"/>
              <a:ext cx="9153360" cy="648000"/>
              <a:chOff x="-15840" y="203040"/>
              <a:chExt cx="9153360" cy="648000"/>
            </a:xfrm>
          </p:grpSpPr>
          <p:pic>
            <p:nvPicPr>
              <p:cNvPr id="64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7920" y="203040"/>
                <a:ext cx="91296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7" name="Text Box 7"/>
              <p:cNvSpPr/>
              <p:nvPr/>
            </p:nvSpPr>
            <p:spPr>
              <a:xfrm rot="21435600">
                <a:off x="-1548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8" name="Group 8"/>
            <p:cNvGrpSpPr/>
            <p:nvPr/>
          </p:nvGrpSpPr>
          <p:grpSpPr>
            <a:xfrm>
              <a:off x="-15840" y="248040"/>
              <a:ext cx="9177480" cy="561600"/>
              <a:chOff x="-15840" y="248040"/>
              <a:chExt cx="9177480" cy="561600"/>
            </a:xfrm>
          </p:grpSpPr>
          <p:pic>
            <p:nvPicPr>
              <p:cNvPr id="64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248040"/>
                <a:ext cx="91616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0" name="Text Box 10"/>
              <p:cNvSpPr/>
              <p:nvPr/>
            </p:nvSpPr>
            <p:spPr>
              <a:xfrm rot="21435600">
                <a:off x="-1548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37570-3A12-4CF8-898F-FB483E4F36E3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63147-F126-40AD-9857-EDB94248AB29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Freeform 6"/>
          <p:cNvSpPr/>
          <p:nvPr/>
        </p:nvSpPr>
        <p:spPr>
          <a:xfrm>
            <a:off x="-6480" y="-4680"/>
            <a:ext cx="9159840" cy="103824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3" name="Freeform 7"/>
          <p:cNvGrpSpPr/>
          <p:nvPr/>
        </p:nvGrpSpPr>
        <p:grpSpPr>
          <a:xfrm>
            <a:off x="4383000" y="-6480"/>
            <a:ext cx="4761000" cy="603360"/>
            <a:chOff x="4383000" y="-6480"/>
            <a:chExt cx="4761000" cy="603360"/>
          </a:xfrm>
        </p:grpSpPr>
        <p:pic>
          <p:nvPicPr>
            <p:cNvPr id="694" name="Freeform 7" descr=""/>
            <p:cNvPicPr/>
            <p:nvPr/>
          </p:nvPicPr>
          <p:blipFill>
            <a:blip r:embed="rId3"/>
            <a:stretch/>
          </p:blipFill>
          <p:spPr>
            <a:xfrm>
              <a:off x="4384080" y="-6480"/>
              <a:ext cx="475956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5" name=""/>
            <p:cNvSpPr/>
            <p:nvPr/>
          </p:nvSpPr>
          <p:spPr>
            <a:xfrm>
              <a:off x="4383000" y="-4680"/>
              <a:ext cx="476100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6" name="Group 4"/>
          <p:cNvGrpSpPr/>
          <p:nvPr/>
        </p:nvGrpSpPr>
        <p:grpSpPr>
          <a:xfrm>
            <a:off x="-15840" y="203040"/>
            <a:ext cx="9177480" cy="648000"/>
            <a:chOff x="-15840" y="203040"/>
            <a:chExt cx="9177480" cy="648000"/>
          </a:xfrm>
        </p:grpSpPr>
        <p:grpSp>
          <p:nvGrpSpPr>
            <p:cNvPr id="697" name="Group 5"/>
            <p:cNvGrpSpPr/>
            <p:nvPr/>
          </p:nvGrpSpPr>
          <p:grpSpPr>
            <a:xfrm>
              <a:off x="-15840" y="203040"/>
              <a:ext cx="9153360" cy="648000"/>
              <a:chOff x="-15840" y="203040"/>
              <a:chExt cx="9153360" cy="648000"/>
            </a:xfrm>
          </p:grpSpPr>
          <p:pic>
            <p:nvPicPr>
              <p:cNvPr id="698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7920" y="203040"/>
                <a:ext cx="91296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9" name="Text Box 7"/>
              <p:cNvSpPr/>
              <p:nvPr/>
            </p:nvSpPr>
            <p:spPr>
              <a:xfrm rot="21435600">
                <a:off x="-1548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0" name="Group 8"/>
            <p:cNvGrpSpPr/>
            <p:nvPr/>
          </p:nvGrpSpPr>
          <p:grpSpPr>
            <a:xfrm>
              <a:off x="-15840" y="248040"/>
              <a:ext cx="9177480" cy="561600"/>
              <a:chOff x="-15840" y="248040"/>
              <a:chExt cx="9177480" cy="561600"/>
            </a:xfrm>
          </p:grpSpPr>
          <p:pic>
            <p:nvPicPr>
              <p:cNvPr id="701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248040"/>
                <a:ext cx="91616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2" name="Text Box 10"/>
              <p:cNvSpPr/>
              <p:nvPr/>
            </p:nvSpPr>
            <p:spPr>
              <a:xfrm rot="21435600">
                <a:off x="-1548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81D4C-FD41-449D-A7B5-284DCDD1594F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 type="ftr" idx="4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 type="sldNum" idx="4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82FF4-DEC4-47DB-9A0D-E8DEF998F52C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Freeform 6"/>
          <p:cNvSpPr/>
          <p:nvPr/>
        </p:nvSpPr>
        <p:spPr>
          <a:xfrm>
            <a:off x="-6480" y="-4680"/>
            <a:ext cx="9159840" cy="103824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5" name="Freeform 7"/>
          <p:cNvGrpSpPr/>
          <p:nvPr/>
        </p:nvGrpSpPr>
        <p:grpSpPr>
          <a:xfrm>
            <a:off x="4383000" y="-6480"/>
            <a:ext cx="4761000" cy="603360"/>
            <a:chOff x="4383000" y="-6480"/>
            <a:chExt cx="4761000" cy="603360"/>
          </a:xfrm>
        </p:grpSpPr>
        <p:pic>
          <p:nvPicPr>
            <p:cNvPr id="746" name="Freeform 7" descr=""/>
            <p:cNvPicPr/>
            <p:nvPr/>
          </p:nvPicPr>
          <p:blipFill>
            <a:blip r:embed="rId3"/>
            <a:stretch/>
          </p:blipFill>
          <p:spPr>
            <a:xfrm>
              <a:off x="4384080" y="-6480"/>
              <a:ext cx="475956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7" name=""/>
            <p:cNvSpPr/>
            <p:nvPr/>
          </p:nvSpPr>
          <p:spPr>
            <a:xfrm>
              <a:off x="4383000" y="-4680"/>
              <a:ext cx="476100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8" name="Group 4"/>
          <p:cNvGrpSpPr/>
          <p:nvPr/>
        </p:nvGrpSpPr>
        <p:grpSpPr>
          <a:xfrm>
            <a:off x="-15840" y="203040"/>
            <a:ext cx="9177480" cy="648000"/>
            <a:chOff x="-15840" y="203040"/>
            <a:chExt cx="9177480" cy="648000"/>
          </a:xfrm>
        </p:grpSpPr>
        <p:grpSp>
          <p:nvGrpSpPr>
            <p:cNvPr id="749" name="Group 5"/>
            <p:cNvGrpSpPr/>
            <p:nvPr/>
          </p:nvGrpSpPr>
          <p:grpSpPr>
            <a:xfrm>
              <a:off x="-15840" y="203040"/>
              <a:ext cx="9153360" cy="648000"/>
              <a:chOff x="-15840" y="203040"/>
              <a:chExt cx="9153360" cy="648000"/>
            </a:xfrm>
          </p:grpSpPr>
          <p:pic>
            <p:nvPicPr>
              <p:cNvPr id="750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7920" y="203040"/>
                <a:ext cx="91296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1" name="Text Box 7"/>
              <p:cNvSpPr/>
              <p:nvPr/>
            </p:nvSpPr>
            <p:spPr>
              <a:xfrm rot="21435600">
                <a:off x="-1548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2" name="Group 8"/>
            <p:cNvGrpSpPr/>
            <p:nvPr/>
          </p:nvGrpSpPr>
          <p:grpSpPr>
            <a:xfrm>
              <a:off x="-15840" y="248040"/>
              <a:ext cx="9177480" cy="561600"/>
              <a:chOff x="-15840" y="248040"/>
              <a:chExt cx="9177480" cy="561600"/>
            </a:xfrm>
          </p:grpSpPr>
          <p:pic>
            <p:nvPicPr>
              <p:cNvPr id="753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248040"/>
                <a:ext cx="91616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4" name="Text Box 10"/>
              <p:cNvSpPr/>
              <p:nvPr/>
            </p:nvSpPr>
            <p:spPr>
              <a:xfrm rot="21435600">
                <a:off x="-1548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6C76D-7B93-4EDD-85C0-1C8ADAA0F4D3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 type="ftr" idx="4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 type="sldNum" idx="4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6C28C-4AB6-43C8-9763-1C56858F37CA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Freeform 15"/>
          <p:cNvSpPr/>
          <p:nvPr/>
        </p:nvSpPr>
        <p:spPr>
          <a:xfrm flipV="1">
            <a:off x="-6120" y="5815440"/>
            <a:ext cx="9159840" cy="104148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9" name="Freeform 16"/>
          <p:cNvGrpSpPr/>
          <p:nvPr/>
        </p:nvGrpSpPr>
        <p:grpSpPr>
          <a:xfrm>
            <a:off x="4382640" y="6248160"/>
            <a:ext cx="4761000" cy="609480"/>
            <a:chOff x="4382640" y="6248160"/>
            <a:chExt cx="4761000" cy="609480"/>
          </a:xfrm>
        </p:grpSpPr>
        <p:pic>
          <p:nvPicPr>
            <p:cNvPr id="800" name="Freeform 16" descr=""/>
            <p:cNvPicPr/>
            <p:nvPr/>
          </p:nvPicPr>
          <p:blipFill>
            <a:blip r:embed="rId3"/>
            <a:stretch/>
          </p:blipFill>
          <p:spPr>
            <a:xfrm>
              <a:off x="4384080" y="6275880"/>
              <a:ext cx="4759560" cy="58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1" name=""/>
            <p:cNvSpPr/>
            <p:nvPr/>
          </p:nvSpPr>
          <p:spPr>
            <a:xfrm rot="10800000">
              <a:off x="4382640" y="6248160"/>
              <a:ext cx="47610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E9E3A-476C-44E2-86B9-518B58FCF899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 type="ftr" idx="5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 type="sldNum" idx="51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DEC19-D46A-41B2-8FA4-C66D19778B7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Freeform 15"/>
          <p:cNvSpPr/>
          <p:nvPr/>
        </p:nvSpPr>
        <p:spPr>
          <a:xfrm flipV="1">
            <a:off x="-6120" y="5815440"/>
            <a:ext cx="9159840" cy="104148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6" name="Freeform 16"/>
          <p:cNvGrpSpPr/>
          <p:nvPr/>
        </p:nvGrpSpPr>
        <p:grpSpPr>
          <a:xfrm>
            <a:off x="4382640" y="6248160"/>
            <a:ext cx="4761000" cy="609480"/>
            <a:chOff x="4382640" y="6248160"/>
            <a:chExt cx="4761000" cy="609480"/>
          </a:xfrm>
        </p:grpSpPr>
        <p:pic>
          <p:nvPicPr>
            <p:cNvPr id="847" name="Freeform 16" descr=""/>
            <p:cNvPicPr/>
            <p:nvPr/>
          </p:nvPicPr>
          <p:blipFill>
            <a:blip r:embed="rId3"/>
            <a:stretch/>
          </p:blipFill>
          <p:spPr>
            <a:xfrm>
              <a:off x="4384080" y="6275880"/>
              <a:ext cx="4759560" cy="58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8" name=""/>
            <p:cNvSpPr/>
            <p:nvPr/>
          </p:nvSpPr>
          <p:spPr>
            <a:xfrm rot="10800000">
              <a:off x="4382640" y="6248160"/>
              <a:ext cx="47610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3E2CC-7741-4090-9B6B-C54C7BF2C622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 type="ftr" idx="5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 type="sldNum" idx="54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DD454-298E-4E5A-BB5E-637C1B031A0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Freeform 15"/>
          <p:cNvSpPr/>
          <p:nvPr/>
        </p:nvSpPr>
        <p:spPr>
          <a:xfrm flipV="1">
            <a:off x="-6120" y="5815440"/>
            <a:ext cx="9159840" cy="104148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3" name="Freeform 16"/>
          <p:cNvGrpSpPr/>
          <p:nvPr/>
        </p:nvGrpSpPr>
        <p:grpSpPr>
          <a:xfrm>
            <a:off x="4382640" y="6248160"/>
            <a:ext cx="4761000" cy="609480"/>
            <a:chOff x="4382640" y="6248160"/>
            <a:chExt cx="4761000" cy="609480"/>
          </a:xfrm>
        </p:grpSpPr>
        <p:pic>
          <p:nvPicPr>
            <p:cNvPr id="894" name="Freeform 16" descr=""/>
            <p:cNvPicPr/>
            <p:nvPr/>
          </p:nvPicPr>
          <p:blipFill>
            <a:blip r:embed="rId3"/>
            <a:stretch/>
          </p:blipFill>
          <p:spPr>
            <a:xfrm>
              <a:off x="4384080" y="6275880"/>
              <a:ext cx="4759560" cy="58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 rot="10800000">
              <a:off x="4382640" y="6248160"/>
              <a:ext cx="47610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FA7C2-0C11-4230-A3FB-3EB6241424F6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 type="ftr" idx="5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 type="sldNum" idx="57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E21DE-E452-4E8D-9D81-6E941B08776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Freeform 15"/>
          <p:cNvSpPr/>
          <p:nvPr/>
        </p:nvSpPr>
        <p:spPr>
          <a:xfrm flipV="1">
            <a:off x="-6120" y="5815440"/>
            <a:ext cx="9159840" cy="104148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" name="Freeform 16"/>
          <p:cNvGrpSpPr/>
          <p:nvPr/>
        </p:nvGrpSpPr>
        <p:grpSpPr>
          <a:xfrm>
            <a:off x="4382640" y="6248160"/>
            <a:ext cx="4761000" cy="609480"/>
            <a:chOff x="4382640" y="6248160"/>
            <a:chExt cx="4761000" cy="609480"/>
          </a:xfrm>
        </p:grpSpPr>
        <p:pic>
          <p:nvPicPr>
            <p:cNvPr id="56" name="Freeform 16" descr=""/>
            <p:cNvPicPr/>
            <p:nvPr/>
          </p:nvPicPr>
          <p:blipFill>
            <a:blip r:embed="rId3"/>
            <a:stretch/>
          </p:blipFill>
          <p:spPr>
            <a:xfrm>
              <a:off x="4384080" y="6275880"/>
              <a:ext cx="4759560" cy="58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 rot="10800000">
              <a:off x="4382640" y="6248160"/>
              <a:ext cx="47610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FF2DE-8ACE-4F06-95D7-6D0F1CC66E1A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FC359-BF4B-4AC9-BB62-9107BCF2035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Freeform 15"/>
          <p:cNvSpPr/>
          <p:nvPr/>
        </p:nvSpPr>
        <p:spPr>
          <a:xfrm flipV="1">
            <a:off x="-6120" y="5815440"/>
            <a:ext cx="9159840" cy="104148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0" name="Freeform 16"/>
          <p:cNvGrpSpPr/>
          <p:nvPr/>
        </p:nvGrpSpPr>
        <p:grpSpPr>
          <a:xfrm>
            <a:off x="4382640" y="6248160"/>
            <a:ext cx="4761000" cy="609480"/>
            <a:chOff x="4382640" y="6248160"/>
            <a:chExt cx="4761000" cy="609480"/>
          </a:xfrm>
        </p:grpSpPr>
        <p:pic>
          <p:nvPicPr>
            <p:cNvPr id="941" name="Freeform 16" descr=""/>
            <p:cNvPicPr/>
            <p:nvPr/>
          </p:nvPicPr>
          <p:blipFill>
            <a:blip r:embed="rId3"/>
            <a:stretch/>
          </p:blipFill>
          <p:spPr>
            <a:xfrm>
              <a:off x="4384080" y="6275880"/>
              <a:ext cx="4759560" cy="58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2" name=""/>
            <p:cNvSpPr/>
            <p:nvPr/>
          </p:nvSpPr>
          <p:spPr>
            <a:xfrm rot="10800000">
              <a:off x="4382640" y="6248160"/>
              <a:ext cx="47610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1E13E-1166-4141-8AA6-058D8F4C0CB8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5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6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7B83E-9B1C-44D4-AC72-FECD6A48C03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Freeform 15"/>
          <p:cNvSpPr/>
          <p:nvPr/>
        </p:nvSpPr>
        <p:spPr>
          <a:xfrm flipV="1">
            <a:off x="-6120" y="5815440"/>
            <a:ext cx="9159840" cy="104148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7" name="Freeform 16"/>
          <p:cNvGrpSpPr/>
          <p:nvPr/>
        </p:nvGrpSpPr>
        <p:grpSpPr>
          <a:xfrm>
            <a:off x="4382640" y="6248160"/>
            <a:ext cx="4761000" cy="609480"/>
            <a:chOff x="4382640" y="6248160"/>
            <a:chExt cx="4761000" cy="609480"/>
          </a:xfrm>
        </p:grpSpPr>
        <p:pic>
          <p:nvPicPr>
            <p:cNvPr id="988" name="Freeform 16" descr=""/>
            <p:cNvPicPr/>
            <p:nvPr/>
          </p:nvPicPr>
          <p:blipFill>
            <a:blip r:embed="rId3"/>
            <a:stretch/>
          </p:blipFill>
          <p:spPr>
            <a:xfrm>
              <a:off x="4384080" y="6275880"/>
              <a:ext cx="4759560" cy="58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9" name=""/>
            <p:cNvSpPr/>
            <p:nvPr/>
          </p:nvSpPr>
          <p:spPr>
            <a:xfrm rot="10800000">
              <a:off x="4382640" y="6248160"/>
              <a:ext cx="47610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DEDE9-4E42-43B3-9CB9-F8F59B06DDF2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 type="ftr" idx="6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 type="sldNum" idx="6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17491-8952-4AD4-A418-657C931F0B1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Freeform 15"/>
          <p:cNvSpPr/>
          <p:nvPr/>
        </p:nvSpPr>
        <p:spPr>
          <a:xfrm flipV="1">
            <a:off x="-6120" y="5815440"/>
            <a:ext cx="9159840" cy="104148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4" name="Freeform 16"/>
          <p:cNvGrpSpPr/>
          <p:nvPr/>
        </p:nvGrpSpPr>
        <p:grpSpPr>
          <a:xfrm>
            <a:off x="4382640" y="6248160"/>
            <a:ext cx="4761000" cy="609480"/>
            <a:chOff x="4382640" y="6248160"/>
            <a:chExt cx="4761000" cy="609480"/>
          </a:xfrm>
        </p:grpSpPr>
        <p:pic>
          <p:nvPicPr>
            <p:cNvPr id="1035" name="Freeform 16" descr=""/>
            <p:cNvPicPr/>
            <p:nvPr/>
          </p:nvPicPr>
          <p:blipFill>
            <a:blip r:embed="rId3"/>
            <a:stretch/>
          </p:blipFill>
          <p:spPr>
            <a:xfrm>
              <a:off x="4384080" y="6275880"/>
              <a:ext cx="4759560" cy="58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6" name=""/>
            <p:cNvSpPr/>
            <p:nvPr/>
          </p:nvSpPr>
          <p:spPr>
            <a:xfrm rot="10800000">
              <a:off x="4382640" y="6248160"/>
              <a:ext cx="47610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AA988-63AC-4D98-9597-D136F4B7A536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6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6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0593C-C5FB-42EB-9C0A-46A98A16576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Freeform 15"/>
          <p:cNvSpPr/>
          <p:nvPr/>
        </p:nvSpPr>
        <p:spPr>
          <a:xfrm flipV="1">
            <a:off x="-6120" y="5815440"/>
            <a:ext cx="9159840" cy="104148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1" name="Freeform 16"/>
          <p:cNvGrpSpPr/>
          <p:nvPr/>
        </p:nvGrpSpPr>
        <p:grpSpPr>
          <a:xfrm>
            <a:off x="4382640" y="6248160"/>
            <a:ext cx="4761000" cy="609480"/>
            <a:chOff x="4382640" y="6248160"/>
            <a:chExt cx="4761000" cy="609480"/>
          </a:xfrm>
        </p:grpSpPr>
        <p:pic>
          <p:nvPicPr>
            <p:cNvPr id="1082" name="Freeform 16" descr=""/>
            <p:cNvPicPr/>
            <p:nvPr/>
          </p:nvPicPr>
          <p:blipFill>
            <a:blip r:embed="rId3"/>
            <a:stretch/>
          </p:blipFill>
          <p:spPr>
            <a:xfrm>
              <a:off x="4384080" y="6275880"/>
              <a:ext cx="4759560" cy="58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3" name=""/>
            <p:cNvSpPr/>
            <p:nvPr/>
          </p:nvSpPr>
          <p:spPr>
            <a:xfrm rot="10800000">
              <a:off x="4382640" y="6248160"/>
              <a:ext cx="47610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BD0D6-0666-44E1-87F0-20143FF8015D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 type="ftr" idx="6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 type="sldNum" idx="69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865E2-8A55-4399-A643-0016F36DE9E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Freeform 15"/>
          <p:cNvSpPr/>
          <p:nvPr/>
        </p:nvSpPr>
        <p:spPr>
          <a:xfrm flipV="1">
            <a:off x="-6120" y="5815440"/>
            <a:ext cx="9159840" cy="104148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8" name="Freeform 16"/>
          <p:cNvGrpSpPr/>
          <p:nvPr/>
        </p:nvGrpSpPr>
        <p:grpSpPr>
          <a:xfrm>
            <a:off x="4382640" y="6248160"/>
            <a:ext cx="4761000" cy="609480"/>
            <a:chOff x="4382640" y="6248160"/>
            <a:chExt cx="4761000" cy="609480"/>
          </a:xfrm>
        </p:grpSpPr>
        <p:pic>
          <p:nvPicPr>
            <p:cNvPr id="1129" name="Freeform 16" descr=""/>
            <p:cNvPicPr/>
            <p:nvPr/>
          </p:nvPicPr>
          <p:blipFill>
            <a:blip r:embed="rId3"/>
            <a:stretch/>
          </p:blipFill>
          <p:spPr>
            <a:xfrm>
              <a:off x="4384080" y="6275880"/>
              <a:ext cx="4759560" cy="58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0" name=""/>
            <p:cNvSpPr/>
            <p:nvPr/>
          </p:nvSpPr>
          <p:spPr>
            <a:xfrm rot="10800000">
              <a:off x="4382640" y="6248160"/>
              <a:ext cx="47610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01F7A-2EC3-4040-BDE0-E035455E9EA8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 type="ftr" idx="7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PlaceHolder 5"/>
          <p:cNvSpPr>
            <a:spLocks noGrp="1"/>
          </p:cNvSpPr>
          <p:nvPr>
            <p:ph type="sldNum" idx="7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D455A-98EE-4807-B949-D5943779A92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Freeform 15"/>
          <p:cNvSpPr/>
          <p:nvPr/>
        </p:nvSpPr>
        <p:spPr>
          <a:xfrm flipV="1">
            <a:off x="-6120" y="5815440"/>
            <a:ext cx="9159840" cy="104148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5" name="Freeform 16"/>
          <p:cNvGrpSpPr/>
          <p:nvPr/>
        </p:nvGrpSpPr>
        <p:grpSpPr>
          <a:xfrm>
            <a:off x="4382640" y="6248160"/>
            <a:ext cx="4761000" cy="609480"/>
            <a:chOff x="4382640" y="6248160"/>
            <a:chExt cx="4761000" cy="609480"/>
          </a:xfrm>
        </p:grpSpPr>
        <p:pic>
          <p:nvPicPr>
            <p:cNvPr id="1176" name="Freeform 16" descr=""/>
            <p:cNvPicPr/>
            <p:nvPr/>
          </p:nvPicPr>
          <p:blipFill>
            <a:blip r:embed="rId3"/>
            <a:stretch/>
          </p:blipFill>
          <p:spPr>
            <a:xfrm>
              <a:off x="4384080" y="6275880"/>
              <a:ext cx="4759560" cy="58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7" name=""/>
            <p:cNvSpPr/>
            <p:nvPr/>
          </p:nvSpPr>
          <p:spPr>
            <a:xfrm rot="10800000">
              <a:off x="4382640" y="6248160"/>
              <a:ext cx="47610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1AF58-6352-470D-A9AA-E70E6225C000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 type="ftr" idx="7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 type="sldNum" idx="7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20701-8C6A-4378-AB5C-B428B2B31EF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Freeform 15"/>
          <p:cNvSpPr/>
          <p:nvPr/>
        </p:nvSpPr>
        <p:spPr>
          <a:xfrm flipV="1">
            <a:off x="-6120" y="5815440"/>
            <a:ext cx="9159840" cy="104148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2" name="Freeform 16"/>
          <p:cNvGrpSpPr/>
          <p:nvPr/>
        </p:nvGrpSpPr>
        <p:grpSpPr>
          <a:xfrm>
            <a:off x="4382640" y="6248160"/>
            <a:ext cx="4761000" cy="609480"/>
            <a:chOff x="4382640" y="6248160"/>
            <a:chExt cx="4761000" cy="609480"/>
          </a:xfrm>
        </p:grpSpPr>
        <p:pic>
          <p:nvPicPr>
            <p:cNvPr id="1223" name="Freeform 16" descr=""/>
            <p:cNvPicPr/>
            <p:nvPr/>
          </p:nvPicPr>
          <p:blipFill>
            <a:blip r:embed="rId3"/>
            <a:stretch/>
          </p:blipFill>
          <p:spPr>
            <a:xfrm>
              <a:off x="4384080" y="6275880"/>
              <a:ext cx="4759560" cy="58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4" name=""/>
            <p:cNvSpPr/>
            <p:nvPr/>
          </p:nvSpPr>
          <p:spPr>
            <a:xfrm rot="10800000">
              <a:off x="4382640" y="6248160"/>
              <a:ext cx="47610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93BEB-4AE5-40A0-8490-5A409421C14E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 type="ftr" idx="7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PlaceHolder 5"/>
          <p:cNvSpPr>
            <a:spLocks noGrp="1"/>
          </p:cNvSpPr>
          <p:nvPr>
            <p:ph type="sldNum" idx="7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1C38C-3A9C-4025-AC24-344A7E0A03C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Freeform 15"/>
          <p:cNvSpPr/>
          <p:nvPr/>
        </p:nvSpPr>
        <p:spPr>
          <a:xfrm flipV="1">
            <a:off x="-6120" y="5815440"/>
            <a:ext cx="9159840" cy="104148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69" name="Freeform 16"/>
          <p:cNvGrpSpPr/>
          <p:nvPr/>
        </p:nvGrpSpPr>
        <p:grpSpPr>
          <a:xfrm>
            <a:off x="4382640" y="6248160"/>
            <a:ext cx="4761000" cy="609480"/>
            <a:chOff x="4382640" y="6248160"/>
            <a:chExt cx="4761000" cy="609480"/>
          </a:xfrm>
        </p:grpSpPr>
        <p:pic>
          <p:nvPicPr>
            <p:cNvPr id="1270" name="Freeform 16" descr=""/>
            <p:cNvPicPr/>
            <p:nvPr/>
          </p:nvPicPr>
          <p:blipFill>
            <a:blip r:embed="rId3"/>
            <a:stretch/>
          </p:blipFill>
          <p:spPr>
            <a:xfrm>
              <a:off x="4384080" y="6275880"/>
              <a:ext cx="4759560" cy="58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1" name=""/>
            <p:cNvSpPr/>
            <p:nvPr/>
          </p:nvSpPr>
          <p:spPr>
            <a:xfrm rot="10800000">
              <a:off x="4382640" y="6248160"/>
              <a:ext cx="47610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C4EC-FCC0-457E-B776-BFBDD4135866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 type="ftr" idx="8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PlaceHolder 5"/>
          <p:cNvSpPr>
            <a:spLocks noGrp="1"/>
          </p:cNvSpPr>
          <p:nvPr>
            <p:ph type="sldNum" idx="81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140C8-79CA-4F3E-94EE-338DBA35447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16B03-EE03-4A0E-8FD2-A4235E346F18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B6BAB-F328-4AD3-83F2-13DF89F11A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312D7-9545-4AEC-A947-C8F740655C38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 type="ftr" idx="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PlaceHolder 5"/>
          <p:cNvSpPr>
            <a:spLocks noGrp="1"/>
          </p:cNvSpPr>
          <p:nvPr>
            <p:ph type="sldNum" idx="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4178E-ADA1-47A8-ADBC-37844E01CB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411EA-0125-4A2E-8D35-C9211A67C685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D8480-705B-47FB-8CCB-0B3B8F77A0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0DE85-4B59-4A8F-8E57-4A73CC5F41C5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 type="ftr" idx="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PlaceHolder 5"/>
          <p:cNvSpPr>
            <a:spLocks noGrp="1"/>
          </p:cNvSpPr>
          <p:nvPr>
            <p:ph type="sldNum" idx="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FF008-6338-4BCD-A6F2-CB1565E1BD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 type="dt" idx="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12EAA-27F2-4BAA-9018-961DF2DEF9C3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 type="ftr" idx="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PlaceHolder 5"/>
          <p:cNvSpPr>
            <a:spLocks noGrp="1"/>
          </p:cNvSpPr>
          <p:nvPr>
            <p:ph type="sldNum" idx="9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803A5-A5E1-47AF-90CC-042167D5B0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 type="dt" idx="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A81E8-813F-4002-A786-8E54EC45F83E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 type="ftr" idx="9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PlaceHolder 5"/>
          <p:cNvSpPr>
            <a:spLocks noGrp="1"/>
          </p:cNvSpPr>
          <p:nvPr>
            <p:ph type="sldNum" idx="9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6B0C0-946E-4D11-8155-6DECA9903D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 type="dt" idx="9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D0C56-FC1B-43F9-92C8-97C0D221D680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PlaceHolder 4"/>
          <p:cNvSpPr>
            <a:spLocks noGrp="1"/>
          </p:cNvSpPr>
          <p:nvPr>
            <p:ph type="ftr" idx="9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PlaceHolder 5"/>
          <p:cNvSpPr>
            <a:spLocks noGrp="1"/>
          </p:cNvSpPr>
          <p:nvPr>
            <p:ph type="sldNum" idx="9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AE09E-041A-45DE-82FE-8A5CDA0E9F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 type="dt" idx="10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5CC43-03A6-4B27-A6EB-8016134F9E4D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PlaceHolder 4"/>
          <p:cNvSpPr>
            <a:spLocks noGrp="1"/>
          </p:cNvSpPr>
          <p:nvPr>
            <p:ph type="ftr" idx="10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PlaceHolder 5"/>
          <p:cNvSpPr>
            <a:spLocks noGrp="1"/>
          </p:cNvSpPr>
          <p:nvPr>
            <p:ph type="sldNum" idx="10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117B8-22B0-4934-A7B6-B31B73694A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 type="dt" idx="10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9CA9E-D765-420C-87E5-E67F23FBA946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PlaceHolder 4"/>
          <p:cNvSpPr>
            <a:spLocks noGrp="1"/>
          </p:cNvSpPr>
          <p:nvPr>
            <p:ph type="ftr" idx="10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PlaceHolder 5"/>
          <p:cNvSpPr>
            <a:spLocks noGrp="1"/>
          </p:cNvSpPr>
          <p:nvPr>
            <p:ph type="sldNum" idx="10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9479E-40E4-4C40-A7BC-2893868170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 type="dt" idx="10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7B81F-0662-4059-BECF-8E0FBD4D697D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PlaceHolder 4"/>
          <p:cNvSpPr>
            <a:spLocks noGrp="1"/>
          </p:cNvSpPr>
          <p:nvPr>
            <p:ph type="ftr" idx="10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PlaceHolder 5"/>
          <p:cNvSpPr>
            <a:spLocks noGrp="1"/>
          </p:cNvSpPr>
          <p:nvPr>
            <p:ph type="sldNum" idx="10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20BF2-96E1-459C-94F6-0712A47B66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4" name="PlaceHolder 3"/>
          <p:cNvSpPr>
            <a:spLocks noGrp="1"/>
          </p:cNvSpPr>
          <p:nvPr>
            <p:ph type="dt" idx="10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4563A-B7DD-48CD-8CA0-ED79FCFD9378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PlaceHolder 4"/>
          <p:cNvSpPr>
            <a:spLocks noGrp="1"/>
          </p:cNvSpPr>
          <p:nvPr>
            <p:ph type="ftr" idx="1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PlaceHolder 5"/>
          <p:cNvSpPr>
            <a:spLocks noGrp="1"/>
          </p:cNvSpPr>
          <p:nvPr>
            <p:ph type="sldNum" idx="1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3FEAF-6DCD-45CD-B206-9D84DB60FB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5" name="PlaceHolder 3"/>
          <p:cNvSpPr>
            <a:spLocks noGrp="1"/>
          </p:cNvSpPr>
          <p:nvPr>
            <p:ph type="dt" idx="1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CFA87-C501-4B8F-A181-D938C67DCA91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PlaceHolder 4"/>
          <p:cNvSpPr>
            <a:spLocks noGrp="1"/>
          </p:cNvSpPr>
          <p:nvPr>
            <p:ph type="ftr" idx="1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PlaceHolder 5"/>
          <p:cNvSpPr>
            <a:spLocks noGrp="1"/>
          </p:cNvSpPr>
          <p:nvPr>
            <p:ph type="sldNum" idx="1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56CFA-AD59-4E35-BAE4-A1DA9C475F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 type="dt" idx="1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A608F-C464-4956-B4FB-C3427BB02F41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PlaceHolder 4"/>
          <p:cNvSpPr>
            <a:spLocks noGrp="1"/>
          </p:cNvSpPr>
          <p:nvPr>
            <p:ph type="ftr" idx="1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PlaceHolder 5"/>
          <p:cNvSpPr>
            <a:spLocks noGrp="1"/>
          </p:cNvSpPr>
          <p:nvPr>
            <p:ph type="sldNum" idx="1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6A0C3-E0DC-423F-88F7-9A8AB8AA22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466A9-67AF-47F8-A0B9-D2FEF09D4375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FED12-3518-4622-A1F6-1C1754D813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 type="dt" idx="1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DF938-D5BB-4897-9865-9A300C8AC2EC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 type="ftr" idx="1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PlaceHolder 5"/>
          <p:cNvSpPr>
            <a:spLocks noGrp="1"/>
          </p:cNvSpPr>
          <p:nvPr>
            <p:ph type="sldNum" idx="1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F2E3A-77F6-403B-8EA6-D5139CEFF8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8" name="PlaceHolder 3"/>
          <p:cNvSpPr>
            <a:spLocks noGrp="1"/>
          </p:cNvSpPr>
          <p:nvPr>
            <p:ph type="dt" idx="1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F5377-C3A8-40F5-826A-9E1E356C2464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PlaceHolder 4"/>
          <p:cNvSpPr>
            <a:spLocks noGrp="1"/>
          </p:cNvSpPr>
          <p:nvPr>
            <p:ph type="ftr" idx="1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PlaceHolder 5"/>
          <p:cNvSpPr>
            <a:spLocks noGrp="1"/>
          </p:cNvSpPr>
          <p:nvPr>
            <p:ph type="sldNum" idx="1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D9332-A426-4F32-9E53-2147ECA0DC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9" name="PlaceHolder 3"/>
          <p:cNvSpPr>
            <a:spLocks noGrp="1"/>
          </p:cNvSpPr>
          <p:nvPr>
            <p:ph type="dt" idx="1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C383F-F88E-4361-874F-FBD1D5074352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PlaceHolder 4"/>
          <p:cNvSpPr>
            <a:spLocks noGrp="1"/>
          </p:cNvSpPr>
          <p:nvPr>
            <p:ph type="ftr" idx="1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PlaceHolder 5"/>
          <p:cNvSpPr>
            <a:spLocks noGrp="1"/>
          </p:cNvSpPr>
          <p:nvPr>
            <p:ph type="sldNum" idx="1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E5577-7B02-4495-AAEA-E1E2C5266F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0" name="PlaceHolder 3"/>
          <p:cNvSpPr>
            <a:spLocks noGrp="1"/>
          </p:cNvSpPr>
          <p:nvPr>
            <p:ph type="dt" idx="1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6C7F1-BC53-40D9-9879-58AC77C52677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PlaceHolder 4"/>
          <p:cNvSpPr>
            <a:spLocks noGrp="1"/>
          </p:cNvSpPr>
          <p:nvPr>
            <p:ph type="ftr" idx="1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PlaceHolder 5"/>
          <p:cNvSpPr>
            <a:spLocks noGrp="1"/>
          </p:cNvSpPr>
          <p:nvPr>
            <p:ph type="sldNum" idx="1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77456-C6FE-443B-A1E5-13ECB3F8E2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1" name="PlaceHolder 3"/>
          <p:cNvSpPr>
            <a:spLocks noGrp="1"/>
          </p:cNvSpPr>
          <p:nvPr>
            <p:ph type="dt" idx="1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B0396-5EDD-4208-8D9E-C0055426CB1B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PlaceHolder 4"/>
          <p:cNvSpPr>
            <a:spLocks noGrp="1"/>
          </p:cNvSpPr>
          <p:nvPr>
            <p:ph type="ftr" idx="1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PlaceHolder 5"/>
          <p:cNvSpPr>
            <a:spLocks noGrp="1"/>
          </p:cNvSpPr>
          <p:nvPr>
            <p:ph type="sldNum" idx="1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1F655-C6AE-407E-B3B7-9CD0940E77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2" name="PlaceHolder 3"/>
          <p:cNvSpPr>
            <a:spLocks noGrp="1"/>
          </p:cNvSpPr>
          <p:nvPr>
            <p:ph type="dt" idx="1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C3FF7-E417-43B7-850E-D4B8DCCCF616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PlaceHolder 4"/>
          <p:cNvSpPr>
            <a:spLocks noGrp="1"/>
          </p:cNvSpPr>
          <p:nvPr>
            <p:ph type="ftr" idx="1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PlaceHolder 5"/>
          <p:cNvSpPr>
            <a:spLocks noGrp="1"/>
          </p:cNvSpPr>
          <p:nvPr>
            <p:ph type="sldNum" idx="1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5D70D-E416-41CB-95A6-B503D07664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3"/>
    <p:sldLayoutId id="2147484222" r:id="rId4"/>
    <p:sldLayoutId id="2147484223" r:id="rId5"/>
    <p:sldLayoutId id="2147484224" r:id="rId6"/>
    <p:sldLayoutId id="2147484225" r:id="rId7"/>
    <p:sldLayoutId id="2147484226" r:id="rId8"/>
    <p:sldLayoutId id="2147484227" r:id="rId9"/>
    <p:sldLayoutId id="2147484228" r:id="rId10"/>
    <p:sldLayoutId id="2147484229" r:id="rId11"/>
    <p:sldLayoutId id="2147484230" r:id="rId12"/>
    <p:sldLayoutId id="2147484231" r:id="rId13"/>
    <p:sldLayoutId id="2147484232" r:id="rId14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3" name="PlaceHolder 3"/>
          <p:cNvSpPr>
            <a:spLocks noGrp="1"/>
          </p:cNvSpPr>
          <p:nvPr>
            <p:ph type="dt" idx="1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1300B-A00D-4B58-B39F-C9A7EA4EB1EB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PlaceHolder 4"/>
          <p:cNvSpPr>
            <a:spLocks noGrp="1"/>
          </p:cNvSpPr>
          <p:nvPr>
            <p:ph type="ftr" idx="1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PlaceHolder 5"/>
          <p:cNvSpPr>
            <a:spLocks noGrp="1"/>
          </p:cNvSpPr>
          <p:nvPr>
            <p:ph type="sldNum" idx="1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A0163-B089-4043-8C9C-D1692F5174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3"/>
    <p:sldLayoutId id="2147484235" r:id="rId4"/>
    <p:sldLayoutId id="2147484236" r:id="rId5"/>
    <p:sldLayoutId id="2147484237" r:id="rId6"/>
    <p:sldLayoutId id="2147484238" r:id="rId7"/>
    <p:sldLayoutId id="2147484239" r:id="rId8"/>
    <p:sldLayoutId id="2147484240" r:id="rId9"/>
    <p:sldLayoutId id="2147484241" r:id="rId10"/>
    <p:sldLayoutId id="2147484242" r:id="rId11"/>
    <p:sldLayoutId id="2147484243" r:id="rId12"/>
    <p:sldLayoutId id="2147484244" r:id="rId13"/>
    <p:sldLayoutId id="2147484245" r:id="rId14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4" name="PlaceHolder 3"/>
          <p:cNvSpPr>
            <a:spLocks noGrp="1"/>
          </p:cNvSpPr>
          <p:nvPr>
            <p:ph type="dt" idx="1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675AC-E87B-4E4A-9C55-D39291AA7FDF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PlaceHolder 4"/>
          <p:cNvSpPr>
            <a:spLocks noGrp="1"/>
          </p:cNvSpPr>
          <p:nvPr>
            <p:ph type="ftr" idx="1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PlaceHolder 5"/>
          <p:cNvSpPr>
            <a:spLocks noGrp="1"/>
          </p:cNvSpPr>
          <p:nvPr>
            <p:ph type="sldNum" idx="1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2D1F6-E8B7-473C-836B-0735F1A004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3"/>
    <p:sldLayoutId id="2147484248" r:id="rId4"/>
    <p:sldLayoutId id="2147484249" r:id="rId5"/>
    <p:sldLayoutId id="2147484250" r:id="rId6"/>
    <p:sldLayoutId id="2147484251" r:id="rId7"/>
    <p:sldLayoutId id="2147484252" r:id="rId8"/>
    <p:sldLayoutId id="2147484253" r:id="rId9"/>
    <p:sldLayoutId id="2147484254" r:id="rId10"/>
    <p:sldLayoutId id="2147484255" r:id="rId11"/>
    <p:sldLayoutId id="2147484256" r:id="rId12"/>
    <p:sldLayoutId id="2147484257" r:id="rId13"/>
    <p:sldLayoutId id="2147484258" r:id="rId14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5" name="PlaceHolder 3"/>
          <p:cNvSpPr>
            <a:spLocks noGrp="1"/>
          </p:cNvSpPr>
          <p:nvPr>
            <p:ph type="dt" idx="1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CA608-1F5C-4E86-B2F6-E2CE9F3BAA61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PlaceHolder 4"/>
          <p:cNvSpPr>
            <a:spLocks noGrp="1"/>
          </p:cNvSpPr>
          <p:nvPr>
            <p:ph type="ftr" idx="14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PlaceHolder 5"/>
          <p:cNvSpPr>
            <a:spLocks noGrp="1"/>
          </p:cNvSpPr>
          <p:nvPr>
            <p:ph type="sldNum" idx="1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B25B7-DDE3-42AA-949D-82C13DC686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3"/>
    <p:sldLayoutId id="2147484261" r:id="rId4"/>
    <p:sldLayoutId id="2147484262" r:id="rId5"/>
    <p:sldLayoutId id="2147484263" r:id="rId6"/>
    <p:sldLayoutId id="2147484264" r:id="rId7"/>
    <p:sldLayoutId id="2147484265" r:id="rId8"/>
    <p:sldLayoutId id="2147484266" r:id="rId9"/>
    <p:sldLayoutId id="2147484267" r:id="rId10"/>
    <p:sldLayoutId id="2147484268" r:id="rId11"/>
    <p:sldLayoutId id="2147484269" r:id="rId12"/>
    <p:sldLayoutId id="2147484270" r:id="rId13"/>
    <p:sldLayoutId id="2147484271" r:id="rId14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6" name="PlaceHolder 3"/>
          <p:cNvSpPr>
            <a:spLocks noGrp="1"/>
          </p:cNvSpPr>
          <p:nvPr>
            <p:ph type="dt" idx="14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8B3D8-F49D-4AA7-8FC7-9A87354A0537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PlaceHolder 4"/>
          <p:cNvSpPr>
            <a:spLocks noGrp="1"/>
          </p:cNvSpPr>
          <p:nvPr>
            <p:ph type="ftr" idx="14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PlaceHolder 5"/>
          <p:cNvSpPr>
            <a:spLocks noGrp="1"/>
          </p:cNvSpPr>
          <p:nvPr>
            <p:ph type="sldNum" idx="14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0EEA7-6708-4B35-9A87-E96B393D54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3"/>
    <p:sldLayoutId id="2147484274" r:id="rId4"/>
    <p:sldLayoutId id="2147484275" r:id="rId5"/>
    <p:sldLayoutId id="2147484276" r:id="rId6"/>
    <p:sldLayoutId id="2147484277" r:id="rId7"/>
    <p:sldLayoutId id="2147484278" r:id="rId8"/>
    <p:sldLayoutId id="2147484279" r:id="rId9"/>
    <p:sldLayoutId id="2147484280" r:id="rId10"/>
    <p:sldLayoutId id="2147484281" r:id="rId11"/>
    <p:sldLayoutId id="2147484282" r:id="rId12"/>
    <p:sldLayoutId id="2147484283" r:id="rId13"/>
    <p:sldLayoutId id="2147484284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2A127-B015-49F0-8E55-C3EDCE4D9B4C}" type="datetime5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2AE7F-DF38-49BD-ABEF-C9554514AF7A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 type="dt" idx="148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07BA8-0530-47AE-B1B0-9843E4EC2087}" type="datetime5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PlaceHolder 4"/>
          <p:cNvSpPr>
            <a:spLocks noGrp="1"/>
          </p:cNvSpPr>
          <p:nvPr>
            <p:ph type="sldNum" idx="149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54756-F11C-4DC0-B77F-B8B9A697E2CE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PlaceHolder 5"/>
          <p:cNvSpPr>
            <a:spLocks noGrp="1"/>
          </p:cNvSpPr>
          <p:nvPr>
            <p:ph type="ftr" idx="150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3"/>
    <p:sldLayoutId id="2147484287" r:id="rId4"/>
    <p:sldLayoutId id="2147484288" r:id="rId5"/>
    <p:sldLayoutId id="2147484289" r:id="rId6"/>
    <p:sldLayoutId id="2147484290" r:id="rId7"/>
    <p:sldLayoutId id="2147484291" r:id="rId8"/>
    <p:sldLayoutId id="2147484292" r:id="rId9"/>
    <p:sldLayoutId id="2147484293" r:id="rId10"/>
    <p:sldLayoutId id="2147484294" r:id="rId11"/>
    <p:sldLayoutId id="2147484295" r:id="rId12"/>
    <p:sldLayoutId id="2147484296" r:id="rId13"/>
    <p:sldLayoutId id="2147484297" r:id="rId14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9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62" name="PlaceHolder 3"/>
          <p:cNvSpPr>
            <a:spLocks noGrp="1"/>
          </p:cNvSpPr>
          <p:nvPr>
            <p:ph type="dt" idx="15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88F55-2A13-419A-B090-80EEF9D43722}" type="datetime5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PlaceHolder 4"/>
          <p:cNvSpPr>
            <a:spLocks noGrp="1"/>
          </p:cNvSpPr>
          <p:nvPr>
            <p:ph type="ftr" idx="15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PlaceHolder 5"/>
          <p:cNvSpPr>
            <a:spLocks noGrp="1"/>
          </p:cNvSpPr>
          <p:nvPr>
            <p:ph type="sldNum" idx="15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FB91B-B773-4441-80D1-885DF432F237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3"/>
    <p:sldLayoutId id="2147484300" r:id="rId4"/>
    <p:sldLayoutId id="2147484301" r:id="rId5"/>
    <p:sldLayoutId id="2147484302" r:id="rId6"/>
    <p:sldLayoutId id="2147484303" r:id="rId7"/>
    <p:sldLayoutId id="2147484304" r:id="rId8"/>
    <p:sldLayoutId id="2147484305" r:id="rId9"/>
    <p:sldLayoutId id="2147484306" r:id="rId10"/>
    <p:sldLayoutId id="2147484307" r:id="rId11"/>
    <p:sldLayoutId id="2147484308" r:id="rId12"/>
    <p:sldLayoutId id="2147484309" r:id="rId13"/>
    <p:sldLayoutId id="2147484310" r:id="rId14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2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3" name="Oval 8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4" name="Oval 9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5" name="Oval 10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08" name="PlaceHolder 3"/>
          <p:cNvSpPr>
            <a:spLocks noGrp="1"/>
          </p:cNvSpPr>
          <p:nvPr>
            <p:ph type="dt" idx="15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14ABC-6F07-45EB-9F68-470B24054A5F}" type="datetime5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PlaceHolder 4"/>
          <p:cNvSpPr>
            <a:spLocks noGrp="1"/>
          </p:cNvSpPr>
          <p:nvPr>
            <p:ph type="ftr" idx="15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PlaceHolder 5"/>
          <p:cNvSpPr>
            <a:spLocks noGrp="1"/>
          </p:cNvSpPr>
          <p:nvPr>
            <p:ph type="sldNum" idx="15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AE892-1387-4C34-A45C-8D20FF7B0BE5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3"/>
    <p:sldLayoutId id="2147484313" r:id="rId4"/>
    <p:sldLayoutId id="2147484314" r:id="rId5"/>
    <p:sldLayoutId id="2147484315" r:id="rId6"/>
    <p:sldLayoutId id="2147484316" r:id="rId7"/>
    <p:sldLayoutId id="2147484317" r:id="rId8"/>
    <p:sldLayoutId id="2147484318" r:id="rId9"/>
    <p:sldLayoutId id="2147484319" r:id="rId10"/>
    <p:sldLayoutId id="2147484320" r:id="rId11"/>
    <p:sldLayoutId id="2147484321" r:id="rId12"/>
    <p:sldLayoutId id="2147484322" r:id="rId13"/>
    <p:sldLayoutId id="2147484323" r:id="rId14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8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51" name="PlaceHolder 3"/>
          <p:cNvSpPr>
            <a:spLocks noGrp="1"/>
          </p:cNvSpPr>
          <p:nvPr>
            <p:ph type="dt" idx="157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464DB-2D7A-45B8-9907-2603AF1CEB62}" type="datetime5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PlaceHolder 4"/>
          <p:cNvSpPr>
            <a:spLocks noGrp="1"/>
          </p:cNvSpPr>
          <p:nvPr>
            <p:ph type="ftr" idx="158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PlaceHolder 5"/>
          <p:cNvSpPr>
            <a:spLocks noGrp="1"/>
          </p:cNvSpPr>
          <p:nvPr>
            <p:ph type="sldNum" idx="159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CE057-0555-40A6-A4B1-11969950B33E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3"/>
    <p:sldLayoutId id="2147484326" r:id="rId4"/>
    <p:sldLayoutId id="2147484327" r:id="rId5"/>
    <p:sldLayoutId id="2147484328" r:id="rId6"/>
    <p:sldLayoutId id="2147484329" r:id="rId7"/>
    <p:sldLayoutId id="2147484330" r:id="rId8"/>
    <p:sldLayoutId id="2147484331" r:id="rId9"/>
    <p:sldLayoutId id="2147484332" r:id="rId10"/>
    <p:sldLayoutId id="2147484333" r:id="rId11"/>
    <p:sldLayoutId id="2147484334" r:id="rId12"/>
    <p:sldLayoutId id="2147484335" r:id="rId13"/>
    <p:sldLayoutId id="2147484336" r:id="rId14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1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3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94" name="PlaceHolder 3"/>
          <p:cNvSpPr>
            <a:spLocks noGrp="1"/>
          </p:cNvSpPr>
          <p:nvPr>
            <p:ph type="dt" idx="160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E1B79-3234-459F-BAA8-D49F572C4418}" type="datetime5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PlaceHolder 4"/>
          <p:cNvSpPr>
            <a:spLocks noGrp="1"/>
          </p:cNvSpPr>
          <p:nvPr>
            <p:ph type="ftr" idx="161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PlaceHolder 5"/>
          <p:cNvSpPr>
            <a:spLocks noGrp="1"/>
          </p:cNvSpPr>
          <p:nvPr>
            <p:ph type="sldNum" idx="162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7310A-10BD-4F32-9737-E290BD457DCA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3"/>
    <p:sldLayoutId id="2147484339" r:id="rId4"/>
    <p:sldLayoutId id="2147484340" r:id="rId5"/>
    <p:sldLayoutId id="2147484341" r:id="rId6"/>
    <p:sldLayoutId id="2147484342" r:id="rId7"/>
    <p:sldLayoutId id="2147484343" r:id="rId8"/>
    <p:sldLayoutId id="2147484344" r:id="rId9"/>
    <p:sldLayoutId id="2147484345" r:id="rId10"/>
    <p:sldLayoutId id="2147484346" r:id="rId11"/>
    <p:sldLayoutId id="2147484347" r:id="rId12"/>
    <p:sldLayoutId id="2147484348" r:id="rId13"/>
    <p:sldLayoutId id="2147484349" r:id="rId14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4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37" name="PlaceHolder 3"/>
          <p:cNvSpPr>
            <a:spLocks noGrp="1"/>
          </p:cNvSpPr>
          <p:nvPr>
            <p:ph type="dt" idx="163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20E1F-9523-4D95-9DDD-A185849A7CE1}" type="datetime5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PlaceHolder 4"/>
          <p:cNvSpPr>
            <a:spLocks noGrp="1"/>
          </p:cNvSpPr>
          <p:nvPr>
            <p:ph type="ftr" idx="164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PlaceHolder 5"/>
          <p:cNvSpPr>
            <a:spLocks noGrp="1"/>
          </p:cNvSpPr>
          <p:nvPr>
            <p:ph type="sldNum" idx="165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3172E-8697-4325-80C2-2FB321F3AC82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3"/>
    <p:sldLayoutId id="2147484352" r:id="rId4"/>
    <p:sldLayoutId id="2147484353" r:id="rId5"/>
    <p:sldLayoutId id="2147484354" r:id="rId6"/>
    <p:sldLayoutId id="2147484355" r:id="rId7"/>
    <p:sldLayoutId id="2147484356" r:id="rId8"/>
    <p:sldLayoutId id="2147484357" r:id="rId9"/>
    <p:sldLayoutId id="2147484358" r:id="rId10"/>
    <p:sldLayoutId id="2147484359" r:id="rId11"/>
    <p:sldLayoutId id="2147484360" r:id="rId12"/>
    <p:sldLayoutId id="2147484361" r:id="rId13"/>
    <p:sldLayoutId id="2147484362" r:id="rId14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7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4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80" name="PlaceHolder 3"/>
          <p:cNvSpPr>
            <a:spLocks noGrp="1"/>
          </p:cNvSpPr>
          <p:nvPr>
            <p:ph type="dt" idx="166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114B0-0968-4D9D-BE4F-C2D030D3381E}" type="datetime5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PlaceHolder 4"/>
          <p:cNvSpPr>
            <a:spLocks noGrp="1"/>
          </p:cNvSpPr>
          <p:nvPr>
            <p:ph type="ftr" idx="167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PlaceHolder 5"/>
          <p:cNvSpPr>
            <a:spLocks noGrp="1"/>
          </p:cNvSpPr>
          <p:nvPr>
            <p:ph type="sldNum" idx="168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6F605-6585-4C67-BF5A-2AF7CC674C69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3"/>
    <p:sldLayoutId id="2147484365" r:id="rId4"/>
    <p:sldLayoutId id="2147484366" r:id="rId5"/>
    <p:sldLayoutId id="2147484367" r:id="rId6"/>
    <p:sldLayoutId id="2147484368" r:id="rId7"/>
    <p:sldLayoutId id="2147484369" r:id="rId8"/>
    <p:sldLayoutId id="2147484370" r:id="rId9"/>
    <p:sldLayoutId id="2147484371" r:id="rId10"/>
    <p:sldLayoutId id="2147484372" r:id="rId11"/>
    <p:sldLayoutId id="2147484373" r:id="rId12"/>
    <p:sldLayoutId id="2147484374" r:id="rId13"/>
    <p:sldLayoutId id="2147484375" r:id="rId14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0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23" name="PlaceHolder 3"/>
          <p:cNvSpPr>
            <a:spLocks noGrp="1"/>
          </p:cNvSpPr>
          <p:nvPr>
            <p:ph type="dt" idx="169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8D401-8BF7-424D-AD0D-53C9C26A9991}" type="datetime5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PlaceHolder 4"/>
          <p:cNvSpPr>
            <a:spLocks noGrp="1"/>
          </p:cNvSpPr>
          <p:nvPr>
            <p:ph type="ftr" idx="170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PlaceHolder 5"/>
          <p:cNvSpPr>
            <a:spLocks noGrp="1"/>
          </p:cNvSpPr>
          <p:nvPr>
            <p:ph type="sldNum" idx="171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38576-EC22-4410-89ED-793E9C6A2D8D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3"/>
    <p:sldLayoutId id="2147484378" r:id="rId4"/>
    <p:sldLayoutId id="2147484379" r:id="rId5"/>
    <p:sldLayoutId id="2147484380" r:id="rId6"/>
    <p:sldLayoutId id="2147484381" r:id="rId7"/>
    <p:sldLayoutId id="2147484382" r:id="rId8"/>
    <p:sldLayoutId id="2147484383" r:id="rId9"/>
    <p:sldLayoutId id="2147484384" r:id="rId10"/>
    <p:sldLayoutId id="2147484385" r:id="rId11"/>
    <p:sldLayoutId id="2147484386" r:id="rId12"/>
    <p:sldLayoutId id="2147484387" r:id="rId13"/>
    <p:sldLayoutId id="2147484388" r:id="rId14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3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66" name="PlaceHolder 3"/>
          <p:cNvSpPr>
            <a:spLocks noGrp="1"/>
          </p:cNvSpPr>
          <p:nvPr>
            <p:ph type="dt" idx="172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2C9BD-66E2-4513-9D71-86997C11618C}" type="datetime5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PlaceHolder 4"/>
          <p:cNvSpPr>
            <a:spLocks noGrp="1"/>
          </p:cNvSpPr>
          <p:nvPr>
            <p:ph type="ftr" idx="173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PlaceHolder 5"/>
          <p:cNvSpPr>
            <a:spLocks noGrp="1"/>
          </p:cNvSpPr>
          <p:nvPr>
            <p:ph type="sldNum" idx="174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71F32-174E-4070-BB1C-3E31EE9B28B6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3"/>
    <p:sldLayoutId id="2147484391" r:id="rId4"/>
    <p:sldLayoutId id="2147484392" r:id="rId5"/>
    <p:sldLayoutId id="2147484393" r:id="rId6"/>
    <p:sldLayoutId id="2147484394" r:id="rId7"/>
    <p:sldLayoutId id="2147484395" r:id="rId8"/>
    <p:sldLayoutId id="2147484396" r:id="rId9"/>
    <p:sldLayoutId id="2147484397" r:id="rId10"/>
    <p:sldLayoutId id="2147484398" r:id="rId11"/>
    <p:sldLayoutId id="2147484399" r:id="rId12"/>
    <p:sldLayoutId id="2147484400" r:id="rId13"/>
    <p:sldLayoutId id="2147484401" r:id="rId14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6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09" name="PlaceHolder 3"/>
          <p:cNvSpPr>
            <a:spLocks noGrp="1"/>
          </p:cNvSpPr>
          <p:nvPr>
            <p:ph type="dt" idx="175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507B2-D374-4039-B686-0CD9322AB301}" type="datetime5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PlaceHolder 4"/>
          <p:cNvSpPr>
            <a:spLocks noGrp="1"/>
          </p:cNvSpPr>
          <p:nvPr>
            <p:ph type="ftr" idx="176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PlaceHolder 5"/>
          <p:cNvSpPr>
            <a:spLocks noGrp="1"/>
          </p:cNvSpPr>
          <p:nvPr>
            <p:ph type="sldNum" idx="177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5F76C-F6B2-4197-9545-FA651AEE29FB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3"/>
    <p:sldLayoutId id="2147484404" r:id="rId4"/>
    <p:sldLayoutId id="2147484405" r:id="rId5"/>
    <p:sldLayoutId id="2147484406" r:id="rId6"/>
    <p:sldLayoutId id="2147484407" r:id="rId7"/>
    <p:sldLayoutId id="2147484408" r:id="rId8"/>
    <p:sldLayoutId id="2147484409" r:id="rId9"/>
    <p:sldLayoutId id="2147484410" r:id="rId10"/>
    <p:sldLayoutId id="2147484411" r:id="rId11"/>
    <p:sldLayoutId id="2147484412" r:id="rId12"/>
    <p:sldLayoutId id="2147484413" r:id="rId13"/>
    <p:sldLayoutId id="2147484414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Freeform 6"/>
          <p:cNvSpPr/>
          <p:nvPr/>
        </p:nvSpPr>
        <p:spPr>
          <a:xfrm>
            <a:off x="-6480" y="-4680"/>
            <a:ext cx="9159840" cy="103824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Freeform 7"/>
          <p:cNvGrpSpPr/>
          <p:nvPr/>
        </p:nvGrpSpPr>
        <p:grpSpPr>
          <a:xfrm>
            <a:off x="4383000" y="-6480"/>
            <a:ext cx="4761000" cy="603360"/>
            <a:chOff x="4383000" y="-6480"/>
            <a:chExt cx="4761000" cy="603360"/>
          </a:xfrm>
        </p:grpSpPr>
        <p:pic>
          <p:nvPicPr>
            <p:cNvPr id="226" name="Freeform 7" descr=""/>
            <p:cNvPicPr/>
            <p:nvPr/>
          </p:nvPicPr>
          <p:blipFill>
            <a:blip r:embed="rId3"/>
            <a:stretch/>
          </p:blipFill>
          <p:spPr>
            <a:xfrm>
              <a:off x="4384080" y="-6480"/>
              <a:ext cx="475956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4383000" y="-4680"/>
              <a:ext cx="476100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8" name="Group 4"/>
          <p:cNvGrpSpPr/>
          <p:nvPr/>
        </p:nvGrpSpPr>
        <p:grpSpPr>
          <a:xfrm>
            <a:off x="-15840" y="203040"/>
            <a:ext cx="9177480" cy="648000"/>
            <a:chOff x="-15840" y="203040"/>
            <a:chExt cx="9177480" cy="648000"/>
          </a:xfrm>
        </p:grpSpPr>
        <p:grpSp>
          <p:nvGrpSpPr>
            <p:cNvPr id="229" name="Group 5"/>
            <p:cNvGrpSpPr/>
            <p:nvPr/>
          </p:nvGrpSpPr>
          <p:grpSpPr>
            <a:xfrm>
              <a:off x="-15840" y="203040"/>
              <a:ext cx="9153360" cy="648000"/>
              <a:chOff x="-15840" y="203040"/>
              <a:chExt cx="9153360" cy="648000"/>
            </a:xfrm>
          </p:grpSpPr>
          <p:pic>
            <p:nvPicPr>
              <p:cNvPr id="230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7920" y="203040"/>
                <a:ext cx="91296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1" name="Text Box 7"/>
              <p:cNvSpPr/>
              <p:nvPr/>
            </p:nvSpPr>
            <p:spPr>
              <a:xfrm rot="21435600">
                <a:off x="-1548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2" name="Group 8"/>
            <p:cNvGrpSpPr/>
            <p:nvPr/>
          </p:nvGrpSpPr>
          <p:grpSpPr>
            <a:xfrm>
              <a:off x="-15840" y="248040"/>
              <a:ext cx="9177480" cy="561600"/>
              <a:chOff x="-15840" y="248040"/>
              <a:chExt cx="9177480" cy="561600"/>
            </a:xfrm>
          </p:grpSpPr>
          <p:pic>
            <p:nvPicPr>
              <p:cNvPr id="233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248040"/>
                <a:ext cx="91616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4" name="Text Box 10"/>
              <p:cNvSpPr/>
              <p:nvPr/>
            </p:nvSpPr>
            <p:spPr>
              <a:xfrm rot="21435600">
                <a:off x="-1548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0A946-C571-42DC-884B-C7DD72C8E8CB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00DE5-D3CD-4412-8FFD-0D76F7EFFD0D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8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9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6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52" name="PlaceHolder 3"/>
          <p:cNvSpPr>
            <a:spLocks noGrp="1"/>
          </p:cNvSpPr>
          <p:nvPr>
            <p:ph type="dt" idx="178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C1C53-542B-4EB8-9191-E86E3B057B5E}" type="datetime5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3" name="PlaceHolder 4"/>
          <p:cNvSpPr>
            <a:spLocks noGrp="1"/>
          </p:cNvSpPr>
          <p:nvPr>
            <p:ph type="ftr" idx="179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PlaceHolder 5"/>
          <p:cNvSpPr>
            <a:spLocks noGrp="1"/>
          </p:cNvSpPr>
          <p:nvPr>
            <p:ph type="sldNum" idx="180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69C4B-0D08-4D7C-AB73-DD5806639FD7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3"/>
    <p:sldLayoutId id="2147484417" r:id="rId4"/>
    <p:sldLayoutId id="2147484418" r:id="rId5"/>
    <p:sldLayoutId id="2147484419" r:id="rId6"/>
    <p:sldLayoutId id="2147484420" r:id="rId7"/>
    <p:sldLayoutId id="2147484421" r:id="rId8"/>
    <p:sldLayoutId id="2147484422" r:id="rId9"/>
    <p:sldLayoutId id="2147484423" r:id="rId10"/>
    <p:sldLayoutId id="2147484424" r:id="rId11"/>
    <p:sldLayoutId id="2147484425" r:id="rId12"/>
    <p:sldLayoutId id="2147484426" r:id="rId13"/>
    <p:sldLayoutId id="2147484427" r:id="rId14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2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6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95" name="PlaceHolder 3"/>
          <p:cNvSpPr>
            <a:spLocks noGrp="1"/>
          </p:cNvSpPr>
          <p:nvPr>
            <p:ph type="dt" idx="18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10FEB-A01F-4CDA-9A4E-466982E88115}" type="datetime5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6" name="PlaceHolder 4"/>
          <p:cNvSpPr>
            <a:spLocks noGrp="1"/>
          </p:cNvSpPr>
          <p:nvPr>
            <p:ph type="ftr" idx="18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7" name="PlaceHolder 5"/>
          <p:cNvSpPr>
            <a:spLocks noGrp="1"/>
          </p:cNvSpPr>
          <p:nvPr>
            <p:ph type="sldNum" idx="18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A4E96-1CD4-4B9C-A0EA-8B7611D1D683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3"/>
    <p:sldLayoutId id="2147484430" r:id="rId4"/>
    <p:sldLayoutId id="2147484431" r:id="rId5"/>
    <p:sldLayoutId id="2147484432" r:id="rId6"/>
    <p:sldLayoutId id="2147484433" r:id="rId7"/>
    <p:sldLayoutId id="2147484434" r:id="rId8"/>
    <p:sldLayoutId id="2147484435" r:id="rId9"/>
    <p:sldLayoutId id="2147484436" r:id="rId10"/>
    <p:sldLayoutId id="2147484437" r:id="rId11"/>
    <p:sldLayoutId id="2147484438" r:id="rId12"/>
    <p:sldLayoutId id="2147484439" r:id="rId13"/>
    <p:sldLayoutId id="2147484440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reeform 6"/>
          <p:cNvSpPr/>
          <p:nvPr/>
        </p:nvSpPr>
        <p:spPr>
          <a:xfrm>
            <a:off x="-6480" y="-4680"/>
            <a:ext cx="9159840" cy="103824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7" name="Freeform 7"/>
          <p:cNvGrpSpPr/>
          <p:nvPr/>
        </p:nvGrpSpPr>
        <p:grpSpPr>
          <a:xfrm>
            <a:off x="4383000" y="-6480"/>
            <a:ext cx="4761000" cy="603360"/>
            <a:chOff x="4383000" y="-6480"/>
            <a:chExt cx="4761000" cy="603360"/>
          </a:xfrm>
        </p:grpSpPr>
        <p:pic>
          <p:nvPicPr>
            <p:cNvPr id="278" name="Freeform 7" descr=""/>
            <p:cNvPicPr/>
            <p:nvPr/>
          </p:nvPicPr>
          <p:blipFill>
            <a:blip r:embed="rId3"/>
            <a:stretch/>
          </p:blipFill>
          <p:spPr>
            <a:xfrm>
              <a:off x="4384080" y="-6480"/>
              <a:ext cx="475956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4383000" y="-4680"/>
              <a:ext cx="476100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0" name="Group 4"/>
          <p:cNvGrpSpPr/>
          <p:nvPr/>
        </p:nvGrpSpPr>
        <p:grpSpPr>
          <a:xfrm>
            <a:off x="-15840" y="203040"/>
            <a:ext cx="9177480" cy="648000"/>
            <a:chOff x="-15840" y="203040"/>
            <a:chExt cx="9177480" cy="648000"/>
          </a:xfrm>
        </p:grpSpPr>
        <p:grpSp>
          <p:nvGrpSpPr>
            <p:cNvPr id="281" name="Group 5"/>
            <p:cNvGrpSpPr/>
            <p:nvPr/>
          </p:nvGrpSpPr>
          <p:grpSpPr>
            <a:xfrm>
              <a:off x="-15840" y="203040"/>
              <a:ext cx="9153360" cy="648000"/>
              <a:chOff x="-15840" y="203040"/>
              <a:chExt cx="9153360" cy="648000"/>
            </a:xfrm>
          </p:grpSpPr>
          <p:pic>
            <p:nvPicPr>
              <p:cNvPr id="282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7920" y="203040"/>
                <a:ext cx="91296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3" name="Text Box 7"/>
              <p:cNvSpPr/>
              <p:nvPr/>
            </p:nvSpPr>
            <p:spPr>
              <a:xfrm rot="21435600">
                <a:off x="-1548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4" name="Group 8"/>
            <p:cNvGrpSpPr/>
            <p:nvPr/>
          </p:nvGrpSpPr>
          <p:grpSpPr>
            <a:xfrm>
              <a:off x="-15840" y="248040"/>
              <a:ext cx="9177480" cy="561600"/>
              <a:chOff x="-15840" y="248040"/>
              <a:chExt cx="9177480" cy="561600"/>
            </a:xfrm>
          </p:grpSpPr>
          <p:pic>
            <p:nvPicPr>
              <p:cNvPr id="285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248040"/>
                <a:ext cx="91616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6" name="Text Box 10"/>
              <p:cNvSpPr/>
              <p:nvPr/>
            </p:nvSpPr>
            <p:spPr>
              <a:xfrm rot="21435600">
                <a:off x="-1548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A50BF-A854-438C-8CC4-0F839AB769E5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61FAD-1181-4921-9E81-9BDCCC82FF25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reeform 6"/>
          <p:cNvSpPr/>
          <p:nvPr/>
        </p:nvSpPr>
        <p:spPr>
          <a:xfrm>
            <a:off x="-6480" y="-4680"/>
            <a:ext cx="9159840" cy="103824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9" name="Freeform 7"/>
          <p:cNvGrpSpPr/>
          <p:nvPr/>
        </p:nvGrpSpPr>
        <p:grpSpPr>
          <a:xfrm>
            <a:off x="4383000" y="-6480"/>
            <a:ext cx="4761000" cy="603360"/>
            <a:chOff x="4383000" y="-6480"/>
            <a:chExt cx="4761000" cy="603360"/>
          </a:xfrm>
        </p:grpSpPr>
        <p:pic>
          <p:nvPicPr>
            <p:cNvPr id="330" name="Freeform 7" descr=""/>
            <p:cNvPicPr/>
            <p:nvPr/>
          </p:nvPicPr>
          <p:blipFill>
            <a:blip r:embed="rId3"/>
            <a:stretch/>
          </p:blipFill>
          <p:spPr>
            <a:xfrm>
              <a:off x="4384080" y="-6480"/>
              <a:ext cx="475956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4383000" y="-4680"/>
              <a:ext cx="476100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2" name="Group 4"/>
          <p:cNvGrpSpPr/>
          <p:nvPr/>
        </p:nvGrpSpPr>
        <p:grpSpPr>
          <a:xfrm>
            <a:off x="-15840" y="203040"/>
            <a:ext cx="9177480" cy="648000"/>
            <a:chOff x="-15840" y="203040"/>
            <a:chExt cx="9177480" cy="648000"/>
          </a:xfrm>
        </p:grpSpPr>
        <p:grpSp>
          <p:nvGrpSpPr>
            <p:cNvPr id="333" name="Group 5"/>
            <p:cNvGrpSpPr/>
            <p:nvPr/>
          </p:nvGrpSpPr>
          <p:grpSpPr>
            <a:xfrm>
              <a:off x="-15840" y="203040"/>
              <a:ext cx="9153360" cy="648000"/>
              <a:chOff x="-15840" y="203040"/>
              <a:chExt cx="9153360" cy="648000"/>
            </a:xfrm>
          </p:grpSpPr>
          <p:pic>
            <p:nvPicPr>
              <p:cNvPr id="334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7920" y="203040"/>
                <a:ext cx="91296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5" name="Text Box 7"/>
              <p:cNvSpPr/>
              <p:nvPr/>
            </p:nvSpPr>
            <p:spPr>
              <a:xfrm rot="21435600">
                <a:off x="-1548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8"/>
            <p:cNvGrpSpPr/>
            <p:nvPr/>
          </p:nvGrpSpPr>
          <p:grpSpPr>
            <a:xfrm>
              <a:off x="-15840" y="248040"/>
              <a:ext cx="9177480" cy="561600"/>
              <a:chOff x="-15840" y="248040"/>
              <a:chExt cx="9177480" cy="561600"/>
            </a:xfrm>
          </p:grpSpPr>
          <p:pic>
            <p:nvPicPr>
              <p:cNvPr id="337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248040"/>
                <a:ext cx="91616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8" name="Text Box 10"/>
              <p:cNvSpPr/>
              <p:nvPr/>
            </p:nvSpPr>
            <p:spPr>
              <a:xfrm rot="21435600">
                <a:off x="-1548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3CCFD-CA17-47FA-8BE1-7E398EC1CF81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47812-B5E5-451C-A750-6F3E3C425821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Freeform 6"/>
          <p:cNvSpPr/>
          <p:nvPr/>
        </p:nvSpPr>
        <p:spPr>
          <a:xfrm>
            <a:off x="-6480" y="-4680"/>
            <a:ext cx="9159840" cy="103824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1" name="Freeform 7"/>
          <p:cNvGrpSpPr/>
          <p:nvPr/>
        </p:nvGrpSpPr>
        <p:grpSpPr>
          <a:xfrm>
            <a:off x="4383000" y="-6480"/>
            <a:ext cx="4761000" cy="603360"/>
            <a:chOff x="4383000" y="-6480"/>
            <a:chExt cx="4761000" cy="603360"/>
          </a:xfrm>
        </p:grpSpPr>
        <p:pic>
          <p:nvPicPr>
            <p:cNvPr id="382" name="Freeform 7" descr=""/>
            <p:cNvPicPr/>
            <p:nvPr/>
          </p:nvPicPr>
          <p:blipFill>
            <a:blip r:embed="rId3"/>
            <a:stretch/>
          </p:blipFill>
          <p:spPr>
            <a:xfrm>
              <a:off x="4384080" y="-6480"/>
              <a:ext cx="475956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"/>
            <p:cNvSpPr/>
            <p:nvPr/>
          </p:nvSpPr>
          <p:spPr>
            <a:xfrm>
              <a:off x="4383000" y="-4680"/>
              <a:ext cx="476100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4" name="Group 4"/>
          <p:cNvGrpSpPr/>
          <p:nvPr/>
        </p:nvGrpSpPr>
        <p:grpSpPr>
          <a:xfrm>
            <a:off x="-15840" y="203040"/>
            <a:ext cx="9177480" cy="648000"/>
            <a:chOff x="-15840" y="203040"/>
            <a:chExt cx="9177480" cy="648000"/>
          </a:xfrm>
        </p:grpSpPr>
        <p:grpSp>
          <p:nvGrpSpPr>
            <p:cNvPr id="385" name="Group 5"/>
            <p:cNvGrpSpPr/>
            <p:nvPr/>
          </p:nvGrpSpPr>
          <p:grpSpPr>
            <a:xfrm>
              <a:off x="-15840" y="203040"/>
              <a:ext cx="9153360" cy="648000"/>
              <a:chOff x="-15840" y="203040"/>
              <a:chExt cx="9153360" cy="648000"/>
            </a:xfrm>
          </p:grpSpPr>
          <p:pic>
            <p:nvPicPr>
              <p:cNvPr id="38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7920" y="203040"/>
                <a:ext cx="91296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7" name="Text Box 7"/>
              <p:cNvSpPr/>
              <p:nvPr/>
            </p:nvSpPr>
            <p:spPr>
              <a:xfrm rot="21435600">
                <a:off x="-1548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8" name="Group 8"/>
            <p:cNvGrpSpPr/>
            <p:nvPr/>
          </p:nvGrpSpPr>
          <p:grpSpPr>
            <a:xfrm>
              <a:off x="-15840" y="248040"/>
              <a:ext cx="9177480" cy="561600"/>
              <a:chOff x="-15840" y="248040"/>
              <a:chExt cx="9177480" cy="561600"/>
            </a:xfrm>
          </p:grpSpPr>
          <p:pic>
            <p:nvPicPr>
              <p:cNvPr id="38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248040"/>
                <a:ext cx="91616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Text Box 10"/>
              <p:cNvSpPr/>
              <p:nvPr/>
            </p:nvSpPr>
            <p:spPr>
              <a:xfrm rot="21435600">
                <a:off x="-1548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3688F-4368-4FFD-8C1C-D7721B0D21BF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CB331-EA77-4F44-9250-2E6733DA1C78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5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25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529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5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5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52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4.wmf"/><Relationship Id="rId6" Type="http://schemas.openxmlformats.org/officeDocument/2006/relationships/slideLayout" Target="../slideLayouts/slideLayout52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35.jpe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52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9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52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slideLayout" Target="../slideLayouts/slideLayout3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image" Target="../media/image49.png"/><Relationship Id="rId8" Type="http://schemas.openxmlformats.org/officeDocument/2006/relationships/image" Target="../media/image50.png"/><Relationship Id="rId9" Type="http://schemas.openxmlformats.org/officeDocument/2006/relationships/slideLayout" Target="../slideLayouts/slideLayout529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2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54.wmf"/><Relationship Id="rId8" Type="http://schemas.openxmlformats.org/officeDocument/2006/relationships/slideLayout" Target="../slideLayouts/slideLayout3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5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9.wmf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5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1.wmf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5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89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5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5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image" Target="../media/image10.pn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5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image" Target="../media/image10.pn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5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5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5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1" name="Picture 4" descr="logo.gif"/>
          <p:cNvPicPr/>
          <p:nvPr/>
        </p:nvPicPr>
        <p:blipFill>
          <a:blip r:embed="rId1"/>
          <a:stretch/>
        </p:blipFill>
        <p:spPr>
          <a:xfrm>
            <a:off x="6629400" y="228600"/>
            <a:ext cx="2413080" cy="695160"/>
          </a:xfrm>
          <a:prstGeom prst="rect">
            <a:avLst/>
          </a:prstGeom>
          <a:ln w="0">
            <a:noFill/>
          </a:ln>
        </p:spPr>
      </p:pic>
      <p:sp>
        <p:nvSpPr>
          <p:cNvPr id="2742" name="Straight Connector 5"/>
          <p:cNvSpPr/>
          <p:nvPr/>
        </p:nvSpPr>
        <p:spPr>
          <a:xfrm>
            <a:off x="1752480" y="1066680"/>
            <a:ext cx="5334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3" name="Picture 6" descr="ksulogo3.png"/>
          <p:cNvPicPr/>
          <p:nvPr/>
        </p:nvPicPr>
        <p:blipFill>
          <a:blip r:embed="rId2"/>
          <a:stretch/>
        </p:blipFill>
        <p:spPr>
          <a:xfrm>
            <a:off x="304920" y="295200"/>
            <a:ext cx="1752480" cy="655560"/>
          </a:xfrm>
          <a:prstGeom prst="rect">
            <a:avLst/>
          </a:prstGeom>
          <a:ln w="0">
            <a:noFill/>
          </a:ln>
        </p:spPr>
      </p:pic>
      <p:sp>
        <p:nvSpPr>
          <p:cNvPr id="2744" name="Rectangle 7"/>
          <p:cNvSpPr/>
          <p:nvPr/>
        </p:nvSpPr>
        <p:spPr>
          <a:xfrm>
            <a:off x="3593160" y="4952880"/>
            <a:ext cx="141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ambria Math"/>
              </a:rPr>
              <a:t>1435-143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ambria Math"/>
              </a:rPr>
              <a:t>2014-20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5" name="Picture 8" descr="Acetic-acid-3D-balls-B.png"/>
          <p:cNvPicPr/>
          <p:nvPr/>
        </p:nvPicPr>
        <p:blipFill>
          <a:blip r:embed="rId3"/>
          <a:stretch/>
        </p:blipFill>
        <p:spPr>
          <a:xfrm>
            <a:off x="2514600" y="2362320"/>
            <a:ext cx="3581280" cy="2662200"/>
          </a:xfrm>
          <a:prstGeom prst="rect">
            <a:avLst/>
          </a:prstGeom>
          <a:ln w="0">
            <a:noFill/>
          </a:ln>
        </p:spPr>
      </p:pic>
      <p:sp>
        <p:nvSpPr>
          <p:cNvPr id="2746" name="Rectangle 2"/>
          <p:cNvSpPr/>
          <p:nvPr/>
        </p:nvSpPr>
        <p:spPr>
          <a:xfrm>
            <a:off x="1066680" y="1752480"/>
            <a:ext cx="6629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 Black"/>
              </a:rPr>
              <a:t>Carboxylic Acids And Their Deriva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BEE64-12FC-47ED-BCCF-42118B0C759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4" name="Rectangle 2"/>
          <p:cNvSpPr/>
          <p:nvPr/>
        </p:nvSpPr>
        <p:spPr>
          <a:xfrm>
            <a:off x="1066680" y="304920"/>
            <a:ext cx="6629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Black"/>
              </a:rPr>
              <a:t>Carboxylic Acids And Their Deriva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5" name="Picture 4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836" name="Picture 5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837" name="Straight Connector 6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8" name="Rectangle 2"/>
          <p:cNvSpPr/>
          <p:nvPr/>
        </p:nvSpPr>
        <p:spPr>
          <a:xfrm>
            <a:off x="-17640" y="1295280"/>
            <a:ext cx="8931600" cy="45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2)</a:t>
            </a:r>
            <a:r>
              <a:rPr b="0" lang="en-US" sz="24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Solu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rboxylic acids are 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polar,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y can form hydrogen bonds with water molecu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first four aliphatic acids are completely miscible in water. Higher members are less solu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omatic acids are insoluble in wa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39" name="Object 11"/>
          <p:cNvGraphicFramePr/>
          <p:nvPr/>
        </p:nvGraphicFramePr>
        <p:xfrm>
          <a:off x="2286000" y="2286000"/>
          <a:ext cx="2925720" cy="229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0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2286000"/>
                    <a:ext cx="2925720" cy="22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A44D5-8EE7-4C9E-BDE2-965DCCE1311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"/>
          <p:cNvSpPr txBox="1"/>
          <p:nvPr/>
        </p:nvSpPr>
        <p:spPr>
          <a:xfrm>
            <a:off x="0" y="990360"/>
            <a:ext cx="9144000" cy="32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c0504d"/>
                </a:solidFill>
                <a:uFillTx/>
                <a:latin typeface="Times New Roman"/>
                <a:ea typeface="Times New Roman"/>
              </a:rPr>
              <a:t>3) Acid Streng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arboxylic acids are stronger acid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ed to alcohols and phen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lectron  withdrawing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ents 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ne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carboxyl group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crease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cid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as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lectron  donatin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ents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crea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cidity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3" name="Rectangle 8"/>
          <p:cNvSpPr/>
          <p:nvPr/>
        </p:nvSpPr>
        <p:spPr>
          <a:xfrm>
            <a:off x="125280" y="4229280"/>
            <a:ext cx="8839440" cy="21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66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HCOOH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&gt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CH</a:t>
            </a:r>
            <a:r>
              <a:rPr b="1" lang="en-US" sz="1800" spc="-1" strike="noStrike" baseline="-25000">
                <a:solidFill>
                  <a:srgbClr val="00664d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COOH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&gt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CH</a:t>
            </a:r>
            <a:r>
              <a:rPr b="1" lang="en-US" sz="1800" spc="-1" strike="noStrike" baseline="-25000">
                <a:solidFill>
                  <a:srgbClr val="00664d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CH</a:t>
            </a:r>
            <a:r>
              <a:rPr b="1" lang="en-US" sz="1800" spc="-1" strike="noStrike" baseline="-25000">
                <a:solidFill>
                  <a:srgbClr val="00664d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COOH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&gt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CH</a:t>
            </a:r>
            <a:r>
              <a:rPr b="1" lang="en-US" sz="1800" spc="-1" strike="noStrike" baseline="-25000">
                <a:solidFill>
                  <a:srgbClr val="00664d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CH</a:t>
            </a:r>
            <a:r>
              <a:rPr b="1" lang="en-US" sz="1800" spc="-1" strike="noStrike" baseline="-25000">
                <a:solidFill>
                  <a:srgbClr val="00664d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CH</a:t>
            </a:r>
            <a:r>
              <a:rPr b="1" lang="en-US" sz="1800" spc="-1" strike="noStrike" baseline="-25000">
                <a:solidFill>
                  <a:srgbClr val="00664d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CH</a:t>
            </a:r>
            <a:r>
              <a:rPr b="1" lang="en-US" sz="1800" spc="-1" strike="noStrike" baseline="-25000">
                <a:solidFill>
                  <a:srgbClr val="00664d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COOH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( size of R grou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66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Cl</a:t>
            </a:r>
            <a:r>
              <a:rPr b="1" lang="en-US" sz="1800" spc="-1" strike="noStrike" baseline="-25000">
                <a:solidFill>
                  <a:srgbClr val="00664d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CCOOH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Cl</a:t>
            </a:r>
            <a:r>
              <a:rPr b="1" lang="en-US" sz="1800" spc="-1" strike="noStrike" baseline="-25000">
                <a:solidFill>
                  <a:srgbClr val="00664d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CHCOOH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&gt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ClCH</a:t>
            </a:r>
            <a:r>
              <a:rPr b="1" lang="en-US" sz="1800" spc="-1" strike="noStrike" baseline="-25000">
                <a:solidFill>
                  <a:srgbClr val="00664d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COOH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&gt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CH</a:t>
            </a:r>
            <a:r>
              <a:rPr b="1" lang="en-US" sz="1800" spc="-1" strike="noStrike" baseline="-25000">
                <a:solidFill>
                  <a:srgbClr val="00664d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COOH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( number of e.w.g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44" name="Object 7"/>
          <p:cNvGraphicFramePr/>
          <p:nvPr/>
        </p:nvGraphicFramePr>
        <p:xfrm>
          <a:off x="284040" y="5181480"/>
          <a:ext cx="815364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040" y="5181480"/>
                    <a:ext cx="815364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46" name="Picture 11" descr="C:\Users\hp\Pictures\صورة5.png"/>
          <p:cNvPicPr/>
          <p:nvPr/>
        </p:nvPicPr>
        <p:blipFill>
          <a:blip r:embed="rId3"/>
          <a:srcRect l="0" t="0" r="0" b="12958"/>
          <a:stretch/>
        </p:blipFill>
        <p:spPr>
          <a:xfrm>
            <a:off x="2057400" y="2608200"/>
            <a:ext cx="3790800" cy="1506600"/>
          </a:xfrm>
          <a:prstGeom prst="rect">
            <a:avLst/>
          </a:prstGeom>
          <a:ln w="0">
            <a:noFill/>
          </a:ln>
        </p:spPr>
      </p:pic>
      <p:sp>
        <p:nvSpPr>
          <p:cNvPr id="2847" name="Rectangle 2"/>
          <p:cNvSpPr/>
          <p:nvPr/>
        </p:nvSpPr>
        <p:spPr>
          <a:xfrm>
            <a:off x="1066680" y="304920"/>
            <a:ext cx="6629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Black"/>
              </a:rPr>
              <a:t>Carboxylic Acids And Their Deriva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8" name="Picture 8" descr="ksulogo2.png"/>
          <p:cNvPicPr/>
          <p:nvPr/>
        </p:nvPicPr>
        <p:blipFill>
          <a:blip r:embed="rId4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849" name="Picture 9" descr="images.jpeg"/>
          <p:cNvPicPr/>
          <p:nvPr/>
        </p:nvPicPr>
        <p:blipFill>
          <a:blip r:embed="rId5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850" name="Straight Connector 10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91D4E-3646-45B2-B479-8DDB8E19924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2" name=""/>
          <p:cNvSpPr txBox="1"/>
          <p:nvPr/>
        </p:nvSpPr>
        <p:spPr>
          <a:xfrm>
            <a:off x="0" y="1411200"/>
            <a:ext cx="9144000" cy="30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1- Oxidation Of Primary Alcoho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2- Oxidation Of Alkyl Benze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53" name="Object 12"/>
          <p:cNvGraphicFramePr/>
          <p:nvPr/>
        </p:nvGraphicFramePr>
        <p:xfrm>
          <a:off x="685800" y="4343400"/>
          <a:ext cx="601992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343400"/>
                    <a:ext cx="601992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5" name="Rectangle 13"/>
          <p:cNvSpPr/>
          <p:nvPr/>
        </p:nvSpPr>
        <p:spPr>
          <a:xfrm>
            <a:off x="170280" y="990720"/>
            <a:ext cx="442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Preparation Of Carboxylic ac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56" name="Object 2"/>
          <p:cNvGraphicFramePr/>
          <p:nvPr/>
        </p:nvGraphicFramePr>
        <p:xfrm>
          <a:off x="1219320" y="1981080"/>
          <a:ext cx="3657600" cy="83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57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1981080"/>
                    <a:ext cx="3657600" cy="8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8" name="Object 1"/>
          <p:cNvGraphicFramePr/>
          <p:nvPr/>
        </p:nvGraphicFramePr>
        <p:xfrm>
          <a:off x="1219320" y="2895480"/>
          <a:ext cx="3809880" cy="77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59" name="Object 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2895480"/>
                    <a:ext cx="3809880" cy="7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0" name="Rectangle 2"/>
          <p:cNvSpPr/>
          <p:nvPr/>
        </p:nvSpPr>
        <p:spPr>
          <a:xfrm>
            <a:off x="1066680" y="304920"/>
            <a:ext cx="6629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Black"/>
              </a:rPr>
              <a:t>Carboxylic Acids And Their Deriva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1" name="Picture 7" descr="ksulogo2.png"/>
          <p:cNvPicPr/>
          <p:nvPr/>
        </p:nvPicPr>
        <p:blipFill>
          <a:blip r:embed="rId7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862" name="Picture 8" descr="images.jpeg"/>
          <p:cNvPicPr/>
          <p:nvPr/>
        </p:nvPicPr>
        <p:blipFill>
          <a:blip r:embed="rId8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863" name="Straight Connector 9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F4844-5FA1-40C8-9E2D-8955FE0F2C0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5" name=""/>
          <p:cNvSpPr txBox="1"/>
          <p:nvPr/>
        </p:nvSpPr>
        <p:spPr>
          <a:xfrm>
            <a:off x="213840" y="1046160"/>
            <a:ext cx="847260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3- Carbonation Of Grignard Reag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4- Hydrolysis Of Nitri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66" name="Object 9"/>
          <p:cNvGraphicFramePr/>
          <p:nvPr/>
        </p:nvGraphicFramePr>
        <p:xfrm>
          <a:off x="685800" y="4343400"/>
          <a:ext cx="723888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6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343400"/>
                    <a:ext cx="723888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68" name="Picture 13" descr="C:\Users\hp\Pictures\صورة11.png"/>
          <p:cNvPicPr/>
          <p:nvPr/>
        </p:nvPicPr>
        <p:blipFill>
          <a:blip r:embed="rId3"/>
          <a:stretch/>
        </p:blipFill>
        <p:spPr>
          <a:xfrm>
            <a:off x="838080" y="1676520"/>
            <a:ext cx="7162920" cy="1863720"/>
          </a:xfrm>
          <a:prstGeom prst="rect">
            <a:avLst/>
          </a:prstGeom>
          <a:ln w="0">
            <a:noFill/>
          </a:ln>
        </p:spPr>
      </p:pic>
      <p:sp>
        <p:nvSpPr>
          <p:cNvPr id="2869" name="Rectangle 2"/>
          <p:cNvSpPr/>
          <p:nvPr/>
        </p:nvSpPr>
        <p:spPr>
          <a:xfrm>
            <a:off x="1066680" y="304920"/>
            <a:ext cx="6629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Black"/>
              </a:rPr>
              <a:t>Carboxylic Acids And Their Deriva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0" name="Picture 5" descr="ksulogo2.png"/>
          <p:cNvPicPr/>
          <p:nvPr/>
        </p:nvPicPr>
        <p:blipFill>
          <a:blip r:embed="rId4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871" name="Picture 6" descr="images.jpeg"/>
          <p:cNvPicPr/>
          <p:nvPr/>
        </p:nvPicPr>
        <p:blipFill>
          <a:blip r:embed="rId5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872" name="Straight Connector 7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2EA39-E2E1-4788-851A-62A33157D08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4" name="TextBox 2"/>
          <p:cNvSpPr/>
          <p:nvPr/>
        </p:nvSpPr>
        <p:spPr>
          <a:xfrm>
            <a:off x="4294080" y="4952880"/>
            <a:ext cx="11210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) KO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)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5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4267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Reactions Of Carboxylic Aci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6" name=""/>
          <p:cNvSpPr txBox="1"/>
          <p:nvPr/>
        </p:nvSpPr>
        <p:spPr>
          <a:xfrm>
            <a:off x="0" y="156492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1- Salts Form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77" name="Object 7"/>
          <p:cNvGraphicFramePr/>
          <p:nvPr/>
        </p:nvGraphicFramePr>
        <p:xfrm>
          <a:off x="609480" y="2057400"/>
          <a:ext cx="6705720" cy="259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057400"/>
                    <a:ext cx="6705720" cy="25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9" name="Object 1"/>
          <p:cNvGraphicFramePr/>
          <p:nvPr/>
        </p:nvGraphicFramePr>
        <p:xfrm>
          <a:off x="1905120" y="4648320"/>
          <a:ext cx="4527360" cy="220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80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4648320"/>
                    <a:ext cx="452736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1" name="Rectangle 2"/>
          <p:cNvSpPr/>
          <p:nvPr/>
        </p:nvSpPr>
        <p:spPr>
          <a:xfrm>
            <a:off x="1066680" y="304920"/>
            <a:ext cx="6629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Black"/>
              </a:rPr>
              <a:t>Carboxylic Acids And Their Deriva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2" name="Picture 6" descr="ksulogo2.png"/>
          <p:cNvPicPr/>
          <p:nvPr/>
        </p:nvPicPr>
        <p:blipFill>
          <a:blip r:embed="rId5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883" name="Picture 7" descr="images.jpeg"/>
          <p:cNvPicPr/>
          <p:nvPr/>
        </p:nvPicPr>
        <p:blipFill>
          <a:blip r:embed="rId6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884" name="Straight Connector 8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523E7-E5D5-42D1-A429-7868A8526CB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6" name="Rectangle 4"/>
          <p:cNvSpPr/>
          <p:nvPr/>
        </p:nvSpPr>
        <p:spPr>
          <a:xfrm>
            <a:off x="22680" y="1000080"/>
            <a:ext cx="64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2- Nucleophilic Substitution Of Hydroxyl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7" name="Picture 6" descr="C:\Users\hp\Pictures\صورة16.png"/>
          <p:cNvPicPr/>
          <p:nvPr/>
        </p:nvPicPr>
        <p:blipFill>
          <a:blip r:embed="rId1"/>
          <a:srcRect l="0" t="0" r="0" b="38919"/>
          <a:stretch/>
        </p:blipFill>
        <p:spPr>
          <a:xfrm>
            <a:off x="627120" y="3124080"/>
            <a:ext cx="7616880" cy="3299040"/>
          </a:xfrm>
          <a:prstGeom prst="rect">
            <a:avLst/>
          </a:prstGeom>
          <a:ln w="0">
            <a:noFill/>
          </a:ln>
        </p:spPr>
      </p:pic>
      <p:sp>
        <p:nvSpPr>
          <p:cNvPr id="2888" name="Rectangle 2"/>
          <p:cNvSpPr/>
          <p:nvPr/>
        </p:nvSpPr>
        <p:spPr>
          <a:xfrm>
            <a:off x="1066680" y="304920"/>
            <a:ext cx="6629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Black"/>
              </a:rPr>
              <a:t>Carboxylic Acids And Their Deriva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9" name="Picture 4" descr="ksulogo2.png"/>
          <p:cNvPicPr/>
          <p:nvPr/>
        </p:nvPicPr>
        <p:blipFill>
          <a:blip r:embed="rId2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890" name="Picture 5" descr="images.jpeg"/>
          <p:cNvPicPr/>
          <p:nvPr/>
        </p:nvPicPr>
        <p:blipFill>
          <a:blip r:embed="rId3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891" name="Straight Connector 6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9D247-4348-4687-83B7-D0FD1CBE6EB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93" name="Object 2"/>
          <p:cNvGraphicFramePr/>
          <p:nvPr/>
        </p:nvGraphicFramePr>
        <p:xfrm>
          <a:off x="2057400" y="1981080"/>
          <a:ext cx="4984920" cy="914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94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57400" y="1981080"/>
                    <a:ext cx="49849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5" name="PlaceHolder 1"/>
          <p:cNvSpPr>
            <a:spLocks noGrp="1"/>
          </p:cNvSpPr>
          <p:nvPr>
            <p:ph type="title"/>
          </p:nvPr>
        </p:nvSpPr>
        <p:spPr>
          <a:xfrm>
            <a:off x="76320" y="990360"/>
            <a:ext cx="35049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arboxylic Acid Derivat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6" name="Rectangle 5"/>
          <p:cNvSpPr/>
          <p:nvPr/>
        </p:nvSpPr>
        <p:spPr>
          <a:xfrm>
            <a:off x="152280" y="272412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cid Chloride            Ester                             Amide                    Acid anhydri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7" name="Rectangle 2"/>
          <p:cNvSpPr/>
          <p:nvPr/>
        </p:nvSpPr>
        <p:spPr>
          <a:xfrm>
            <a:off x="1066680" y="304920"/>
            <a:ext cx="6629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Black"/>
              </a:rPr>
              <a:t>Carboxylic Acids And Their Deriva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8" name="Picture 9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899" name="Picture 10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900" name="Straight Connector 11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1" name="Picture 3" descr="03032009221955fEZBYRxvZV.png"/>
          <p:cNvPicPr/>
          <p:nvPr/>
        </p:nvPicPr>
        <p:blipFill>
          <a:blip r:embed="rId3"/>
          <a:stretch/>
        </p:blipFill>
        <p:spPr>
          <a:xfrm>
            <a:off x="380880" y="1676520"/>
            <a:ext cx="1219320" cy="1093680"/>
          </a:xfrm>
          <a:prstGeom prst="rect">
            <a:avLst/>
          </a:prstGeom>
          <a:ln w="0">
            <a:noFill/>
          </a:ln>
        </p:spPr>
      </p:pic>
      <p:pic>
        <p:nvPicPr>
          <p:cNvPr id="2902" name="Picture 4" descr="anhydride_group.png"/>
          <p:cNvPicPr/>
          <p:nvPr/>
        </p:nvPicPr>
        <p:blipFill>
          <a:blip r:embed="rId4"/>
          <a:stretch/>
        </p:blipFill>
        <p:spPr>
          <a:xfrm>
            <a:off x="6705720" y="1650960"/>
            <a:ext cx="1523880" cy="1015920"/>
          </a:xfrm>
          <a:prstGeom prst="rect">
            <a:avLst/>
          </a:prstGeom>
          <a:ln w="0">
            <a:noFill/>
          </a:ln>
        </p:spPr>
      </p:pic>
      <p:pic>
        <p:nvPicPr>
          <p:cNvPr id="2903" name="Picture 5" descr="amide_group.png"/>
          <p:cNvPicPr/>
          <p:nvPr/>
        </p:nvPicPr>
        <p:blipFill>
          <a:blip r:embed="rId5"/>
          <a:stretch/>
        </p:blipFill>
        <p:spPr>
          <a:xfrm>
            <a:off x="4572000" y="12952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904" name="Picture 6" descr="ester_group.png"/>
          <p:cNvPicPr/>
          <p:nvPr/>
        </p:nvPicPr>
        <p:blipFill>
          <a:blip r:embed="rId6"/>
          <a:stretch/>
        </p:blipFill>
        <p:spPr>
          <a:xfrm>
            <a:off x="2057400" y="1616040"/>
            <a:ext cx="1600200" cy="1279440"/>
          </a:xfrm>
          <a:prstGeom prst="rect">
            <a:avLst/>
          </a:prstGeom>
          <a:ln w="0">
            <a:noFill/>
          </a:ln>
        </p:spPr>
      </p:pic>
      <p:sp>
        <p:nvSpPr>
          <p:cNvPr id="290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77F6E-3EEA-4243-935D-5F28A5179FF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6" name="TextBox 2"/>
          <p:cNvSpPr/>
          <p:nvPr/>
        </p:nvSpPr>
        <p:spPr>
          <a:xfrm>
            <a:off x="419040" y="3751200"/>
            <a:ext cx="811548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derivatives of carboxylic acids are compounds in which the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OH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carboxylic acid is replaced by nucleopile (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X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acid  halide,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OR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ester,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NH</a:t>
            </a:r>
            <a:r>
              <a:rPr b="0" lang="en-US" sz="24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, -NHR, -NR</a:t>
            </a:r>
            <a:r>
              <a:rPr b="0" lang="en-US" sz="24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or amids,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OOCR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anhydrid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rboxylic acids derivatives can converted to carboxylic acids by simple acidic or basic hydrolysi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543A8-8D61-4BA9-BBF0-53CB746070B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8" name="Rectangle 2"/>
          <p:cNvSpPr/>
          <p:nvPr/>
        </p:nvSpPr>
        <p:spPr>
          <a:xfrm>
            <a:off x="1066680" y="304920"/>
            <a:ext cx="6629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Black"/>
              </a:rPr>
              <a:t>Carboxylic Acids And Their Deriva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9" name="Picture 9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910" name="Picture 10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911" name="Straight Connector 5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2" name="Rectangle 6"/>
          <p:cNvSpPr/>
          <p:nvPr/>
        </p:nvSpPr>
        <p:spPr>
          <a:xfrm>
            <a:off x="0" y="1295280"/>
            <a:ext cx="9144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1f497d"/>
                </a:solidFill>
                <a:uFillTx/>
                <a:latin typeface="Times New Roman"/>
                <a:ea typeface="Times New Roman"/>
              </a:rPr>
              <a:t>1-Nomenclature Of Acid Chlorid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lac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ic acid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ing in the name of the parent acid by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–yl chlori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3" name="Rectangle 7"/>
          <p:cNvSpPr/>
          <p:nvPr/>
        </p:nvSpPr>
        <p:spPr>
          <a:xfrm>
            <a:off x="95400" y="4343400"/>
            <a:ext cx="889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UPAC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thanoyl chloride           Benzoylchloride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Propanoyl chlor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Common : </a:t>
            </a:r>
            <a:r>
              <a:rPr b="0" lang="en-US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Acetyl chloride</a:t>
            </a:r>
            <a:r>
              <a:rPr b="0" lang="en-US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14" name="Object 8"/>
          <p:cNvGraphicFramePr/>
          <p:nvPr/>
        </p:nvGraphicFramePr>
        <p:xfrm>
          <a:off x="838080" y="2971800"/>
          <a:ext cx="4496040" cy="128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15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2971800"/>
                    <a:ext cx="449604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6" name="Object 1"/>
          <p:cNvGraphicFramePr/>
          <p:nvPr/>
        </p:nvGraphicFramePr>
        <p:xfrm>
          <a:off x="6324480" y="3116160"/>
          <a:ext cx="2514600" cy="1005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17" name="Object 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24480" y="3116160"/>
                    <a:ext cx="2514600" cy="10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8" name="PlaceHolder 1"/>
          <p:cNvSpPr>
            <a:spLocks noGrp="1"/>
          </p:cNvSpPr>
          <p:nvPr>
            <p:ph/>
          </p:nvPr>
        </p:nvSpPr>
        <p:spPr>
          <a:xfrm>
            <a:off x="26640" y="990360"/>
            <a:ext cx="9117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c0504d"/>
                </a:solidFill>
                <a:uFillTx/>
                <a:latin typeface="Times New Roman"/>
                <a:ea typeface="Times New Roman"/>
              </a:rPr>
              <a:t>2- Nomenclature of es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lkyl group (R’) is written  first followed by the name of the parent acid with replacing of the ending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ic acid by </a:t>
            </a:r>
            <a:r>
              <a:rPr b="1" lang="en-US" sz="20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–at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IUPAC)      Ethyl ethanoate                                   Methyl benzo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(common)    Ethyl acet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9" name="Footer Placeholder 1"/>
          <p:cNvSpPr/>
          <p:nvPr/>
        </p:nvSpPr>
        <p:spPr>
          <a:xfrm>
            <a:off x="0" y="647856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0" name="Slide Number Placeholder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CEB7B-EE90-4C83-B6EC-1020EB996272}" type="slidenum">
              <a:rPr b="0" lang="ar-S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21" name="Object 5"/>
          <p:cNvGraphicFramePr/>
          <p:nvPr/>
        </p:nvGraphicFramePr>
        <p:xfrm>
          <a:off x="1219320" y="5035680"/>
          <a:ext cx="2415960" cy="76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5035680"/>
                    <a:ext cx="24159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3" name="Object 6"/>
          <p:cNvGraphicFramePr/>
          <p:nvPr/>
        </p:nvGraphicFramePr>
        <p:xfrm>
          <a:off x="5014800" y="4654440"/>
          <a:ext cx="276408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2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14800" y="4654440"/>
                    <a:ext cx="2764080" cy="13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5" name="Rectangle 7"/>
          <p:cNvSpPr/>
          <p:nvPr/>
        </p:nvSpPr>
        <p:spPr>
          <a:xfrm>
            <a:off x="0" y="6178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IUPAC) Methyl propanoate                  Isopropyl-4-hydroxy-5-methyl-5- hexeno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6" name="Rectangle 2"/>
          <p:cNvSpPr/>
          <p:nvPr/>
        </p:nvSpPr>
        <p:spPr>
          <a:xfrm>
            <a:off x="1066680" y="304920"/>
            <a:ext cx="6629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Black"/>
              </a:rPr>
              <a:t>Carboxylic Acids And Their Deriva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7" name="Picture 11" descr="ksulogo2.png"/>
          <p:cNvPicPr/>
          <p:nvPr/>
        </p:nvPicPr>
        <p:blipFill>
          <a:blip r:embed="rId5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928" name="Picture 12" descr="images.jpeg"/>
          <p:cNvPicPr/>
          <p:nvPr/>
        </p:nvPicPr>
        <p:blipFill>
          <a:blip r:embed="rId6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929" name="Straight Connector 13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30" name="Picture 1" descr="130px-Ester-general.svg.png"/>
          <p:cNvPicPr/>
          <p:nvPr/>
        </p:nvPicPr>
        <p:blipFill>
          <a:blip r:embed="rId7"/>
          <a:stretch/>
        </p:blipFill>
        <p:spPr>
          <a:xfrm>
            <a:off x="3581280" y="2133720"/>
            <a:ext cx="1219320" cy="785520"/>
          </a:xfrm>
          <a:prstGeom prst="rect">
            <a:avLst/>
          </a:prstGeom>
          <a:ln w="0">
            <a:noFill/>
          </a:ln>
        </p:spPr>
      </p:pic>
      <p:pic>
        <p:nvPicPr>
          <p:cNvPr id="2931" name="Picture 2" descr="02195046.png"/>
          <p:cNvPicPr/>
          <p:nvPr/>
        </p:nvPicPr>
        <p:blipFill>
          <a:blip r:embed="rId8"/>
          <a:stretch/>
        </p:blipFill>
        <p:spPr>
          <a:xfrm>
            <a:off x="1447920" y="2859120"/>
            <a:ext cx="2057400" cy="880920"/>
          </a:xfrm>
          <a:prstGeom prst="rect">
            <a:avLst/>
          </a:prstGeom>
          <a:ln w="0">
            <a:noFill/>
          </a:ln>
        </p:spPr>
      </p:pic>
      <p:pic>
        <p:nvPicPr>
          <p:cNvPr id="2932" name="Picture 3" descr="Methyl_benzoate.png"/>
          <p:cNvPicPr/>
          <p:nvPr/>
        </p:nvPicPr>
        <p:blipFill>
          <a:blip r:embed="rId9"/>
          <a:stretch/>
        </p:blipFill>
        <p:spPr>
          <a:xfrm>
            <a:off x="5562720" y="2752560"/>
            <a:ext cx="1743120" cy="1133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3" name="PlaceHolder 1"/>
          <p:cNvSpPr>
            <a:spLocks noGrp="1"/>
          </p:cNvSpPr>
          <p:nvPr>
            <p:ph/>
          </p:nvPr>
        </p:nvSpPr>
        <p:spPr>
          <a:xfrm>
            <a:off x="249120" y="944280"/>
            <a:ext cx="889488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c0504d"/>
                </a:solidFill>
                <a:uFillTx/>
                <a:latin typeface="Times New Roman"/>
                <a:ea typeface="Times New Roman"/>
              </a:rPr>
              <a:t>3- Nomenclature of am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lace the ending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ic acid of the parent acid’s </a:t>
            </a:r>
            <a:r>
              <a:rPr b="0" lang="en-US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the word 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ami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re is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roup on the nitrogen atom, it is listed first and designated with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IUPAC)   Ethanamide         </a:t>
            </a:r>
            <a:r>
              <a:rPr b="0" lang="ar-SA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Benzamide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</a:t>
            </a:r>
            <a:r>
              <a:rPr b="0" lang="ar-SA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Methylpropanami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(common) Acetamide             </a:t>
            </a:r>
            <a:r>
              <a:rPr b="0" i="1" lang="en-US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-Methylpropionami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IUPAC)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,N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Dimethylmethanamide      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Ethyl-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methylbenzami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(Common)   </a:t>
            </a:r>
            <a:r>
              <a:rPr b="1" i="1" lang="en-US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N,N</a:t>
            </a:r>
            <a:r>
              <a:rPr b="1" lang="en-US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-Dimethylformami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4" name="Footer Placeholder 1"/>
          <p:cNvSpPr/>
          <p:nvPr/>
        </p:nvSpPr>
        <p:spPr>
          <a:xfrm>
            <a:off x="76320" y="649296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5" name="Slide Number Placeholder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23F53-BE58-43CE-B000-D75576AA1F71}" type="slidenum">
              <a:rPr b="0" lang="ar-S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6" name="Object 2"/>
          <p:cNvGraphicFramePr/>
          <p:nvPr/>
        </p:nvGraphicFramePr>
        <p:xfrm>
          <a:off x="6326280" y="2124000"/>
          <a:ext cx="236052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6280" y="2124000"/>
                    <a:ext cx="23605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8" name="Rectangle 2"/>
          <p:cNvSpPr/>
          <p:nvPr/>
        </p:nvSpPr>
        <p:spPr>
          <a:xfrm>
            <a:off x="1066680" y="304920"/>
            <a:ext cx="6629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Black"/>
              </a:rPr>
              <a:t>Carboxylic Acids And Their Deriva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39" name="Picture 8" descr="ksulogo2.png"/>
          <p:cNvPicPr/>
          <p:nvPr/>
        </p:nvPicPr>
        <p:blipFill>
          <a:blip r:embed="rId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940" name="Picture 9" descr="images.jpeg"/>
          <p:cNvPicPr/>
          <p:nvPr/>
        </p:nvPicPr>
        <p:blipFill>
          <a:blip r:embed="rId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941" name="Straight Connector 10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2" name="Picture 1" descr="02191417.png"/>
          <p:cNvPicPr/>
          <p:nvPr/>
        </p:nvPicPr>
        <p:blipFill>
          <a:blip r:embed="rId5"/>
          <a:stretch/>
        </p:blipFill>
        <p:spPr>
          <a:xfrm>
            <a:off x="1752480" y="4191120"/>
            <a:ext cx="1463760" cy="1218960"/>
          </a:xfrm>
          <a:prstGeom prst="rect">
            <a:avLst/>
          </a:prstGeom>
          <a:ln w="0">
            <a:noFill/>
          </a:ln>
        </p:spPr>
      </p:pic>
      <p:pic>
        <p:nvPicPr>
          <p:cNvPr id="2943" name="Picture 3" descr="inchi.gif"/>
          <p:cNvPicPr/>
          <p:nvPr/>
        </p:nvPicPr>
        <p:blipFill>
          <a:blip r:embed="rId6"/>
          <a:stretch/>
        </p:blipFill>
        <p:spPr>
          <a:xfrm>
            <a:off x="5105520" y="3809880"/>
            <a:ext cx="2577960" cy="1600200"/>
          </a:xfrm>
          <a:prstGeom prst="rect">
            <a:avLst/>
          </a:prstGeom>
          <a:ln w="0">
            <a:noFill/>
          </a:ln>
        </p:spPr>
      </p:pic>
      <p:pic>
        <p:nvPicPr>
          <p:cNvPr id="2944" name="Picture 4" descr="100px-Acetamide_skeletal.svg.png"/>
          <p:cNvPicPr/>
          <p:nvPr/>
        </p:nvPicPr>
        <p:blipFill>
          <a:blip r:embed="rId7"/>
          <a:stretch/>
        </p:blipFill>
        <p:spPr>
          <a:xfrm>
            <a:off x="609480" y="2324160"/>
            <a:ext cx="1270080" cy="977760"/>
          </a:xfrm>
          <a:prstGeom prst="rect">
            <a:avLst/>
          </a:prstGeom>
          <a:ln w="0">
            <a:noFill/>
          </a:ln>
        </p:spPr>
      </p:pic>
      <p:pic>
        <p:nvPicPr>
          <p:cNvPr id="2945" name="Picture 5" descr="520px-Benzamide.svg.png"/>
          <p:cNvPicPr/>
          <p:nvPr/>
        </p:nvPicPr>
        <p:blipFill>
          <a:blip r:embed="rId8"/>
          <a:stretch/>
        </p:blipFill>
        <p:spPr>
          <a:xfrm>
            <a:off x="3733920" y="2171880"/>
            <a:ext cx="1571400" cy="1180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8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6629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Black"/>
              </a:rPr>
              <a:t>Carboxylic Acids And Their Derivati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9" name="Rectangle 9"/>
          <p:cNvSpPr/>
          <p:nvPr/>
        </p:nvSpPr>
        <p:spPr>
          <a:xfrm>
            <a:off x="15840" y="116208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Chapter nine introduces carboxylic acids and their derivatives. The chemistry is very similar to that of aldehydes and ketones because of the presence of the carbonyl group . The main topics in this chapter that the students should know and understand  inclu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tructure of carboxylic ac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ommon and IUPAC nomenclature of carboxylic ac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hysical properties of carboxylic ac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Factors affecting acidity of carboxylic aci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 different   ways to make carboxylic ac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lt formation reactions of carboxylic ac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nucleophilic  substitution reactions  at  the  carbonyl  carbon  and  the specific products formed in each ca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hemistry of carboxylic acid deriva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0" name="Picture 3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751" name="Picture 4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752" name="Straight Connector 5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D124D-05D2-495C-A9CB-04326CC6064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6" name="PlaceHolder 1"/>
          <p:cNvSpPr>
            <a:spLocks noGrp="1"/>
          </p:cNvSpPr>
          <p:nvPr>
            <p:ph/>
          </p:nvPr>
        </p:nvSpPr>
        <p:spPr>
          <a:xfrm>
            <a:off x="34560" y="1142640"/>
            <a:ext cx="91090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b0f0"/>
                </a:solidFill>
                <a:uFillTx/>
                <a:latin typeface="Times New Roman"/>
                <a:ea typeface="Times New Roman"/>
              </a:rPr>
              <a:t>4- Nomenclature of anhydr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anhydride is named by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placing the word acid  in the corresponding aci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the word </a:t>
            </a:r>
            <a:r>
              <a:rPr b="0" lang="en-US" sz="2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anhydri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UPAC) Ethanoic anhydride </a:t>
            </a:r>
            <a:r>
              <a:rPr b="0" lang="ar-SA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Benzoic anhydride</a:t>
            </a:r>
            <a:r>
              <a:rPr b="0" lang="ar-SA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utandioic anhydri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(Common) Acetic anhydride</a:t>
            </a:r>
            <a:r>
              <a:rPr b="1" lang="en-US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	</a:t>
            </a:r>
            <a:r>
              <a:rPr b="1" lang="ar-SA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</a:t>
            </a:r>
            <a:r>
              <a:rPr b="1" lang="ar-SA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en-US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Succinic anhydri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7" name="Footer Placeholder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8" name="Rectangle 2"/>
          <p:cNvSpPr/>
          <p:nvPr/>
        </p:nvSpPr>
        <p:spPr>
          <a:xfrm>
            <a:off x="1066680" y="304920"/>
            <a:ext cx="6629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Black"/>
              </a:rPr>
              <a:t>Carboxylic Acids And Their Deriva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9" name="Picture 6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950" name="Picture 7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951" name="Straight Connector 8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2" name="Picture 1" descr="Acetic_anhydride-2D-skeletal.png"/>
          <p:cNvPicPr/>
          <p:nvPr/>
        </p:nvPicPr>
        <p:blipFill>
          <a:blip r:embed="rId3"/>
          <a:stretch/>
        </p:blipFill>
        <p:spPr>
          <a:xfrm>
            <a:off x="888840" y="2754360"/>
            <a:ext cx="1625760" cy="903240"/>
          </a:xfrm>
          <a:prstGeom prst="rect">
            <a:avLst/>
          </a:prstGeom>
          <a:ln w="0">
            <a:noFill/>
          </a:ln>
        </p:spPr>
      </p:pic>
      <p:pic>
        <p:nvPicPr>
          <p:cNvPr id="2953" name="Picture 3" descr="Benzoic_anhydride.svg.png"/>
          <p:cNvPicPr/>
          <p:nvPr/>
        </p:nvPicPr>
        <p:blipFill>
          <a:blip r:embed="rId4"/>
          <a:stretch/>
        </p:blipFill>
        <p:spPr>
          <a:xfrm>
            <a:off x="3581280" y="2590920"/>
            <a:ext cx="2189160" cy="1055520"/>
          </a:xfrm>
          <a:prstGeom prst="rect">
            <a:avLst/>
          </a:prstGeom>
          <a:ln w="0">
            <a:noFill/>
          </a:ln>
        </p:spPr>
      </p:pic>
      <p:pic>
        <p:nvPicPr>
          <p:cNvPr id="2954" name="Picture 4" descr="Succinic_anhydride-2D-Skeletal.png"/>
          <p:cNvPicPr/>
          <p:nvPr/>
        </p:nvPicPr>
        <p:blipFill>
          <a:blip r:embed="rId5"/>
          <a:stretch/>
        </p:blipFill>
        <p:spPr>
          <a:xfrm>
            <a:off x="6918480" y="2743200"/>
            <a:ext cx="1539720" cy="744480"/>
          </a:xfrm>
          <a:prstGeom prst="rect">
            <a:avLst/>
          </a:prstGeom>
          <a:ln w="0">
            <a:noFill/>
          </a:ln>
        </p:spPr>
      </p:pic>
      <p:sp>
        <p:nvSpPr>
          <p:cNvPr id="295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BED74-C863-4525-BD82-5BE47D119FA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56" name="Object 2"/>
          <p:cNvGraphicFramePr/>
          <p:nvPr/>
        </p:nvGraphicFramePr>
        <p:xfrm>
          <a:off x="2739960" y="4495680"/>
          <a:ext cx="4230720" cy="1860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957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739960" y="4495680"/>
                    <a:ext cx="4230720" cy="18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59" name="Object 6"/>
          <p:cNvGraphicFramePr/>
          <p:nvPr/>
        </p:nvGraphicFramePr>
        <p:xfrm>
          <a:off x="873000" y="1447920"/>
          <a:ext cx="689940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3000" y="1447920"/>
                    <a:ext cx="689940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1" name="Rectangle 2"/>
          <p:cNvSpPr/>
          <p:nvPr/>
        </p:nvSpPr>
        <p:spPr>
          <a:xfrm>
            <a:off x="1066680" y="304920"/>
            <a:ext cx="6629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Black"/>
              </a:rPr>
              <a:t>Carboxylic Acids And Their Deriva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2" name="Picture 5" descr="ksulogo2.png"/>
          <p:cNvPicPr/>
          <p:nvPr/>
        </p:nvPicPr>
        <p:blipFill>
          <a:blip r:embed="rId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963" name="Picture 6" descr="images.jpeg"/>
          <p:cNvPicPr/>
          <p:nvPr/>
        </p:nvPicPr>
        <p:blipFill>
          <a:blip r:embed="rId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964" name="Straight Connector 7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6F046-78DF-48F6-9DEA-3776620AF16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6" name="مستطيل 7"/>
          <p:cNvSpPr/>
          <p:nvPr/>
        </p:nvSpPr>
        <p:spPr>
          <a:xfrm>
            <a:off x="215280" y="990720"/>
            <a:ext cx="56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Reaction of Derivatives of carboxylic aci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7" name="Footer Placeholder 1"/>
          <p:cNvSpPr/>
          <p:nvPr/>
        </p:nvSpPr>
        <p:spPr>
          <a:xfrm>
            <a:off x="173160" y="6472080"/>
            <a:ext cx="335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68" name="Object 13"/>
          <p:cNvGraphicFramePr/>
          <p:nvPr/>
        </p:nvGraphicFramePr>
        <p:xfrm>
          <a:off x="2209680" y="2057400"/>
          <a:ext cx="5486400" cy="425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9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057400"/>
                    <a:ext cx="5486400" cy="42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0" name="Rectangle 2"/>
          <p:cNvSpPr/>
          <p:nvPr/>
        </p:nvSpPr>
        <p:spPr>
          <a:xfrm>
            <a:off x="1066680" y="304920"/>
            <a:ext cx="6629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Black"/>
              </a:rPr>
              <a:t>Carboxylic Acids And Their Deriva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1" name="Picture 6" descr="ksulogo2.png"/>
          <p:cNvPicPr/>
          <p:nvPr/>
        </p:nvPicPr>
        <p:blipFill>
          <a:blip r:embed="rId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972" name="Picture 7" descr="images.jpeg"/>
          <p:cNvPicPr/>
          <p:nvPr/>
        </p:nvPicPr>
        <p:blipFill>
          <a:blip r:embed="rId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973" name="Straight Connector 8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D4F50-E1E0-44F5-B77D-3BFFD6ED7DD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75" name="Straight Arrow Connector 3"/>
          <p:cNvCxnSpPr/>
          <p:nvPr/>
        </p:nvCxnSpPr>
        <p:spPr>
          <a:xfrm>
            <a:off x="4800240" y="4390560"/>
            <a:ext cx="16009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976" name="TextBox 9"/>
          <p:cNvSpPr/>
          <p:nvPr/>
        </p:nvSpPr>
        <p:spPr>
          <a:xfrm>
            <a:off x="325440" y="1447920"/>
            <a:ext cx="82850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hydrolysis (reaction with 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) all carboxylic acid derivatves convert to carboxylic aci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7" name="PlaceHolder 1"/>
          <p:cNvSpPr>
            <a:spLocks noGrp="1"/>
          </p:cNvSpPr>
          <p:nvPr>
            <p:ph type="title"/>
          </p:nvPr>
        </p:nvSpPr>
        <p:spPr>
          <a:xfrm>
            <a:off x="-30600" y="1066680"/>
            <a:ext cx="216396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Ques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78" name="Object 2"/>
          <p:cNvGraphicFramePr/>
          <p:nvPr/>
        </p:nvGraphicFramePr>
        <p:xfrm>
          <a:off x="2133720" y="1712880"/>
          <a:ext cx="1447560" cy="92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712880"/>
                    <a:ext cx="1447560" cy="9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0" name="Object 1"/>
          <p:cNvGraphicFramePr/>
          <p:nvPr/>
        </p:nvGraphicFramePr>
        <p:xfrm>
          <a:off x="865080" y="2666880"/>
          <a:ext cx="6248520" cy="124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81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5080" y="2666880"/>
                    <a:ext cx="6248520" cy="12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2" name="Rectangle 5"/>
          <p:cNvSpPr/>
          <p:nvPr/>
        </p:nvSpPr>
        <p:spPr>
          <a:xfrm>
            <a:off x="34920" y="1917360"/>
            <a:ext cx="935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- Reaction of                           with CO</a:t>
            </a:r>
            <a:r>
              <a:rPr b="1" lang="en-US" sz="2000" spc="-1" strike="noStrike" baseline="-25000">
                <a:solidFill>
                  <a:srgbClr val="0070c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under heat and pressure give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5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6" name="Footer Placeholder 1"/>
          <p:cNvSpPr/>
          <p:nvPr/>
        </p:nvSpPr>
        <p:spPr>
          <a:xfrm>
            <a:off x="34920" y="6472080"/>
            <a:ext cx="335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7" name="Rectangle 2"/>
          <p:cNvSpPr/>
          <p:nvPr/>
        </p:nvSpPr>
        <p:spPr>
          <a:xfrm>
            <a:off x="34920" y="4267080"/>
            <a:ext cx="705168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- Oxidation of C</a:t>
            </a:r>
            <a:r>
              <a:rPr b="1" lang="en-US" sz="2000" spc="-1" strike="noStrike" baseline="-30000">
                <a:solidFill>
                  <a:srgbClr val="0070c0"/>
                </a:solidFill>
                <a:latin typeface="Times New Roman"/>
                <a:ea typeface="Times New Roman"/>
              </a:rPr>
              <a:t>6</a:t>
            </a: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</a:t>
            </a:r>
            <a:r>
              <a:rPr b="1" lang="en-US" sz="2000" spc="-1" strike="noStrike" baseline="-30000">
                <a:solidFill>
                  <a:srgbClr val="0070c0"/>
                </a:solidFill>
                <a:latin typeface="Times New Roman"/>
                <a:ea typeface="Times New Roman"/>
              </a:rPr>
              <a:t>5</a:t>
            </a: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H</a:t>
            </a:r>
            <a:r>
              <a:rPr b="1" lang="en-US" sz="2000" spc="-1" strike="noStrike" baseline="-30000">
                <a:solidFill>
                  <a:srgbClr val="0070c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H with KMnO</a:t>
            </a:r>
            <a:r>
              <a:rPr b="1" lang="en-US" sz="2000" spc="-1" strike="noStrike" baseline="-30000">
                <a:solidFill>
                  <a:srgbClr val="0070c0"/>
                </a:solidFill>
                <a:latin typeface="Times New Roman"/>
                <a:ea typeface="Times New Roman"/>
              </a:rPr>
              <a:t>4 </a:t>
            </a: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give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88" name="Object 2"/>
          <p:cNvGraphicFramePr/>
          <p:nvPr/>
        </p:nvGraphicFramePr>
        <p:xfrm>
          <a:off x="685800" y="4800600"/>
          <a:ext cx="5157720" cy="1096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89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4800600"/>
                    <a:ext cx="5157720" cy="109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0" name="Rectangle 2"/>
          <p:cNvSpPr/>
          <p:nvPr/>
        </p:nvSpPr>
        <p:spPr>
          <a:xfrm>
            <a:off x="1066680" y="304920"/>
            <a:ext cx="6629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Black"/>
              </a:rPr>
              <a:t>Carboxylic Acids And Their Deriva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1" name="Picture 13" descr="ksulogo2.png"/>
          <p:cNvPicPr/>
          <p:nvPr/>
        </p:nvPicPr>
        <p:blipFill>
          <a:blip r:embed="rId7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992" name="Picture 14" descr="images.jpeg"/>
          <p:cNvPicPr/>
          <p:nvPr/>
        </p:nvPicPr>
        <p:blipFill>
          <a:blip r:embed="rId8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993" name="Straight Connector 15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2A703-3743-405C-9BC2-27CF1AF1F84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5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6" name="مستطيل 6"/>
          <p:cNvSpPr/>
          <p:nvPr/>
        </p:nvSpPr>
        <p:spPr>
          <a:xfrm>
            <a:off x="3639960" y="4444920"/>
            <a:ext cx="51325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98" name="Object 4"/>
          <p:cNvGraphicFramePr/>
          <p:nvPr/>
        </p:nvGraphicFramePr>
        <p:xfrm>
          <a:off x="4495680" y="3200400"/>
          <a:ext cx="2362320" cy="86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200400"/>
                    <a:ext cx="236232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0" name="مستطيل 10"/>
          <p:cNvSpPr/>
          <p:nvPr/>
        </p:nvSpPr>
        <p:spPr>
          <a:xfrm>
            <a:off x="-208800" y="3409920"/>
            <a:ext cx="779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4- The common name of this compound                                        is?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1" name="Rectangle 6"/>
          <p:cNvSpPr/>
          <p:nvPr/>
        </p:nvSpPr>
        <p:spPr>
          <a:xfrm>
            <a:off x="0" y="403164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)  N,N-Dimethylacetamide                           B) N,N-Dimethyl propanam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) N,N-Dimethylpropionamide                      D) N,N-Dimethylbutanam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2" name="Rectangle 7"/>
          <p:cNvSpPr/>
          <p:nvPr/>
        </p:nvSpPr>
        <p:spPr>
          <a:xfrm>
            <a:off x="76320" y="5055840"/>
            <a:ext cx="75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5- Acid halide react with ammonia to gi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3" name="Rectangle 8"/>
          <p:cNvSpPr/>
          <p:nvPr/>
        </p:nvSpPr>
        <p:spPr>
          <a:xfrm>
            <a:off x="-453960" y="5544000"/>
            <a:ext cx="959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) Amines             B)Amides           C) Phenols        D) Alcohol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4" name="Footer Placeholder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5" name="Rectangle 1"/>
          <p:cNvSpPr/>
          <p:nvPr/>
        </p:nvSpPr>
        <p:spPr>
          <a:xfrm>
            <a:off x="90360" y="1250640"/>
            <a:ext cx="441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- The most acidic compound i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06" name="كائن 1"/>
          <p:cNvGraphicFramePr/>
          <p:nvPr/>
        </p:nvGraphicFramePr>
        <p:xfrm>
          <a:off x="380880" y="1523880"/>
          <a:ext cx="5943600" cy="159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07" name="كائن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1523880"/>
                    <a:ext cx="5943600" cy="15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8" name="Rectangle 2"/>
          <p:cNvSpPr/>
          <p:nvPr/>
        </p:nvSpPr>
        <p:spPr>
          <a:xfrm>
            <a:off x="1066680" y="304920"/>
            <a:ext cx="6629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Black"/>
              </a:rPr>
              <a:t>Carboxylic Acids And Their Deriva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9" name="Picture 14" descr="ksulogo2.png"/>
          <p:cNvPicPr/>
          <p:nvPr/>
        </p:nvPicPr>
        <p:blipFill>
          <a:blip r:embed="rId5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3010" name="Picture 15" descr="images.jpeg"/>
          <p:cNvPicPr/>
          <p:nvPr/>
        </p:nvPicPr>
        <p:blipFill>
          <a:blip r:embed="rId6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3011" name="Straight Connector 16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2" name="Slide Number Placeholder 1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1239E-495B-476E-9717-5DAB2B49336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9a7bc"/>
                </a:solidFill>
                <a:latin typeface="Times New Roman"/>
              </a:rPr>
              <a:t>Thank You for your kind attention !</a:t>
            </a:r>
            <a:endParaRPr b="0" lang="en-US" sz="28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014" name="PlaceHolder 2"/>
          <p:cNvSpPr>
            <a:spLocks noGrp="1"/>
          </p:cNvSpPr>
          <p:nvPr>
            <p:ph type="subTitle"/>
          </p:nvPr>
        </p:nvSpPr>
        <p:spPr>
          <a:xfrm>
            <a:off x="2666880" y="2819160"/>
            <a:ext cx="3695760" cy="19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Questions?</a:t>
            </a:r>
            <a:endParaRPr b="0" lang="en-US" sz="4000" spc="-1" strike="noStrike">
              <a:solidFill>
                <a:srgbClr val="7f7f7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Comments</a:t>
            </a:r>
            <a:endParaRPr b="0" lang="en-US" sz="4000" spc="-1" strike="noStrike">
              <a:solidFill>
                <a:srgbClr val="7f7f7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015" name="Slide Number Placeholder 2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33B09-6D06-41AA-8412-91D2BF35643A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6" name="Rectangle 2"/>
          <p:cNvSpPr/>
          <p:nvPr/>
        </p:nvSpPr>
        <p:spPr>
          <a:xfrm>
            <a:off x="1066680" y="304920"/>
            <a:ext cx="6629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Black"/>
              </a:rPr>
              <a:t>Carboxylic Acids And Their Deriva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7" name="Picture 17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3018" name="Picture 18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3019" name="Straight Connector 19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Text Box 6"/>
          <p:cNvSpPr/>
          <p:nvPr/>
        </p:nvSpPr>
        <p:spPr>
          <a:xfrm>
            <a:off x="76320" y="113832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Structure Of Carboxylic  Ac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5" name="Rectangle 4"/>
          <p:cNvSpPr/>
          <p:nvPr/>
        </p:nvSpPr>
        <p:spPr>
          <a:xfrm>
            <a:off x="0" y="1676520"/>
            <a:ext cx="9144000" cy="42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rboxylic acids are </a:t>
            </a:r>
            <a:r>
              <a:rPr b="1" lang="en-US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organic acids </a:t>
            </a: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contain one or more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arboxyl</a:t>
            </a: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group, which is a combination of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arbonyl</a:t>
            </a: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group C=O and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hydroxyl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group O-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is often written in condensed form as –C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 or –COO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rboxylic acids are classified as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liphati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-COOH or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romati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r-COOH depending on the group bonded to the carboxylic grou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implest acid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</a:t>
            </a: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formic acid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= 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fatty acid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</a:t>
            </a: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long chain aliphatic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ids C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(C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6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O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6" name="Rectangle 2"/>
          <p:cNvSpPr/>
          <p:nvPr/>
        </p:nvSpPr>
        <p:spPr>
          <a:xfrm>
            <a:off x="1066680" y="304920"/>
            <a:ext cx="6629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Black"/>
              </a:rPr>
              <a:t>Carboxylic Acids And Their Deriva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7" name="Picture 10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758" name="Picture 11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759" name="Straight Connector 12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0" name="Picture 1" descr="Acetic-acid-3D-balls-B.png"/>
          <p:cNvPicPr/>
          <p:nvPr/>
        </p:nvPicPr>
        <p:blipFill>
          <a:blip r:embed="rId3"/>
          <a:stretch/>
        </p:blipFill>
        <p:spPr>
          <a:xfrm>
            <a:off x="5334120" y="4800600"/>
            <a:ext cx="2460600" cy="1828800"/>
          </a:xfrm>
          <a:prstGeom prst="rect">
            <a:avLst/>
          </a:prstGeom>
          <a:ln w="0">
            <a:noFill/>
          </a:ln>
        </p:spPr>
      </p:pic>
      <p:sp>
        <p:nvSpPr>
          <p:cNvPr id="276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370B6-7A3D-497E-A2F4-07CF7BC9A87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2" name="Rectangle 5"/>
          <p:cNvSpPr/>
          <p:nvPr/>
        </p:nvSpPr>
        <p:spPr>
          <a:xfrm>
            <a:off x="239040" y="1219320"/>
            <a:ext cx="476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Nomenclature Of Carboxylic Ac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3" name="Rectangle 7"/>
          <p:cNvSpPr/>
          <p:nvPr/>
        </p:nvSpPr>
        <p:spPr>
          <a:xfrm>
            <a:off x="152280" y="2171880"/>
            <a:ext cx="8991720" cy="32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 carboxylic acids are called after characteristic properties or their origi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common names ending  -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ic ac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Formula</a:t>
            </a:r>
            <a:r>
              <a:rPr b="1" lang="en-US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Common name </a:t>
            </a:r>
            <a:r>
              <a:rPr b="1" lang="en-US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 origin of 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COOH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ormic acid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tin for 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OH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cetic acid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Latin for vineg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OH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ionic acid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Greek for mil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CH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OH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tyric acid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tin for bu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CH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OH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leric acid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lerian roo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4" name="Rectangle 6"/>
          <p:cNvSpPr/>
          <p:nvPr/>
        </p:nvSpPr>
        <p:spPr>
          <a:xfrm>
            <a:off x="99360" y="1747800"/>
            <a:ext cx="33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Common Nomencla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5" name="Rectangle 2"/>
          <p:cNvSpPr/>
          <p:nvPr/>
        </p:nvSpPr>
        <p:spPr>
          <a:xfrm>
            <a:off x="152280" y="457200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ositions of the carbons present on the acid chain, are located by the Greek letters </a:t>
            </a:r>
            <a:r>
              <a:rPr b="1" lang="el-G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indicating the carbon atom next to COOH group (C2), </a:t>
            </a:r>
            <a:r>
              <a:rPr b="1" lang="el-G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β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C3), etc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6" name="Text Box 2"/>
          <p:cNvSpPr/>
          <p:nvPr/>
        </p:nvSpPr>
        <p:spPr>
          <a:xfrm>
            <a:off x="2890800" y="5510160"/>
            <a:ext cx="2900520" cy="928440"/>
          </a:xfrm>
          <a:prstGeom prst="rect">
            <a:avLst/>
          </a:prstGeom>
          <a:noFill/>
          <a:ln w="76320">
            <a:solidFill>
              <a:srgbClr val="f5f4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Arial"/>
              </a:rPr>
              <a:t>5     4     3    2   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-C—C—C—C—COO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δ     γ     β     α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7" name="Rectangle 2"/>
          <p:cNvSpPr/>
          <p:nvPr/>
        </p:nvSpPr>
        <p:spPr>
          <a:xfrm>
            <a:off x="1066680" y="304920"/>
            <a:ext cx="6629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Black"/>
              </a:rPr>
              <a:t>Carboxylic Acids And Their Deriva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8" name="Picture 12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769" name="Picture 13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770" name="Straight Connector 14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7900F-6235-493B-B341-DF1C45A47ED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2" name="Rectangle 2"/>
          <p:cNvSpPr/>
          <p:nvPr/>
        </p:nvSpPr>
        <p:spPr>
          <a:xfrm>
            <a:off x="0" y="3570120"/>
            <a:ext cx="834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aromatic acids have common na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73" name="Object 5"/>
          <p:cNvGraphicFramePr/>
          <p:nvPr/>
        </p:nvGraphicFramePr>
        <p:xfrm>
          <a:off x="2819520" y="4038480"/>
          <a:ext cx="3014640" cy="20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4038480"/>
                    <a:ext cx="3014640" cy="20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5" name="Object 6"/>
          <p:cNvGraphicFramePr/>
          <p:nvPr/>
        </p:nvGraphicFramePr>
        <p:xfrm>
          <a:off x="2971800" y="1981080"/>
          <a:ext cx="3149640" cy="5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7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1981080"/>
                    <a:ext cx="314964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7" name="مربع نص 20"/>
          <p:cNvSpPr/>
          <p:nvPr/>
        </p:nvSpPr>
        <p:spPr>
          <a:xfrm>
            <a:off x="3166920" y="26668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uccinic ac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8" name="Rectangle 2"/>
          <p:cNvSpPr/>
          <p:nvPr/>
        </p:nvSpPr>
        <p:spPr>
          <a:xfrm>
            <a:off x="138240" y="1066680"/>
            <a:ext cx="83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 of dicarboxylic ac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9" name="Rectangle 2"/>
          <p:cNvSpPr/>
          <p:nvPr/>
        </p:nvSpPr>
        <p:spPr>
          <a:xfrm>
            <a:off x="1066680" y="304920"/>
            <a:ext cx="6629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Black"/>
              </a:rPr>
              <a:t>Carboxylic Acids And Their Deriva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0" name="Picture 8" descr="ksulogo2.png"/>
          <p:cNvPicPr/>
          <p:nvPr/>
        </p:nvPicPr>
        <p:blipFill>
          <a:blip r:embed="rId5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781" name="Picture 9" descr="images.jpeg"/>
          <p:cNvPicPr/>
          <p:nvPr/>
        </p:nvPicPr>
        <p:blipFill>
          <a:blip r:embed="rId6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782" name="Straight Connector 10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175C4-CE2E-4785-B8FB-2CC03055FEF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4" name="Line 2053"/>
          <p:cNvSpPr/>
          <p:nvPr/>
        </p:nvSpPr>
        <p:spPr>
          <a:xfrm flipH="1">
            <a:off x="139320" y="6603840"/>
            <a:ext cx="190440" cy="0"/>
          </a:xfrm>
          <a:prstGeom prst="line">
            <a:avLst/>
          </a:prstGeom>
          <a:ln w="76320">
            <a:solidFill>
              <a:srgbClr val="eeece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5" name="AutoShape 2054">
            <a:hlinkClick r:id="" action="ppaction://hlinkshowjump?jump=previousslide"/>
          </p:cNvPr>
          <p:cNvSpPr/>
          <p:nvPr/>
        </p:nvSpPr>
        <p:spPr>
          <a:xfrm>
            <a:off x="139680" y="6413400"/>
            <a:ext cx="343080" cy="393840"/>
          </a:xfrm>
          <a:custGeom>
            <a:avLst/>
            <a:gdLst>
              <a:gd name="textAreaLeft" fmla="*/ 21960 w 343080"/>
              <a:gd name="textAreaRight" fmla="*/ 321120 w 343080"/>
              <a:gd name="textAreaTop" fmla="*/ 21960 h 393840"/>
              <a:gd name="textAreaBottom" fmla="*/ 371880 h 393840"/>
            </a:gdLst>
            <a:ahLst/>
            <a:rect l="textAreaLeft" t="textAreaTop" r="textAreaRight" b="textAreaBottom"/>
            <a:pathLst>
              <a:path w="21600" h="24792">
                <a:moveTo>
                  <a:pt x="0" y="0"/>
                </a:moveTo>
                <a:lnTo>
                  <a:pt x="21600" y="0"/>
                </a:lnTo>
                <a:lnTo>
                  <a:pt x="21600" y="24792"/>
                </a:lnTo>
                <a:lnTo>
                  <a:pt x="0" y="24792"/>
                </a:lnTo>
                <a:close/>
              </a:path>
              <a:path fill="lightenLess" w="21600" h="247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92">
                <a:moveTo>
                  <a:pt x="21600" y="0"/>
                </a:moveTo>
                <a:lnTo>
                  <a:pt x="21600" y="24792"/>
                </a:lnTo>
                <a:lnTo>
                  <a:pt x="20200" y="23393"/>
                </a:lnTo>
                <a:lnTo>
                  <a:pt x="20200" y="1400"/>
                </a:lnTo>
                <a:close/>
              </a:path>
              <a:path fill="darkenLess" w="21600" h="24792">
                <a:moveTo>
                  <a:pt x="21600" y="24792"/>
                </a:moveTo>
                <a:lnTo>
                  <a:pt x="0" y="24792"/>
                </a:lnTo>
                <a:lnTo>
                  <a:pt x="1400" y="23393"/>
                </a:lnTo>
                <a:lnTo>
                  <a:pt x="20200" y="23393"/>
                </a:lnTo>
                <a:close/>
              </a:path>
              <a:path fill="lighten" w="21600" h="24792">
                <a:moveTo>
                  <a:pt x="0" y="247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9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6" name="Rectangle 19"/>
          <p:cNvSpPr/>
          <p:nvPr/>
        </p:nvSpPr>
        <p:spPr>
          <a:xfrm>
            <a:off x="1440" y="990720"/>
            <a:ext cx="30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IUPAC Nomencla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7" name="Rectangle 20"/>
          <p:cNvSpPr/>
          <p:nvPr/>
        </p:nvSpPr>
        <p:spPr>
          <a:xfrm>
            <a:off x="0" y="1600200"/>
            <a:ext cx="914400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d the longest continuous carbon chain contains the COOH group to get the root name of the parent hydrocarbon,   then replace the ending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-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y the suffix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–oic aci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mber the chain starting with the carbon of COOH group as C-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there are substituents identify their names, positions and list them as prefixes in alphabetical ord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Examples:     </a:t>
            </a:r>
            <a:r>
              <a:rPr b="1" lang="en-GB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(CH</a:t>
            </a:r>
            <a:r>
              <a:rPr b="1" lang="en-GB" sz="2000" spc="-1" strike="noStrike" baseline="-25000">
                <a:solidFill>
                  <a:srgbClr val="00664d"/>
                </a:solidFill>
                <a:latin typeface="Times New Roman"/>
                <a:ea typeface="Times New Roman"/>
              </a:rPr>
              <a:t>3</a:t>
            </a:r>
            <a:r>
              <a:rPr b="1" lang="en-GB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)</a:t>
            </a:r>
            <a:r>
              <a:rPr b="1" lang="en-GB" sz="2000" spc="-1" strike="noStrike" baseline="-25000">
                <a:solidFill>
                  <a:srgbClr val="00664d"/>
                </a:solidFill>
                <a:latin typeface="Times New Roman"/>
                <a:ea typeface="Times New Roman"/>
              </a:rPr>
              <a:t>2</a:t>
            </a:r>
            <a:r>
              <a:rPr b="1" lang="en-GB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CH - CH(CH</a:t>
            </a:r>
            <a:r>
              <a:rPr b="1" lang="en-GB" sz="2000" spc="-1" strike="noStrike" baseline="-25000">
                <a:solidFill>
                  <a:srgbClr val="00664d"/>
                </a:solidFill>
                <a:latin typeface="Times New Roman"/>
                <a:ea typeface="Times New Roman"/>
              </a:rPr>
              <a:t>3</a:t>
            </a:r>
            <a:r>
              <a:rPr b="1" lang="en-GB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) - CH</a:t>
            </a:r>
            <a:r>
              <a:rPr b="1" lang="en-GB" sz="2000" spc="-1" strike="noStrike" baseline="-25000">
                <a:solidFill>
                  <a:srgbClr val="00664d"/>
                </a:solidFill>
                <a:latin typeface="Times New Roman"/>
                <a:ea typeface="Times New Roman"/>
              </a:rPr>
              <a:t>2</a:t>
            </a:r>
            <a:r>
              <a:rPr b="1" lang="en-GB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- CH</a:t>
            </a:r>
            <a:r>
              <a:rPr b="1" lang="en-GB" sz="2000" spc="-1" strike="noStrike" baseline="-25000">
                <a:solidFill>
                  <a:srgbClr val="00664d"/>
                </a:solidFill>
                <a:latin typeface="Times New Roman"/>
                <a:ea typeface="Times New Roman"/>
              </a:rPr>
              <a:t>2</a:t>
            </a:r>
            <a:r>
              <a:rPr b="1" lang="en-GB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- COOH   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all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</a:t>
            </a:r>
            <a:r>
              <a:rPr b="1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4,5-Dimethylhexanoic acid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8" name="Picture 6" descr="http://www.chemguide.co.uk/organicprops/acids/acidformulae.gif"/>
          <p:cNvPicPr/>
          <p:nvPr/>
        </p:nvPicPr>
        <p:blipFill>
          <a:blip r:embed="rId1"/>
          <a:stretch/>
        </p:blipFill>
        <p:spPr>
          <a:xfrm>
            <a:off x="104760" y="4467240"/>
            <a:ext cx="5610240" cy="1476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89" name="Object 1"/>
          <p:cNvGraphicFramePr/>
          <p:nvPr/>
        </p:nvGraphicFramePr>
        <p:xfrm>
          <a:off x="7877160" y="4665600"/>
          <a:ext cx="1139760" cy="668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90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77160" y="4665600"/>
                    <a:ext cx="113976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1" name="Object 2"/>
          <p:cNvGraphicFramePr/>
          <p:nvPr/>
        </p:nvGraphicFramePr>
        <p:xfrm>
          <a:off x="5907240" y="4665600"/>
          <a:ext cx="1139760" cy="668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92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907240" y="4665600"/>
                    <a:ext cx="113976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3" name="Rectangle 4"/>
          <p:cNvSpPr/>
          <p:nvPr/>
        </p:nvSpPr>
        <p:spPr>
          <a:xfrm>
            <a:off x="5787360" y="5575320"/>
            <a:ext cx="14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tanoic ac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4" name="Rectangle 12"/>
          <p:cNvSpPr/>
          <p:nvPr/>
        </p:nvSpPr>
        <p:spPr>
          <a:xfrm>
            <a:off x="7586640" y="560376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ntanoic ac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5" name="Rectangle 2"/>
          <p:cNvSpPr/>
          <p:nvPr/>
        </p:nvSpPr>
        <p:spPr>
          <a:xfrm>
            <a:off x="1066680" y="304920"/>
            <a:ext cx="6629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Black"/>
              </a:rPr>
              <a:t>Carboxylic Acids And Their Deriva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6" name="Picture 13" descr="ksulogo2.png"/>
          <p:cNvPicPr/>
          <p:nvPr/>
        </p:nvPicPr>
        <p:blipFill>
          <a:blip r:embed="rId6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797" name="Picture 14" descr="images.jpeg"/>
          <p:cNvPicPr/>
          <p:nvPr/>
        </p:nvPicPr>
        <p:blipFill>
          <a:blip r:embed="rId7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798" name="Straight Connector 15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680ED-21E0-4561-B6AA-611DC4D3512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0" name="Rectangle 6"/>
          <p:cNvSpPr/>
          <p:nvPr/>
        </p:nvSpPr>
        <p:spPr>
          <a:xfrm>
            <a:off x="76320" y="2562120"/>
            <a:ext cx="8972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yclic compounds containing one or more COOH groups attached to the ring are named by identifying the name of the ring followed by the word carboxylic acid or dicarboxylic acid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tc.  The </a:t>
            </a:r>
            <a:r>
              <a:rPr b="1" lang="en-GB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carbon atom bearing the carboxylic group is numbered 1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the substituents are numbered relative to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01" name="Object 14"/>
          <p:cNvGraphicFramePr/>
          <p:nvPr/>
        </p:nvGraphicFramePr>
        <p:xfrm>
          <a:off x="318960" y="3886200"/>
          <a:ext cx="845820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2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3886200"/>
                    <a:ext cx="845820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3" name="Object 1"/>
          <p:cNvGraphicFramePr/>
          <p:nvPr/>
        </p:nvGraphicFramePr>
        <p:xfrm>
          <a:off x="380880" y="1165320"/>
          <a:ext cx="1843200" cy="92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04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1165320"/>
                    <a:ext cx="184320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5" name="Object 2"/>
          <p:cNvGraphicFramePr/>
          <p:nvPr/>
        </p:nvGraphicFramePr>
        <p:xfrm>
          <a:off x="4522680" y="1089000"/>
          <a:ext cx="1306800" cy="615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06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22680" y="1089000"/>
                    <a:ext cx="130680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7" name="Object 3"/>
          <p:cNvGraphicFramePr/>
          <p:nvPr/>
        </p:nvGraphicFramePr>
        <p:xfrm>
          <a:off x="7086600" y="1317600"/>
          <a:ext cx="1827360" cy="309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08" name="Object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86600" y="1317600"/>
                    <a:ext cx="182736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9" name="مربع نص 20"/>
          <p:cNvSpPr/>
          <p:nvPr/>
        </p:nvSpPr>
        <p:spPr>
          <a:xfrm>
            <a:off x="6705720" y="211464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4-Butandioic ac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0" name="مربع نص 22"/>
          <p:cNvSpPr/>
          <p:nvPr/>
        </p:nvSpPr>
        <p:spPr>
          <a:xfrm>
            <a:off x="0" y="213372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-Bromo-2-hydroxy-4-hexenoic ac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1" name="مربع نص 21"/>
          <p:cNvSpPr/>
          <p:nvPr/>
        </p:nvSpPr>
        <p:spPr>
          <a:xfrm>
            <a:off x="3962520" y="211464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-Aminobutanoic ac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2" name="Rectangle 2"/>
          <p:cNvSpPr/>
          <p:nvPr/>
        </p:nvSpPr>
        <p:spPr>
          <a:xfrm>
            <a:off x="1066680" y="304920"/>
            <a:ext cx="6629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Black"/>
              </a:rPr>
              <a:t>Carboxylic Acids And Their Deriva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3" name="Picture 11" descr="ksulogo2.png"/>
          <p:cNvPicPr/>
          <p:nvPr/>
        </p:nvPicPr>
        <p:blipFill>
          <a:blip r:embed="rId9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814" name="Picture 12" descr="images.jpeg"/>
          <p:cNvPicPr/>
          <p:nvPr/>
        </p:nvPicPr>
        <p:blipFill>
          <a:blip r:embed="rId10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815" name="Straight Connector 13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E8B97-B053-4D10-9B1D-3F44B588D01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7" name="Rectangle 12"/>
          <p:cNvSpPr/>
          <p:nvPr/>
        </p:nvSpPr>
        <p:spPr>
          <a:xfrm>
            <a:off x="0" y="1523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aromatic compounds have common names accepted by the IUPAC also they can be named 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 benzene carboxylic ac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18" name="Object 3"/>
          <p:cNvGraphicFramePr/>
          <p:nvPr/>
        </p:nvGraphicFramePr>
        <p:xfrm>
          <a:off x="457200" y="2666880"/>
          <a:ext cx="8001000" cy="14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66880"/>
                    <a:ext cx="800100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0" name="Rectangle 2"/>
          <p:cNvSpPr/>
          <p:nvPr/>
        </p:nvSpPr>
        <p:spPr>
          <a:xfrm>
            <a:off x="1066680" y="304920"/>
            <a:ext cx="6629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Black"/>
              </a:rPr>
              <a:t>Carboxylic Acids And Their Deriva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1" name="Picture 5" descr="ksulogo2.png"/>
          <p:cNvPicPr/>
          <p:nvPr/>
        </p:nvPicPr>
        <p:blipFill>
          <a:blip r:embed="rId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822" name="Picture 6" descr="images.jpeg"/>
          <p:cNvPicPr/>
          <p:nvPr/>
        </p:nvPicPr>
        <p:blipFill>
          <a:blip r:embed="rId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823" name="Straight Connector 7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CE70A-E464-4F84-A0A4-9471B6C776F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5" name="PlaceHolder 1"/>
          <p:cNvSpPr>
            <a:spLocks noGrp="1"/>
          </p:cNvSpPr>
          <p:nvPr>
            <p:ph type="title"/>
          </p:nvPr>
        </p:nvSpPr>
        <p:spPr>
          <a:xfrm>
            <a:off x="0" y="968400"/>
            <a:ext cx="840096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4f81bd"/>
                </a:solidFill>
                <a:uFillTx/>
                <a:latin typeface="Times New Roman"/>
                <a:ea typeface="Times New Roman"/>
              </a:rPr>
              <a:t>Physical Properties OF Carboxylic Aci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6" name="Rectangle 2"/>
          <p:cNvSpPr/>
          <p:nvPr/>
        </p:nvSpPr>
        <p:spPr>
          <a:xfrm>
            <a:off x="1066680" y="304920"/>
            <a:ext cx="6629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Black"/>
              </a:rPr>
              <a:t>Carboxylic Acids And Their Deriva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7" name="Picture 6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828" name="Picture 7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829" name="Straight Connector 8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0" name="Content Placeholder 2"/>
          <p:cNvSpPr/>
          <p:nvPr/>
        </p:nvSpPr>
        <p:spPr>
          <a:xfrm>
            <a:off x="-15840" y="1828800"/>
            <a:ext cx="914400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1) Boiling Po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rboxylic acids have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xceptionally high boiling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ints than alcohols of identical relative molecular masses, For examp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3399"/>
                </a:solidFill>
                <a:latin typeface="Arial"/>
                <a:ea typeface="Arial"/>
              </a:rPr>
              <a:t>         </a:t>
            </a:r>
            <a:r>
              <a:rPr b="1" lang="en-GB" sz="2000" spc="-1" strike="noStrike">
                <a:solidFill>
                  <a:srgbClr val="cc0000"/>
                </a:solidFill>
                <a:latin typeface="Comic Sans MS"/>
                <a:ea typeface="Arial"/>
              </a:rPr>
              <a:t>M.F. </a:t>
            </a:r>
            <a:r>
              <a:rPr b="1" lang="en-GB" sz="2000" spc="-1" strike="noStrike">
                <a:solidFill>
                  <a:srgbClr val="cc0000"/>
                </a:solidFill>
                <a:latin typeface="Comic Sans MS"/>
                <a:ea typeface="Arial"/>
              </a:rPr>
              <a:t>	</a:t>
            </a:r>
            <a:r>
              <a:rPr b="1" lang="en-GB" sz="2000" spc="-1" strike="noStrike">
                <a:solidFill>
                  <a:srgbClr val="cc0000"/>
                </a:solidFill>
                <a:latin typeface="Comic Sans MS"/>
                <a:ea typeface="Arial"/>
              </a:rPr>
              <a:t>	</a:t>
            </a:r>
            <a:r>
              <a:rPr b="1" lang="en-GB" sz="2000" spc="-1" strike="noStrike">
                <a:solidFill>
                  <a:srgbClr val="cc0000"/>
                </a:solidFill>
                <a:latin typeface="Comic Sans MS"/>
                <a:ea typeface="Arial"/>
              </a:rPr>
              <a:t>M.W</a:t>
            </a:r>
            <a:r>
              <a:rPr b="1" lang="en-GB" sz="2000" spc="-1" strike="noStrike">
                <a:solidFill>
                  <a:srgbClr val="cc0000"/>
                </a:solidFill>
                <a:latin typeface="Comic Sans MS"/>
                <a:ea typeface="Arial"/>
              </a:rPr>
              <a:t>	</a:t>
            </a:r>
            <a:r>
              <a:rPr b="1" lang="en-GB" sz="2000" spc="-1" strike="noStrike">
                <a:solidFill>
                  <a:srgbClr val="cc0000"/>
                </a:solidFill>
                <a:latin typeface="Comic Sans MS"/>
                <a:ea typeface="Arial"/>
              </a:rPr>
              <a:t>	</a:t>
            </a:r>
            <a:r>
              <a:rPr b="1" lang="en-GB" sz="2000" spc="-1" strike="noStrike">
                <a:solidFill>
                  <a:srgbClr val="cc0000"/>
                </a:solidFill>
                <a:latin typeface="Comic Sans MS"/>
                <a:ea typeface="Arial"/>
              </a:rPr>
              <a:t>bp / °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Comic Sans MS"/>
                <a:ea typeface="Arial"/>
              </a:rPr>
              <a:t> </a:t>
            </a:r>
            <a:r>
              <a:rPr b="1" lang="en-GB" sz="2000" spc="-1" strike="noStrike">
                <a:solidFill>
                  <a:srgbClr val="cc0000"/>
                </a:solidFill>
                <a:latin typeface="Comic Sans MS"/>
                <a:ea typeface="Arial"/>
              </a:rPr>
              <a:t>Propanol</a:t>
            </a:r>
            <a:r>
              <a:rPr b="1" lang="en-GB" sz="2000" spc="-1" strike="noStrike">
                <a:solidFill>
                  <a:srgbClr val="cc0000"/>
                </a:solidFill>
                <a:latin typeface="Comic Sans MS"/>
                <a:ea typeface="Arial"/>
              </a:rPr>
              <a:t>	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  <a:ea typeface="Arial"/>
              </a:rPr>
              <a:t>C</a:t>
            </a:r>
            <a:r>
              <a:rPr b="1" lang="en-GB" sz="2000" spc="-1" strike="noStrike" baseline="-25000">
                <a:solidFill>
                  <a:srgbClr val="cc0000"/>
                </a:solidFill>
                <a:latin typeface="Arial"/>
                <a:ea typeface="Arial"/>
              </a:rPr>
              <a:t>3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  <a:ea typeface="Arial"/>
              </a:rPr>
              <a:t>H</a:t>
            </a:r>
            <a:r>
              <a:rPr b="1" lang="en-GB" sz="2000" spc="-1" strike="noStrike" baseline="-25000">
                <a:solidFill>
                  <a:srgbClr val="cc0000"/>
                </a:solidFill>
                <a:latin typeface="Arial"/>
                <a:ea typeface="Arial"/>
              </a:rPr>
              <a:t>8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  <a:ea typeface="Arial"/>
              </a:rPr>
              <a:t>O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  <a:ea typeface="Arial"/>
              </a:rPr>
              <a:t>60.01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  <a:ea typeface="Arial"/>
              </a:rPr>
              <a:t>   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  <a:ea typeface="Arial"/>
              </a:rPr>
              <a:t>97.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Comic Sans MS"/>
                <a:ea typeface="Arial"/>
              </a:rPr>
              <a:t>Ethanoic acid</a:t>
            </a:r>
            <a:r>
              <a:rPr b="1" lang="en-GB" sz="2000" spc="-1" strike="noStrike">
                <a:solidFill>
                  <a:srgbClr val="cc0000"/>
                </a:solidFill>
                <a:latin typeface="Comic Sans MS"/>
                <a:ea typeface="Arial"/>
              </a:rPr>
              <a:t>	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  <a:ea typeface="Arial"/>
              </a:rPr>
              <a:t>C</a:t>
            </a:r>
            <a:r>
              <a:rPr b="1" lang="en-GB" sz="2000" spc="-1" strike="noStrike" baseline="-25000">
                <a:solidFill>
                  <a:srgbClr val="cc0000"/>
                </a:solidFill>
                <a:latin typeface="Arial"/>
                <a:ea typeface="Arial"/>
              </a:rPr>
              <a:t>2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  <a:ea typeface="Arial"/>
              </a:rPr>
              <a:t>H</a:t>
            </a:r>
            <a:r>
              <a:rPr b="1" lang="en-GB" sz="2000" spc="-1" strike="noStrike" baseline="-25000">
                <a:solidFill>
                  <a:srgbClr val="cc0000"/>
                </a:solidFill>
                <a:latin typeface="Arial"/>
                <a:ea typeface="Arial"/>
              </a:rPr>
              <a:t>4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  <a:ea typeface="Arial"/>
              </a:rPr>
              <a:t>O</a:t>
            </a:r>
            <a:r>
              <a:rPr b="1" lang="en-GB" sz="2000" spc="-1" strike="noStrike" baseline="-25000">
                <a:solidFill>
                  <a:srgbClr val="cc0000"/>
                </a:solidFill>
                <a:latin typeface="Arial"/>
                <a:ea typeface="Arial"/>
              </a:rPr>
              <a:t>2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  <a:ea typeface="Arial"/>
              </a:rPr>
              <a:t>        60.05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  <a:ea typeface="Arial"/>
              </a:rPr>
              <a:t>       1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rboxylic acids have higher boiling points than alcohols and aldehydes, because their dimeric structur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ydrogen-bonded acid dim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1DE3F-6C03-41EF-9821-940E515C1AA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32" name="Object 2"/>
          <p:cNvGraphicFramePr/>
          <p:nvPr/>
        </p:nvGraphicFramePr>
        <p:xfrm>
          <a:off x="3903840" y="5224320"/>
          <a:ext cx="4163760" cy="132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3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03840" y="5224320"/>
                    <a:ext cx="4163760" cy="13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3:16:56Z</dcterms:created>
  <dc:creator>NCCR</dc:creator>
  <dc:description/>
  <cp:keywords/>
  <dc:language>en-US</dc:language>
  <cp:lastModifiedBy>hp</cp:lastModifiedBy>
  <dcterms:modified xsi:type="dcterms:W3CDTF">2015-03-13T20:20:33Z</dcterms:modified>
  <cp:revision>154</cp:revision>
  <dc:subject/>
  <dc:title>TYPES OF HYBRIDIZATION AND GEOMETRY OF MOLECU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480</vt:lpwstr>
  </property>
</Properties>
</file>