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14.wmf" ContentType="image/x-wmf"/>
  <Override PartName="/ppt/media/image53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2.png" ContentType="image/png"/>
  <Override PartName="/ppt/media/image25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7.wmf" ContentType="image/x-wmf"/>
  <Override PartName="/ppt/media/image20.wmf" ContentType="image/x-wmf"/>
  <Override PartName="/ppt/media/image22.wmf" ContentType="image/x-wmf"/>
  <Override PartName="/ppt/media/image59.wmf" ContentType="image/x-wmf"/>
  <Override PartName="/ppt/media/image58.wmf" ContentType="image/x-wmf"/>
  <Override PartName="/ppt/media/image21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18.wmf" ContentType="image/x-wmf"/>
  <Override PartName="/ppt/media/image28.wmf" ContentType="image/x-wmf"/>
  <Override PartName="/ppt/media/image30.png" ContentType="image/png"/>
  <Override PartName="/ppt/media/image36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6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17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1.png" ContentType="image/png"/>
  <Override PartName="/ppt/media/image34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png" ContentType="image/png"/>
  <Override PartName="/ppt/media/image5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dt" idx="18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ftr" idx="18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6"/>
          <p:cNvSpPr>
            <a:spLocks noGrp="1"/>
          </p:cNvSpPr>
          <p:nvPr>
            <p:ph type="sldNum" idx="18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4E7-FF72-4178-83B9-C3247F8A6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893-72C6-424F-B246-CE02D03C70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08E-5DA7-4CD7-A294-72287436A0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D136-1C18-422B-A043-F248F203B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F28-FE8C-4E94-BFA2-2A8A26CE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521-AF90-49AC-9A08-F85F474A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984D2-D06A-439C-94B0-64C32DEB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E4886-D0A8-49EC-B7FC-934917ED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DF342-57E9-4660-A450-687B5C9C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D6E9F-5937-4C26-8CFF-39391FB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B914-3C65-4BB1-9532-ACEE105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C27D2-1E75-482C-A8DC-B85FC42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DAB0-D389-4E0D-B974-C147158B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3AD4-C732-4BFD-BCCE-07CE7AA1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81C3A-17A2-4A2E-8826-13B7BDFD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6EBA0-5BA1-43FD-8812-44C2CBF6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0C0-12E4-405F-8BA9-0ACEC0D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0BF5C-7A45-404B-9C25-1EF34E84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DDB7B-717C-4F22-9742-79A74ECE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AF539-A9E7-4772-93D8-DAB1E61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F3E19-525D-46E1-915B-FB144AD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5F321-3E49-4474-87D0-08CDAE28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E766C-D717-4623-A0AD-BAA1635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2045E-1CE7-4FAC-B875-FF71ED9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7030-330D-43FE-96B9-7DB5D30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85485-CC9B-4E23-BB7B-741770F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19E5A-C75E-44AB-BBDD-6E6A2016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246-7322-40A7-86F4-433C3FD8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6C7A2-1675-4D7C-9285-70F7841B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5CB9-85DC-4FBB-8078-E2A6DF67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90AC4-A41D-4399-A2AA-926C304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77BBE-96A6-428C-9AF0-BC665EF5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31C20-06CF-4E17-B3ED-975705D4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9BBC-4587-4CE1-9615-C2CCF65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39D7-F2BB-4940-9EAC-B22EE9A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5111-D4D5-4BDA-8D1F-4A9FC65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A742-412A-4E0E-88DF-4E20B47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ECFD-DDC6-49E3-9221-E3153C1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D34-05EE-4477-9510-D63F3E2A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BB7C-619F-441C-9755-9ABCDD5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8966-26CB-444A-90A7-0A485856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4260-31F5-4323-BF74-7C427BC3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E0A0E-5D3A-4A6E-AFCA-870A0C40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50D4A-D9E7-44B5-9CD0-D0858959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7D3DD-235B-44ED-A364-460D974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07CB-5B41-4330-8BBF-5757140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0DF1E-B288-4F16-87C5-9091B39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CD6F-09AA-4776-A956-CE78F3C4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84C16-42A7-4E63-8E66-33126D4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9B4-8981-46A3-B0EC-20196627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8E52E-6E48-4F42-A3C8-3E7A7C9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3CEF-4235-4858-8567-1FD8D2B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FF32-937E-455F-87BF-B11E5A12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BF44E-67E5-4A33-9B88-FE21BE50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F4FDD-8073-452A-8A6C-014A19BD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081B0-7982-49E1-A254-13FD95CD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93502-C636-4285-AC90-119D076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42160-F618-4C44-9032-D550869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F71AC-EB27-418D-A188-8C9A05B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575A1-B464-4A02-B337-E0C521D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771D-9CEB-402D-A893-A703E8D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B3ADB-DEDE-464A-9307-1352AF0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6237D-CC05-4274-9BE8-DEC5CA3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58C02-F6F5-40E2-A129-7ABB219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CAC4A-900F-4980-9A23-9CBADEB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3B7D1-4402-4B52-9E44-95944A1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7F2D5-BC09-4D6A-8FB5-6DE32406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C2136-5F25-4F23-8402-E5A676D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902CB-4576-4CBA-B966-190C911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5166A-2D9D-4913-8862-D8F1E9B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3DCFB-0D8C-49C1-ACAE-BBBD2475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0A73-2878-4E99-96E0-F55CF52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53014-F45D-4905-8CA7-293D306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32136-E8E6-479A-BB12-5026840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DDC1B-55EE-4051-B561-8AC1D08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68139-B4B5-4B00-8350-5F2A74C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EAEE8-3956-4D72-8AB2-0F37BC2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3D770-FBB2-417C-8FC5-08F4AB5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8996C-6444-422C-8335-B68F911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64CDB-DFFF-4503-B15A-02833D45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F5C1B-5483-40AA-B6BB-7AE1A5FA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61610-5DA8-4073-8667-86C0217D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58CE-52FE-4582-A9B1-A17EFCAA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DA859-7F3D-4323-93C4-68F0C61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7397F-F20B-4EFF-9620-70475BDA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8011E-9431-40B7-81EE-457CF5D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248B0-FFA9-46E3-8A03-D976DFB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20D5C-97A0-4E2D-9BEA-25908B61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C8CEC-04D3-4104-A3C0-AF490E0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B7F49-C13C-45FF-8384-96E5520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AB390-4527-4224-B895-5DF1773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9F886-3809-4442-9976-24B9809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6FCDA-A2C7-46B9-94AA-B67425CD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639F-3DDE-4086-A9AC-108A1A95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D4F57-706E-4AB3-89CD-78C3991D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096BA-E518-4899-9BE1-7AA6388D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B9DA3-12A7-49BB-8D20-EDEF2DA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5C5E4-D8FF-4F32-A526-81ABFE31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521B2-5771-49BA-B83C-A2713BCF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E18C2-E157-4788-8587-9942CB7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243F8-3BC3-4535-A0B8-E8020C1E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CE5FC-FF61-48EA-9C81-2D04FCB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04D60-FBAF-4432-A71C-5CD9C8E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2CA3D-7F39-4230-9237-5EFA062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B5F-2CE0-42EE-8870-73616DE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E191E-3793-4D93-B928-125B5B3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3FCDB-91EF-46BA-8061-7C54ED1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B67D3-2110-4344-8015-0C302E4E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98E22-2E7C-4CF4-A062-927A5E3B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28E1D-F919-4634-95B0-BE7BD8F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D75D1-AE61-4C01-ADDF-254DEEC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A4791-8A3C-4220-963B-1F0EAB3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39D25-36FE-496F-A514-440F4E75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4D37F-E88D-483D-B134-D8D8BE9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BE3C5-70C8-448E-AD42-8AE4B2E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523-EED1-42EE-8A75-A8B45C6D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550-4458-4714-96BD-A38F584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7C115-7680-4490-AA79-0CAF0AE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0A605-1DFC-4D66-B141-2DB3440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CA04F-D96B-45FC-8720-D20887A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27D5B-72AD-435B-80A5-021BB2F5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4C316-ABD8-4352-B931-782DA910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F5BB0-B5E7-46FE-AB06-FF8A44AB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302D2-11E2-46F9-92A7-7BDA76AF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0DC63-D5D5-4F8E-AE73-C5429A9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84BCC-544C-415D-A7DC-1074675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10014-4195-4723-9825-2A618C0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559-D2C0-42D1-B615-6331F18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26E4F-8758-49B6-8292-365334E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150A7-D4AC-4665-AE12-7CAD58D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07565-C4FD-4D37-9CF0-C3C56C8E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9745D-CEF0-474B-9339-D4A1423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59000-0D0A-454E-AEED-0DE75F3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42DA8-2962-4B77-8BE0-9B5FCB7A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AE9D1-918C-4571-A3CD-407F6DE8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71996-BF0A-433A-9911-D6E35B2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0E153-6D90-4B5D-8A18-20E1020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82074-7DB1-4846-9974-734C155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50A-B37A-4F05-BFF1-7F14DE1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89281-E984-4B94-9792-AF49E7D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5C386-A935-454B-B3ED-E8F10BA7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7B37D-EE2D-4A85-B192-E6C96CC4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9A0D6-D0F6-4693-99BC-456858C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C1F6E-F122-40D1-91BE-2DD4BED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C3737-A8C7-48BA-8C07-28B5F4E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2E1F9-9EE9-4136-A4FE-D3EA739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74831-5CC7-4A79-BA0F-374F8633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D7798-10CE-45EC-8FB7-A9371C82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7A9B2-ABB5-44C5-99FA-A2172481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4A60-9C05-408F-A16B-02E063E8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B6BB4-2CDA-4564-BD0A-C6958E3A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57EC7-3B7A-4531-997A-0F498CA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D0069-3CD4-428F-B6CD-E493C12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5F8F7-77AD-48A9-BB96-BFC19FB1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B9C34-99B9-4ECD-BD43-DAFBEA4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50FE2-BFCC-4FBC-AFB8-3CBC973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7CFD4-7557-4779-9F54-7ED3AAE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3DA05-B490-4963-9108-12D03ED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C4B9D-9B51-4279-AEF6-54525AD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6D4EC-A8D4-4836-BC30-498CEE70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36A5-54EC-4239-B52B-8AC183B8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9CD68-B434-4287-A63F-A09317F8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67106-3A89-4C6B-A379-12303A70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D83EE-E364-409D-A5CD-FDA33A4D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0D0B6-6B0A-44CC-9FEE-FED0A98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87A25-BC29-4A03-85D8-9A1C91CA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B2F8F-C5A9-4CD5-8D7D-16E3A1B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FC070-BF2C-4D1E-9DF8-9DDDA668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9DC69-0E22-4818-9F23-E95E0393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4955D-7779-45D2-9289-E45162B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9DF6E-9AA1-43C5-B2BE-6EFACAA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D775-4075-4969-B82E-7426C247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DD498-10E8-4A8C-8AE8-6393E567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2F167-DEF5-490B-BF92-F17DD62A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797A4-89DD-497E-9EDD-0815A269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BBAED-3AA4-4E79-AC18-88A9D5F0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3CB28-4836-460C-B969-A9A78F3C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0602D-FF89-4692-9606-7503160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E5D4A7-1517-4AB1-B6DE-62985024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A4058-F147-441B-AFE5-30C8139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2245A-CB8E-4BE6-A900-D691DF0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5C339-37D0-4E4C-B174-28B87E4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E60D-A705-43B7-A98C-6297EC01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3D24C-3CF8-4011-B312-20173BA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A7551-49ED-4916-844F-EC9E1B0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176746-3E9F-4849-B326-80D7A54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CF268-0AE1-4500-973A-80552802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533584-2758-45D1-8DD5-DEFD5265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2D107-B3C3-45BD-BEC0-0636C3A8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2369B3-E484-408C-AFE7-47EB2B67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C682B-144C-4292-8DAC-B6439DC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20E338-A896-4744-AFDB-19CB27EE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4A840-3DE6-4012-AA4F-BAD82EF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D018-CD47-4DE7-AF00-E3C7D96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8E8ACF-9575-479D-B9B8-98D9083A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5D21B2-1092-4B4E-ABE8-C01782D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57368A-88D4-47BF-B020-B8749E4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A993F3-3CEC-4D24-8B5B-7E1A31A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F442D-8D26-401F-AEFE-AB3E82FA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B7D29-E9D6-4359-B5EF-F93713F9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D0714-5A7D-41D8-993D-7C2171B1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91171-9866-456B-8694-987A0622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33EFB1-7DA4-464D-9D2C-2C0B559D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D57984-7CB0-4D97-8EB7-A858F21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1EA7-E79E-4F76-B70F-910AFB2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CE88CD-3F45-48B1-A91B-E353A36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2E5B9-B793-42F3-9E40-8B373DA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76CAFB-26BE-4854-9D3F-C0B3DF7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A67AC-8F3D-4E19-89FD-F143137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7C50BE-DCD6-499D-ACC9-69F7B26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F5150A-732B-435E-8416-3E44E63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87A793-D61C-498C-AC20-782853AD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7B318-8F90-40A0-813D-8954DC61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3B6486-1811-4F81-BE8F-E072BEE4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9B0980-B02E-464F-B736-5CE20668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8D4D-291D-4CEC-A8FA-957D587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E39F64-0008-4A2F-9A55-55C21CD2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D82740-40F0-4CC0-963F-52261DB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A2240-6EBD-4C86-9C11-53CE05CB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D8D86E-0233-4320-A662-6BEC603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512280-991A-4CD9-889B-2950C29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407FF-E98C-4451-A485-330D5D6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6131D-7429-4B23-A301-0E04EE5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4E55E7-52D2-475F-92A7-C6CF506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71BEFA-E52F-4FE2-86E1-C79D563D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2128C-BCCB-4830-AB9A-B7A1F163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8FE-0360-4287-B184-76F1362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F5B5-D08B-478C-8837-CA2251E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253E81-80CC-4691-8D56-E2BDDB8B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A38DA-4307-40A4-A578-F28AC391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F7051-31CE-44F5-852A-B39FCFD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CD4FA6-733D-4554-8D56-32D9D372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479608-08E8-4207-A38C-B8BC652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3F21B3-8157-4971-8C89-8FAA6D7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6330A-74FD-49F5-AFAD-A0BC1F84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903A3-DEFE-4BA9-94BE-3F679FD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5E67E9-4E7B-48D1-9F5C-B26BDD8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477FE0-2C56-4C01-B6AF-B8C47F9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98EC-1D09-4CFE-88F8-1081C93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BE511-09DC-4DE8-A9EE-E0F0E407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5BEE8A-D7FB-474D-8DCD-DC2474D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675C5B-01EA-4544-9B9D-1E609547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A50094-75F1-4BCF-BB94-65EE0D63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84CB07-869B-4646-AAA1-C3D61109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A1176B-9925-4B5C-9533-9317D2E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94D125-B06C-4502-883E-39A88789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208563-0243-4E1E-A9EC-0CFC30E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2983F6-4B83-4BC4-B568-364A6D1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85AFB0-AAA2-4212-B417-3A012C9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C5D0-464E-4E79-BF96-80F0833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09E4EB-0816-4D04-8A55-9667A1E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7662FB-288E-4436-A64B-B246A87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A06175-A9A1-4D2B-A3B9-4969A0E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72157C-3E23-423B-BC7F-55E26FC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2E3805-92C7-4EE2-AC8F-0A8AA2BE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43C30E-066C-452D-BB5A-2F34E338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4645FD-F738-48D0-9DC5-3817476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B8CCF4-0452-4AFB-9ACC-2CFFAB44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D3A259-3B18-49E1-A71A-4F1F96E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651191-B0CE-48C6-952A-3A456EE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C2D0-62A2-4415-954C-D9D5879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A56D2E-2A8E-4308-83D7-CEC92ABC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B2782B-C6CF-4B13-9672-50228A4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1E2A3E-C6EC-4806-BECA-2DBDF4C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C2A346-6753-4DAF-ADD4-2C01D02C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428584-61BF-48E9-B3D2-5C44B57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6A8E94-5B43-4EA1-B16D-FFF21EA4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663821-5B4D-4BF4-83F3-B890D975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A1769-4191-4097-A65D-E77F54B1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E67073-EC82-44F4-95A7-B19CA96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6A64B0-50D8-44D8-A8A8-4A36721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9E6B-6D6C-4502-A8BD-1023EECD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4A93AA-C664-45B9-A359-33054379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096465-8875-4673-A0D2-961210ED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7A05C1-B7DE-4641-A5D2-D771F0A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589CD2-90B3-4172-98DD-357421E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CF8A12-4C3B-49E5-A017-1C1AA22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148AEB-7E20-424E-9DFC-88BAB499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BD9570-03EA-4DA5-9895-DDCF452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687C49-3FA0-43EC-898B-077E3DD1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A3E719-1603-4A3D-A004-65D2F84F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29571F-D7DD-4DF3-9487-7406DE7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D76B-A4F4-4352-B436-5CDC1466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52E791-720A-4408-8CBD-6EACEC4F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86E146-D24E-433B-A2E2-FE506E4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4CF227-C57D-4CEF-BDA5-854CC50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5D8B0D-2445-4291-A709-DF8DE5B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F77A95-9695-4CB1-AAC0-38F5C80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E011B2-DDBD-4955-8895-41ADDE7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EB0129-8E14-483F-987A-7E462CF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48E0D4-0AA0-4DA2-9339-44B09A7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FBE8D0-6B4B-4B2B-A911-3D8B5D9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30EFEF-AED4-4C81-A042-8DC3598A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CBF6-3B23-4B31-BBA3-118AB607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7760A4-2B01-4746-99AE-4E16DC98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0DD418-20A7-4FE1-B12B-F2625FFF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C79146-3FB3-458B-A08D-26BAC06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869D4-31ED-4479-83A7-D87BCA1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71D2C8-187C-4D3F-BD06-4F424CC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672966-A6A0-4202-9AB8-3992F7A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6F5324-B28C-4F6B-91C0-4F6DB08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31A475-E380-40D1-8421-979BBB4D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90FA28-9065-4036-AA18-7A8F5AE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D89BF4-6DB3-4B9B-A639-C430D7D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8A48-34FF-411E-8620-7B7A1B90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E2C6EC-1DFA-4DBF-9B32-8C70D02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630EEE-82F7-48EE-8A0B-679DB4AC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1600EB-5D5A-48E0-8B91-1B9D8E02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B26EC4-B3A1-4C98-A2AB-709130A6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09E3B9-CA9F-4AE4-8A90-EAE8F511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0511E4-A63F-4B25-BF5A-0E1F2F9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D783E6-8163-4CA4-B70D-76FA4B7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09093D-5FD3-4575-B16A-12C3D03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751DC4-281D-4E39-BE17-A86777C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64C9EA-5F3C-40F7-8B06-4EFF04D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D4A2-A390-44CA-8EA5-6A8F6E6E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F35B15-0AFC-430B-A229-B516155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03A1FB-0D31-4E67-85F0-7EBFD7A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6DA527-8258-4D98-B753-DD6475D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597EF8-F5D0-4311-BB96-34AF8C47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4C1157-E6F1-4549-916A-F0261418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536745-7B63-41E7-B566-65E20642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DBDE99-0E9B-467F-A01B-8E25465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C26C3E-E50B-4360-8AA5-D16C19B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B454A3-3A5D-422F-84EC-6C40FF9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2CFCB4-F528-40D6-A271-BAF95024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40AA-3CEF-4B3B-90E4-C46E798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2152DD-5DC4-4774-A88F-8EDF1CAE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F5686E-8B0B-4925-B0FA-69112D8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CAAB3A-03BC-4AE1-9C22-22FD77A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5CE11E-D705-46EC-9918-33757E1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F2004C-6C20-4401-B325-CDC70FA7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C2DD23-98A9-46B4-829E-9E48219D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84ADB3-0E71-4025-81DA-B4BE0C6C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6ACDB3-D975-4072-87E5-FAC8A8C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F2814F-48BC-4F18-95D7-5472721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DDEC37-B7A9-40C7-8736-8331522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0B2-2F64-498F-916F-99B3CB7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78E4-C374-4DCD-A0AE-0D65F09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1D281B-1FF5-4D5D-A8B6-E417F71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120251-FFB8-4E0B-91C4-1115586E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AD049F-7C8E-491C-B137-8045DE35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B84A0E-4549-4E1E-8B83-BADEA89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4964CA-6350-4C5B-86D5-5CC7B73C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CD836A-66C4-496C-ABF3-289EE700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9812C9-29EE-4309-8D0B-525F34D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21A5DA-794B-4913-BDE3-7DCA9D59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E804BC-70A9-4A27-B3FC-310DE799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91700B-73E5-418B-A805-C59A542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7AAB-B9DF-4CA9-BB5F-A521A01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3ACC2D-46AA-419F-8B60-626BEE31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8C2377-35E0-4144-9191-1782BFC1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73630B-2973-4D9F-A7C9-AAAEA47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703277-D515-4A7E-8231-BE59736C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30F05E-9661-447A-AEB4-85117C8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A38379-5A96-4CFB-A13C-0B4C2D1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D74460-2A82-4F81-8854-F733CBE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C09AB4-37FE-42C8-84FA-34BA910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11CCDF-9E55-4F3E-8B2F-34DD5899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244343-A272-4A73-AE3B-E6DBEED1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7AF5-85E6-4591-B747-4990A0D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E83990-5F2E-4C5A-8C26-268ABFB3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90BBE2-D5F1-4D06-A15A-67F7686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271C97-3136-4CE1-8E18-750C266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7E46CA-AE2E-4D68-89DE-D47A1A0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71ED0F-3CD8-4CAC-B69F-E3D1660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B5B34F-53E0-4E72-9A69-42764CD7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D00A87-CF8D-420B-8188-7EDC29F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8D6683-5A7F-4AD6-864B-4631D03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557339-5774-44AA-8767-6E76BBA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940382-0E8A-4069-9E43-647A0C8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A074-15E5-4FC4-B4DE-E01C937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C77E71-D81C-4C3A-834E-6469E0F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2A375E-88E3-4179-B3FA-185F459F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B37A8A-7FC4-4E53-A554-874215D0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B44D73-0393-4DDC-B4F5-FD9A2E7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86A6F8-3905-4B57-B8C1-D182E9B6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98299B-C2DF-4B19-9CC8-216E7AF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6F071E-672A-4C38-80A7-C6D1E686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D83AEF-98F0-436C-81D8-623A941E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592D5D-482A-4E7A-9B44-73190D2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0ED039-29C8-47B7-A561-D3561A3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73B3-68F2-436C-96B6-D40220E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6FC9C9-5E77-4942-BCD3-2699869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484D3A-774C-4FC6-B07B-303351A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AD7EB6-50D4-4020-8CD8-ED9CFE03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FA08FB-DA6B-4FDB-8313-AD536670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CA87BE-4E48-484D-99EE-67A23296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8A84A4-BBAA-40BE-A9DE-E74A75D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76D451-BF47-4A08-B867-DA41004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B7B884-15FA-4B08-89F8-85B95ED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1653E9-B362-4C65-8EE3-F52DE7DC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57CC7A-3498-48C5-B16E-F4B8563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3788-008D-433F-81C1-17BED60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3BF2C7-F49B-457D-B54A-66F50A27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A2F390-3586-4A6D-8EC1-C6D0AF4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499BB2-ABA6-4FDB-A816-C306ADE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160802-13C9-4A7D-9A8A-54A101C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54A9B1-DD70-44AC-B370-7F35DF3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39D525-8693-465D-850E-A01D405C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7294A2-4410-4414-A98E-8C8A41CE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C4D085-C681-4D00-AA52-1788FC35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BB6D96-7594-4783-B7A9-C87AFFF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6ABF33-8DA7-4F6C-BC39-67712E3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836F-7373-4C42-A1B5-8444BDF4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628A9B-A66D-44F4-8932-7FC325E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BB7A4D-91CA-44F2-9305-B93A27C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219166-F78D-4B50-94A1-26E7CCDB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BC1698-0008-4120-AA82-9462100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B99FB0-17A9-483B-9284-5E0DC50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294808-FE60-4093-A434-0582906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6BC55B-A67F-416B-ABD5-9D3D29D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AA10F2-B288-4634-A686-425DFE5B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2D434F-EF8F-4415-A3B0-DAF901DA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46379C-C68C-495E-A4F6-6AE44C53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ED9D-D993-4D98-ACF9-00A906BB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F8C75E-9BA0-4CB2-9E7F-2CAE796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CC6581-5659-41F3-B998-C476BCA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2DE95B-9673-4E64-BD7C-DCB0C07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507ED5-4FE6-47F8-9412-5DDC311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3D3E58-B897-4408-AAFF-BC51621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F2A329-39CF-4624-8626-111771D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43B8BC-AE63-4ADB-B93F-0C34BA4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E599C0-4386-4D19-9FE5-45A4012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AE5E15-62F8-46DD-9BB3-CD6F5DF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749290-886F-4E2A-8362-E1DAB181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CB0B-F62E-49B1-AD65-90C7F10E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841949-B750-4601-9DEB-F3066DE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898DCA-EAAC-4606-A69B-65693550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174E45-3CC1-49C2-A9DF-11CCF81A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F77FC5-73C3-4F46-915C-7AC1E52C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489CC5-00C8-4430-83DD-2D346A7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9B017F-8D3D-435A-9C8A-0AAD947C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58C53E-9B8D-472F-9257-149B7B5D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CD4360-38BE-4ABB-82E9-4CD5E0A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BA90D5-87FD-447D-8022-65F34E3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32BB04-C8FD-402D-9438-2731048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981CE-644C-415C-8ABA-7D731B96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1330E0-0399-44C9-B3B9-64FABD1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5B3F92-69F6-4940-818B-13CD0909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251442-2F5C-4E24-B15A-110FB904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2B5078-7A91-45A1-8631-6FE3681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2C2F2D-6338-4C4E-B526-AC45B43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50629F-59CA-437E-8E14-A72498D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52A105-1145-4978-AEC1-58037277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592B48-E710-4DCE-BF87-6E8AFC06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235D24-005D-4005-9E4C-BA7EB9A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677592-9B83-4DBD-9725-97DAB56B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646-C8F7-4E8F-A9FC-51EC4307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29C9-41C8-49CF-B970-141F1F5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9E735B-9CC4-4DCE-8A06-3CE2326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EC7A97-3ADB-4201-81BF-FBA10186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A8055E-B98C-479C-9A69-9C3A34F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57F8EB-D865-4435-932B-1835DD5C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CBE440-667C-4BB0-94C8-82383E24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25A9D1-AA8D-44FE-B00B-6DB3399C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700DB0-5B7D-4EEE-BDDD-B00A828F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AE800E-DE07-426E-861F-9C7A44A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F6E2C6-87EF-4EF5-B757-E2D5EC0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CE4155-6D18-4E48-9964-9380A8D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5C3B-9D42-4BCD-BE49-D9F9EC3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F6F958-A120-49AE-8871-E2F24950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076BEB-0C04-4AC8-B0FB-BF4267A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2D0892-304D-4E4B-A99C-FCE87D55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5B9DDC-52A9-4474-B0FE-60DA128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FEF2D5C-7FD9-4640-AEE5-9437983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589832-046F-49A5-9DF1-367A9F66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B6FD28-B518-4238-965B-42E2AE7F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2DF405-8CD4-4D30-BF36-C4C9B37C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432EAE-E58F-4FBF-8CB9-7183D821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A44FE6-12A8-40E9-9639-EC0F608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ACBB-839B-444F-8B24-76B5B93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8C4382-80C1-4AC4-BFC7-BC489386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E5CF33-9D31-46A9-B797-2C0E1BE2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62CCB2-85CE-4E6F-BCDE-CE0F647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553681-F2BC-4765-B595-78F8FDE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F7A036-69BF-459F-B38A-4C0CEF1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0CB03C-9135-4776-9F4F-9B23714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959B8E-D2F8-4B7A-9C9B-68C2F9D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C5B329-CBEE-4946-AEF2-F2924C06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1D71CD-AE1A-4B13-818C-54B8689E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BDAC70-0F87-4EA7-AD9D-08DAB6E5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1E57-09E3-4AA5-A1CA-0D02969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E50894-88F2-4639-8257-C74CD811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5380CB-5EAB-461C-B8C7-A16B496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934C72-0B3A-4653-9FCC-C60AC8A8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52FF49-1D6E-4928-94D7-4124BA7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6D7AA7-BB99-47A3-A363-034A44C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615E6A-5748-44C9-80DB-9DB5347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DBD742-54A9-49D7-B83D-AF19E34A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2D56BF-974B-4CE5-9295-1DA064A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A1CE44-2A88-413E-85C9-36A15E02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7FA2D1-D624-406B-BA5D-64D8479C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4FC7-2755-42AB-AD68-8662C57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5D66F6-2958-4B5D-949D-C905C519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2CB37A-E61A-468B-B9D7-16AB87C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F22A8F-1E18-458F-BD8E-5DD00D6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CABBB6-CA68-4BAB-9A30-3CE6D658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9954C9-49F5-43E3-A517-1BB5047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75A9FE-EA29-449C-9538-DEC902D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181043-A3CB-4B70-985A-0217B56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CC927E-5135-418B-81E9-F7899D2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F0703C-2297-4187-8812-11AA741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415467-6E30-4577-8F94-3B55F48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63EE-5AA4-4CF4-BFEB-8BF3263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99FBA0-843E-4DF6-89F5-A9AC1EB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5DE527-0BF9-407E-9EBD-DFB16BD5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02E79A-1E76-46E8-816A-3915A42B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4FE00B-F535-4CC6-A611-311CE098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040803-C854-436F-9322-9BDE8CD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A05541-039C-4C38-85AB-DD7FB8E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F49641-F051-4507-B8F3-592ECAA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328E0C-B866-4737-971F-302EF82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9435C7-74B8-4940-8330-7564EAB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F591D4-1048-4684-9299-B4F2810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E6A2-298C-46AD-9C0F-3C0A649F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545CDA-F658-4979-B29D-9026201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5CC771-0080-48CE-8AA1-19D58E6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037380-A432-4766-91A6-B5EC129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812A20-9E86-4CA7-9E69-46CF56D4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40743C-0B8B-4F97-957B-99A4BF58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E33CAD-89D3-4627-A545-128EF247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304B28-4C59-4B21-B23C-8256C90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7C7EFB-75C5-430F-896A-4100B2CC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41C59C-1284-48E4-B768-E04BCA3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EB8EE5-E3CE-4887-8EB1-A253BDF0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EBDB-D2A3-48E8-8209-4B0F49D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1F2F06-541F-4570-B6DD-0D31155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40A724-6953-4932-B630-D9FC7DD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1E6732-F7DF-4E4B-9D6D-5E4FA4A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1AA46B-89A4-44C0-8923-5421ED7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BD0038-E499-4635-BACD-0AFD276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7C66E0-B2D2-4C9F-A10D-D34655D5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E7E91A-91F9-425B-B494-22CDA704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95CDDE-6BE3-4A5B-8BB7-5488F07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078E67-247C-4117-A779-FEBA7029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140932-CD1C-4A13-9C71-FCC83CD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E912-B212-4524-B89D-062056F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2D9D43-9481-40AC-B144-8BDC791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F6D267-400F-4388-A00D-6D635DD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11BAF3-59C7-413C-8DA7-F998BE6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04846B-0E8E-4AD3-B593-8FDF882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86A40B-15AF-47C5-8150-F9293EC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D8883B-AEAF-4007-A87D-D8CA838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CE5655-5979-4356-816C-3E9A00A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33C49F-D54A-480A-971D-786187B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409222-4795-4B02-9792-79046D73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C5AB250-40B5-427F-AEAA-5AB4A936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9776-8625-464C-BC00-4A79F918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A231728-75D1-49DB-A877-94CFF24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F543F22-3721-4DC0-82D1-B1A00EAF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1E9C41D-2879-4163-9970-736E6C1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B9072B0-5028-4DE8-A904-0919B47F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D4A3F5D-2265-47B3-A471-50E9F15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A851AEF-5948-4465-B9E1-3A0D7EFE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A68260A-8498-45C8-B463-BB4E6D4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ABB8669-681F-4662-83DA-24D858F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A763AE4-8E6F-4688-8910-03C02E7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64255FB-DB55-474B-9A68-A5665D5B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338-9083-4158-88CC-A46399A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E2DC-1A1D-4223-8026-1D00DF40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DD1F0BE-BB52-401E-8FA4-70FDCDA9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52EE9B-40F7-4CDB-BF31-CFB83CE4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569F31-F658-46D7-A3D8-CCB5679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82D4E0-5700-40CE-B1EB-FC4304C8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652F7A-D6B4-4149-9162-E046E4EB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B5B81A-D3B8-4A4D-8CFD-4F46319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B52E9A-FF8A-41B7-B3AF-C52EBC4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2240C1-131B-4E48-894F-427B211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7BC3E3C-917E-4E69-A6F6-5408715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04925B-144E-4149-B724-FD776FD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3918-EBFF-43C7-8FAE-12C13651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EC50EA-5BEE-4255-A821-A63808B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688813-84B4-46A4-9661-534890A2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0D48D2-147F-4EF3-A10D-56D21DB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FB7A0D-2DCC-4ED8-8B79-CF46706A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518BEF-F9B7-4D5F-A210-AA6CD781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F17087-998C-485A-9E75-1E72BF24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61019EF-8338-4928-8E0E-78DECCB9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057D570-AAC0-4F4C-94F8-ABCF5B1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58FD51-CC2B-4A2A-96FB-3EC749E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9E29A4-9A2E-44EF-8C26-EB3A7383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9757-FDBC-4EDB-8161-78A65FB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39C3EC-5161-4421-811C-4852B67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7A5A9D-E530-4B59-A0C3-DF3A239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0FB9D68-39A1-4212-974F-C3D1D215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3DA61F0-2FED-48BF-ABBE-1E1CC4B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2F819C-5284-4EA5-9042-3746F0C8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183998F-6771-479A-B697-2F3A671D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FB75CF7-ED73-4B52-A0D2-D0B7FEE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A73EE2D-D672-421D-A9BD-1614014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108D70-1A88-483C-85ED-9940040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B1A3CF-ED2B-4BD7-9169-1230651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6BB40-739D-4721-9ED2-EEDD1E5D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1D11D5-EFE5-4921-B5D6-F3BCCCD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4BA1554-62DD-44A4-B742-A3D74D6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4F2BC4-0E9E-409B-A88C-BDBBBED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2FE27B-94D5-4062-B690-0A64C65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22E081-5FE0-4AB1-9953-3F618F94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7AA0133-6736-4350-BEBC-0EE94E11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820BADF-1AAE-4496-BB5C-FA8C8C43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06B2C3-4541-4EE8-B4A2-4FC2FC07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2529B0-0545-48B8-9CBE-82DF0721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4AA1A0-602F-41B4-9710-7BF6E9E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C9F4-3913-4710-A9D3-4634F7F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2E02BF-F87A-4A49-92D2-078010E0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776C97-F3CD-485D-A416-B05CF6DC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347D7B-6D05-427B-B3F0-357799B9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0B706F-BCF1-4539-B95C-C188B26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733A7D-98B9-4C40-A1EF-6296C90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38DE42-F495-44F7-ABCB-D0C2550C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2022FB-0FA1-4658-B8E1-3AB3FD46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5D2DB0-3E1B-4F3B-B9F0-4D34A025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ADECBE4-FDD6-4080-B4FF-C3E1FA40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FB1B9E-F893-4FB0-A92C-BB23900C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E58D-D16A-4877-A826-DF428CE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7475D2-AEA7-4C5C-9A36-535FBC7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73ADAD-9939-4A47-AB42-2D8508E5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1B39398-62F0-4290-A028-962427C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C3DFD4-4971-48EC-B8A7-AC124D1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04166FC-5619-49ED-B063-D37C4FC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DBD39BF-A9CD-4A5E-B59A-BD0BDD8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5A73956-DF7D-4839-AD61-A60E6C6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2655EF2-B204-45B1-A343-9BB0819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9C4D8C-A928-454F-8B99-005151FC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B9099C-A353-4269-9B36-7E6CFF2A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EF53B-51AE-4C89-A73A-32774B7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35C71F-FFDE-401D-B943-7EDEB13D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EE288EF-007C-4430-B341-E3A4E475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E95646-BB9C-41D8-9A19-9D58926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26DA366-611E-4F50-9E04-911C5553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DCD7F5E-87A0-41EE-B126-B5179BF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F6BCA5-544B-45F5-9FD2-407BF44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A3059C6-D5E6-4C5D-AB0B-6E4B4A5C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33BDB8-96FD-4BCB-9B97-096E6CA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5FFC28-309F-480E-BDC9-2584F4C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A85FEB-76D3-4690-A78A-8E56C98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2FB6-CBFC-44F4-85FF-A0C3C1E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3A15D1-49A7-4E15-BA9C-49F43AF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7860B06-ADD2-47E6-9A3B-011A3DAD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6D3870-A4E1-4A70-9B41-6816282D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77DC228-0E05-42D1-AEAC-170CE9BB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0C8587-C211-4C3B-9BB5-79776A75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5E54CC0-662B-434D-9B92-2DCC25D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1E5FE6-2276-4387-8582-EBA2C57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59F977-53E2-49B0-B3BA-BD44B6C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0EBD11-2B0D-4358-9090-3BAFB36A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A7ED2B-5288-44D8-9CEA-9E7C32F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5B27-EB11-4B33-A767-2BABF4D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77DA526-C4B3-43FA-AE70-4AAB968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269B454-32DB-4CA9-9488-FE1170A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4C1633D-7110-456A-9D6F-BAD3F5A8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92D729-A137-4306-9F7A-6A09947E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D9D0D0-59CE-4516-8616-4C618967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534248-D9D8-419C-A0EC-0FCFC09B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27A9E74-E32B-4621-AF7D-CF6E64A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30FFBD-CFB8-4225-B37C-8EBD425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6E61F8-D45D-4B62-A6AE-D81075A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C9B73F-A8A2-4F67-A6E9-0A7B2A0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72B1-4134-4BBF-AD46-851913E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80A482D-BA32-4675-AE46-5AF3DB3D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3E17B6-537A-45E6-A249-3D5DDE8C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0AD79C2-B966-4842-AB47-2C05E1D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D4E8B23-3FB4-4F12-9D4B-C5D77F3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463399-5C4B-47EE-B7F0-7EA30A10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D22C893-7766-47B9-918E-CE7486E2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933D487-B756-448F-BB90-C5BABA34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D71A470-9245-4C53-90DC-2F2824E3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86C44C7-08DA-4837-B25E-85D422D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CC4B2F9-66AE-4710-81EB-CB4C5F7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15C-F5A7-43EF-9A0C-3A50BF09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D89E-7046-4855-AEA0-6B36096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C580BB5-EC56-414D-BC39-18D9E87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8B5396-7203-4274-9544-9706387A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5D29F0B-7D0A-460B-88B6-0490ED9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FBEC81D-FE38-4FB2-B166-EBFACBF3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36A8775-E395-4E4A-ACAB-872551D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DC007F9-2862-43E4-AE96-1C446C9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F9B8A19-66DA-45CB-A5F7-2438CE21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07A2D44-B468-4825-8832-0278D6BC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082B0F5-6361-490B-AEE1-949E8CE1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08CDD80-99D5-438F-9A6D-1396E4E3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7D65F-7C06-40BE-BA0D-1D527C40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590D50C-D687-47BB-AF8F-58DCB22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FC7589-C1DF-4A81-98D7-96892AC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2B01BE3-B601-4231-8701-345C8C0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9BFAF4B-68D8-4511-8B3D-44CC541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13C18F-2FA3-4E0A-82BB-E8FDA6E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75A1CF4-4EB1-4D48-9DBF-83BB711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6BE929-2BDA-4A0F-BE77-A7F1E76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BA76E69-2562-46CD-9C92-E0B1113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52F18F-5E2A-4133-B7FF-DCEAC217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4BE090D-DB04-4D08-A53F-0B539C88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68A8-2365-49B6-9D9A-0C9DD1D6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F2F374C-FB2A-4DCD-9453-3946E667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00CEFAE-4DB0-4925-ACB7-9727D3E3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05D29A9-F2F4-43CD-9CD7-12E719C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6394CB0-7A13-4BAE-86C7-BC5DCEB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6C2F9B7-2155-4394-AF60-0837C90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B096556-4F7B-4F8B-B834-869EC85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2CE339-027F-4154-8A0A-516CBF5E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B10623-9399-4DDF-AACB-D94264B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9CD364F-C462-4CFB-B349-59ADF30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43725A5-226B-4915-9E07-DF708D8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E0BD-D250-4EBD-A519-A024BF45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98CBF6-1D98-497B-82C5-063FA2E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2193B2E-A6C5-406C-A129-60753F12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9A6E96-6587-4281-9213-32507FD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FCB3-6BBB-40AD-8826-8EBB5AC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97CC-10E0-449A-A63E-3F79768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4E1E-B587-4A85-A8DE-9F677210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D90C-E620-4207-843C-0F4BA75B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B7B11-85C8-4401-9AB7-92225C9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692B-C043-47CA-BA23-2CF917D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366-71C5-4448-8988-B9E35FC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E0580-639C-4BEC-A468-54AC2A9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76DC7-3922-468F-BC22-01D0427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61EF-972D-4E83-B265-7C252DD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24BCC-6BCA-4233-AB58-99CA4F38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6EE8-1471-4282-9629-3A980E5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625D-ACED-4FD9-BDA2-A414D3E7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2B7C-BDA1-4D57-92C1-17E700B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64F8-095A-42C9-8A33-4EEE31E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71815-BC91-4FFA-9753-D6997F50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4FDC-4CB7-4EAB-9BED-6F7A48C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44B-C88E-4707-BDE0-8DA9DE7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DD86-656A-4D07-8098-A4BC30B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6B551-8D6E-47E6-834B-6F6CA64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82BB-1ED4-4F04-8F28-463DB49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7405-CB52-4987-9E6E-D40498A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F380F-5555-4AFA-9EC9-879F1D7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886F-1AB7-451D-92F0-819FA42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423E-B9E4-466A-B4AB-C32AF9A7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AA51D-8C57-4EC1-BF19-5AC64227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7E483-063F-4E28-A2B2-D472E88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CF7DD-69D5-403C-826F-0D37E93D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A5A-C2DA-4FCA-A41F-AB465A1AE85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83A-1975-4D5A-A74A-FE25384B9F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34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3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4205-1CE0-4E83-A3D7-427971D6490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96F-9F1F-4FE1-BC32-B4C6EAC3814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8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8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1A1-6F15-4A09-92EA-CD561868CD3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3DA-ADFC-4930-A2A1-BE6DD62AD3A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38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4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4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4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771-9492-45DF-9354-23A1111482E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B46-AE29-4E7D-9957-CD2983C02A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90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9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D76-5678-4861-9EB5-09583588970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1039-4D77-4B81-8702-29BA7BFBEE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4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4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4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64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5266-9DEE-4CBF-A352-131256C73A7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BAF-2589-4DAF-8BFD-3CF6FBD715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94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9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9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0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0808-C634-4712-BF1F-E342302AF1A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0B3-B6D9-4508-B80F-EBE8827016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74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74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75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5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9E25-9589-45EE-A416-C085472744E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B161-8B63-4774-92E7-8820802AD10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E9F0-F528-4CBC-A43D-84B72DCDA43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B93F-D987-4A02-ACC8-7A229484C2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4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FAC-2051-496D-BA3F-D0B30A2009A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9C4-0931-4E0E-A215-7398D569E1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9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9F68-FFE3-45E3-95BA-0EFBDA9239F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A2B-03A0-4F60-BC1B-915D7826D1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9D97-2623-426F-A734-3A30D7463D3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FE9-F5BD-4CB4-AEE5-3EBB97D7E6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C42-C1FC-47D8-9C0B-439C95C9212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FEC3-8852-48D5-9589-24162A6CAA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8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E59-53F8-41CA-8B83-738E2546942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71B0-9EA8-4AF2-BA4F-9A3D20208E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3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776-31D3-4BE6-9C87-2D9CA4AFF61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43FE-8FBD-4A65-9547-7E89CB489F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8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417C-6CDC-41B8-B2C5-30232093A63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95F-0EBD-4F35-8C84-4F4A2EAC02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2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2FB-20C0-49B0-9130-5F0AF4A372C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321-B27B-43CE-BDFD-8CB6CC0C69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7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C988-B48D-4B3B-9BAC-493F5354F12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5F7-B7A2-4FE2-AA52-0632AEAA75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2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2D7-977E-4B04-9959-A0981FDD589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39C2-9ED3-437F-94AF-0E23918648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7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5B51-C927-48BC-AABF-B7B7A62D523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99B-4C54-4513-AC8C-F37607A867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1D9-1F57-48C7-8656-5F0129A0AC1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B86C-C826-4867-82AB-41147022F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469-4A51-4CD5-95A0-A118EEC3FD6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8C35-013B-4C96-8A30-F97114CE2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D2C-10B8-4980-9FCB-B35085333AF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8F24-BC79-4732-BDB7-E6C9F5A1E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336-1E34-4A37-866F-2C9B37F62EA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A05-EB1A-4D69-8E3A-FDE66690D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4F4-E416-4820-839B-2E9D114B1E7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CBB-6841-4030-881A-DC6F037A5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6CF3-F028-44A9-BA31-1B07AF9811B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B4C-5A63-4906-85D5-4C2291395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940-1849-4BEF-BA8C-D28F43134B2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E52-714A-44EB-94FE-0CED15F96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A46D-1E30-4380-9825-D802C6818A5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FA2-1AFF-4751-B443-F14C33D6F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30B-DC5E-4E06-ACA1-DE3095B899B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4D6-71C4-4A87-8EFB-6F75C3E55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6AF-03DD-4130-963F-69B9423E12B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E30-469A-4C75-A43C-A2404321A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1240-AF30-48DC-BB60-9F0EF4C5375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392-E8CE-4CBB-B587-3FBDC480B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02F-4D75-4632-8D88-26FA9D73C79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81C-B019-4843-98B2-4A86CA54B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8C5-629B-4FE2-985D-C7741AA5BA6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BC3-9E7F-4019-97E5-EBD65C244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3F29-08A0-4077-B1E3-C9EEE7569E8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B6A-19A7-490B-884D-8F6B0D342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384-FFFB-44DD-ACDF-1956D428596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022-3BB2-4D41-9968-CFFF13B0B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B9B-75E0-4EB0-93B7-39610F6DE72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E67-A62B-451D-952E-DF977D1A5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F5A9-01CF-4682-B33A-6E2434A2BA1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C26-F2A2-4489-A939-F5FB53ABE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66D-F87C-4867-ABAD-6C2BE2404D5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020C-0877-40CB-9923-518B606C0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4F0B-B4DF-47ED-B870-4FBDF110731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8F51-F476-4211-8BB0-0DCBC3D72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439-1D4F-4D41-9644-1FCD8B1D0E1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A84-DD7D-4960-90F7-C938C8715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3EC1-4A9D-4611-8E86-E6EB85257B1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DC0C-333B-4334-A3B3-A2D21E085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F39-6926-46A6-9B5A-2C4E8218CAD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10C7-2BC1-472A-9600-FFE00FD8C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08C-D07F-4255-ADBF-17823EED34E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823-1F45-41BB-8B9F-EDD60D657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67A0-4BE4-4287-BA29-5E4FDC01ABB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77A-E6D0-4C18-9A5A-99DC4A2F3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6638-8AC3-4E5A-A079-8AFD2DF7BB9A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592-8B2D-4290-A331-DA371721322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4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622-A9BB-4E8B-AD75-0DF03FD4BB3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sldNum" idx="14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8A7-308F-49F1-AF05-22FA624F6B8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1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 type="dt" idx="15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B5B-580B-412F-B2A4-247AA20C38CA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 type="ftr" idx="15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 type="sldNum" idx="15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175-C1F3-4373-A68E-8A7E836152A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5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7148-99E0-4642-8A68-1EA38B336F50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5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5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7D88-3999-48BF-B6ED-89D841CE56A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5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E91-134C-4EBD-B103-C1C697E985FC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5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5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D71D-78AA-4A9C-86FF-1586A76B82C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11F-07E7-4294-A08C-08A5F6807BAE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639F-4B95-47EF-ABEC-BB92DBCF2C2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6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243-E68D-42B5-960A-648581A73D3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6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6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63DE-8027-4060-9E4C-B1413E7696F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6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7E5-9BF4-4751-8711-530CF76A9CF9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6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6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C09-C887-4C89-8E90-18139B32B17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 type="dt" idx="16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3CD-4608-4649-AB6B-0058B80129B7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 type="ftr" idx="17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 type="sldNum" idx="17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7338-A61C-44B0-B4CD-2E6CB13F1C5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 type="dt" idx="17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D4E-65F4-4905-BAA4-508302D0A6B0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 type="ftr" idx="17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 type="sldNum" idx="17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C06-489E-40CA-897E-15941325921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7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D112-9D4F-40AB-B1D4-274EEC12D5CB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7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7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433-45D8-485B-82C8-AC6D36836CF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2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2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3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3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C888-BF1C-4CBF-BC4B-918749E29C8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907-30E2-4483-BE5A-212B5BDC28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 type="dt" idx="17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0CF2-CB8B-4272-AFE0-50A5202E3213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 type="ftr" idx="17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 type="sldNum" idx="1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7B83-A424-4DA8-B981-216F618F1D8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624-6D9F-4759-A54F-D0B0802E62F6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473-750F-4661-A21E-2241065DD05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78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8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8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8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1A3-185D-48F1-882F-080B442F657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D2DF-8122-4C29-9AC3-6E6384ECBBB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30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3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3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3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B33-AA84-4FEF-B4B8-0D991FBE2C1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600-93B4-4009-8615-78B9A397275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8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8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F90-5578-40BE-8BB3-A3547794A92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AEFF-E289-4142-A983-72F380B290B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2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1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742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3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744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5" name="Picture 8" descr="Acetic-acid-3D-balls-B.png"/>
          <p:cNvPicPr/>
          <p:nvPr/>
        </p:nvPicPr>
        <p:blipFill>
          <a:blip r:embed="rId3"/>
          <a:stretch/>
        </p:blipFill>
        <p:spPr>
          <a:xfrm>
            <a:off x="2514600" y="2362320"/>
            <a:ext cx="3581280" cy="2662200"/>
          </a:xfrm>
          <a:prstGeom prst="rect">
            <a:avLst/>
          </a:prstGeom>
          <a:ln w="0">
            <a:noFill/>
          </a:ln>
        </p:spPr>
      </p:pic>
      <p:sp>
        <p:nvSpPr>
          <p:cNvPr id="2746" name="Rectangle 2"/>
          <p:cNvSpPr/>
          <p:nvPr/>
        </p:nvSpPr>
        <p:spPr>
          <a:xfrm>
            <a:off x="1066680" y="1752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52E-6D4B-4F6A-8BB0-5E4A37A0DC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3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Rectangle 2"/>
          <p:cNvSpPr/>
          <p:nvPr/>
        </p:nvSpPr>
        <p:spPr>
          <a:xfrm>
            <a:off x="-17640" y="1295280"/>
            <a:ext cx="89316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olar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form hydrogen bonds with water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four aliphatic acids are completely miscible in water. Higher members are less sol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cids are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9" name="Object 11"/>
          <p:cNvGraphicFramePr/>
          <p:nvPr/>
        </p:nvGraphicFramePr>
        <p:xfrm>
          <a:off x="2286000" y="2286000"/>
          <a:ext cx="292572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29257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931-710C-4065-ABB7-3F8E38B3E9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"/>
          <p:cNvSpPr txBox="1"/>
          <p:nvPr/>
        </p:nvSpPr>
        <p:spPr>
          <a:xfrm>
            <a:off x="0" y="990360"/>
            <a:ext cx="91440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) Aci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ic acids are stronger aci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d to alcohols and phen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withdrawing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rboxyl group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don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Rectangle 8"/>
          <p:cNvSpPr/>
          <p:nvPr/>
        </p:nvSpPr>
        <p:spPr>
          <a:xfrm>
            <a:off x="125280" y="4229280"/>
            <a:ext cx="88394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size of R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number of e.w.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4" name="Object 7"/>
          <p:cNvGraphicFramePr/>
          <p:nvPr/>
        </p:nvGraphicFramePr>
        <p:xfrm>
          <a:off x="284040" y="5181480"/>
          <a:ext cx="8153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5181480"/>
                    <a:ext cx="8153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6" name="Picture 11" descr="C:\Users\hp\Pictures\صورة5.png"/>
          <p:cNvPicPr/>
          <p:nvPr/>
        </p:nvPicPr>
        <p:blipFill>
          <a:blip r:embed="rId3"/>
          <a:srcRect l="0" t="0" r="0" b="12958"/>
          <a:stretch/>
        </p:blipFill>
        <p:spPr>
          <a:xfrm>
            <a:off x="2057400" y="2608200"/>
            <a:ext cx="3790800" cy="1506600"/>
          </a:xfrm>
          <a:prstGeom prst="rect">
            <a:avLst/>
          </a:prstGeom>
          <a:ln w="0">
            <a:noFill/>
          </a:ln>
        </p:spPr>
      </p:pic>
      <p:sp>
        <p:nvSpPr>
          <p:cNvPr id="284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8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9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50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0E01-D6F8-4CA8-B791-A96B587CA9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"/>
          <p:cNvSpPr txBox="1"/>
          <p:nvPr/>
        </p:nvSpPr>
        <p:spPr>
          <a:xfrm>
            <a:off x="0" y="141120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Primary Alcoh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xidation Of Alkyl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3" name="Object 12"/>
          <p:cNvGraphicFramePr/>
          <p:nvPr/>
        </p:nvGraphicFramePr>
        <p:xfrm>
          <a:off x="685800" y="4343400"/>
          <a:ext cx="60199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19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5" name="Rectangle 13"/>
          <p:cNvSpPr/>
          <p:nvPr/>
        </p:nvSpPr>
        <p:spPr>
          <a:xfrm>
            <a:off x="170280" y="9907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paration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6" name="Object 2"/>
          <p:cNvGraphicFramePr/>
          <p:nvPr/>
        </p:nvGraphicFramePr>
        <p:xfrm>
          <a:off x="1219320" y="1981080"/>
          <a:ext cx="365760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36576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1"/>
          <p:cNvGraphicFramePr/>
          <p:nvPr/>
        </p:nvGraphicFramePr>
        <p:xfrm>
          <a:off x="1219320" y="2895480"/>
          <a:ext cx="380988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9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38098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1" name="Picture 7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8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18B-2682-4A40-AE64-B891C20FB9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213840" y="1046160"/>
            <a:ext cx="84726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Carbonation Of Grignard Re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Hydrolysis Of Nitr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6" name="Object 9"/>
          <p:cNvGraphicFramePr/>
          <p:nvPr/>
        </p:nvGraphicFramePr>
        <p:xfrm>
          <a:off x="685800" y="4343400"/>
          <a:ext cx="72388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7238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8" name="Picture 13" descr="C:\Users\hp\Pictures\صورة11.png"/>
          <p:cNvPicPr/>
          <p:nvPr/>
        </p:nvPicPr>
        <p:blipFill>
          <a:blip r:embed="rId3"/>
          <a:stretch/>
        </p:blipFill>
        <p:spPr>
          <a:xfrm>
            <a:off x="838080" y="1676520"/>
            <a:ext cx="7162920" cy="1863720"/>
          </a:xfrm>
          <a:prstGeom prst="rect">
            <a:avLst/>
          </a:prstGeom>
          <a:ln w="0">
            <a:noFill/>
          </a:ln>
        </p:spPr>
      </p:pic>
      <p:sp>
        <p:nvSpPr>
          <p:cNvPr id="286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0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71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7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2DEB-1B78-494D-8D4A-0283951CBF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"/>
          <p:cNvSpPr/>
          <p:nvPr/>
        </p:nvSpPr>
        <p:spPr>
          <a:xfrm>
            <a:off x="4294080" y="4952880"/>
            <a:ext cx="1121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) K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Reaction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0" y="1564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Salts Form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7" name="Object 7"/>
          <p:cNvGraphicFramePr/>
          <p:nvPr/>
        </p:nvGraphicFramePr>
        <p:xfrm>
          <a:off x="609480" y="2057400"/>
          <a:ext cx="67057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7057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9" name="Object 1"/>
          <p:cNvGraphicFramePr/>
          <p:nvPr/>
        </p:nvGraphicFramePr>
        <p:xfrm>
          <a:off x="1905120" y="4648320"/>
          <a:ext cx="45273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4527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2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8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E58F-4A7A-4D45-B0ED-39E34E3A1B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4"/>
          <p:cNvSpPr/>
          <p:nvPr/>
        </p:nvSpPr>
        <p:spPr>
          <a:xfrm>
            <a:off x="22680" y="10000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Nucleophilic Substitution Of Hydroxyl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7" name="Picture 6" descr="C:\Users\hp\Pictures\صورة16.png"/>
          <p:cNvPicPr/>
          <p:nvPr/>
        </p:nvPicPr>
        <p:blipFill>
          <a:blip r:embed="rId1"/>
          <a:srcRect l="0" t="0" r="0" b="38919"/>
          <a:stretch/>
        </p:blipFill>
        <p:spPr>
          <a:xfrm>
            <a:off x="627120" y="3124080"/>
            <a:ext cx="7616880" cy="3299040"/>
          </a:xfrm>
          <a:prstGeom prst="rect">
            <a:avLst/>
          </a:prstGeom>
          <a:ln w="0">
            <a:noFill/>
          </a:ln>
        </p:spPr>
      </p:pic>
      <p:sp>
        <p:nvSpPr>
          <p:cNvPr id="288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9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1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DBEA-F894-4051-8BEC-9A670B24C3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3" name="Object 2"/>
          <p:cNvGraphicFramePr/>
          <p:nvPr/>
        </p:nvGraphicFramePr>
        <p:xfrm>
          <a:off x="2057400" y="1981080"/>
          <a:ext cx="4984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81080"/>
                    <a:ext cx="4984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3504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xylic Acid Deriv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Rectangle 5"/>
          <p:cNvSpPr/>
          <p:nvPr/>
        </p:nvSpPr>
        <p:spPr>
          <a:xfrm>
            <a:off x="152280" y="2724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id Chloride            Ester                             Amide                    Acid anhyd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8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9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0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1" name="Picture 3" descr="03032009221955fEZBYRxvZV.png"/>
          <p:cNvPicPr/>
          <p:nvPr/>
        </p:nvPicPr>
        <p:blipFill>
          <a:blip r:embed="rId3"/>
          <a:stretch/>
        </p:blipFill>
        <p:spPr>
          <a:xfrm>
            <a:off x="380880" y="16765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4" descr="anhydride_group.png"/>
          <p:cNvPicPr/>
          <p:nvPr/>
        </p:nvPicPr>
        <p:blipFill>
          <a:blip r:embed="rId4"/>
          <a:stretch/>
        </p:blipFill>
        <p:spPr>
          <a:xfrm>
            <a:off x="6705720" y="165096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903" name="Picture 5" descr="amide_group.png"/>
          <p:cNvPicPr/>
          <p:nvPr/>
        </p:nvPicPr>
        <p:blipFill>
          <a:blip r:embed="rId5"/>
          <a:stretch/>
        </p:blipFill>
        <p:spPr>
          <a:xfrm>
            <a:off x="457200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04" name="Picture 6" descr="ester_group.png"/>
          <p:cNvPicPr/>
          <p:nvPr/>
        </p:nvPicPr>
        <p:blipFill>
          <a:blip r:embed="rId6"/>
          <a:stretch/>
        </p:blipFill>
        <p:spPr>
          <a:xfrm>
            <a:off x="2057400" y="1616040"/>
            <a:ext cx="1600200" cy="1279440"/>
          </a:xfrm>
          <a:prstGeom prst="rect">
            <a:avLst/>
          </a:prstGeom>
          <a:ln w="0">
            <a:noFill/>
          </a:ln>
        </p:spPr>
      </p:pic>
      <p:sp>
        <p:nvSpPr>
          <p:cNvPr id="29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C8C6-11D4-494F-ADBD-651B3B5B4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2"/>
          <p:cNvSpPr/>
          <p:nvPr/>
        </p:nvSpPr>
        <p:spPr>
          <a:xfrm>
            <a:off x="419040" y="3751200"/>
            <a:ext cx="8115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ivatives of carboxylic acids are compounds in which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arboxylic acid is replaced by nucleopile (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cid  halide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ster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NH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-NHR, -NR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mids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OC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hydri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derivatives can converted to carboxylic acids by simple acidic or basic hydrolys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770-91B7-48E6-84E2-69B0114FB6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9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10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Rectangle 6"/>
          <p:cNvSpPr/>
          <p:nvPr/>
        </p:nvSpPr>
        <p:spPr>
          <a:xfrm>
            <a:off x="0" y="12952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1-Nomenclature Of Acid Chlor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in the name of the parent acid b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yl chlor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Rectangle 7"/>
          <p:cNvSpPr/>
          <p:nvPr/>
        </p:nvSpPr>
        <p:spPr>
          <a:xfrm>
            <a:off x="95400" y="4343400"/>
            <a:ext cx="88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anoyl chloride           Benzoylchloride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panoyl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mmon 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yl chloride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4" name="Object 8"/>
          <p:cNvGraphicFramePr/>
          <p:nvPr/>
        </p:nvGraphicFramePr>
        <p:xfrm>
          <a:off x="838080" y="2971800"/>
          <a:ext cx="449604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971800"/>
                    <a:ext cx="44960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1"/>
          <p:cNvGraphicFramePr/>
          <p:nvPr/>
        </p:nvGraphicFramePr>
        <p:xfrm>
          <a:off x="6324480" y="3116160"/>
          <a:ext cx="251460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116160"/>
                    <a:ext cx="25146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/>
          </p:nvPr>
        </p:nvSpPr>
        <p:spPr>
          <a:xfrm>
            <a:off x="26640" y="990360"/>
            <a:ext cx="9117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2- Nomenclature of e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(R’) is written  first followed by the name of the parent acid with replacing of the ending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c acid by 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–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   Ethyl ethanoate                                   Methyl benzo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 Ethyl 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Footer Placeholder 1"/>
          <p:cNvSpPr/>
          <p:nvPr/>
        </p:nvSpPr>
        <p:spPr>
          <a:xfrm>
            <a:off x="0" y="64785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B24-876A-4B44-A9B1-05ED080D0C64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1" name="Object 5"/>
          <p:cNvGraphicFramePr/>
          <p:nvPr/>
        </p:nvGraphicFramePr>
        <p:xfrm>
          <a:off x="1219320" y="5035680"/>
          <a:ext cx="24159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035680"/>
                    <a:ext cx="2415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Object 6"/>
          <p:cNvGraphicFramePr/>
          <p:nvPr/>
        </p:nvGraphicFramePr>
        <p:xfrm>
          <a:off x="5014800" y="4654440"/>
          <a:ext cx="276408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0" y="4654440"/>
                    <a:ext cx="27640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5" name="Rectangle 7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Methyl propanoate                  Isopropyl-4-hydroxy-5-methyl-5- hexeno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7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8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29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0" name="Picture 1" descr="130px-Ester-general.svg.png"/>
          <p:cNvPicPr/>
          <p:nvPr/>
        </p:nvPicPr>
        <p:blipFill>
          <a:blip r:embed="rId7"/>
          <a:stretch/>
        </p:blipFill>
        <p:spPr>
          <a:xfrm>
            <a:off x="3581280" y="2133720"/>
            <a:ext cx="1219320" cy="785520"/>
          </a:xfrm>
          <a:prstGeom prst="rect">
            <a:avLst/>
          </a:prstGeom>
          <a:ln w="0">
            <a:noFill/>
          </a:ln>
        </p:spPr>
      </p:pic>
      <p:pic>
        <p:nvPicPr>
          <p:cNvPr id="2931" name="Picture 2" descr="02195046.png"/>
          <p:cNvPicPr/>
          <p:nvPr/>
        </p:nvPicPr>
        <p:blipFill>
          <a:blip r:embed="rId8"/>
          <a:stretch/>
        </p:blipFill>
        <p:spPr>
          <a:xfrm>
            <a:off x="1447920" y="2859120"/>
            <a:ext cx="2057400" cy="880920"/>
          </a:xfrm>
          <a:prstGeom prst="rect">
            <a:avLst/>
          </a:prstGeom>
          <a:ln w="0">
            <a:noFill/>
          </a:ln>
        </p:spPr>
      </p:pic>
      <p:pic>
        <p:nvPicPr>
          <p:cNvPr id="2932" name="Picture 3" descr="Methyl_benzoate.png"/>
          <p:cNvPicPr/>
          <p:nvPr/>
        </p:nvPicPr>
        <p:blipFill>
          <a:blip r:embed="rId9"/>
          <a:stretch/>
        </p:blipFill>
        <p:spPr>
          <a:xfrm>
            <a:off x="5562720" y="2752560"/>
            <a:ext cx="174312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/>
          </p:nvPr>
        </p:nvSpPr>
        <p:spPr>
          <a:xfrm>
            <a:off x="249120" y="944280"/>
            <a:ext cx="8894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- Nomenclature of 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end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ic acid of the parent acid’s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word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on the nitrogen atom, it is listed first and designated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Ethanamide   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Benzami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propa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amide             </a:t>
            </a:r>
            <a:r>
              <a:rPr b="0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Methylpropio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Dimethylmethanamide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Ethyl-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benz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</a:t>
            </a:r>
            <a:r>
              <a:rPr b="1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Dimethylform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Footer Placeholder 1"/>
          <p:cNvSpPr/>
          <p:nvPr/>
        </p:nvSpPr>
        <p:spPr>
          <a:xfrm>
            <a:off x="76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D06E-3517-4AAF-9F2A-4DBF668AB370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6" name="Object 2"/>
          <p:cNvGraphicFramePr/>
          <p:nvPr/>
        </p:nvGraphicFramePr>
        <p:xfrm>
          <a:off x="6326280" y="2124000"/>
          <a:ext cx="2360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6280" y="2124000"/>
                    <a:ext cx="2360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4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2" name="Picture 1" descr="02191417.png"/>
          <p:cNvPicPr/>
          <p:nvPr/>
        </p:nvPicPr>
        <p:blipFill>
          <a:blip r:embed="rId5"/>
          <a:stretch/>
        </p:blipFill>
        <p:spPr>
          <a:xfrm>
            <a:off x="1752480" y="4191120"/>
            <a:ext cx="1463760" cy="1218960"/>
          </a:xfrm>
          <a:prstGeom prst="rect">
            <a:avLst/>
          </a:prstGeom>
          <a:ln w="0">
            <a:noFill/>
          </a:ln>
        </p:spPr>
      </p:pic>
      <p:pic>
        <p:nvPicPr>
          <p:cNvPr id="2943" name="Picture 3" descr="inchi.gif"/>
          <p:cNvPicPr/>
          <p:nvPr/>
        </p:nvPicPr>
        <p:blipFill>
          <a:blip r:embed="rId6"/>
          <a:stretch/>
        </p:blipFill>
        <p:spPr>
          <a:xfrm>
            <a:off x="5105520" y="3809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2944" name="Picture 4" descr="100px-Acetamide_skeletal.svg.png"/>
          <p:cNvPicPr/>
          <p:nvPr/>
        </p:nvPicPr>
        <p:blipFill>
          <a:blip r:embed="rId7"/>
          <a:stretch/>
        </p:blipFill>
        <p:spPr>
          <a:xfrm>
            <a:off x="609480" y="2324160"/>
            <a:ext cx="1270080" cy="977760"/>
          </a:xfrm>
          <a:prstGeom prst="rect">
            <a:avLst/>
          </a:prstGeom>
          <a:ln w="0">
            <a:noFill/>
          </a:ln>
        </p:spPr>
      </p:pic>
      <p:pic>
        <p:nvPicPr>
          <p:cNvPr id="2945" name="Picture 5" descr="520px-Benzamide.svg.png"/>
          <p:cNvPicPr/>
          <p:nvPr/>
        </p:nvPicPr>
        <p:blipFill>
          <a:blip r:embed="rId8"/>
          <a:stretch/>
        </p:blipFill>
        <p:spPr>
          <a:xfrm>
            <a:off x="3733920" y="2171880"/>
            <a:ext cx="1571400" cy="118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9"/>
          <p:cNvSpPr/>
          <p:nvPr/>
        </p:nvSpPr>
        <p:spPr>
          <a:xfrm>
            <a:off x="15840" y="11620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nine introduces carboxylic acids and their derivatives. The chemistry is very similar to that of aldehydes and ketones because of the presence of the carbonyl group . The main topics in this chapter that the students should know and understand 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ruc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and IUPAC 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propertie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s affecting acidity of carboxylic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different   ways to mak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 formation reaction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cleophilic  substitution reactions  at  the  carbonyl  carbon  and  the specific products formed in each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emistry of carboxylic acid deriv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0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1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7D1-F844-4AEE-AFA3-762C275D40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/>
          </p:nvPr>
        </p:nvSpPr>
        <p:spPr>
          <a:xfrm>
            <a:off x="34560" y="1142640"/>
            <a:ext cx="9109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4- Nomenclature of anhyd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hydride is nam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cing the word acid  in the corresponding a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ord 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nhyd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) Ethanoic anhydride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enzoic anhydride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andio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ic anhydride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ccin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5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2" name="Picture 1" descr="Acetic_anhydride-2D-skeletal.png"/>
          <p:cNvPicPr/>
          <p:nvPr/>
        </p:nvPicPr>
        <p:blipFill>
          <a:blip r:embed="rId3"/>
          <a:stretch/>
        </p:blipFill>
        <p:spPr>
          <a:xfrm>
            <a:off x="888840" y="2754360"/>
            <a:ext cx="1625760" cy="90324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3" descr="Benzoic_anhydride.svg.png"/>
          <p:cNvPicPr/>
          <p:nvPr/>
        </p:nvPicPr>
        <p:blipFill>
          <a:blip r:embed="rId4"/>
          <a:stretch/>
        </p:blipFill>
        <p:spPr>
          <a:xfrm>
            <a:off x="3581280" y="2590920"/>
            <a:ext cx="2189160" cy="1055520"/>
          </a:xfrm>
          <a:prstGeom prst="rect">
            <a:avLst/>
          </a:prstGeom>
          <a:ln w="0">
            <a:noFill/>
          </a:ln>
        </p:spPr>
      </p:pic>
      <p:pic>
        <p:nvPicPr>
          <p:cNvPr id="2954" name="Picture 4" descr="Succinic_anhydride-2D-Skeletal.png"/>
          <p:cNvPicPr/>
          <p:nvPr/>
        </p:nvPicPr>
        <p:blipFill>
          <a:blip r:embed="rId5"/>
          <a:stretch/>
        </p:blipFill>
        <p:spPr>
          <a:xfrm>
            <a:off x="6918480" y="2743200"/>
            <a:ext cx="1539720" cy="744480"/>
          </a:xfrm>
          <a:prstGeom prst="rect">
            <a:avLst/>
          </a:prstGeom>
          <a:ln w="0">
            <a:noFill/>
          </a:ln>
        </p:spPr>
      </p:pic>
      <p:sp>
        <p:nvSpPr>
          <p:cNvPr id="29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6A6F-CA90-403D-A81D-57F937B7CE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6" name="Object 2"/>
          <p:cNvGraphicFramePr/>
          <p:nvPr/>
        </p:nvGraphicFramePr>
        <p:xfrm>
          <a:off x="2739960" y="4495680"/>
          <a:ext cx="4230720" cy="186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9960" y="4495680"/>
                    <a:ext cx="423072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Object 6"/>
          <p:cNvGraphicFramePr/>
          <p:nvPr/>
        </p:nvGraphicFramePr>
        <p:xfrm>
          <a:off x="873000" y="1447920"/>
          <a:ext cx="6899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47920"/>
                    <a:ext cx="6899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6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18B-1BBE-41B1-ABCC-1B4217B28E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مستطيل 7"/>
          <p:cNvSpPr/>
          <p:nvPr/>
        </p:nvSpPr>
        <p:spPr>
          <a:xfrm>
            <a:off x="215280" y="9907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Reaction of Derivatives of carboxyl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ooter Placeholder 1"/>
          <p:cNvSpPr/>
          <p:nvPr/>
        </p:nvSpPr>
        <p:spPr>
          <a:xfrm>
            <a:off x="17316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8" name="Object 13"/>
          <p:cNvGraphicFramePr/>
          <p:nvPr/>
        </p:nvGraphicFramePr>
        <p:xfrm>
          <a:off x="2209680" y="2057400"/>
          <a:ext cx="54864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486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7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C21-30C0-456E-9AA5-05794F0173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5" name="Straight Arrow Connector 3"/>
          <p:cNvCxnSpPr/>
          <p:nvPr/>
        </p:nvCxnSpPr>
        <p:spPr>
          <a:xfrm>
            <a:off x="4800240" y="439056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6" name="TextBox 9"/>
          <p:cNvSpPr/>
          <p:nvPr/>
        </p:nvSpPr>
        <p:spPr>
          <a:xfrm>
            <a:off x="325440" y="1447920"/>
            <a:ext cx="828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hydrolysis (reaction 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all carboxylic acid derivatves convert to carboxyl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-30600" y="1066680"/>
            <a:ext cx="2163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8" name="Object 2"/>
          <p:cNvGraphicFramePr/>
          <p:nvPr/>
        </p:nvGraphicFramePr>
        <p:xfrm>
          <a:off x="2133720" y="1712880"/>
          <a:ext cx="144756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12880"/>
                    <a:ext cx="14475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1"/>
          <p:cNvGraphicFramePr/>
          <p:nvPr/>
        </p:nvGraphicFramePr>
        <p:xfrm>
          <a:off x="865080" y="2666880"/>
          <a:ext cx="6248520" cy="12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666880"/>
                    <a:ext cx="624852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Rectangle 5"/>
          <p:cNvSpPr/>
          <p:nvPr/>
        </p:nvSpPr>
        <p:spPr>
          <a:xfrm>
            <a:off x="34920" y="1917360"/>
            <a:ext cx="935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Reaction of                           with C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under heat and pressure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ooter Placeholder 1"/>
          <p:cNvSpPr/>
          <p:nvPr/>
        </p:nvSpPr>
        <p:spPr>
          <a:xfrm>
            <a:off x="3492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Rectangle 2"/>
          <p:cNvSpPr/>
          <p:nvPr/>
        </p:nvSpPr>
        <p:spPr>
          <a:xfrm>
            <a:off x="34920" y="4267080"/>
            <a:ext cx="7051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Oxidation of C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H with KMnO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8" name="Object 2"/>
          <p:cNvGraphicFramePr/>
          <p:nvPr/>
        </p:nvGraphicFramePr>
        <p:xfrm>
          <a:off x="685800" y="4800600"/>
          <a:ext cx="51577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51577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1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92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9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784-DC36-4862-B8AC-E52A735B0A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مستطيل 6"/>
          <p:cNvSpPr/>
          <p:nvPr/>
        </p:nvSpPr>
        <p:spPr>
          <a:xfrm>
            <a:off x="3639960" y="4444920"/>
            <a:ext cx="5132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8" name="Object 4"/>
          <p:cNvGraphicFramePr/>
          <p:nvPr/>
        </p:nvGraphicFramePr>
        <p:xfrm>
          <a:off x="4495680" y="3200400"/>
          <a:ext cx="23623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2362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0" name="مستطيل 10"/>
          <p:cNvSpPr/>
          <p:nvPr/>
        </p:nvSpPr>
        <p:spPr>
          <a:xfrm>
            <a:off x="-208800" y="340992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 The common name of this compound                                        is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Rectangle 6"/>
          <p:cNvSpPr/>
          <p:nvPr/>
        </p:nvSpPr>
        <p:spPr>
          <a:xfrm>
            <a:off x="0" y="4031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 N,N-Dimethylacetamide                           B) N,N-Dimethyl prop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N,N-Dimethylpropionamide                      D) N,N-Dimethylbut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Rectangle 7"/>
          <p:cNvSpPr/>
          <p:nvPr/>
        </p:nvSpPr>
        <p:spPr>
          <a:xfrm>
            <a:off x="76320" y="5055840"/>
            <a:ext cx="75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 Acid halide react with ammonia to gi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Rectangle 8"/>
          <p:cNvSpPr/>
          <p:nvPr/>
        </p:nvSpPr>
        <p:spPr>
          <a:xfrm>
            <a:off x="-453960" y="5544000"/>
            <a:ext cx="9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mines             B)Amides           C) Phenols        D) Alcoh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Rectangle 1"/>
          <p:cNvSpPr/>
          <p:nvPr/>
        </p:nvSpPr>
        <p:spPr>
          <a:xfrm>
            <a:off x="90360" y="125064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 The most acidic compound 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6" name="كائن 1"/>
          <p:cNvGraphicFramePr/>
          <p:nvPr/>
        </p:nvGraphicFramePr>
        <p:xfrm>
          <a:off x="380880" y="1523880"/>
          <a:ext cx="59436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كائن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59436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9" name="Picture 1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0" name="Picture 1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Slide Number Placeholder 1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D7E9-C1D1-4245-91D9-928F804E37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1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C98-3BA9-4A81-B01E-0F76608163E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7" name="Picture 1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8" name="Picture 1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9" name="Straight Connector 1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Text Box 6"/>
          <p:cNvSpPr/>
          <p:nvPr/>
        </p:nvSpPr>
        <p:spPr>
          <a:xfrm>
            <a:off x="76320" y="1138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Of Carboxylic 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Rectangle 4"/>
          <p:cNvSpPr/>
          <p:nvPr/>
        </p:nvSpPr>
        <p:spPr>
          <a:xfrm>
            <a:off x="0" y="1676520"/>
            <a:ext cx="914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organic acid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tain one or mor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x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, which is a combination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n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 C=O and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 O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often written in condensed form as –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or –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classified as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iph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-COOH or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-COOH depending on the group bonded to the carboxylic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st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m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atty ac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ng chain aliphatic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0" name="Picture 1" descr="Acetic-acid-3D-balls-B.png"/>
          <p:cNvPicPr/>
          <p:nvPr/>
        </p:nvPicPr>
        <p:blipFill>
          <a:blip r:embed="rId3"/>
          <a:stretch/>
        </p:blipFill>
        <p:spPr>
          <a:xfrm>
            <a:off x="5334120" y="4800600"/>
            <a:ext cx="2460600" cy="1828800"/>
          </a:xfrm>
          <a:prstGeom prst="rect">
            <a:avLst/>
          </a:prstGeom>
          <a:ln w="0">
            <a:noFill/>
          </a:ln>
        </p:spPr>
      </p:pic>
      <p:sp>
        <p:nvSpPr>
          <p:cNvPr id="27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BE9-7D93-4450-BF78-D69205AE43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5"/>
          <p:cNvSpPr/>
          <p:nvPr/>
        </p:nvSpPr>
        <p:spPr>
          <a:xfrm>
            <a:off x="239040" y="12193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Rectangle 7"/>
          <p:cNvSpPr/>
          <p:nvPr/>
        </p:nvSpPr>
        <p:spPr>
          <a:xfrm>
            <a:off x="152280" y="2171880"/>
            <a:ext cx="8991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 carboxylic acids are called after characteristic properties or their orig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mmon names ending  -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Formula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am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origin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m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t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Latin for vin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onic acid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Greek for mi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yr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bu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c acid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an ro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Rectangle 6"/>
          <p:cNvSpPr/>
          <p:nvPr/>
        </p:nvSpPr>
        <p:spPr>
          <a:xfrm>
            <a:off x="99360" y="1747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Rectangle 2"/>
          <p:cNvSpPr/>
          <p:nvPr/>
        </p:nvSpPr>
        <p:spPr>
          <a:xfrm>
            <a:off x="152280" y="4572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sitions of the carbons present on the acid chain, are located by the Greek letters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dicating the carbon atom next to COOH group (C2),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3)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2"/>
          <p:cNvSpPr/>
          <p:nvPr/>
        </p:nvSpPr>
        <p:spPr>
          <a:xfrm>
            <a:off x="2890800" y="5510160"/>
            <a:ext cx="2900520" cy="928440"/>
          </a:xfrm>
          <a:prstGeom prst="rect">
            <a:avLst/>
          </a:prstGeom>
          <a:noFill/>
          <a:ln w="7632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     4     3    2  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-C—C—C—C—CO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δ     γ     β     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8" name="Picture 12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69" name="Picture 13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70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806-D9B5-4499-A727-7962716141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Rectangle 2"/>
          <p:cNvSpPr/>
          <p:nvPr/>
        </p:nvSpPr>
        <p:spPr>
          <a:xfrm>
            <a:off x="0" y="3570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cids have common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3" name="Object 5"/>
          <p:cNvGraphicFramePr/>
          <p:nvPr/>
        </p:nvGraphicFramePr>
        <p:xfrm>
          <a:off x="2819520" y="4038480"/>
          <a:ext cx="301464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0146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6"/>
          <p:cNvGraphicFramePr/>
          <p:nvPr/>
        </p:nvGraphicFramePr>
        <p:xfrm>
          <a:off x="2971800" y="1981080"/>
          <a:ext cx="3149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981080"/>
                    <a:ext cx="3149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7" name="مربع نص 20"/>
          <p:cNvSpPr/>
          <p:nvPr/>
        </p:nvSpPr>
        <p:spPr>
          <a:xfrm>
            <a:off x="31669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Rectangle 2"/>
          <p:cNvSpPr/>
          <p:nvPr/>
        </p:nvSpPr>
        <p:spPr>
          <a:xfrm>
            <a:off x="138240" y="106668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di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0" name="Picture 8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81" name="Picture 9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8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0C6-8C35-4195-8C2F-206271EC69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Line 2053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AutoShape 2054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Rectangle 19"/>
          <p:cNvSpPr/>
          <p:nvPr/>
        </p:nvSpPr>
        <p:spPr>
          <a:xfrm>
            <a:off x="1440" y="99072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UPAC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Rectangle 20"/>
          <p:cNvSpPr/>
          <p:nvPr/>
        </p:nvSpPr>
        <p:spPr>
          <a:xfrm>
            <a:off x="0" y="1600200"/>
            <a:ext cx="9144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longest continuous carbon chain contains the COOH group to get the root name of the parent hydrocarbon,   then replace the ending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e chain starting with the carbon of COOH group as 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are substituents identify their names, positions and list them as prefixe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xamples:     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 - CH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OOH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,5-Dimethylhexanoic acid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8" name="Picture 6" descr="http://www.chemguide.co.uk/organicprops/acids/acidformulae.gif"/>
          <p:cNvPicPr/>
          <p:nvPr/>
        </p:nvPicPr>
        <p:blipFill>
          <a:blip r:embed="rId1"/>
          <a:stretch/>
        </p:blipFill>
        <p:spPr>
          <a:xfrm>
            <a:off x="104760" y="4467240"/>
            <a:ext cx="56102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9" name="Object 1"/>
          <p:cNvGraphicFramePr/>
          <p:nvPr/>
        </p:nvGraphicFramePr>
        <p:xfrm>
          <a:off x="7877160" y="4665600"/>
          <a:ext cx="113976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716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1" name="Object 2"/>
          <p:cNvGraphicFramePr/>
          <p:nvPr/>
        </p:nvGraphicFramePr>
        <p:xfrm>
          <a:off x="5907240" y="4665600"/>
          <a:ext cx="1139760" cy="6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0724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Rectangle 4"/>
          <p:cNvSpPr/>
          <p:nvPr/>
        </p:nvSpPr>
        <p:spPr>
          <a:xfrm>
            <a:off x="5787360" y="55753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Rectangle 12"/>
          <p:cNvSpPr/>
          <p:nvPr/>
        </p:nvSpPr>
        <p:spPr>
          <a:xfrm>
            <a:off x="7586640" y="56037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6" name="Picture 13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97" name="Picture 14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9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D05-780E-43F7-99CB-90D4B0714A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6"/>
          <p:cNvSpPr/>
          <p:nvPr/>
        </p:nvSpPr>
        <p:spPr>
          <a:xfrm>
            <a:off x="76320" y="256212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ic compounds containing one or more COOH groups attached to the ring are named by identifying the name of the ring followed by the word carboxylic acid or dicarboxylic ac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  The </a:t>
            </a:r>
            <a:r>
              <a:rPr b="1" lang="en-GB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arbon atom bearing the carboxylic group is numbered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 substituents are numbered relativ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1" name="Object 14"/>
          <p:cNvGraphicFramePr/>
          <p:nvPr/>
        </p:nvGraphicFramePr>
        <p:xfrm>
          <a:off x="318960" y="38862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862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1"/>
          <p:cNvGraphicFramePr/>
          <p:nvPr/>
        </p:nvGraphicFramePr>
        <p:xfrm>
          <a:off x="380880" y="1165320"/>
          <a:ext cx="18432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65320"/>
                    <a:ext cx="1843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2"/>
          <p:cNvGraphicFramePr/>
          <p:nvPr/>
        </p:nvGraphicFramePr>
        <p:xfrm>
          <a:off x="4522680" y="1089000"/>
          <a:ext cx="13068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2680" y="1089000"/>
                    <a:ext cx="1306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3"/>
          <p:cNvGraphicFramePr/>
          <p:nvPr/>
        </p:nvGraphicFramePr>
        <p:xfrm>
          <a:off x="7086600" y="1317600"/>
          <a:ext cx="1827360" cy="3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317600"/>
                    <a:ext cx="18273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9" name="مربع نص 20"/>
          <p:cNvSpPr/>
          <p:nvPr/>
        </p:nvSpPr>
        <p:spPr>
          <a:xfrm>
            <a:off x="6705720" y="2114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-Butandi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مربع نص 22"/>
          <p:cNvSpPr/>
          <p:nvPr/>
        </p:nvSpPr>
        <p:spPr>
          <a:xfrm>
            <a:off x="0" y="21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Bromo-2-hydroxy-4-hexe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مربع نص 21"/>
          <p:cNvSpPr/>
          <p:nvPr/>
        </p:nvSpPr>
        <p:spPr>
          <a:xfrm>
            <a:off x="3962520" y="2114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Aminobuta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3" name="Picture 11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14" name="Picture 12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1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E25B-C48A-4881-A6EE-D9F0B51869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12"/>
          <p:cNvSpPr/>
          <p:nvPr/>
        </p:nvSpPr>
        <p:spPr>
          <a:xfrm>
            <a:off x="0" y="152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compounds have common names accepted by the IUPAC also they can be named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benzen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8" name="Object 3"/>
          <p:cNvGraphicFramePr/>
          <p:nvPr/>
        </p:nvGraphicFramePr>
        <p:xfrm>
          <a:off x="457200" y="2666880"/>
          <a:ext cx="80010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01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1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2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3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89D-881B-4ABB-B634-A93509DA4B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0" y="96840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Content Placeholder 2"/>
          <p:cNvSpPr/>
          <p:nvPr/>
        </p:nvSpPr>
        <p:spPr>
          <a:xfrm>
            <a:off x="-15840" y="1828800"/>
            <a:ext cx="91440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) Boil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ionally high boil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han alcohols of identical relative molecular masses, Fo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      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F.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W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bp / °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Propanol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8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60.01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9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Ethanoic acid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60.05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1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higher boiling points than alcohols and aldehydes, because their dimeric struc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gen-bonded acid d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FA2-1F86-4968-AE14-E20AEA7483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2" name="Object 2"/>
          <p:cNvGraphicFramePr/>
          <p:nvPr/>
        </p:nvGraphicFramePr>
        <p:xfrm>
          <a:off x="3903840" y="5224320"/>
          <a:ext cx="416376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3840" y="5224320"/>
                    <a:ext cx="41637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hp</cp:lastModifiedBy>
  <dcterms:modified xsi:type="dcterms:W3CDTF">2015-03-13T20:20:33Z</dcterms:modified>
  <cp:revision>154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