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4.wmf" ContentType="image/x-wmf"/>
  <Override PartName="/ppt/media/image14.wmf" ContentType="image/x-wmf"/>
  <Override PartName="/ppt/media/image53.png" ContentType="image/png"/>
  <Override PartName="/ppt/media/image29.png" ContentType="image/png"/>
  <Override PartName="/ppt/media/image32.wmf" ContentType="image/x-wmf"/>
  <Override PartName="/ppt/media/image50.png" ContentType="image/png"/>
  <Override PartName="/ppt/media/image5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2.png" ContentType="image/png"/>
  <Override PartName="/ppt/media/image25.png" ContentType="image/png"/>
  <Override PartName="/ppt/media/image47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7.wmf" ContentType="image/x-wmf"/>
  <Override PartName="/ppt/media/image20.wmf" ContentType="image/x-wmf"/>
  <Override PartName="/ppt/media/image22.wmf" ContentType="image/x-wmf"/>
  <Override PartName="/ppt/media/image59.wmf" ContentType="image/x-wmf"/>
  <Override PartName="/ppt/media/image58.wmf" ContentType="image/x-wmf"/>
  <Override PartName="/ppt/media/image21.wmf" ContentType="image/x-wmf"/>
  <Override PartName="/ppt/media/image61.wmf" ContentType="image/x-wmf"/>
  <Override PartName="/ppt/media/image19.wmf" ContentType="image/x-wmf"/>
  <Override PartName="/ppt/media/image24.wmf" ContentType="image/x-wmf"/>
  <Override PartName="/ppt/media/image18.wmf" ContentType="image/x-wmf"/>
  <Override PartName="/ppt/media/image28.wmf" ContentType="image/x-wmf"/>
  <Override PartName="/ppt/media/image30.png" ContentType="image/png"/>
  <Override PartName="/ppt/media/image36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16.wmf" ContentType="image/x-wmf"/>
  <Override PartName="/ppt/media/image60.wmf" ContentType="image/x-wmf"/>
  <Override PartName="/ppt/media/image38.png" ContentType="image/png"/>
  <Override PartName="/ppt/media/image7.png" ContentType="image/png"/>
  <Override PartName="/ppt/media/image41.wmf" ContentType="image/x-wmf"/>
  <Override PartName="/ppt/media/image23.wmf" ContentType="image/x-wmf"/>
  <Override PartName="/ppt/media/image27.wmf" ContentType="image/x-wmf"/>
  <Override PartName="/ppt/media/image11.jpeg" ContentType="image/jpeg"/>
  <Override PartName="/ppt/media/image17.wmf" ContentType="image/x-wmf"/>
  <Override PartName="/ppt/media/image9.png" ContentType="image/png"/>
  <Override PartName="/ppt/media/image8.png" ContentType="image/png"/>
  <Override PartName="/ppt/media/image42.wmf" ContentType="image/x-wmf"/>
  <Override PartName="/ppt/media/image13.wmf" ContentType="image/x-wmf"/>
  <Override PartName="/ppt/media/image52.png" ContentType="image/png"/>
  <Override PartName="/ppt/media/image31.png" ContentType="image/png"/>
  <Override PartName="/ppt/media/image34.wmf" ContentType="image/x-wmf"/>
  <Override PartName="/ppt/media/image39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48.png" ContentType="image/png"/>
  <Override PartName="/ppt/media/image51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 type="dt" idx="18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 type="ftr" idx="18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PlaceHolder 6"/>
          <p:cNvSpPr>
            <a:spLocks noGrp="1"/>
          </p:cNvSpPr>
          <p:nvPr>
            <p:ph type="sldNum" idx="18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1D78-6182-40B5-8C19-8EAB53260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A95C-3705-4CC4-89EF-1E66271D43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C1D2-CB22-4EC3-88AC-F6A4C699F2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C427-F4DF-4B63-8AA0-B04858BB7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98A-DC33-4965-82DA-296690D4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E8B-7A26-4A01-B595-48E82169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FBDF3-ADB9-4C54-8AFC-755FA76A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8DA14-91B9-4E04-AEF6-5719FE1F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B9829-036B-4B9D-B27F-87E40AC6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4EEAC-E70A-4042-91B0-12FF4114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F7231-DABA-4AF1-A123-6A980628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F2377-DCAF-4A3C-90D5-B9AEACA6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F8440-EECA-4F1C-8146-DD65F6DA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18AEB-B4EA-426B-B3F1-B6D479B6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D0999-8940-4D26-8969-3799C672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4E9CD-A493-4124-9F9A-566109FE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627-82CE-47BB-AD83-B7390E22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3C890-B522-4B33-881B-3D45F0C9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65234-C16F-4CE2-A6BA-31B30D38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53CE8-95EB-4D66-9154-57F32989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D994F-B688-470C-90DE-1D5607D3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478E9-D792-49D2-9C66-2EBAE52F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E5561-BF95-4216-BB7C-03D8B498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CCC21-0A07-4A6A-80DF-AE55C9E1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2059A-F796-46DC-8D31-A953A51A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8A24A-449A-486F-BB57-388420CE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DD487-E8DA-4ED0-8ABB-6D5770ED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74A-4818-431E-9A2D-EE28D0CC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0DA4B-29B7-4A87-BF9B-DB244BF0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C6A27-7418-41EA-B7D5-653F376F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FFF56-F7CF-44C3-B189-B19FF1AF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39B2D-7A64-48F1-B3DD-2DADDE15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74521-E880-40B2-BA67-16FFCE2A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B4BCE-7761-4EFF-849D-3888A7C1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07BD7-170B-4EBF-AEE8-FB5D6789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A2139-DB37-49D9-BBA0-13E9DF7E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EEC99-87CB-495C-9C29-3C5A237E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B9B68-823F-4893-AA5D-3D586349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7DCC-B7D2-417E-9E6C-A2BCA8D5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95144-172A-4B71-B2A3-FE3F6A4E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80BF3-7597-4AA2-93E8-EE87C6F2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C5712-8782-42FA-AA6D-7C0EA34B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4BA38-E6C9-4337-8BDC-8965F1C6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2ABDF-FF1B-47BB-9D8E-8F272065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031A8-7078-4357-B54F-35F750A7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1425E-7322-4C28-8B02-27664570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A6A9E-35EA-4B44-BE7C-E4C12092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7A748-A30D-41E7-ABB8-675425A5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589F0-CD57-41FB-8BF0-E61D8FE2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696C-F6CF-4988-B9B6-DB4E3F33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8162B-A81E-45DE-93E2-3FD8F27C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40E80-0AB9-4B17-9F05-AEDBA8C8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5A050-EB1D-4C0C-AD10-AF505791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E2B75-95FA-409B-8E50-5B0F3ED4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C6C57-8D47-4160-A138-F6A47C77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20A82-3A24-4D09-B0EA-146B237F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FC94B-3B17-408C-AA84-281B27AA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9A2EC-827F-4F88-BBCF-B0639EAA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D8903-9265-41B5-ADC1-74B326FF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11F84-1DFC-4E37-8E64-9B76454D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D0BB-F509-4C1B-94BC-5C9F50B4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4A0A4-10C2-4EFE-987A-B9BEE721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BBB24-3BE6-444A-BE66-A347A532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C11F0-2CA0-4F31-96B0-BBE083CC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B64B1-DBAA-47D8-831D-3EABE47F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9A189-7D78-40CD-B681-1444D7C6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A51E9-0BF4-409B-BCCC-FAB4E6D8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AC7EA-CA97-472B-ABBD-8596C5B8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40CC6-C837-4679-AD16-2890E7DC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09A96-C9D2-4CC6-94F0-AEDF94E2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3C3203-E1CB-4A02-B64F-5B223501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138A-BF5C-4BE6-AC82-2C16C019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0ECC5-5D9C-4032-8F0F-718B7937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B7764-8024-4808-8BE6-82107323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3D6D8-342A-479B-8416-F596A053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8564B-F2FC-4DF7-A78C-2F90D996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8F0F4-2710-4B9A-84AB-76E1885F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37E123-C610-4A6D-BB5C-AF6F8F67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0B964-A8CC-448C-B2F3-1E6CEEB5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AC0E24-4311-4A05-BB63-28BF50FF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79C32-9557-4B31-94E0-ED006CDD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ECA9B-FC3B-4D4B-A84C-16428F1A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202B-ADCB-4314-A304-07A3F416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700BBE-AEDD-4748-8803-92F5C585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AD6F54-ADD6-45EE-AAC7-AC4FDE6A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B1141B-4330-4A26-A415-31097679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A05AE5-78EC-4878-AF8F-85BD1F14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89787-4C25-41A9-888D-6312B19E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2FAA04-BF4A-464C-BA62-1DA250E0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5BC0F4-5490-48E4-9AF4-06DFB5CA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5176C6-338D-4D06-8F5A-28BB81D2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634D72-6B5A-4E56-87FF-444CCAAF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ADDF0-D2A7-4ECF-B909-C7721CC6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5955-0C82-4287-84CA-81CC8DA2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4D4C0-29EB-4FF6-BA32-CED46339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625BD-FD35-447B-8CE0-152F0439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EAE70-DCFB-4842-B98F-AF23D1DD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E82481-B0A1-492A-9144-2560EBF1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B137AB-A842-4563-B2F3-01B9ACCF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B70A8D-8840-435A-A47F-FFC75B0B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A05CA-B48B-43F4-A78B-90270DC9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DCC9A-2C77-4CB9-8F91-61EF29A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3AA564-5634-4A91-A6BC-6038F9F3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A2873-D9C2-4FDE-A88E-2E455D25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879F-DD95-4F0C-87E5-B37F1187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DC32D4-1C25-4CAF-8328-B7C1977D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22DB5A-56A6-4620-92AF-160E9703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9127B-E27C-49E7-82E6-08A06139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945B7D-B64D-4556-97E6-852A67EF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B6288-E5DC-42B7-88CF-28232AD8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696B82-7D20-4023-A790-00B0F1FB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C77336-1003-4EFD-893C-AD565C8F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9826F9-DB55-4F72-8DC4-5E922887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FB5BC-7D68-4CED-8510-00F0499E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0BD06-A889-49D6-82D2-D438DC75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764-6550-48F4-AFB9-F8F38276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F0C6-3A91-4F54-B7B8-FBDF6D96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0519DE-6581-4735-94EB-8AEACE63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BD4FC-4CC9-4B06-BC48-7A21932C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19C595-F312-4FF9-B097-006B8F06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31C4CC-4037-4A33-8EEB-9BB362AA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B8468D-C164-42F0-B074-356D6097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66466-23E3-45ED-A47D-42289D22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2A3F44-A244-49CA-B976-8B04215D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3CEC75-6E1A-46B7-9F18-EA1C5380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42DC6-C035-4528-A80C-B500811E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6450AA-FF92-4FFD-AD6C-BC4026E0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7BE4-3AD4-40FA-8AF5-69FA2EA6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CBF317-77DD-4473-93AF-18577581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9FFE67-A90C-4C13-AD57-A320C44B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35959-29F7-412D-A8F3-A157CE28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174F89-E0B2-4C25-91B8-D25BD8C3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8DA03F-03FB-4DE2-ACDA-DAD1C7B9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980697-60D0-44AD-B970-02C1126E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6B79E2-AC6F-43D2-9E56-D58216AE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045FD4-5CE5-48A9-9C9C-A47B86E0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105178-345E-473B-8EB7-D6CF3872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ED1DE9-5F1C-4266-B776-16110F83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F769-5E0D-4212-99EA-4B0287E1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FB21B8-8197-42F8-BAC2-A069D8CE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6CCB70-D294-416F-80B3-FAE0E918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B799C-E62B-4A12-8000-D5AB3569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BFA374-D790-4FDE-8DCE-EC675AF7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B8F70-CDB7-419D-90B0-163ADE22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045B9F-8598-4933-AF24-3CD6E034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22A0CD-F3F9-49C7-B83E-678FE87D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57A3B4-4D9C-42A5-8E4F-9214ABBE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5D3C61-735C-41BE-9F3A-351268FA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F1F694-27FF-40BD-B0BF-2708A677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D77E-7271-4F6B-8C93-17E7C5D8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C7344B-0F5D-47A0-BB51-E9A5C35F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BE50A3-E511-47ED-AF0B-FFFA5B25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871BD7-2188-41FB-BF54-BF7B1BF2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3FC0BA-819B-4D93-B835-21C19703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C8C665-71E6-4875-BE95-118E8AB3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BD2B3-77B4-458B-B8FA-1433917A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87B07C-D279-4CAC-A687-8F9C8E3B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99580B-74FE-448A-ADD1-3C62E429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7748F4-CEAD-4B0E-A53C-71F7E0AB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AED7B3-3734-48AA-BAC5-4FAA0459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731B-B34A-4098-AC91-4CC5334A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DAF27E-164A-408B-A70D-131BE47D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790C6D-8C44-4BB8-988B-0CB43B2B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7D658F-0915-4D98-B879-D9F66897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5F8E3D-295C-41E6-BDCB-F9D1E685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B3EE00-4A09-46F4-B446-751ED047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592244-9F7B-42C2-A25F-9E8DB860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8E359B-7E9B-48F3-888D-AB1BDF38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D7F3EC-630D-49B0-BDD9-4476BDBF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2F7E22-61F9-4C9E-BDC4-58D872AF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A1F670-CE86-49BD-AD83-85E9286C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9A4B8-CB6C-437A-B5DE-5D15E469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029C66-E72B-428F-A3B0-4B3A6011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5F21BB-2AF6-40D0-B51E-D081523E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258248-5DDE-4202-A00D-BBE977FB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85B2DF-121D-47E0-9756-C6C888F8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8FF697-8783-4602-9500-E308C7DF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2562CB-E15C-40B8-A8D5-C6F8246D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A8A1C8-9069-4C7B-8B90-A980B18B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99AE8E-F6F9-4197-8606-9C77FB82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2A4FD5-C9A0-4AA6-BF2B-37D85261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5EBD2D-C192-414C-9443-0E655278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59321-DDD5-4C53-9A9F-91AC6E64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90A639-72E9-415C-8EA1-4690E160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C73610-338A-406D-BCB3-E92B13C9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D7AB22-0560-4632-AEC1-679CB151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3D9BC8-7417-409A-9BD1-76A197B7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0B0A31-6F68-4AE1-8D9B-2690A4F5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2EFBE8-F332-40C9-A4A4-81DA84B7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C4C530-04DC-4DC1-851F-0A7AC408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39F40D-4B9E-4079-9279-2A1749C7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76FBC9-5470-4DD0-A33D-F0E38BE8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4BD00D-8EF1-4BD4-8B45-F029B2D7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EB119-E4AD-4132-A44A-B0BC63AB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D513F7-90DE-4554-A4D9-242D2811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8D2147-54A2-477E-843F-6787D1A3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F6D61E-3352-450A-836A-A877C4AF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EA1BE4-B0D3-49D2-90BD-48A3629D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22797E-D212-4657-AED5-67421943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172D63-B63A-4062-BF01-CFD48016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4A8F59-079A-4391-864A-06DAEA22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9EF36C-BA93-4DE3-9EEC-0794A237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D558B1-45B9-477B-B681-F7092FBE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A42C3A-D3CB-4FED-9B1E-F8906F2B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F4B27-DD90-4B8A-8DDB-F2F0E5B2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215DB9-F7DB-47E4-A3EC-152B8FAE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E85A65-F595-4151-87D5-123BC601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BB4A79-7FE2-40EB-9661-5F11A50E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C184BD-EEC6-4FA2-A33C-307F1A9E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5DBEF0-E35E-4881-A05C-E9704D8E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8A7E1B-1697-4C05-93CC-A38F1B50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FBDC10-7CD6-4FC2-BA80-52F202B0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C8722C-6ECE-4C27-AE32-101E4BBA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896FFE-0F64-43BD-BBD1-28FE84DC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4A65B7-F58D-4302-9149-158C3B16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6F52E-6773-4643-813D-F8A8BB26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EEF5E0-8301-4EC4-ABDE-C64EA5B1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3529C8-E7DC-4C32-91DD-88618307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7EDA0C-302B-4D1D-97F0-1FA9A4F5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7048BE-E555-4D4C-8D38-ADCC9834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00CE80-E1A6-4F77-A0EA-B9BFC966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4DAF34-44F7-447B-AAD2-FD493B90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D02585-23AF-4AB6-94E3-1549B76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46BAC2-F9FD-4586-A204-EE67C203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30F065-162C-4935-8C7B-EDE5F680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2BD7E6-F493-4559-BC79-FA54CE83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875-0111-4343-85E2-03FAA1A8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05582-B7C2-4820-8541-044D0BE0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0E1DC3-6ABE-44C2-9BED-5FDB708D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80A7AC-7CF6-4CE7-BBCC-FDDC53ED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4F6C89-74B5-4866-956C-40DF1F9B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F53A27-0A1D-4982-A104-38F3632C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BEACB2-2363-4F35-AA21-9890B6BD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FA2487-6111-44F5-8E55-EAFC40BB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4C6629-77E2-4503-B598-D6955D9F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41FD22-D8AB-48D0-B185-15E0745D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8CDEFB-DDEA-4088-BCB3-14B91CF4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F85375-CF26-4913-94EE-C15F851D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AE269-EA49-4747-925A-D82E26B1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4D6079-CDA3-4D5D-BED3-757FB628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140B33-BEAE-4516-BB86-04E949FD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5FAA37-016D-4959-B3B1-D7E307AD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3AAB2F-C101-4589-B05E-5B5FD032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FCADE9-191F-4207-A366-0D6E61C8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FBFED5-2245-4BE7-A76F-53F89844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A237A5-454D-4EFB-8C14-DAA92674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CD2231-991A-4178-80C0-CF9E5D69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BB0EE0-14FA-4B0C-9429-0EBFE79E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1FBB7D-4A51-4C96-8D9C-ACAC9938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0630-6F4D-4C3D-8153-924E34E7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6C661C-53BF-4427-90BF-A4F1A28C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A64941-DDFE-4670-9197-ADFFD488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711E5F-0EB4-4BE1-8EBF-0804FB88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09CB6A-B95C-4389-B0E6-17705A59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B43119-ACDC-4CFC-A456-25002AF4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69B85F-145C-4857-B438-23EE70A7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DB7103-0DB8-4253-BBE0-2B9ED11C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667AA5-310C-40DA-800D-38E92775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BD330A-840D-46BA-AB2F-01B622C0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E1D1FC-CEB1-475D-979F-9D9C062D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3E2E5-B4E6-4777-B898-0622CCE6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06B8E1-77E6-4A8E-BEDF-60B5589D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AA56B6-30FB-41CE-8BAA-7C494D05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439A68-7862-4E0D-9A6A-CE7D2674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D9426E-5627-4DD9-8201-4EB1F961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CFBCF1-53FE-4A19-9911-E90AC98F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573172-25D5-4147-AA4F-5D509CCE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5D9473-3D5F-4B2C-883B-5A25EFDE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189AF5-A4EA-4449-B215-62692A96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ED9103-4CA1-4330-80E5-9393CE93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B2B980-757E-48D0-90B5-5835CC68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28D2-7DAA-4193-8938-210472AA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A6FBD6-75E5-4492-9571-350E34E2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F4EED6-00E7-4678-BCE5-7F648FC3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D74E32-82AC-4725-8F2F-7A9B6A98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1F4022-9988-4BD1-AA3E-548A5C52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C58762-333A-4777-A2EF-F178EC5F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799BAE-EBA7-41F4-8903-CA316F28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4B1828-5D75-4228-ADA1-8F72560E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40AD17-5BEE-475C-A1C3-96B76725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F0F89E-B2AE-4E54-B154-0F8A9B0E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4B6D1D-BDCA-4B03-ACE0-75A4BB73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FD99-BD56-40D5-9F84-9D32207A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6212BB-3BD8-4F06-B5E0-091C5AE9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BF6A0C-A26E-4E78-833B-284ADB25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9F2C70-5BB8-4FEE-9FE8-A4025889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127B20-362F-4D6F-B672-CB3EAB50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FF6759-12E8-4592-A78D-F9A681B2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1E4FA2-B766-414F-A244-5761448A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DDDBCD-C207-4C5C-8D32-4C2E4F13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F38E53-6BA5-4AD7-97EA-EDBBC55F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2477E3-3675-41FB-8773-2F6E4BC6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283992-2B2F-41B5-B686-4DA3AAAD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90D26-F75C-4FDB-976D-507844BE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8F0597-DD0D-4933-B6BF-0E89D1EC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B1045F-18C9-4FB0-A020-C346E09C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BC7337-4FA8-4E6C-9DE0-6D744BA7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4AF9C6-16AA-4DD5-8317-46AB1FA2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5265D0-7F0D-48B5-9489-6DF4B0B7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AAD5B3-123E-4AC4-BAB1-7AD21776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083EA3-0FB9-4327-B30F-805572DB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C26B3E-68B4-4833-BDBF-A07AA4DF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B274DB-4BD1-4BB9-9C8E-9057E916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C612D6-3599-41D8-BF19-3A2DAD68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BC99-280B-4D91-B194-F0B37D83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C2704C-1833-4DB0-9802-C8F8FE9A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8BB4F3-1E0F-44A8-B412-B555FDF6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210AAC-E4A9-4DFF-B757-211E3878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12B3FC-2A37-4CD6-8488-CF874A38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026812-ECB6-449D-A4AC-0F725C67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23F39D-BC6C-4527-AD9A-24EE1BD6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A9E50B-1271-43EA-8188-0FBC58D0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7A74E9-7A2C-459C-90A6-1EF3ECDD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8CF055-C7A7-4921-823A-8488BB89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2EE8E5-5004-4ACB-A2C7-4F69F320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9125A-2965-46A9-831E-0CDE4C5D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0A84DE-8E04-4AB3-A6D6-C0A71BBB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342DA3-810B-4700-9FBC-8B17009D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6CE42D-142A-48A3-98B7-575793A8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8CF3CA-AF80-4D61-8F33-44C55AE8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30FFEA-78D7-4DC0-83EB-7D32C654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BFF784-5B65-4CF0-992B-FF5ECF75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EE4D4F-E0BA-4E5A-B812-1869EDFF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EFDC34-27AD-4CAC-989B-6156E859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48D28C-6038-4A90-A53E-0E06D9E4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B0B7AA-5812-4386-94C0-37F3D0DF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71E3F-9122-4FC1-B999-8479D009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EA21F6-80C5-4B83-A1FB-21D74163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5A6B2A-39AE-4ACF-8CE0-F5B0F292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E38F63-0B49-449E-B817-D8F4BC5B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847E05C-2A6E-4CFE-B216-4A6D11D5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3F3749-FDB1-4CE8-92C5-E7A1889F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380BE1-76CA-41AF-B118-962EFB99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343C3A-E221-42C9-B892-45C5AD26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8F48F3-4B92-46F7-A76F-E3B114E8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3A09C6-978C-43A0-8807-F6460CBE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6DF75C-5028-4A39-81D4-6BCD27B2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7B6-77C4-4AF1-AF65-7FB4A5B8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E87E-BB01-49F4-A9ED-DF85853E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B0487E-4C1B-4D61-9F96-6D6DC13D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AE1C59-A4E6-4FF1-BBDE-5253CA55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F7FDAB-E0AA-4093-A136-6EED3D0C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4C5FF9-C550-4D94-BD9A-51A328DB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197011-73BF-4E6C-886B-70EB67DA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00042E-2C3B-4DDE-8915-7336285E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1EBD9D-6E9D-4163-86CD-04A2397D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625090-AEDD-4381-B97D-152A66AD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B4B1BD-0D74-4E94-A567-D7770187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D38889-AB11-46BE-BDA9-50EE1139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E1C29-7CEE-4E13-9239-32822072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F340EE-5F91-4F1C-B64E-56A68CE2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646DE4-9C3A-4EAC-BC4D-A21AB75F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138403-1969-49F8-BFD2-2E8B1AF1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ADCC56-9EBF-4929-95A2-293E426F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7B3803-C3C6-4296-9592-22DB9C72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94403F-4539-4142-841E-2340C1FE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145AF3-3846-4968-AF9C-340693C8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5823A1-C48A-43EC-BB1C-33AEF642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A5A63C-E2B7-4D62-A2AA-9E8FAA20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4E740B-209C-4CD2-B671-0515BED2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06C45-1306-4577-B17C-936A4424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E2C517-B11A-4676-BD6F-4BDC411A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EFE6B0-7C76-4820-A945-36E0F45C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425790-A97A-45DD-9BAB-0C030AD9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27AF09-26E1-464F-9E9B-83C96ECF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C21277-2E51-4C49-89BF-F5EB690B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5E6EE4-5E69-4078-8E1F-894E17D3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1A8D9A-E0FD-4295-889F-EB87CA6B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035623-68E2-4788-816F-D2AF58EA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DC450E-E7DA-4284-938C-2E871EE7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351174-B435-4FAE-A65F-43BA32B6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816FD-5FFB-4A62-B4ED-52E3EFEB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A692AD-0C2F-40BA-81CB-F522FC1A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2AF418-9E53-4134-ACC5-E070A3E0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01D8B4-E7A3-4E80-9943-C2B0F12D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11092CA-7AD4-4F43-9DC8-2238F8F1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4CB7A46-C922-4EBA-81DF-DEFAFE52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F7F15E6-BFDE-4F42-B04D-6BC9C46E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428B04-9222-442D-B40B-572688DA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678015-F354-4B21-A4C9-06AC3FFF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ED49FE-7556-4DE3-8588-809C9206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603212-D658-4554-ABD2-66C66722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234E7-4561-4401-AE91-F954F91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159FD3-AD93-419F-8ACD-CEF9DF5C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DD78D4-2BF4-4493-97BB-41ACAFB2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8EC49BF-6481-4D5A-ACD9-8F9EEC62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5EDA5B-73A9-4C85-8B2E-8B95277D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2553FB-C764-4F45-91AE-22097770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5836BD7-12DF-4CF3-BC22-6695F9FB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3585FB-6A00-4125-9F89-93F815C9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2D5F60B-A9D9-41D7-906F-460B5608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0BFDF9E-3F2D-480F-940B-C71B820D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A21FFD-EAB7-4011-96FF-22304B64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7D376-80A0-46F8-AA96-D509EA8A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C06785D-5B37-4BD0-AF21-C29D5C03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DC8278-2531-4FB7-B336-FE7DB6D7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3C410E6-33C2-4955-A911-C6668C27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45603AC-F51B-471A-9CBF-714164D2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78C92E1-799B-4C2F-998C-AE961B2E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5C74F10-7D14-41F4-B876-4F8465BD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CA54B74-B99D-4B11-92B1-586309A8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BAD2447-3F4E-4EC2-ABAE-328B066C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C74CF17-19D3-491C-A165-3E49D177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D4C718-D52B-4807-9AD5-A3A4A7B6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9DC64-20F7-4DE7-A6E2-870FF522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7259FF1-ADE7-4FD2-B264-524B1BE4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855625B-74F3-4B4E-9C45-955CAB75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71C480A-3174-4CAD-8565-8C7B1E6A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85D7DF8-81F3-4934-8D50-A641E62E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6FAF6D6-5CF4-4BF4-BA98-EA4650FD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8758FD6-5C3C-47C9-A879-2F8AF641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3051D22-9361-4BB2-B933-43103BDC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3D33294-00F7-4777-9E45-2779492B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6027E67-5F9B-4128-A129-E9313F7E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2F4DED8-AE0E-4ABD-B17A-0EDC55EB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8DB2C-3504-4A31-AEA3-3FA5C109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7A19C34-560F-4F11-86ED-AC4F05F0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FF4C650-C560-4EC6-9644-E2FD8C45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7296D05-B369-4420-A4E0-62043996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E4B469-E13B-40F3-93E6-25D87542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5307692-5AD0-4C1E-9581-D04376B3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29C0849-A83D-4E4A-99B9-4602CA50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6ACA6A1-B00D-4924-A06F-242117E9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29B56DB-9E5E-4F69-9CBC-62669B83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F997CEA-24E0-44DC-AD3B-0A48DFE4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92B6D89-9FED-4211-96BE-24FC1038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A6809-E745-4147-9D2C-94D5ADF0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A135D54-EB8B-459D-BC2F-316C15A2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DB33B88-5AFE-4C15-B57C-4E389274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F4C25A0-0B49-4B91-A2BD-7D1FB6B4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477E354-B030-44B8-A014-EABA2B9D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76EED7-4A52-4E93-81CF-BD82C8B4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40A098-7D6B-451A-9422-C5B0A790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1374098-0B6E-44DB-BDF0-E2EB6CD8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3B5317-B86C-40EF-AD7B-400C752A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48D1311-EB7E-4FF8-BB9B-0A88D097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AFA128A-0983-4499-A129-3F00A89C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E1CF1-A2EC-480E-B612-6BDB5EBA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88C22FC-B378-4071-BF0B-4119E381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B8AA4B6-3EF4-492E-8B8E-F51E47E6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91FFC25-D1DE-468A-8E3E-5C81AAA0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ED4497C-8553-4AC6-881E-F856A2FC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8A347FA-459B-44AB-A777-9C2A5513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7A1CB12-4B9F-43B5-91B7-07B9446A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88F3DDD-ADF3-42F9-A3F1-B736484F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16126EE-9E5D-4ED9-8BB1-30DC61AF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BE0B19-E43C-4787-B6DA-C28E5CFB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B763B6D-AA76-4B49-A55E-DA05B7D6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073-EBA5-4C38-9079-1E8370D3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9C829-BF0C-460E-85B3-AC22A92A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550B36A-EDC7-48B5-A412-62BE6B07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39B36F8-5337-4F6C-8799-87D10122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AFF42C3-040A-4CFE-BE21-236032ED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4254F86-DAEC-4234-98C7-D329B294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9F6E85-FE8B-4C47-BE07-35492249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41E194C-4D82-48A6-8409-0E319E78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DB245DE-657A-4803-B1A7-F80B7AFA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5092177-CEE8-49F4-9B28-E9A53A97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152F88E-0919-45AB-B4F1-C6428137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FAC3E48-02F7-4C0B-8588-AFE85C3B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A7024-3F88-46F9-8DDC-2160424E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B52DB37-392F-4D96-B9BE-E95ACB98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5A1EB01-5178-4554-83BE-9051E8B1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2B06BE1-6640-4A31-A8B3-05F19245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A7C8D2C-7D77-4F45-BD33-AB209C64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523A08C-B859-414E-A7F7-0DC276F5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D5C5449-314D-44FE-A6DD-8617AD5B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C4323BA-CB83-4817-A849-07630232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B4F826F-FEE2-4406-8BAF-BA6F57BA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5739568-1122-4D4A-B117-3F8A5ABD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6A5FDD3-476C-4188-9271-BA73E45A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A0078-CCE8-407C-82E7-DB27E58B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B73616D-8CCE-47BF-BFFF-7983F331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9A511FE-47CD-42B4-B101-5AF3E092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3E0E622-F501-4E87-8BFE-FA8F395D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2C400C8-9EB1-48A8-BC04-5026F17F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C6D6A5A-9D53-4FEA-B4A6-DBA3C7EF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7E30D47-829A-4616-A3D3-ECBE4434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BDF6031-AEA9-4300-BC19-4AD2E59F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8C5EB90-40CE-45DD-B9AB-3B64182E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B45B38B-7ED6-4976-8D31-D0D65CD4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4E54FFE-F6EC-457D-826B-825F038C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BEA4C-952C-48C5-AE60-136587F8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305262F-BC2B-413E-ACAE-B567161D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3D8DE4C-5D37-4F1C-A96E-A750CAB1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36D0F8F-666A-4E50-86EE-B16912B4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D32DF82-AA3C-4E2B-8C9E-87DEB32E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753FA7B-DB7F-4AD5-8971-63BBDB64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56BD88B-F222-4789-B67B-E4331BF2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6BFCFDE-C0E4-45DF-A8F7-BA8C4EB0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7EBEF3E-74A5-4AC5-9144-53D3FA49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EA017CA-520A-4D41-9EAE-829610C4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52FF2D4-D1AA-4AA8-AA4D-72FF9355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773C1-153D-45AB-8B5D-06B3D5F0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C3BFDEA-6F9D-4C46-AB9B-5C22AD0B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8DAAA03-D057-4293-9542-9C5A1BB0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AA30302-EF8F-4C8E-9FD5-98A6C5A5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FB0F2BC-20B8-4DDC-8A37-2DD88D77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03ABDED-2F38-4A10-870C-F5ED80F1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0B8637B-A77B-4DE6-A684-1F0D931D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2E7FA7B-4E91-481D-B464-7A730F9C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BC6EDD0-05D8-42B3-A5BC-8FFD93B6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4CFB17A-56FA-49A8-987A-40B9B94E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8F13C23-7770-473F-92B9-0B35B3AD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869D6-046B-4D79-906F-8A87FDE6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FCC5E88-F0A6-46B3-A4EB-99C78152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9D71CAA-79B5-4E4F-9873-F5E680DA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6BFC756-C176-422E-A522-C2A152A0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200B94F-F95A-4EDC-9DEC-632F3B96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97F4425-20E4-4807-8168-597DECA0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FB87BB0-56FA-4C45-A0AD-A34C6EE6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0CDBBE-3896-4598-881C-0901DCB4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E255912-044B-4559-A814-30645D6C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7C3E7D6-643F-4CD9-A28C-10689F7F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8D5ADC6-FCEC-4827-A22B-799D9F5A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3AC1E-20EB-44CA-917F-2D36CC9A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04229DD-AA1A-4EE9-95A1-4158436D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0E2A826-6160-4D31-9A6B-D94FA9F4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AF9B295-9982-4560-8B33-CA08B044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10A3BEC-4205-4FB4-B609-46B27811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934D591-F048-4CFE-8A6D-755BEB2E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23FE8AC-BDA5-4DD9-9106-7BEDBD31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4B379AF-EFC3-460C-83A8-63664290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FCD2770-645B-42A8-9077-636D3DE8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5D34C6E-A9AB-4503-BC0F-B5087D3A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F58C377-A82B-44BC-AD60-214C868B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3C591-2BBF-477B-930D-C0770497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17CEAF0-4C43-4699-AE29-7AA0C694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ED18EEE-90A3-445A-A097-85FB90B2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A658116-BDB5-4439-BB11-0E8B7530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1B24836-1A3D-4452-9F2D-DA9A8C90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F541C73-3A32-4C1E-BA56-E247D77C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23D5D69-76C0-4B41-B4DF-F7A3AE90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5CA5375-16AA-4EA1-BCD6-14350FAC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0C52AEF-06D4-4F98-AAB8-EB41B63B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92C4C3D-9B89-42CA-B6F3-235B965E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D93AC79-D153-4445-A150-AC4F534A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6E800-C4C1-4AB2-B244-2EBF47C2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824C9D3-43D7-453F-B099-584AC1B5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67B0CB8-5203-4A56-8375-0C97C249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1D74A68-7AEE-464D-9C16-F450BB5D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80138EA-0A7F-4706-B35A-4F312D77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4DC93E5-2525-4EE8-AF2F-DEE73D37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6A1D44C-8973-421E-A79A-2A86874F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C926FB5-D50E-4BAC-8564-EB279353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1C74A80-E1C2-4B96-91E3-D8A10A2F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57E95EC-FEF1-4C21-B694-3A2A1625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A6D530C9-8011-47FC-B362-41782698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8C175-2AB6-4C6F-A3D4-1D60096C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D7EA9AFA-8389-413D-84DE-1784D2C9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A96E127A-620E-4025-A0DB-68DB3F9B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B56BC816-C95F-40C2-923D-916197D6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2C343EA8-6E73-46AB-8552-2BD604F8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487C0050-0926-47FD-8693-080D2FD4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84AC262D-007F-4191-A03F-B6685490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01E78262-33A4-485B-ABD6-7D743795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8AB8F492-87CD-4914-BF3C-695D6FD9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FD078C10-E1F1-41B0-8DA6-82BED442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D713074D-E5AF-484C-A204-4070D4CC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CDB-267B-4B61-9DD0-515CB5AF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A35D6-6B7F-4836-9384-2FE5B902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870E2492-4A28-4F64-9290-9BF437C6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D168DEF-C0CA-4DAD-BE09-3D2E3CEA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F62167A-83BD-4C5E-9BC1-771EFEF8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4B75794-4426-41AB-B40A-E746B127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52D4D47-569C-4CC3-B1DD-57BC00D0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08FF63B-9288-4692-A69E-29D7F49B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1F0D6DB-B3B6-4BBB-B7A2-C8742089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D33329C-EBA7-4702-892C-D57E8F23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3EEAD5C-F20F-4C23-B7C9-29A0D846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5CC73DF-9618-469E-9B7D-AA5BE4B5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82AED-39DA-4622-B1B6-E68202A4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2D692BC-07CF-40CB-B453-EC9FCA22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04BB922-12FC-429E-AFF3-629BEBC2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B6F715A-D554-423D-8D60-2988B124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54DB43D-764C-4A86-9762-0A452333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819AC2C-56E0-435D-8C75-7508D5BC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7B87FF2-CF77-4F47-9687-65A14154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359F310-45F7-4503-8651-BF5D349F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6C13419-A209-432D-8EE0-C3619954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61B6C0D-6BCF-4C37-B0AA-BAFFD1E3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D63EA81-290D-4F61-8DB4-AB248A27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60CB3-A77F-4B47-ADE8-856B257C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BFA8FC3-676E-4368-9DC6-E5B40BA6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B42A825-62F6-4914-A8EA-A7913FC1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9C94E84-6795-468E-A672-39A6199C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E325BD8-D123-4182-BE1E-A97C6423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7769081-26B3-44BD-934B-E6FA815E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E788A3B-4C9E-47D7-B38E-5B93D0F3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1F3DA5A-A038-4A34-939A-4815BA0D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4A9C6A7-835F-4E83-865B-2D69CB71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DC67316-5335-400C-8A33-1B50E747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2E3F989-8BC5-4904-927D-60BDF889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19B1D-C27E-47C2-8328-85193B8D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82E668A-127D-4FD8-BB79-AFDC98F9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D4C2FFA-79D6-494D-B36C-B85EA89B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0125C0E-FA48-4397-A09D-303140FD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559138C-BE1A-4A1D-95AF-A3A07D42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257E8E0-0DC8-4BE9-B8EF-0685614B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A67AFF0-CB1E-4612-B48B-AC7AB061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7E518A8-3EE7-49B9-80DD-880B63E3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EF35752-1AC8-4D5E-81C5-33ABDF15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2688027-34AF-485E-B86D-D0AA3C18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DEB2E5B-80CC-4FB2-A824-132E1466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393C5-2179-455D-BD40-E84A0CFB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31A2B40-AA71-4269-AC0E-BEBBFC67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125301F-9800-4A65-9F37-A2BE7B07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12E61AD-6CFD-47A8-98CE-36963BFA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98C9637-ABF6-4C3C-8A1D-349D811F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F2FB927-4C01-4275-A744-6B4C4B2F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55D5EE9-DAA2-4FB9-804A-508F1924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F818B1F-D6F7-4F63-902A-76315EBD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307DF65-2D40-4902-AC8E-ECD96D4E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3366774-F916-467F-AF0E-4530E68B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48DAF1F-0D3B-4E5A-A594-EDA140AD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32A38-2723-46F7-AD0F-8168D090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17EA42A-A609-4859-B506-1EBF7A1C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7BAB9E4-A984-4A5A-A418-40EC5468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4EF5AAB-1333-473B-8ABF-49DFA26D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9808840-91DB-4F7A-86BC-95508065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FA88DD9-E8A8-4A6E-B864-33EF05CF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248C72C-022F-4016-833C-3BEE6716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09201EB-31A3-41EB-8D16-76A144A0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6181171-39BE-4864-90EA-06AC2FBB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8244BDF-2378-44FC-908C-BA59688A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62A00B3-A4A8-49E1-A5BC-390F4484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2D76E-895D-4985-8036-BB9F14EF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D01D6EC-62A1-422E-966A-E169810B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6C7D433-1F7B-4FBA-95E3-D06D4C71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C864656-4919-421C-BDD7-29BB0B15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098AAD2-50D5-4952-BD62-6EECDE23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394C6C4-73F1-43DD-B7A4-216FAB32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2A5914F-4431-438C-A226-D9F43CC2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7EAA4FD-3E70-4500-ACC1-86EFA41C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9F3277C-C7A1-4ACA-81C0-07D0F20C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EB23050-1D5D-45E7-92F7-ED902851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C26697A-DB7C-4D1E-8E0F-565456A8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EC6D7-698D-4E05-A114-29C7546E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DA86432-18B9-438C-9D55-F5EFFE37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E313990-5A77-4B9C-B66F-46EC97EC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0230122-71E8-4880-8A09-CB6D4998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1D472FF-01B5-4D14-8753-869B7894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4D9C2B7-95C1-4784-96C9-0566745C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423F9AD-B1D5-4EE8-BBB7-15572301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3E3FCED-8DCC-4C55-887B-7683F0A8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8D5D6F3-BF6F-4861-A07F-C2E94451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44B88EA-5BAD-4C30-B6D9-0B08EFF2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61A34A9-6CBD-46F8-9535-9081910D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19F0E-AF03-48DD-B9EA-FFF4189B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28D97C2-7A84-4B7D-83FA-F83817E3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8305230-9845-46FC-A6C6-69021871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763D1C5-CCC0-4A2E-BACD-C3A927A8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971D526-173E-4881-BDD3-01271A4A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C283CBE-49F8-4A0C-9743-58412581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0F61730-862F-40F7-9961-61F3944D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EBBE447-19C1-44CF-B939-A5FE27BA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4E81EC3-8AF1-4AEC-B676-3290C33A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DA6EA16-BC90-449D-AB9B-A535373E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7D0D2D6-7214-46DC-A4F0-5D3C8ED3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347D6-53C7-491B-8349-CCC9D203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2B3D8CB-5D97-4CA4-92DA-A8D16281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3C82A07-38AB-4D25-8226-E9740763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58BF224-B62D-494F-95A3-7386AC36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F7EA4E4-4F6F-40A6-9C6F-A450B3ED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491BFE0-C63C-4FDB-B18E-09781A9C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0EA3C9E-520C-4D4D-9EC1-599890FD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AEBBE80-7175-43BA-B886-A1178535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45CA1E7-DF88-432C-9B0C-194E3B6F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22CB8DD-3A6E-4371-8DEF-60527C15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EC2F869-95A7-4DA1-867D-8213878B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474-2944-4109-938C-AA87C223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68658-AECC-4DEE-8D68-801D33B8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AD9A16D-6575-4242-B5C0-2613197B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1328F69-005E-43A2-B49B-3A6BD170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5730617-1A4B-402F-8578-C912190A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8F9183A-3B24-41E9-B93C-5990716E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B4FCF6D-202B-4355-89D8-141E53B7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D78C383-0895-4655-A143-9E91DD3E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1DD0244-67CA-4A8E-9823-CD2E2DB7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3C1118C-404E-4682-94F9-098E0B3F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A246597-68E9-46A1-9A90-A820F06C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84BEA79-34D4-4351-90B5-2EA33CD4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DD147-7DCC-43A1-A147-F4775885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A46DD76-7E12-4F4B-8365-EEDB143E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93275BC-ABB7-44D4-BAAD-B72483A4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4D54CF1-217C-4A7B-A6B4-A9D538BA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F1670C-6185-4106-9746-B8B982F8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20F96A8-3EDA-46AA-906D-04520322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BF55A4A-1EAB-489A-9959-917F2AB9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A01DCC7-501D-47F5-B74F-60FD3298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925283C-DAE8-4C82-A223-3CC5AE58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FA8B394-CF19-4C5F-B146-1125084A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B968627-A89A-406F-9A6D-8010C383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F19D0-DC36-4DF3-9FE0-3E3903EE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165E261-27AA-42AD-9E94-4E0E4B34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7CBBF77-6B43-4AF6-8094-5BCA7EE8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481C1F9-3052-48E0-8803-D12F34EE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C4EF7EA-1CEA-44CC-8B39-9F13C0B9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89E6F64-53AB-4A29-897B-94616A49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931F661-8462-4E0E-B960-C8FDE1DD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DD0C493-FC20-4EA1-B399-233152F6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E814BD2-D54F-4DB4-986E-C0A144FB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8ED12B6-FCD6-4C71-9052-9BCA28B2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104F354-ABD5-4382-BADE-A011B853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36AD2-2384-4795-A469-B20D0ADE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437533D-5FE0-4757-A0C8-25BD8743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16F48CE-D1F7-46CE-B696-8C5ED9C3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BE516B6-179B-46CE-96F8-3AFEB7AD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6BCBC-8855-4A5A-B7C9-4D16AF12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213C3-81EF-4C6D-AB10-37432401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491B2-19C4-441D-9712-D81AE93D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5E59D-21B8-4D90-B73E-2321F7A9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C9125-C306-443C-B089-3E6607DF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976AD-9631-4BA8-88DF-CE813221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9C9-FB49-4440-9BB2-371813CE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B0E99-E98F-4FCA-B717-9E7236C0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E68E5-6EDB-4257-AED2-67CC6AC7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60E5B-AD72-4E95-8ECB-9B3BB406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A3200-5A38-41E2-AB57-8D320A81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60B92-566C-4EEB-860B-CD4E1B52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0E035-4845-44DD-94E1-2E8E4120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5C757-9E67-4F79-ABEB-D6ABAC35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8B27C-60BE-442C-AA5B-210777F4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2DDE5-E8E4-4A2F-AE02-CD549FB3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738AB-81CC-4C7F-B52C-5DB112CA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DD5-2174-437A-BAC0-0D7A3000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5F5CC-210A-46F6-BDAB-A8BFAD4C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49EBC-D13C-4853-93F5-751F567A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AB6D1-37B6-4BD2-98A0-CC36B838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293EA-6BD5-4D75-8C29-EE0759F9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E319D-DBA9-43AC-B87D-99DABDA4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845B4-8E04-493D-BEEF-9C2A8A3A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953E2-17C2-4E10-95F1-69C2C00A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7B1C7-4300-459C-B3F5-6E94970C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A7749-CAAE-4395-9496-FED8A007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92547-9763-4961-8983-90E630FA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5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AF17-CA49-4B63-BB6E-7950A65B6117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6F75-DA24-4051-8D8F-4941A5E2CD2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434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437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438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441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7C34-1423-4839-B388-8FFA3284F792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0755-C711-4DF7-AA77-5B22477CFAB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486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489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49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49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BF27-CB23-45E0-9061-EC4F284F2A7E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6AAE-202C-4D00-A155-4E1F22958B9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538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0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541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542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545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0F18-6E11-4F5D-A69A-A906FD59F216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25A7-DC53-44C3-BCD2-6CF871ECC89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590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593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B619-A879-440E-99D5-C3E6871945DA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6124-A971-44CA-9D6A-6A01F96A6C4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642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4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645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64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7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64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A6F4-B8AA-4AC3-BBBB-AF3B12265FF0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8048-4821-402D-80B1-C29C6565CC7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694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6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697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698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701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624E-B8BA-4785-8109-304A4FEEA663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99E3-4E43-4219-A415-1F0832D606E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5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746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8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749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75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1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75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8DA8-87D2-40A8-B22B-1BF61BC201F5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5FAB-AF91-45FA-99D1-4E2EA663D9F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9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800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377B-4C71-476A-8713-1AD70B6A83B6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sldNum" idx="5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4C29-B620-4FB0-B3D4-A1CBF1CF96A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6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847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F24C-8348-45D9-9AE9-D1D2D90A9450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32A7-9F2C-4AA8-85BF-F4EC0794E14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3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89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82FF-0E94-424D-9F67-386BEB3B2A9E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5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E415-2D9F-49C1-8E55-E53E24B4833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56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9199-1D45-4C15-9D14-4C3EDA1EC153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7378-A7D2-4496-AC30-153B6AF5AA7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0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941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58DB-8B13-4D50-85B5-2B19811A380E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6942-7104-4027-B93A-DE8159B3A84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988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9B0F-6A69-4B12-BD28-761A7CFB7FF5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AA22-B7BC-4E15-9681-704D7826AE9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035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7811-C347-4FA3-8D3D-5C1B6FA41186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0F1E-EE21-413F-A77D-63CA2F9725A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082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3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9058-24A1-49A3-B152-D0EC56914E4F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50CC-4673-45CA-A4D5-6F5E8062DB3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8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129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54EC-EE85-4CB1-9588-6F5F3B4E6A1D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93D0-E3AF-4DB8-9094-9A277CD4CBE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5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176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8620-FFFE-42C6-A0A3-ABBB9C4C31D3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A851-791B-4B39-9801-DDC97FE3768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2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223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AF98-4009-4DB7-9C67-C3AB114142EB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 type="sldNum" idx="7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4115-DC33-4CB2-BBDE-1B6CDD1728D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9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270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C2C5-54FD-431F-9BA3-44706A0BBB1E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8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8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27D1-70C0-461D-81A8-140CB42E775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49D3-05AC-4E61-8A4B-65463C5C929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58A3-1E2B-4E4B-89E4-518BB2FE42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74B8-0B63-40F4-89AA-507ED849607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F839-83C3-4163-92A6-676CBD122C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521E-CF9A-4804-87BA-EAE1C29073D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7569-165C-4FBB-A792-C117DF8B2B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2F36-B949-4020-AB8F-F41C6D59A3C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E9D0-9513-4693-AA82-E79CCF58FC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7C7D-B9E0-43BC-AA1C-F032BF0CC026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DDFA-7257-4D30-AF73-9D929FA9DF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FA54-C68A-441F-A452-5248E024749A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BC0D-8FF9-4D5B-A72F-0D961DD2CA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5E64-A2E9-4534-B5DE-239CDF9D410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DAA7-6573-4840-A884-0A5341337A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4F07-6FE4-4C0F-ACAC-69B6A463A4F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75C1-96BC-47D8-B734-7D016EA7C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3966-F714-4E8E-ADED-1BC166E2637B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D132-4972-41FF-A16B-DB5211AB84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F4BF-C3FA-4339-86AD-CAC9DA75C0A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AF71-3386-493D-838E-7A669DC732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E77E-165E-4C80-B277-E1A0F72BDD76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F657-3D25-45AC-81DA-DC11FB7C80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D928-82B7-4386-83D7-3367ACE52112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552E-7F79-4821-B397-9B75641C6A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B9A5-133A-472B-A6AA-0A557C78818B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B77B-42DE-43FA-B54B-02AF0D7BF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4A6C-2E72-4E11-BD44-1DD0813AA12B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42D9-A5A8-4876-B340-367C5BF107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8E70-A8C9-4BB2-8117-7C334A06D93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D2DB-F22D-4FB2-9D93-5194DB605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9CDC-3D74-482F-9DF9-7A3CC8AC2D4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6F6A-113D-40B3-AB52-12A6567624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7732-699C-485F-8C82-4FE95C24583B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EEA0-C075-49FE-8A0B-6771DB0177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E916-0B52-46A2-8268-115C50C86EB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2774-B2F5-42CC-B94D-1D6EEEAA48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7ECD-4169-44A1-BB39-A0F3E4E8193B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907C-2985-4F84-BA4C-93D4BD847E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84B7-99E7-457C-9405-D044AEE7256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6631-99F7-46C1-A595-A5EB15ED06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81DC-B589-4E75-B522-F1527B5EADB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658A-173F-4191-BBAE-8D7F9EC4B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4EF5-7DAD-4A87-92AC-BE4A3CD3C04B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EC29-92C2-4994-A2F4-B4F900BEC8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CD0B-1EC9-40A2-856C-F951856F3D3C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3061-7178-40FF-A7A4-9E0E8484E1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DCBE-86DE-4C5E-A6AD-26EE77EDA54D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BA78-DA4B-4F7A-BDFA-441F6D7AE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8E8D-BB3D-44D5-AA74-F71894211545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93A6-0D3C-49AC-931D-B77FC3EFD74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4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B64D-E87F-4F0C-9C2E-709F405B8635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sldNum" idx="14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2715-0E59-4B26-BA6E-D7F4C1A12820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ftr" idx="15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 type="dt" idx="15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690D-D7CC-4253-8CDF-06F4FF647F8E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 type="ftr" idx="15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 type="sldNum" idx="15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689A-496E-4A09-A1BD-E144508E714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 type="dt" idx="15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77B7-4A13-440C-8AD8-A65E424E2BA7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 type="ftr" idx="15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 type="sldNum" idx="15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E962-00C0-4B42-895A-3D115882D974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 type="dt" idx="15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1FB6-8B0D-4B0A-88CB-F9E56AAAE1EC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 type="ftr" idx="15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 type="sldNum" idx="15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BC3A-D569-43EC-8E7F-2A5391A9D7B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dt" idx="16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A55F-D30E-4FBE-B41D-A1C11F73E51B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ftr" idx="16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5"/>
          <p:cNvSpPr>
            <a:spLocks noGrp="1"/>
          </p:cNvSpPr>
          <p:nvPr>
            <p:ph type="sldNum" idx="16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C569-4A17-4DC4-A2C6-66642A809E4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 type="dt" idx="16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BF49-7097-48AD-B64E-C792FEE311D1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 type="ftr" idx="16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 type="sldNum" idx="16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74EE-27A4-4A84-925B-5D0DF650529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 type="dt" idx="16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7768-5537-44EE-9D4E-395408192EB2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 type="ftr" idx="16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 type="sldNum" idx="16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C4CD-44EF-4304-913C-AC3999D7F7AE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 type="dt" idx="16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B966-51DA-45D8-9908-25D002D6C4F1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 type="ftr" idx="17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5"/>
          <p:cNvSpPr>
            <a:spLocks noGrp="1"/>
          </p:cNvSpPr>
          <p:nvPr>
            <p:ph type="sldNum" idx="17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5C77-4F6D-4B51-9E20-0668D42A5E9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 type="dt" idx="17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4BD7-2CB5-4A1E-B3CF-BDB2D205E750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 type="ftr" idx="17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5"/>
          <p:cNvSpPr>
            <a:spLocks noGrp="1"/>
          </p:cNvSpPr>
          <p:nvPr>
            <p:ph type="sldNum" idx="17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9264-9500-4F0A-92E0-38CA206C9544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 type="dt" idx="17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F9D6-D045-49B0-856B-E3E25001E770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 type="ftr" idx="17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 type="sldNum" idx="17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9A90-08DF-46F4-AC51-A37195945760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26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229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23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23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8C24-4EB0-49C2-AA60-283A9769A5BF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6F6F-1A6A-45DE-97C6-AAED7574F67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 type="dt" idx="17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3988-D152-4999-8ED6-E834A7B15692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 type="ftr" idx="17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5"/>
          <p:cNvSpPr>
            <a:spLocks noGrp="1"/>
          </p:cNvSpPr>
          <p:nvPr>
            <p:ph type="sldNum" idx="18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8CBD-8383-4BF6-AE81-67F5E0B2F783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 type="dt" idx="18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6E1F-BF77-4652-9D07-ECAF7FECBAA9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 type="ftr" idx="18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5"/>
          <p:cNvSpPr>
            <a:spLocks noGrp="1"/>
          </p:cNvSpPr>
          <p:nvPr>
            <p:ph type="sldNum" idx="18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6373-43F2-4AAB-A768-1F6F17411AD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78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281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282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285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DAAE-DD31-4E68-8237-CB10802BF837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E943-AAE6-40F4-ABC8-F7634ABFB2D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330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333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334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337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9BE4-DD24-45E1-991D-3445B7F2AADA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0E20-E05D-4605-A11D-7A8734FCAAB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382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385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38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38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6107-AD3F-4AF0-8D16-5D941AD46437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7E2D-0CD6-40AF-B1D1-A4704B4B9AB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29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5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5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5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3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52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4.wmf"/><Relationship Id="rId8" Type="http://schemas.openxmlformats.org/officeDocument/2006/relationships/slideLayout" Target="../slideLayouts/slideLayout3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89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5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5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1" name="Picture 4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2742" name="Straight Connector 5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3" name="Picture 6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2744" name="Rectangle 7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5" name="Picture 8" descr="Acetic-acid-3D-balls-B.png"/>
          <p:cNvPicPr/>
          <p:nvPr/>
        </p:nvPicPr>
        <p:blipFill>
          <a:blip r:embed="rId3"/>
          <a:stretch/>
        </p:blipFill>
        <p:spPr>
          <a:xfrm>
            <a:off x="2514600" y="2362320"/>
            <a:ext cx="3581280" cy="2662200"/>
          </a:xfrm>
          <a:prstGeom prst="rect">
            <a:avLst/>
          </a:prstGeom>
          <a:ln w="0">
            <a:noFill/>
          </a:ln>
        </p:spPr>
      </p:pic>
      <p:sp>
        <p:nvSpPr>
          <p:cNvPr id="2746" name="Rectangle 2"/>
          <p:cNvSpPr/>
          <p:nvPr/>
        </p:nvSpPr>
        <p:spPr>
          <a:xfrm>
            <a:off x="1066680" y="17524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C3B5-B7FD-4EB3-BD46-05E25B21F0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5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36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37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8" name="Rectangle 2"/>
          <p:cNvSpPr/>
          <p:nvPr/>
        </p:nvSpPr>
        <p:spPr>
          <a:xfrm>
            <a:off x="-17640" y="1295280"/>
            <a:ext cx="893160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)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Solu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are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olar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can form hydrogen bonds with water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irst four aliphatic acids are completely miscible in water. Higher members are less solu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omatic acids are insoluble in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9" name="Object 13"/>
          <p:cNvGraphicFramePr/>
          <p:nvPr/>
        </p:nvGraphicFramePr>
        <p:xfrm>
          <a:off x="2286000" y="2286000"/>
          <a:ext cx="2925720" cy="22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86000"/>
                    <a:ext cx="292572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C5B8-2560-43B2-A2E9-7556B930FAF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"/>
          <p:cNvSpPr txBox="1"/>
          <p:nvPr/>
        </p:nvSpPr>
        <p:spPr>
          <a:xfrm>
            <a:off x="0" y="990360"/>
            <a:ext cx="91440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3) Acid Str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boxylic acids are stronger aci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d to alcohols and phen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on  withdrawing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ents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arboxyl group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id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a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on  don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ent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idity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Rectangle 8"/>
          <p:cNvSpPr/>
          <p:nvPr/>
        </p:nvSpPr>
        <p:spPr>
          <a:xfrm>
            <a:off x="125280" y="4229280"/>
            <a:ext cx="88394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66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HCOO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size of R grou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l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l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l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number of e.w.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44" name="Object 15"/>
          <p:cNvGraphicFramePr/>
          <p:nvPr/>
        </p:nvGraphicFramePr>
        <p:xfrm>
          <a:off x="284040" y="5181480"/>
          <a:ext cx="815364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5181480"/>
                    <a:ext cx="81536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46" name="Picture 11" descr="C:\Users\hp\Pictures\صورة5.png"/>
          <p:cNvPicPr/>
          <p:nvPr/>
        </p:nvPicPr>
        <p:blipFill>
          <a:blip r:embed="rId3"/>
          <a:srcRect l="0" t="0" r="0" b="12958"/>
          <a:stretch/>
        </p:blipFill>
        <p:spPr>
          <a:xfrm>
            <a:off x="2057400" y="2608200"/>
            <a:ext cx="3790800" cy="1506600"/>
          </a:xfrm>
          <a:prstGeom prst="rect">
            <a:avLst/>
          </a:prstGeom>
          <a:ln w="0">
            <a:noFill/>
          </a:ln>
        </p:spPr>
      </p:pic>
      <p:sp>
        <p:nvSpPr>
          <p:cNvPr id="2847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8" name="Picture 8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49" name="Picture 9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50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90C5-B5A8-4292-9498-94E85B8379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"/>
          <p:cNvSpPr txBox="1"/>
          <p:nvPr/>
        </p:nvSpPr>
        <p:spPr>
          <a:xfrm>
            <a:off x="0" y="1411200"/>
            <a:ext cx="91440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- Oxidation Of Primary Alcohols or aldehy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- Oxidation Of Alkyl Benze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53" name="Object 24"/>
          <p:cNvGraphicFramePr/>
          <p:nvPr/>
        </p:nvGraphicFramePr>
        <p:xfrm>
          <a:off x="685800" y="4343400"/>
          <a:ext cx="60199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60199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5" name="Rectangle 13"/>
          <p:cNvSpPr/>
          <p:nvPr/>
        </p:nvSpPr>
        <p:spPr>
          <a:xfrm>
            <a:off x="170280" y="99072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Preparation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6" name="Object 25"/>
          <p:cNvGraphicFramePr/>
          <p:nvPr/>
        </p:nvGraphicFramePr>
        <p:xfrm>
          <a:off x="1219320" y="1981080"/>
          <a:ext cx="3657600" cy="8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7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981080"/>
                    <a:ext cx="365760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8" name="Object 26"/>
          <p:cNvGraphicFramePr/>
          <p:nvPr/>
        </p:nvGraphicFramePr>
        <p:xfrm>
          <a:off x="1219320" y="2895480"/>
          <a:ext cx="380988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9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895480"/>
                    <a:ext cx="38098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0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1" name="Picture 7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62" name="Picture 8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63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1370-C27E-4D87-A62A-14F2AB7DAE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"/>
          <p:cNvSpPr txBox="1"/>
          <p:nvPr/>
        </p:nvSpPr>
        <p:spPr>
          <a:xfrm>
            <a:off x="213840" y="1046160"/>
            <a:ext cx="847260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- Carboxylation Of Grignard Re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4- Hydrolysis Of Nitr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66" name="Object 15"/>
          <p:cNvGraphicFramePr/>
          <p:nvPr/>
        </p:nvGraphicFramePr>
        <p:xfrm>
          <a:off x="685800" y="4343400"/>
          <a:ext cx="72388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7238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8" name="Picture 13" descr="C:\Users\hp\Pictures\صورة11.png"/>
          <p:cNvPicPr/>
          <p:nvPr/>
        </p:nvPicPr>
        <p:blipFill>
          <a:blip r:embed="rId3"/>
          <a:stretch/>
        </p:blipFill>
        <p:spPr>
          <a:xfrm>
            <a:off x="838080" y="1676520"/>
            <a:ext cx="7162920" cy="1863720"/>
          </a:xfrm>
          <a:prstGeom prst="rect">
            <a:avLst/>
          </a:prstGeom>
          <a:ln w="0">
            <a:noFill/>
          </a:ln>
        </p:spPr>
      </p:pic>
      <p:sp>
        <p:nvSpPr>
          <p:cNvPr id="2869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0" name="Picture 5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71" name="Picture 6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72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C99B-4CE3-4974-975F-26C7298894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TextBox 2"/>
          <p:cNvSpPr/>
          <p:nvPr/>
        </p:nvSpPr>
        <p:spPr>
          <a:xfrm>
            <a:off x="4294080" y="4952880"/>
            <a:ext cx="1121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) KO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)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Reactions Of Carboxylic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"/>
          <p:cNvSpPr txBox="1"/>
          <p:nvPr/>
        </p:nvSpPr>
        <p:spPr>
          <a:xfrm>
            <a:off x="0" y="1564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- Salts Form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7" name="Object 19"/>
          <p:cNvGraphicFramePr/>
          <p:nvPr/>
        </p:nvGraphicFramePr>
        <p:xfrm>
          <a:off x="609480" y="2057400"/>
          <a:ext cx="670572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670572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9" name="Object 20"/>
          <p:cNvGraphicFramePr/>
          <p:nvPr/>
        </p:nvGraphicFramePr>
        <p:xfrm>
          <a:off x="1905120" y="4648320"/>
          <a:ext cx="452736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648320"/>
                    <a:ext cx="45273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1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2" name="Picture 6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83" name="Picture 7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84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79C4-D22E-4472-BF8E-AD0B56E545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Rectangle 4"/>
          <p:cNvSpPr/>
          <p:nvPr/>
        </p:nvSpPr>
        <p:spPr>
          <a:xfrm>
            <a:off x="22680" y="100008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- Nucleophilic Substitution Of Hydroxyl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7" name="Picture 6" descr="C:\Users\hp\Pictures\صورة16.png"/>
          <p:cNvPicPr/>
          <p:nvPr/>
        </p:nvPicPr>
        <p:blipFill>
          <a:blip r:embed="rId1"/>
          <a:srcRect l="0" t="0" r="0" b="38919"/>
          <a:stretch/>
        </p:blipFill>
        <p:spPr>
          <a:xfrm>
            <a:off x="627120" y="3124080"/>
            <a:ext cx="7616880" cy="3299040"/>
          </a:xfrm>
          <a:prstGeom prst="rect">
            <a:avLst/>
          </a:prstGeom>
          <a:ln w="0">
            <a:noFill/>
          </a:ln>
        </p:spPr>
      </p:pic>
      <p:sp>
        <p:nvSpPr>
          <p:cNvPr id="288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9" name="Picture 4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90" name="Picture 5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91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5E81-49CF-4864-A352-2568608F6B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3" name="Object 14"/>
          <p:cNvGraphicFramePr/>
          <p:nvPr/>
        </p:nvGraphicFramePr>
        <p:xfrm>
          <a:off x="2057400" y="1981080"/>
          <a:ext cx="498492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94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981080"/>
                    <a:ext cx="4984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3504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rboxylic Acid Deriva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6" name="Rectangle 5"/>
          <p:cNvSpPr/>
          <p:nvPr/>
        </p:nvSpPr>
        <p:spPr>
          <a:xfrm>
            <a:off x="152280" y="27241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cid Chloride            Ester                             Amide                    Acid anhydr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8" name="Picture 9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99" name="Picture 10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00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1" name="Picture 3" descr="03032009221955fEZBYRxvZV.png"/>
          <p:cNvPicPr/>
          <p:nvPr/>
        </p:nvPicPr>
        <p:blipFill>
          <a:blip r:embed="rId3"/>
          <a:stretch/>
        </p:blipFill>
        <p:spPr>
          <a:xfrm>
            <a:off x="380880" y="1676520"/>
            <a:ext cx="1219320" cy="1093680"/>
          </a:xfrm>
          <a:prstGeom prst="rect">
            <a:avLst/>
          </a:prstGeom>
          <a:ln w="0">
            <a:noFill/>
          </a:ln>
        </p:spPr>
      </p:pic>
      <p:pic>
        <p:nvPicPr>
          <p:cNvPr id="2902" name="Picture 4" descr="anhydride_group.png"/>
          <p:cNvPicPr/>
          <p:nvPr/>
        </p:nvPicPr>
        <p:blipFill>
          <a:blip r:embed="rId4"/>
          <a:stretch/>
        </p:blipFill>
        <p:spPr>
          <a:xfrm>
            <a:off x="6705720" y="165096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2903" name="Picture 5" descr="amide_group.png"/>
          <p:cNvPicPr/>
          <p:nvPr/>
        </p:nvPicPr>
        <p:blipFill>
          <a:blip r:embed="rId5"/>
          <a:stretch/>
        </p:blipFill>
        <p:spPr>
          <a:xfrm>
            <a:off x="4572000" y="1295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04" name="Picture 6" descr="ester_group.png"/>
          <p:cNvPicPr/>
          <p:nvPr/>
        </p:nvPicPr>
        <p:blipFill>
          <a:blip r:embed="rId6"/>
          <a:stretch/>
        </p:blipFill>
        <p:spPr>
          <a:xfrm>
            <a:off x="2057400" y="1616040"/>
            <a:ext cx="1600200" cy="1279440"/>
          </a:xfrm>
          <a:prstGeom prst="rect">
            <a:avLst/>
          </a:prstGeom>
          <a:ln w="0">
            <a:noFill/>
          </a:ln>
        </p:spPr>
      </p:pic>
      <p:sp>
        <p:nvSpPr>
          <p:cNvPr id="290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F9F0-08B1-4EF5-BCC1-A1F96FA087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TextBox 2"/>
          <p:cNvSpPr/>
          <p:nvPr/>
        </p:nvSpPr>
        <p:spPr>
          <a:xfrm>
            <a:off x="419040" y="3751200"/>
            <a:ext cx="81154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rivatives of carboxylic acids are compounds in which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OH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carboxylic acid is replaced by nucleopile (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cid  halide,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O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ster,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NH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-NHR, -NR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mids,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OOC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nhydrid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derivatives can converted to carboxylic acids by simple acidic or basic hydrolysi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29D5-B3DD-49E6-90DC-292D034983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9" name="Picture 9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10" name="Picture 10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11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Rectangle 6"/>
          <p:cNvSpPr/>
          <p:nvPr/>
        </p:nvSpPr>
        <p:spPr>
          <a:xfrm>
            <a:off x="0" y="129528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1-Nomenclature Of Acid Chlori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ic aci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ing in the name of the parent acid by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yl chlor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Rectangle 7"/>
          <p:cNvSpPr/>
          <p:nvPr/>
        </p:nvSpPr>
        <p:spPr>
          <a:xfrm>
            <a:off x="95400" y="4343400"/>
            <a:ext cx="88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UPAC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anoyl chloride           Benzoylchloride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opanoyl chlor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mmon :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cetyl chloride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4" name="Object 19"/>
          <p:cNvGraphicFramePr/>
          <p:nvPr/>
        </p:nvGraphicFramePr>
        <p:xfrm>
          <a:off x="838080" y="2971800"/>
          <a:ext cx="4496040" cy="12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971800"/>
                    <a:ext cx="449604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6" name="Object 20"/>
          <p:cNvGraphicFramePr/>
          <p:nvPr/>
        </p:nvGraphicFramePr>
        <p:xfrm>
          <a:off x="6324480" y="3116160"/>
          <a:ext cx="2514600" cy="100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7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116160"/>
                    <a:ext cx="251460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/>
          </p:nvPr>
        </p:nvSpPr>
        <p:spPr>
          <a:xfrm>
            <a:off x="26640" y="990360"/>
            <a:ext cx="9117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2- Nomenclature of e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kyl group (R’) is written  first followed by the name of the parent acid with replacing of the ending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ic acid by </a:t>
            </a:r>
            <a:r>
              <a:rPr b="1" lang="en-U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–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UPAC)      Ethyl ethanoate                                   Methyl benzo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common)    Ethyl ace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Footer Placeholder 1"/>
          <p:cNvSpPr/>
          <p:nvPr/>
        </p:nvSpPr>
        <p:spPr>
          <a:xfrm>
            <a:off x="0" y="64785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1B5B-E205-4C0D-9ABB-B1F2BD1B3356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21" name="Object 23"/>
          <p:cNvGraphicFramePr/>
          <p:nvPr/>
        </p:nvGraphicFramePr>
        <p:xfrm>
          <a:off x="1219320" y="5035680"/>
          <a:ext cx="241596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2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035680"/>
                    <a:ext cx="24159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3" name="Object 24"/>
          <p:cNvGraphicFramePr/>
          <p:nvPr/>
        </p:nvGraphicFramePr>
        <p:xfrm>
          <a:off x="5014800" y="4654440"/>
          <a:ext cx="276408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0" y="4654440"/>
                    <a:ext cx="276408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5" name="Rectangle 7"/>
          <p:cNvSpPr/>
          <p:nvPr/>
        </p:nvSpPr>
        <p:spPr>
          <a:xfrm>
            <a:off x="0" y="6178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UPAC) Methyl propanoate                  Isopropyl-4-hydroxy-5-methyl-5- hexeno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7" name="Picture 11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28" name="Picture 12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29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0" name="Picture 1" descr="130px-Ester-general.svg.png"/>
          <p:cNvPicPr/>
          <p:nvPr/>
        </p:nvPicPr>
        <p:blipFill>
          <a:blip r:embed="rId7"/>
          <a:stretch/>
        </p:blipFill>
        <p:spPr>
          <a:xfrm>
            <a:off x="3581280" y="2133720"/>
            <a:ext cx="1219320" cy="785520"/>
          </a:xfrm>
          <a:prstGeom prst="rect">
            <a:avLst/>
          </a:prstGeom>
          <a:ln w="0">
            <a:noFill/>
          </a:ln>
        </p:spPr>
      </p:pic>
      <p:pic>
        <p:nvPicPr>
          <p:cNvPr id="2931" name="Picture 2" descr="02195046.png"/>
          <p:cNvPicPr/>
          <p:nvPr/>
        </p:nvPicPr>
        <p:blipFill>
          <a:blip r:embed="rId8"/>
          <a:stretch/>
        </p:blipFill>
        <p:spPr>
          <a:xfrm>
            <a:off x="1447920" y="2859120"/>
            <a:ext cx="2057400" cy="880920"/>
          </a:xfrm>
          <a:prstGeom prst="rect">
            <a:avLst/>
          </a:prstGeom>
          <a:ln w="0">
            <a:noFill/>
          </a:ln>
        </p:spPr>
      </p:pic>
      <p:pic>
        <p:nvPicPr>
          <p:cNvPr id="2932" name="Picture 3" descr="Methyl_benzoate.png"/>
          <p:cNvPicPr/>
          <p:nvPr/>
        </p:nvPicPr>
        <p:blipFill>
          <a:blip r:embed="rId9"/>
          <a:stretch/>
        </p:blipFill>
        <p:spPr>
          <a:xfrm>
            <a:off x="5562720" y="2752560"/>
            <a:ext cx="174312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/>
          </p:nvPr>
        </p:nvSpPr>
        <p:spPr>
          <a:xfrm>
            <a:off x="249120" y="944280"/>
            <a:ext cx="88948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3- Nomenclature of 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 the ending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ic acid of the parent acid’s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he word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re i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oup on the nitrogen atom, it is listed first and designated wit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UPAC)   Ethanamide        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Benzamid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Methylpropan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common) Acetamide                                                                </a:t>
            </a:r>
            <a:r>
              <a:rPr b="0" i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Methylpropion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UPAC)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,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Dimethylmethanamide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Ethyl-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methylbenz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Common)   </a:t>
            </a:r>
            <a:r>
              <a:rPr b="1" i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,N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Dimethylform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Footer Placeholder 1"/>
          <p:cNvSpPr/>
          <p:nvPr/>
        </p:nvSpPr>
        <p:spPr>
          <a:xfrm>
            <a:off x="76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C62D-42EF-47C0-95A9-368640C90D16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6" name="Object 18"/>
          <p:cNvGraphicFramePr/>
          <p:nvPr/>
        </p:nvGraphicFramePr>
        <p:xfrm>
          <a:off x="6326280" y="2124000"/>
          <a:ext cx="23605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6280" y="2124000"/>
                    <a:ext cx="2360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9" name="Picture 8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40" name="Picture 9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41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2" name="Picture 1" descr="02191417.png"/>
          <p:cNvPicPr/>
          <p:nvPr/>
        </p:nvPicPr>
        <p:blipFill>
          <a:blip r:embed="rId5"/>
          <a:stretch/>
        </p:blipFill>
        <p:spPr>
          <a:xfrm>
            <a:off x="1752480" y="4191120"/>
            <a:ext cx="1463760" cy="1218960"/>
          </a:xfrm>
          <a:prstGeom prst="rect">
            <a:avLst/>
          </a:prstGeom>
          <a:ln w="0">
            <a:noFill/>
          </a:ln>
        </p:spPr>
      </p:pic>
      <p:pic>
        <p:nvPicPr>
          <p:cNvPr id="2943" name="Picture 3" descr="inchi.gif"/>
          <p:cNvPicPr/>
          <p:nvPr/>
        </p:nvPicPr>
        <p:blipFill>
          <a:blip r:embed="rId6"/>
          <a:stretch/>
        </p:blipFill>
        <p:spPr>
          <a:xfrm>
            <a:off x="5105520" y="3809880"/>
            <a:ext cx="2577960" cy="1600200"/>
          </a:xfrm>
          <a:prstGeom prst="rect">
            <a:avLst/>
          </a:prstGeom>
          <a:ln w="0">
            <a:noFill/>
          </a:ln>
        </p:spPr>
      </p:pic>
      <p:pic>
        <p:nvPicPr>
          <p:cNvPr id="2944" name="Picture 4" descr="100px-Acetamide_skeletal.svg.png"/>
          <p:cNvPicPr/>
          <p:nvPr/>
        </p:nvPicPr>
        <p:blipFill>
          <a:blip r:embed="rId7"/>
          <a:stretch/>
        </p:blipFill>
        <p:spPr>
          <a:xfrm>
            <a:off x="609480" y="2324160"/>
            <a:ext cx="1270080" cy="977760"/>
          </a:xfrm>
          <a:prstGeom prst="rect">
            <a:avLst/>
          </a:prstGeom>
          <a:ln w="0">
            <a:noFill/>
          </a:ln>
        </p:spPr>
      </p:pic>
      <p:pic>
        <p:nvPicPr>
          <p:cNvPr id="2945" name="Picture 5" descr="520px-Benzamide.svg.png"/>
          <p:cNvPicPr/>
          <p:nvPr/>
        </p:nvPicPr>
        <p:blipFill>
          <a:blip r:embed="rId8"/>
          <a:stretch/>
        </p:blipFill>
        <p:spPr>
          <a:xfrm>
            <a:off x="3733920" y="2171880"/>
            <a:ext cx="1571400" cy="1180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Rectangle 9"/>
          <p:cNvSpPr/>
          <p:nvPr/>
        </p:nvSpPr>
        <p:spPr>
          <a:xfrm>
            <a:off x="15840" y="11620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hapter nine introduces carboxylic acids and their derivatives. The chemistry is very similar to that of aldehydes and ketones because of the presence of the carbonyl group . The main topics in this chapter that the students should know and understand 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ructure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mon and IUPAC nomenclature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properties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ctors affecting acidity of carboxylic ac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 different   ways to make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t formation reactions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ucleophilic  substitution reactions  at  the  carbonyl  carbon  and  the specific products formed in each c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hemistry of carboxylic acid deriv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0" name="Picture 3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51" name="Picture 4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52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AB8C-3538-4D11-B811-900A755B1F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/>
          </p:nvPr>
        </p:nvSpPr>
        <p:spPr>
          <a:xfrm>
            <a:off x="34560" y="1142640"/>
            <a:ext cx="91090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4- Nomenclature of anhydr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nhydride is named b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lacing the word acid  in the corresponding ac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word </a:t>
            </a: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nhydr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UPAC) Ethanoic anhydride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enzoic anhydride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andioic anhydr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Common) Acetic anhydride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</a:t>
            </a: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uccinic anhydr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Footer Placeholder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9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50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51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2" name="Picture 1" descr="Acetic_anhydride-2D-skeletal.png"/>
          <p:cNvPicPr/>
          <p:nvPr/>
        </p:nvPicPr>
        <p:blipFill>
          <a:blip r:embed="rId3"/>
          <a:stretch/>
        </p:blipFill>
        <p:spPr>
          <a:xfrm>
            <a:off x="888840" y="2754360"/>
            <a:ext cx="1625760" cy="903240"/>
          </a:xfrm>
          <a:prstGeom prst="rect">
            <a:avLst/>
          </a:prstGeom>
          <a:ln w="0">
            <a:noFill/>
          </a:ln>
        </p:spPr>
      </p:pic>
      <p:pic>
        <p:nvPicPr>
          <p:cNvPr id="2953" name="Picture 3" descr="Benzoic_anhydride.svg.png"/>
          <p:cNvPicPr/>
          <p:nvPr/>
        </p:nvPicPr>
        <p:blipFill>
          <a:blip r:embed="rId4"/>
          <a:stretch/>
        </p:blipFill>
        <p:spPr>
          <a:xfrm>
            <a:off x="3581280" y="2590920"/>
            <a:ext cx="2189160" cy="1055520"/>
          </a:xfrm>
          <a:prstGeom prst="rect">
            <a:avLst/>
          </a:prstGeom>
          <a:ln w="0">
            <a:noFill/>
          </a:ln>
        </p:spPr>
      </p:pic>
      <p:pic>
        <p:nvPicPr>
          <p:cNvPr id="2954" name="Picture 4" descr="Succinic_anhydride-2D-Skeletal.png"/>
          <p:cNvPicPr/>
          <p:nvPr/>
        </p:nvPicPr>
        <p:blipFill>
          <a:blip r:embed="rId5"/>
          <a:stretch/>
        </p:blipFill>
        <p:spPr>
          <a:xfrm>
            <a:off x="6918480" y="2743200"/>
            <a:ext cx="1539720" cy="744480"/>
          </a:xfrm>
          <a:prstGeom prst="rect">
            <a:avLst/>
          </a:prstGeom>
          <a:ln w="0">
            <a:noFill/>
          </a:ln>
        </p:spPr>
      </p:pic>
      <p:sp>
        <p:nvSpPr>
          <p:cNvPr id="29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D054-CF40-488D-9F6D-DA95FC9581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6" name="Object 17"/>
          <p:cNvGraphicFramePr/>
          <p:nvPr/>
        </p:nvGraphicFramePr>
        <p:xfrm>
          <a:off x="2739960" y="4495680"/>
          <a:ext cx="4230720" cy="1860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57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9960" y="4495680"/>
                    <a:ext cx="4230720" cy="18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9" name="Object 13"/>
          <p:cNvGraphicFramePr/>
          <p:nvPr/>
        </p:nvGraphicFramePr>
        <p:xfrm>
          <a:off x="873000" y="1447920"/>
          <a:ext cx="68994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1447920"/>
                    <a:ext cx="68994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1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2" name="Picture 5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63" name="Picture 6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64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817F-AEC4-48E6-B68C-CD02905276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مستطيل 7"/>
          <p:cNvSpPr/>
          <p:nvPr/>
        </p:nvSpPr>
        <p:spPr>
          <a:xfrm>
            <a:off x="215280" y="990720"/>
            <a:ext cx="56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Reaction of Derivatives of carboxylic 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Footer Placeholder 1"/>
          <p:cNvSpPr/>
          <p:nvPr/>
        </p:nvSpPr>
        <p:spPr>
          <a:xfrm>
            <a:off x="173160" y="64720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68" name="Object 16"/>
          <p:cNvGraphicFramePr/>
          <p:nvPr/>
        </p:nvGraphicFramePr>
        <p:xfrm>
          <a:off x="2209680" y="2057400"/>
          <a:ext cx="5486400" cy="42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548640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0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1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72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73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B05A-B87B-4FD5-AAF6-8710D3C351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75" name="Straight Arrow Connector 3"/>
          <p:cNvCxnSpPr/>
          <p:nvPr/>
        </p:nvCxnSpPr>
        <p:spPr>
          <a:xfrm>
            <a:off x="4800240" y="4390560"/>
            <a:ext cx="1600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76" name="TextBox 9"/>
          <p:cNvSpPr/>
          <p:nvPr/>
        </p:nvSpPr>
        <p:spPr>
          <a:xfrm>
            <a:off x="325440" y="1447920"/>
            <a:ext cx="82850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hydrolysis (reaction with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) all carboxylic acid derivatves convert to carboxylic ac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-30600" y="1066680"/>
            <a:ext cx="21639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78" name="Object 29"/>
          <p:cNvGraphicFramePr/>
          <p:nvPr/>
        </p:nvGraphicFramePr>
        <p:xfrm>
          <a:off x="2133720" y="1712880"/>
          <a:ext cx="144756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9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712880"/>
                    <a:ext cx="14475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0" name="Object 30"/>
          <p:cNvGraphicFramePr/>
          <p:nvPr/>
        </p:nvGraphicFramePr>
        <p:xfrm>
          <a:off x="865080" y="2666880"/>
          <a:ext cx="6248520" cy="12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5080" y="2666880"/>
                    <a:ext cx="624852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2" name="Rectangle 5"/>
          <p:cNvSpPr/>
          <p:nvPr/>
        </p:nvSpPr>
        <p:spPr>
          <a:xfrm>
            <a:off x="34920" y="1917360"/>
            <a:ext cx="935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- Reaction of                           with CO</a:t>
            </a:r>
            <a:r>
              <a:rPr b="1" lang="en-US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under heat and pressure giv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6" name="Footer Placeholder 1"/>
          <p:cNvSpPr/>
          <p:nvPr/>
        </p:nvSpPr>
        <p:spPr>
          <a:xfrm>
            <a:off x="34920" y="64720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7" name="Rectangle 2"/>
          <p:cNvSpPr/>
          <p:nvPr/>
        </p:nvSpPr>
        <p:spPr>
          <a:xfrm>
            <a:off x="34920" y="4267080"/>
            <a:ext cx="7051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- Oxidation of C</a:t>
            </a:r>
            <a:r>
              <a:rPr b="1" lang="en-US" sz="20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H with KMnO</a:t>
            </a:r>
            <a:r>
              <a:rPr b="1" lang="en-US" sz="20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4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giv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8" name="Object 31"/>
          <p:cNvGraphicFramePr/>
          <p:nvPr/>
        </p:nvGraphicFramePr>
        <p:xfrm>
          <a:off x="685800" y="4800600"/>
          <a:ext cx="5157720" cy="109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9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800600"/>
                    <a:ext cx="515772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0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1" name="Picture 13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92" name="Picture 14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93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F387-44CB-4BEB-822D-DE235803E1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6" name="مستطيل 6"/>
          <p:cNvSpPr/>
          <p:nvPr/>
        </p:nvSpPr>
        <p:spPr>
          <a:xfrm>
            <a:off x="3639960" y="4444920"/>
            <a:ext cx="5132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8" name="Object 26"/>
          <p:cNvGraphicFramePr/>
          <p:nvPr/>
        </p:nvGraphicFramePr>
        <p:xfrm>
          <a:off x="4495680" y="3200400"/>
          <a:ext cx="236232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9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200400"/>
                    <a:ext cx="23623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0" name="مستطيل 10"/>
          <p:cNvSpPr/>
          <p:nvPr/>
        </p:nvSpPr>
        <p:spPr>
          <a:xfrm>
            <a:off x="-208800" y="3409920"/>
            <a:ext cx="77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- The common name of this compound                                        is?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Rectangle 6"/>
          <p:cNvSpPr/>
          <p:nvPr/>
        </p:nvSpPr>
        <p:spPr>
          <a:xfrm>
            <a:off x="0" y="40316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 N,N-Dimethylacetamide                           B) N,N-Dimethyl propanam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N,N-Dimethylpropionamide                      D) N,N-Dimethylbutanam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2" name="Rectangle 7"/>
          <p:cNvSpPr/>
          <p:nvPr/>
        </p:nvSpPr>
        <p:spPr>
          <a:xfrm>
            <a:off x="76320" y="5055840"/>
            <a:ext cx="75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- Acid halide react with ammonia to gi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3" name="Rectangle 8"/>
          <p:cNvSpPr/>
          <p:nvPr/>
        </p:nvSpPr>
        <p:spPr>
          <a:xfrm>
            <a:off x="-453960" y="5544000"/>
            <a:ext cx="95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Amines             B)Amides           C) Phenols        D) Alcoho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Footer Placeholder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Rectangle 1"/>
          <p:cNvSpPr/>
          <p:nvPr/>
        </p:nvSpPr>
        <p:spPr>
          <a:xfrm>
            <a:off x="90360" y="125064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- The most acidic compound i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6" name="Object 27"/>
          <p:cNvGraphicFramePr/>
          <p:nvPr/>
        </p:nvGraphicFramePr>
        <p:xfrm>
          <a:off x="380880" y="1523880"/>
          <a:ext cx="5943600" cy="15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594360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9" name="Picture 1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010" name="Picture 1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011" name="Straight Connector 1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Slide Number Placeholder 1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90A4-FCB9-4603-B5CC-A331C31BF2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a7bc"/>
                </a:solidFill>
                <a:latin typeface="Times New Roman"/>
              </a:rPr>
              <a:t>Thank You for your kind attention !</a:t>
            </a:r>
            <a:endParaRPr b="0" lang="en-US" sz="28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15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24AE-122A-4478-813D-4CE30FBAC4AB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7" name="Picture 17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018" name="Picture 18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019" name="Straight Connector 1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Text Box 6"/>
          <p:cNvSpPr/>
          <p:nvPr/>
        </p:nvSpPr>
        <p:spPr>
          <a:xfrm>
            <a:off x="76320" y="11383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tructure Of Carboxylic 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Rectangle 4"/>
          <p:cNvSpPr/>
          <p:nvPr/>
        </p:nvSpPr>
        <p:spPr>
          <a:xfrm>
            <a:off x="0" y="1676520"/>
            <a:ext cx="91440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are </a:t>
            </a:r>
            <a:r>
              <a:rPr b="1" lang="en-US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organic acids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ntain one or mor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rboxyl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group, which is a combination of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rbonyl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group C=O and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ydroxy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oup O-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often written in condensed form as –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 or –CO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are classified as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liphat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-COOH or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romat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r-COOH depending on the group bonded to the carboxylic gro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mplest aci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ormic aci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=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atty aci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ong chain aliphatic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ids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(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7" name="Picture 10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58" name="Picture 11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59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0" name="Picture 1" descr="Acetic-acid-3D-balls-B.png"/>
          <p:cNvPicPr/>
          <p:nvPr/>
        </p:nvPicPr>
        <p:blipFill>
          <a:blip r:embed="rId3"/>
          <a:stretch/>
        </p:blipFill>
        <p:spPr>
          <a:xfrm>
            <a:off x="5334120" y="4800600"/>
            <a:ext cx="2460600" cy="1828800"/>
          </a:xfrm>
          <a:prstGeom prst="rect">
            <a:avLst/>
          </a:prstGeom>
          <a:ln w="0">
            <a:noFill/>
          </a:ln>
        </p:spPr>
      </p:pic>
      <p:sp>
        <p:nvSpPr>
          <p:cNvPr id="27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CFFB-B5FE-47F0-87F6-7BDF45745D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Rectangle 5"/>
          <p:cNvSpPr/>
          <p:nvPr/>
        </p:nvSpPr>
        <p:spPr>
          <a:xfrm>
            <a:off x="239040" y="121932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omenclature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Rectangle 7"/>
          <p:cNvSpPr/>
          <p:nvPr/>
        </p:nvSpPr>
        <p:spPr>
          <a:xfrm>
            <a:off x="152280" y="2171880"/>
            <a:ext cx="899172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 carboxylic acids are called after characteristic properties or their orig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common names ending  -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Formula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mmon name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origin of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OO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ic aci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in for 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acetic aci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Latin for vine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ionic acid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Greek for mil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yric aci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in for bu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eric acid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valerian roo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Rectangle 6"/>
          <p:cNvSpPr/>
          <p:nvPr/>
        </p:nvSpPr>
        <p:spPr>
          <a:xfrm>
            <a:off x="99360" y="174780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ommon Nomenc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Rectangle 2"/>
          <p:cNvSpPr/>
          <p:nvPr/>
        </p:nvSpPr>
        <p:spPr>
          <a:xfrm>
            <a:off x="152280" y="477504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ositions of the carbons present on the acid chain, are located by the Greek letters </a:t>
            </a:r>
            <a:r>
              <a:rPr b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ndicating the carbon atom next to COOH group (C2), </a:t>
            </a:r>
            <a:r>
              <a:rPr b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3)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Text Box 2"/>
          <p:cNvSpPr/>
          <p:nvPr/>
        </p:nvSpPr>
        <p:spPr>
          <a:xfrm>
            <a:off x="2890800" y="5510160"/>
            <a:ext cx="2900520" cy="928440"/>
          </a:xfrm>
          <a:prstGeom prst="rect">
            <a:avLst/>
          </a:prstGeom>
          <a:noFill/>
          <a:ln w="7632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5     4     3    2  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-C—C—C—C—COO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δ     γ     β     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8" name="Picture 12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69" name="Picture 13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70" name="Straight Connector 1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2776-AB8D-4313-9C05-2A78894DCA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Rectangle 2"/>
          <p:cNvSpPr/>
          <p:nvPr/>
        </p:nvSpPr>
        <p:spPr>
          <a:xfrm>
            <a:off x="0" y="3570120"/>
            <a:ext cx="83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romatic acids have common 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3" name="Object 20"/>
          <p:cNvGraphicFramePr/>
          <p:nvPr/>
        </p:nvGraphicFramePr>
        <p:xfrm>
          <a:off x="2819520" y="4038480"/>
          <a:ext cx="301464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038480"/>
                    <a:ext cx="301464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5" name="Object 21"/>
          <p:cNvGraphicFramePr/>
          <p:nvPr/>
        </p:nvGraphicFramePr>
        <p:xfrm>
          <a:off x="2971800" y="1981080"/>
          <a:ext cx="31496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6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981080"/>
                    <a:ext cx="3149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7" name="مربع نص 20"/>
          <p:cNvSpPr/>
          <p:nvPr/>
        </p:nvSpPr>
        <p:spPr>
          <a:xfrm>
            <a:off x="3166920" y="2666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ccin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Rectangle 2"/>
          <p:cNvSpPr/>
          <p:nvPr/>
        </p:nvSpPr>
        <p:spPr>
          <a:xfrm>
            <a:off x="138240" y="1066680"/>
            <a:ext cx="83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of di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0" name="Picture 8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81" name="Picture 9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82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C461-3111-4431-8B9E-BD09480DA5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Line 2053"/>
          <p:cNvSpPr/>
          <p:nvPr/>
        </p:nvSpPr>
        <p:spPr>
          <a:xfrm flipH="1">
            <a:off x="139320" y="6603840"/>
            <a:ext cx="190440" cy="0"/>
          </a:xfrm>
          <a:prstGeom prst="line">
            <a:avLst/>
          </a:prstGeom>
          <a:ln w="7632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AutoShape 2054">
            <a:hlinkClick r:id="" action="ppaction://hlinkshowjump?jump=previousslide"/>
          </p:cNvPr>
          <p:cNvSpPr/>
          <p:nvPr/>
        </p:nvSpPr>
        <p:spPr>
          <a:xfrm>
            <a:off x="139680" y="6413400"/>
            <a:ext cx="343080" cy="393840"/>
          </a:xfrm>
          <a:custGeom>
            <a:avLst/>
            <a:gdLst>
              <a:gd name="textAreaLeft" fmla="*/ 21960 w 343080"/>
              <a:gd name="textAreaRight" fmla="*/ 321120 w 343080"/>
              <a:gd name="textAreaTop" fmla="*/ 21960 h 393840"/>
              <a:gd name="textAreaBottom" fmla="*/ 371880 h 393840"/>
            </a:gdLst>
            <a:ahLst/>
            <a:rect l="textAreaLeft" t="textAreaTop" r="textAreaRight" b="textAreaBottom"/>
            <a:pathLst>
              <a:path w="21600" h="24792">
                <a:moveTo>
                  <a:pt x="0" y="0"/>
                </a:moveTo>
                <a:lnTo>
                  <a:pt x="21600" y="0"/>
                </a:lnTo>
                <a:lnTo>
                  <a:pt x="21600" y="24792"/>
                </a:lnTo>
                <a:lnTo>
                  <a:pt x="0" y="24792"/>
                </a:lnTo>
                <a:close/>
              </a:path>
              <a:path fill="lightenLess" w="21600" h="247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92">
                <a:moveTo>
                  <a:pt x="21600" y="0"/>
                </a:moveTo>
                <a:lnTo>
                  <a:pt x="21600" y="24792"/>
                </a:lnTo>
                <a:lnTo>
                  <a:pt x="20200" y="23393"/>
                </a:lnTo>
                <a:lnTo>
                  <a:pt x="20200" y="1400"/>
                </a:lnTo>
                <a:close/>
              </a:path>
              <a:path fill="darkenLess" w="21600" h="24792">
                <a:moveTo>
                  <a:pt x="21600" y="24792"/>
                </a:moveTo>
                <a:lnTo>
                  <a:pt x="0" y="24792"/>
                </a:lnTo>
                <a:lnTo>
                  <a:pt x="1400" y="23393"/>
                </a:lnTo>
                <a:lnTo>
                  <a:pt x="20200" y="23393"/>
                </a:lnTo>
                <a:close/>
              </a:path>
              <a:path fill="lighten" w="21600" h="24792">
                <a:moveTo>
                  <a:pt x="0" y="247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Rectangle 19"/>
          <p:cNvSpPr/>
          <p:nvPr/>
        </p:nvSpPr>
        <p:spPr>
          <a:xfrm>
            <a:off x="1440" y="99072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IUPAC Nomenc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Rectangle 20"/>
          <p:cNvSpPr/>
          <p:nvPr/>
        </p:nvSpPr>
        <p:spPr>
          <a:xfrm>
            <a:off x="0" y="1600200"/>
            <a:ext cx="91440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the longest continuous carbon chain contains the COOH group to get the root name of the parent hydrocarbon,   then replace the ending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the suffix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oic ac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the chain starting with the carbon of COOH group as C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are substituents identify their names, positions and list them as prefixes in alphabetical or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Examples:     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CH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)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 - CH(CH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) - CH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- CH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- COOH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all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,5-Dimethylhexanoic acid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8" name="Picture 6" descr="http://www.chemguide.co.uk/organicprops/acids/acidformulae.gif"/>
          <p:cNvPicPr/>
          <p:nvPr/>
        </p:nvPicPr>
        <p:blipFill>
          <a:blip r:embed="rId1"/>
          <a:stretch/>
        </p:blipFill>
        <p:spPr>
          <a:xfrm>
            <a:off x="104760" y="4467240"/>
            <a:ext cx="5610240" cy="14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9" name="Object 24"/>
          <p:cNvGraphicFramePr/>
          <p:nvPr/>
        </p:nvGraphicFramePr>
        <p:xfrm>
          <a:off x="7877160" y="4665600"/>
          <a:ext cx="1139760" cy="66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0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77160" y="4665600"/>
                    <a:ext cx="11397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1" name="Object 25"/>
          <p:cNvGraphicFramePr/>
          <p:nvPr/>
        </p:nvGraphicFramePr>
        <p:xfrm>
          <a:off x="5907240" y="4665600"/>
          <a:ext cx="1139760" cy="66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92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07240" y="4665600"/>
                    <a:ext cx="11397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3" name="Rectangle 4"/>
          <p:cNvSpPr/>
          <p:nvPr/>
        </p:nvSpPr>
        <p:spPr>
          <a:xfrm>
            <a:off x="5787360" y="55753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Rectangle 12"/>
          <p:cNvSpPr/>
          <p:nvPr/>
        </p:nvSpPr>
        <p:spPr>
          <a:xfrm>
            <a:off x="7586640" y="56037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ntano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6" name="Picture 13" descr="ksulogo2.png"/>
          <p:cNvPicPr/>
          <p:nvPr/>
        </p:nvPicPr>
        <p:blipFill>
          <a:blip r:embed="rId6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97" name="Picture 14" descr="images.jpeg"/>
          <p:cNvPicPr/>
          <p:nvPr/>
        </p:nvPicPr>
        <p:blipFill>
          <a:blip r:embed="rId7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98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3A5A-CCCC-4182-BBE7-14685248A9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Rectangle 6"/>
          <p:cNvSpPr/>
          <p:nvPr/>
        </p:nvSpPr>
        <p:spPr>
          <a:xfrm>
            <a:off x="76320" y="2562120"/>
            <a:ext cx="897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clic compounds containing one or more COOH groups attached to the ring are named by identifying the name of the ring followed by the word carboxylic acid or dicarboxylic aci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tc.  The </a:t>
            </a:r>
            <a:r>
              <a:rPr b="1" lang="en-GB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arbon atom bearing the carboxylic group is numbered 1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the substituents are numbered relative to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1" name="Object 31"/>
          <p:cNvGraphicFramePr/>
          <p:nvPr/>
        </p:nvGraphicFramePr>
        <p:xfrm>
          <a:off x="318960" y="38862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2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8862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3" name="Object 32"/>
          <p:cNvGraphicFramePr/>
          <p:nvPr/>
        </p:nvGraphicFramePr>
        <p:xfrm>
          <a:off x="380880" y="1165320"/>
          <a:ext cx="184320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4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165320"/>
                    <a:ext cx="18432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5" name="Object 33"/>
          <p:cNvGraphicFramePr/>
          <p:nvPr/>
        </p:nvGraphicFramePr>
        <p:xfrm>
          <a:off x="4522680" y="1089000"/>
          <a:ext cx="13068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6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2680" y="1089000"/>
                    <a:ext cx="13068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7" name="Object 34"/>
          <p:cNvGraphicFramePr/>
          <p:nvPr/>
        </p:nvGraphicFramePr>
        <p:xfrm>
          <a:off x="7086600" y="1317600"/>
          <a:ext cx="1827360" cy="30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8" name="Object 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317600"/>
                    <a:ext cx="182736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9" name="مربع نص 20"/>
          <p:cNvSpPr/>
          <p:nvPr/>
        </p:nvSpPr>
        <p:spPr>
          <a:xfrm>
            <a:off x="6705720" y="21146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4-Butandio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مربع نص 22"/>
          <p:cNvSpPr/>
          <p:nvPr/>
        </p:nvSpPr>
        <p:spPr>
          <a:xfrm>
            <a:off x="0" y="21337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Bromo-2-hydroxy-4-hexeno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مربع نص 21"/>
          <p:cNvSpPr/>
          <p:nvPr/>
        </p:nvSpPr>
        <p:spPr>
          <a:xfrm>
            <a:off x="3962520" y="21146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Aminobutano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3" name="Picture 11" descr="ksulogo2.png"/>
          <p:cNvPicPr/>
          <p:nvPr/>
        </p:nvPicPr>
        <p:blipFill>
          <a:blip r:embed="rId9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14" name="Picture 12" descr="images.jpeg"/>
          <p:cNvPicPr/>
          <p:nvPr/>
        </p:nvPicPr>
        <p:blipFill>
          <a:blip r:embed="rId10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15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FF3F-9BCB-4DBF-B48D-BBD1DA2A36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Rectangle 12"/>
          <p:cNvSpPr/>
          <p:nvPr/>
        </p:nvSpPr>
        <p:spPr>
          <a:xfrm>
            <a:off x="0" y="1523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romatic compounds have common names accepted by the IUPAC also they can be named 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benzene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8" name="Object 13"/>
          <p:cNvGraphicFramePr/>
          <p:nvPr/>
        </p:nvGraphicFramePr>
        <p:xfrm>
          <a:off x="457200" y="2666880"/>
          <a:ext cx="80010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80010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0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1" name="Picture 5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22" name="Picture 6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23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6BC8-E99B-4EAF-BC7F-1172EDAEBF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0" y="968400"/>
            <a:ext cx="84009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Physical Properties OF Carboxylic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7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28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29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Content Placeholder 2"/>
          <p:cNvSpPr/>
          <p:nvPr/>
        </p:nvSpPr>
        <p:spPr>
          <a:xfrm>
            <a:off x="-15840" y="1828800"/>
            <a:ext cx="91440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1) Boiling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hav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ceptionally high boil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than alcohols of identical relative molecular masses, For examp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         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M.F. 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M.W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bp / °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Propanol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C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3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H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8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O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60.01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  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97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Ethanoic acid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C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H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4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O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        60.05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       1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have higher boiling points than alcohols and aldehydes, because their dimeric structu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drogen-bonded acid d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548A-7C72-4304-84DE-83228AC182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2" name="Object 14"/>
          <p:cNvGraphicFramePr/>
          <p:nvPr/>
        </p:nvGraphicFramePr>
        <p:xfrm>
          <a:off x="3903840" y="5224320"/>
          <a:ext cx="4163760" cy="13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03840" y="5224320"/>
                    <a:ext cx="416376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dc:language>en-US</dc:language>
  <cp:lastModifiedBy>new wave</cp:lastModifiedBy>
  <dcterms:modified xsi:type="dcterms:W3CDTF">2016-01-26T20:38:08Z</dcterms:modified>
  <cp:revision>157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