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4.wmf" ContentType="image/x-wmf"/>
  <Override PartName="/ppt/media/image14.wmf" ContentType="image/x-wmf"/>
  <Override PartName="/ppt/media/image53.png" ContentType="image/png"/>
  <Override PartName="/ppt/media/image29.png" ContentType="image/png"/>
  <Override PartName="/ppt/media/image32.wmf" ContentType="image/x-wmf"/>
  <Override PartName="/ppt/media/image50.png" ContentType="image/png"/>
  <Override PartName="/ppt/media/image5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2.png" ContentType="image/png"/>
  <Override PartName="/ppt/media/image25.png" ContentType="image/png"/>
  <Override PartName="/ppt/media/image47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57.wmf" ContentType="image/x-wmf"/>
  <Override PartName="/ppt/media/image20.wmf" ContentType="image/x-wmf"/>
  <Override PartName="/ppt/media/image22.wmf" ContentType="image/x-wmf"/>
  <Override PartName="/ppt/media/image59.wmf" ContentType="image/x-wmf"/>
  <Override PartName="/ppt/media/image58.wmf" ContentType="image/x-wmf"/>
  <Override PartName="/ppt/media/image21.wmf" ContentType="image/x-wmf"/>
  <Override PartName="/ppt/media/image61.wmf" ContentType="image/x-wmf"/>
  <Override PartName="/ppt/media/image19.wmf" ContentType="image/x-wmf"/>
  <Override PartName="/ppt/media/image24.wmf" ContentType="image/x-wmf"/>
  <Override PartName="/ppt/media/image18.wmf" ContentType="image/x-wmf"/>
  <Override PartName="/ppt/media/image28.wmf" ContentType="image/x-wmf"/>
  <Override PartName="/ppt/media/image30.png" ContentType="image/png"/>
  <Override PartName="/ppt/media/image36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6.wmf" ContentType="image/x-wmf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23.wmf" ContentType="image/x-wmf"/>
  <Override PartName="/ppt/media/image27.wmf" ContentType="image/x-wmf"/>
  <Override PartName="/ppt/media/image11.jpeg" ContentType="image/jpeg"/>
  <Override PartName="/ppt/media/image17.wmf" ContentType="image/x-wmf"/>
  <Override PartName="/ppt/media/image9.png" ContentType="image/png"/>
  <Override PartName="/ppt/media/image8.png" ContentType="image/png"/>
  <Override PartName="/ppt/media/image42.wmf" ContentType="image/x-wmf"/>
  <Override PartName="/ppt/media/image13.wmf" ContentType="image/x-wmf"/>
  <Override PartName="/ppt/media/image52.png" ContentType="image/png"/>
  <Override PartName="/ppt/media/image31.png" ContentType="image/png"/>
  <Override PartName="/ppt/media/image34.wmf" ContentType="image/x-wmf"/>
  <Override PartName="/ppt/media/image39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48.png" ContentType="image/png"/>
  <Override PartName="/ppt/media/image5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 type="dt" idx="18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 type="ftr" idx="18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PlaceHolder 6"/>
          <p:cNvSpPr>
            <a:spLocks noGrp="1"/>
          </p:cNvSpPr>
          <p:nvPr>
            <p:ph type="sldNum" idx="18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5DCD-E23F-4CA0-B649-03A965CA6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62D2-348D-4589-AEC5-0CDDD6D21A1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E0EB-461A-47AC-9D59-2856210BE1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8A30-9F7B-43F8-BB20-473A9E148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7E8-E360-46DA-B3DA-9756DAD4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EAF-354C-408E-9500-444F00F7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48B48-C605-49D0-97D3-7466514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82B91-ABC4-4EAC-993D-F574F604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BFC4F-C7F2-41C3-A182-ED38C3F3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05173-A5A3-4D56-9243-4AE57505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6A520-FC1E-42F8-9703-B23A7B9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6E587-8E3C-4445-B569-7BD805C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EC15C-618D-4BDB-9B9E-12D30620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0CC7A-7040-4850-9FA6-C6D7C72E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5BBA9-6932-4B47-A04D-F14C2770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66A31D-CCEA-4EA4-9CA5-154E31B0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56A-F700-4FF2-875B-FBE32514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8724B-F3BE-463A-BC85-AE292EE5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24284-8C54-4702-8496-909D912A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826AA-A52F-4F56-9B1B-87CFB9BD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C84B6-BC4B-44E9-B591-71084976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749DC-80E3-4057-B4C4-004AA940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D3E7C-FF5B-44E7-9B5E-EB5B554B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40A45-667E-45C2-B894-F2325D0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24342-9DE5-44E7-B119-E5C8037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5A7F3-B691-44A1-852A-A95F4307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F5244-8693-482F-9F1E-4B83733D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E87-5BD9-4733-B07A-1133AAD2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7FE0E-9664-4947-8CE1-6F610AADC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8B275-A8C5-4A12-9514-952E8869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F5DCA-9764-4959-8371-0DC6A6D7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26EF0-DA7B-4D59-A26F-649E320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7291B-A118-4C56-B554-AA8DF7B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3A1F7-61E8-476F-BAB4-03A128D6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1EE23-64FB-4EE6-927A-A53340B3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3113B-248C-4BE5-879E-7C90E306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A1B32C-443E-49AA-B21E-615AB16E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77CF5-13A0-4371-9B7E-15B79F32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9B15-8443-4DFB-8D99-E1F2ED6D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F7E58-19D8-487F-B909-479D8F36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405CC-8C4F-45DE-83A0-EE0F5517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D6748-6B2E-45CE-9E36-02A20FFF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D2EF4-70D4-4BD4-B2F4-FDC1E3C0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0BF13-4BF0-48EA-9156-CFA6ADD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9FB29-E59C-4DF2-809B-40D70289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7505B-9E2F-4083-9555-D3AE4155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0A506-DA18-4BBC-B599-D941958F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C6D19-6A3F-40B7-A9F3-9933C78D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9F2B4-45A5-4CD3-AD28-7B106551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8B24-B432-4BF4-AB34-036AD13C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66A60-190A-4802-813A-832A012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E5B9A-70FD-4F86-922A-56E5B0CD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36099-E7AB-4ED6-BC7A-51625470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16229-671B-404E-B59C-E2801E00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23CB5-97C7-4ACD-9032-2B1195F0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3307A-7A03-4665-972C-9377ABF8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E143E-95E1-4B31-8AA3-2CB3C739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21531-C19E-4BEF-A6CC-BE4524A0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1C875-EF57-4884-B90F-28A18352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587C8-215F-427C-8604-74470BCC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6901-FA16-4D82-A360-3EC8CE80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9F347-24FE-4BB2-9ACD-D5832219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EA59FD-B3A2-4B80-8322-792AA5D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F5161-D751-4ED1-8E48-8B2E42B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5F559-5207-41CD-AD9F-4AC2795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F8794-0631-4718-B314-D151415F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2667A-1E1E-4BD9-8DF8-F0E52A1F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227AF-0814-4B70-BB3D-2D0F39DA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A8D6E-E6EC-49A1-8D18-5FDEE6EC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1C1B3-1C3C-435A-8FF6-0452CD7F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2BB641-176B-48F6-BB2A-66019C3A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63F6-7C42-401E-83F9-F9C081BD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7055E-6C50-4651-BE63-4E10A532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6E2A9-F954-4A92-8E05-E271E4AB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8C2045-1AA4-4DBA-8DF6-D5F0CAA6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38995-2B6B-4CCD-B4D6-0574C307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DC279-0B23-4049-83EF-A7C63F6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54210-C433-4D11-B105-D0BE7608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CDEFD-9E0E-4DE2-A202-DD0A577C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A24D4-9463-4D51-B867-88BE8412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75CB6-6A15-4211-A733-4E336C0E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CDF34-522E-4F3F-948D-BDB1C9EE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AB68-2439-4563-A401-3CFD0874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DC0DBB-E343-4F81-B04E-8B4C0813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0D48A9-B0AD-4AB9-B704-B06BBE36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44EB5-DC8D-4338-AB3F-C77AF469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375BC-A845-4700-83DF-AA386413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BAC2A-330F-4D13-A836-96C84158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3FCCD-1FB5-4ED4-9506-8F4667DF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8CC297-6D0B-4C87-8025-790888E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0CE50-D852-4E22-AF03-4084FC28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1F6AD-C438-4C5B-8978-E68A3513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424075-21FD-4551-851A-6CD131EE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2387-4243-4308-BFCE-D5D8CCFB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2EEB0E-68FE-4FBC-8842-648AB485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0A027-94EE-4CC9-A4F1-9BCCAA05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9E7164-3CC6-426A-8CAE-AD1F4F36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36F5C-96AB-4F14-A5A6-E1633F37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9A2BEA-1BF6-45DB-9AA9-6A7157B5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9C7C1-A368-43DF-B1DF-9CA588DA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DF8AD-288A-4C2D-82BF-28AA285E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DEBBF-6CA5-4683-B33F-029CE3E9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3797CC-FBDD-4D42-B91C-3FCAE6F9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B3C30-3237-4833-A242-F4D40C5F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92C9-8C1C-4ABA-89E7-4BBA8A2E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D9132-9405-4895-B1D3-89C2F588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DFAC5-CABE-4B62-B3CE-6601B00F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E5E515-A444-4B6A-BCA7-E8F7D246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50EC79-2D98-4395-AB79-0234A0A3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32C29-7F85-43AF-8244-2E50AEA3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2C6646-E377-400F-B5C9-8FDD4C91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E822F-20CC-4B5E-BC79-1A6BB856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4EE55-41C7-4EBB-A36F-80012645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682C26-AF0C-4D23-ACD8-79728201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5FF9CA-DDDE-4590-A4D3-2624E435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4168-C877-479F-8C15-60395A2F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BC0F-EF06-4543-9C48-323051CF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2A86C-486E-4F3B-BE35-7C2B080D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9D5ED-320C-4AE7-AD0D-19EB87E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19E6B-646B-4D86-9A55-F5E2B1E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7B741-9712-42D7-9A1F-15E675D8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2F6BB4-1541-43EE-A0D2-FD31AE37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FC0B6-D8FC-4CFE-9D20-721535A59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F0C08-7C7B-4DBD-88B0-19300698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AAFE5-C284-43D6-8365-72C8AA63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E4D0C-999C-4020-9F09-1328F687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E18525-7CE2-4D17-A362-5479F40A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E833-0561-4D63-8835-BB69DCD5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C4F5B3-76E8-44F0-8303-35DE4F30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52A6A-A643-4F82-AD3E-988C3028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8F174-003C-48F4-8F12-93E0290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E5744A-42A9-4E4D-9CEC-4B3AEB2D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993C5B-C80D-446B-9BCC-6C313AD6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E9642-F6A7-4C84-8F4D-F98577D5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DEF3B-41E9-487F-8DD5-7FD8BDB4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BD577-7AE9-41AC-AE9A-DD173D97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EDD60-CCD6-4BA5-9B03-15705382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DCF94-268E-45F0-8C43-19282129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5F86-BA0F-4B22-A67D-45352B23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A60B68-37AC-4419-8B1E-43ACB726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DFBCD6-5CC7-4FDB-BB8A-D5DF99C5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4A012F-38AF-47D5-B920-89C3232E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B2B754-2CD3-4DD0-AE14-1512E037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067A02-5885-4411-97CF-174BCB66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9D7D4-041B-4AF4-920D-F3F2D579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EAD82B-D493-448D-B462-7DF40917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81A1B8-3091-4BD9-B069-7C11D24E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FB30F1-8ACE-4333-A57E-6EAB957B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5D058-7F4A-421B-B961-26BE9CCA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401F-0B50-4B66-B266-106266D3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5C25E8-456C-4780-BBD9-402B3D3E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B4B727-F955-4DAE-9FD5-09FC9992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7387F-BAA7-4F98-98CB-E07C869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740DE8-0DF3-4671-BFBF-7A6EAA76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01E4E5-AFE1-496D-9779-04B24D8C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03ECDD-B54A-4110-B8EB-1B58C008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95F73-42DF-4546-BA35-1EA650F4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0C5F5-42FC-4513-964C-740CD0C5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3B095-A921-4A26-BFAC-BBEFA09A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48CABE-2384-4A58-9231-EA24530C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06F3-3C19-4B4A-B107-6DB7DFE5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C85580-121C-4850-8761-E55AC596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B2047D-8088-46E7-813C-94B5F453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8BF176-17C9-4C70-B052-983CDB3C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FF647-5D7C-475E-9D36-769DD555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2BB8D1-1A0B-4EBE-8FE1-084DFE10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3E8AA-ED8E-4B1A-B063-2F5B09D8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11AA9-EA75-4E0B-BCC2-3A40A885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717B8-48DE-40FB-8B67-C397F97F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36271-919A-4BEB-8424-FC4163A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EE3CFC-CDC6-47B8-86A2-5A76BFFF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6E3E-2709-4DB5-A2C1-D98C0C45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A13573-CFD9-456F-A35B-3C834292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4F70D3-27B2-42A1-913A-B7B378D5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7A1754-7867-4E30-92C6-7D171208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C013A1-5351-4484-9BF9-B63FFBB7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3C8077-5174-44A1-A1B7-EC6696A8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714A43-C37F-4A3F-9223-FCB2D9E7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8C636-6A3D-4950-8DE5-9B2E1056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33EB81-E7F7-4560-A53B-D1F4F3C3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D64669-D1BC-4286-90A2-27AC1B43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DDB21A-ECC5-479A-A658-431AD860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95AEE-463A-4F23-A7B1-8896E953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9CD349-7C13-453A-9859-941A7F01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115195-46A1-4B58-A729-8FCF702B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DCC754-64F0-438B-ACD5-A450D119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473E1B-BC6D-46B6-A2CE-70F377706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817C4C-9F36-41F4-878A-468C3DF7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AF9106-70CE-4A82-86F3-75230CAF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7F3359-25AD-4725-8D4F-954E6363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3BA130-85EB-493B-8724-947B4096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39CEF4-40FC-4576-A667-09816635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6C83E2-37D7-49AB-A4BE-984B3719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445A4-42F9-4368-89E5-647C8F29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1DBED0-7535-4E9C-9FE0-613083A7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BCCD0F-70E6-475E-B8D9-26EE1AF8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DC28D7-4019-437F-AD7E-B5DA7E4F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6402D1-5F5C-4575-AF7A-99C46737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0E9A58-8C93-471D-8F05-96EFD260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82A4D8-7BF8-435D-8C37-B1799139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82A6DB-605C-47BA-ABBA-248ACCC1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2EA47B-78D8-4FB2-95CF-41F1E24E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EBB84B-B64A-463B-AA08-7C26AC27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8522BC-2973-45F9-9C1D-C3D00089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4AAF-3984-4717-911E-D0E52E52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35C183-60F1-49BB-9E35-384FE8C7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B7ABCA-768A-4122-AA1B-7980BF84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0AF740-3BB0-40BB-9581-940DC9A6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C5A55C-F97D-478D-8D95-437F789F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33876B-4E86-42DF-B391-C569B985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4256B3-C67F-4D4E-A0BB-03DE1736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A44081-A013-4166-A031-3A2AA737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7033C6-BEEC-4BF8-93E1-277660AC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600140-0E3D-45CE-A79E-B4C5F650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4415AE-72E0-40E5-B4BD-6641998A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0FEB-E14E-454C-9038-9AC97381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F5A88F-9B98-42A6-BB25-FBDAAC95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112A1A-59DC-49A9-B9DE-3D7C2F58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46B5F6-5A3A-43AC-8F73-5A960814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8F3971-9545-4E9D-9540-2B81D0D7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E93EDA-4575-44C4-8B88-E95145C7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DDFD88-D21F-426C-A4FD-508B72B1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27A1E8-A118-4EB6-BD18-D74FBD9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A78DA3-9CE0-4ED3-B397-72A231A2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558253-AE40-4AE0-BE37-4C5A7A2D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4CA472-A4B8-42CC-8402-6B18BFDA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B93-E2E2-43B4-9156-D4F71649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FFD2-06A4-400D-A608-ED9F9C3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C76BA5-64F5-48E3-932E-B30A8E27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0E0D4E-A022-40F0-95C5-D87C065B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A7F255-4008-4DA8-97D7-8F65CF64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BDE4B0-3BC4-4AF3-B7C2-9D39013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0B1363-E33F-4E97-AC31-0FAC2B8E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69B90B-7B30-4C74-93AB-B48FAD72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7AECA6-839F-4CE2-9ACB-C0D24FFA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4D5D36-3CFA-4866-BBD4-0D580A08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2FC8A0-BC01-4455-9017-D646248D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D1F973-6DA3-43A8-AD3E-295A3A25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2B024-385B-4D64-93E3-D416D325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75B0E8-0AD4-45BF-928C-0923A652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0785F1-5278-41AF-B645-CA1E7ED25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EC581F-72DF-49C3-92A4-8C99A22D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FC766E-EE64-4ECA-9D39-1B490465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A66263-772F-465D-BCA4-66AA74AF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D476B2-E94B-4781-81B9-565A81F0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7DF477-222A-40EE-BDD3-17B92082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205C55-AD7D-4430-9795-E0CE7975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04C1FD-F3ED-42AD-B78E-63B6D10E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8C244E-1E61-4610-B840-5BF8153A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76672-A745-4849-9CA8-834207C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2BE7D9-5C58-48FF-928D-A7ADB130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FE3919-BABF-4CAE-83FA-08DA0C70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CF0385-A2BB-41EC-B9AF-F8747ADE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0BD714-5208-4D00-A5D8-7802482E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24130F-EB1F-427B-8681-EE34A0F2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CDAA1C-B024-4386-ACA8-EC66256E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4EFCCC-422D-485D-A243-CBF8C0F3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1C8133-C2E0-4A04-A6D4-9CE1DD68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320623-0BC6-43E9-B325-117013A3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9F6311-608C-4FC3-9B71-5DDB3525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9901-DF25-4958-B942-1D592592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0EF00C-4910-4676-B932-180A8E0C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7859AF-3D3F-45A1-AE58-DDA6C9DC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ADBFD4-AAB9-482A-9E09-252883F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6D070E-9B27-4871-B26C-D7B52AE7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B377F9-0C21-41C2-92DC-2A46466E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55C367-01BF-4331-A9BD-58E143CF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42247E-51BA-4F5D-B8A7-34C11C52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5C1F56-F84F-4342-84E3-D8236902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6CCEFB-B966-458C-8489-8FDDC5CE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C54BBA-51D7-4DE0-813E-661D0A88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F449-D0A7-4562-AFB7-B1DE8527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E4B443-9BFF-41A7-AD1E-3D0E5E48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55FE56-B336-4451-9C9D-21F775C1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395C47-E0DB-432D-A5D0-2F2E5FD8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10B714-E923-4ABE-B3CC-DC266A1A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7952EE-5F06-404B-AB3F-1FBB5949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B78EEF-5921-4BE5-8F96-12969409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8AAE7A-217E-4273-9453-6164EB26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371F7B-336A-457F-9986-1E6AAE29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6BBB14-ED2E-4C27-9ABB-54378422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F7CCE4-C17D-43B2-91EE-F52B65C4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3C72-7F01-4EF3-B67B-25AD2E85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D67D57-1E76-4A06-A2AF-6ABA0B4F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EA6A92-7254-4C4A-A30D-874B933A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20E3E2-7435-4BC1-A072-D6053262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FE572F-9E83-48C5-880B-7DF3AA2D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64A099-981A-4717-84F3-3038E5E8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22E967-44F9-4633-A21A-3DBA9227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187CBF-4F69-4DD4-9A0F-8692947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3B852F-26BA-4BC8-B1D6-11656821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7F6DF2-4C91-4C70-B3FA-2D313F17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7A2070-EA68-4228-A526-2D93FE9E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57CB-3E16-4BFC-B0E1-0F1909B1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035468-43BF-4597-B134-1A113F62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07176C-1C73-4FF6-B364-DD3E6A89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DB6D80-3FBB-42DE-B661-49B82E8A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C7573F-923D-4AC0-8A7F-AD9CE658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593F92-D0D3-48AB-9923-8D01D762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BCEB7B-573D-4992-AE5F-2111A124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2252D0-90FC-4C37-B14D-B4B1062C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E009F7-DC2C-4B3C-B2A4-CD7DC9C4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C60BE9-48E8-426F-92D8-64C4F6F4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C0D51E-F68B-4863-B92B-6EFEDA47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BAB5D-E13F-49CA-8224-D80B6243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6DC4B5-2097-48B8-AD33-7A6193AC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464C52-C039-45FD-81AD-BE8BBA88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10530A-DFDA-4866-94DB-E42A2095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8024CB3-0F03-4DE2-967D-82FEA3F5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A7B3B5-7C9D-4325-A489-C3211942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36B6912-BEF0-4D31-8661-52014460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446AC1-9206-4853-8ACC-E802F7CE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9C2907-6497-4187-9727-DEE13A1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985CD2-100F-4FCE-BF1A-DEE0FB13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287793-54D8-4D07-BE26-7F3789B1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C8E9-278B-452A-814F-E209E2CF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52F9F4E-D65A-4DF9-A9E0-968C132D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47CBF8-74E2-4690-914D-4EA65D5E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58C55A-A321-4204-99E6-16BCE4CA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C33E34-E99D-438F-B7E9-77107C21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01F4EF-4561-4C15-B3A0-642BD1E8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2B75FF-63B3-440F-9A8F-7E5E2B0B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66C0A73-85D5-4C2A-9DF3-10272174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17CD8FE-42E5-4F6A-9C5E-C7209739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8AD056-6DAD-4CCE-B072-3DC6633B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1CCC90-8090-4283-98EF-ECAD583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706B-2632-47F3-B519-28DB9A58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496FAF-7F38-46AF-A529-B16B8948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926DA69-BB2F-4510-9B29-FD358D54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FCC683-D626-4C51-8433-36669E4A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825C03-31C3-4B90-9D3B-B5865948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4AEB3F0-AFD9-4600-A1BD-08185449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F6CBC0-1C01-4302-B34D-D37801EB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75BE1D-0633-4A40-AC9F-EA9897F2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0B08F9-9A0B-4B1D-AD53-89D15197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2308BD-1C8E-4D02-980F-56CDD560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B410D0-791C-4029-BCF5-4E1D21B8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A8BA-3310-42DE-A1B9-FB157163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98CC-9EC4-4C96-BB83-0866FDCD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7FCAF1-4B51-47A7-B425-CEE1988B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358DD9-829A-49ED-8FFD-06B453A9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DA2F48F-B4F0-4CAF-99C1-C56A16F9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9CDAFC-5B8D-4487-8E5D-614B533A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3F801B4-F8E9-410F-8A4A-A795E006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6AAE98-184D-45CC-9995-1972064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14DF1E-0ABD-4DC8-86DA-7386B5D3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F493D8-C7B5-4582-B062-2C31AA75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02E907-D8C9-4E2F-A982-FB1EE8B3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F02C54-77EA-421D-908B-E7960CD2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A7B40-CE63-4EFB-B7A1-C9EC178E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DDEEE0-4380-4AFF-B4FC-F2DF625F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E53AF0-8941-4DAE-956A-0292CABA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00E78C-5F71-4CDB-8F2F-41B0DB5A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2D343F-A2EF-43CA-9175-2B9901CA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39CF8E-5A97-4D7F-BAFC-0E009ACF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7EB689-7E81-404B-AE9F-86E61341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55167F-5121-49B4-9B85-F1AAA627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34D285B-5DCA-4A44-98BB-83C9C1A8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0110C1-1B07-4CA3-A099-C80AAE8D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B126D9F-00E8-4184-A97C-5CDE0D93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00F7A-F7D4-4A0C-B9E1-4306E53A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7E9C81-EB21-4D6C-9AB2-30A2E9B6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24336A-0774-410C-87CD-F4DB7A36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7B51CC8-FFBC-4BFE-B634-0C49A49C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2615A1-3488-4ED2-A651-C062D4C5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2D7E49A-9653-4C51-BE35-71D08039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10C0E5-CCB1-4686-8E01-08B9380B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3ADF69-EC2C-4E18-A30B-483FBFC6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00CAEE0-4881-415B-93BA-0D2B7EAD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B1A9137-77FA-4399-9F71-8ADB2A28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B78851-04E0-4C80-AC52-CF551C8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4DD2-01D7-455C-8B0E-2521F22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2081204-988F-4342-94C2-85BE5725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1E8DB8-1399-4013-9C00-303F2DC4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3120D8-8615-4AFA-B919-8BACEF61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099354-C44E-4C1B-8687-0D4F096B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432E3A2-3FD0-4EAE-A9AE-5597DA5E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147418-18B2-4F38-A345-A6866A08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40BC37-5CB2-47B8-9108-AC12D142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8361EE-4E6C-4BD3-A237-AD6A80E0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728CE6A-34E5-4153-B1CE-F16CF31C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247772-8EFD-4244-8F6A-EA5DD832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2C0F2-12BE-4E01-BF21-4117ACE3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55BB44-4403-4420-B939-89835D5B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D30B57-53C6-4282-825E-1971AE0A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8E5532-6503-42C0-8F43-8299081F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1E5D2CC-1334-45C4-90AF-AC34F7EB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27F6CBF-221D-40C5-B47E-5D08A80E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0403B0-D30C-45E0-A0FE-499DAA41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90CF0D6-5E9B-4F23-BA1D-5C5BBCAA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038282-BBA3-44A5-8140-4DC95953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CA3B71-5AA3-450A-BA71-D3DB79D6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2072D9-BF6A-4EA8-AAF4-C1CF153F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4AFF7-12BC-4C30-B76D-247EC00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83B3C4-2E53-4AD2-BDB1-7E216486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4BBDA8-CAD2-4B62-BFFC-EE129419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5636F7-ECA0-4754-8F3F-9176A9D1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7D9CEF-2581-414E-80C5-68FF5FC7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8B7E61-4DE6-45B2-9BF2-09B2F164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0AE90B-0429-4D19-93A5-2539DA2D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6CFBBA-A851-4F96-A0C9-4D393571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4C4F54-9B17-441F-A811-080D23E0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EF04AF7-DBCE-4DC3-BA3D-164A10A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34ADB8-4C6B-4F60-9BC1-32995AA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F5E7E-E07B-4560-B219-4E6E8CAA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4E2EEAD-D071-49A8-8FB5-45AC17D5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0D7509-FEEA-47AD-8166-DD7302DB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2D7D4A-F619-4438-BA37-78F2AEED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E1A6FE-6BA9-4608-BF73-921D9D2D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1F0054-C2E5-4B41-B092-B5AA1B36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22B54A-DC0C-451A-ADB5-A84236C4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982496-FCF4-4BAE-8DB7-27AEEBBA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C18D9D-6AF2-4EC4-BB1B-D5EA7A2C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7886F97-1662-444F-A785-9C45D3D97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AF9720-BCD9-4D06-8C32-285A5A22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3AFB-AC5F-41FB-A676-E99ECA7D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28517DB-06DB-48FD-A76E-A0349F1E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C568224-47A4-433C-B63E-8F0ACE89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F4F2A9B-96AE-4745-BF4B-0E4DF288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4BF0978-5F49-432F-8865-0031547B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460235-1B22-4690-8FED-E5FA53CD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CACB54-2705-4C53-A4F6-92D8A948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8A803F6-EA09-4992-AF88-644D0A3B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2B0405-C49B-4FDB-9C80-65A74B18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03F719E-30D1-42D4-9D69-6791B817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2C9360-B8BD-428F-86B7-5EF087BB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A7CE7-3BEC-425A-A1C3-AC390B2C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A65175-36C0-4DC9-8D12-75A66383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F33ED3-AFF4-4BEA-8AE8-00FB4396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A1A446-FD19-4855-8670-25877D51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FE1314-AB33-4244-9835-907CB0D0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D9FB33-E2C2-49C0-BAA5-FD9453F0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E88333-C761-4164-AE98-BB8BAC15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A81E49-840B-40F3-B4F3-8D09DCBA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FCBCF9-4984-4802-B91C-B097814C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DA2DE0-3B26-4A48-BF8C-D49C8E19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9CF7838-854C-4C56-B606-57913E2E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A4608-F7FC-4855-9008-4F10C1CF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ED618A6-6E53-40E1-A31D-F1F9F496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012AF2E-52F0-458E-B955-DAFDBE4D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442C5AB-9BAC-4620-9055-41B8DDD5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2BDE19-1443-43B2-97D4-91A4B364C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D2A71D-B8D5-4ABD-A8B0-67E53481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D5F7A58-4D45-421D-8E93-F1C8E2F3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8A8E46-E5F0-453A-94F8-2ECF2D56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EC7480-357E-41B8-AB09-110570D9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3384BA2-F214-412D-AC0F-EDD88166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E77DF48-B2B5-48BC-9709-D99CD3C6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60C-F3B0-42A1-BEEB-C8D84E91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98D3-6F54-404B-ABAC-339AA406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AF33A4-64DA-47B8-9EAB-D139C8CC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F4473F-D8D1-45FD-A9F6-9261068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AD252F-DE57-4A5C-AF90-24FC9887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36BC69-2BD2-4FFE-A79D-14219DB4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7AE703-239A-4816-A8F8-6A8B3139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042950-7273-46EF-8523-5A4FC6030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F74128B-12FE-4B45-AC58-EBCDD695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F4F470-EDEE-4564-884C-6AF76F43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4C0D1B1-5215-44EC-83EB-B0022E93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D364ABB-3EC2-4377-9403-60137419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3DE79-F7FD-41B3-B1CC-23475F95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1C524AE-08A9-4563-8E51-B0F0A067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13702C9-012F-4488-9E39-C555C8C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C7C209D-5E84-4D2A-A742-318BBE00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D0EB3B9-3480-4B2E-8466-40D0C18B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3FC3891-2013-4C3A-995C-AE6E017E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E69136B-CCF0-4E18-9707-94A9EF28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912F88-7A3B-4872-9297-44D5E95E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F8703D1-D532-4E9E-9337-B0867AAA4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23D70D8-0E5D-4096-97DF-39598351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E110738-F781-4A7B-A5E1-ADEB1578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C4089-BCBE-4924-B192-C111431A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9306334-0E31-4151-9848-D8048C8B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EAF84A2-5220-49A6-90A8-B9893130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93D9020-2B31-4615-A7DB-47A63DB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6F0BCDF-3850-4FAB-8C13-A731C116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00DF590-8C7D-4ADF-A846-548EC6B8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EB2A0FA-67A7-433A-975A-8540E26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0C3CA33-79D3-451C-92EB-0B015064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072EC15-8D18-4A1A-B4EC-53194D82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9025A2-7CE0-4A67-BED2-9B6139B7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6F5E999-D0DF-4710-B203-A104AE48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F2018-3319-4DBA-9920-111E3C38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B2D7CA-1835-4A27-B8F9-60D1D18B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310445B-FBAE-4FE7-8220-173B9687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9260A2B-41DA-4BB1-8B45-26CA5508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FE829DD-9D50-4840-B510-DAFB41E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378D696-7780-459A-A4AB-ECC70073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2114D7B-874B-4371-89B0-24E6DD34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BE68A0F-CF22-401C-8F38-82163E69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A897C1F-5EC4-4219-9E2C-9B8C4D39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F26115B-3D99-40B2-8F17-8845B40C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E084930-3319-40D2-8F71-3F25700F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46DCF-A62D-49E2-99EF-5DAD7C28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BC85275-26CD-4288-BDF4-3C9B170C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9C2EC50-3673-4E17-A014-33656838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7C61EF9-6671-4018-AAA7-AEF2E779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34658C4-6EA7-48E3-94F5-A4CB236C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5793F9-EB25-4094-9E86-99554733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DAD156-29BF-4AEA-8080-6B306CE1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47C0098-F9EA-47BE-825A-3AF8DDC0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1281553-E681-4F1F-9794-1296914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02738B-A26C-4130-B6F7-EC8BA157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B35ABAC-0CC5-4883-8259-643D6606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72864-12F7-4E06-B850-0F365E16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78D42CD-D158-45C1-9269-DD11484C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F011765-72CF-4A07-B152-D36728B3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7951ABC-B4D6-4190-B835-A326D657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5066BE-F9F1-4788-9CF7-43382660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D11E74E-F3CE-408A-B429-2C2C0279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C0B5654-48C5-4BB0-85EE-77E71BA8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B12A757-BAB3-47A9-A230-F7135879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4F54A1-B8D1-47DC-9E6E-B9DF6A7E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A2053BE-1786-4B21-A7FE-0F4ABAAE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BC9C3C3-9CA4-423A-A564-80DD97FF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43119-7876-4451-B89A-0C1F219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ED1B36D-51BB-451E-A99D-160D5C53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055366-4E7C-4238-8BF6-F1E0EB5E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5D20BCE-2713-4AC3-9070-F4D550B1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486DB9A-9441-40C3-9F3D-125121094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5CF1455-BECA-4189-B13D-6543B668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A0A84C-2221-4BDE-92BC-20636A9A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BBB27D-8060-4EA5-A946-1C459BD2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BF05FE5-B96F-4606-BF08-E9A0F30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EBA79B-EB4F-42B6-A537-E45F981F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FB2A4A-2FE0-46A6-99ED-C1FA028A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66296-697C-4E91-AC9E-0FDB2CFF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4C60E3-3B7B-418C-99DC-C13EE8E6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D1C779-FC62-4EB6-A581-2BDB4785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9ADCF2A-10DB-42CF-A25F-6C82EBD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C6303B-71BA-4BE6-9A97-BB3B0752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C507CC4-57A0-487A-A6EA-353DCFB7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14EA9B0-485D-4BDE-B3B0-7A01362B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5714B6E-C08B-4E79-A4C4-249A1CB3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A6448A4-08A9-4D1A-9A64-FE26D8D5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A03E451-2923-41CE-9DBD-BEAA57F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0D5ADE-9E55-4684-9934-76D40491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C6B9C-0907-48F6-A8B0-84D921F9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7BC3E3A-75B4-460D-9672-557347E9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0A2CCFE-F233-4E77-9098-E9729AFD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A1D48CD-369A-4B69-A580-2C718DC5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754382A-ECB6-4819-A61E-37B9D94F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CF4102B-105E-45BA-8C6B-5544A5B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74B2F6C-FEBE-41D2-BEAF-B48C275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5300B4A-CBB9-400F-B20B-C2A54DBF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3FE871-2B00-4F88-93F3-87640D38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0827B45-BE88-47FB-BE6D-5B36163E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C1FDB6C7-25EA-4205-AF87-97EAFD30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9905C-E037-4CC2-A047-5087E5C7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FFBFBBB-8DFA-4501-8249-455471A3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755E51E-90F8-4DEC-AD43-514302DD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C0E4B88E-A5A6-417C-ACBE-24BA8D95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40B2A2E-0E90-475F-841B-CFC1A9F3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0216E45-7A94-4C22-B012-EE97E620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0AD9EC2-2E14-4532-B256-1BA19C7F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42D1254-977C-430D-BDF5-C402E775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4DB77989-50E7-48DA-A8E9-869FB43B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C6C1848F-0641-4B23-A9CD-510EFF1D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345FFE5D-58BE-45F9-9CCD-2159568C3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42C-F311-4FE2-954A-61596B73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20FE9-A02D-421F-A805-666B0778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B1263D2-6502-4EF1-B5D5-E1C4B56E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98B0259-EBDB-4806-B246-DB440022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D93F4A6-71C2-4A19-8A7A-439D84EC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F3C54E3-9485-46B1-B7A9-B4D676D8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BBF4EBC-E6A3-4DDD-BD35-AE9EE5F5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2968052-5A0D-4657-A83F-B1E68C18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23A4ECB-BF59-434B-B540-2704C28C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9700B05-212C-4E22-8BCC-62F0564A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AE54464-C08B-4180-8DD9-52D733C9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93FE7E7-8C39-4292-A046-592BC86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85B6-0A51-471D-9ADA-884CEDBF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7756E1C-1F4A-4D6D-801E-65AFD25C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F5651E48-6472-410A-96B0-30D42075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5437711-BF0E-4AAD-8A88-068C5D08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031D33-402E-48CA-A511-4E324992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F88A3E2-BA09-493E-A5C9-2E87EAAD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317173E-0408-4D1D-A35B-B011F58C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754EA51-AD33-40BD-B466-4E48C385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E37B31C-4EDA-472C-9161-0A85E888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45E071C-8FFD-4599-A2D6-48C17978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CF06753-3176-49CB-9B63-EA838C9B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D0D11-BEF0-4300-B206-E5C97367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97A85E-D13A-4C8A-B4DA-EBBB32D2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57CC751-234D-42E1-85D5-90A5D94D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A0F92F-8AD2-4768-B060-512CC9CD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7B44B8C-13D3-45A7-B543-CC55CD4B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993B1A-C780-47D4-9784-50407CDD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B0E4020-58C3-4FC4-BC3B-CAB2057FB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2C15DD-8B54-48ED-990E-559529F4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E89EF8D-2AD5-4489-AC7A-0311A5C6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E6CCF42-C9A7-4620-B16A-539B681D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21C0C79-4B84-45FA-BE6B-FC36AFF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EA84D-AD4F-4D48-BB73-8E7D47F1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DE038C4-0FB1-4E2E-AFAB-943F091B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24B81DD-E66F-471B-9375-0876653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5B6814-5404-45A8-902A-3C310F95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7EDA34D-FA09-41D7-BA11-63491AA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1360C15-4AD5-4909-9253-E05AF891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B29F5DF-C766-4AC6-BE11-67E530FB2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3CC4CF0-47D5-4D84-ACF4-6A534520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E0B14A6-B727-43D4-B411-3EFDC9A0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B682AA0-FE4C-452F-849B-61FB7BAB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52A4A58-DB54-4C46-898B-5A2AB52B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E0C53-1C3D-42DD-987A-6AF3243F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AAD07B8-6C44-4AB0-8BFF-A1F877DA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964996F-DC6F-4FD9-B4AE-0C91E6A5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6FCBF03-CF17-49A6-8822-C6D89FC4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0373072-B082-4D80-BF33-665B3A5E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7A2E95D-2639-4345-A1D6-80BF4853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2522DEC-63B3-4F2F-A343-D0A7F03E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2C214BF-7226-4FB4-A7DD-D1BD1FFE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25AE3D6-041E-45F2-A368-6AF61A4E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D6FA93E-3915-4F0B-ABC4-96634B85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C832D70-039A-4331-9A92-EE0CC886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C0DE-307D-4AB7-B7DC-5CB7DCC2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FD934BF-6D1B-4EB2-B54D-35D497A3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3D0AA14-54F6-4B36-97F6-FA1C4599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354815F-1D37-4A6A-8973-F0F21C75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4E4C6E5-1A92-4F5B-BBD2-EF4E437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24B075D-AB32-4D97-864D-126A28FA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D09692-AF85-49C4-8064-2401EDA4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F0A8B9D-2AE1-4FA9-AB05-44088B0C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FFACBAB-AC18-4689-90F0-E83C29B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048DF38-9FC8-446C-B2D2-F5440A5D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7F9DA46-4092-4224-B37F-2F7E0FB1D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1AB14-2CFE-4D29-8DCA-20352C96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ED3E5FE-7348-44B3-B6C2-0F3589F5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4B88B14-2B8D-4DCE-92B4-F0999209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6D3144B-16FA-469C-9C37-72776B44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9C59235-4749-4303-965D-2B6526CE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327E53B-25A9-435E-99CB-8C277354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E3B21E2-7E97-4BA3-ACED-9255783C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C563A0D-5836-4382-AF28-05951722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9C8BFF5-228E-41D6-B19D-FBEFEC48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FEE925F-D779-4B52-89AA-A6EE8E5D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55E04E9-A74F-4054-A5FE-A7310254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9E4F6-26FA-433D-B0FD-E6060C8A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8A6A97E-F589-42BE-9233-7EC26512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5C507EE-6B78-45E1-B273-4FADCFE28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161AB48-8829-4420-A167-42A15273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CCA697C-F321-4647-B4F6-9EA2680A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BE29860-D2E4-40C4-9464-5B5B8D64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538DD3A-F5C8-4555-BD39-796AD423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C9B2CB2-20F9-4277-8D58-2CCB3674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DD53133-2E0F-4166-B518-F8D1BF1E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F24D787-ADFD-45F1-9CB3-4CB322A4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CCD1A7-ACAC-4E44-B007-F5CCBEFE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6455F-8944-4DC4-877C-51363B56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6FFB300-795C-4082-871E-F8F19AE8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E694130-17D0-4BD7-A9A7-98E80DDA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1D245ED-53EC-49DB-B76A-8F37DDF8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341FF45-9C08-4D16-AE34-ED35FCBE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8A60B90-05D4-40B6-9A08-F1B853CF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C794F05-CEB9-4A8C-9F8C-47A53F37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FC2F2AC-516D-4487-8D13-AD90884D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6D3499F-69C4-4BDE-89EA-C65FC0FB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398D13A-BD54-4BE4-915B-1601FCD9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0C6C919-FB55-4AAC-A082-706FB08B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685B3-C928-47F0-9EA8-0DCF5E07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6B21489-CE23-4FF4-B06D-E3CA2C2C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0EF9EED-B3B7-410E-BAD9-CB73C369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F533F6A-8A38-4022-A9DE-A335558B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2F7126D-14AA-4F98-A1E7-293C873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F736184-0E05-440D-8B7B-46C5AE65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A85F551-682E-4EF9-86F2-5FADDB39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2BF85C1-EFAB-4A89-A618-EFD350CF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B8638E2-05B3-4D7E-9572-0FB59240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641E0DB-5C5F-45CB-B67E-79BB1A0F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F2902E4-C478-4F7F-8B9B-15B460C0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E24-A968-4AFE-AA31-87F86F8B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41AAA-AF6E-4583-91AD-0507E4A4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7E99F8B-2DCE-4D9C-8B33-B75B0F83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8C012318-C843-4B77-92E5-C5E3759F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8274637-784F-4443-8E1D-9B417696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2A2441CD-13E2-4F24-B78E-522C412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863F3E9-7987-4C02-9AF6-7283B334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30BBD87-421A-40B3-A467-BA1905C0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60ED978-486F-4259-A403-FF372C2F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EA591DE-BD05-4C8D-8758-56655424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166B8AC-E27F-473D-9EC6-9FDFBF85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75148F2-9FDC-4759-9B70-7E51101E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17653-4B19-4AEB-9954-76D2EEC9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4BFC9D5-3169-4E27-99ED-05411A77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3E6C0AE-CBC7-48FB-9391-8C260C10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8712C99-41A4-4259-BD87-6F495272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118FA99-AF91-440C-BBFC-8EFE9D27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196ABDB-A103-4926-9A62-8F182424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9CA7C12-2D4D-4BE1-93F9-5E596C00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07F817F-FE9C-4465-AEB5-6BD10900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9746D8B-F681-49BB-B50A-00565FAE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29C628C-D88A-48C0-8218-6A163845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C0BED78-9E77-494A-8CB7-1384FE2E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DC5EB-949E-4DEB-B77C-D5F8C98C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AA49954-E755-4298-8FDD-84EF89F20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B4B7CA5-D913-4B0C-98FC-3546A745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07BD634-0DE9-46F6-8FE2-CB3EB139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012B39E-8BBA-43E6-88F3-ED4C2D7C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5B590CD-EB25-4422-83CB-DC259D8D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85B4627-5BFD-4497-B0F1-0189824A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EF28620-57EC-4DA3-BC98-A6E3BE78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899533A-EE07-472A-9E31-75587436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8BB205E0-93A6-4E0B-9A5A-0723EDBE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EA8C3E7-5D1C-4DB1-B378-B033D17A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77CFB-DB50-4B2E-A542-0DA4C116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59F11D7-A5BC-40CD-8EE7-0FD12AE5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10AABB1-4CC1-4041-B9EC-6F3F2DE7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3E8DA06-450A-44C8-B13D-72BBFCA3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0505D-A4C8-4422-B031-683FF8BA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FEFD0-F9C8-4D6A-AF68-1E5B11EB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4754-C9E6-450A-B1A8-18C9AFD9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47EA6-89B0-474E-8654-66E8388D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8B5B3-46B7-4F9B-8A91-4735947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94DC2-81F5-4E97-A2AE-295B00EA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D33-5492-4379-BE52-A3DEF0D6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2EB0E-AA9C-4E31-B8B8-05838FC0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110F7-AC84-4BD4-B700-1D5A3DD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8C0F5-378F-4AE0-BA2C-7F61EF78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42304-3858-41B3-84A2-69DCF1E0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0F023-8222-4898-B1BC-A31340B4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1DF17-D280-4CD2-9787-ADDCC189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5041-5F50-4442-8B67-652E8857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EC38A-3C5A-4E07-8601-05F6A599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C3568-5524-4920-8F68-9113EF22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0F7F6-9453-41A1-A157-85B88985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546-F28C-408E-9F82-A5E344E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6F4D6-052B-45A0-AD99-8688312F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D7302-19A7-47C9-872B-AED3232E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971D7-FCD6-43B5-9DEA-6A581C58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8A14C-B185-4997-9024-30C5713A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1D34A-8C83-4E25-A8A1-E0E29A77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5E6BC-BF4E-4C71-A278-A6B475CF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B31B3-3236-42F0-B5F8-10E4A51E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FDD72-C218-4D9D-BE60-C976D5DC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3283B-5B86-41FB-BFD1-E120AFAB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F0F78-586F-44F2-BF36-D6D0C66F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9C47-15F7-4CEE-9EBF-C78F9B88B73F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B2BE-85F5-447E-AA7A-DC8B1963773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34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437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438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441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D22F-4540-403A-931A-7C10F5813474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9A35-3084-49D9-A38F-0E254CBC11A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486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48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D5D9-C2FE-4FA1-B6E9-E34F94A089D3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A95E-225C-4E60-A4A6-36A2BA8B242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538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0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41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542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545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35D2-E717-4E01-8C39-047A116CA5D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2710-93ED-428A-8DF0-B189AF01E18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590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593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FF45-024F-4758-91A6-8A051373A859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065D-78F1-4642-9061-E41136029AF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64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64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4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64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FE75-3F9B-43C8-9A05-866C42A42582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FBEF-E1A6-43B7-A0EF-C6BB5CC8F97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694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6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697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698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701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F0D3-BA75-4202-B8CF-BBBA7F952716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B062-E466-4401-B17C-91E509C25FA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5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746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74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75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75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5436-2D6B-4424-9169-7190B1E8668D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087F-462C-431B-9646-B2F8FA4851B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00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6BE5-4493-488F-ACC7-D8CC2A1782D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5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B143-FE76-49EE-9018-8B846B1338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6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47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5BA2-A618-4653-8EEC-639E788073A9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5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6F3-0401-4C1C-A188-C24674F427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3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894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D8A-50F1-4A7D-BE99-ABBAF6E67E29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5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44AA-A95D-4ECD-871A-4199ABB2544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5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D76C-ACB0-466A-B967-681A93D1E98B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7B7F-F22E-4A0D-A21F-9474FD24F2A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0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41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44E6-1FA9-4453-AA57-0A2E125FD5EA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7181-54C2-44DC-A354-AEC1DC1602A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7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988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200-FE90-4581-9B6D-4385888BD0AB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B9F-6BDB-46C8-B333-90105B14C9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35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3453-25E7-4D2B-B402-4BCBBB777366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6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B181-5DBB-4B23-BD5A-13448462EC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082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752E-09D5-4090-9298-F7CE08D60449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0772-C3DC-430F-8186-55CCA5F056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8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29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2EE5-67A7-40AE-A195-DB831BD8E63A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6B64-37E8-4FB4-95BB-3E373996CFA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5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176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D747-D6A1-4C89-BB90-BF7ED1169495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209B-F822-454D-B776-6E53CF931B7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2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223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C661-7C96-4142-9DE7-96B239F3E5DA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7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B087-E7AD-4E82-94FA-C35265DEFB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25816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Freeform 15"/>
          <p:cNvSpPr/>
          <p:nvPr/>
        </p:nvSpPr>
        <p:spPr>
          <a:xfrm flipV="1">
            <a:off x="-6120" y="5815440"/>
            <a:ext cx="915984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9" name="Freeform 16"/>
          <p:cNvGrpSpPr/>
          <p:nvPr/>
        </p:nvGrpSpPr>
        <p:grpSpPr>
          <a:xfrm>
            <a:off x="4376880" y="6241680"/>
            <a:ext cx="4773600" cy="622440"/>
            <a:chOff x="4376880" y="6241680"/>
            <a:chExt cx="4773600" cy="622440"/>
          </a:xfrm>
        </p:grpSpPr>
        <p:pic>
          <p:nvPicPr>
            <p:cNvPr id="1270" name="Freeform 16" descr=""/>
            <p:cNvPicPr/>
            <p:nvPr/>
          </p:nvPicPr>
          <p:blipFill>
            <a:blip r:embed="rId3"/>
            <a:stretch/>
          </p:blipFill>
          <p:spPr>
            <a:xfrm>
              <a:off x="4376880" y="6263280"/>
              <a:ext cx="4773600" cy="6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 rot="10800000">
              <a:off x="4381200" y="6241680"/>
              <a:ext cx="4762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21F4-6826-477B-A224-9FF94CD1D087}" type="datetime5">
              <a:rPr b="0" lang="en-US" sz="1200" spc="-1" strike="noStrike">
                <a:solidFill>
                  <a:srgbClr val="045c75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8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8715-6FAA-46BE-BB53-4D0A7330E54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C268-B745-45C3-8BE0-60EC525DA4D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364E-4AEB-4F35-8863-37CABEEC0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D2C0-2141-480B-9DE9-03F2ED705CB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F6D-128E-4C8C-9797-17B81A2D3A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570C-ED30-4A13-8E6F-41B50FD7B4EC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5A5A-8075-4E78-BFCB-8BC0F28DB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6135-215A-4F0C-BDC2-EE271A54E73D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91F6-0BBC-4B66-87C2-80F77D8EAA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7815-8236-4BE7-81FF-B80A5876F3F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08F0-4DC4-4C48-A817-CA6BBD7CB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5CB1-96C8-4E83-AB53-C5CE88F1BD6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3E91-63D5-4BA5-B8E9-587C1BC9F9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3DF1-4681-425F-A7A7-7ED2DC09D649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B0DB-2A1A-458B-9ED2-73A6076A6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F9ED-4B75-4640-BA39-008C56D40B7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2889-9155-449E-A16E-5823BA22E5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82F6-18CB-41A4-B6C8-79EF1C382E3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A3B6-284B-474B-B2B2-7A21A2BF1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B520-8D9F-4975-8A16-80670CD5A92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B84A-7059-46A9-8D21-7BF892DE55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1FB2-C0EC-4EA7-9E7F-AACC2E4DF5E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D661-28CD-44EF-B0D4-34E0612BFE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8834-02AB-44EA-9CCB-DB5053FC234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B461-6FF0-4193-8F02-E620E7DB85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FCA5-DE2C-4B26-B9A3-287098002DEF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64DE-CCC2-4621-9C8B-38D4496897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7378-C3BD-49C7-9EE3-F0268992ED9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51B0-56BB-411C-B09D-342D49BF21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D7DD-8D22-45A5-B1CD-13278E560D2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A0B7-8A0A-4B4F-B140-8C44DC9BF8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4B30-2CD5-40C8-8C97-F35C12747DB3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890E-FFA1-4999-BB90-FCA7D1FE8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3918-7103-41D4-ADA0-AAF9BA06977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E01C-04DC-4EF0-9BB3-47CE50FE92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1327-96DF-40DB-B3C9-4990F95949E7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854B-BED9-496D-A929-D94E4F93B7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79B8-668F-45C6-B257-4347707FFF6E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1998-2BA0-4A1A-A044-D75A74ED0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CC5F-9B6B-4CF7-9E44-1FAE73C4053A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2978-E614-47FE-A0E4-29FBD3A9A4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AF11-A311-4DFD-89F2-E45DB241E114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29F4-5F0D-4D2E-8D8C-B37ABF2688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8E9A-6AD4-4B29-8A6D-EF7E3672B9B5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40A9-6E3C-4169-9B4D-363A471B7D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41F6-840F-4E3C-9A7A-FBCA3F81D8B8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6318-3426-4089-9490-1A7B805D5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7E17-9382-456D-A3AA-6A024AD8853B}" type="datetime5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FEAA-2922-4D8B-B6B5-824D7694B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010B-5176-46F6-8DAD-EAF692D91638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14C9-514D-4698-9373-0BD947D727C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dt" idx="14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FA88-322E-4CD5-A0B7-5AE6EB8EC086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 type="sldNum" idx="14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EDB4-24C7-4E1E-8544-D9BE43CE6BC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 type="ftr" idx="1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 type="dt" idx="15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465F-2FC5-4E15-B3B2-5C48F4644CDF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 type="ftr" idx="15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 type="sldNum" idx="15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4711-D0B2-43BF-AC68-73CF1D94594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5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634A-849A-464D-87C1-6BEB47B50F4D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ftr" idx="15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 type="sldNum" idx="15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A3DE-B213-420D-9DBE-FAB08208996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 type="dt" idx="15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0FCA-AEA5-4D2D-BF28-7DF3B5528FEF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 type="ftr" idx="15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PlaceHolder 5"/>
          <p:cNvSpPr>
            <a:spLocks noGrp="1"/>
          </p:cNvSpPr>
          <p:nvPr>
            <p:ph type="sldNum" idx="15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5FB2-A0AE-430D-8EE5-42791973C00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dt" idx="16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220F-8338-4F3C-9804-ADC2532C40F1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ftr" idx="16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PlaceHolder 5"/>
          <p:cNvSpPr>
            <a:spLocks noGrp="1"/>
          </p:cNvSpPr>
          <p:nvPr>
            <p:ph type="sldNum" idx="16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BDA7-B001-45F9-A86A-B7FA9714525C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 type="dt" idx="16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4EAA-42C9-4C13-BE48-06FE13D8C765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 type="ftr" idx="16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 type="sldNum" idx="16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8A14-4267-41DA-9C84-2898FDB7741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 type="dt" idx="16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A613-7D89-4747-BFD8-193C8A91FD58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 type="ftr" idx="16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5"/>
          <p:cNvSpPr>
            <a:spLocks noGrp="1"/>
          </p:cNvSpPr>
          <p:nvPr>
            <p:ph type="sldNum" idx="16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B9AA-E647-4BB8-9065-44D7458EC1D0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 type="dt" idx="16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BE5B-B562-4CF6-904A-30076ED73E56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 type="ftr" idx="17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 type="sldNum" idx="17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597-D2A5-4AFD-954D-FBA87B4D0696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 type="dt" idx="17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F372-5B5C-4445-94CF-184868E00103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 type="ftr" idx="17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5"/>
          <p:cNvSpPr>
            <a:spLocks noGrp="1"/>
          </p:cNvSpPr>
          <p:nvPr>
            <p:ph type="sldNum" idx="17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E1F0-7323-42DC-9892-4B6262C861F7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 type="dt" idx="17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4252-7132-4BEC-AE3B-7D5ABA7E789B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 type="ftr" idx="17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PlaceHolder 5"/>
          <p:cNvSpPr>
            <a:spLocks noGrp="1"/>
          </p:cNvSpPr>
          <p:nvPr>
            <p:ph type="sldNum" idx="17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8F39-F333-4C3D-B72B-545CA482D6FA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26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229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23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2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23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C3F2-F943-4EBE-AF88-C5BDA264F39E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1C11-50D4-4243-8CA1-5DDD3691A55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 type="dt" idx="17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88D1-EED1-4855-816C-F8DE75849385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 type="ftr" idx="17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PlaceHolder 5"/>
          <p:cNvSpPr>
            <a:spLocks noGrp="1"/>
          </p:cNvSpPr>
          <p:nvPr>
            <p:ph type="sldNum" idx="18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3EAF-A586-409C-8991-B3CEC5BB8A99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 type="dt" idx="18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82BF-0B3F-48D6-931D-76AE3DB4EC9D}" type="datetime5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 type="ftr" idx="18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5"/>
          <p:cNvSpPr>
            <a:spLocks noGrp="1"/>
          </p:cNvSpPr>
          <p:nvPr>
            <p:ph type="sldNum" idx="18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BEFD-401B-41D6-A384-F2CC448E810B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278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281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282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285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E36A-5CF4-4F2C-9C61-37E2CA4420DD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411-142A-4B7A-88A1-9CC2215B3C1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30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333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334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337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4F75-BD44-47E6-8978-4A9D8C6E3227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2C96-9E82-4AB1-8ED6-B125885CF5C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6"/>
          <p:cNvSpPr/>
          <p:nvPr/>
        </p:nvSpPr>
        <p:spPr>
          <a:xfrm>
            <a:off x="-6480" y="-4680"/>
            <a:ext cx="9159840" cy="10382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Freeform 7"/>
          <p:cNvGrpSpPr/>
          <p:nvPr/>
        </p:nvGrpSpPr>
        <p:grpSpPr>
          <a:xfrm>
            <a:off x="4376880" y="-12600"/>
            <a:ext cx="4773600" cy="615960"/>
            <a:chOff x="4376880" y="-12600"/>
            <a:chExt cx="4773600" cy="615960"/>
          </a:xfrm>
        </p:grpSpPr>
        <p:pic>
          <p:nvPicPr>
            <p:cNvPr id="382" name="Freeform 7" descr=""/>
            <p:cNvPicPr/>
            <p:nvPr/>
          </p:nvPicPr>
          <p:blipFill>
            <a:blip r:embed="rId3"/>
            <a:stretch/>
          </p:blipFill>
          <p:spPr>
            <a:xfrm>
              <a:off x="4376880" y="-12600"/>
              <a:ext cx="4773600" cy="59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4381560" y="-4680"/>
              <a:ext cx="476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Group 4"/>
          <p:cNvGrpSpPr/>
          <p:nvPr/>
        </p:nvGrpSpPr>
        <p:grpSpPr>
          <a:xfrm>
            <a:off x="-15840" y="203040"/>
            <a:ext cx="9177480" cy="648000"/>
            <a:chOff x="-15840" y="203040"/>
            <a:chExt cx="9177480" cy="648000"/>
          </a:xfrm>
        </p:grpSpPr>
        <p:grpSp>
          <p:nvGrpSpPr>
            <p:cNvPr id="385" name="Group 5"/>
            <p:cNvGrpSpPr/>
            <p:nvPr/>
          </p:nvGrpSpPr>
          <p:grpSpPr>
            <a:xfrm>
              <a:off x="-15840" y="203040"/>
              <a:ext cx="9153360" cy="648000"/>
              <a:chOff x="-15840" y="203040"/>
              <a:chExt cx="915336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7920" y="203040"/>
                <a:ext cx="9129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Text Box 7"/>
              <p:cNvSpPr/>
              <p:nvPr/>
            </p:nvSpPr>
            <p:spPr>
              <a:xfrm rot="21435600">
                <a:off x="-154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8"/>
            <p:cNvGrpSpPr/>
            <p:nvPr/>
          </p:nvGrpSpPr>
          <p:grpSpPr>
            <a:xfrm>
              <a:off x="-15840" y="248040"/>
              <a:ext cx="9177480" cy="561600"/>
              <a:chOff x="-15840" y="248040"/>
              <a:chExt cx="91774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248040"/>
                <a:ext cx="91616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Text Box 10"/>
              <p:cNvSpPr/>
              <p:nvPr/>
            </p:nvSpPr>
            <p:spPr>
              <a:xfrm rot="21435600">
                <a:off x="-154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CC45-1834-40FE-904F-B0176605595A}" type="datetime5">
              <a:rPr b="0" lang="en-US" sz="1200" spc="-1" strike="noStrike">
                <a:solidFill>
                  <a:srgbClr val="d1eaee"/>
                </a:solidFill>
                <a:latin typeface="Constantia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3352-7376-4938-99F2-A3E7046DC2A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29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5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5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5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3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529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4.wmf"/><Relationship Id="rId8" Type="http://schemas.openxmlformats.org/officeDocument/2006/relationships/slideLayout" Target="../slideLayouts/slideLayout3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5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89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5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5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5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1" name="Picture 4" descr="logo.gif"/>
          <p:cNvPicPr/>
          <p:nvPr/>
        </p:nvPicPr>
        <p:blipFill>
          <a:blip r:embed="rId1"/>
          <a:stretch/>
        </p:blipFill>
        <p:spPr>
          <a:xfrm>
            <a:off x="6629400" y="228600"/>
            <a:ext cx="2413080" cy="695160"/>
          </a:xfrm>
          <a:prstGeom prst="rect">
            <a:avLst/>
          </a:prstGeom>
          <a:ln w="0">
            <a:noFill/>
          </a:ln>
        </p:spPr>
      </p:pic>
      <p:sp>
        <p:nvSpPr>
          <p:cNvPr id="2742" name="Straight Connector 5"/>
          <p:cNvSpPr/>
          <p:nvPr/>
        </p:nvSpPr>
        <p:spPr>
          <a:xfrm>
            <a:off x="1752480" y="1066680"/>
            <a:ext cx="5334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3" name="Picture 6" descr="ksulogo3.png"/>
          <p:cNvPicPr/>
          <p:nvPr/>
        </p:nvPicPr>
        <p:blipFill>
          <a:blip r:embed="rId2"/>
          <a:stretch/>
        </p:blipFill>
        <p:spPr>
          <a:xfrm>
            <a:off x="304920" y="295200"/>
            <a:ext cx="1752480" cy="655560"/>
          </a:xfrm>
          <a:prstGeom prst="rect">
            <a:avLst/>
          </a:prstGeom>
          <a:ln w="0">
            <a:noFill/>
          </a:ln>
        </p:spPr>
      </p:pic>
      <p:sp>
        <p:nvSpPr>
          <p:cNvPr id="2744" name="Rectangle 7"/>
          <p:cNvSpPr/>
          <p:nvPr/>
        </p:nvSpPr>
        <p:spPr>
          <a:xfrm>
            <a:off x="3593160" y="495288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1435-14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mbria Math"/>
              </a:rPr>
              <a:t>2014-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5" name="Picture 8" descr="Acetic-acid-3D-balls-B.png"/>
          <p:cNvPicPr/>
          <p:nvPr/>
        </p:nvPicPr>
        <p:blipFill>
          <a:blip r:embed="rId3"/>
          <a:stretch/>
        </p:blipFill>
        <p:spPr>
          <a:xfrm>
            <a:off x="2514600" y="2362320"/>
            <a:ext cx="3581280" cy="2662200"/>
          </a:xfrm>
          <a:prstGeom prst="rect">
            <a:avLst/>
          </a:prstGeom>
          <a:ln w="0">
            <a:noFill/>
          </a:ln>
        </p:spPr>
      </p:pic>
      <p:sp>
        <p:nvSpPr>
          <p:cNvPr id="2746" name="Rectangle 2"/>
          <p:cNvSpPr/>
          <p:nvPr/>
        </p:nvSpPr>
        <p:spPr>
          <a:xfrm>
            <a:off x="1066680" y="17524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232-263B-47FB-BEF3-6CAB1F482E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5" name="Picture 4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36" name="Picture 5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37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8" name="Rectangle 2"/>
          <p:cNvSpPr/>
          <p:nvPr/>
        </p:nvSpPr>
        <p:spPr>
          <a:xfrm>
            <a:off x="-17640" y="1295280"/>
            <a:ext cx="89316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Solu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polar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can form hydrogen bonds with water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irst four aliphatic acids are completely miscible in water. Higher members are less solu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omatic acids are insoluble in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9" name="Object 13"/>
          <p:cNvGraphicFramePr/>
          <p:nvPr/>
        </p:nvGraphicFramePr>
        <p:xfrm>
          <a:off x="2286000" y="2286000"/>
          <a:ext cx="292572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292572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ACC0-0E80-4BDA-88C1-FBA7CE047E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"/>
          <p:cNvSpPr txBox="1"/>
          <p:nvPr/>
        </p:nvSpPr>
        <p:spPr>
          <a:xfrm>
            <a:off x="0" y="990360"/>
            <a:ext cx="91440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3) Acid Str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boxylic acids are stronger aci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ed to alcohols and phen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 withdrawing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e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arboxyl group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a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lectron  donat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ent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idity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3" name="Rectangle 8"/>
          <p:cNvSpPr/>
          <p:nvPr/>
        </p:nvSpPr>
        <p:spPr>
          <a:xfrm>
            <a:off x="125280" y="4229280"/>
            <a:ext cx="88394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66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H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size of R grou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l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&gt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OO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 number of e.w.g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4" name="Object 15"/>
          <p:cNvGraphicFramePr/>
          <p:nvPr/>
        </p:nvGraphicFramePr>
        <p:xfrm>
          <a:off x="284040" y="5181480"/>
          <a:ext cx="815364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5181480"/>
                    <a:ext cx="81536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6" name="Picture 11" descr="C:\Users\hp\Pictures\صورة5.png"/>
          <p:cNvPicPr/>
          <p:nvPr/>
        </p:nvPicPr>
        <p:blipFill>
          <a:blip r:embed="rId3"/>
          <a:srcRect l="0" t="0" r="0" b="12958"/>
          <a:stretch/>
        </p:blipFill>
        <p:spPr>
          <a:xfrm>
            <a:off x="2057400" y="2608200"/>
            <a:ext cx="3790800" cy="1506600"/>
          </a:xfrm>
          <a:prstGeom prst="rect">
            <a:avLst/>
          </a:prstGeom>
          <a:ln w="0">
            <a:noFill/>
          </a:ln>
        </p:spPr>
      </p:pic>
      <p:sp>
        <p:nvSpPr>
          <p:cNvPr id="284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8" name="Picture 8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49" name="Picture 9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50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24F-0CBA-4968-9596-D22978048BB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"/>
          <p:cNvSpPr txBox="1"/>
          <p:nvPr/>
        </p:nvSpPr>
        <p:spPr>
          <a:xfrm>
            <a:off x="0" y="141120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Oxidation Of Primary Alcohols or aldehy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Oxidation Of Alkyl Benze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3" name="Object 24"/>
          <p:cNvGraphicFramePr/>
          <p:nvPr/>
        </p:nvGraphicFramePr>
        <p:xfrm>
          <a:off x="685800" y="4343400"/>
          <a:ext cx="601992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4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60199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5" name="Rectangle 13"/>
          <p:cNvSpPr/>
          <p:nvPr/>
        </p:nvSpPr>
        <p:spPr>
          <a:xfrm>
            <a:off x="170280" y="990720"/>
            <a:ext cx="442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Preparation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6" name="Object 25"/>
          <p:cNvGraphicFramePr/>
          <p:nvPr/>
        </p:nvGraphicFramePr>
        <p:xfrm>
          <a:off x="1219320" y="1981080"/>
          <a:ext cx="3657600" cy="83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981080"/>
                    <a:ext cx="365760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8" name="Object 26"/>
          <p:cNvGraphicFramePr/>
          <p:nvPr/>
        </p:nvGraphicFramePr>
        <p:xfrm>
          <a:off x="1219320" y="2895480"/>
          <a:ext cx="3809880" cy="7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9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380988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1" name="Picture 7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62" name="Picture 8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63" name="Straight Connector 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1720-0EE9-4BB8-82E5-B982BB6E86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"/>
          <p:cNvSpPr txBox="1"/>
          <p:nvPr/>
        </p:nvSpPr>
        <p:spPr>
          <a:xfrm>
            <a:off x="213840" y="1046160"/>
            <a:ext cx="847260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- Carboxylation Of Grignard Re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4- Hydrolysis Of Nitr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66" name="Object 15"/>
          <p:cNvGraphicFramePr/>
          <p:nvPr/>
        </p:nvGraphicFramePr>
        <p:xfrm>
          <a:off x="685800" y="4343400"/>
          <a:ext cx="72388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7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7238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68" name="Picture 13" descr="C:\Users\hp\Pictures\صورة11.png"/>
          <p:cNvPicPr/>
          <p:nvPr/>
        </p:nvPicPr>
        <p:blipFill>
          <a:blip r:embed="rId3"/>
          <a:stretch/>
        </p:blipFill>
        <p:spPr>
          <a:xfrm>
            <a:off x="838080" y="1676520"/>
            <a:ext cx="7162920" cy="1863720"/>
          </a:xfrm>
          <a:prstGeom prst="rect">
            <a:avLst/>
          </a:prstGeom>
          <a:ln w="0">
            <a:noFill/>
          </a:ln>
        </p:spPr>
      </p:pic>
      <p:sp>
        <p:nvSpPr>
          <p:cNvPr id="2869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0" name="Picture 5" descr="ksulogo2.png"/>
          <p:cNvPicPr/>
          <p:nvPr/>
        </p:nvPicPr>
        <p:blipFill>
          <a:blip r:embed="rId4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71" name="Picture 6" descr="images.jpeg"/>
          <p:cNvPicPr/>
          <p:nvPr/>
        </p:nvPicPr>
        <p:blipFill>
          <a:blip r:embed="rId5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72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3E60-B330-4607-B27C-9A89B01003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TextBox 2"/>
          <p:cNvSpPr/>
          <p:nvPr/>
        </p:nvSpPr>
        <p:spPr>
          <a:xfrm>
            <a:off x="4294080" y="4952880"/>
            <a:ext cx="1121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) K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) 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Reactions Of Carboxyl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"/>
          <p:cNvSpPr txBox="1"/>
          <p:nvPr/>
        </p:nvSpPr>
        <p:spPr>
          <a:xfrm>
            <a:off x="0" y="1564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- Salts Form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77" name="Object 19"/>
          <p:cNvGraphicFramePr/>
          <p:nvPr/>
        </p:nvGraphicFramePr>
        <p:xfrm>
          <a:off x="609480" y="2057400"/>
          <a:ext cx="670572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70572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9" name="Object 20"/>
          <p:cNvGraphicFramePr/>
          <p:nvPr/>
        </p:nvGraphicFramePr>
        <p:xfrm>
          <a:off x="1905120" y="4648320"/>
          <a:ext cx="452736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648320"/>
                    <a:ext cx="45273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1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2" name="Picture 6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83" name="Picture 7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84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BBEB-0BC3-4804-9913-DB04C35046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Rectangle 4"/>
          <p:cNvSpPr/>
          <p:nvPr/>
        </p:nvSpPr>
        <p:spPr>
          <a:xfrm>
            <a:off x="22680" y="1000080"/>
            <a:ext cx="64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- Nucleophilic Substitution Of Hydroxyl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7" name="Picture 6" descr="C:\Users\hp\Pictures\صورة16.png"/>
          <p:cNvPicPr/>
          <p:nvPr/>
        </p:nvPicPr>
        <p:blipFill>
          <a:blip r:embed="rId1"/>
          <a:srcRect l="0" t="0" r="0" b="38919"/>
          <a:stretch/>
        </p:blipFill>
        <p:spPr>
          <a:xfrm>
            <a:off x="627120" y="3124080"/>
            <a:ext cx="7616880" cy="3299040"/>
          </a:xfrm>
          <a:prstGeom prst="rect">
            <a:avLst/>
          </a:prstGeom>
          <a:ln w="0">
            <a:noFill/>
          </a:ln>
        </p:spPr>
      </p:pic>
      <p:sp>
        <p:nvSpPr>
          <p:cNvPr id="288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9" name="Picture 4" descr="ksulogo2.png"/>
          <p:cNvPicPr/>
          <p:nvPr/>
        </p:nvPicPr>
        <p:blipFill>
          <a:blip r:embed="rId2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90" name="Picture 5" descr="images.jpeg"/>
          <p:cNvPicPr/>
          <p:nvPr/>
        </p:nvPicPr>
        <p:blipFill>
          <a:blip r:embed="rId3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91" name="Straight Connector 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412F-FA33-4624-A9EA-BC2B2CEF22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3" name="Object 14"/>
          <p:cNvGraphicFramePr/>
          <p:nvPr/>
        </p:nvGraphicFramePr>
        <p:xfrm>
          <a:off x="2057400" y="1981080"/>
          <a:ext cx="498492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7400" y="1981080"/>
                    <a:ext cx="4984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76320" y="990360"/>
            <a:ext cx="3504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rboxylic Acid Deriva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Rectangle 5"/>
          <p:cNvSpPr/>
          <p:nvPr/>
        </p:nvSpPr>
        <p:spPr>
          <a:xfrm>
            <a:off x="152280" y="27241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cid Chloride            Ester                             Amide                    Acid anhydr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8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99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00" name="Straight Connector 11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1" name="Picture 3" descr="03032009221955fEZBYRxvZV.png"/>
          <p:cNvPicPr/>
          <p:nvPr/>
        </p:nvPicPr>
        <p:blipFill>
          <a:blip r:embed="rId3"/>
          <a:stretch/>
        </p:blipFill>
        <p:spPr>
          <a:xfrm>
            <a:off x="380880" y="1676520"/>
            <a:ext cx="1219320" cy="1093680"/>
          </a:xfrm>
          <a:prstGeom prst="rect">
            <a:avLst/>
          </a:prstGeom>
          <a:ln w="0">
            <a:noFill/>
          </a:ln>
        </p:spPr>
      </p:pic>
      <p:pic>
        <p:nvPicPr>
          <p:cNvPr id="2902" name="Picture 4" descr="anhydride_group.png"/>
          <p:cNvPicPr/>
          <p:nvPr/>
        </p:nvPicPr>
        <p:blipFill>
          <a:blip r:embed="rId4"/>
          <a:stretch/>
        </p:blipFill>
        <p:spPr>
          <a:xfrm>
            <a:off x="6705720" y="165096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2903" name="Picture 5" descr="amide_group.png"/>
          <p:cNvPicPr/>
          <p:nvPr/>
        </p:nvPicPr>
        <p:blipFill>
          <a:blip r:embed="rId5"/>
          <a:stretch/>
        </p:blipFill>
        <p:spPr>
          <a:xfrm>
            <a:off x="4572000" y="1295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2904" name="Picture 6" descr="ester_group.png"/>
          <p:cNvPicPr/>
          <p:nvPr/>
        </p:nvPicPr>
        <p:blipFill>
          <a:blip r:embed="rId6"/>
          <a:stretch/>
        </p:blipFill>
        <p:spPr>
          <a:xfrm>
            <a:off x="2057400" y="1616040"/>
            <a:ext cx="1600200" cy="1279440"/>
          </a:xfrm>
          <a:prstGeom prst="rect">
            <a:avLst/>
          </a:prstGeom>
          <a:ln w="0">
            <a:noFill/>
          </a:ln>
        </p:spPr>
      </p:pic>
      <p:sp>
        <p:nvSpPr>
          <p:cNvPr id="290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28CF-57B7-41CB-8580-2C57D18679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TextBox 2"/>
          <p:cNvSpPr/>
          <p:nvPr/>
        </p:nvSpPr>
        <p:spPr>
          <a:xfrm>
            <a:off x="419040" y="3751200"/>
            <a:ext cx="81154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rivatives of carboxylic acids are compounds in which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H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carboxylic acid is replaced by nucleopile (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cid  halide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ster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NH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-NHR, -NR</a:t>
            </a:r>
            <a:r>
              <a:rPr b="0" lang="en-U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amids,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OOC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nhydrid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derivatives can converted to carboxylic acids by simple acidic or basic hydrolysi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28CC-B29E-4D57-8D31-1C47467842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9" name="Picture 9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10" name="Picture 10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11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Rectangle 6"/>
          <p:cNvSpPr/>
          <p:nvPr/>
        </p:nvSpPr>
        <p:spPr>
          <a:xfrm>
            <a:off x="0" y="129528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1-Nomenclature Of Acid Chlori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ic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ing in the name of the parent acid by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yl chlor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Rectangle 7"/>
          <p:cNvSpPr/>
          <p:nvPr/>
        </p:nvSpPr>
        <p:spPr>
          <a:xfrm>
            <a:off x="95400" y="4343400"/>
            <a:ext cx="88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UPAC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thanoyl chloride           Benzoylchloride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Propanoyl chlor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mmon :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cetyl chloride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4" name="Object 19"/>
          <p:cNvGraphicFramePr/>
          <p:nvPr/>
        </p:nvGraphicFramePr>
        <p:xfrm>
          <a:off x="838080" y="2971800"/>
          <a:ext cx="449604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971800"/>
                    <a:ext cx="449604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6" name="Object 20"/>
          <p:cNvGraphicFramePr/>
          <p:nvPr/>
        </p:nvGraphicFramePr>
        <p:xfrm>
          <a:off x="6324480" y="3116160"/>
          <a:ext cx="2514600" cy="10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7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116160"/>
                    <a:ext cx="25146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/>
          </p:nvPr>
        </p:nvSpPr>
        <p:spPr>
          <a:xfrm>
            <a:off x="26640" y="990360"/>
            <a:ext cx="9117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2- Nomenclature of es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kyl group (R’) is written  first followed by the name of the parent acid with replacing of the ending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ic acid by </a:t>
            </a:r>
            <a:r>
              <a:rPr b="1" lang="en-US" sz="2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–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     Ethyl ethanoate                                   Methyl benzo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   Ethyl ace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9" name="Footer Placeholder 1"/>
          <p:cNvSpPr/>
          <p:nvPr/>
        </p:nvSpPr>
        <p:spPr>
          <a:xfrm>
            <a:off x="0" y="64785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7342-D97D-4E5D-9620-C1B228388507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1" name="Object 23"/>
          <p:cNvGraphicFramePr/>
          <p:nvPr/>
        </p:nvGraphicFramePr>
        <p:xfrm>
          <a:off x="1219320" y="5035680"/>
          <a:ext cx="241596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2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035680"/>
                    <a:ext cx="24159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3" name="Object 24"/>
          <p:cNvGraphicFramePr/>
          <p:nvPr/>
        </p:nvGraphicFramePr>
        <p:xfrm>
          <a:off x="5014800" y="4654440"/>
          <a:ext cx="2764080" cy="13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4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4800" y="4654440"/>
                    <a:ext cx="276408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5" name="Rectangle 7"/>
          <p:cNvSpPr/>
          <p:nvPr/>
        </p:nvSpPr>
        <p:spPr>
          <a:xfrm>
            <a:off x="0" y="6178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Methyl propanoate                  Isopropyl-4-hydroxy-5-methyl-5- hexeno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7" name="Picture 11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28" name="Picture 12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29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0" name="Picture 1" descr="130px-Ester-general.svg.png"/>
          <p:cNvPicPr/>
          <p:nvPr/>
        </p:nvPicPr>
        <p:blipFill>
          <a:blip r:embed="rId7"/>
          <a:stretch/>
        </p:blipFill>
        <p:spPr>
          <a:xfrm>
            <a:off x="3581280" y="2133720"/>
            <a:ext cx="1219320" cy="785520"/>
          </a:xfrm>
          <a:prstGeom prst="rect">
            <a:avLst/>
          </a:prstGeom>
          <a:ln w="0">
            <a:noFill/>
          </a:ln>
        </p:spPr>
      </p:pic>
      <p:pic>
        <p:nvPicPr>
          <p:cNvPr id="2931" name="Picture 2" descr="02195046.png"/>
          <p:cNvPicPr/>
          <p:nvPr/>
        </p:nvPicPr>
        <p:blipFill>
          <a:blip r:embed="rId8"/>
          <a:stretch/>
        </p:blipFill>
        <p:spPr>
          <a:xfrm>
            <a:off x="1447920" y="2859120"/>
            <a:ext cx="2057400" cy="880920"/>
          </a:xfrm>
          <a:prstGeom prst="rect">
            <a:avLst/>
          </a:prstGeom>
          <a:ln w="0">
            <a:noFill/>
          </a:ln>
        </p:spPr>
      </p:pic>
      <p:pic>
        <p:nvPicPr>
          <p:cNvPr id="2932" name="Picture 3" descr="Methyl_benzoate.png"/>
          <p:cNvPicPr/>
          <p:nvPr/>
        </p:nvPicPr>
        <p:blipFill>
          <a:blip r:embed="rId9"/>
          <a:stretch/>
        </p:blipFill>
        <p:spPr>
          <a:xfrm>
            <a:off x="5562720" y="2752560"/>
            <a:ext cx="1743120" cy="113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/>
          </p:nvPr>
        </p:nvSpPr>
        <p:spPr>
          <a:xfrm>
            <a:off x="249120" y="944280"/>
            <a:ext cx="889488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3- Nomenclature of 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 the ending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ic acid of the parent acid’s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he word </a:t>
            </a:r>
            <a:r>
              <a:rPr b="0" lang="en-US" sz="2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i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up on the nitrogen atom, it is listed first and designated with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  Ethanamide        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Benzamid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Methylpropan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Acetamide                                                                </a:t>
            </a:r>
            <a:r>
              <a:rPr b="0" i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Methylpropion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UPAC)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,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Dimethylmethanamide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Ethyl-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methylbenz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  </a:t>
            </a:r>
            <a:r>
              <a:rPr b="1" i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,N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Dimethylformam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4" name="Footer Placeholder 1"/>
          <p:cNvSpPr/>
          <p:nvPr/>
        </p:nvSpPr>
        <p:spPr>
          <a:xfrm>
            <a:off x="76320" y="649296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4D13-5C9C-4FEB-BADD-2FA24B2516BB}" type="slidenum">
              <a:rPr b="0" lang="ar-S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6" name="Object 18"/>
          <p:cNvGraphicFramePr/>
          <p:nvPr/>
        </p:nvGraphicFramePr>
        <p:xfrm>
          <a:off x="6326280" y="2124000"/>
          <a:ext cx="236052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6280" y="2124000"/>
                    <a:ext cx="23605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9" name="Picture 8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40" name="Picture 9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41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2" name="Picture 1" descr="02191417.png"/>
          <p:cNvPicPr/>
          <p:nvPr/>
        </p:nvPicPr>
        <p:blipFill>
          <a:blip r:embed="rId5"/>
          <a:stretch/>
        </p:blipFill>
        <p:spPr>
          <a:xfrm>
            <a:off x="1752480" y="4191120"/>
            <a:ext cx="1463760" cy="1218960"/>
          </a:xfrm>
          <a:prstGeom prst="rect">
            <a:avLst/>
          </a:prstGeom>
          <a:ln w="0">
            <a:noFill/>
          </a:ln>
        </p:spPr>
      </p:pic>
      <p:pic>
        <p:nvPicPr>
          <p:cNvPr id="2943" name="Picture 3" descr="inchi.gif"/>
          <p:cNvPicPr/>
          <p:nvPr/>
        </p:nvPicPr>
        <p:blipFill>
          <a:blip r:embed="rId6"/>
          <a:stretch/>
        </p:blipFill>
        <p:spPr>
          <a:xfrm>
            <a:off x="5105520" y="3809880"/>
            <a:ext cx="2577960" cy="1600200"/>
          </a:xfrm>
          <a:prstGeom prst="rect">
            <a:avLst/>
          </a:prstGeom>
          <a:ln w="0">
            <a:noFill/>
          </a:ln>
        </p:spPr>
      </p:pic>
      <p:pic>
        <p:nvPicPr>
          <p:cNvPr id="2944" name="Picture 4" descr="100px-Acetamide_skeletal.svg.png"/>
          <p:cNvPicPr/>
          <p:nvPr/>
        </p:nvPicPr>
        <p:blipFill>
          <a:blip r:embed="rId7"/>
          <a:stretch/>
        </p:blipFill>
        <p:spPr>
          <a:xfrm>
            <a:off x="609480" y="2324160"/>
            <a:ext cx="1270080" cy="977760"/>
          </a:xfrm>
          <a:prstGeom prst="rect">
            <a:avLst/>
          </a:prstGeom>
          <a:ln w="0">
            <a:noFill/>
          </a:ln>
        </p:spPr>
      </p:pic>
      <p:pic>
        <p:nvPicPr>
          <p:cNvPr id="2945" name="Picture 5" descr="520px-Benzamide.svg.png"/>
          <p:cNvPicPr/>
          <p:nvPr/>
        </p:nvPicPr>
        <p:blipFill>
          <a:blip r:embed="rId8"/>
          <a:stretch/>
        </p:blipFill>
        <p:spPr>
          <a:xfrm>
            <a:off x="3733920" y="2171880"/>
            <a:ext cx="1571400" cy="1180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Rectangle 9"/>
          <p:cNvSpPr/>
          <p:nvPr/>
        </p:nvSpPr>
        <p:spPr>
          <a:xfrm>
            <a:off x="15840" y="11620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hapter nine introduces carboxylic acids and their derivatives. The chemistry is very similar to that of aldehydes and ketones because of the presence of the carbonyl group . The main topics in this chapter that the students should know and understand 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ruc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mmon and IUPAC nomencla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properties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actors affecting acidity of carboxylic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 different   ways to make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t formation reactions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ucleophilic  substitution reactions  at  the  carbonyl  carbon  and  the specific products formed in each ca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hemistry of carboxylic acid deriva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0" name="Picture 3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1" name="Picture 4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52" name="Straight Connector 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DB1F-BB95-4F2B-9787-329E4D645F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/>
          </p:nvPr>
        </p:nvSpPr>
        <p:spPr>
          <a:xfrm>
            <a:off x="34560" y="1142640"/>
            <a:ext cx="9109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4- Nomenclature of anhydr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nhydride is named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lacing the word acid  in the corresponding ac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word </a:t>
            </a:r>
            <a:r>
              <a:rPr b="0" lang="en-US" sz="24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anhydr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UPAC) Ethanoic anhydride 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enzoic anhydride</a:t>
            </a:r>
            <a:r>
              <a:rPr b="0" lang="ar-SA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andioic anhyd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Common) Acetic anhydride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	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1" lang="ar-SA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uccinic anhydr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7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9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50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51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2" name="Picture 1" descr="Acetic_anhydride-2D-skeletal.png"/>
          <p:cNvPicPr/>
          <p:nvPr/>
        </p:nvPicPr>
        <p:blipFill>
          <a:blip r:embed="rId3"/>
          <a:stretch/>
        </p:blipFill>
        <p:spPr>
          <a:xfrm>
            <a:off x="888840" y="2754360"/>
            <a:ext cx="1625760" cy="90324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3" descr="Benzoic_anhydride.svg.png"/>
          <p:cNvPicPr/>
          <p:nvPr/>
        </p:nvPicPr>
        <p:blipFill>
          <a:blip r:embed="rId4"/>
          <a:stretch/>
        </p:blipFill>
        <p:spPr>
          <a:xfrm>
            <a:off x="3581280" y="2590920"/>
            <a:ext cx="2189160" cy="1055520"/>
          </a:xfrm>
          <a:prstGeom prst="rect">
            <a:avLst/>
          </a:prstGeom>
          <a:ln w="0">
            <a:noFill/>
          </a:ln>
        </p:spPr>
      </p:pic>
      <p:pic>
        <p:nvPicPr>
          <p:cNvPr id="2954" name="Picture 4" descr="Succinic_anhydride-2D-Skeletal.png"/>
          <p:cNvPicPr/>
          <p:nvPr/>
        </p:nvPicPr>
        <p:blipFill>
          <a:blip r:embed="rId5"/>
          <a:stretch/>
        </p:blipFill>
        <p:spPr>
          <a:xfrm>
            <a:off x="6918480" y="2743200"/>
            <a:ext cx="1539720" cy="744480"/>
          </a:xfrm>
          <a:prstGeom prst="rect">
            <a:avLst/>
          </a:prstGeom>
          <a:ln w="0">
            <a:noFill/>
          </a:ln>
        </p:spPr>
      </p:pic>
      <p:sp>
        <p:nvSpPr>
          <p:cNvPr id="295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1208-BBF4-45C2-BA0F-2D50191FB0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6" name="Object 17"/>
          <p:cNvGraphicFramePr/>
          <p:nvPr/>
        </p:nvGraphicFramePr>
        <p:xfrm>
          <a:off x="2739960" y="4495680"/>
          <a:ext cx="4230720" cy="1860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57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39960" y="4495680"/>
                    <a:ext cx="4230720" cy="18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9" name="Object 13"/>
          <p:cNvGraphicFramePr/>
          <p:nvPr/>
        </p:nvGraphicFramePr>
        <p:xfrm>
          <a:off x="873000" y="1447920"/>
          <a:ext cx="6899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3000" y="1447920"/>
                    <a:ext cx="6899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1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2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63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64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C40-B16C-4705-A3D1-28994E99CF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مستطيل 7"/>
          <p:cNvSpPr/>
          <p:nvPr/>
        </p:nvSpPr>
        <p:spPr>
          <a:xfrm>
            <a:off x="215280" y="990720"/>
            <a:ext cx="56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Reaction of Derivatives of carboxylic ac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Footer Placeholder 1"/>
          <p:cNvSpPr/>
          <p:nvPr/>
        </p:nvSpPr>
        <p:spPr>
          <a:xfrm>
            <a:off x="17316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8" name="Object 16"/>
          <p:cNvGraphicFramePr/>
          <p:nvPr/>
        </p:nvGraphicFramePr>
        <p:xfrm>
          <a:off x="2209680" y="2057400"/>
          <a:ext cx="5486400" cy="42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548640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1" name="Picture 6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72" name="Picture 7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73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5859-9104-4B6A-8149-E8C81C3E640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75" name="Straight Arrow Connector 3"/>
          <p:cNvCxnSpPr/>
          <p:nvPr/>
        </p:nvCxnSpPr>
        <p:spPr>
          <a:xfrm>
            <a:off x="4800240" y="4390560"/>
            <a:ext cx="16009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76" name="TextBox 9"/>
          <p:cNvSpPr/>
          <p:nvPr/>
        </p:nvSpPr>
        <p:spPr>
          <a:xfrm>
            <a:off x="325440" y="1447920"/>
            <a:ext cx="82850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 hydrolysis (reaction with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) all carboxylic acid derivatves convert to carboxylic ac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-30600" y="1066680"/>
            <a:ext cx="21639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78" name="Object 29"/>
          <p:cNvGraphicFramePr/>
          <p:nvPr/>
        </p:nvGraphicFramePr>
        <p:xfrm>
          <a:off x="2133720" y="1712880"/>
          <a:ext cx="144756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9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712880"/>
                    <a:ext cx="144756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0" name="Object 30"/>
          <p:cNvGraphicFramePr/>
          <p:nvPr/>
        </p:nvGraphicFramePr>
        <p:xfrm>
          <a:off x="865080" y="2666880"/>
          <a:ext cx="6248520" cy="12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5080" y="2666880"/>
                    <a:ext cx="624852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2" name="Rectangle 5"/>
          <p:cNvSpPr/>
          <p:nvPr/>
        </p:nvSpPr>
        <p:spPr>
          <a:xfrm>
            <a:off x="34920" y="1917360"/>
            <a:ext cx="935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- Reaction of                           with CO</a:t>
            </a:r>
            <a:r>
              <a:rPr b="1" lang="en-US" sz="2000" spc="-1" strike="noStrike" baseline="-25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under heat and pressure giv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Footer Placeholder 1"/>
          <p:cNvSpPr/>
          <p:nvPr/>
        </p:nvSpPr>
        <p:spPr>
          <a:xfrm>
            <a:off x="34920" y="6472080"/>
            <a:ext cx="335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7" name="Rectangle 2"/>
          <p:cNvSpPr/>
          <p:nvPr/>
        </p:nvSpPr>
        <p:spPr>
          <a:xfrm>
            <a:off x="34920" y="4267080"/>
            <a:ext cx="70516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- Oxidation of C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H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H with KMnO</a:t>
            </a:r>
            <a:r>
              <a:rPr b="1" lang="en-US" sz="2000" spc="-1" strike="noStrike" baseline="-30000">
                <a:solidFill>
                  <a:srgbClr val="0070c0"/>
                </a:solidFill>
                <a:latin typeface="Times New Roman"/>
                <a:ea typeface="Times New Roman"/>
              </a:rPr>
              <a:t>4 </a:t>
            </a: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give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8" name="Object 31"/>
          <p:cNvGraphicFramePr/>
          <p:nvPr/>
        </p:nvGraphicFramePr>
        <p:xfrm>
          <a:off x="685800" y="4800600"/>
          <a:ext cx="5157720" cy="109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9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800600"/>
                    <a:ext cx="515772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1" name="Picture 13" descr="ksulogo2.png"/>
          <p:cNvPicPr/>
          <p:nvPr/>
        </p:nvPicPr>
        <p:blipFill>
          <a:blip r:embed="rId7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992" name="Picture 14" descr="images.jpeg"/>
          <p:cNvPicPr/>
          <p:nvPr/>
        </p:nvPicPr>
        <p:blipFill>
          <a:blip r:embed="rId8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993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DE78-9CF8-40B1-82E3-95DC2BCC0D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6" name="مستطيل 6"/>
          <p:cNvSpPr/>
          <p:nvPr/>
        </p:nvSpPr>
        <p:spPr>
          <a:xfrm>
            <a:off x="3639960" y="4444920"/>
            <a:ext cx="5132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8" name="Object 26"/>
          <p:cNvGraphicFramePr/>
          <p:nvPr/>
        </p:nvGraphicFramePr>
        <p:xfrm>
          <a:off x="4495680" y="3200400"/>
          <a:ext cx="23623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9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200400"/>
                    <a:ext cx="23623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0" name="مستطيل 10"/>
          <p:cNvSpPr/>
          <p:nvPr/>
        </p:nvSpPr>
        <p:spPr>
          <a:xfrm>
            <a:off x="-208800" y="3409920"/>
            <a:ext cx="77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- The common name of this compound                                        is?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1" name="Rectangle 6"/>
          <p:cNvSpPr/>
          <p:nvPr/>
        </p:nvSpPr>
        <p:spPr>
          <a:xfrm>
            <a:off x="0" y="40316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 N,N-Dimethylacetamide                           B) N,N-Dimethyl propana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N,N-Dimethylpropionamide                      D) N,N-Dimethylbutanam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Rectangle 7"/>
          <p:cNvSpPr/>
          <p:nvPr/>
        </p:nvSpPr>
        <p:spPr>
          <a:xfrm>
            <a:off x="76320" y="5055840"/>
            <a:ext cx="75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- Acid halide react with ammonia to gi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3" name="Rectangle 8"/>
          <p:cNvSpPr/>
          <p:nvPr/>
        </p:nvSpPr>
        <p:spPr>
          <a:xfrm>
            <a:off x="-453960" y="5544000"/>
            <a:ext cx="95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Amines             B)Amides           C) Phenols        D) Alcoho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4" name="Footer Placeholder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145 C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5" name="Rectangle 1"/>
          <p:cNvSpPr/>
          <p:nvPr/>
        </p:nvSpPr>
        <p:spPr>
          <a:xfrm>
            <a:off x="90360" y="125064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- The most acidic compound i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6" name="Object 27"/>
          <p:cNvGraphicFramePr/>
          <p:nvPr/>
        </p:nvGraphicFramePr>
        <p:xfrm>
          <a:off x="380880" y="1523880"/>
          <a:ext cx="5943600" cy="15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7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594360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8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9" name="Picture 14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10" name="Picture 15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11" name="Straight Connector 16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Slide Number Placeholder 1"/>
          <p:cNvSpPr/>
          <p:nvPr/>
        </p:nvSpPr>
        <p:spPr>
          <a:xfrm>
            <a:off x="65530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F535-6520-40A8-9A87-59F89715C9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a7bc"/>
                </a:solidFill>
                <a:latin typeface="Times New Roman"/>
              </a:rPr>
              <a:t>Thank You for your kind attention !</a:t>
            </a:r>
            <a:endParaRPr b="0" lang="en-US" sz="2800" spc="-1" strike="noStrike">
              <a:solidFill>
                <a:srgbClr val="2f5897"/>
              </a:solidFill>
              <a:latin typeface="Times New Roman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 type="subTitle"/>
          </p:nvPr>
        </p:nvSpPr>
        <p:spPr>
          <a:xfrm>
            <a:off x="2666880" y="2819160"/>
            <a:ext cx="369576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Questions?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Comments</a:t>
            </a: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Tahoma"/>
            </a:endParaRPr>
          </a:p>
        </p:txBody>
      </p:sp>
      <p:sp>
        <p:nvSpPr>
          <p:cNvPr id="3015" name="Slide Number Placeholder 2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92AD-3B94-4040-A4EE-8D1824EA1F41}" type="slidenum">
              <a:rPr b="0" lang="en-US" sz="1200" spc="-1" strike="noStrike">
                <a:solidFill>
                  <a:srgbClr val="595959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7" name="Picture 17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018" name="Picture 18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3019" name="Straight Connector 19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Text Box 6"/>
          <p:cNvSpPr/>
          <p:nvPr/>
        </p:nvSpPr>
        <p:spPr>
          <a:xfrm>
            <a:off x="76320" y="11383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Structure Of Carboxylic 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Rectangle 4"/>
          <p:cNvSpPr/>
          <p:nvPr/>
        </p:nvSpPr>
        <p:spPr>
          <a:xfrm>
            <a:off x="0" y="1676520"/>
            <a:ext cx="9144000" cy="42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organic acid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contain one or mor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rboxyl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group, which is a combination of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arbonyl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group C=O and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ydroxy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group O-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often written in condensed form as –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 or –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are classified as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liph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-COOH or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romat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r-COOH depending on the group bonded to the carboxylic gro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mplest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ormic aci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=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atty aci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</a:t>
            </a:r>
            <a:r>
              <a:rPr b="1" lang="en-US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long chain aliphatic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ds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(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O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7" name="Picture 10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58" name="Picture 11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59" name="Straight Connector 12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0" name="Picture 1" descr="Acetic-acid-3D-balls-B.png"/>
          <p:cNvPicPr/>
          <p:nvPr/>
        </p:nvPicPr>
        <p:blipFill>
          <a:blip r:embed="rId3"/>
          <a:stretch/>
        </p:blipFill>
        <p:spPr>
          <a:xfrm>
            <a:off x="5334120" y="4800600"/>
            <a:ext cx="2460600" cy="1828800"/>
          </a:xfrm>
          <a:prstGeom prst="rect">
            <a:avLst/>
          </a:prstGeom>
          <a:ln w="0">
            <a:noFill/>
          </a:ln>
        </p:spPr>
      </p:pic>
      <p:sp>
        <p:nvSpPr>
          <p:cNvPr id="27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5E4-D3EE-4A1C-870A-A0242B58E3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Rectangle 5"/>
          <p:cNvSpPr/>
          <p:nvPr/>
        </p:nvSpPr>
        <p:spPr>
          <a:xfrm>
            <a:off x="239040" y="1219320"/>
            <a:ext cx="47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Nomenclature Of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Rectangle 7"/>
          <p:cNvSpPr/>
          <p:nvPr/>
        </p:nvSpPr>
        <p:spPr>
          <a:xfrm>
            <a:off x="152280" y="2171880"/>
            <a:ext cx="899172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 carboxylic acids are called after characteristic properties or their orig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common names ending  -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Formula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Common name 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origin of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for 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acet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Latin for vine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ionic acid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Greek for mi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yric aci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n for bu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H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eric acid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valerian roo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Rectangle 6"/>
          <p:cNvSpPr/>
          <p:nvPr/>
        </p:nvSpPr>
        <p:spPr>
          <a:xfrm>
            <a:off x="99360" y="174780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ommon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Rectangle 2"/>
          <p:cNvSpPr/>
          <p:nvPr/>
        </p:nvSpPr>
        <p:spPr>
          <a:xfrm>
            <a:off x="152280" y="477504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ositions of the carbons present on the acid chain, are located by the Greek letters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indicating the carbon atom next to COOH group (C2), 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3)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Text Box 2"/>
          <p:cNvSpPr/>
          <p:nvPr/>
        </p:nvSpPr>
        <p:spPr>
          <a:xfrm>
            <a:off x="2890800" y="5510160"/>
            <a:ext cx="2900520" cy="928440"/>
          </a:xfrm>
          <a:prstGeom prst="rect">
            <a:avLst/>
          </a:prstGeom>
          <a:noFill/>
          <a:ln w="76320">
            <a:solidFill>
              <a:srgbClr val="f5f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5     4     3    2   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-C—C—C—C—COO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δ     γ     β     α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8" name="Picture 12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69" name="Picture 13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70" name="Straight Connector 14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FD04-9187-4E13-9335-976F7ECBBF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Rectangle 2"/>
          <p:cNvSpPr/>
          <p:nvPr/>
        </p:nvSpPr>
        <p:spPr>
          <a:xfrm>
            <a:off x="0" y="3570120"/>
            <a:ext cx="83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acids have common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3" name="Object 20"/>
          <p:cNvGraphicFramePr/>
          <p:nvPr/>
        </p:nvGraphicFramePr>
        <p:xfrm>
          <a:off x="2819520" y="4038480"/>
          <a:ext cx="301464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038480"/>
                    <a:ext cx="301464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5" name="Object 21"/>
          <p:cNvGraphicFramePr/>
          <p:nvPr/>
        </p:nvGraphicFramePr>
        <p:xfrm>
          <a:off x="2971800" y="1981080"/>
          <a:ext cx="314964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981080"/>
                    <a:ext cx="31496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7" name="مربع نص 20"/>
          <p:cNvSpPr/>
          <p:nvPr/>
        </p:nvSpPr>
        <p:spPr>
          <a:xfrm>
            <a:off x="3166920" y="2666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ccinic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Rectangle 2"/>
          <p:cNvSpPr/>
          <p:nvPr/>
        </p:nvSpPr>
        <p:spPr>
          <a:xfrm>
            <a:off x="138240" y="1066680"/>
            <a:ext cx="83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of di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0" name="Picture 8" descr="ksulogo2.png"/>
          <p:cNvPicPr/>
          <p:nvPr/>
        </p:nvPicPr>
        <p:blipFill>
          <a:blip r:embed="rId5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81" name="Picture 9" descr="images.jpeg"/>
          <p:cNvPicPr/>
          <p:nvPr/>
        </p:nvPicPr>
        <p:blipFill>
          <a:blip r:embed="rId6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82" name="Straight Connector 10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6FB5-4A11-4691-9029-080E2C8717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Line 2053"/>
          <p:cNvSpPr/>
          <p:nvPr/>
        </p:nvSpPr>
        <p:spPr>
          <a:xfrm flipH="1">
            <a:off x="139320" y="6603840"/>
            <a:ext cx="190440" cy="0"/>
          </a:xfrm>
          <a:prstGeom prst="line">
            <a:avLst/>
          </a:prstGeom>
          <a:ln w="7632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AutoShape 2054">
            <a:hlinkClick r:id="" action="ppaction://hlinkshowjump?jump=previousslide"/>
          </p:cNvPr>
          <p:cNvSpPr/>
          <p:nvPr/>
        </p:nvSpPr>
        <p:spPr>
          <a:xfrm>
            <a:off x="139680" y="6413400"/>
            <a:ext cx="343080" cy="393840"/>
          </a:xfrm>
          <a:custGeom>
            <a:avLst/>
            <a:gdLst>
              <a:gd name="textAreaLeft" fmla="*/ 21960 w 343080"/>
              <a:gd name="textAreaRight" fmla="*/ 321120 w 343080"/>
              <a:gd name="textAreaTop" fmla="*/ 21960 h 393840"/>
              <a:gd name="textAreaBottom" fmla="*/ 371880 h 393840"/>
            </a:gdLst>
            <a:ahLst/>
            <a:rect l="textAreaLeft" t="textAreaTop" r="textAreaRight" b="textAreaBottom"/>
            <a:pathLst>
              <a:path w="21600" h="24792">
                <a:moveTo>
                  <a:pt x="0" y="0"/>
                </a:moveTo>
                <a:lnTo>
                  <a:pt x="21600" y="0"/>
                </a:lnTo>
                <a:lnTo>
                  <a:pt x="21600" y="24792"/>
                </a:lnTo>
                <a:lnTo>
                  <a:pt x="0" y="24792"/>
                </a:lnTo>
                <a:close/>
              </a:path>
              <a:path fill="lightenLess" w="21600" h="247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2">
                <a:moveTo>
                  <a:pt x="21600" y="0"/>
                </a:moveTo>
                <a:lnTo>
                  <a:pt x="21600" y="24792"/>
                </a:lnTo>
                <a:lnTo>
                  <a:pt x="20200" y="23393"/>
                </a:lnTo>
                <a:lnTo>
                  <a:pt x="20200" y="1400"/>
                </a:lnTo>
                <a:close/>
              </a:path>
              <a:path fill="darkenLess" w="21600" h="24792">
                <a:moveTo>
                  <a:pt x="21600" y="24792"/>
                </a:moveTo>
                <a:lnTo>
                  <a:pt x="0" y="24792"/>
                </a:lnTo>
                <a:lnTo>
                  <a:pt x="1400" y="23393"/>
                </a:lnTo>
                <a:lnTo>
                  <a:pt x="20200" y="23393"/>
                </a:lnTo>
                <a:close/>
              </a:path>
              <a:path fill="lighten" w="21600" h="24792">
                <a:moveTo>
                  <a:pt x="0" y="247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Rectangle 19"/>
          <p:cNvSpPr/>
          <p:nvPr/>
        </p:nvSpPr>
        <p:spPr>
          <a:xfrm>
            <a:off x="1440" y="99072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UPAC Nomenc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Rectangle 20"/>
          <p:cNvSpPr/>
          <p:nvPr/>
        </p:nvSpPr>
        <p:spPr>
          <a:xfrm>
            <a:off x="0" y="1600200"/>
            <a:ext cx="91440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the longest continuous carbon chain contains the COOH group to get the root name of the parent hydrocarbon,   then replace the ending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the suffix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oic ac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the chain starting with the carbon of COOH group as 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are substituents identify their names, positions and list them as prefixes in alphabetical or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Examples:     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)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CH - CH(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3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) - 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- CH</a:t>
            </a:r>
            <a:r>
              <a:rPr b="1" lang="en-GB" sz="2000" spc="-1" strike="noStrike" baseline="-25000">
                <a:solidFill>
                  <a:srgbClr val="00664d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- COOH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all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,5-Dimethylhexanoic acid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8" name="Picture 6" descr="http://www.chemguide.co.uk/organicprops/acids/acidformulae.gif"/>
          <p:cNvPicPr/>
          <p:nvPr/>
        </p:nvPicPr>
        <p:blipFill>
          <a:blip r:embed="rId1"/>
          <a:stretch/>
        </p:blipFill>
        <p:spPr>
          <a:xfrm>
            <a:off x="104760" y="4467240"/>
            <a:ext cx="5610240" cy="147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9" name="Object 24"/>
          <p:cNvGraphicFramePr/>
          <p:nvPr/>
        </p:nvGraphicFramePr>
        <p:xfrm>
          <a:off x="7877160" y="4665600"/>
          <a:ext cx="1139760" cy="66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0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77160" y="4665600"/>
                    <a:ext cx="11397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1" name="Object 25"/>
          <p:cNvGraphicFramePr/>
          <p:nvPr/>
        </p:nvGraphicFramePr>
        <p:xfrm>
          <a:off x="5907240" y="4665600"/>
          <a:ext cx="1139760" cy="668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2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07240" y="4665600"/>
                    <a:ext cx="113976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3" name="Rectangle 4"/>
          <p:cNvSpPr/>
          <p:nvPr/>
        </p:nvSpPr>
        <p:spPr>
          <a:xfrm>
            <a:off x="5787360" y="557532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an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Rectangle 12"/>
          <p:cNvSpPr/>
          <p:nvPr/>
        </p:nvSpPr>
        <p:spPr>
          <a:xfrm>
            <a:off x="7586640" y="56037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ntanoic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6" name="Picture 13" descr="ksulogo2.png"/>
          <p:cNvPicPr/>
          <p:nvPr/>
        </p:nvPicPr>
        <p:blipFill>
          <a:blip r:embed="rId6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797" name="Picture 14" descr="images.jpeg"/>
          <p:cNvPicPr/>
          <p:nvPr/>
        </p:nvPicPr>
        <p:blipFill>
          <a:blip r:embed="rId7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798" name="Straight Connector 15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690B-EB45-4B73-AED0-06EB9BAC27B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6"/>
          <p:cNvSpPr/>
          <p:nvPr/>
        </p:nvSpPr>
        <p:spPr>
          <a:xfrm>
            <a:off x="76320" y="2562120"/>
            <a:ext cx="89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ic compounds containing one or more COOH groups attached to the ring are named by identifying the name of the ring followed by the word carboxylic acid or dicarboxylic ac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tc.  The </a:t>
            </a:r>
            <a:r>
              <a:rPr b="1" lang="en-GB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arbon atom bearing the carboxylic group is numbered 1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the substituents are numbered relative to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1" name="Object 31"/>
          <p:cNvGraphicFramePr/>
          <p:nvPr/>
        </p:nvGraphicFramePr>
        <p:xfrm>
          <a:off x="318960" y="38862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2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38862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3" name="Object 32"/>
          <p:cNvGraphicFramePr/>
          <p:nvPr/>
        </p:nvGraphicFramePr>
        <p:xfrm>
          <a:off x="380880" y="1165320"/>
          <a:ext cx="1843200" cy="92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4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165320"/>
                    <a:ext cx="18432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5" name="Object 33"/>
          <p:cNvGraphicFramePr/>
          <p:nvPr/>
        </p:nvGraphicFramePr>
        <p:xfrm>
          <a:off x="4522680" y="1089000"/>
          <a:ext cx="13068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6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22680" y="1089000"/>
                    <a:ext cx="13068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7" name="Object 34"/>
          <p:cNvGraphicFramePr/>
          <p:nvPr/>
        </p:nvGraphicFramePr>
        <p:xfrm>
          <a:off x="7086600" y="1317600"/>
          <a:ext cx="1827360" cy="309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8" name="Object 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86600" y="1317600"/>
                    <a:ext cx="18273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9" name="مربع نص 20"/>
          <p:cNvSpPr/>
          <p:nvPr/>
        </p:nvSpPr>
        <p:spPr>
          <a:xfrm>
            <a:off x="6705720" y="21146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4-Butandi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مربع نص 22"/>
          <p:cNvSpPr/>
          <p:nvPr/>
        </p:nvSpPr>
        <p:spPr>
          <a:xfrm>
            <a:off x="0" y="21337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Bromo-2-hydroxy-4-hexen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مربع نص 21"/>
          <p:cNvSpPr/>
          <p:nvPr/>
        </p:nvSpPr>
        <p:spPr>
          <a:xfrm>
            <a:off x="3962520" y="211464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-Aminobutano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3" name="Picture 11" descr="ksulogo2.png"/>
          <p:cNvPicPr/>
          <p:nvPr/>
        </p:nvPicPr>
        <p:blipFill>
          <a:blip r:embed="rId9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14" name="Picture 12" descr="images.jpeg"/>
          <p:cNvPicPr/>
          <p:nvPr/>
        </p:nvPicPr>
        <p:blipFill>
          <a:blip r:embed="rId10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15" name="Straight Connector 13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BCCA-6DF7-4298-9FB5-F56E516D54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Rectangle 12"/>
          <p:cNvSpPr/>
          <p:nvPr/>
        </p:nvSpPr>
        <p:spPr>
          <a:xfrm>
            <a:off x="0" y="1523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50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omatic compounds have common names accepted by the IUPAC also they can be named 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 benzene carboxylic ac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8" name="Object 13"/>
          <p:cNvGraphicFramePr/>
          <p:nvPr/>
        </p:nvGraphicFramePr>
        <p:xfrm>
          <a:off x="457200" y="2666880"/>
          <a:ext cx="80010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001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0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1" name="Picture 5" descr="ksulogo2.png"/>
          <p:cNvPicPr/>
          <p:nvPr/>
        </p:nvPicPr>
        <p:blipFill>
          <a:blip r:embed="rId3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22" name="Picture 6" descr="images.jpeg"/>
          <p:cNvPicPr/>
          <p:nvPr/>
        </p:nvPicPr>
        <p:blipFill>
          <a:blip r:embed="rId4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23" name="Straight Connector 7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E8B0-68E6-4827-8BC2-0C47DB0472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0" y="968400"/>
            <a:ext cx="8400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4f81bd"/>
                </a:solidFill>
                <a:uFillTx/>
                <a:latin typeface="Times New Roman"/>
                <a:ea typeface="Times New Roman"/>
              </a:rPr>
              <a:t>Physical Properties OF Carboxylic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6" name="Rectangle 2"/>
          <p:cNvSpPr/>
          <p:nvPr/>
        </p:nvSpPr>
        <p:spPr>
          <a:xfrm>
            <a:off x="106668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 Black"/>
              </a:rPr>
              <a:t>Carboxylic Acids And Their Deriv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7" name="Picture 6" descr="ksulogo2.png"/>
          <p:cNvPicPr/>
          <p:nvPr/>
        </p:nvPicPr>
        <p:blipFill>
          <a:blip r:embed="rId1"/>
          <a:stretch/>
        </p:blipFill>
        <p:spPr>
          <a:xfrm>
            <a:off x="152280" y="76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828" name="Picture 7" descr="images.jpeg"/>
          <p:cNvPicPr/>
          <p:nvPr/>
        </p:nvPicPr>
        <p:blipFill>
          <a:blip r:embed="rId2"/>
          <a:stretch/>
        </p:blipFill>
        <p:spPr>
          <a:xfrm>
            <a:off x="7848720" y="0"/>
            <a:ext cx="1066680" cy="1001880"/>
          </a:xfrm>
          <a:prstGeom prst="rect">
            <a:avLst/>
          </a:prstGeom>
          <a:ln w="0">
            <a:noFill/>
          </a:ln>
        </p:spPr>
      </p:pic>
      <p:sp>
        <p:nvSpPr>
          <p:cNvPr id="2829" name="Straight Connector 8"/>
          <p:cNvSpPr/>
          <p:nvPr/>
        </p:nvSpPr>
        <p:spPr>
          <a:xfrm>
            <a:off x="457200" y="9144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Content Placeholder 2"/>
          <p:cNvSpPr/>
          <p:nvPr/>
        </p:nvSpPr>
        <p:spPr>
          <a:xfrm>
            <a:off x="-15840" y="1828800"/>
            <a:ext cx="91440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1) Boiling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hav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ceptionally high boil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than alcohols of identical relative molecular masses, For examp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Arial"/>
              </a:rPr>
              <a:t>        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M.F.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M.W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bp / °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Propanol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C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8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60.01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97.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Ethanoic acid</a:t>
            </a:r>
            <a:r>
              <a:rPr b="1" lang="en-GB" sz="2000" spc="-1" strike="noStrike">
                <a:solidFill>
                  <a:srgbClr val="cc0000"/>
                </a:solidFill>
                <a:latin typeface="Comic Sans MS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C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H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4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O</a:t>
            </a:r>
            <a:r>
              <a:rPr b="1" lang="en-GB" sz="2000" spc="-1" strike="noStrike" baseline="-25000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     60.05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      1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boxylic acids have higher boiling points than alcohols and aldehydes, because their dimeric struc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drogen-bonded acid di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8A02-1CC1-43CE-B1C7-DE7038C3D3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2" name="Object 14"/>
          <p:cNvGraphicFramePr/>
          <p:nvPr/>
        </p:nvGraphicFramePr>
        <p:xfrm>
          <a:off x="3903840" y="5224320"/>
          <a:ext cx="4163760" cy="13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3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03840" y="5224320"/>
                    <a:ext cx="41637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3:16:56Z</dcterms:created>
  <dc:creator>NCCR</dc:creator>
  <dc:description/>
  <dc:language>en-US</dc:language>
  <cp:lastModifiedBy>new wave</cp:lastModifiedBy>
  <dcterms:modified xsi:type="dcterms:W3CDTF">2016-01-26T20:38:08Z</dcterms:modified>
  <cp:revision>157</cp:revision>
  <dc:subject/>
  <dc:title>TYPES OF HYBRIDIZATION AND GEOMETRY OF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480</vt:lpwstr>
  </property>
</Properties>
</file>