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dt" idx="2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ftr" idx="2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 type="sldNum" idx="2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85829C8-4B82-4270-8F85-56D724C6F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EAC173A-D5BC-4354-B2FE-1A8CEA1CD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77D2ED-8AB2-4481-AE84-C9615B6A6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F14630E-49EC-4EAF-8B99-144F1FA20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ing your competitive arena and competitors’ strengths and weaknesses is a critical component of a market ori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796A06-A6A1-48BF-8B20-A73210DD3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1B6773-F269-4160-A6D3-F64D91C96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5169B0-D06A-4DCE-9A16-27DD6BA7DB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9CAA30-17B2-4F11-A2FA-A0AADEF06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C89A400-8BC4-41E3-9D04-01055B47F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focus on their own needs; market-oriented firms focus on customers’ needs and prefere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companies consider themselves to be deliverers of goods and services, whereas market-oriented companies view themselves as satisfiers of custom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-oriented firms direct their products to everyone; market-oriented firms aim at specific segments of the popu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the primary goal of both types of firms is profit, sales-oriented businesses pursue maximum sales volume through intensive promotion, whereas market-oriented businesses pursue customer satisfaction through coordinated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mparison is not meant to belittle the role of promotion, especially personal selling, in the marketing mix. Salespeople in market-oriented organizations are generally perceived as problem solvers and links to supply sources and new product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organizations with sales or market orientations. Discuss the effectiveness of each organization’s strateg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97BA4E6-1ED1-4651-8C8F-DCCCFE642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the relationship between benefits and the sacrifice necessary to obtain those benef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value is not simply a matter of high quality or high price.  Instead, the customer’s perception of value is the product/service quality they expect and a price they are willing to pa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 also includes customization and fast delive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ays that successful companies deliver superior customer valu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l Computer Corpor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edes Benz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zon.c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Air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37025BD-BB47-4332-BF21-BBFD6103B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1611531-7ADF-4DF2-A8C5-2D84D0FAD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7CED703-E692-4B47-9FC0-FF6AB01EDF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6CF500-4324-427C-818E-B048358CC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mpanies that have made significant efforts at building long-term relationships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Seas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ca-Col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Air Lin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she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llog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til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BA17DE9-0239-4EFE-901C-C656DA14F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99AA53-3DF8-4050-8E3E-818CB20A1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A4C4E9-3DBA-4265-B61E-686AAF8D8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F8140A-9009-4DCE-9DC8-61FE7EFA9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B773C7-E550-451C-A7CC-BA3D437EB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n organization creates a high level of employee satisfaction, this leads to greater effort, which leads to higher quality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The Home Depot believes that its employees are its biggest competitive advantage. “Taking care of our people” is listed as the first value on the company Web si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class to give examples of companies that value employees and discuss how motivated employees create customer and stockholder satisfac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5916865-834D-4C18-B5C5-242F7AE46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D56AAB-B194-4865-BB73-2A5843189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3C9B1E-F222-480C-A0FE-86BFCE67E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competing philosophies influence an organization’s marketing proces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firm’s capabilities, such as production, are major considerations in strategic market planning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guiding factor with all orientations should be the determination of what customers want, not what management thinks should be produced or s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/Team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examples of companies/organizations whose marketing management philosophies match each ori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ion:  Henry Ford’s Model T availability in any color as long as it was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t.com businesses in the late 1990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tz Carlton Hotels, Co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etal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Shop, Turtle Wax, meth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1C91A08-07D0-4119-9FE3-BBB31AEEA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3"/>
          <p:cNvSpPr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 An Overview of 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5DA-67DA-45CD-81EE-6A23A116E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6069-3D8F-4236-9638-6C1D0D2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50BE-E944-48DE-B957-D614EB5A5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9954-72E2-4352-8844-86B24CA2D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E71B-E14D-408D-9D3B-00F0937E7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C542-DE05-4FDD-99BF-1BE88F771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25BB-1CF6-4BC2-8E1A-F4AEF9A1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BA39-6992-4C99-915B-07AC1866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3314-CD55-4847-A022-8A52500C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273C-9EA0-4BF8-B4E6-8DB16DC2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0307-9E37-49DC-8777-1581A8D9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0D7-CAE5-4D75-B201-3C129437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203B1-D30A-44EC-9459-27DA950F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8621-66C0-478B-B022-1ECF8DBA4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6B255-ACA3-4F20-838B-744BAC42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F0E3A-9689-4F81-9C6F-8FE38717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9661-2D00-473C-953E-81F13710E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0C6D-7456-48A1-92D0-A394FCE26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63678-0E4A-44C3-9ED9-CB390AE6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8BA82-2FF7-4A69-AE5A-B4139229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61D0C-2433-4910-BD4A-D6B83F66B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A971C-130C-4A96-8FB5-FF0A0C21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198-C776-4724-82FD-6E6FF128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6A26D-103C-4F18-A268-BD63C6BD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FEC1D-AA69-4A66-A0A2-FF28C3AC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046FC-020C-4CBD-8295-7BEDB1E0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095A5-BD0A-4B2F-9CAC-978AFE11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63CA9-422F-4BEF-9A72-D1BE254C4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51524-2E51-40D9-89A8-01ABA9B0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411D0-6FA4-4398-A293-7E8547F0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36C36-1FFA-4DEC-A267-41C818C1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F84F0-AA6A-4AFA-BF65-9A983D97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6E346-9C5A-482F-883F-04A9A0ACC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B91-B4B2-432D-BE57-2AC47CEF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45649-38F1-4BBD-B38E-4B4F09C4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D17C6-AB34-4B63-B63A-730047C0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787FE-7B25-4DE4-BF6A-73F5DEB8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FDAA1-5518-4B62-8A6B-35837039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ECA85-64BD-4AB5-8D74-0E5DFD8B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AA4FE-B7E8-4B3A-9DE0-F2F4F2CE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55DE3-700A-4B4E-A621-ACDFD238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B1843-2B89-4C9D-824C-89B85C28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07CE5-CA7A-4722-A0AE-7EE678A1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52782-7462-46F2-B371-1D711870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003-FB20-4519-BB6C-43AE810E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6FDEB-5AC1-4703-A352-6C2A070D8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E52CE-130B-4DDB-BDF2-25E5C9FF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1349A-C3E9-4C36-A04C-B7BD0CB4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76070-C363-4231-A7C2-72D51FDB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6BA3D-A441-4292-9376-8A5BB846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FAB26-E48D-4C7D-A53B-C948A4C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8B18F-1A47-4FD2-B2A8-4A333D56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D16A-4BCC-4B6F-A624-DBA6F706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62B1C-C8CA-4D6F-967F-AF2ABA62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F75B2-E444-4D8B-AD66-BED82BC5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B29-1801-4FDE-99E0-54E19464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B0C62-6E2A-4D29-98A7-FDFB3D1C1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DF598-B6DF-41A5-8DD2-A8C01090F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55B3-F61F-4B94-AE3D-657AD523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9ECA2-D12F-4374-B212-598BBA4C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3549B-7550-488A-9636-7B85B630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73D78-341F-4E8A-99FD-E8218F43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AFA72-AB29-421D-BD28-C4BF47CA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D9A29-2619-4346-ABAB-F8277BF7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97BF2-DBBE-46E9-85E0-5F11AB97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94C07-B89E-4B06-80E2-1580A171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6A67-062C-435D-8CDA-8E80BD33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564F9-4351-4B7A-867D-F1FE7003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805B9-7EC8-47C7-BA1F-F3B626A86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449C9-0152-45F4-9B46-8B087534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3125-C185-49DE-B6DD-BDC1AAD3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724FB-B051-4F16-8CCE-439706768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0942B-A8D6-45DD-BA7D-275D0839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5FBA7-4A04-4F00-9624-CAD9C792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823EC-81BE-4A85-B3A2-C881AEACA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760" y="11426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2A4BC-EB93-4779-B259-0803CC0D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66376-6E22-497A-B9FB-54229F1D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808B-A1F6-41BE-8A6F-2E1746AC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7CA24-071E-4EA4-9671-BD336B48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4263F-8178-4265-B992-DBB351B3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56670-EC5F-45A8-8EB3-88DB86F4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142BD-2B22-450A-A8FF-4C389282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239AC-A22D-4628-8510-652AC516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6C29-B5DA-45AA-9FBD-A2357DCF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52388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9140-8B9C-4BC6-A02B-53353CD44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-46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819520" y="990720"/>
            <a:ext cx="5410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705720" y="640080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43200" y="6356520"/>
            <a:ext cx="3733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33520" y="635904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0FC2-713E-4C31-85C6-BED1301016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1440"/>
            <a:ext cx="9139320" cy="6855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5760" y="11426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-3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2285640" y="6248520"/>
            <a:ext cx="426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C1D4-8C82-4FE0-A5EE-1574F6BA46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676160" y="1599840"/>
            <a:ext cx="7010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11"/>
          </p:nvPr>
        </p:nvSpPr>
        <p:spPr>
          <a:xfrm>
            <a:off x="2514600" y="6552720"/>
            <a:ext cx="4038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12"/>
          </p:nvPr>
        </p:nvSpPr>
        <p:spPr>
          <a:xfrm>
            <a:off x="65527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A8322-9133-4131-B669-FC201B8380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51920" y="3475080"/>
            <a:ext cx="39625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3240" indent="-1742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96960" indent="-139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975960" indent="-1393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254960" indent="-1393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28951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15192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C92D-CFEF-4D96-877C-56F71DB7F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41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76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274284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45684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0871-B993-4480-BF20-4D9F5392E8F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0218c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38052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6/13/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2666520" y="6552720"/>
            <a:ext cx="3962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4 by Cengage Learning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629040" y="65685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3EB9-B311-4887-AC05-7D6AEB5C0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3"/>
          <p:cNvSpPr/>
          <p:nvPr/>
        </p:nvSpPr>
        <p:spPr>
          <a:xfrm>
            <a:off x="1522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FF01-B3E2-4FCA-B2A6-591AB19E85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0" y="511344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KTG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mb, Hair, and McDaniel</a:t>
            </a:r>
            <a:r>
              <a:rPr b="1" lang="en-US" sz="2800" spc="-1" strike="noStrike">
                <a:solidFill>
                  <a:srgbClr val="000000"/>
                </a:solidFill>
                <a:latin typeface="Informal Roman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8"/>
          <p:cNvSpPr/>
          <p:nvPr/>
        </p:nvSpPr>
        <p:spPr>
          <a:xfrm>
            <a:off x="0" y="1219320"/>
            <a:ext cx="5715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e312d"/>
                </a:solidFill>
                <a:latin typeface="Calibri"/>
              </a:rPr>
              <a:t>Chapter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An Overview of Market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1"/>
          <p:cNvSpPr/>
          <p:nvPr/>
        </p:nvSpPr>
        <p:spPr>
          <a:xfrm>
            <a:off x="5562720" y="6400800"/>
            <a:ext cx="350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6DE04-AFA6-452C-8907-FD74CBDA09C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22000" y="380520"/>
            <a:ext cx="653436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Sales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94920" y="160020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rketing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lling Things &amp; Collecting Mon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TextBox 1"/>
          <p:cNvSpPr/>
          <p:nvPr/>
        </p:nvSpPr>
        <p:spPr>
          <a:xfrm>
            <a:off x="1295280" y="3048120"/>
            <a:ext cx="6477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regards market needs and consumer de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406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pite the quality of sales force, often cannot convince people to buy what is neither wanted nor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2B70-93FF-413F-9C68-BDCA4DABD6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14360" y="609120"/>
            <a:ext cx="66103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arket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95280" y="22096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ing on customer wants and needs to distinguish products from competitors’ offering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ing all the organization’s activities to satisfy these w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hieving the organization’s long-term goals by satisfying customer wants and needs legally and responsib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1282680" y="150480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Marketing</a:t>
            </a:r>
            <a:r>
              <a:rPr b="1" lang="en-US" sz="3200" spc="-1" strike="noStrike">
                <a:solidFill>
                  <a:srgbClr val="a0218c"/>
                </a:solidFill>
                <a:latin typeface="Arial Black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a0218c"/>
                </a:solidFill>
                <a:latin typeface="Calibri"/>
                <a:ea typeface="ＭＳ Ｐゴシック"/>
              </a:rPr>
              <a:t>Conce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94920" y="75960"/>
            <a:ext cx="6629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cietal Marketing Orient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98EE-98BE-4FA9-BACB-21302E534D3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8"/>
          <p:cNvSpPr/>
          <p:nvPr/>
        </p:nvSpPr>
        <p:spPr>
          <a:xfrm>
            <a:off x="1371600" y="1523880"/>
            <a:ext cx="6400800" cy="16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 organization exists not only to satisfy customer wants but also to preserve or enhance individuals’ and society’s long-term best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1828800" y="4038480"/>
            <a:ext cx="5334120" cy="2057400"/>
          </a:xfrm>
          <a:prstGeom prst="rect">
            <a:avLst/>
          </a:prstGeom>
          <a:solidFill>
            <a:srgbClr val="99d7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 example: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oxic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durabl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ducts with reusable or recyc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’s In Charge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295280" y="2133720"/>
            <a:ext cx="6477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d availability of comparative research enables customers to shop smarter, putting the customer in the driver se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Footer Placeholder 2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E032-CB70-4935-978D-06F4C9B756B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Questions That Help Determ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rketing Philosophy</a:t>
            </a:r>
            <a:endParaRPr b="0" lang="en-US" sz="36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80" name="Footer Placeholder 1"/>
          <p:cNvSpPr/>
          <p:nvPr/>
        </p:nvSpPr>
        <p:spPr>
          <a:xfrm>
            <a:off x="230832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26"/>
          <p:cNvGrpSpPr/>
          <p:nvPr/>
        </p:nvGrpSpPr>
        <p:grpSpPr>
          <a:xfrm>
            <a:off x="930240" y="1752480"/>
            <a:ext cx="7070400" cy="4129920"/>
            <a:chOff x="930240" y="1752480"/>
            <a:chExt cx="7070400" cy="4129920"/>
          </a:xfrm>
        </p:grpSpPr>
        <p:sp>
          <p:nvSpPr>
            <p:cNvPr id="382" name="Rectangle 35"/>
            <p:cNvSpPr/>
            <p:nvPr/>
          </p:nvSpPr>
          <p:spPr>
            <a:xfrm>
              <a:off x="930240" y="229032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duc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6"/>
            <p:cNvSpPr/>
            <p:nvPr/>
          </p:nvSpPr>
          <p:spPr>
            <a:xfrm>
              <a:off x="930240" y="3250800"/>
              <a:ext cx="1856880" cy="66924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930240" y="4211280"/>
              <a:ext cx="1856880" cy="66600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38"/>
            <p:cNvSpPr/>
            <p:nvPr/>
          </p:nvSpPr>
          <p:spPr>
            <a:xfrm>
              <a:off x="930240" y="5170680"/>
              <a:ext cx="1856880" cy="66888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 anchorCtr="1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ciet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Group 58"/>
            <p:cNvGrpSpPr/>
            <p:nvPr/>
          </p:nvGrpSpPr>
          <p:grpSpPr>
            <a:xfrm>
              <a:off x="3342960" y="2290320"/>
              <a:ext cx="4657680" cy="3592080"/>
              <a:chOff x="3342960" y="2290320"/>
              <a:chExt cx="4657680" cy="3592080"/>
            </a:xfrm>
          </p:grpSpPr>
          <p:sp>
            <p:nvSpPr>
              <p:cNvPr id="387" name="Rectangle 39"/>
              <p:cNvSpPr/>
              <p:nvPr/>
            </p:nvSpPr>
            <p:spPr>
              <a:xfrm>
                <a:off x="3342960" y="2290320"/>
                <a:ext cx="4657680" cy="65988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can we make or do best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Rectangle 40"/>
              <p:cNvSpPr/>
              <p:nvPr/>
            </p:nvSpPr>
            <p:spPr>
              <a:xfrm>
                <a:off x="3342960" y="326592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How can we sell more aggressivel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Rectangle 41"/>
              <p:cNvSpPr/>
              <p:nvPr/>
            </p:nvSpPr>
            <p:spPr>
              <a:xfrm>
                <a:off x="3342960" y="4245480"/>
                <a:ext cx="4657680" cy="659520"/>
              </a:xfrm>
              <a:prstGeom prst="rect">
                <a:avLst/>
              </a:prstGeom>
              <a:solidFill>
                <a:srgbClr val="99d7db">
                  <a:alpha val="50000"/>
                </a:srgbClr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ant and need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Rectangle 42"/>
              <p:cNvSpPr/>
              <p:nvPr/>
            </p:nvSpPr>
            <p:spPr>
              <a:xfrm>
                <a:off x="3342960" y="5222880"/>
                <a:ext cx="4657680" cy="659520"/>
              </a:xfrm>
              <a:prstGeom prst="rect">
                <a:avLst/>
              </a:prstGeom>
              <a:solidFill>
                <a:srgbClr val="99d7db"/>
              </a:solidFill>
              <a:ln w="0">
                <a:noFill/>
              </a:ln>
              <a:effectLst>
                <a:outerShdw dist="107932" dir="2700000" blurRad="0" rotWithShape="0">
                  <a:srgbClr val="eeece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 anchorCtr="1">
                <a:norm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What do customers want/need, and how can we benefit society?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91" name="AutoShape 43"/>
            <p:cNvCxnSpPr>
              <a:stCxn id="382" idx="3"/>
              <a:endCxn id="387" idx="1"/>
            </p:cNvCxnSpPr>
            <p:nvPr/>
          </p:nvCxnSpPr>
          <p:spPr>
            <a:xfrm flipV="1">
              <a:off x="2786760" y="2621160"/>
              <a:ext cx="556200" cy="3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2" name="AutoShape 44"/>
            <p:cNvCxnSpPr>
              <a:stCxn id="383" idx="3"/>
              <a:endCxn id="388" idx="1"/>
            </p:cNvCxnSpPr>
            <p:nvPr/>
          </p:nvCxnSpPr>
          <p:spPr>
            <a:xfrm>
              <a:off x="2786760" y="3584880"/>
              <a:ext cx="556200" cy="140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3" name="AutoShape 45"/>
            <p:cNvCxnSpPr>
              <a:stCxn id="384" idx="3"/>
              <a:endCxn id="389" idx="1"/>
            </p:cNvCxnSpPr>
            <p:nvPr/>
          </p:nvCxnSpPr>
          <p:spPr>
            <a:xfrm>
              <a:off x="2786760" y="4545720"/>
              <a:ext cx="556200" cy="30240"/>
            </a:xfrm>
            <a:prstGeom prst="straightConnector1">
              <a:avLst/>
            </a:prstGeom>
            <a:ln w="0">
              <a:noFill/>
            </a:ln>
          </p:spPr>
        </p:cxnSp>
        <p:cxnSp>
          <p:nvCxnSpPr>
            <p:cNvPr id="394" name="AutoShape 46"/>
            <p:cNvCxnSpPr>
              <a:stCxn id="385" idx="3"/>
              <a:endCxn id="390" idx="1"/>
            </p:cNvCxnSpPr>
            <p:nvPr/>
          </p:nvCxnSpPr>
          <p:spPr>
            <a:xfrm>
              <a:off x="2786760" y="5504400"/>
              <a:ext cx="556200" cy="50040"/>
            </a:xfrm>
            <a:prstGeom prst="straightConnector1">
              <a:avLst/>
            </a:prstGeom>
            <a:ln w="0">
              <a:noFill/>
            </a:ln>
          </p:spPr>
        </p:cxnSp>
        <p:sp>
          <p:nvSpPr>
            <p:cNvPr id="395" name="Rectangle 47"/>
            <p:cNvSpPr/>
            <p:nvPr/>
          </p:nvSpPr>
          <p:spPr>
            <a:xfrm>
              <a:off x="1080360" y="1752480"/>
              <a:ext cx="15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8"/>
            <p:cNvSpPr/>
            <p:nvPr/>
          </p:nvSpPr>
          <p:spPr>
            <a:xfrm>
              <a:off x="5289480" y="1752480"/>
              <a:ext cx="930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AutoShape 55"/>
            <p:cNvCxnSpPr/>
            <p:nvPr/>
          </p:nvCxnSpPr>
          <p:spPr>
            <a:xfrm>
              <a:off x="2797920" y="265572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8" name="AutoShape 60"/>
            <p:cNvCxnSpPr/>
            <p:nvPr/>
          </p:nvCxnSpPr>
          <p:spPr>
            <a:xfrm>
              <a:off x="2797920" y="364896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9" name="AutoShape 61"/>
            <p:cNvCxnSpPr/>
            <p:nvPr/>
          </p:nvCxnSpPr>
          <p:spPr>
            <a:xfrm>
              <a:off x="2797920" y="45590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00" name="AutoShape 62"/>
            <p:cNvCxnSpPr/>
            <p:nvPr/>
          </p:nvCxnSpPr>
          <p:spPr>
            <a:xfrm>
              <a:off x="2797920" y="5550840"/>
              <a:ext cx="533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401" name="Slide Number Placeholder 1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805B-1098-403C-B462-8559EF2CCE5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ces betwee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ales and Market Orient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AutoShape 3"/>
          <p:cNvSpPr/>
          <p:nvPr/>
        </p:nvSpPr>
        <p:spPr>
          <a:xfrm>
            <a:off x="1828800" y="1752480"/>
            <a:ext cx="54864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twe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es and mark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ounded Rectangle 5"/>
          <p:cNvSpPr/>
          <p:nvPr/>
        </p:nvSpPr>
        <p:spPr>
          <a:xfrm>
            <a:off x="1981080" y="380988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ounded Rectangle 4"/>
          <p:cNvSpPr/>
          <p:nvPr/>
        </p:nvSpPr>
        <p:spPr>
          <a:xfrm>
            <a:off x="1981080" y="1676520"/>
            <a:ext cx="5334120" cy="1828800"/>
          </a:xfrm>
          <a:prstGeom prst="roundRect">
            <a:avLst>
              <a:gd name="adj" fmla="val 16667"/>
            </a:avLst>
          </a:prstGeom>
          <a:solidFill>
            <a:srgbClr val="ffc4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33EF-F7A4-4147-9843-BDB1899709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ng the Sales 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 Orient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1828800" y="1828800"/>
            <a:ext cx="5486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ales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firm mak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Market 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ward look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 the market wa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ales vs. Market Orientations</a:t>
            </a:r>
            <a:br>
              <a:rPr sz="4800"/>
            </a:br>
            <a:endParaRPr b="1" lang="en-US" sz="4800" spc="-1" strike="noStrike">
              <a:solidFill>
                <a:srgbClr val="a0218c"/>
              </a:solidFill>
              <a:latin typeface="Calibri"/>
            </a:endParaRPr>
          </a:p>
        </p:txBody>
      </p:sp>
      <p:sp>
        <p:nvSpPr>
          <p:cNvPr id="414" name="Footer Placeholder 1"/>
          <p:cNvSpPr/>
          <p:nvPr/>
        </p:nvSpPr>
        <p:spPr>
          <a:xfrm>
            <a:off x="2666880" y="6172200"/>
            <a:ext cx="3962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0"/>
          <p:cNvGrpSpPr/>
          <p:nvPr/>
        </p:nvGrpSpPr>
        <p:grpSpPr>
          <a:xfrm>
            <a:off x="299880" y="1905120"/>
            <a:ext cx="8234280" cy="3877920"/>
            <a:chOff x="299880" y="1905120"/>
            <a:chExt cx="8234280" cy="3877920"/>
          </a:xfrm>
        </p:grpSpPr>
        <p:sp>
          <p:nvSpPr>
            <p:cNvPr id="416" name="Rectangle 5"/>
            <p:cNvSpPr/>
            <p:nvPr/>
          </p:nvSpPr>
          <p:spPr>
            <a:xfrm>
              <a:off x="299880" y="1905120"/>
              <a:ext cx="8165880" cy="966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299880" y="2972520"/>
              <a:ext cx="8165880" cy="1378080"/>
            </a:xfrm>
            <a:prstGeom prst="rect">
              <a:avLst/>
            </a:prstGeom>
            <a:solidFill>
              <a:srgbClr val="b7dee8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299880" y="4453920"/>
              <a:ext cx="8165880" cy="132912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331200" y="3104280"/>
              <a:ext cx="137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les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331200" y="4541400"/>
              <a:ext cx="1336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 Orien-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605600" y="2092680"/>
              <a:ext cx="17708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ganization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c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3378960" y="2092680"/>
              <a:ext cx="12470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irm’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Busin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4636080" y="2057760"/>
              <a:ext cx="102132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Whom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5852520" y="1922760"/>
              <a:ext cx="10944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ofit </a:t>
              </a:r>
              <a:br>
                <a:rPr sz="1800"/>
              </a:b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al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7158960" y="2092680"/>
              <a:ext cx="1375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Tools to Achie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5"/>
            <p:cNvSpPr/>
            <p:nvPr/>
          </p:nvSpPr>
          <p:spPr>
            <a:xfrm>
              <a:off x="3378960" y="3148560"/>
              <a:ext cx="120060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ell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s and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4588560" y="3148560"/>
              <a:ext cx="1258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Everybo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7"/>
            <p:cNvSpPr/>
            <p:nvPr/>
          </p:nvSpPr>
          <p:spPr>
            <a:xfrm>
              <a:off x="5884920" y="3148560"/>
              <a:ext cx="1206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ximum sales volu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7158960" y="3148560"/>
              <a:ext cx="1232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rimarily promo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19"/>
            <p:cNvSpPr/>
            <p:nvPr/>
          </p:nvSpPr>
          <p:spPr>
            <a:xfrm>
              <a:off x="1751040" y="3148560"/>
              <a:ext cx="865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n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721160" y="4558680"/>
              <a:ext cx="1044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utw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1"/>
            <p:cNvSpPr/>
            <p:nvPr/>
          </p:nvSpPr>
          <p:spPr>
            <a:xfrm>
              <a:off x="7158960" y="4558680"/>
              <a:ext cx="13665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ordin-ated use of marketing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5884920" y="4538160"/>
              <a:ext cx="127980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ustomer satisfac-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"/>
            <p:cNvSpPr/>
            <p:nvPr/>
          </p:nvSpPr>
          <p:spPr>
            <a:xfrm>
              <a:off x="4626000" y="4560120"/>
              <a:ext cx="110196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pecific groups of peo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3378960" y="4560120"/>
              <a:ext cx="1176840" cy="10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atisfying wants and nee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Slide Number Placeholder 2"/>
          <p:cNvSpPr/>
          <p:nvPr/>
        </p:nvSpPr>
        <p:spPr>
          <a:xfrm>
            <a:off x="6629400" y="61722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00E57-7CC4-414F-AEFD-591FEB621DB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BB38B-530C-4B24-A33B-F9581380497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1676160" y="1752480"/>
            <a:ext cx="6172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90000"/>
              </a:lnSpc>
              <a:spcBef>
                <a:spcPts val="751"/>
              </a:spcBef>
              <a:spcAft>
                <a:spcPts val="1624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products that perfo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rn tru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void unrealistic pric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 the buyer fa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fer organization-wide commitment in service and after-sales suppor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lnSpc>
                <a:spcPct val="90000"/>
              </a:lnSpc>
              <a:spcBef>
                <a:spcPts val="187"/>
              </a:spcBef>
              <a:spcAft>
                <a:spcPts val="1687"/>
              </a:spcAft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-creation with custom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title"/>
          </p:nvPr>
        </p:nvSpPr>
        <p:spPr>
          <a:xfrm>
            <a:off x="1295280" y="456840"/>
            <a:ext cx="65534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ustomer Value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8AA8-E951-4E42-A1EB-259C5929A1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1905120" y="2133360"/>
            <a:ext cx="54705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ustomers’ evaluation of a good or service in terms of whether that good or service has met their needs and expect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1447920" y="658800"/>
            <a:ext cx="65466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 Satisf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2"/>
          <p:cNvSpPr/>
          <p:nvPr/>
        </p:nvSpPr>
        <p:spPr>
          <a:xfrm>
            <a:off x="2514600" y="6553080"/>
            <a:ext cx="4038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1"/>
          <p:cNvSpPr/>
          <p:nvPr/>
        </p:nvSpPr>
        <p:spPr>
          <a:xfrm>
            <a:off x="6553080" y="65689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DDA4-49BD-440F-80DE-14235DE68C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99072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management philosoph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cuss the differences between sales and market ori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ee312d"/>
                </a:solidFill>
                <a:latin typeface="Calibri"/>
                <a:ea typeface="ＭＳ Ｐゴシック"/>
              </a:rPr>
              <a:t>1-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0" y="22860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L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EARNING</a:t>
            </a:r>
            <a:r>
              <a:rPr b="0" lang="en-US" sz="6600" spc="-1" strike="noStrike">
                <a:solidFill>
                  <a:srgbClr val="ee312d"/>
                </a:solidFill>
                <a:latin typeface="Arial Narrow"/>
              </a:rPr>
              <a:t> O</a:t>
            </a:r>
            <a:r>
              <a:rPr b="0" lang="en-US" sz="6000" spc="-1" strike="noStrike">
                <a:solidFill>
                  <a:srgbClr val="ee312d"/>
                </a:solidFill>
                <a:latin typeface="Arial Narrow"/>
              </a:rPr>
              <a:t>UTCOM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E1D1-250D-4EDA-BD89-8F00E330174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1676160" y="1494000"/>
            <a:ext cx="609588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ategy that focuses on keeping and improving relationships with custom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ful strategies need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er-Oriented Pers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Training Progra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mpowered Employe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eam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TextBox 5"/>
          <p:cNvSpPr/>
          <p:nvPr/>
        </p:nvSpPr>
        <p:spPr>
          <a:xfrm>
            <a:off x="1301760" y="380880"/>
            <a:ext cx="662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lationship Mark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B06D-A01B-4F87-896B-54414CB85F1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151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Building</a:t>
            </a:r>
            <a:r>
              <a:rPr b="0" lang="en-US" sz="4800" spc="-1" strike="noStrike">
                <a:solidFill>
                  <a:srgbClr val="a0218c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lationshi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Rectangle 15"/>
          <p:cNvSpPr/>
          <p:nvPr/>
        </p:nvSpPr>
        <p:spPr>
          <a:xfrm>
            <a:off x="1447920" y="137160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stomer-orient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 employee represents the firm in the eyes of the custom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 training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owered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loyees are given more authority to solve customer problems on th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080" indent="-361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m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180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mphasizing cooperation over competition while helping a custom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1219320" y="106668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"/>
          <p:cNvSpPr/>
          <p:nvPr/>
        </p:nvSpPr>
        <p:spPr>
          <a:xfrm>
            <a:off x="2286000" y="198108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several reasons for studying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9" name="Footer Placeholder 1"/>
          <p:cNvSpPr/>
          <p:nvPr/>
        </p:nvSpPr>
        <p:spPr>
          <a:xfrm>
            <a:off x="2286000" y="611172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3DD6-FF0D-4D50-91ED-5E3F4FC5543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32"/>
          <p:cNvSpPr/>
          <p:nvPr/>
        </p:nvSpPr>
        <p:spPr>
          <a:xfrm>
            <a:off x="0" y="152280"/>
            <a:ext cx="9144000" cy="919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Why Study Marketing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34"/>
          <p:cNvGrpSpPr/>
          <p:nvPr/>
        </p:nvGrpSpPr>
        <p:grpSpPr>
          <a:xfrm>
            <a:off x="2057400" y="1828800"/>
            <a:ext cx="5562720" cy="3962160"/>
            <a:chOff x="2057400" y="1828800"/>
            <a:chExt cx="5562720" cy="3962160"/>
          </a:xfrm>
        </p:grpSpPr>
        <p:sp>
          <p:nvSpPr>
            <p:cNvPr id="463" name="Oval 22"/>
            <p:cNvSpPr/>
            <p:nvPr/>
          </p:nvSpPr>
          <p:spPr>
            <a:xfrm>
              <a:off x="2743200" y="182880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5"/>
            <p:cNvSpPr/>
            <p:nvPr/>
          </p:nvSpPr>
          <p:spPr>
            <a:xfrm>
              <a:off x="3581640" y="3124080"/>
              <a:ext cx="236196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6"/>
            <p:cNvSpPr/>
            <p:nvPr/>
          </p:nvSpPr>
          <p:spPr>
            <a:xfrm>
              <a:off x="2057400" y="3124080"/>
              <a:ext cx="2362320" cy="2286000"/>
            </a:xfrm>
            <a:prstGeom prst="ellipse">
              <a:avLst/>
            </a:prstGeom>
            <a:solidFill>
              <a:srgbClr val="ca0088">
                <a:alpha val="4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Text Box 27"/>
            <p:cNvSpPr/>
            <p:nvPr/>
          </p:nvSpPr>
          <p:spPr>
            <a:xfrm>
              <a:off x="3324240" y="2238120"/>
              <a:ext cx="1219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Socie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8"/>
            <p:cNvSpPr/>
            <p:nvPr/>
          </p:nvSpPr>
          <p:spPr>
            <a:xfrm>
              <a:off x="2286000" y="4066920"/>
              <a:ext cx="129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Important to Busin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AutoShape 30"/>
            <p:cNvSpPr/>
            <p:nvPr/>
          </p:nvSpPr>
          <p:spPr>
            <a:xfrm>
              <a:off x="5486400" y="441936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AutoShape 31"/>
            <p:cNvSpPr/>
            <p:nvPr/>
          </p:nvSpPr>
          <p:spPr>
            <a:xfrm rot="16200000">
              <a:off x="5486400" y="4419000"/>
              <a:ext cx="304920" cy="1371600"/>
            </a:xfrm>
            <a:prstGeom prst="flowChartProcess">
              <a:avLst/>
            </a:prstGeom>
            <a:solidFill>
              <a:srgbClr val="00af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32"/>
            <p:cNvSpPr/>
            <p:nvPr/>
          </p:nvSpPr>
          <p:spPr>
            <a:xfrm>
              <a:off x="4343400" y="4066920"/>
              <a:ext cx="1447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Good Career Opportun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3"/>
            <p:cNvSpPr/>
            <p:nvPr/>
          </p:nvSpPr>
          <p:spPr>
            <a:xfrm>
              <a:off x="5562720" y="4991040"/>
              <a:ext cx="2057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Marketing affects you every day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arket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2619360" y="2743200"/>
            <a:ext cx="3809880" cy="2057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fine the term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CAE9-7AFE-49D8-AD88-F32EAC53886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6635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b0f0"/>
                </a:solidFill>
                <a:latin typeface="Calibri"/>
              </a:rPr>
              <a:t>Marketing</a:t>
            </a:r>
            <a:r>
              <a:rPr b="0" lang="en-US" sz="3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ctivity, set of institutions, and processes for creating, communicating, delivering, and exchanging offerings that have value for customers, clients, partners, and society at larg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1218960" y="533160"/>
            <a:ext cx="669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merican Marketing Association Definition of Mark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C8E2-AB70-4B73-8339-6E855B5FE83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320840" y="876240"/>
            <a:ext cx="46483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Marketing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5"/>
          <p:cNvSpPr/>
          <p:nvPr/>
        </p:nvSpPr>
        <p:spPr>
          <a:xfrm>
            <a:off x="1828800" y="1718280"/>
            <a:ext cx="5943600" cy="28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tails processes that focus on delivering value and benefits to customers, not just selling goods and servic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18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Exchange</a:t>
            </a:r>
            <a:endParaRPr b="0" lang="en-US" sz="7200" spc="-1" strike="noStrike">
              <a:solidFill>
                <a:srgbClr val="7030a0"/>
              </a:solidFill>
              <a:latin typeface="Calibri"/>
            </a:endParaRPr>
          </a:p>
        </p:txBody>
      </p:sp>
      <p:sp>
        <p:nvSpPr>
          <p:cNvPr id="32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6CD8-CE59-4025-AFF4-751DBC5CE1B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7"/>
          <p:cNvGrpSpPr/>
          <p:nvPr/>
        </p:nvGrpSpPr>
        <p:grpSpPr>
          <a:xfrm>
            <a:off x="650880" y="1905120"/>
            <a:ext cx="7426080" cy="3885840"/>
            <a:chOff x="650880" y="1905120"/>
            <a:chExt cx="7426080" cy="3885840"/>
          </a:xfrm>
        </p:grpSpPr>
        <p:sp>
          <p:nvSpPr>
            <p:cNvPr id="325" name="Rectangle 6"/>
            <p:cNvSpPr/>
            <p:nvPr/>
          </p:nvSpPr>
          <p:spPr>
            <a:xfrm>
              <a:off x="3753720" y="190512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At Least Two Parties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7"/>
            <p:cNvSpPr/>
            <p:nvPr/>
          </p:nvSpPr>
          <p:spPr>
            <a:xfrm>
              <a:off x="3753720" y="272844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omething of Value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3753720" y="3551760"/>
              <a:ext cx="4323240" cy="59508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mmunication and Deliver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"/>
            <p:cNvSpPr/>
            <p:nvPr/>
          </p:nvSpPr>
          <p:spPr>
            <a:xfrm>
              <a:off x="3753720" y="4375080"/>
              <a:ext cx="4323240" cy="592560"/>
            </a:xfrm>
            <a:prstGeom prst="rect">
              <a:avLst/>
            </a:prstGeom>
            <a:solidFill>
              <a:srgbClr val="99d7db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reedom to Accept or Rejec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0"/>
            <p:cNvSpPr/>
            <p:nvPr/>
          </p:nvSpPr>
          <p:spPr>
            <a:xfrm>
              <a:off x="3753720" y="5198400"/>
              <a:ext cx="4323240" cy="592560"/>
            </a:xfrm>
            <a:prstGeom prst="rect">
              <a:avLst/>
            </a:prstGeom>
            <a:solidFill>
              <a:srgbClr val="99d7db">
                <a:alpha val="50000"/>
              </a:srgbClr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 fontScale="89000"/>
            </a:bodyPr>
            <a:p>
              <a:pPr algn="ctr">
                <a:lnSpc>
                  <a:spcPct val="9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Desire to Deal with Other Party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0" name="AutoShape 11"/>
            <p:cNvCxnSpPr/>
            <p:nvPr/>
          </p:nvCxnSpPr>
          <p:spPr>
            <a:xfrm flipV="1">
              <a:off x="2917080" y="2185560"/>
              <a:ext cx="837360" cy="1678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1" name="AutoShape 12"/>
            <p:cNvCxnSpPr/>
            <p:nvPr/>
          </p:nvCxnSpPr>
          <p:spPr>
            <a:xfrm>
              <a:off x="2917080" y="3864600"/>
              <a:ext cx="837360" cy="161568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2" name="AutoShape 13"/>
            <p:cNvCxnSpPr/>
            <p:nvPr/>
          </p:nvCxnSpPr>
          <p:spPr>
            <a:xfrm flipV="1">
              <a:off x="2917080" y="3009240"/>
              <a:ext cx="837360" cy="855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cxnSp>
          <p:nvCxnSpPr>
            <p:cNvPr id="333" name="AutoShape 14"/>
            <p:cNvCxnSpPr/>
            <p:nvPr/>
          </p:nvCxnSpPr>
          <p:spPr>
            <a:xfrm>
              <a:off x="2917080" y="3864240"/>
              <a:ext cx="837360" cy="792360"/>
            </a:xfrm>
            <a:prstGeom prst="bentConnector3">
              <a:avLst>
                <a:gd name="adj1" fmla="val 49978"/>
              </a:avLst>
            </a:prstGeom>
            <a:ln w="9360">
              <a:solidFill>
                <a:srgbClr val="eeece1"/>
              </a:solidFill>
              <a:miter/>
            </a:ln>
          </p:spPr>
        </p:cxnSp>
        <p:sp>
          <p:nvSpPr>
            <p:cNvPr id="334" name="Line 15"/>
            <p:cNvSpPr/>
            <p:nvPr/>
          </p:nvSpPr>
          <p:spPr>
            <a:xfrm flipH="1">
              <a:off x="3335400" y="3865680"/>
              <a:ext cx="418320" cy="0"/>
            </a:xfrm>
            <a:prstGeom prst="line">
              <a:avLst/>
            </a:prstGeom>
            <a:ln w="9360">
              <a:solidFill>
                <a:srgbClr val="eeec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650880" y="3121920"/>
              <a:ext cx="2266200" cy="1452960"/>
            </a:xfrm>
            <a:prstGeom prst="rect">
              <a:avLst/>
            </a:prstGeom>
            <a:solidFill>
              <a:srgbClr val="95a1aa"/>
            </a:solidFill>
            <a:ln w="0">
              <a:noFill/>
            </a:ln>
            <a:effectLst>
              <a:outerShdw dist="107932" dir="2700000" blurRad="0" rotWithShape="0">
                <a:srgbClr val="eeece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ctr">
              <a:normAutofit/>
            </a:bodyPr>
            <a:p>
              <a:pPr algn="ctr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Conditions for Exchan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2743200" y="6400800"/>
            <a:ext cx="3962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rketing Managemen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ilosoph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1219320" y="990720"/>
            <a:ext cx="7924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3"/>
          <p:cNvSpPr/>
          <p:nvPr/>
        </p:nvSpPr>
        <p:spPr>
          <a:xfrm>
            <a:off x="2266920" y="1905120"/>
            <a:ext cx="4572000" cy="3429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cribe four market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7"/>
          <p:cNvSpPr/>
          <p:nvPr/>
        </p:nvSpPr>
        <p:spPr>
          <a:xfrm>
            <a:off x="457200" y="8478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6" descr="\\FILESVR\SharedDocs\SWCP\CURRENT PROJECTS\MKTG9\Supplements\PowerPoints\Templates\PPT_BOX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Footer Placeholder 1"/>
          <p:cNvSpPr/>
          <p:nvPr/>
        </p:nvSpPr>
        <p:spPr>
          <a:xfrm>
            <a:off x="2286000" y="6095880"/>
            <a:ext cx="42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2"/>
          <p:cNvSpPr/>
          <p:nvPr/>
        </p:nvSpPr>
        <p:spPr>
          <a:xfrm>
            <a:off x="6553080" y="609588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FAE6-527A-425A-AD7F-D33D3A2564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1"/>
          <p:cNvGrpSpPr/>
          <p:nvPr/>
        </p:nvGrpSpPr>
        <p:grpSpPr>
          <a:xfrm>
            <a:off x="1054080" y="1981080"/>
            <a:ext cx="6794640" cy="3504960"/>
            <a:chOff x="1054080" y="1981080"/>
            <a:chExt cx="6794640" cy="3504960"/>
          </a:xfrm>
        </p:grpSpPr>
        <p:pic>
          <p:nvPicPr>
            <p:cNvPr id="345" name="Group 29" descr=""/>
            <p:cNvPicPr/>
            <p:nvPr/>
          </p:nvPicPr>
          <p:blipFill>
            <a:blip r:embed="rId2"/>
            <a:stretch/>
          </p:blipFill>
          <p:spPr>
            <a:xfrm>
              <a:off x="1137960" y="3271320"/>
              <a:ext cx="6677640" cy="70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Group 32" descr=""/>
            <p:cNvPicPr/>
            <p:nvPr/>
          </p:nvPicPr>
          <p:blipFill>
            <a:blip r:embed="rId3"/>
            <a:stretch/>
          </p:blipFill>
          <p:spPr>
            <a:xfrm>
              <a:off x="1137960" y="3965040"/>
              <a:ext cx="667764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Group 44" descr=""/>
            <p:cNvPicPr/>
            <p:nvPr/>
          </p:nvPicPr>
          <p:blipFill>
            <a:blip r:embed="rId4"/>
            <a:stretch/>
          </p:blipFill>
          <p:spPr>
            <a:xfrm>
              <a:off x="1137960" y="4646520"/>
              <a:ext cx="6677640" cy="77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8" name="Group 28" descr=""/>
            <p:cNvPicPr/>
            <p:nvPr/>
          </p:nvPicPr>
          <p:blipFill>
            <a:blip r:embed="rId5"/>
            <a:stretch/>
          </p:blipFill>
          <p:spPr>
            <a:xfrm>
              <a:off x="1108080" y="2620080"/>
              <a:ext cx="6707520" cy="6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Rectangle 16"/>
            <p:cNvSpPr/>
            <p:nvPr/>
          </p:nvSpPr>
          <p:spPr>
            <a:xfrm>
              <a:off x="2993400" y="2757240"/>
              <a:ext cx="386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internal capabilities of the fi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2961000" y="4033080"/>
              <a:ext cx="4701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wants while meeting 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8"/>
            <p:cNvSpPr/>
            <p:nvPr/>
          </p:nvSpPr>
          <p:spPr>
            <a:xfrm>
              <a:off x="2948400" y="4652280"/>
              <a:ext cx="490032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atisfying customer needs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wants while enhancing individual and </a:t>
              </a:r>
              <a:br>
                <a:rPr sz="1800"/>
              </a:b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societal well-be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948400" y="3360960"/>
              <a:ext cx="4748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>
                <a:lnSpc>
                  <a:spcPct val="9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1f497d"/>
                  </a:solidFill>
                  <a:latin typeface="Arial"/>
                  <a:ea typeface="ＭＳ Ｐゴシック"/>
                </a:rPr>
                <a:t>aggressive sales techniques and belief that high sales result in high pro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3" name="Group 48" descr=""/>
            <p:cNvPicPr/>
            <p:nvPr/>
          </p:nvPicPr>
          <p:blipFill>
            <a:blip r:embed="rId6"/>
            <a:stretch/>
          </p:blipFill>
          <p:spPr>
            <a:xfrm>
              <a:off x="1054080" y="1981080"/>
              <a:ext cx="6767640" cy="67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4" name="Rectangle 58"/>
          <p:cNvSpPr/>
          <p:nvPr/>
        </p:nvSpPr>
        <p:spPr>
          <a:xfrm>
            <a:off x="0" y="304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e Four Marketing Management Philosoph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Footer Placeholder 1"/>
          <p:cNvSpPr/>
          <p:nvPr/>
        </p:nvSpPr>
        <p:spPr>
          <a:xfrm>
            <a:off x="2438280" y="636588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© 2016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2"/>
          <p:cNvSpPr/>
          <p:nvPr/>
        </p:nvSpPr>
        <p:spPr>
          <a:xfrm>
            <a:off x="6553080" y="6356520"/>
            <a:ext cx="1219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458E-B15C-46CA-B806-A23BAAAB4D5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629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roduction Ori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94920" y="2362320"/>
            <a:ext cx="644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Field of Dream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i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you build it, they will com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esn’t consider if what is produced meets market n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8T19:20:03Z</dcterms:created>
  <dc:creator>Deb Baker</dc:creator>
  <dc:description/>
  <dc:language>en-US</dc:language>
  <cp:lastModifiedBy>Tanvir Khan</cp:lastModifiedBy>
  <cp:lastPrinted>2011-09-02T18:20:27Z</cp:lastPrinted>
  <dcterms:modified xsi:type="dcterms:W3CDTF">2016-08-23T08:57:25Z</dcterms:modified>
  <cp:revision>493</cp:revision>
  <dc:subject>An Overview of Marketing</dc:subject>
  <dc:title>Chapter 1</dc:title>
</cp:coreProperties>
</file>