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DC21-C041-4653-9DB2-5B7B54D5FE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20CD-A1AA-4891-BA98-D3E51D6D9D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8745-163E-4EB8-83A9-C3DCFBD25B9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37EA-B7B8-4746-9671-01A137F68C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95A9-3D42-45ED-AD5B-4BA932DCA3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A69B-AF3F-4C7C-B15E-83538C69CC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E221-0E56-41D7-BE2A-0EB12DA8CC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6EA7-7ACF-4995-BAEA-D7BC2A101B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8125-40FA-4BE6-95B1-25AEECDC03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53D8-DF71-46EB-AFB0-F06E931449F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C480-1D19-4AE1-97D8-CBEB2368BF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DBC8-2CFB-4B03-A57C-EBBDA0E7C2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55FC-9810-4B4B-8056-B1CDBE6078A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10EE-1E83-4189-A910-B06404D026F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8EEB-DA55-410C-8507-8C8E7A5B5B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7D9F-27E6-47F8-A64E-8E1B46710B8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B614-D10F-47F8-B83C-A0205E98F6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6D63-4FA9-4B32-B958-F79C82C867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8E71-DB96-4755-BCE7-7F176A501CE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0E47-C069-4EC2-828C-54B3111BD31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924D-16CC-4E16-8676-5B7FB94148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E84E-901D-4652-A13C-AEDBB26B87D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C592-B20C-4D19-954B-2B9B12963DC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4966-B573-48A8-922A-46AACDEED66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4C0A-9EDF-4B88-A42C-FD9327DA17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CAFA-5735-4D61-A553-DA74AFD6C3B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BB39-ECDC-4D24-9B15-D266C99F771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1BAD-D4DE-4DA6-8897-E7ABFE85D9D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CDF7-3721-4645-B137-4A4FC48A010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E749-DDED-47D0-B581-014405497DF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4A25-C819-43A5-BF2D-DE70C953BC7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A90A-8331-45D5-9C81-14EB3990DC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0D97-8481-48A3-93A8-1AD8A3E5C04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F4A4-261A-4C19-96F2-EE6A45E869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B317-67CA-4190-A552-FFB29DD722A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D3A6-A616-4700-BDE6-19FB8DBD62E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E90E-7F47-4817-82E0-608A3BE1E6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0967-0AA9-421B-894B-313834513A8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DA66-EF63-4DE1-9B83-F6F159A954A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6927-D921-4C2A-84D4-4D09AD8BCC7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2638-1556-488F-9873-255433A8DCD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6672-B58E-4240-90A9-B35FD586FA1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242B-DFBD-4FFE-BA0B-4DEEF991C0A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DEAE-35DF-442B-B60A-E9814A20FF1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78AD-96C4-40D9-AB57-6F3AC7DEF90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F336-3544-4998-A6C9-79A0C0FF81C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BA85-1EA5-4A69-A316-C913B5211AA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F0C1-0D1E-47D1-8132-45BF970400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A6B7-3A9D-4FB7-8854-F192DA9062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6C154-D0CD-4BD7-92C4-379F792BA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DED5D-ECEB-4714-AC7C-0A2F86D20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24BD1-9DC7-4E5E-9AD9-D2C457F6C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64408-ECA7-48D0-801C-2EE9A273A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C16F18-B833-4CA2-B274-7EDE4BBAF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7B81E-A5B4-4CC1-9F5C-EA2E3D87D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CE234-C2B2-43C7-8B4B-E392F4D83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72F02-26FA-451B-8841-D4C78D656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5F9CF-1FA2-4310-9F97-27BDF4EA0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14D27-B883-4A69-AE93-88F98C1C2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7733A-7ED1-4C69-87C0-8B8EE27D9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FA053-1E73-46E9-A5CC-22DD7EC0D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AAC2B-F96B-4047-B597-315EF2EC8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CDB14-A04B-4D60-9F96-EA7B04E8A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64065-9CE4-4A72-81F6-8016C987A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2E171-E47D-40FD-A3DE-7A2553F5E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429E59-3A56-42DB-9410-1FE9551867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95C814-1B5E-41ED-9277-A62A7FA0BE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5F1376-D6C5-4CB9-8960-2590904522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634A7F-C8F5-4314-89B0-DFEFCAE575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570A07-4031-4C64-9CE9-7116390C5D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406DD1-2C28-4525-8EE5-69B673249F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33AF5-E9FF-4BF4-9895-FE2659BC5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1D2D6E-5FB9-4493-ABB6-F41D9ACE16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18433-3403-4AB9-910C-EE8069F2B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FF13FA-B59E-461E-B1AD-A3844E2D39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4C3D1-9F11-4667-8E5C-2B6EBAC5CB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696791-29AF-48BE-A0DD-DC3142E861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77E093-1814-4511-B850-4A9AFD69AD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319C46-C094-4FFC-BF73-273A5F5B28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2C9603-8E4F-4A87-AB1D-60D6E35B6D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FAEFB0-3D31-474A-AC40-D45CB328F4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8C2EE9-9A05-4BCB-A56F-1A22C6EC95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CDC71-01EA-4F42-80DE-BC6F4A231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ADCA15-6208-4AAB-BA69-6D87C6257C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882C3A-3AD2-4C65-BAF6-9CBD232852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E94917-CBAF-4364-A247-C04ED7DCB5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9AD2A-1DBA-4689-8C45-CE26B7FE7E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420245-82B9-4255-92A3-84B96ED2F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37AC5E-D9A9-45F8-9071-50B84255C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D6E553-A3E9-4C60-98D6-6A6EBD413A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91636B-C574-4EB0-B2B0-6DC2DCD55F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93B215-22F9-4413-A252-9CD40E3BDE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3B8880-7D1A-416F-9BF2-2F22214999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E1043-38C3-4416-8A53-7E2E958E3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2B9D88-9051-4E1F-A60A-12D249969D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91D000-F8FC-4F6D-BF49-5CD16D318A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75A8BA-D7DD-41E2-A398-6B2D0A551B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A0A8F5-6EC4-43C9-951D-4957C444B6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7D6369-825B-4348-952B-7A154725CD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FE3F1D-13A5-41C9-A212-1691EF88B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76AE76-7751-49D4-9250-658B987BA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16F1F4-89A9-43C5-9648-B44546E28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98269E-1010-43C2-9037-DB29045647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3A124D-510B-406E-A3A6-965E93C036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7CE99-40EB-4471-ACDD-4FEA0BE99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ADF23B-0F11-4231-99AC-9CE96D2F15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77DBE7-3F9C-41BC-9EB6-7D0F767C8E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D867C2-DBB8-4622-943C-F6613BF7CF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2DC167-522C-43DD-8915-A8007E126F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996413-9C6D-44CF-87CB-85BB068880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0D231A-EDEA-416C-8A42-83F1DE8C68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402E66-5228-46C4-B715-6C571FDC11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900FA6-9233-4A06-B147-004776AF44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F45DCF-55F9-4E11-B40D-4A8DCB690B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F80374-A6D5-4C15-AD21-7770D49613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9319A-3A8E-4681-8134-E8151DC25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E92D45-F32B-46E3-8A8F-BF31BBC778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E1326A-1A29-4847-9BD5-3E46FDBCD5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3A5F1B-FA36-4CD9-901A-BAE7F0E3C2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8FCB6-C4E3-489A-B738-51047C8FC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4D521-23A3-4DE6-9A0F-0D4CB833F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7C79-EBCD-4D13-BEFB-2C3BFD79A9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244E-F33D-46FA-B760-1A60C63D95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580B-2E3E-44B2-82D4-DA082DA5F9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1B89-A77B-490B-B902-D05B315AC2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E644-8612-4698-812F-E64FBF4A74A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3391-599C-4989-897B-31EC65E7C9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9A16-45BD-4C5D-A442-B69AD00018F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3E6B-3B24-4009-A2D1-3AF50565268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B24D-624A-487B-BCBC-AF365555281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7AB6-9663-48CE-A067-E8A0199891A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BB44-C0E9-4C63-BAAC-0C6BC6157F1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ABDD-7D1E-438B-BB18-79D6526DD31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2680"/>
            <a:chOff x="3098880" y="3529080"/>
            <a:chExt cx="2793600" cy="164268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7560"/>
              <a:ext cx="2793600" cy="40500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6400"/>
              <a:ext cx="2792160" cy="40536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10DC-7D72-4583-9A3D-3C6B5B4B925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Purchasing Power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82AE-5231-4206-830A-B37D7FC1E5D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7329-795D-453B-A305-82EEE93A4C8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Inflat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1A58-BBD5-416C-BB29-EC44F805003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0A36-487D-41BD-8A0C-BF758C8AB19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ＭＳ Ｐゴシック"/>
              </a:rPr>
              <a:t>A</a:t>
            </a:r>
            <a:r>
              <a:rPr b="1" i="1" lang="en-US" sz="4000" spc="-1" strike="noStrike">
                <a:solidFill>
                  <a:srgbClr val="000000"/>
                </a:solidFill>
                <a:latin typeface="Arial"/>
                <a:ea typeface="ＭＳ Ｐゴシック"/>
              </a:rPr>
              <a:t> recess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143D-2587-4C13-AB95-EDB9075D583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37F3-2EE8-469F-8B52-4217713CB56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7094-AC76-4E29-80D1-5CA20F98786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interdependent is</a:t>
              </a:r>
              <a:br>
                <a:rPr sz="2300"/>
              </a:br>
              <a:r>
                <a:rPr b="1" lang="en-US" sz="2300" spc="-1" strike="noStrike">
                  <a:solidFill>
                    <a:srgbClr val="000000"/>
                  </a:solidFill>
                  <a:latin typeface="Arial"/>
                  <a:ea typeface="ＭＳ Ｐゴシック"/>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568F-5711-4703-8F33-E10BF2D4E98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rm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5 </a:t>
            </a:r>
            <a:r>
              <a:rPr b="0" lang="en-US" sz="2800" spc="-1" strike="noStrike">
                <a:solidFill>
                  <a:srgbClr val="000000"/>
                </a:solidFill>
                <a:latin typeface="Arial"/>
                <a:ea typeface="ＭＳ Ｐゴシック"/>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6 </a:t>
            </a:r>
            <a:r>
              <a:rPr b="0" lang="en-US" sz="2800" spc="-1" strike="noStrike">
                <a:solidFill>
                  <a:srgbClr val="000000"/>
                </a:solidFill>
                <a:latin typeface="Arial"/>
                <a:ea typeface="ＭＳ Ｐゴシック"/>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7 </a:t>
            </a:r>
            <a:r>
              <a:rPr b="0" lang="en-US" sz="2800" spc="-1" strike="noStrike">
                <a:solidFill>
                  <a:srgbClr val="000000"/>
                </a:solidFill>
                <a:latin typeface="Arial"/>
                <a:ea typeface="ＭＳ Ｐゴシック"/>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8 </a:t>
            </a:r>
            <a:r>
              <a:rPr b="0" lang="en-US" sz="2800" spc="-1" strike="noStrike">
                <a:solidFill>
                  <a:srgbClr val="000000"/>
                </a:solidFill>
                <a:latin typeface="Arial"/>
                <a:ea typeface="ＭＳ Ｐゴシック"/>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0605-9CF3-48CA-B3CD-D590641DBB8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0DE4-5D30-489E-BB5F-D0A80C8119F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3EDE-E3BD-4F63-A745-727FE6C979F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ea typeface="ＭＳ Ｐゴシック"/>
              </a:rPr>
              <a:t>Environmental Management</a:t>
            </a:r>
            <a:r>
              <a:rPr b="1" i="1" lang="en-US" sz="4000" spc="-1" strike="noStrike">
                <a:solidFill>
                  <a:srgbClr val="00afd7"/>
                </a:solidFill>
                <a:latin typeface="Arial"/>
                <a:ea typeface="ＭＳ Ｐゴシック"/>
              </a:rPr>
              <a:t> </a:t>
            </a:r>
            <a:r>
              <a:rPr b="0" i="1" lang="en-US" sz="2800" spc="-1" strike="noStrike">
                <a:solidFill>
                  <a:srgbClr val="00afd7"/>
                </a:solidFill>
                <a:latin typeface="Arial"/>
                <a:ea typeface="ＭＳ Ｐゴシック"/>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cribe the social factors </a:t>
            </a:r>
            <a:br>
              <a:rPr sz="2400"/>
            </a:br>
            <a:r>
              <a:rPr b="1" lang="en-US" sz="2400" spc="-1" strike="noStrike">
                <a:solidFill>
                  <a:srgbClr val="000000"/>
                </a:solidFill>
                <a:latin typeface="Arial"/>
                <a:ea typeface="ＭＳ Ｐゴシック"/>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1D2B-D0CA-4524-9350-CEFD9C10544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000"/>
              <a:ext cx="2220840" cy="258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F87D-6558-4F79-8F6A-AB3CDFBCA81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8-28T07:34:57Z</dcterms:modified>
  <cp:revision>597</cp:revision>
  <dc:subject>An Overview of Marketing</dc:subject>
  <dc:title>Chapter 1</dc:title>
</cp:coreProperties>
</file>