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Eras Bold ITC"/>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17921-20B6-4FF0-9C1B-E16AA75638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B058A-96C2-4FF8-8BB1-BFBA0813876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6A82-B239-4308-8243-4A2D6FF950A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D74E9-CAFE-4EBD-BEC3-E15AD13B29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some evidence that social media users feel a greater sense of companionship and support than non-social media us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use of social media requires more than receiving likes on Facebook, but creating a relationship based on shared interests with the consumer.</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B6CF-77C9-4772-8A87-52D860A11A2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A1577-2E9E-4DFE-AD2E-2CF83BFDA32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acebook were a country, it would be the world’s third largest behind China and Ind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20A6F-B904-4DD8-A198-2970757584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5563-7D61-4401-AEF6-FF535EA6127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A3B7-1168-405F-8323-F03BE311346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3383-905D-4697-A4B8-A12D3ED153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controllable variable in the external environment is demography: the study of people’s vital statistics, such as age, race and ethnicity, and loc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characteristics are strongly related to consumer buyer behavio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0E75-9AB5-44FA-9616-83BAC4BE8D6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99C3-2AFF-4FAA-A1F0-2EBA0754C47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41882-12D1-417B-B4A5-A32740670A5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9F48-28E4-40A5-8DFB-93749CE9AD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economic areas of greatest concern to marketers are consumers’ incomes, purchasing power, inflation, and rece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05EA-099D-44AF-862A-6D0813A23E8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4E22A-F6B7-4A2A-B7C0-3FCF88BCB80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fell the most in the South, West, and Florida. These areas also had the largest declines in home values and housing construction.</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jobs scarce, many people have accepted pay cuts to keep their current jobs or taken less-paying—but available—job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3C365-2398-4482-8D18-E556F14AD4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AC71-5A94-4729-8FA3-DE00FECD8A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ncreased standards of living are a function of purchasing power.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en income is high relative to cost of living, people have more discretionary income. That means they have more money to spend on nonessential item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A9FC-813C-4A9E-9404-2D86805347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1FF6-ECAC-444F-9995-C23F3523902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n times of low inflation, businesses seeking to increase their profit margins can do so only by increasing their effici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buyer will not pay more for a product than the subjective value he/she places on i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66379-BBF2-4D58-938A-E84C3BE672D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71CCE-09A5-44E9-B4D0-2C5591E60B4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6980-01CD-43B9-94C7-D7EACC21662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in December 2007, the collapse of inflated housing prices triggered what became the global recession of 2007–2009.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ining stock market, growing unemployment, and collapsing home prices have all taken a toll on consumer confidence and influenced all kinds of purchasing decis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E2FD-066C-4D22-80DE-9D2A1D7FC78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730B-4045-4644-9EDA-3BDCF8C7A74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05C0-1876-427C-9AA2-C4F4270A61C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FC47A-D7B0-4994-BCBC-EB937961D22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CFA8-14FF-459E-AC37-96D870CB128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68C0B-BA19-4DBF-9450-F1E30E308E6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61100-AC39-4525-A8F6-8EBE6575E4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04B2-9154-4E84-B697-B7898590696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needs government regulations to protect innovators of new technology, the interests of society in general, one business from another, and consum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vernment needs business for generation of tax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aspect of the marketing mix is subject to laws and restrictions.  It is the responsibility of marketing managers to understand and conform to these laws, while creating new programs to accomplish marketing objectiv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AAB3-016A-4B46-A3FD-D3C2C7E61C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735FD-C578-4FA8-A967-D85CEEA9831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8F6F-7C0F-4D73-9E49-AF1AE1198E5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14580-6B11-4868-9814-766755F0ED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etitive environment encompasses the number of competitors a firm must face, the relative size of the competitors, and the degree of interdependence within the industr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ment has little control over the competitiv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67B0-CB18-47AE-A4E7-9E33900557A2}"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F6ED-9DF6-450A-B331-F3F4E713825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ical advances can usher in a whole new set of competitors that can change a firm’s business mode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foreign competitors are considering the U.S. to be a ripe target market. In the past, foreign firms penetrated U.S. markets on price. Today, they compete on product qual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 competition is discussed in Chapter 5.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B5D7-9555-4576-A61C-8FE066A087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AE1D-5C97-4779-8CA9-C5F94762B5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CEB0-05E6-4648-B414-475E72C953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CB0C8-7629-4E3C-975F-33FF7739D34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50F98-097F-4C5D-8259-60B10039C9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s within the external environment that are important to marketing mangers can be classified as social, demographic, economic, technological, political and legal, and competitiv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first understand how customers buy, where they buy, what they buy, and when they bu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what drives consumer decis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identify the most valuable customers and understand their need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understand the competition.</a:t>
            </a:r>
            <a:endParaRPr b="0" lang="en-US" sz="1200" spc="-1" strike="noStrike">
              <a:solidFill>
                <a:srgbClr val="000000"/>
              </a:solidFill>
              <a:latin typeface="Arial"/>
            </a:endParaRPr>
          </a:p>
        </p:txBody>
      </p:sp>
      <p:sp>
        <p:nvSpPr>
          <p:cNvPr id="412"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19230-C8FD-42A8-8252-36283FC247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94C3E-E64A-41AD-871A-C1E49D9837B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6C5A-4140-499C-A866-4C1AD5C34E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20CF-73F0-415C-A174-43A17A11AC3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94CA-FE78-461F-AB1A-D083AE8E3DA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hange is perhaps the most difficult external variable for marketing managers to forecast, influence, or integrate into marketing pla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factors influence the products people buy, the price paid, the effectiveness of specific promotions, and how, where, and when people expect to purchase produc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4 The Marketing Environment</a:t>
            </a:r>
            <a:endParaRPr b="0" lang="en-US" sz="1200" spc="-1" strike="noStrike">
              <a:solidFill>
                <a:srgbClr val="000000"/>
              </a:solidFill>
              <a:latin typeface="Eras Bold ITC"/>
            </a:endParaRPr>
          </a:p>
        </p:txBody>
      </p:sp>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22F18-6858-43E0-A4BC-D48B34F3AA3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98C86-0688-4E27-9451-FDA33378940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lue is a strongly held and enduring belief. The four basic values shown influenced the attitudes and lifestyles during the first 200 years of the United States. They are:</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f-sufficiency: Every person should stand on his or her own two feet.  </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ward mobility: Success comes with getting an education, working hard, and playing by the rules.</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ethic: Hard work, dedication to family, and frugality are moral and right.</a:t>
            </a:r>
            <a:endParaRPr b="0" lang="en-US" sz="1200" spc="-1" strike="noStrike">
              <a:solidFill>
                <a:srgbClr val="000000"/>
              </a:solidFill>
              <a:latin typeface="Arial"/>
            </a:endParaRPr>
          </a:p>
          <a:p>
            <a:pPr marL="228600" indent="-2286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ormity: No one should expect to be treated differently from everybody els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ues are formed through interaction with family, friends, and influencers such as teachers, religious leaders, and politicians. The environment can also play a role in shaping valu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consumers rank the characteristics of product quality as (1) reliability, (2) durability, (3) easy maintenance, (4) ease of use, (5) a trusted brand name, and (6) a low pr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nvironmental influences have affected the values of Americans?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Great Depression, Women’s Role in the Workplace, Hippie Revolution of 1960s, the September 11 terrorist attack.</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56C5F-73F1-4344-8282-A7334435A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A461F-1555-42DF-A147-F61FE3E49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725F8-25A2-4A31-80C0-3A381A0CAA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69A54-DAD9-4CF9-BE2E-A5AD979C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12D188-0206-4C30-9084-FF6ED2291C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C2972F-2E94-4D38-B9F2-E5A9BD21C2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392327-6E29-443C-8B92-31234A0082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9CA6A-3BE5-4297-B6EA-4747724326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0CA432-E05C-4031-BE9A-CCEBCB1F7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1A37A-64E0-46A3-B22F-106BA1B9AE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0FD33F-59CB-44C9-94C0-FEDD2068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DF626-1483-4CF9-8BFA-1427DEF10D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FF919-8EBA-4A12-90E5-438C9192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BA885-6F24-4199-8B65-67B7AE9B0B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D1BA2-F60A-438B-A825-2A6D24224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E30B5D-332E-45F4-9E4A-FD94EE8E55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CB344F-14D4-4636-BC5D-38C19DA8D1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35D10B-8F72-413E-BFEE-344397ECFC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0D648E-22C9-4B86-B035-12933E74CA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DE1E9C-E776-4275-9E98-A73CB7BD0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D14D54-DBF0-461C-8CF1-DDECE4834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B6ABE5-D0AC-4B83-A495-0E3603FE7E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DDF79-02AF-4F75-B057-B57759E53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B14CFE-C122-45CF-AFD5-5DFA40153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D1A54-732A-4799-8092-33AC34A024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B68877-7586-442C-BCD3-5EA1327205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FA18B9-2C85-4CBB-9ECF-8A552EE8EC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3B077D-9457-4EED-AD33-C50527AE92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2BCA9D-A469-4639-B18F-3E7EE7A498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4B927B-E281-4E5B-91F8-DE6FF0D9F4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EE0601-C8DD-464C-BB27-CF57BBFE75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AF7C65-E7F0-4713-B54E-B2F365305A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3DF3C-570F-4A98-A72C-6C60D0E550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5176E-53E1-47B4-83CA-50663CC79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A18ABD-3E83-46D7-865B-950F8FC529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05936B-0C7B-45FC-8F7C-04AE41F139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63A11-AEA0-4FDB-B1DC-3F805E7FAB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7CED86-3AEA-40F1-B766-A2EE59F873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9CE593-7231-4116-80A3-39EB1F0D6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1C8CC8-4DEC-4509-BAEC-65F654DCF2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3C7B91-42BD-4B8D-87C9-AFF21B6315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173BC6-9728-421C-A922-594D45C08B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A451F-67BD-4B5B-8195-3B7482583A8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D7D8BD-3EAE-4A60-98EE-953CA80BF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E65B6-0990-4EEF-8EB7-DB433CA39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D03D2-7180-4789-9811-E1DC3AF163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1B9AD9-B9B6-4BA6-905C-73874D70A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24CAD0-7444-4F1B-9FBB-8DE3880B13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C4E9BE-F660-41D1-8F2B-AEE129D22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14197D-1D05-40C2-B056-DD0E1A3E75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D30FD-F664-41B5-A704-CEC157CD4A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BEE31D-3C1E-47C7-8DE5-AC2EC37DA5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3BBA0C-2CE2-4947-8D89-595621AC5C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E78F6-BD39-441B-960A-EBC8768068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F7472A-7EF1-4383-819C-6B5108994C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DBB9B-CC5C-4E8D-851C-542B21870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F33C2E-25F8-42E7-A28B-8EF6F16D61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BE5A67-1F92-4911-A1AE-591AA55800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F20193-85A7-4C67-903F-5319F350D9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ABCF63-4857-4368-ACB0-3427942226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FD4402-310A-4E49-9CED-A776CE18FA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6D9B1-A169-4DF1-8F25-B3E0FEB811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4D4434B-C113-4890-8F63-B28C3F675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759D2C-D89E-4590-A88F-E5CAEB552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1F29C0-2994-4858-85AD-FF4615832E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40C7D-5657-4DE3-8D5D-06940CC584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84B23-5B4A-4310-A8B1-B5BEFF7A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EDF1AA-6BE8-41AE-B060-052D85CE8C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AAA9BD-90E3-4A52-9236-C939EDD9B4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4EB28D-764F-41D6-921E-E16A4B44E3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60095-4C38-4DC4-A8B3-7065AFD37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2F0EA-29A4-49D0-A021-8DE1DF708D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1D0DE-DBD6-4E9B-843C-D94D677C80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93D72-B88A-4C95-AC8E-BCD7D038C55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A6C3B-BCD8-42A8-AA49-36E257EE1B2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AE7AC-D5FA-49B9-9771-1696A24E0D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EDC32-1A0E-40EC-98FB-8EA30FB95E5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6"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7/16/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96521-A001-4A01-B9D1-4279838035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stevepavlina.com/blog/2004/11/list-of-values/" TargetMode="External"/><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8"/>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95CF3-E7FF-42E6-BB40-2CFDBB2D825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e312d"/>
                </a:solidFill>
                <a:latin typeface="Calibri"/>
              </a:rPr>
              <a:t>Chapter 4</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Marketing Environment</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1295280" y="436680"/>
            <a:ext cx="6477120" cy="5613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000000"/>
                </a:solidFill>
                <a:uFillTx/>
                <a:latin typeface="Calibri"/>
              </a:rPr>
              <a:t>An example of American Values</a:t>
            </a: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merican society is greatly influenced by a set of four </a:t>
            </a:r>
            <a:r>
              <a:rPr b="0" lang="en-US" sz="2400" spc="-1" strike="noStrike">
                <a:solidFill>
                  <a:srgbClr val="000000"/>
                </a:solidFill>
                <a:latin typeface="Calibri"/>
              </a:rPr>
              <a:t>	</a:t>
            </a:r>
            <a:r>
              <a:rPr b="0" lang="en-US" sz="2400" spc="-1" strike="noStrike">
                <a:solidFill>
                  <a:srgbClr val="000000"/>
                </a:solidFill>
                <a:latin typeface="Calibri"/>
              </a:rPr>
              <a:t>values:</a:t>
            </a:r>
            <a:endParaRPr b="0" lang="en-US" sz="24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lf-sufficiency:</a:t>
            </a:r>
            <a:r>
              <a:rPr b="0" lang="en-US" sz="1800" spc="-1" strike="noStrike">
                <a:solidFill>
                  <a:srgbClr val="000000"/>
                </a:solidFill>
                <a:latin typeface="Calibri"/>
              </a:rPr>
              <a:t> Every person should stand on his or her own two feet.  </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ward mobility: </a:t>
            </a:r>
            <a:r>
              <a:rPr b="0" lang="en-US" sz="1800" spc="-1" strike="noStrike">
                <a:solidFill>
                  <a:srgbClr val="000000"/>
                </a:solidFill>
                <a:latin typeface="Calibri"/>
              </a:rPr>
              <a:t>Success comes with getting an education, working hard, and playing by the rules.</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ork ethic: </a:t>
            </a:r>
            <a:r>
              <a:rPr b="0" lang="en-US" sz="1800" spc="-1" strike="noStrike">
                <a:solidFill>
                  <a:srgbClr val="000000"/>
                </a:solidFill>
                <a:latin typeface="Calibri"/>
              </a:rPr>
              <a:t>Hard work, dedication to family, and frugality are moral and right.</a:t>
            </a:r>
            <a:endParaRPr b="0" lang="en-US" sz="1800" spc="-1" strike="noStrike">
              <a:solidFill>
                <a:srgbClr val="000000"/>
              </a:solidFill>
              <a:latin typeface="Calibri"/>
            </a:endParaRPr>
          </a:p>
          <a:p>
            <a:pPr>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formity: </a:t>
            </a:r>
            <a:r>
              <a:rPr b="0" lang="en-US" sz="1800" spc="-1" strike="noStrike">
                <a:solidFill>
                  <a:srgbClr val="000000"/>
                </a:solidFill>
                <a:latin typeface="Calibri"/>
              </a:rPr>
              <a:t>No one should expect to be treated differently from everybody else</a:t>
            </a:r>
            <a:endParaRPr b="0" lang="en-US" sz="1800" spc="-1" strike="noStrike">
              <a:solidFill>
                <a:srgbClr val="000000"/>
              </a:solidFill>
              <a:latin typeface="Calibri"/>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typically form values through interactions with family, friends, and other influencer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01"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0BF0E-DB1E-40AA-9149-D0C69E3199E4}" type="slidenum">
              <a:rPr b="0" lang="en-US" sz="1200" spc="-1" strike="noStrike">
                <a:solidFill>
                  <a:srgbClr val="898989"/>
                </a:solidFill>
                <a:latin typeface="Calibri"/>
              </a:rPr>
              <a:t>&lt;number&gt;</a:t>
            </a:fld>
            <a:endParaRPr b="0" lang="en-US" sz="1200" spc="-1" strike="noStrike">
              <a:solidFill>
                <a:srgbClr val="000000"/>
              </a:solidFill>
              <a:latin typeface="Eras Bold IT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4"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45C09-EF0B-43B5-9B31-15FB9765AB9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5"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Social Media in Communication and shaping our behavior</a:t>
            </a:r>
            <a:endParaRPr b="0" lang="en-US" sz="2800" spc="-1" strike="noStrike">
              <a:solidFill>
                <a:srgbClr val="000000"/>
              </a:solidFill>
              <a:latin typeface="Calibri"/>
            </a:endParaRPr>
          </a:p>
        </p:txBody>
      </p:sp>
      <p:sp>
        <p:nvSpPr>
          <p:cNvPr id="306" name=""/>
          <p:cNvSpPr txBox="1"/>
          <p:nvPr/>
        </p:nvSpPr>
        <p:spPr>
          <a:xfrm>
            <a:off x="1510920" y="1679400"/>
            <a:ext cx="6273720" cy="4724640"/>
          </a:xfrm>
          <a:prstGeom prst="rect">
            <a:avLst/>
          </a:prstGeom>
          <a:noFill/>
          <a:ln w="0">
            <a:noFill/>
          </a:ln>
        </p:spPr>
        <p:txBody>
          <a:bodyPr anchor="t">
            <a:normAutofit/>
          </a:bodyPr>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media are making profound changes in the way we obtain and consume information.</a:t>
            </a: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networking has changed the game when it comes to opinion sharing. Now, consumers can reach many people at once with their views—and can respond to brands and events in real time.</a:t>
            </a:r>
            <a:endParaRPr b="0" lang="en-US" sz="2400" spc="-1" strike="noStrike">
              <a:solidFill>
                <a:srgbClr val="000000"/>
              </a:solidFill>
              <a:latin typeface="Calibri"/>
            </a:endParaRPr>
          </a:p>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enagers and young adults are more likely to view social networks as a valuable source of information.</a:t>
            </a:r>
            <a:endParaRPr b="0" lang="en-US" sz="24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8"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A890C-0938-4554-AA35-A6876C284C2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9" name="PlaceHolder 1"/>
          <p:cNvSpPr>
            <a:spLocks noGrp="1"/>
          </p:cNvSpPr>
          <p:nvPr>
            <p:ph type="title"/>
          </p:nvPr>
        </p:nvSpPr>
        <p:spPr>
          <a:xfrm>
            <a:off x="1307880" y="128160"/>
            <a:ext cx="6591240" cy="125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How Firms Use Social Media</a:t>
            </a:r>
            <a:endParaRPr b="0" lang="en-US" sz="3600" spc="-1" strike="noStrike">
              <a:solidFill>
                <a:srgbClr val="000000"/>
              </a:solidFill>
              <a:latin typeface="Calibri"/>
            </a:endParaRPr>
          </a:p>
        </p:txBody>
      </p:sp>
      <p:sp>
        <p:nvSpPr>
          <p:cNvPr id="310" name=""/>
          <p:cNvSpPr txBox="1"/>
          <p:nvPr/>
        </p:nvSpPr>
        <p:spPr>
          <a:xfrm>
            <a:off x="1409400" y="1526760"/>
            <a:ext cx="6273720" cy="4724280"/>
          </a:xfrm>
          <a:prstGeom prst="rect">
            <a:avLst/>
          </a:prstGeom>
          <a:noFill/>
          <a:ln w="0">
            <a:noFill/>
          </a:ln>
        </p:spPr>
        <p:txBody>
          <a:bodyPr anchor="t">
            <a:normAutofit/>
          </a:bodyPr>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arting point for a firm using social media is to monitor what is being said about the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ddition to monitoring, the firm must respond to both positive and negative buzz about the company or brand.</a:t>
            </a: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8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ocial media can also be used to amplify a promotional campaign by inviting consumers to join the conversation about a brand.</a:t>
            </a:r>
            <a:endParaRPr b="0" lang="en-US" sz="28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AutoShape 2"/>
          <p:cNvSpPr/>
          <p:nvPr/>
        </p:nvSpPr>
        <p:spPr>
          <a:xfrm>
            <a:off x="2517840" y="2446200"/>
            <a:ext cx="4108320" cy="300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importance </a:t>
            </a:r>
            <a:br>
              <a:rPr sz="2400"/>
            </a:br>
            <a:r>
              <a:rPr b="1" lang="en-US" sz="2400" spc="-1" strike="noStrike">
                <a:solidFill>
                  <a:srgbClr val="000000"/>
                </a:solidFill>
                <a:latin typeface="Calibri"/>
              </a:rPr>
              <a:t>to marketing managers of </a:t>
            </a:r>
            <a:br>
              <a:rPr sz="2400"/>
            </a:br>
            <a:r>
              <a:rPr b="1" lang="en-US" sz="2400" spc="-1" strike="noStrike">
                <a:solidFill>
                  <a:srgbClr val="000000"/>
                </a:solidFill>
                <a:latin typeface="Calibri"/>
              </a:rPr>
              <a:t>current demographic trends</a:t>
            </a:r>
            <a:br>
              <a:rPr sz="2400"/>
            </a:br>
            <a:endParaRPr b="0" lang="en-US" sz="2400" spc="-1" strike="noStrike">
              <a:solidFill>
                <a:srgbClr val="000000"/>
              </a:solidFill>
              <a:latin typeface="Eras Bold ITC"/>
            </a:endParaRPr>
          </a:p>
        </p:txBody>
      </p:sp>
      <p:sp>
        <p:nvSpPr>
          <p:cNvPr id="312"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3" name="Rectangle 3"/>
          <p:cNvSpPr/>
          <p:nvPr/>
        </p:nvSpPr>
        <p:spPr>
          <a:xfrm>
            <a:off x="0" y="503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mographic Factors</a:t>
            </a:r>
            <a:endParaRPr b="0" lang="en-US" sz="4400" spc="-1" strike="noStrike">
              <a:solidFill>
                <a:srgbClr val="000000"/>
              </a:solidFill>
              <a:latin typeface="Eras Bold ITC"/>
            </a:endParaRPr>
          </a:p>
        </p:txBody>
      </p:sp>
      <p:sp>
        <p:nvSpPr>
          <p:cNvPr id="314"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3</a:t>
            </a:r>
            <a:endParaRPr b="0" lang="en-US" sz="28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6"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2F7AA-6B13-4674-8943-24A5B5B8F86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7" name="PlaceHolder 1"/>
          <p:cNvSpPr>
            <a:spLocks noGrp="1"/>
          </p:cNvSpPr>
          <p:nvPr>
            <p:ph type="title"/>
          </p:nvPr>
        </p:nvSpPr>
        <p:spPr>
          <a:xfrm>
            <a:off x="1371600" y="274320"/>
            <a:ext cx="6502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Factors</a:t>
            </a:r>
            <a:endParaRPr b="0" lang="en-US" sz="4000" spc="-1" strike="noStrike">
              <a:solidFill>
                <a:srgbClr val="000000"/>
              </a:solidFill>
              <a:latin typeface="Calibri"/>
            </a:endParaRPr>
          </a:p>
        </p:txBody>
      </p:sp>
      <p:sp>
        <p:nvSpPr>
          <p:cNvPr id="318" name="Text Box 13"/>
          <p:cNvSpPr/>
          <p:nvPr/>
        </p:nvSpPr>
        <p:spPr>
          <a:xfrm>
            <a:off x="1293840" y="1731960"/>
            <a:ext cx="6504120" cy="503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y is the study of people’s vital statistics, such as age, race, ethnicity and location.</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 variable is extremely important to marketing managers</a:t>
            </a:r>
            <a:endParaRPr b="0" lang="en-US" sz="2400" spc="-1" strike="noStrike">
              <a:solidFill>
                <a:srgbClr val="000000"/>
              </a:solidFill>
              <a:latin typeface="Eras Bold ITC"/>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mographics are significant because the basis for any market is people.</a:t>
            </a:r>
            <a:endParaRPr b="0" lang="en-US" sz="24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haracteristics relate to buyer behavior</a:t>
            </a:r>
            <a:endParaRPr b="0" lang="en-US" sz="2000" spc="-1" strike="noStrike">
              <a:solidFill>
                <a:srgbClr val="000000"/>
              </a:solidFill>
              <a:latin typeface="Eras Bold ITC"/>
            </a:endParaRPr>
          </a:p>
          <a:p>
            <a:pPr lvl="1" marL="457200" indent="-22860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emographic cohorts have their own needs, values, and consumption patterns.</a:t>
            </a:r>
            <a:endParaRPr b="0" lang="en-US" sz="2000" spc="-1" strike="noStrike">
              <a:solidFill>
                <a:srgbClr val="000000"/>
              </a:solidFill>
              <a:latin typeface="Eras Bold ITC"/>
            </a:endParaRPr>
          </a:p>
          <a:p>
            <a:pPr lvl="2" marL="914400" indent="-2286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AutoShape 2"/>
          <p:cNvSpPr/>
          <p:nvPr/>
        </p:nvSpPr>
        <p:spPr>
          <a:xfrm>
            <a:off x="2130480" y="239400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consumer and </a:t>
            </a:r>
            <a:br>
              <a:rPr sz="2400"/>
            </a:br>
            <a:r>
              <a:rPr b="1" lang="en-US" sz="2400" spc="-1" strike="noStrike">
                <a:solidFill>
                  <a:srgbClr val="000000"/>
                </a:solidFill>
                <a:latin typeface="Calibri"/>
              </a:rPr>
              <a:t>marketer reactions to the </a:t>
            </a:r>
            <a:br>
              <a:rPr sz="2400"/>
            </a:br>
            <a:r>
              <a:rPr b="1" lang="en-US" sz="2400" spc="-1" strike="noStrike">
                <a:solidFill>
                  <a:srgbClr val="000000"/>
                </a:solidFill>
                <a:latin typeface="Calibri"/>
              </a:rPr>
              <a:t>state of the economy</a:t>
            </a:r>
            <a:endParaRPr b="0" lang="en-US" sz="2400" spc="-1" strike="noStrike">
              <a:solidFill>
                <a:srgbClr val="000000"/>
              </a:solidFill>
              <a:latin typeface="Eras Bold ITC"/>
            </a:endParaRPr>
          </a:p>
        </p:txBody>
      </p:sp>
      <p:sp>
        <p:nvSpPr>
          <p:cNvPr id="32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21" name="PlaceHolder 1"/>
          <p:cNvSpPr>
            <a:spLocks noGrp="1"/>
          </p:cNvSpPr>
          <p:nvPr>
            <p:ph type="title"/>
          </p:nvPr>
        </p:nvSpPr>
        <p:spPr>
          <a:xfrm>
            <a:off x="0" y="510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nomic Factors</a:t>
            </a:r>
            <a:endParaRPr b="0" lang="en-US" sz="4400" spc="-1" strike="noStrike">
              <a:solidFill>
                <a:srgbClr val="000000"/>
              </a:solidFill>
              <a:latin typeface="Calibri"/>
            </a:endParaRPr>
          </a:p>
        </p:txBody>
      </p:sp>
      <p:sp>
        <p:nvSpPr>
          <p:cNvPr id="32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5</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Footer Placeholder 10"/>
          <p:cNvSpPr/>
          <p:nvPr/>
        </p:nvSpPr>
        <p:spPr>
          <a:xfrm>
            <a:off x="2666880" y="6377040"/>
            <a:ext cx="44960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7F32-95ED-4DF6-BF9A-881DDBC9FF6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5" name="PlaceHolder 1"/>
          <p:cNvSpPr>
            <a:spLocks noGrp="1"/>
          </p:cNvSpPr>
          <p:nvPr>
            <p:ph type="title"/>
          </p:nvPr>
        </p:nvSpPr>
        <p:spPr>
          <a:xfrm>
            <a:off x="1504440" y="98280"/>
            <a:ext cx="6489720" cy="2363760"/>
          </a:xfrm>
          <a:prstGeom prst="rect">
            <a:avLst/>
          </a:prstGeom>
          <a:noFill/>
          <a:ln w="0">
            <a:noFill/>
          </a:ln>
        </p:spPr>
        <p:txBody>
          <a:bodyPr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Calibri"/>
              </a:rPr>
              <a:t>Economic Factors</a:t>
            </a:r>
            <a:br>
              <a:rPr sz="4000"/>
            </a:br>
            <a:br>
              <a:rPr sz="4000"/>
            </a:br>
            <a:r>
              <a:rPr b="0" lang="en-US" sz="2000" spc="-1" strike="noStrike">
                <a:solidFill>
                  <a:srgbClr val="000000"/>
                </a:solidFill>
                <a:latin typeface="Arial"/>
                <a:ea typeface="Arial"/>
              </a:rPr>
              <a:t>The four economic areas of greatest concern to marketers are consumers’ incomes, purchasing power, inflation, and recession.  </a:t>
            </a:r>
            <a:br>
              <a:rPr sz="2000"/>
            </a:br>
            <a:endParaRPr b="0" lang="en-US" sz="2000" spc="-1" strike="noStrike">
              <a:solidFill>
                <a:srgbClr val="000000"/>
              </a:solidFill>
              <a:latin typeface="Calibri"/>
            </a:endParaRPr>
          </a:p>
        </p:txBody>
      </p:sp>
      <p:sp>
        <p:nvSpPr>
          <p:cNvPr id="326" name="Slide Number Placeholder 5"/>
          <p:cNvSpPr/>
          <p:nvPr/>
        </p:nvSpPr>
        <p:spPr>
          <a:xfrm>
            <a:off x="6553080" y="6172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nvGrpSpPr>
          <p:cNvPr id="327" name="Group 101"/>
          <p:cNvGrpSpPr/>
          <p:nvPr/>
        </p:nvGrpSpPr>
        <p:grpSpPr>
          <a:xfrm>
            <a:off x="3098880" y="3529080"/>
            <a:ext cx="2793600" cy="1642680"/>
            <a:chOff x="3098880" y="3529080"/>
            <a:chExt cx="2793600" cy="1642680"/>
          </a:xfrm>
        </p:grpSpPr>
        <p:sp>
          <p:nvSpPr>
            <p:cNvPr id="328" name="Rectangle 98"/>
            <p:cNvSpPr/>
            <p:nvPr/>
          </p:nvSpPr>
          <p:spPr>
            <a:xfrm>
              <a:off x="3098880" y="3529080"/>
              <a:ext cx="2792160" cy="40500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Purchasing Power</a:t>
              </a:r>
              <a:endParaRPr b="0" lang="en-US" sz="1800" spc="-1" strike="noStrike">
                <a:solidFill>
                  <a:srgbClr val="000000"/>
                </a:solidFill>
                <a:latin typeface="Eras Bold ITC"/>
              </a:endParaRPr>
            </a:p>
          </p:txBody>
        </p:sp>
        <p:sp>
          <p:nvSpPr>
            <p:cNvPr id="329" name="Rectangle 99"/>
            <p:cNvSpPr/>
            <p:nvPr/>
          </p:nvSpPr>
          <p:spPr>
            <a:xfrm>
              <a:off x="3098880" y="4147560"/>
              <a:ext cx="2793600" cy="405000"/>
            </a:xfrm>
            <a:prstGeom prst="rect">
              <a:avLst/>
            </a:prstGeom>
            <a:solidFill>
              <a:srgbClr val="dbeef4"/>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Inflation</a:t>
              </a:r>
              <a:endParaRPr b="0" lang="en-US" sz="1800" spc="-1" strike="noStrike">
                <a:solidFill>
                  <a:srgbClr val="000000"/>
                </a:solidFill>
                <a:latin typeface="Eras Bold ITC"/>
              </a:endParaRPr>
            </a:p>
          </p:txBody>
        </p:sp>
        <p:sp>
          <p:nvSpPr>
            <p:cNvPr id="330" name="Rectangle 100"/>
            <p:cNvSpPr/>
            <p:nvPr/>
          </p:nvSpPr>
          <p:spPr>
            <a:xfrm>
              <a:off x="3098880" y="4766400"/>
              <a:ext cx="2792160" cy="405360"/>
            </a:xfrm>
            <a:prstGeom prst="rect">
              <a:avLst/>
            </a:prstGeom>
            <a:solidFill>
              <a:srgbClr val="4bacc6"/>
            </a:solidFill>
            <a:ln w="12600">
              <a:solidFill>
                <a:srgbClr val="eeece1"/>
              </a:solidFill>
              <a:miter/>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cession</a:t>
              </a:r>
              <a:endParaRPr b="0" lang="en-US" sz="1800" spc="-1" strike="noStrike">
                <a:solidFill>
                  <a:srgbClr val="000000"/>
                </a:solidFill>
                <a:latin typeface="Eras Bold ITC"/>
              </a:endParaRPr>
            </a:p>
          </p:txBody>
        </p:sp>
      </p:grpSp>
      <p:sp>
        <p:nvSpPr>
          <p:cNvPr id="331" name="Text Box 12"/>
          <p:cNvSpPr/>
          <p:nvPr/>
        </p:nvSpPr>
        <p:spPr>
          <a:xfrm>
            <a:off x="3098880" y="2625840"/>
            <a:ext cx="2743200" cy="962640"/>
          </a:xfrm>
          <a:prstGeom prst="rect">
            <a:avLst/>
          </a:prstGeom>
          <a:solidFill>
            <a:srgbClr val="dbeef4"/>
          </a:solidFill>
          <a:ln w="9360">
            <a:solidFill>
              <a:srgbClr val="dbeef4"/>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nsumers’ </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ncome</a:t>
            </a:r>
            <a:endParaRPr b="0" lang="en-US" sz="1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3"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352D-662F-47DA-88C4-5C545FE9793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4" name="PlaceHolder 1"/>
          <p:cNvSpPr>
            <a:spLocks noGrp="1"/>
          </p:cNvSpPr>
          <p:nvPr>
            <p:ph type="title"/>
          </p:nvPr>
        </p:nvSpPr>
        <p:spPr>
          <a:xfrm>
            <a:off x="1371600" y="201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s’ Incomes</a:t>
            </a:r>
            <a:endParaRPr b="0" lang="en-US" sz="4000" spc="-1" strike="noStrike">
              <a:solidFill>
                <a:srgbClr val="000000"/>
              </a:solidFill>
              <a:latin typeface="Calibri"/>
            </a:endParaRPr>
          </a:p>
        </p:txBody>
      </p:sp>
      <p:sp>
        <p:nvSpPr>
          <p:cNvPr id="335" name=""/>
          <p:cNvSpPr txBox="1"/>
          <p:nvPr/>
        </p:nvSpPr>
        <p:spPr>
          <a:xfrm>
            <a:off x="1647720" y="1485720"/>
            <a:ext cx="6099120" cy="4724280"/>
          </a:xfrm>
          <a:prstGeom prst="rect">
            <a:avLst/>
          </a:prstGeom>
          <a:noFill/>
          <a:ln w="0">
            <a:noFill/>
          </a:ln>
        </p:spPr>
        <p:txBody>
          <a:bodyPr anchor="t">
            <a:normAutofit/>
          </a:bodyPr>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 disposable income rise, more families and individuals can afford the ‘good life’. </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ducation is the primary determinant of earning potential</a:t>
            </a:r>
            <a:endParaRPr b="0" lang="en-US" sz="3200" spc="-1" strike="noStrike">
              <a:solidFill>
                <a:srgbClr val="000000"/>
              </a:solidFill>
              <a:latin typeface="Calibri"/>
            </a:endParaRPr>
          </a:p>
          <a:p>
            <a:pPr marL="343080" indent="-343080">
              <a:spcBef>
                <a:spcPts val="799"/>
              </a:spcBef>
              <a:buClr>
                <a:srgbClr val="ff66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nings/ income define our shopping behavior</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336" name="Rectangle 57"/>
          <p:cNvSpPr/>
          <p:nvPr/>
        </p:nvSpPr>
        <p:spPr>
          <a:xfrm>
            <a:off x="1752480" y="1981080"/>
            <a:ext cx="6248520" cy="509760"/>
          </a:xfrm>
          <a:prstGeom prst="rect">
            <a:avLst/>
          </a:prstGeom>
          <a:noFill/>
          <a:ln w="0">
            <a:noFill/>
          </a:ln>
        </p:spPr>
        <p:style>
          <a:lnRef idx="0"/>
          <a:fillRef idx="0"/>
          <a:effectRef idx="0"/>
          <a:fontRef idx="minor"/>
        </p:style>
        <p:txBody>
          <a:bodyPr lIns="90000" rIns="90000" tIns="46800" bIns="46800" anchor="t">
            <a:spAutoFit/>
          </a:bodyPr>
          <a:p>
            <a:pPr marL="520560" indent="-520560">
              <a:lnSpc>
                <a:spcPct val="105000"/>
              </a:lnSpc>
              <a:spcBef>
                <a:spcPts val="1624"/>
              </a:spcBef>
              <a:buClr>
                <a:srgbClr val="4f81bd"/>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Content Placeholder 2"/>
          <p:cNvSpPr/>
          <p:nvPr/>
        </p:nvSpPr>
        <p:spPr>
          <a:xfrm>
            <a:off x="2320920" y="1949400"/>
            <a:ext cx="524844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Arial"/>
              </a:rPr>
              <a:t>measured by comparing income to the relative cost of a standard set of goods and services in different geographic areas, usually referred to as the cost of living.</a:t>
            </a:r>
            <a:endParaRPr b="0" lang="en-US" sz="3200" spc="-1" strike="noStrike">
              <a:solidFill>
                <a:srgbClr val="000000"/>
              </a:solidFill>
              <a:latin typeface="Eras Bold ITC"/>
            </a:endParaRPr>
          </a:p>
        </p:txBody>
      </p:sp>
      <p:sp>
        <p:nvSpPr>
          <p:cNvPr id="338" name="TextBox 5"/>
          <p:cNvSpPr/>
          <p:nvPr/>
        </p:nvSpPr>
        <p:spPr>
          <a:xfrm>
            <a:off x="1380960" y="558720"/>
            <a:ext cx="5934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Purchasing Power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
        <p:nvSpPr>
          <p:cNvPr id="339"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0"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7053F-7774-4A45-A757-44C38AD7860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Content Placeholder 2"/>
          <p:cNvSpPr/>
          <p:nvPr/>
        </p:nvSpPr>
        <p:spPr>
          <a:xfrm>
            <a:off x="1917720" y="217008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measure of the decrease in the value of money, expressed as the percentage reduction in value since the previous year.</a:t>
            </a:r>
            <a:endParaRPr b="0" lang="en-US" sz="3200" spc="-1" strike="noStrike">
              <a:solidFill>
                <a:srgbClr val="000000"/>
              </a:solidFill>
              <a:latin typeface="Eras Bold ITC"/>
            </a:endParaRPr>
          </a:p>
        </p:txBody>
      </p:sp>
      <p:sp>
        <p:nvSpPr>
          <p:cNvPr id="342"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1CC48-94E0-4396-A0C3-12FC5D5FE73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4" name="TextBox 5"/>
          <p:cNvSpPr/>
          <p:nvPr/>
        </p:nvSpPr>
        <p:spPr>
          <a:xfrm>
            <a:off x="1419120" y="1346040"/>
            <a:ext cx="60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ＭＳ Ｐゴシック"/>
              </a:rPr>
              <a:t>Inflat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914400" y="1487520"/>
            <a:ext cx="7975440" cy="4241880"/>
          </a:xfrm>
          <a:prstGeom prst="rect">
            <a:avLst/>
          </a:prstGeom>
          <a:noFill/>
          <a:ln w="0">
            <a:noFill/>
          </a:ln>
        </p:spPr>
        <p:style>
          <a:lnRef idx="0"/>
          <a:fillRef idx="0"/>
          <a:effectRef idx="0"/>
          <a:fontRef idx="minor"/>
        </p:style>
        <p:txBody>
          <a:bodyPr lIns="90000" rIns="90000" tIns="46800" bIns="46800" anchor="t">
            <a:no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1 </a:t>
            </a:r>
            <a:r>
              <a:rPr b="0" lang="en-US" sz="2800" spc="-1" strike="noStrike">
                <a:solidFill>
                  <a:srgbClr val="000000"/>
                </a:solidFill>
                <a:latin typeface="Arial"/>
              </a:rPr>
              <a:t>Discuss the external environment of marketing and explain how it affects a firm</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2 </a:t>
            </a:r>
            <a:r>
              <a:rPr b="0" lang="en-US" sz="2800" spc="-1" strike="noStrike">
                <a:solidFill>
                  <a:srgbClr val="000000"/>
                </a:solidFill>
                <a:latin typeface="Arial"/>
              </a:rPr>
              <a:t>Describe the social factors that affect marketing</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3 </a:t>
            </a:r>
            <a:r>
              <a:rPr b="0" lang="en-US" sz="2800" spc="-1" strike="noStrike">
                <a:solidFill>
                  <a:srgbClr val="000000"/>
                </a:solidFill>
                <a:latin typeface="Arial"/>
              </a:rPr>
              <a:t>Explain the importance to marketing managers of current demographic trends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Arial"/>
              </a:rPr>
              <a:t>4-4 </a:t>
            </a:r>
            <a:r>
              <a:rPr b="0" lang="en-US" sz="2800" spc="-1" strike="noStrike">
                <a:solidFill>
                  <a:srgbClr val="000000"/>
                </a:solidFill>
                <a:latin typeface="Arial"/>
              </a:rPr>
              <a:t>Explain the importance to marketing managers of growing ethnic markets </a:t>
            </a:r>
            <a:endParaRPr b="0" lang="en-US" sz="2800" spc="-1" strike="noStrike">
              <a:solidFill>
                <a:srgbClr val="000000"/>
              </a:solidFill>
              <a:latin typeface="Eras Bold ITC"/>
            </a:endParaRPr>
          </a:p>
          <a:p>
            <a:pPr marL="573120" indent="-5731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263" name="Footer Placeholder 2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4" name="Slide Number Placeholder 21"/>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3304-C6B9-4363-90DE-9DE4FE0242B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Content Placeholder 2"/>
          <p:cNvSpPr/>
          <p:nvPr/>
        </p:nvSpPr>
        <p:spPr>
          <a:xfrm>
            <a:off x="2120760" y="2044800"/>
            <a:ext cx="5791320" cy="2514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 period of economic activity characterized by negative growth, which reduces demand for goods and services.</a:t>
            </a:r>
            <a:endParaRPr b="0" lang="en-US" sz="3200" spc="-1" strike="noStrike">
              <a:solidFill>
                <a:srgbClr val="000000"/>
              </a:solidFill>
              <a:latin typeface="Eras Bold ITC"/>
            </a:endParaRPr>
          </a:p>
        </p:txBody>
      </p:sp>
      <p:sp>
        <p:nvSpPr>
          <p:cNvPr id="346" name="Footer Placeholder 6"/>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5"/>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21457-F89E-4006-9E0B-D60948B7AF0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8" name="TextBox 5"/>
          <p:cNvSpPr/>
          <p:nvPr/>
        </p:nvSpPr>
        <p:spPr>
          <a:xfrm>
            <a:off x="1473120" y="1206360"/>
            <a:ext cx="626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ＭＳ Ｐゴシック"/>
              </a:rPr>
              <a:t>A</a:t>
            </a:r>
            <a:r>
              <a:rPr b="1" i="1" lang="en-US" sz="4000" spc="-1" strike="noStrike">
                <a:solidFill>
                  <a:srgbClr val="000000"/>
                </a:solidFill>
                <a:latin typeface="Arial"/>
                <a:ea typeface="ＭＳ Ｐゴシック"/>
              </a:rPr>
              <a:t> recession </a:t>
            </a:r>
            <a:r>
              <a:rPr b="0" i="1" lang="en-US" sz="3200" spc="-1" strike="noStrike">
                <a:solidFill>
                  <a:srgbClr val="000000"/>
                </a:solidFill>
                <a:latin typeface="Arial"/>
                <a:ea typeface="ＭＳ Ｐゴシック"/>
              </a:rPr>
              <a:t>is…</a:t>
            </a:r>
            <a:endParaRPr b="0" lang="en-US" sz="3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AutoShape 2"/>
          <p:cNvSpPr/>
          <p:nvPr/>
        </p:nvSpPr>
        <p:spPr>
          <a:xfrm>
            <a:off x="2146320" y="225432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dentify the impact of </a:t>
            </a:r>
            <a:br>
              <a:rPr sz="2400"/>
            </a:br>
            <a:r>
              <a:rPr b="1" lang="en-US" sz="2400" spc="-1" strike="noStrike">
                <a:solidFill>
                  <a:srgbClr val="000000"/>
                </a:solidFill>
                <a:latin typeface="Calibri"/>
              </a:rPr>
              <a:t>technology on a firm</a:t>
            </a:r>
            <a:endParaRPr b="0" lang="en-US" sz="2400" spc="-1" strike="noStrike">
              <a:solidFill>
                <a:srgbClr val="000000"/>
              </a:solidFill>
              <a:latin typeface="Eras Bold ITC"/>
            </a:endParaRPr>
          </a:p>
        </p:txBody>
      </p:sp>
      <p:sp>
        <p:nvSpPr>
          <p:cNvPr id="350"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1" name="PlaceHolder 1"/>
          <p:cNvSpPr>
            <a:spLocks noGrp="1"/>
          </p:cNvSpPr>
          <p:nvPr>
            <p:ph type="title"/>
          </p:nvPr>
        </p:nvSpPr>
        <p:spPr>
          <a:xfrm>
            <a:off x="0" y="573120"/>
            <a:ext cx="91440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ical Factors</a:t>
            </a:r>
            <a:endParaRPr b="0" lang="en-US" sz="4400" spc="-1" strike="noStrike">
              <a:solidFill>
                <a:srgbClr val="000000"/>
              </a:solidFill>
              <a:latin typeface="Calibri"/>
            </a:endParaRPr>
          </a:p>
        </p:txBody>
      </p:sp>
      <p:sp>
        <p:nvSpPr>
          <p:cNvPr id="352"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6</a:t>
            </a:r>
            <a:endParaRPr b="0" lang="en-US" sz="28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chnological Factors</a:t>
            </a:r>
            <a:endParaRPr b="0" lang="en-US" sz="3200" spc="-1" strike="noStrike">
              <a:solidFill>
                <a:srgbClr val="000000"/>
              </a:solidFill>
              <a:latin typeface="Calibri"/>
            </a:endParaRPr>
          </a:p>
        </p:txBody>
      </p:sp>
      <p:sp>
        <p:nvSpPr>
          <p:cNvPr id="354" name=""/>
          <p:cNvSpPr txBox="1"/>
          <p:nvPr/>
        </p:nvSpPr>
        <p:spPr>
          <a:xfrm>
            <a:off x="1295280" y="152388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is the most dramatic variable of all external enviro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s dynamic, always changing, and hence needs to be carefully watched and upd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chnology and innovation provides a firm with competitive advantage.</a:t>
            </a:r>
            <a:endParaRPr b="0" lang="en-US" sz="2400" spc="-1" strike="noStrike">
              <a:solidFill>
                <a:srgbClr val="000000"/>
              </a:solidFill>
              <a:latin typeface="Calibri"/>
            </a:endParaRPr>
          </a:p>
        </p:txBody>
      </p:sp>
      <p:sp>
        <p:nvSpPr>
          <p:cNvPr id="35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11"/>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FEBC-7EC4-4ECE-9048-0B718008158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AutoShape 2"/>
          <p:cNvSpPr/>
          <p:nvPr/>
        </p:nvSpPr>
        <p:spPr>
          <a:xfrm>
            <a:off x="2166840" y="2336760"/>
            <a:ext cx="4800600" cy="3657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iscuss the political and </a:t>
            </a:r>
            <a:br>
              <a:rPr sz="2400"/>
            </a:br>
            <a:r>
              <a:rPr b="1" lang="en-US" sz="2400" spc="-1" strike="noStrike">
                <a:solidFill>
                  <a:srgbClr val="000000"/>
                </a:solidFill>
                <a:latin typeface="Calibri"/>
              </a:rPr>
              <a:t>legal environment </a:t>
            </a:r>
            <a:br>
              <a:rPr sz="2400"/>
            </a:br>
            <a:r>
              <a:rPr b="1" lang="en-US" sz="2400" spc="-1" strike="noStrike">
                <a:solidFill>
                  <a:srgbClr val="000000"/>
                </a:solidFill>
                <a:latin typeface="Calibri"/>
              </a:rPr>
              <a:t>of marketing</a:t>
            </a:r>
            <a:endParaRPr b="0" lang="en-US" sz="2400" spc="-1" strike="noStrike">
              <a:solidFill>
                <a:srgbClr val="000000"/>
              </a:solidFill>
              <a:latin typeface="Eras Bold ITC"/>
            </a:endParaRPr>
          </a:p>
        </p:txBody>
      </p:sp>
      <p:sp>
        <p:nvSpPr>
          <p:cNvPr id="358"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59" name="PlaceHolder 1"/>
          <p:cNvSpPr>
            <a:spLocks noGrp="1"/>
          </p:cNvSpPr>
          <p:nvPr>
            <p:ph type="title"/>
          </p:nvPr>
        </p:nvSpPr>
        <p:spPr>
          <a:xfrm>
            <a:off x="0" y="52236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and</a:t>
            </a:r>
            <a:br>
              <a:rPr sz="4400"/>
            </a:br>
            <a:r>
              <a:rPr b="0" lang="en-US" sz="4400" spc="-1" strike="noStrike">
                <a:solidFill>
                  <a:srgbClr val="000000"/>
                </a:solidFill>
                <a:latin typeface="Calibri"/>
              </a:rPr>
              <a:t>Legal Factors</a:t>
            </a:r>
            <a:endParaRPr b="0" lang="en-US" sz="4400" spc="-1" strike="noStrike">
              <a:solidFill>
                <a:srgbClr val="000000"/>
              </a:solidFill>
              <a:latin typeface="Calibri"/>
            </a:endParaRPr>
          </a:p>
        </p:txBody>
      </p:sp>
      <p:sp>
        <p:nvSpPr>
          <p:cNvPr id="360"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7</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2"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37388-FF21-4C17-8D0D-664ECC42354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3" name="PlaceHolder 1"/>
          <p:cNvSpPr>
            <a:spLocks noGrp="1"/>
          </p:cNvSpPr>
          <p:nvPr>
            <p:ph type="title"/>
          </p:nvPr>
        </p:nvSpPr>
        <p:spPr>
          <a:xfrm>
            <a:off x="1422000" y="274320"/>
            <a:ext cx="641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litical and Legal Factors</a:t>
            </a:r>
            <a:endParaRPr b="0" lang="en-US" sz="4000" spc="-1" strike="noStrike">
              <a:solidFill>
                <a:srgbClr val="000000"/>
              </a:solidFill>
              <a:latin typeface="Calibri"/>
            </a:endParaRPr>
          </a:p>
        </p:txBody>
      </p:sp>
      <p:grpSp>
        <p:nvGrpSpPr>
          <p:cNvPr id="364" name="Group 33"/>
          <p:cNvGrpSpPr/>
          <p:nvPr/>
        </p:nvGrpSpPr>
        <p:grpSpPr>
          <a:xfrm>
            <a:off x="903240" y="1327320"/>
            <a:ext cx="7437240" cy="4872960"/>
            <a:chOff x="903240" y="1327320"/>
            <a:chExt cx="7437240" cy="4872960"/>
          </a:xfrm>
        </p:grpSpPr>
        <p:sp>
          <p:nvSpPr>
            <p:cNvPr id="365" name="Rectangle 10"/>
            <p:cNvSpPr/>
            <p:nvPr/>
          </p:nvSpPr>
          <p:spPr>
            <a:xfrm>
              <a:off x="903240" y="1855440"/>
              <a:ext cx="6976800" cy="4344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sp>
          <p:nvSpPr>
            <p:cNvPr id="366" name="Rectangle 32"/>
            <p:cNvSpPr/>
            <p:nvPr/>
          </p:nvSpPr>
          <p:spPr>
            <a:xfrm>
              <a:off x="1025640" y="1327320"/>
              <a:ext cx="7314840" cy="4743000"/>
            </a:xfrm>
            <a:prstGeom prst="rect">
              <a:avLst/>
            </a:prstGeom>
            <a:noFill/>
            <a:ln w="9360">
              <a:solidFill>
                <a:srgbClr val="f8f7f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sp>
        <p:nvSpPr>
          <p:cNvPr id="367" name="Rectangle 1"/>
          <p:cNvSpPr/>
          <p:nvPr/>
        </p:nvSpPr>
        <p:spPr>
          <a:xfrm>
            <a:off x="1422360" y="1846440"/>
            <a:ext cx="6918480" cy="352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usiness needs government regulations to protect innovators of new technology, the interests of society in general, one business from another, and consumer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Government needs business for generation of taxes.  </a:t>
            </a: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Eras Bold ITC"/>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very aspect of the marketing mix is subject to laws and restrictions.  It is the responsibility of marketing managers to understand and conform to these laws, while creating new programs to accomplish marketing objectives.  </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2"/>
          <p:cNvSpPr/>
          <p:nvPr/>
        </p:nvSpPr>
        <p:spPr>
          <a:xfrm>
            <a:off x="2160720" y="2441520"/>
            <a:ext cx="4800600" cy="36576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the basics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f foreign and domestic competition</a:t>
            </a:r>
            <a:endParaRPr b="0" lang="en-US" sz="2400" spc="-1" strike="noStrike">
              <a:solidFill>
                <a:srgbClr val="000000"/>
              </a:solidFill>
              <a:latin typeface="Eras Bold ITC"/>
            </a:endParaRPr>
          </a:p>
        </p:txBody>
      </p:sp>
      <p:sp>
        <p:nvSpPr>
          <p:cNvPr id="369"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0" name="PlaceHolder 1"/>
          <p:cNvSpPr>
            <a:spLocks noGrp="1"/>
          </p:cNvSpPr>
          <p:nvPr>
            <p:ph type="title"/>
          </p:nvPr>
        </p:nvSpPr>
        <p:spPr>
          <a:xfrm>
            <a:off x="0" y="632880"/>
            <a:ext cx="914400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etitive Factors</a:t>
            </a:r>
            <a:endParaRPr b="0" lang="en-US" sz="4400" spc="-1" strike="noStrike">
              <a:solidFill>
                <a:srgbClr val="000000"/>
              </a:solidFill>
              <a:latin typeface="Calibri"/>
            </a:endParaRPr>
          </a:p>
        </p:txBody>
      </p:sp>
      <p:sp>
        <p:nvSpPr>
          <p:cNvPr id="371"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8</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14" descr="\\FILESVR\SharedDocs\SWCP\CURRENT PROJECTS\MKTG9\Supplements\PowerPoints\Templates\PPT_BOX.jpg"/>
          <p:cNvPicPr/>
          <p:nvPr/>
        </p:nvPicPr>
        <p:blipFill>
          <a:blip r:embed="rId1"/>
          <a:stretch/>
        </p:blipFill>
        <p:spPr>
          <a:xfrm>
            <a:off x="0" y="-1440"/>
            <a:ext cx="9144000" cy="6858000"/>
          </a:xfrm>
          <a:prstGeom prst="rect">
            <a:avLst/>
          </a:prstGeom>
          <a:ln w="0">
            <a:noFill/>
          </a:ln>
        </p:spPr>
      </p:pic>
      <p:sp>
        <p:nvSpPr>
          <p:cNvPr id="373" name="Footer Placeholder 12"/>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11"/>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84751-04F5-4FE0-98AB-921C4D1BC5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5" name="PlaceHolder 1"/>
          <p:cNvSpPr>
            <a:spLocks noGrp="1"/>
          </p:cNvSpPr>
          <p:nvPr>
            <p:ph type="title"/>
          </p:nvPr>
        </p:nvSpPr>
        <p:spPr>
          <a:xfrm>
            <a:off x="0" y="0"/>
            <a:ext cx="914400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Calibri"/>
              </a:rPr>
              <a:t>Competitive Factors</a:t>
            </a:r>
            <a:endParaRPr b="0" lang="en-US" sz="6600" spc="-1" strike="noStrike">
              <a:solidFill>
                <a:srgbClr val="7030a0"/>
              </a:solidFill>
              <a:latin typeface="Calibri"/>
            </a:endParaRPr>
          </a:p>
        </p:txBody>
      </p:sp>
      <p:grpSp>
        <p:nvGrpSpPr>
          <p:cNvPr id="376" name="Group 14"/>
          <p:cNvGrpSpPr/>
          <p:nvPr/>
        </p:nvGrpSpPr>
        <p:grpSpPr>
          <a:xfrm>
            <a:off x="857160" y="1539720"/>
            <a:ext cx="7249680" cy="4191120"/>
            <a:chOff x="857160" y="1539720"/>
            <a:chExt cx="7249680" cy="4191120"/>
          </a:xfrm>
        </p:grpSpPr>
        <p:sp>
          <p:nvSpPr>
            <p:cNvPr id="377" name="Freeform 15"/>
            <p:cNvSpPr/>
            <p:nvPr/>
          </p:nvSpPr>
          <p:spPr>
            <a:xfrm>
              <a:off x="857160" y="1539720"/>
              <a:ext cx="6497280" cy="4191120"/>
            </a:xfrm>
            <a:custGeom>
              <a:avLst/>
              <a:gdLst/>
              <a:ahLst/>
              <a:rect l="l" t="t" r="r" b="b"/>
              <a:pathLst>
                <a:path w="4849" h="3361">
                  <a:moveTo>
                    <a:pt x="0" y="1224"/>
                  </a:moveTo>
                  <a:lnTo>
                    <a:pt x="0" y="1140"/>
                  </a:lnTo>
                  <a:lnTo>
                    <a:pt x="12" y="1068"/>
                  </a:lnTo>
                  <a:lnTo>
                    <a:pt x="24" y="972"/>
                  </a:lnTo>
                  <a:lnTo>
                    <a:pt x="36" y="924"/>
                  </a:lnTo>
                  <a:lnTo>
                    <a:pt x="36" y="888"/>
                  </a:lnTo>
                  <a:lnTo>
                    <a:pt x="48" y="852"/>
                  </a:lnTo>
                  <a:lnTo>
                    <a:pt x="60" y="780"/>
                  </a:lnTo>
                  <a:lnTo>
                    <a:pt x="72" y="732"/>
                  </a:lnTo>
                  <a:lnTo>
                    <a:pt x="120" y="684"/>
                  </a:lnTo>
                  <a:lnTo>
                    <a:pt x="156" y="636"/>
                  </a:lnTo>
                  <a:lnTo>
                    <a:pt x="192" y="612"/>
                  </a:lnTo>
                  <a:lnTo>
                    <a:pt x="228" y="588"/>
                  </a:lnTo>
                  <a:lnTo>
                    <a:pt x="264" y="564"/>
                  </a:lnTo>
                  <a:lnTo>
                    <a:pt x="336" y="552"/>
                  </a:lnTo>
                  <a:lnTo>
                    <a:pt x="372" y="528"/>
                  </a:lnTo>
                  <a:lnTo>
                    <a:pt x="420" y="504"/>
                  </a:lnTo>
                  <a:lnTo>
                    <a:pt x="468" y="468"/>
                  </a:lnTo>
                  <a:lnTo>
                    <a:pt x="540" y="456"/>
                  </a:lnTo>
                  <a:lnTo>
                    <a:pt x="588" y="444"/>
                  </a:lnTo>
                  <a:lnTo>
                    <a:pt x="624" y="432"/>
                  </a:lnTo>
                  <a:lnTo>
                    <a:pt x="660" y="420"/>
                  </a:lnTo>
                  <a:lnTo>
                    <a:pt x="744" y="408"/>
                  </a:lnTo>
                  <a:lnTo>
                    <a:pt x="840" y="384"/>
                  </a:lnTo>
                  <a:lnTo>
                    <a:pt x="876" y="372"/>
                  </a:lnTo>
                  <a:lnTo>
                    <a:pt x="912" y="360"/>
                  </a:lnTo>
                  <a:lnTo>
                    <a:pt x="948" y="360"/>
                  </a:lnTo>
                  <a:lnTo>
                    <a:pt x="1044" y="336"/>
                  </a:lnTo>
                  <a:lnTo>
                    <a:pt x="1092" y="324"/>
                  </a:lnTo>
                  <a:lnTo>
                    <a:pt x="1176" y="312"/>
                  </a:lnTo>
                  <a:lnTo>
                    <a:pt x="1224" y="312"/>
                  </a:lnTo>
                  <a:lnTo>
                    <a:pt x="1272" y="312"/>
                  </a:lnTo>
                  <a:lnTo>
                    <a:pt x="1344" y="312"/>
                  </a:lnTo>
                  <a:lnTo>
                    <a:pt x="1440" y="312"/>
                  </a:lnTo>
                  <a:lnTo>
                    <a:pt x="1476" y="312"/>
                  </a:lnTo>
                  <a:lnTo>
                    <a:pt x="1512" y="312"/>
                  </a:lnTo>
                  <a:lnTo>
                    <a:pt x="1548" y="312"/>
                  </a:lnTo>
                  <a:lnTo>
                    <a:pt x="1584" y="312"/>
                  </a:lnTo>
                  <a:lnTo>
                    <a:pt x="1680" y="312"/>
                  </a:lnTo>
                  <a:lnTo>
                    <a:pt x="1752" y="312"/>
                  </a:lnTo>
                  <a:lnTo>
                    <a:pt x="1800" y="312"/>
                  </a:lnTo>
                  <a:lnTo>
                    <a:pt x="1848" y="312"/>
                  </a:lnTo>
                  <a:lnTo>
                    <a:pt x="1896" y="312"/>
                  </a:lnTo>
                  <a:lnTo>
                    <a:pt x="1932" y="312"/>
                  </a:lnTo>
                  <a:lnTo>
                    <a:pt x="1968" y="312"/>
                  </a:lnTo>
                  <a:lnTo>
                    <a:pt x="2052" y="312"/>
                  </a:lnTo>
                  <a:lnTo>
                    <a:pt x="2124" y="312"/>
                  </a:lnTo>
                  <a:lnTo>
                    <a:pt x="2220" y="312"/>
                  </a:lnTo>
                  <a:lnTo>
                    <a:pt x="2292" y="312"/>
                  </a:lnTo>
                  <a:lnTo>
                    <a:pt x="2328" y="324"/>
                  </a:lnTo>
                  <a:lnTo>
                    <a:pt x="2364" y="324"/>
                  </a:lnTo>
                  <a:lnTo>
                    <a:pt x="2400" y="324"/>
                  </a:lnTo>
                  <a:lnTo>
                    <a:pt x="2472" y="324"/>
                  </a:lnTo>
                  <a:lnTo>
                    <a:pt x="2508" y="324"/>
                  </a:lnTo>
                  <a:lnTo>
                    <a:pt x="2556" y="300"/>
                  </a:lnTo>
                  <a:lnTo>
                    <a:pt x="2652" y="264"/>
                  </a:lnTo>
                  <a:lnTo>
                    <a:pt x="2676" y="228"/>
                  </a:lnTo>
                  <a:lnTo>
                    <a:pt x="2712" y="216"/>
                  </a:lnTo>
                  <a:lnTo>
                    <a:pt x="2736" y="180"/>
                  </a:lnTo>
                  <a:lnTo>
                    <a:pt x="2832" y="96"/>
                  </a:lnTo>
                  <a:lnTo>
                    <a:pt x="2904" y="84"/>
                  </a:lnTo>
                  <a:lnTo>
                    <a:pt x="2952" y="60"/>
                  </a:lnTo>
                  <a:lnTo>
                    <a:pt x="2988" y="48"/>
                  </a:lnTo>
                  <a:lnTo>
                    <a:pt x="3024" y="36"/>
                  </a:lnTo>
                  <a:lnTo>
                    <a:pt x="3060" y="24"/>
                  </a:lnTo>
                  <a:lnTo>
                    <a:pt x="3108" y="12"/>
                  </a:lnTo>
                  <a:lnTo>
                    <a:pt x="3144" y="0"/>
                  </a:lnTo>
                  <a:lnTo>
                    <a:pt x="3192" y="0"/>
                  </a:lnTo>
                  <a:lnTo>
                    <a:pt x="3228" y="0"/>
                  </a:lnTo>
                  <a:lnTo>
                    <a:pt x="3264" y="0"/>
                  </a:lnTo>
                  <a:lnTo>
                    <a:pt x="3300" y="0"/>
                  </a:lnTo>
                  <a:lnTo>
                    <a:pt x="3372" y="0"/>
                  </a:lnTo>
                  <a:lnTo>
                    <a:pt x="3444" y="0"/>
                  </a:lnTo>
                  <a:lnTo>
                    <a:pt x="3480" y="0"/>
                  </a:lnTo>
                  <a:lnTo>
                    <a:pt x="3516" y="0"/>
                  </a:lnTo>
                  <a:lnTo>
                    <a:pt x="3552" y="0"/>
                  </a:lnTo>
                  <a:lnTo>
                    <a:pt x="3648" y="0"/>
                  </a:lnTo>
                  <a:lnTo>
                    <a:pt x="3744" y="12"/>
                  </a:lnTo>
                  <a:lnTo>
                    <a:pt x="3864" y="24"/>
                  </a:lnTo>
                  <a:lnTo>
                    <a:pt x="3960" y="36"/>
                  </a:lnTo>
                  <a:lnTo>
                    <a:pt x="4056" y="60"/>
                  </a:lnTo>
                  <a:lnTo>
                    <a:pt x="4128" y="72"/>
                  </a:lnTo>
                  <a:lnTo>
                    <a:pt x="4200" y="84"/>
                  </a:lnTo>
                  <a:lnTo>
                    <a:pt x="4296" y="132"/>
                  </a:lnTo>
                  <a:lnTo>
                    <a:pt x="4368" y="204"/>
                  </a:lnTo>
                  <a:lnTo>
                    <a:pt x="4380" y="240"/>
                  </a:lnTo>
                  <a:lnTo>
                    <a:pt x="4392" y="288"/>
                  </a:lnTo>
                  <a:lnTo>
                    <a:pt x="4392" y="372"/>
                  </a:lnTo>
                  <a:lnTo>
                    <a:pt x="4392" y="408"/>
                  </a:lnTo>
                  <a:lnTo>
                    <a:pt x="4392" y="444"/>
                  </a:lnTo>
                  <a:lnTo>
                    <a:pt x="4392" y="516"/>
                  </a:lnTo>
                  <a:lnTo>
                    <a:pt x="4392" y="600"/>
                  </a:lnTo>
                  <a:lnTo>
                    <a:pt x="4392" y="648"/>
                  </a:lnTo>
                  <a:lnTo>
                    <a:pt x="4392" y="696"/>
                  </a:lnTo>
                  <a:lnTo>
                    <a:pt x="4392" y="744"/>
                  </a:lnTo>
                  <a:lnTo>
                    <a:pt x="4392" y="780"/>
                  </a:lnTo>
                  <a:lnTo>
                    <a:pt x="4428" y="816"/>
                  </a:lnTo>
                  <a:lnTo>
                    <a:pt x="4464" y="840"/>
                  </a:lnTo>
                  <a:lnTo>
                    <a:pt x="4500" y="864"/>
                  </a:lnTo>
                  <a:lnTo>
                    <a:pt x="4536" y="888"/>
                  </a:lnTo>
                  <a:lnTo>
                    <a:pt x="4632" y="924"/>
                  </a:lnTo>
                  <a:lnTo>
                    <a:pt x="4668" y="936"/>
                  </a:lnTo>
                  <a:lnTo>
                    <a:pt x="4704" y="948"/>
                  </a:lnTo>
                  <a:lnTo>
                    <a:pt x="4740" y="972"/>
                  </a:lnTo>
                  <a:lnTo>
                    <a:pt x="4776" y="984"/>
                  </a:lnTo>
                  <a:lnTo>
                    <a:pt x="4788" y="1020"/>
                  </a:lnTo>
                  <a:lnTo>
                    <a:pt x="4812" y="1056"/>
                  </a:lnTo>
                  <a:lnTo>
                    <a:pt x="4824" y="1092"/>
                  </a:lnTo>
                  <a:lnTo>
                    <a:pt x="4836" y="1128"/>
                  </a:lnTo>
                  <a:lnTo>
                    <a:pt x="4836" y="1164"/>
                  </a:lnTo>
                  <a:lnTo>
                    <a:pt x="4836" y="1212"/>
                  </a:lnTo>
                  <a:lnTo>
                    <a:pt x="4848" y="1284"/>
                  </a:lnTo>
                  <a:lnTo>
                    <a:pt x="4848" y="1380"/>
                  </a:lnTo>
                  <a:lnTo>
                    <a:pt x="4848" y="1476"/>
                  </a:lnTo>
                  <a:lnTo>
                    <a:pt x="4848" y="1548"/>
                  </a:lnTo>
                  <a:lnTo>
                    <a:pt x="4848" y="1644"/>
                  </a:lnTo>
                  <a:lnTo>
                    <a:pt x="4848" y="1680"/>
                  </a:lnTo>
                  <a:lnTo>
                    <a:pt x="4848" y="1716"/>
                  </a:lnTo>
                  <a:lnTo>
                    <a:pt x="4824" y="1788"/>
                  </a:lnTo>
                  <a:lnTo>
                    <a:pt x="4812" y="1860"/>
                  </a:lnTo>
                  <a:lnTo>
                    <a:pt x="4764" y="1956"/>
                  </a:lnTo>
                  <a:lnTo>
                    <a:pt x="4740" y="1992"/>
                  </a:lnTo>
                  <a:lnTo>
                    <a:pt x="4716" y="2028"/>
                  </a:lnTo>
                  <a:lnTo>
                    <a:pt x="4680" y="2064"/>
                  </a:lnTo>
                  <a:lnTo>
                    <a:pt x="4668" y="2100"/>
                  </a:lnTo>
                  <a:lnTo>
                    <a:pt x="4656" y="2136"/>
                  </a:lnTo>
                  <a:lnTo>
                    <a:pt x="4656" y="2172"/>
                  </a:lnTo>
                  <a:lnTo>
                    <a:pt x="4656" y="2208"/>
                  </a:lnTo>
                  <a:lnTo>
                    <a:pt x="4656" y="2244"/>
                  </a:lnTo>
                  <a:lnTo>
                    <a:pt x="4656" y="2316"/>
                  </a:lnTo>
                  <a:lnTo>
                    <a:pt x="4656" y="2364"/>
                  </a:lnTo>
                  <a:lnTo>
                    <a:pt x="4680" y="2412"/>
                  </a:lnTo>
                  <a:lnTo>
                    <a:pt x="4692" y="2460"/>
                  </a:lnTo>
                  <a:lnTo>
                    <a:pt x="4704" y="2508"/>
                  </a:lnTo>
                  <a:lnTo>
                    <a:pt x="4716" y="2544"/>
                  </a:lnTo>
                  <a:lnTo>
                    <a:pt x="4716" y="2580"/>
                  </a:lnTo>
                  <a:lnTo>
                    <a:pt x="4716" y="2652"/>
                  </a:lnTo>
                  <a:lnTo>
                    <a:pt x="4716" y="2724"/>
                  </a:lnTo>
                  <a:lnTo>
                    <a:pt x="4716" y="2772"/>
                  </a:lnTo>
                  <a:lnTo>
                    <a:pt x="4716" y="2820"/>
                  </a:lnTo>
                  <a:lnTo>
                    <a:pt x="4716" y="2904"/>
                  </a:lnTo>
                  <a:lnTo>
                    <a:pt x="4716" y="2952"/>
                  </a:lnTo>
                  <a:lnTo>
                    <a:pt x="4692" y="3036"/>
                  </a:lnTo>
                  <a:lnTo>
                    <a:pt x="4668" y="3072"/>
                  </a:lnTo>
                  <a:lnTo>
                    <a:pt x="4632" y="3108"/>
                  </a:lnTo>
                  <a:lnTo>
                    <a:pt x="4560" y="3132"/>
                  </a:lnTo>
                  <a:lnTo>
                    <a:pt x="4440" y="3180"/>
                  </a:lnTo>
                  <a:lnTo>
                    <a:pt x="4320" y="3204"/>
                  </a:lnTo>
                  <a:lnTo>
                    <a:pt x="4200" y="3228"/>
                  </a:lnTo>
                  <a:lnTo>
                    <a:pt x="4128" y="3228"/>
                  </a:lnTo>
                  <a:lnTo>
                    <a:pt x="4056" y="3240"/>
                  </a:lnTo>
                  <a:lnTo>
                    <a:pt x="4020" y="3240"/>
                  </a:lnTo>
                  <a:lnTo>
                    <a:pt x="3924" y="3240"/>
                  </a:lnTo>
                  <a:lnTo>
                    <a:pt x="3876" y="3240"/>
                  </a:lnTo>
                  <a:lnTo>
                    <a:pt x="3780" y="3240"/>
                  </a:lnTo>
                  <a:lnTo>
                    <a:pt x="3708" y="3240"/>
                  </a:lnTo>
                  <a:lnTo>
                    <a:pt x="3672" y="3240"/>
                  </a:lnTo>
                  <a:lnTo>
                    <a:pt x="3636" y="3240"/>
                  </a:lnTo>
                  <a:lnTo>
                    <a:pt x="3540" y="3240"/>
                  </a:lnTo>
                  <a:lnTo>
                    <a:pt x="3492" y="3240"/>
                  </a:lnTo>
                  <a:lnTo>
                    <a:pt x="3456" y="3228"/>
                  </a:lnTo>
                  <a:lnTo>
                    <a:pt x="3420" y="3228"/>
                  </a:lnTo>
                  <a:lnTo>
                    <a:pt x="3384" y="3228"/>
                  </a:lnTo>
                  <a:lnTo>
                    <a:pt x="3348" y="3228"/>
                  </a:lnTo>
                  <a:lnTo>
                    <a:pt x="3300" y="3228"/>
                  </a:lnTo>
                  <a:lnTo>
                    <a:pt x="3264" y="3240"/>
                  </a:lnTo>
                  <a:lnTo>
                    <a:pt x="3216" y="3252"/>
                  </a:lnTo>
                  <a:lnTo>
                    <a:pt x="3144" y="3252"/>
                  </a:lnTo>
                  <a:lnTo>
                    <a:pt x="3060" y="3276"/>
                  </a:lnTo>
                  <a:lnTo>
                    <a:pt x="3012" y="3276"/>
                  </a:lnTo>
                  <a:lnTo>
                    <a:pt x="2964" y="3276"/>
                  </a:lnTo>
                  <a:lnTo>
                    <a:pt x="2880" y="3288"/>
                  </a:lnTo>
                  <a:lnTo>
                    <a:pt x="2844" y="3300"/>
                  </a:lnTo>
                  <a:lnTo>
                    <a:pt x="2808" y="3300"/>
                  </a:lnTo>
                  <a:lnTo>
                    <a:pt x="2712" y="3312"/>
                  </a:lnTo>
                  <a:lnTo>
                    <a:pt x="2616" y="3312"/>
                  </a:lnTo>
                  <a:lnTo>
                    <a:pt x="2520" y="3324"/>
                  </a:lnTo>
                  <a:lnTo>
                    <a:pt x="2472" y="3324"/>
                  </a:lnTo>
                  <a:lnTo>
                    <a:pt x="2424" y="3336"/>
                  </a:lnTo>
                  <a:lnTo>
                    <a:pt x="2388" y="3348"/>
                  </a:lnTo>
                  <a:lnTo>
                    <a:pt x="2304" y="3348"/>
                  </a:lnTo>
                  <a:lnTo>
                    <a:pt x="2256" y="3360"/>
                  </a:lnTo>
                  <a:lnTo>
                    <a:pt x="2208" y="3360"/>
                  </a:lnTo>
                  <a:lnTo>
                    <a:pt x="2112" y="3360"/>
                  </a:lnTo>
                  <a:lnTo>
                    <a:pt x="2064" y="3360"/>
                  </a:lnTo>
                  <a:lnTo>
                    <a:pt x="1992" y="3360"/>
                  </a:lnTo>
                  <a:lnTo>
                    <a:pt x="1920" y="3348"/>
                  </a:lnTo>
                  <a:lnTo>
                    <a:pt x="1848" y="3348"/>
                  </a:lnTo>
                  <a:lnTo>
                    <a:pt x="1752" y="3336"/>
                  </a:lnTo>
                  <a:lnTo>
                    <a:pt x="1680" y="3324"/>
                  </a:lnTo>
                  <a:lnTo>
                    <a:pt x="1608" y="3300"/>
                  </a:lnTo>
                  <a:lnTo>
                    <a:pt x="1512" y="3264"/>
                  </a:lnTo>
                  <a:lnTo>
                    <a:pt x="1440" y="3240"/>
                  </a:lnTo>
                  <a:lnTo>
                    <a:pt x="1404" y="3204"/>
                  </a:lnTo>
                  <a:lnTo>
                    <a:pt x="1380" y="3132"/>
                  </a:lnTo>
                  <a:lnTo>
                    <a:pt x="1380" y="3072"/>
                  </a:lnTo>
                  <a:lnTo>
                    <a:pt x="1380" y="3036"/>
                  </a:lnTo>
                  <a:lnTo>
                    <a:pt x="1404" y="2988"/>
                  </a:lnTo>
                  <a:lnTo>
                    <a:pt x="1440" y="2952"/>
                  </a:lnTo>
                  <a:lnTo>
                    <a:pt x="1476" y="2916"/>
                  </a:lnTo>
                  <a:lnTo>
                    <a:pt x="1512" y="2892"/>
                  </a:lnTo>
                  <a:lnTo>
                    <a:pt x="1524" y="2856"/>
                  </a:lnTo>
                  <a:lnTo>
                    <a:pt x="1524" y="2820"/>
                  </a:lnTo>
                  <a:lnTo>
                    <a:pt x="1488" y="2784"/>
                  </a:lnTo>
                  <a:lnTo>
                    <a:pt x="1416" y="2772"/>
                  </a:lnTo>
                  <a:lnTo>
                    <a:pt x="1344" y="2748"/>
                  </a:lnTo>
                  <a:lnTo>
                    <a:pt x="1296" y="2724"/>
                  </a:lnTo>
                  <a:lnTo>
                    <a:pt x="1260" y="2700"/>
                  </a:lnTo>
                  <a:lnTo>
                    <a:pt x="1212" y="2688"/>
                  </a:lnTo>
                  <a:lnTo>
                    <a:pt x="1140" y="2688"/>
                  </a:lnTo>
                  <a:lnTo>
                    <a:pt x="1092" y="2676"/>
                  </a:lnTo>
                  <a:lnTo>
                    <a:pt x="996" y="2676"/>
                  </a:lnTo>
                  <a:lnTo>
                    <a:pt x="924" y="2676"/>
                  </a:lnTo>
                  <a:lnTo>
                    <a:pt x="876" y="2676"/>
                  </a:lnTo>
                  <a:lnTo>
                    <a:pt x="780" y="2676"/>
                  </a:lnTo>
                  <a:lnTo>
                    <a:pt x="708" y="2652"/>
                  </a:lnTo>
                  <a:lnTo>
                    <a:pt x="612" y="2640"/>
                  </a:lnTo>
                  <a:lnTo>
                    <a:pt x="540" y="2616"/>
                  </a:lnTo>
                  <a:lnTo>
                    <a:pt x="468" y="2592"/>
                  </a:lnTo>
                  <a:lnTo>
                    <a:pt x="420" y="2544"/>
                  </a:lnTo>
                  <a:lnTo>
                    <a:pt x="396" y="2508"/>
                  </a:lnTo>
                  <a:lnTo>
                    <a:pt x="384" y="2460"/>
                  </a:lnTo>
                  <a:lnTo>
                    <a:pt x="372" y="2388"/>
                  </a:lnTo>
                  <a:lnTo>
                    <a:pt x="372" y="2292"/>
                  </a:lnTo>
                  <a:lnTo>
                    <a:pt x="372" y="2220"/>
                  </a:lnTo>
                  <a:lnTo>
                    <a:pt x="360" y="2148"/>
                  </a:lnTo>
                  <a:lnTo>
                    <a:pt x="360" y="2076"/>
                  </a:lnTo>
                  <a:lnTo>
                    <a:pt x="360" y="2028"/>
                  </a:lnTo>
                  <a:lnTo>
                    <a:pt x="360" y="1956"/>
                  </a:lnTo>
                  <a:lnTo>
                    <a:pt x="348" y="1860"/>
                  </a:lnTo>
                  <a:lnTo>
                    <a:pt x="336" y="1788"/>
                  </a:lnTo>
                  <a:lnTo>
                    <a:pt x="324" y="1692"/>
                  </a:lnTo>
                  <a:lnTo>
                    <a:pt x="300" y="1596"/>
                  </a:lnTo>
                  <a:lnTo>
                    <a:pt x="276" y="1524"/>
                  </a:lnTo>
                  <a:lnTo>
                    <a:pt x="240" y="1500"/>
                  </a:lnTo>
                  <a:lnTo>
                    <a:pt x="192" y="1464"/>
                  </a:lnTo>
                  <a:lnTo>
                    <a:pt x="144" y="1428"/>
                  </a:lnTo>
                  <a:lnTo>
                    <a:pt x="48" y="1332"/>
                  </a:lnTo>
                  <a:lnTo>
                    <a:pt x="0" y="1224"/>
                  </a:lnTo>
                </a:path>
              </a:pathLst>
            </a:custGeom>
            <a:solidFill>
              <a:srgbClr val="dda955"/>
            </a:solidFill>
            <a:ln cap="rnd" w="12600">
              <a:solidFill>
                <a:srgbClr val="eeece1"/>
              </a:solidFill>
              <a:round/>
            </a:ln>
            <a:effectLst>
              <a:outerShdw dist="89604" dir="2700000" blurRad="0" rotWithShape="0">
                <a:srgbClr val="eeece1"/>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Eras Bold ITC"/>
              </a:endParaRPr>
            </a:p>
          </p:txBody>
        </p:sp>
        <p:sp>
          <p:nvSpPr>
            <p:cNvPr id="378" name="Rectangle 16"/>
            <p:cNvSpPr/>
            <p:nvPr/>
          </p:nvSpPr>
          <p:spPr>
            <a:xfrm>
              <a:off x="1693080" y="2249640"/>
              <a:ext cx="5211000" cy="2628360"/>
            </a:xfrm>
            <a:prstGeom prst="rect">
              <a:avLst/>
            </a:prstGeom>
            <a:noFill/>
            <a:ln w="0">
              <a:noFill/>
            </a:ln>
          </p:spPr>
          <p:style>
            <a:lnRef idx="0"/>
            <a:fillRef idx="0"/>
            <a:effectRef idx="0"/>
            <a:fontRef idx="minor"/>
          </p:style>
          <p:txBody>
            <a:bodyPr lIns="90000" rIns="90000" tIns="46800" bIns="46800" anchor="t">
              <a:normAutofit/>
            </a:bodyPr>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many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big are competitors?</a:t>
              </a:r>
              <a:br>
                <a:rPr sz="2300"/>
              </a:br>
              <a:endParaRPr b="0" lang="en-US" sz="2300" spc="-1" strike="noStrike">
                <a:solidFill>
                  <a:srgbClr val="000000"/>
                </a:solidFill>
                <a:latin typeface="Eras Bold ITC"/>
              </a:endParaRPr>
            </a:p>
            <a:p>
              <a:pPr marL="514440" indent="-51444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ea typeface="ＭＳ Ｐゴシック"/>
                </a:rPr>
                <a:t>How interdependent is</a:t>
              </a:r>
              <a:br>
                <a:rPr sz="2300"/>
              </a:br>
              <a:r>
                <a:rPr b="1" lang="en-US" sz="2300" spc="-1" strike="noStrike">
                  <a:solidFill>
                    <a:srgbClr val="000000"/>
                  </a:solidFill>
                  <a:latin typeface="Arial"/>
                  <a:ea typeface="ＭＳ Ｐゴシック"/>
                </a:rPr>
                <a:t>the industry?</a:t>
              </a:r>
              <a:endParaRPr b="0" lang="en-US" sz="2300" spc="-1" strike="noStrike">
                <a:solidFill>
                  <a:srgbClr val="000000"/>
                </a:solidFill>
                <a:latin typeface="Eras Bold ITC"/>
              </a:endParaRPr>
            </a:p>
            <a:p>
              <a:pPr lvl="1" marL="914400" indent="-285840">
                <a:lnSpc>
                  <a:spcPct val="100000"/>
                </a:lnSpc>
                <a:spcBef>
                  <a:spcPts val="5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Eras Bold ITC"/>
              </a:endParaRPr>
            </a:p>
          </p:txBody>
        </p:sp>
        <p:grpSp>
          <p:nvGrpSpPr>
            <p:cNvPr id="379" name="Group 17"/>
            <p:cNvGrpSpPr/>
            <p:nvPr/>
          </p:nvGrpSpPr>
          <p:grpSpPr>
            <a:xfrm>
              <a:off x="5941440" y="1637280"/>
              <a:ext cx="2165400" cy="2201760"/>
              <a:chOff x="5941440" y="1637280"/>
              <a:chExt cx="2165400" cy="2201760"/>
            </a:xfrm>
          </p:grpSpPr>
          <p:sp>
            <p:nvSpPr>
              <p:cNvPr id="380" name="Oval 18"/>
              <p:cNvSpPr/>
              <p:nvPr/>
            </p:nvSpPr>
            <p:spPr>
              <a:xfrm>
                <a:off x="6009120" y="1681560"/>
                <a:ext cx="2030040" cy="2059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Eras Bold ITC"/>
                </a:endParaRPr>
              </a:p>
            </p:txBody>
          </p:sp>
          <p:sp>
            <p:nvSpPr>
              <p:cNvPr id="381" name="AutoShape 19"/>
              <p:cNvSpPr/>
              <p:nvPr/>
            </p:nvSpPr>
            <p:spPr>
              <a:xfrm>
                <a:off x="5941440" y="1637280"/>
                <a:ext cx="2165400" cy="2201760"/>
              </a:xfrm>
              <a:custGeom>
                <a:avLst/>
                <a:gdLst>
                  <a:gd name="textAreaLeft" fmla="*/ 317160 w 2165400"/>
                  <a:gd name="textAreaRight" fmla="*/ 1848240 w 2165400"/>
                  <a:gd name="textAreaTop" fmla="*/ 322560 h 2201760"/>
                  <a:gd name="textAreaBottom" fmla="*/ 1879200 h 2201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401" y="15493"/>
                    </a:moveTo>
                    <a:cubicBezTo>
                      <a:pt x="18376" y="14122"/>
                      <a:pt x="18900" y="12482"/>
                      <a:pt x="18900" y="10800"/>
                    </a:cubicBezTo>
                    <a:cubicBezTo>
                      <a:pt x="18900" y="6326"/>
                      <a:pt x="15273" y="2700"/>
                      <a:pt x="10800" y="2700"/>
                    </a:cubicBezTo>
                    <a:cubicBezTo>
                      <a:pt x="9117" y="2699"/>
                      <a:pt x="7477" y="3223"/>
                      <a:pt x="6106" y="4198"/>
                    </a:cubicBezTo>
                    <a:lnTo>
                      <a:pt x="17401" y="15493"/>
                    </a:lnTo>
                    <a:close/>
                    <a:moveTo>
                      <a:pt x="4198" y="6106"/>
                    </a:moveTo>
                    <a:cubicBezTo>
                      <a:pt x="3223" y="7477"/>
                      <a:pt x="2700" y="9117"/>
                      <a:pt x="2700" y="10799"/>
                    </a:cubicBezTo>
                    <a:cubicBezTo>
                      <a:pt x="2700" y="15273"/>
                      <a:pt x="6326" y="18900"/>
                      <a:pt x="10800" y="18900"/>
                    </a:cubicBezTo>
                    <a:cubicBezTo>
                      <a:pt x="12482" y="18900"/>
                      <a:pt x="14122" y="18376"/>
                      <a:pt x="15493" y="17401"/>
                    </a:cubicBezTo>
                    <a:lnTo>
                      <a:pt x="4198" y="6106"/>
                    </a:lnTo>
                    <a:close/>
                  </a:path>
                </a:pathLst>
              </a:custGeom>
              <a:solidFill>
                <a:srgbClr val="ff3300"/>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Eras Bold ITC"/>
                </a:endParaRPr>
              </a:p>
            </p:txBody>
          </p:sp>
          <p:sp>
            <p:nvSpPr>
              <p:cNvPr id="382" name="Rectangle 20"/>
              <p:cNvSpPr/>
              <p:nvPr/>
            </p:nvSpPr>
            <p:spPr>
              <a:xfrm>
                <a:off x="6008040" y="2337120"/>
                <a:ext cx="2078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ea typeface="ＭＳ Ｐゴシック"/>
                  </a:rPr>
                  <a:t>Control</a:t>
                </a:r>
                <a:endParaRPr b="0" lang="en-US" sz="4200" spc="-1" strike="noStrike">
                  <a:solidFill>
                    <a:srgbClr val="000000"/>
                  </a:solidFill>
                  <a:latin typeface="Eras Bold ITC"/>
                </a:endParaRPr>
              </a:p>
            </p:txBody>
          </p:sp>
        </p:grpSp>
      </p:gr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84"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9B09F-A24E-453F-87D2-AE6D3460D1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85" name="PlaceHolder 1"/>
          <p:cNvSpPr>
            <a:spLocks noGrp="1"/>
          </p:cNvSpPr>
          <p:nvPr>
            <p:ph type="title"/>
          </p:nvPr>
        </p:nvSpPr>
        <p:spPr>
          <a:xfrm>
            <a:off x="137160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etitive Factors</a:t>
            </a:r>
            <a:endParaRPr b="0" lang="en-US" sz="4000" spc="-1" strike="noStrike">
              <a:solidFill>
                <a:srgbClr val="000000"/>
              </a:solidFill>
              <a:latin typeface="Calibri"/>
            </a:endParaRPr>
          </a:p>
        </p:txBody>
      </p:sp>
      <p:sp>
        <p:nvSpPr>
          <p:cNvPr id="386" name=""/>
          <p:cNvSpPr txBox="1"/>
          <p:nvPr/>
        </p:nvSpPr>
        <p:spPr>
          <a:xfrm>
            <a:off x="1252440" y="1646280"/>
            <a:ext cx="3314880" cy="452592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Market Share </a:t>
            </a:r>
            <a:endParaRPr b="0" lang="en-US" sz="2800" spc="-1" strike="noStrike">
              <a:solidFill>
                <a:srgbClr val="000000"/>
              </a:solidFill>
              <a:latin typeface="Calibri"/>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and Profit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rms must work harder to maintain profits and market shar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7" name=""/>
          <p:cNvSpPr txBox="1"/>
          <p:nvPr/>
        </p:nvSpPr>
        <p:spPr>
          <a:xfrm>
            <a:off x="4471560" y="1644120"/>
            <a:ext cx="3397320" cy="3962520"/>
          </a:xfrm>
          <a:prstGeom prst="rect">
            <a:avLst/>
          </a:prstGeom>
          <a:noFill/>
          <a:ln w="0">
            <a:noFill/>
          </a:ln>
        </p:spPr>
        <p:txBody>
          <a:bodyPr anchor="t">
            <a:normAutofit fontScale="87000"/>
          </a:bodyPr>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Global</a:t>
            </a:r>
            <a:endParaRPr b="0" lang="en-US" sz="2800" spc="-1" strike="noStrike">
              <a:solidFill>
                <a:srgbClr val="000000"/>
              </a:solidFill>
              <a:latin typeface="Calibri"/>
            </a:endParaRPr>
          </a:p>
          <a:p>
            <a:pPr marL="298440" indent="-298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ff"/>
                </a:solidFill>
                <a:latin typeface="Calibri"/>
              </a:rPr>
              <a:t>Competition</a:t>
            </a:r>
            <a:endParaRPr b="0" lang="en-US" sz="2800" spc="-1" strike="noStrike">
              <a:solidFill>
                <a:srgbClr val="000000"/>
              </a:solidFill>
              <a:latin typeface="Calibri"/>
            </a:endParaRPr>
          </a:p>
          <a:p>
            <a:pPr marL="298440" indent="-298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foreign firms </a:t>
            </a:r>
            <a:br>
              <a:rPr sz="2800"/>
            </a:br>
            <a:r>
              <a:rPr b="0" lang="en-US" sz="2800" spc="-1" strike="noStrike">
                <a:solidFill>
                  <a:srgbClr val="000000"/>
                </a:solidFill>
                <a:latin typeface="Calibri"/>
              </a:rPr>
              <a:t>are entering U.S. marke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firms in U.S. now compete on product quality.</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887400" y="1446120"/>
            <a:ext cx="7761240" cy="4687920"/>
          </a:xfrm>
          <a:prstGeom prst="rect">
            <a:avLst/>
          </a:prstGeom>
          <a:noFill/>
          <a:ln w="0">
            <a:noFill/>
          </a:ln>
        </p:spPr>
        <p:style>
          <a:lnRef idx="0"/>
          <a:fillRef idx="0"/>
          <a:effectRef idx="0"/>
          <a:fontRef idx="minor"/>
        </p:style>
        <p:txBody>
          <a:bodyPr lIns="90000" rIns="90000" tIns="46800" bIns="46800" anchor="t">
            <a:normAutofit/>
          </a:bodyPr>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5 </a:t>
            </a:r>
            <a:r>
              <a:rPr b="0" lang="en-US" sz="2800" spc="-1" strike="noStrike">
                <a:solidFill>
                  <a:srgbClr val="000000"/>
                </a:solidFill>
                <a:latin typeface="Arial"/>
                <a:ea typeface="ＭＳ Ｐゴシック"/>
              </a:rPr>
              <a:t>Identify consumer and marketer reactions to the state of the economy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6 </a:t>
            </a:r>
            <a:r>
              <a:rPr b="0" lang="en-US" sz="2800" spc="-1" strike="noStrike">
                <a:solidFill>
                  <a:srgbClr val="000000"/>
                </a:solidFill>
                <a:latin typeface="Arial"/>
                <a:ea typeface="ＭＳ Ｐゴシック"/>
              </a:rPr>
              <a:t>Identify the impact of technology on a firm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7 </a:t>
            </a:r>
            <a:r>
              <a:rPr b="0" lang="en-US" sz="2800" spc="-1" strike="noStrike">
                <a:solidFill>
                  <a:srgbClr val="000000"/>
                </a:solidFill>
                <a:latin typeface="Arial"/>
                <a:ea typeface="ＭＳ Ｐゴシック"/>
              </a:rPr>
              <a:t>Discuss the political and legal environment of marketing </a:t>
            </a:r>
            <a:endParaRPr b="0" lang="en-US" sz="2800" spc="-1" strike="noStrike">
              <a:solidFill>
                <a:srgbClr val="000000"/>
              </a:solidFill>
              <a:latin typeface="Eras Bold ITC"/>
            </a:endParaRPr>
          </a:p>
          <a:p>
            <a:pPr marL="573120" indent="-573120">
              <a:lnSpc>
                <a:spcPct val="100000"/>
              </a:lnSpc>
              <a:spcBef>
                <a:spcPts val="4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Eras Bold ITC"/>
            </a:endParaRPr>
          </a:p>
          <a:p>
            <a:pPr marL="573120" indent="-57312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ee312d"/>
                </a:solidFill>
                <a:latin typeface="Calibri"/>
                <a:ea typeface="ＭＳ Ｐゴシック"/>
              </a:rPr>
              <a:t>4-8 </a:t>
            </a:r>
            <a:r>
              <a:rPr b="0" lang="en-US" sz="2800" spc="-1" strike="noStrike">
                <a:solidFill>
                  <a:srgbClr val="000000"/>
                </a:solidFill>
                <a:latin typeface="Arial"/>
                <a:ea typeface="ＭＳ Ｐゴシック"/>
              </a:rPr>
              <a:t>Explain the basics of foreign and domestic competition</a:t>
            </a:r>
            <a:endParaRPr b="0" lang="en-US" sz="2800" spc="-1" strike="noStrike">
              <a:solidFill>
                <a:srgbClr val="000000"/>
              </a:solidFill>
              <a:latin typeface="Eras Bold ITC"/>
            </a:endParaRPr>
          </a:p>
        </p:txBody>
      </p:sp>
      <p:sp>
        <p:nvSpPr>
          <p:cNvPr id="267" name="Footer Placeholder 16"/>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68" name="Slide Number Placeholder 15"/>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3CF8F-EE2B-48DD-BC81-D07644195C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69" name="TextBox 17"/>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ee312d"/>
                </a:solidFill>
                <a:latin typeface="Arial Narrow"/>
              </a:rPr>
              <a:t>L</a:t>
            </a:r>
            <a:r>
              <a:rPr b="0" lang="en-US" sz="6000" spc="-1" strike="noStrike">
                <a:solidFill>
                  <a:srgbClr val="ee312d"/>
                </a:solidFill>
                <a:latin typeface="Arial Narrow"/>
              </a:rPr>
              <a:t>EARNING</a:t>
            </a:r>
            <a:r>
              <a:rPr b="0" lang="en-US" sz="6600" spc="-1" strike="noStrike">
                <a:solidFill>
                  <a:srgbClr val="ee312d"/>
                </a:solidFill>
                <a:latin typeface="Arial Narrow"/>
              </a:rPr>
              <a:t> O</a:t>
            </a:r>
            <a:r>
              <a:rPr b="0" lang="en-US" sz="6000" spc="-1" strike="noStrike">
                <a:solidFill>
                  <a:srgbClr val="ee312d"/>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Footer Placeholder 10"/>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71" name="PlaceHolder 1"/>
          <p:cNvSpPr>
            <a:spLocks noGrp="1"/>
          </p:cNvSpPr>
          <p:nvPr>
            <p:ph type="title"/>
          </p:nvPr>
        </p:nvSpPr>
        <p:spPr>
          <a:xfrm>
            <a:off x="0" y="40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External</a:t>
            </a:r>
            <a:br>
              <a:rPr sz="4400"/>
            </a:br>
            <a:r>
              <a:rPr b="0" lang="en-US" sz="4400" spc="-1" strike="noStrike">
                <a:solidFill>
                  <a:srgbClr val="000000"/>
                </a:solidFill>
                <a:latin typeface="Calibri"/>
              </a:rPr>
              <a:t>Marketing Environment</a:t>
            </a:r>
            <a:endParaRPr b="0" lang="en-US" sz="4400" spc="-1" strike="noStrike">
              <a:solidFill>
                <a:srgbClr val="000000"/>
              </a:solidFill>
              <a:latin typeface="Calibri"/>
            </a:endParaRPr>
          </a:p>
        </p:txBody>
      </p:sp>
      <p:sp>
        <p:nvSpPr>
          <p:cNvPr id="272" name="AutoShape 2"/>
          <p:cNvSpPr/>
          <p:nvPr/>
        </p:nvSpPr>
        <p:spPr>
          <a:xfrm>
            <a:off x="2193840" y="2376360"/>
            <a:ext cx="4722840" cy="34434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iscuss the external environment of marketing, and explain how it affects a firm</a:t>
            </a:r>
            <a:endParaRPr b="0" lang="en-US" sz="2400" spc="-1" strike="noStrike">
              <a:solidFill>
                <a:srgbClr val="000000"/>
              </a:solidFill>
              <a:latin typeface="Eras Bold ITC"/>
            </a:endParaRPr>
          </a:p>
        </p:txBody>
      </p:sp>
      <p:sp>
        <p:nvSpPr>
          <p:cNvPr id="273"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Footer Placeholder 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5"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16B3D-1DEE-4D7D-8BEB-CA7CB5562B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76" name="PlaceHolder 1"/>
          <p:cNvSpPr>
            <a:spLocks noGrp="1"/>
          </p:cNvSpPr>
          <p:nvPr>
            <p:ph type="title"/>
          </p:nvPr>
        </p:nvSpPr>
        <p:spPr>
          <a:xfrm>
            <a:off x="1320840" y="2743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277" name="Text Box 12"/>
          <p:cNvSpPr/>
          <p:nvPr/>
        </p:nvSpPr>
        <p:spPr>
          <a:xfrm>
            <a:off x="1595520" y="1946160"/>
            <a:ext cx="59990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group of people or organizations for which an organization designs, implements, and maintains a marketing mix intended to meet the need of that group, resulting in mutually satisfying exchanges.</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Footer Placeholder 7"/>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79" name="Slide Number Placeholder 6"/>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068C4-B198-4797-AB9F-56A2ACF2E41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280" name="PlaceHolder 1"/>
          <p:cNvSpPr>
            <a:spLocks noGrp="1"/>
          </p:cNvSpPr>
          <p:nvPr>
            <p:ph type="title"/>
          </p:nvPr>
        </p:nvSpPr>
        <p:spPr>
          <a:xfrm>
            <a:off x="1371600" y="274320"/>
            <a:ext cx="646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the External Environment</a:t>
            </a:r>
            <a:endParaRPr b="0" lang="en-US" sz="4000" spc="-1" strike="noStrike">
              <a:solidFill>
                <a:srgbClr val="000000"/>
              </a:solidFill>
              <a:latin typeface="Calibri"/>
            </a:endParaRPr>
          </a:p>
        </p:txBody>
      </p:sp>
      <p:sp>
        <p:nvSpPr>
          <p:cNvPr id="281" name="PlaceHolder 2"/>
          <p:cNvSpPr>
            <a:spLocks noGrp="1"/>
          </p:cNvSpPr>
          <p:nvPr>
            <p:ph/>
          </p:nvPr>
        </p:nvSpPr>
        <p:spPr>
          <a:xfrm>
            <a:off x="1420920" y="1547640"/>
            <a:ext cx="6338880" cy="157968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less marketing managers understand the external environment, the firm cannot intelligently plan for the future.</a:t>
            </a:r>
            <a:endParaRPr b="0" lang="en-US" sz="2800" spc="-1" strike="noStrike">
              <a:solidFill>
                <a:srgbClr val="000000"/>
              </a:solidFill>
              <a:latin typeface="Calibri"/>
            </a:endParaRPr>
          </a:p>
        </p:txBody>
      </p:sp>
      <p:sp>
        <p:nvSpPr>
          <p:cNvPr id="282" name="Content Placeholder 2"/>
          <p:cNvSpPr/>
          <p:nvPr/>
        </p:nvSpPr>
        <p:spPr>
          <a:xfrm>
            <a:off x="1487520" y="3736800"/>
            <a:ext cx="6207120" cy="1565280"/>
          </a:xfrm>
          <a:prstGeom prst="rect">
            <a:avLst/>
          </a:prstGeom>
          <a:noFill/>
          <a:ln w="0">
            <a:noFill/>
          </a:ln>
        </p:spPr>
        <p:style>
          <a:lnRef idx="0"/>
          <a:fillRef idx="0"/>
          <a:effectRef idx="0"/>
          <a:fontRef idx="minor"/>
        </p:style>
        <p:txBody>
          <a:bodyPr lIns="90000" rIns="90000" tIns="46800" bIns="46800" anchor="t">
            <a:normAutofit fontScale="92000"/>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when a company implements strategies that attempt to shape the external environment within which it operates.</a:t>
            </a:r>
            <a:endParaRPr b="0" lang="en-US" sz="2800" spc="-1" strike="noStrike">
              <a:solidFill>
                <a:srgbClr val="000000"/>
              </a:solidFill>
              <a:latin typeface="Eras Bold ITC"/>
            </a:endParaRPr>
          </a:p>
        </p:txBody>
      </p:sp>
      <p:sp>
        <p:nvSpPr>
          <p:cNvPr id="283" name="TextBox 5"/>
          <p:cNvSpPr/>
          <p:nvPr/>
        </p:nvSpPr>
        <p:spPr>
          <a:xfrm>
            <a:off x="1397160" y="3127320"/>
            <a:ext cx="64134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afd7"/>
                </a:solidFill>
                <a:latin typeface="Arial"/>
                <a:ea typeface="ＭＳ Ｐゴシック"/>
              </a:rPr>
              <a:t>Environmental Management</a:t>
            </a:r>
            <a:r>
              <a:rPr b="1" i="1" lang="en-US" sz="4000" spc="-1" strike="noStrike">
                <a:solidFill>
                  <a:srgbClr val="00afd7"/>
                </a:solidFill>
                <a:latin typeface="Arial"/>
                <a:ea typeface="ＭＳ Ｐゴシック"/>
              </a:rPr>
              <a:t> </a:t>
            </a:r>
            <a:r>
              <a:rPr b="0" i="1" lang="en-US" sz="2800" spc="-1" strike="noStrike">
                <a:solidFill>
                  <a:srgbClr val="00afd7"/>
                </a:solidFill>
                <a:latin typeface="Arial"/>
                <a:ea typeface="ＭＳ Ｐゴシック"/>
              </a:rPr>
              <a:t>is…</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AutoShape 2"/>
          <p:cNvSpPr/>
          <p:nvPr/>
        </p:nvSpPr>
        <p:spPr>
          <a:xfrm>
            <a:off x="2468520" y="2778120"/>
            <a:ext cx="4565520" cy="227664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cribe the social factors </a:t>
            </a:r>
            <a:br>
              <a:rPr sz="2400"/>
            </a:br>
            <a:r>
              <a:rPr b="1" lang="en-US" sz="2400" spc="-1" strike="noStrike">
                <a:solidFill>
                  <a:srgbClr val="000000"/>
                </a:solidFill>
                <a:latin typeface="Arial"/>
                <a:ea typeface="ＭＳ Ｐゴシック"/>
              </a:rPr>
              <a:t>that affect marketing</a:t>
            </a:r>
            <a:br>
              <a:rPr sz="2400"/>
            </a:br>
            <a:endParaRPr b="0" lang="en-US" sz="2400" spc="-1" strike="noStrike">
              <a:solidFill>
                <a:srgbClr val="000000"/>
              </a:solidFill>
              <a:latin typeface="Eras Bold ITC"/>
            </a:endParaRPr>
          </a:p>
        </p:txBody>
      </p:sp>
      <p:sp>
        <p:nvSpPr>
          <p:cNvPr id="285" name="Footer Placeholder 5"/>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286" name="Rectangle 3"/>
          <p:cNvSpPr/>
          <p:nvPr/>
        </p:nvSpPr>
        <p:spPr>
          <a:xfrm>
            <a:off x="0" y="52236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Factors</a:t>
            </a:r>
            <a:endParaRPr b="0" lang="en-US" sz="4400" spc="-1" strike="noStrike">
              <a:solidFill>
                <a:srgbClr val="000000"/>
              </a:solidFill>
              <a:latin typeface="Eras Bold ITC"/>
            </a:endParaRPr>
          </a:p>
        </p:txBody>
      </p:sp>
      <p:sp>
        <p:nvSpPr>
          <p:cNvPr id="287" name="TextBox 8"/>
          <p:cNvSpPr/>
          <p:nvPr/>
        </p:nvSpPr>
        <p:spPr>
          <a:xfrm>
            <a:off x="455760" y="844560"/>
            <a:ext cx="1218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4-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Factors</a:t>
            </a:r>
            <a:endParaRPr b="0" lang="en-US" sz="4000" spc="-1" strike="noStrike">
              <a:solidFill>
                <a:srgbClr val="000000"/>
              </a:solidFill>
              <a:latin typeface="Calibri"/>
            </a:endParaRPr>
          </a:p>
        </p:txBody>
      </p:sp>
      <p:sp>
        <p:nvSpPr>
          <p:cNvPr id="289" name=""/>
          <p:cNvSpPr txBox="1"/>
          <p:nvPr/>
        </p:nvSpPr>
        <p:spPr>
          <a:xfrm>
            <a:off x="1371600" y="108576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clude:</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cial factors influence the products people buy, the price paid, the effectiveness of specific promotions, and how, where, and when people expect to purchase products.  </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Footer Placeholder 8"/>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1" name="Slide Number Placeholder 7"/>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F696-2534-4286-AAAB-37A0AFBF9BD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grpSp>
        <p:nvGrpSpPr>
          <p:cNvPr id="292" name="Group 23"/>
          <p:cNvGrpSpPr/>
          <p:nvPr/>
        </p:nvGrpSpPr>
        <p:grpSpPr>
          <a:xfrm>
            <a:off x="2174760" y="1716120"/>
            <a:ext cx="2220840" cy="1038240"/>
            <a:chOff x="2174760" y="1716120"/>
            <a:chExt cx="2220840" cy="1038240"/>
          </a:xfrm>
        </p:grpSpPr>
        <p:sp>
          <p:nvSpPr>
            <p:cNvPr id="293" name="Rectangle 13"/>
            <p:cNvSpPr/>
            <p:nvPr/>
          </p:nvSpPr>
          <p:spPr>
            <a:xfrm>
              <a:off x="2174760" y="2106000"/>
              <a:ext cx="2220840" cy="2584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Values</a:t>
              </a:r>
              <a:endParaRPr b="0" lang="en-US" sz="2000" spc="-1" strike="noStrike">
                <a:solidFill>
                  <a:srgbClr val="000000"/>
                </a:solidFill>
                <a:latin typeface="Eras Bold ITC"/>
              </a:endParaRPr>
            </a:p>
          </p:txBody>
        </p:sp>
        <p:sp>
          <p:nvSpPr>
            <p:cNvPr id="294" name="Rectangle 14"/>
            <p:cNvSpPr/>
            <p:nvPr/>
          </p:nvSpPr>
          <p:spPr>
            <a:xfrm>
              <a:off x="2174760" y="1716120"/>
              <a:ext cx="2220840" cy="2584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Attitudes</a:t>
              </a:r>
              <a:endParaRPr b="0" lang="en-US" sz="1800" spc="-1" strike="noStrike">
                <a:solidFill>
                  <a:srgbClr val="000000"/>
                </a:solidFill>
                <a:latin typeface="Eras Bold ITC"/>
              </a:endParaRPr>
            </a:p>
          </p:txBody>
        </p:sp>
        <p:sp>
          <p:nvSpPr>
            <p:cNvPr id="295" name="Rectangle 15"/>
            <p:cNvSpPr/>
            <p:nvPr/>
          </p:nvSpPr>
          <p:spPr>
            <a:xfrm>
              <a:off x="2174760" y="2495880"/>
              <a:ext cx="2220840" cy="2584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Lifestyles</a:t>
              </a:r>
              <a:endParaRPr b="0" lang="en-US" sz="2000" spc="-1" strike="noStrike">
                <a:solidFill>
                  <a:srgbClr val="000000"/>
                </a:solidFill>
                <a:latin typeface="Eras Bold ITC"/>
              </a:endParaRPr>
            </a:p>
          </p:txBody>
        </p:sp>
      </p:gr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Values</a:t>
            </a:r>
            <a:endParaRPr b="0" lang="en-US" sz="4000" spc="-1" strike="noStrike">
              <a:solidFill>
                <a:srgbClr val="000000"/>
              </a:solidFill>
              <a:latin typeface="Calibri"/>
            </a:endParaRPr>
          </a:p>
        </p:txBody>
      </p:sp>
      <p:sp>
        <p:nvSpPr>
          <p:cNvPr id="297" name=""/>
          <p:cNvSpPr txBox="1"/>
          <p:nvPr/>
        </p:nvSpPr>
        <p:spPr>
          <a:xfrm>
            <a:off x="1295280" y="1523880"/>
            <a:ext cx="6477120" cy="4525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 value is a strongly held and enduring belief.</a:t>
            </a:r>
            <a:endParaRPr b="0" lang="en-US" sz="24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Calibri"/>
                <a:hlinkClick r:id="rId1"/>
              </a:rPr>
              <a:t>http://www.stevepavlina.com/blog/2004/11/list-of-values/</a:t>
            </a:r>
            <a:endParaRPr b="0" lang="en-US" sz="16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uman values give us a sense of what is or isn’t important in one’s life.</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Values are believed to strongly influence </a:t>
            </a:r>
            <a:r>
              <a:rPr b="0" i="1" lang="en-US" sz="2400" spc="-1" strike="noStrike" u="sng">
                <a:solidFill>
                  <a:srgbClr val="000000"/>
                </a:solidFill>
                <a:uFillTx/>
                <a:latin typeface="Arial"/>
                <a:ea typeface="Arial"/>
              </a:rPr>
              <a:t>attitudes</a:t>
            </a:r>
            <a:r>
              <a:rPr b="0" lang="en-US" sz="2400" spc="-1" strike="noStrike">
                <a:solidFill>
                  <a:srgbClr val="000000"/>
                </a:solidFill>
                <a:latin typeface="Arial"/>
                <a:ea typeface="Arial"/>
              </a:rPr>
              <a:t> and </a:t>
            </a:r>
            <a:r>
              <a:rPr b="0" i="1" lang="en-US" sz="2400" spc="-1" strike="noStrike" u="sng">
                <a:solidFill>
                  <a:srgbClr val="000000"/>
                </a:solidFill>
                <a:uFillTx/>
                <a:latin typeface="Arial"/>
                <a:ea typeface="Arial"/>
              </a:rPr>
              <a:t>lifestyles</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Footer Placeholder 15"/>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299" name="Slide Number Placeholder 1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6CF99-10F4-484E-B75F-52050F86A62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8-28T07:34:57Z</dcterms:modified>
  <cp:revision>597</cp:revision>
  <dc:subject>An Overview of Marketing</dc:subject>
  <dc:title>Chapter 1</dc:title>
</cp:coreProperties>
</file>