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6.png" ContentType="image/png"/>
  <Override PartName="/ppt/media/image7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04920" y="3988440"/>
            <a:ext cx="8294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5508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8844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55080" y="398844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67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09320" y="1600200"/>
            <a:ext cx="267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13720" y="1600200"/>
            <a:ext cx="267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04920" y="3988440"/>
            <a:ext cx="267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09320" y="3988440"/>
            <a:ext cx="267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13720" y="3988440"/>
            <a:ext cx="267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047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555080" y="1600200"/>
            <a:ext cx="4047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04920" y="303120"/>
            <a:ext cx="8610480" cy="46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55080" y="1600200"/>
            <a:ext cx="4047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04920" y="398844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047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5508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55080" y="398844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5508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04920" y="3988440"/>
            <a:ext cx="8294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04920" y="3988440"/>
            <a:ext cx="8294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508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04920" y="398844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55080" y="398844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67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09320" y="1600200"/>
            <a:ext cx="267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13720" y="1600200"/>
            <a:ext cx="267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304920" y="3988440"/>
            <a:ext cx="267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09320" y="3988440"/>
            <a:ext cx="267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13720" y="3988440"/>
            <a:ext cx="267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047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555080" y="1600200"/>
            <a:ext cx="4047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920" y="303120"/>
            <a:ext cx="8610480" cy="46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555080" y="1600200"/>
            <a:ext cx="4047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04920" y="398844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047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55508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55080" y="398844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5508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04920" y="3988440"/>
            <a:ext cx="8294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Rectangle 11"/>
          <p:cNvSpPr/>
          <p:nvPr/>
        </p:nvSpPr>
        <p:spPr>
          <a:xfrm flipH="1">
            <a:off x="8229600" y="6172200"/>
            <a:ext cx="914400" cy="685800"/>
          </a:xfrm>
          <a:prstGeom prst="rect">
            <a:avLst/>
          </a:prstGeom>
          <a:solidFill>
            <a:srgbClr val="fff5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solidFill>
            <a:srgbClr val="fff5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8991720" y="0"/>
            <a:ext cx="152280" cy="6705720"/>
          </a:xfrm>
          <a:prstGeom prst="rect">
            <a:avLst/>
          </a:prstGeom>
          <a:solidFill>
            <a:srgbClr val="fff5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1"/>
          <p:cNvSpPr/>
          <p:nvPr/>
        </p:nvSpPr>
        <p:spPr>
          <a:xfrm>
            <a:off x="303120" y="6459480"/>
            <a:ext cx="457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c1c1c"/>
                </a:solidFill>
                <a:latin typeface="Arial"/>
              </a:rPr>
              <a:t>Copyright © 2011 Pearson Education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Text Box 8"/>
          <p:cNvSpPr/>
          <p:nvPr/>
        </p:nvSpPr>
        <p:spPr>
          <a:xfrm>
            <a:off x="8305920" y="6324480"/>
            <a:ext cx="8380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2A-</a:t>
            </a:r>
            <a:fld id="{E2708D0A-3530-4597-AF5D-07479C7CABAA}" type="slidenum">
              <a:rPr b="1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5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1066680" y="624060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pyright © 2011 Pearson Education. 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Picture 1029" descr="9780137029136"/>
          <p:cNvPicPr/>
          <p:nvPr/>
        </p:nvPicPr>
        <p:blipFill>
          <a:blip r:embed="rId2"/>
          <a:stretch/>
        </p:blipFill>
        <p:spPr>
          <a:xfrm>
            <a:off x="4427640" y="333360"/>
            <a:ext cx="4416480" cy="56786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030" descr="PEA_c"/>
          <p:cNvPicPr/>
          <p:nvPr/>
        </p:nvPicPr>
        <p:blipFill>
          <a:blip r:embed="rId3"/>
          <a:stretch/>
        </p:blipFill>
        <p:spPr>
          <a:xfrm>
            <a:off x="179280" y="6392880"/>
            <a:ext cx="792360" cy="30636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robability and Statistic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probabilit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of an event is the long-run relative frequency of the event, given an infinite number of trials with no changes in the underlying condition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vents and probabilities can be summarized through 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probability distribu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istributions may be discrete or continuou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probability distribution is characterized by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mean, or measure of central tendenc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variance, or measure of dispers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pull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robability and Statistic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228240" y="17521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mean or expected value i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" name="Object 2"/>
              <p:cNvSpPr txBox="1"/>
              <p:nvPr/>
            </p:nvSpPr>
            <p:spPr>
              <a:xfrm>
                <a:off x="2209680" y="2514600"/>
                <a:ext cx="2716200" cy="5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or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EV</m:t>
                    </m:r>
                    <m:r>
                      <m:t xml:space="preserve">=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graphicFrame>
        <p:nvGraphicFramePr>
          <p:cNvPr id="89" name=""/>
          <p:cNvGraphicFramePr/>
          <p:nvPr/>
        </p:nvGraphicFramePr>
        <p:xfrm>
          <a:off x="1295280" y="3733920"/>
          <a:ext cx="6096240" cy="2125440"/>
        </p:xfrm>
        <a:graphic>
          <a:graphicData uri="http://schemas.openxmlformats.org/drawingml/2006/table">
            <a:tbl>
              <a:tblPr/>
              <a:tblGrid>
                <a:gridCol w="1447920"/>
                <a:gridCol w="685800"/>
                <a:gridCol w="1523880"/>
                <a:gridCol w="914400"/>
                <a:gridCol w="1524240"/>
              </a:tblGrid>
              <a:tr h="95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ount of Loss (X</a:t>
                      </a:r>
                      <a:r>
                        <a:rPr b="1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bability of Loss (P</a:t>
                      </a:r>
                      <a:r>
                        <a:rPr b="1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1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</a:t>
                      </a:r>
                      <a:r>
                        <a:rPr b="1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    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    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3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1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6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$1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3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90" name="Object 3"/>
              <p:cNvSpPr txBox="1"/>
              <p:nvPr/>
            </p:nvSpPr>
            <p:spPr>
              <a:xfrm>
                <a:off x="3809880" y="5562720"/>
                <a:ext cx="76212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p:transition spd="med">
    <p:pull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robability and Statistic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304920" y="1676520"/>
            <a:ext cx="853416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variance of a probability distribution i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r the previous loss distribution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standard deviation =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igher standard deviations, relative to the mean, are associated with greater uncertainty of loss; therefore, the risk is great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93" name="Object 2"/>
          <p:cNvGraphicFramePr/>
          <p:nvPr/>
        </p:nvGraphicFramePr>
        <p:xfrm>
          <a:off x="4876920" y="2057400"/>
          <a:ext cx="2514600" cy="49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76920" y="2057400"/>
                    <a:ext cx="2514600" cy="4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5" name="Object 3"/>
          <p:cNvGraphicFramePr/>
          <p:nvPr/>
        </p:nvGraphicFramePr>
        <p:xfrm>
          <a:off x="2133720" y="2971800"/>
          <a:ext cx="3773520" cy="1477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6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3720" y="2971800"/>
                    <a:ext cx="3773520" cy="147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7" name="Object 4"/>
          <p:cNvGraphicFramePr/>
          <p:nvPr/>
        </p:nvGraphicFramePr>
        <p:xfrm>
          <a:off x="4114800" y="4495680"/>
          <a:ext cx="2427120" cy="533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8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114800" y="4495680"/>
                    <a:ext cx="242712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pull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aw of Large Number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28240" y="17524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law of large numbers is the mathematical foundation of insuranc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verage losses for a random sample of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exposure units will follow a normal distribution because of the Central Limit Theorem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gardless of the population distribution, the distribution of sample means will approach the normal distribution as the sample size increas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standard error of the sampling distribution can be reduced by simply increasing the sample siz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pull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Exhibit A2.1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Sampling Distribution Versus Sample Size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2" name="Picture 7" descr="exA02_01"/>
          <p:cNvPicPr/>
          <p:nvPr/>
        </p:nvPicPr>
        <p:blipFill>
          <a:blip r:embed="rId1"/>
          <a:stretch/>
        </p:blipFill>
        <p:spPr>
          <a:xfrm>
            <a:off x="1371600" y="2362320"/>
            <a:ext cx="6249960" cy="334476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53452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Exhibit A2.2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Standard Error of the Sampling Distribution Versus Sample Size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4" name="Picture 6" descr="exA02_02"/>
          <p:cNvPicPr/>
          <p:nvPr/>
        </p:nvPicPr>
        <p:blipFill>
          <a:blip r:embed="rId1"/>
          <a:stretch/>
        </p:blipFill>
        <p:spPr>
          <a:xfrm>
            <a:off x="1143000" y="2286000"/>
            <a:ext cx="6734160" cy="293688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aw of Large Number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en an insurer increases the size of the sample of insured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nderwriting risk increases, because more insured units could suffer a loss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ut, underwriting risk does not increase proportionately. It increases by the square root of the increase in the sample siz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re is “safety in numbers” for insurers!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4T08:00:35Z</dcterms:created>
  <dc:creator>George E. Rejda</dc:creator>
  <dc:description/>
  <dc:language>en-US</dc:language>
  <cp:lastModifiedBy>Rewayda</cp:lastModifiedBy>
  <dcterms:modified xsi:type="dcterms:W3CDTF">2015-09-22T10:56:29Z</dcterms:modified>
  <cp:revision>95</cp:revision>
  <dc:subject>Insurance and Risk</dc:subject>
  <dc:title>Chapter 2 Appendix</dc:title>
</cp:coreProperties>
</file>