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1"/>
          <p:cNvSpPr/>
          <p:nvPr/>
        </p:nvSpPr>
        <p:spPr>
          <a:xfrm flipH="1">
            <a:off x="8229600" y="6172200"/>
            <a:ext cx="914400" cy="68580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991720" y="0"/>
            <a:ext cx="152280" cy="670572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3120" y="645948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11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305920" y="6324480"/>
            <a:ext cx="838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A-</a:t>
            </a:r>
            <a:fld id="{C3637273-0658-4E60-B977-F53FD658EBCC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1066680" y="624060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11 Pearson Educ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029" descr="9780137029136"/>
          <p:cNvPicPr/>
          <p:nvPr/>
        </p:nvPicPr>
        <p:blipFill>
          <a:blip r:embed="rId2"/>
          <a:stretch/>
        </p:blipFill>
        <p:spPr>
          <a:xfrm>
            <a:off x="4427640" y="333360"/>
            <a:ext cx="4416480" cy="567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0" descr="PEA_c"/>
          <p:cNvPicPr/>
          <p:nvPr/>
        </p:nvPicPr>
        <p:blipFill>
          <a:blip r:embed="rId3"/>
          <a:stretch/>
        </p:blipFill>
        <p:spPr>
          <a:xfrm>
            <a:off x="179280" y="6392880"/>
            <a:ext cx="792360" cy="306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ability and Statistic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babil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n event is the long-run relative frequency of the event, given an infinite number of trials with no changes in the underlying condi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ts and probabilities can be summarized through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bability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tributions may be discrete or continuo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robability distribution is characterized b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ean, or measure of central tend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variance, or measure of disp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ability and Statistic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240" y="17521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n or expected value i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2209680" y="2514600"/>
                <a:ext cx="27162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89" name=""/>
          <p:cNvGraphicFramePr/>
          <p:nvPr/>
        </p:nvGraphicFramePr>
        <p:xfrm>
          <a:off x="1295280" y="3733920"/>
          <a:ext cx="6096240" cy="2125440"/>
        </p:xfrm>
        <a:graphic>
          <a:graphicData uri="http://schemas.openxmlformats.org/drawingml/2006/table">
            <a:tbl>
              <a:tblPr/>
              <a:tblGrid>
                <a:gridCol w="1447920"/>
                <a:gridCol w="685800"/>
                <a:gridCol w="1523880"/>
                <a:gridCol w="914400"/>
                <a:gridCol w="1524240"/>
              </a:tblGrid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unt of Loss (X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 of Loss (P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$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3809880" y="5562720"/>
                <a:ext cx="76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ability and Statistic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riance of a probability distribution 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the previous loss distribution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andard deviation =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standard deviations, relative to the mean, are associated with greater uncertainty of loss; therefore, the risk is gre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Object 2"/>
          <p:cNvGraphicFramePr/>
          <p:nvPr/>
        </p:nvGraphicFramePr>
        <p:xfrm>
          <a:off x="4876920" y="2057400"/>
          <a:ext cx="2514600" cy="4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057400"/>
                    <a:ext cx="25146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3"/>
          <p:cNvGraphicFramePr/>
          <p:nvPr/>
        </p:nvGraphicFramePr>
        <p:xfrm>
          <a:off x="2133720" y="2971800"/>
          <a:ext cx="377352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971800"/>
                    <a:ext cx="377352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4"/>
          <p:cNvGraphicFramePr/>
          <p:nvPr/>
        </p:nvGraphicFramePr>
        <p:xfrm>
          <a:off x="4114800" y="4495680"/>
          <a:ext cx="24271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495680"/>
                    <a:ext cx="2427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w of Large Numb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240" y="17524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aw of large numbers is the mathematical foundation of insura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 losses for a random sample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xposure units will follow a normal distribution because of the Central Limit Theor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ardless of the population distribution, the distribution of sample means will approach the normal distribution as the sample size incre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andard error of the sampling distribution can be reduced by simply increasing the sample si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A2.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Sampling Distribution Versus Sample Siz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7" descr="exA02_01"/>
          <p:cNvPicPr/>
          <p:nvPr/>
        </p:nvPicPr>
        <p:blipFill>
          <a:blip r:embed="rId1"/>
          <a:stretch/>
        </p:blipFill>
        <p:spPr>
          <a:xfrm>
            <a:off x="1371600" y="2362320"/>
            <a:ext cx="6249960" cy="334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A2.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Standard Error of the Sampling Distribution Versus Sample Siz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6" descr="exA02_02"/>
          <p:cNvPicPr/>
          <p:nvPr/>
        </p:nvPicPr>
        <p:blipFill>
          <a:blip r:embed="rId1"/>
          <a:stretch/>
        </p:blipFill>
        <p:spPr>
          <a:xfrm>
            <a:off x="1143000" y="2286000"/>
            <a:ext cx="673416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w of Large Numb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n insurer increases the size of the sample of insured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writing risk increases, because more insured units could suffer a los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, underwriting risk does not increase proportionately. It increases by the square root of the increase in the sample siz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“safety in numbers” for insurer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00:35Z</dcterms:created>
  <dc:creator>George E. Rejda</dc:creator>
  <dc:description/>
  <dc:language>en-US</dc:language>
  <cp:lastModifiedBy>Rewayda</cp:lastModifiedBy>
  <dcterms:modified xsi:type="dcterms:W3CDTF">2015-09-22T10:56:29Z</dcterms:modified>
  <cp:revision>95</cp:revision>
  <dc:subject>Insurance and Risk</dc:subject>
  <dc:title>Chapter 2 Appendix</dc:title>
</cp:coreProperties>
</file>