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238-5F10-4FA1-8634-72DF4295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033-8D6A-4329-AE34-79DBE00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B50-46D9-467D-8CAD-B0EB7F5E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504-419A-48D9-B88D-043C6ECA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234-9BC3-469A-9976-0BD4E70D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9D6-CC31-4DE8-8F9A-FF4D737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32E-B419-4407-82B7-25DCDEB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B0B-4D29-4CEA-8C2F-0DE198B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FEFC-222B-4CB7-869A-58E1DE0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DC8-BCB9-45CD-91C4-EBC5C99D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64A3-2D35-4D2C-B928-762E91D3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252-6DEC-43BF-A5F3-38B12E8D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EBB3-78C0-47BC-93DF-58149E6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D12-C541-4C92-A810-131E33A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2105-09A6-4F00-99EA-3A4BDB6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81C8-4048-44AA-9FCF-090C71CB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E260-5098-47C6-AE6B-369BC6F3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7EE3-4FAD-4AE8-92CC-03DA9F38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58D4-BA9F-4ED2-BD0F-164FC592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27DC-B1E6-4417-A60A-CDBD2E6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75EE-29EC-4ABF-A819-1CFE2916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08EF-C635-481F-8D23-1B37BB5B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0DF-C948-450E-8015-626DB217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B18C-BA4C-409A-8A36-EF959C1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0B0A-D01B-41DE-B812-DA0A567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B60A-E98E-4025-BE69-B381AC1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9A99-6D77-4002-B82B-B78860F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CE97-5643-444E-82BC-BEAB655A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A03B-C156-4E90-A580-9A27A80D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36B2-2968-417C-87E5-00F92935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0335-679A-48D6-B453-16625131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2994-79C5-4910-95DD-54B8D02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95A5-BE11-4FA0-8C90-2E97ED9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ACA-4370-432F-95E9-AED089D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52A1-8991-46E0-85A5-3427A01F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DD2E-E79C-467E-B399-E73DDA4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B3D8-EBCE-48BD-B601-9797480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C7BD-EB3B-44C1-854E-BF34008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FB79-9984-4E64-BA78-9FA0CF8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8BF1-E48D-4A8F-98C9-7F47EBF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5168-7808-44F1-ABCF-3FA620C5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E742-57D8-4A61-9FCD-2490BBE4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9706-C55F-43BA-A71F-C0C64A31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310-ED2F-4B97-9CF8-335BD02B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188-5C22-4DEB-95FD-D541163D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F09-165F-4797-A965-6B08C9C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E7D-D38F-4832-BE22-417F483D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0A9-6282-4F29-A3C2-51175D3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437B-9BB7-4AB8-B737-2036CFD915C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512-5AAF-4D05-A32E-05D18F8F70E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DEC-2B22-4FB8-8499-DB8B4C7F273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BBA-FC36-4FF7-8C95-1102525AC11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7A3D-91F0-490C-AD16-0BAB31147C1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D62-FEDD-4D4F-B3F0-8DA8CB7C8E1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C076-DB26-4EF8-8A5D-2F980C61345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04E-F7BD-4DBF-AA37-0E9DCC4D368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dc9e1f"/>
                </a:solidFill>
                <a:latin typeface="Arial"/>
              </a:rPr>
              <a:t>أساسيات الطلب والعرض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49400"/>
            <a:ext cx="792504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دالة العرض</a:t>
            </a:r>
            <a:br>
              <a:rPr sz="3200"/>
            </a:b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التغير في العرض والتغيرفي الكمية المعروض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[P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T , …]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(P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c + d 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3" name="Down Arrow 4"/>
          <p:cNvGrpSpPr/>
          <p:nvPr/>
        </p:nvGrpSpPr>
        <p:grpSpPr>
          <a:xfrm>
            <a:off x="2000160" y="2163600"/>
            <a:ext cx="285840" cy="2030400"/>
            <a:chOff x="2000160" y="2163600"/>
            <a:chExt cx="285840" cy="2030400"/>
          </a:xfrm>
        </p:grpSpPr>
        <p:pic>
          <p:nvPicPr>
            <p:cNvPr id="214" name="Down Arrow 4" descr=""/>
            <p:cNvPicPr/>
            <p:nvPr/>
          </p:nvPicPr>
          <p:blipFill>
            <a:blip r:embed="rId1"/>
            <a:stretch/>
          </p:blipFill>
          <p:spPr>
            <a:xfrm>
              <a:off x="2000160" y="2163600"/>
              <a:ext cx="2858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101680" y="2178000"/>
              <a:ext cx="8100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6" name="TextBox 5"/>
          <p:cNvSpPr/>
          <p:nvPr/>
        </p:nvSpPr>
        <p:spPr>
          <a:xfrm>
            <a:off x="1096920" y="3979800"/>
            <a:ext cx="209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 حركي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925800" y="29527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ات انتقال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Left Brace 7"/>
          <p:cNvSpPr/>
          <p:nvPr/>
        </p:nvSpPr>
        <p:spPr>
          <a:xfrm rot="16200000">
            <a:off x="4589640" y="127080"/>
            <a:ext cx="931680" cy="4998960"/>
          </a:xfrm>
          <a:custGeom>
            <a:avLst/>
            <a:gdLst>
              <a:gd name="textAreaLeft" fmla="*/ 595440 w 931680"/>
              <a:gd name="textAreaRight" fmla="*/ 932040 w 931680"/>
              <a:gd name="textAreaTop" fmla="*/ 24120 h 4998960"/>
              <a:gd name="textAreaBottom" fmla="*/ 4974840 h 499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e97ad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ساسيات الطلب والعرض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يعتبر الطلب والعرض من أهم المفاهيم الأساسية في التحليل الاقتصادي الجزئي، لأنهما يشكلان الأساس الذي تقوم عليه الكثير من النظريات الاقتصادي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انب الطلب يمثله المستهلك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انب العرض يمثله المنتج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Left Brace 3"/>
          <p:cNvSpPr/>
          <p:nvPr/>
        </p:nvSpPr>
        <p:spPr>
          <a:xfrm>
            <a:off x="4216320" y="3357720"/>
            <a:ext cx="541440" cy="1066680"/>
          </a:xfrm>
          <a:custGeom>
            <a:avLst/>
            <a:gdLst>
              <a:gd name="textAreaLeft" fmla="*/ 345960 w 541440"/>
              <a:gd name="textAreaRight" fmla="*/ 541800 w 541440"/>
              <a:gd name="textAreaTop" fmla="*/ 14040 h 1066680"/>
              <a:gd name="textAreaBottom" fmla="*/ 10526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7"/>
                  <a:pt x="10800" y="914"/>
                </a:cubicBezTo>
                <a:lnTo>
                  <a:pt x="10800" y="9886"/>
                </a:lnTo>
                <a:cubicBezTo>
                  <a:pt x="10800" y="10343"/>
                  <a:pt x="5400" y="10800"/>
                  <a:pt x="0" y="10800"/>
                </a:cubicBezTo>
                <a:cubicBezTo>
                  <a:pt x="5400" y="10800"/>
                  <a:pt x="10800" y="11257"/>
                  <a:pt x="10800" y="11714"/>
                </a:cubicBezTo>
                <a:lnTo>
                  <a:pt x="10800" y="20686"/>
                </a:lnTo>
                <a:cubicBezTo>
                  <a:pt x="10800" y="21143"/>
                  <a:pt x="16200" y="21600"/>
                  <a:pt x="21600" y="21600"/>
                </a:cubicBezTo>
              </a:path>
            </a:pathLst>
          </a:custGeom>
          <a:noFill/>
          <a:ln w="10800">
            <a:solidFill>
              <a:srgbClr val="ff6600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00160" y="355608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قوى المحركة للسو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نظرية العامة ل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طلب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كميات المختلفة التي تكون الوحدة الاقتصادية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ستعدة وقادرة على شرائها عند الأسعار المختلفة، بافتراض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بقاء العوامل الأخرى على حال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كمية المطلوب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ي كمية محددة بعينها مقابلة لسعر معين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ecc577"/>
                </a:solidFill>
                <a:latin typeface="Arial"/>
              </a:rPr>
              <a:t>يمكن توضيح الطلب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بيانياً             منحنى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أو رقمياً            جدول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أو رياضياً             دالة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5" name="Left Arrow 3"/>
          <p:cNvGrpSpPr/>
          <p:nvPr/>
        </p:nvGrpSpPr>
        <p:grpSpPr>
          <a:xfrm>
            <a:off x="6708600" y="4141800"/>
            <a:ext cx="828720" cy="347760"/>
            <a:chOff x="6708600" y="4141800"/>
            <a:chExt cx="828720" cy="347760"/>
          </a:xfrm>
        </p:grpSpPr>
        <p:pic>
          <p:nvPicPr>
            <p:cNvPr id="176" name="Left Arrow 3" descr=""/>
            <p:cNvPicPr/>
            <p:nvPr/>
          </p:nvPicPr>
          <p:blipFill>
            <a:blip r:embed="rId1"/>
            <a:stretch/>
          </p:blipFill>
          <p:spPr>
            <a:xfrm>
              <a:off x="6708600" y="4141800"/>
              <a:ext cx="8287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25960" y="4213440"/>
              <a:ext cx="6523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" name="Left Arrow 4"/>
          <p:cNvGrpSpPr/>
          <p:nvPr/>
        </p:nvGrpSpPr>
        <p:grpSpPr>
          <a:xfrm>
            <a:off x="6434280" y="4713120"/>
            <a:ext cx="828360" cy="347400"/>
            <a:chOff x="6434280" y="4713120"/>
            <a:chExt cx="828360" cy="347400"/>
          </a:xfrm>
        </p:grpSpPr>
        <p:pic>
          <p:nvPicPr>
            <p:cNvPr id="179" name="Left Arrow 4" descr=""/>
            <p:cNvPicPr/>
            <p:nvPr/>
          </p:nvPicPr>
          <p:blipFill>
            <a:blip r:embed="rId2"/>
            <a:stretch/>
          </p:blipFill>
          <p:spPr>
            <a:xfrm>
              <a:off x="6434280" y="4713120"/>
              <a:ext cx="8283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549840" y="4789080"/>
              <a:ext cx="650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" name="Left Arrow 5"/>
          <p:cNvGrpSpPr/>
          <p:nvPr/>
        </p:nvGrpSpPr>
        <p:grpSpPr>
          <a:xfrm>
            <a:off x="6200640" y="5311800"/>
            <a:ext cx="828720" cy="347760"/>
            <a:chOff x="6200640" y="5311800"/>
            <a:chExt cx="828720" cy="347760"/>
          </a:xfrm>
        </p:grpSpPr>
        <p:pic>
          <p:nvPicPr>
            <p:cNvPr id="182" name="Left Arrow 5" descr=""/>
            <p:cNvPicPr/>
            <p:nvPr/>
          </p:nvPicPr>
          <p:blipFill>
            <a:blip r:embed="rId3"/>
            <a:stretch/>
          </p:blipFill>
          <p:spPr>
            <a:xfrm>
              <a:off x="6200640" y="5311800"/>
              <a:ext cx="8287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318360" y="5383080"/>
              <a:ext cx="65088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30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جدول ومنحنى 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33680"/>
          <a:ext cx="7925040" cy="379080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كمية المطلوبة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3200" spc="-1" strike="noStrike" baseline="-25000">
                          <a:solidFill>
                            <a:srgbClr val="ff6600"/>
                          </a:solidFill>
                          <a:latin typeface="Arial Narrow"/>
                        </a:rPr>
                        <a:t>d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سعر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عوامل الأساسية المحددة ل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418760"/>
            <a:ext cx="79250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سعر السلعة نفسها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دخل المستهلك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البديلة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المكملة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C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ذوق وتفضيل المستهلك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دالة الطلب</a:t>
            </a:r>
            <a:br>
              <a:rPr sz="3600"/>
            </a:b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تغير في الطلب والتغيرفي الكمية المطلوب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[P , M , 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C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T , …….]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(P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a – b 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0" name="Down Arrow 3"/>
          <p:cNvGrpSpPr/>
          <p:nvPr/>
        </p:nvGrpSpPr>
        <p:grpSpPr>
          <a:xfrm>
            <a:off x="2901960" y="2163600"/>
            <a:ext cx="291960" cy="2030400"/>
            <a:chOff x="2901960" y="2163600"/>
            <a:chExt cx="291960" cy="2030400"/>
          </a:xfrm>
        </p:grpSpPr>
        <p:pic>
          <p:nvPicPr>
            <p:cNvPr id="191" name="Down Arrow 3" descr=""/>
            <p:cNvPicPr/>
            <p:nvPr/>
          </p:nvPicPr>
          <p:blipFill>
            <a:blip r:embed="rId1"/>
            <a:stretch/>
          </p:blipFill>
          <p:spPr>
            <a:xfrm>
              <a:off x="2901960" y="2163600"/>
              <a:ext cx="2919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009960" y="2178000"/>
              <a:ext cx="7920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3" name="TextBox 4"/>
          <p:cNvSpPr/>
          <p:nvPr/>
        </p:nvSpPr>
        <p:spPr>
          <a:xfrm>
            <a:off x="2004840" y="3979800"/>
            <a:ext cx="209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 حركي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678120" y="29527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ات انتقال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Left Brace 7"/>
          <p:cNvSpPr/>
          <p:nvPr/>
        </p:nvSpPr>
        <p:spPr>
          <a:xfrm rot="16200000">
            <a:off x="4327560" y="1400040"/>
            <a:ext cx="931680" cy="2452680"/>
          </a:xfrm>
          <a:custGeom>
            <a:avLst/>
            <a:gdLst>
              <a:gd name="textAreaLeft" fmla="*/ 595440 w 931680"/>
              <a:gd name="textAreaRight" fmla="*/ 932040 w 931680"/>
              <a:gd name="textAreaTop" fmla="*/ 24120 h 2452680"/>
              <a:gd name="textAreaBottom" fmla="*/ 24285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2"/>
                  <a:pt x="10800" y="683"/>
                </a:cubicBezTo>
                <a:lnTo>
                  <a:pt x="10800" y="10117"/>
                </a:lnTo>
                <a:cubicBezTo>
                  <a:pt x="10800" y="10459"/>
                  <a:pt x="5400" y="10800"/>
                  <a:pt x="0" y="10800"/>
                </a:cubicBezTo>
                <a:cubicBezTo>
                  <a:pt x="5400" y="10800"/>
                  <a:pt x="10800" y="11142"/>
                  <a:pt x="10800" y="11483"/>
                </a:cubicBezTo>
                <a:lnTo>
                  <a:pt x="10800" y="20917"/>
                </a:lnTo>
                <a:cubicBezTo>
                  <a:pt x="10800" y="21259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e97ad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نظرية العامة للعرض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089000"/>
            <a:ext cx="79250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العرض</a:t>
            </a:r>
            <a:r>
              <a:rPr b="1" lang="ar-SA" sz="2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كميات المختلفة التي تكون الوحدة الاقتصادية مستعد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قادرة على بيعها عند الأسعار المختلفة، بافتراض بقاء العوام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خرى ثابتة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الكمية المعروضة</a:t>
            </a:r>
            <a:r>
              <a:rPr b="1" lang="ar-SA" sz="2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 كمية محددة بعينها مقابلة لسعر معين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"/>
              </a:rPr>
              <a:t>يمكن توضيح العرض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يانياً             منحنى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 رقمياً            جدول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 رياضياً             دالة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8" name="Left Arrow 3"/>
          <p:cNvGrpSpPr/>
          <p:nvPr/>
        </p:nvGrpSpPr>
        <p:grpSpPr>
          <a:xfrm>
            <a:off x="6832440" y="3995640"/>
            <a:ext cx="830160" cy="347760"/>
            <a:chOff x="6832440" y="3995640"/>
            <a:chExt cx="830160" cy="347760"/>
          </a:xfrm>
        </p:grpSpPr>
        <p:pic>
          <p:nvPicPr>
            <p:cNvPr id="199" name="Left Arrow 3" descr=""/>
            <p:cNvPicPr/>
            <p:nvPr/>
          </p:nvPicPr>
          <p:blipFill>
            <a:blip r:embed="rId1"/>
            <a:stretch/>
          </p:blipFill>
          <p:spPr>
            <a:xfrm>
              <a:off x="6832440" y="3995640"/>
              <a:ext cx="830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951600" y="4068720"/>
              <a:ext cx="6523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1" name="Left Arrow 4"/>
          <p:cNvGrpSpPr/>
          <p:nvPr/>
        </p:nvGrpSpPr>
        <p:grpSpPr>
          <a:xfrm>
            <a:off x="6532560" y="4508640"/>
            <a:ext cx="822240" cy="347400"/>
            <a:chOff x="6532560" y="4508640"/>
            <a:chExt cx="822240" cy="347400"/>
          </a:xfrm>
        </p:grpSpPr>
        <p:pic>
          <p:nvPicPr>
            <p:cNvPr id="202" name="Left Arrow 4" descr=""/>
            <p:cNvPicPr/>
            <p:nvPr/>
          </p:nvPicPr>
          <p:blipFill>
            <a:blip r:embed="rId2"/>
            <a:stretch/>
          </p:blipFill>
          <p:spPr>
            <a:xfrm>
              <a:off x="6532560" y="4508640"/>
              <a:ext cx="8222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645240" y="4579560"/>
              <a:ext cx="65088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" name="Left Arrow 5"/>
          <p:cNvGrpSpPr/>
          <p:nvPr/>
        </p:nvGrpSpPr>
        <p:grpSpPr>
          <a:xfrm>
            <a:off x="6367320" y="5086440"/>
            <a:ext cx="828720" cy="347400"/>
            <a:chOff x="6367320" y="5086440"/>
            <a:chExt cx="828720" cy="347400"/>
          </a:xfrm>
        </p:grpSpPr>
        <p:pic>
          <p:nvPicPr>
            <p:cNvPr id="205" name="Left Arrow 5" descr=""/>
            <p:cNvPicPr/>
            <p:nvPr/>
          </p:nvPicPr>
          <p:blipFill>
            <a:blip r:embed="rId3"/>
            <a:stretch/>
          </p:blipFill>
          <p:spPr>
            <a:xfrm>
              <a:off x="6367320" y="5086440"/>
              <a:ext cx="8287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485040" y="5160600"/>
              <a:ext cx="65088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جدول ومنحنى العرض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171440"/>
          <a:ext cx="7925040" cy="437220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كمية المعروضة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3200" spc="-1" strike="noStrike" baseline="-25000">
                          <a:solidFill>
                            <a:srgbClr val="ff6600"/>
                          </a:solidFill>
                          <a:latin typeface="Arial Narrow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سعر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العوامل الأساسية المحددة للعرض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سعر السلعة نفسها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خدمات عناصر الإنتاج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المستوى الفني أو التكنولوجي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والمنتجات الأخرى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6-12T19:34:55Z</dcterms:modified>
  <cp:revision>24</cp:revision>
  <dc:subject/>
  <dc:title>الفصل الثاني</dc:title>
</cp:coreProperties>
</file>