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8A6-B1D7-4919-8829-C0D42440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4E9-3962-429D-871A-3A4DAF6C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A60-08FA-4FC3-AC2E-E8FBC9CF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10F-832F-46D4-89DD-854D26D78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D09F-14F8-4BAE-8FF4-C57A8D2B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982-751B-4316-B69C-525EBB4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3927-C8C3-44AD-93B0-06CDC2C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BCF7-AE33-4907-A767-350E12E4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088F-5493-4314-84D7-1E051391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78DD-B79F-4679-89E2-1A3DB97E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D668-C89C-438B-862D-9207BAE8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705-64B8-4BB7-811E-AEE9FEB56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8C8-88C4-4AC6-932B-810DE8B8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0D0B-E525-42B1-A97E-82A1D9D1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AD2D-09AF-41FB-A4D8-A24B7F6D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A047-2C1A-4C3A-811F-E2D1C73D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DE40-5D3B-46EE-BEED-CA75C290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9D5C-05C9-48AC-8011-398961E9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5837-C8BC-4ED4-8C0C-FB200A1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2229F-2626-4C3F-B68F-91BDF863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4FF2E-9760-4065-89A9-64FD991F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012EB-76D2-47D2-9433-30E2F134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FF0-F00E-4248-9BEE-3D555B30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7A620-0864-4A3F-BC26-7D19B80C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B3F66-A508-49CD-9A94-CD0F2CEA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A4C36-1AEE-42E5-86FF-1628D2D5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EDE5-4620-4866-A7F4-AF09E04A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DEABB-3890-4B03-856F-754B97E0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AD1E6-D171-49E7-9E5E-44E64B6F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9F17-02A3-4C74-9915-B691B4C8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65286-3E85-495C-A254-A4A47D95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5D8F-D6E4-4E69-805D-0480AE20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570E-13AC-4766-B199-B318A718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D6D-D8E1-495E-A09A-BC218991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BABF-21F8-4991-87FC-FA834F98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ABD46-314A-4454-9B67-9C22275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B2015-CB4C-480A-A2CF-C0A8863D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E158-1B04-486B-A165-BB63BD3A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3AAB3-68E0-42A7-948A-592331B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35001-C5AB-4AB5-992B-671627DC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D2B9A-0B1F-4562-B1D0-361DB7F2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95C0-E01B-4851-99C4-E730D5A6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465D2-278B-493E-980A-3CC3B1A5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AE1-6A04-4BB0-8F34-EA3F7B0F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8B38-9105-461D-A372-532C778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4EA-84AC-46EC-B3AC-D3C784BE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2B99-8FF4-4914-896B-FE1931AD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B703-4067-48FA-AB75-2E49950E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9B49-E02F-4D0F-93EB-4C9458E1F82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EFA-D1AA-4569-80D2-E69322DFE12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8E95-A851-4F6B-AE34-0C2A175E364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4893-A975-4C78-B0FF-36987F19B10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D33-F93D-4225-BEE7-4D75249374F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CB4A-35ED-4BBA-8BFC-7F1A36591A4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D4AB-07FF-496E-884E-923897DD708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853-E86F-4944-813E-A9AC601F3340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3851280"/>
            <a:ext cx="781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dc9e1f"/>
                </a:solidFill>
                <a:latin typeface="Arial"/>
              </a:rPr>
              <a:t>أساسيات الطلب والعرض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ثاني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49400"/>
            <a:ext cx="7925040" cy="95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دالة العرض</a:t>
            </a:r>
            <a:br>
              <a:rPr sz="3200"/>
            </a:b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التغير في العرض والتغيرفي الكمية المعروض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[P , 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n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m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T , …]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(P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c + d 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3" name="Down Arrow 4"/>
          <p:cNvGrpSpPr/>
          <p:nvPr/>
        </p:nvGrpSpPr>
        <p:grpSpPr>
          <a:xfrm>
            <a:off x="2000160" y="2163600"/>
            <a:ext cx="285840" cy="2030400"/>
            <a:chOff x="2000160" y="2163600"/>
            <a:chExt cx="285840" cy="2030400"/>
          </a:xfrm>
        </p:grpSpPr>
        <p:pic>
          <p:nvPicPr>
            <p:cNvPr id="214" name="Down Arrow 4" descr=""/>
            <p:cNvPicPr/>
            <p:nvPr/>
          </p:nvPicPr>
          <p:blipFill>
            <a:blip r:embed="rId1"/>
            <a:stretch/>
          </p:blipFill>
          <p:spPr>
            <a:xfrm>
              <a:off x="2000160" y="2163600"/>
              <a:ext cx="28584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101680" y="2178000"/>
              <a:ext cx="8100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6" name="TextBox 5"/>
          <p:cNvSpPr/>
          <p:nvPr/>
        </p:nvSpPr>
        <p:spPr>
          <a:xfrm>
            <a:off x="1096920" y="3979800"/>
            <a:ext cx="209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 حركي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3925800" y="2952720"/>
            <a:ext cx="22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ات انتقالي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Left Brace 7"/>
          <p:cNvSpPr/>
          <p:nvPr/>
        </p:nvSpPr>
        <p:spPr>
          <a:xfrm rot="16200000">
            <a:off x="4589640" y="127080"/>
            <a:ext cx="931680" cy="4998960"/>
          </a:xfrm>
          <a:custGeom>
            <a:avLst/>
            <a:gdLst>
              <a:gd name="textAreaLeft" fmla="*/ 595440 w 931680"/>
              <a:gd name="textAreaRight" fmla="*/ 932040 w 931680"/>
              <a:gd name="textAreaTop" fmla="*/ 24120 h 4998960"/>
              <a:gd name="textAreaBottom" fmla="*/ 4974840 h 499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7e97ad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ساسيات الطلب والعرض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15380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يعتبر الطلب والعرض من أهم المفاهيم الأساسية في التحليل الاقتصادي الجزئي، لأنهما يشكلان الأساس الذي تقوم عليه الكثير من النظريات الاقتصادي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جانب الطلب يمثله المستهلك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جانب العرض يمثله المنتج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Left Brace 3"/>
          <p:cNvSpPr/>
          <p:nvPr/>
        </p:nvSpPr>
        <p:spPr>
          <a:xfrm>
            <a:off x="4216320" y="3357720"/>
            <a:ext cx="541440" cy="1066680"/>
          </a:xfrm>
          <a:custGeom>
            <a:avLst/>
            <a:gdLst>
              <a:gd name="textAreaLeft" fmla="*/ 345960 w 541440"/>
              <a:gd name="textAreaRight" fmla="*/ 541800 w 541440"/>
              <a:gd name="textAreaTop" fmla="*/ 14040 h 1066680"/>
              <a:gd name="textAreaBottom" fmla="*/ 105264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7"/>
                  <a:pt x="10800" y="914"/>
                </a:cubicBezTo>
                <a:lnTo>
                  <a:pt x="10800" y="9886"/>
                </a:lnTo>
                <a:cubicBezTo>
                  <a:pt x="10800" y="10343"/>
                  <a:pt x="5400" y="10800"/>
                  <a:pt x="0" y="10800"/>
                </a:cubicBezTo>
                <a:cubicBezTo>
                  <a:pt x="5400" y="10800"/>
                  <a:pt x="10800" y="11257"/>
                  <a:pt x="10800" y="11714"/>
                </a:cubicBezTo>
                <a:lnTo>
                  <a:pt x="10800" y="20686"/>
                </a:lnTo>
                <a:cubicBezTo>
                  <a:pt x="10800" y="21143"/>
                  <a:pt x="16200" y="21600"/>
                  <a:pt x="21600" y="21600"/>
                </a:cubicBezTo>
              </a:path>
            </a:pathLst>
          </a:custGeom>
          <a:noFill/>
          <a:ln w="10800">
            <a:solidFill>
              <a:srgbClr val="ff6600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1100160" y="355608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قوى المحركة للسو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نظرية العامة ل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039680"/>
            <a:ext cx="7925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طلب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كميات المختلفة التي تكون الوحدة الاقتصادية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ستعدة وقادرة على شرائها عند الأسعار المختلفة، بافتراض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بقاء العوامل الأخرى على حالها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كمية المطلوب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هي كمية محددة بعينها مقابلة لسعر معين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ecc577"/>
                </a:solidFill>
                <a:latin typeface="Arial"/>
              </a:rPr>
              <a:t>يمكن توضيح الطلب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بيانياً             منحنى الطلب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أو رقمياً            جدول الطلب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 algn="just" rtl="1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أو رياضياً             دالة الطلب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75" name="Left Arrow 3"/>
          <p:cNvGrpSpPr/>
          <p:nvPr/>
        </p:nvGrpSpPr>
        <p:grpSpPr>
          <a:xfrm>
            <a:off x="6708600" y="4141800"/>
            <a:ext cx="828720" cy="347760"/>
            <a:chOff x="6708600" y="4141800"/>
            <a:chExt cx="828720" cy="347760"/>
          </a:xfrm>
        </p:grpSpPr>
        <p:pic>
          <p:nvPicPr>
            <p:cNvPr id="176" name="Left Arrow 3" descr=""/>
            <p:cNvPicPr/>
            <p:nvPr/>
          </p:nvPicPr>
          <p:blipFill>
            <a:blip r:embed="rId1"/>
            <a:stretch/>
          </p:blipFill>
          <p:spPr>
            <a:xfrm>
              <a:off x="6708600" y="4141800"/>
              <a:ext cx="8287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825960" y="4213440"/>
              <a:ext cx="6523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78" name="Left Arrow 4"/>
          <p:cNvGrpSpPr/>
          <p:nvPr/>
        </p:nvGrpSpPr>
        <p:grpSpPr>
          <a:xfrm>
            <a:off x="6434280" y="4713120"/>
            <a:ext cx="828360" cy="347400"/>
            <a:chOff x="6434280" y="4713120"/>
            <a:chExt cx="828360" cy="347400"/>
          </a:xfrm>
        </p:grpSpPr>
        <p:pic>
          <p:nvPicPr>
            <p:cNvPr id="179" name="Left Arrow 4" descr=""/>
            <p:cNvPicPr/>
            <p:nvPr/>
          </p:nvPicPr>
          <p:blipFill>
            <a:blip r:embed="rId2"/>
            <a:stretch/>
          </p:blipFill>
          <p:spPr>
            <a:xfrm>
              <a:off x="6434280" y="4713120"/>
              <a:ext cx="82836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6549840" y="4789080"/>
              <a:ext cx="65052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81" name="Left Arrow 5"/>
          <p:cNvGrpSpPr/>
          <p:nvPr/>
        </p:nvGrpSpPr>
        <p:grpSpPr>
          <a:xfrm>
            <a:off x="6200640" y="5311800"/>
            <a:ext cx="828720" cy="347760"/>
            <a:chOff x="6200640" y="5311800"/>
            <a:chExt cx="828720" cy="347760"/>
          </a:xfrm>
        </p:grpSpPr>
        <p:pic>
          <p:nvPicPr>
            <p:cNvPr id="182" name="Left Arrow 5" descr=""/>
            <p:cNvPicPr/>
            <p:nvPr/>
          </p:nvPicPr>
          <p:blipFill>
            <a:blip r:embed="rId3"/>
            <a:stretch/>
          </p:blipFill>
          <p:spPr>
            <a:xfrm>
              <a:off x="6200640" y="5311800"/>
              <a:ext cx="82872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318360" y="5383080"/>
              <a:ext cx="65088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30120"/>
            <a:ext cx="792504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جدول ومنحنى 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9480" y="1633680"/>
          <a:ext cx="7925040" cy="379080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113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كمية المطلوبة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3200" spc="-1" strike="noStrike" baseline="-25000">
                          <a:solidFill>
                            <a:srgbClr val="ff6600"/>
                          </a:solidFill>
                          <a:latin typeface="Arial Narrow"/>
                        </a:rPr>
                        <a:t>d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سعر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عوامل الأساسية المحددة ل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418760"/>
            <a:ext cx="792504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سعر السلعة نفسها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دخل المستهلك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السلع البديلة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السلع المكملة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C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ذوق وتفضيل المستهلك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دالة الطلب</a:t>
            </a:r>
            <a:br>
              <a:rPr sz="3600"/>
            </a:b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تغير في الطلب والتغيرفي الكمية المطلوب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d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[P , M , 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S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merican Typewriter"/>
              </a:rPr>
              <a:t>C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T , …….]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d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f (P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Q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d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= a – b P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0" name="Down Arrow 3"/>
          <p:cNvGrpSpPr/>
          <p:nvPr/>
        </p:nvGrpSpPr>
        <p:grpSpPr>
          <a:xfrm>
            <a:off x="2901960" y="2163600"/>
            <a:ext cx="291960" cy="2030400"/>
            <a:chOff x="2901960" y="2163600"/>
            <a:chExt cx="291960" cy="2030400"/>
          </a:xfrm>
        </p:grpSpPr>
        <p:pic>
          <p:nvPicPr>
            <p:cNvPr id="191" name="Down Arrow 3" descr=""/>
            <p:cNvPicPr/>
            <p:nvPr/>
          </p:nvPicPr>
          <p:blipFill>
            <a:blip r:embed="rId1"/>
            <a:stretch/>
          </p:blipFill>
          <p:spPr>
            <a:xfrm>
              <a:off x="2901960" y="2163600"/>
              <a:ext cx="29196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009960" y="2178000"/>
              <a:ext cx="79200" cy="18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3" name="TextBox 4"/>
          <p:cNvSpPr/>
          <p:nvPr/>
        </p:nvSpPr>
        <p:spPr>
          <a:xfrm>
            <a:off x="2004840" y="3979800"/>
            <a:ext cx="209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 حركي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678120" y="2952720"/>
            <a:ext cx="224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عاملات انتقالي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Left Brace 7"/>
          <p:cNvSpPr/>
          <p:nvPr/>
        </p:nvSpPr>
        <p:spPr>
          <a:xfrm rot="16200000">
            <a:off x="4327560" y="1400040"/>
            <a:ext cx="931680" cy="2452680"/>
          </a:xfrm>
          <a:custGeom>
            <a:avLst/>
            <a:gdLst>
              <a:gd name="textAreaLeft" fmla="*/ 595440 w 931680"/>
              <a:gd name="textAreaRight" fmla="*/ 932040 w 931680"/>
              <a:gd name="textAreaTop" fmla="*/ 24120 h 2452680"/>
              <a:gd name="textAreaBottom" fmla="*/ 2428560 h 24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2"/>
                  <a:pt x="10800" y="683"/>
                </a:cubicBezTo>
                <a:lnTo>
                  <a:pt x="10800" y="10117"/>
                </a:lnTo>
                <a:cubicBezTo>
                  <a:pt x="10800" y="10459"/>
                  <a:pt x="5400" y="10800"/>
                  <a:pt x="0" y="10800"/>
                </a:cubicBezTo>
                <a:cubicBezTo>
                  <a:pt x="5400" y="10800"/>
                  <a:pt x="10800" y="11142"/>
                  <a:pt x="10800" y="11483"/>
                </a:cubicBezTo>
                <a:lnTo>
                  <a:pt x="10800" y="20917"/>
                </a:lnTo>
                <a:cubicBezTo>
                  <a:pt x="10800" y="21259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7e97ad"/>
            </a:solidFill>
            <a:miter/>
          </a:ln>
          <a:effectLst>
            <a:outerShdw dist="12600" dir="54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نظرية العامة للعرض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089000"/>
            <a:ext cx="792504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6600"/>
                </a:solidFill>
                <a:uFillTx/>
                <a:latin typeface="Arial"/>
              </a:rPr>
              <a:t>العرض</a:t>
            </a:r>
            <a:r>
              <a:rPr b="1" lang="ar-SA" sz="2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كميات المختلفة التي تكون الوحدة الاقتصادية مستعدة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قادرة على بيعها عند الأسعار المختلفة، بافتراض بقاء العوام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أخرى ثابتة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1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6600"/>
                </a:solidFill>
                <a:uFillTx/>
                <a:latin typeface="Arial"/>
              </a:rPr>
              <a:t>الكمية المعروضة</a:t>
            </a:r>
            <a:r>
              <a:rPr b="1" lang="ar-SA" sz="28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ي كمية محددة بعينها مقابلة لسعر معين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1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cc577"/>
                </a:solidFill>
                <a:latin typeface="Arial"/>
              </a:rPr>
              <a:t>يمكن توضيح العرض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يانياً             منحنى ال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 رقمياً            جدول ال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أو رياضياً             دالة ال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5800" indent="-325800" algn="just" rtl="1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8" name="Left Arrow 3"/>
          <p:cNvGrpSpPr/>
          <p:nvPr/>
        </p:nvGrpSpPr>
        <p:grpSpPr>
          <a:xfrm>
            <a:off x="6832440" y="3995640"/>
            <a:ext cx="830160" cy="347760"/>
            <a:chOff x="6832440" y="3995640"/>
            <a:chExt cx="830160" cy="347760"/>
          </a:xfrm>
        </p:grpSpPr>
        <p:pic>
          <p:nvPicPr>
            <p:cNvPr id="199" name="Left Arrow 3" descr=""/>
            <p:cNvPicPr/>
            <p:nvPr/>
          </p:nvPicPr>
          <p:blipFill>
            <a:blip r:embed="rId1"/>
            <a:stretch/>
          </p:blipFill>
          <p:spPr>
            <a:xfrm>
              <a:off x="6832440" y="3995640"/>
              <a:ext cx="8301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951600" y="4068720"/>
              <a:ext cx="65232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1" name="Left Arrow 4"/>
          <p:cNvGrpSpPr/>
          <p:nvPr/>
        </p:nvGrpSpPr>
        <p:grpSpPr>
          <a:xfrm>
            <a:off x="6532560" y="4508640"/>
            <a:ext cx="822240" cy="347400"/>
            <a:chOff x="6532560" y="4508640"/>
            <a:chExt cx="822240" cy="347400"/>
          </a:xfrm>
        </p:grpSpPr>
        <p:pic>
          <p:nvPicPr>
            <p:cNvPr id="202" name="Left Arrow 4" descr=""/>
            <p:cNvPicPr/>
            <p:nvPr/>
          </p:nvPicPr>
          <p:blipFill>
            <a:blip r:embed="rId2"/>
            <a:stretch/>
          </p:blipFill>
          <p:spPr>
            <a:xfrm>
              <a:off x="6532560" y="4508640"/>
              <a:ext cx="82224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645240" y="4579560"/>
              <a:ext cx="65088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4" name="Left Arrow 5"/>
          <p:cNvGrpSpPr/>
          <p:nvPr/>
        </p:nvGrpSpPr>
        <p:grpSpPr>
          <a:xfrm>
            <a:off x="6367320" y="5086440"/>
            <a:ext cx="828720" cy="347400"/>
            <a:chOff x="6367320" y="5086440"/>
            <a:chExt cx="828720" cy="347400"/>
          </a:xfrm>
        </p:grpSpPr>
        <p:pic>
          <p:nvPicPr>
            <p:cNvPr id="205" name="Left Arrow 5" descr=""/>
            <p:cNvPicPr/>
            <p:nvPr/>
          </p:nvPicPr>
          <p:blipFill>
            <a:blip r:embed="rId3"/>
            <a:stretch/>
          </p:blipFill>
          <p:spPr>
            <a:xfrm>
              <a:off x="6367320" y="5086440"/>
              <a:ext cx="8287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6485040" y="5160600"/>
              <a:ext cx="650880" cy="1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جدول ومنحنى العرض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1171440"/>
          <a:ext cx="7925040" cy="437220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113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كمية المعروضة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3200" spc="-1" strike="noStrike" baseline="-25000">
                          <a:solidFill>
                            <a:srgbClr val="ff6600"/>
                          </a:solidFill>
                          <a:latin typeface="Arial Narrow"/>
                        </a:rPr>
                        <a:t>s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السعر 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P</a:t>
                      </a:r>
                      <a:r>
                        <a:rPr b="1" lang="en-US" sz="3200" spc="-1" strike="noStrike">
                          <a:solidFill>
                            <a:srgbClr val="ff6600"/>
                          </a:solidFill>
                          <a:latin typeface="Arial Narrow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6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23ded"/>
                </a:solidFill>
                <a:latin typeface="Arial"/>
              </a:rPr>
              <a:t>العوامل الأساسية المحددة للعرض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سعر السلعة نفسها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خدمات عناصر الإنتاج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R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n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المستوى الفني أو التكنولوجي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أسعار السلع والمنتجات الأخرى</a:t>
            </a:r>
            <a:r>
              <a:rPr b="0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1</a:t>
            </a:r>
            <a:r>
              <a:rPr b="1" lang="en-US" sz="3000" spc="-1" strike="noStrike">
                <a:solidFill>
                  <a:srgbClr val="ffffff"/>
                </a:solidFill>
                <a:latin typeface="American Typewriter"/>
              </a:rPr>
              <a:t> , … , P</a:t>
            </a:r>
            <a:r>
              <a:rPr b="1" lang="en-US" sz="3000" spc="-1" strike="noStrike" baseline="-25000">
                <a:solidFill>
                  <a:srgbClr val="ffffff"/>
                </a:solidFill>
                <a:latin typeface="American Typewriter"/>
              </a:rPr>
              <a:t>m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Mashael</cp:lastModifiedBy>
  <dcterms:modified xsi:type="dcterms:W3CDTF">2005-06-12T19:34:55Z</dcterms:modified>
  <cp:revision>24</cp:revision>
  <dc:subject/>
  <dc:title>الفصل الثاني</dc:title>
</cp:coreProperties>
</file>