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7CD-4872-467C-93BB-6169C2A5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377-E50B-4B6B-B0D9-153D9C43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819-E946-4650-B3C7-E5719268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AD70-05B8-4BA1-A022-22C6C80F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628-0346-487A-9E43-E426C4A6C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7B3-B55C-4074-A712-ECC6A76D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359C-FFC7-47B5-B0CD-D475B7E1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21D-AA45-4FFA-BEE4-F1AD92C9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9F4-FAA3-4AD9-B43D-02A28C644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5AB-0E5B-449A-9C52-9A91013D1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54A-D53D-41B7-B4E6-565C92681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680-8417-4CAC-A1C8-944B6D8B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F36D-261A-4EC1-B328-234B99CC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74B-54B8-4D67-9DC5-A4F246D4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D77B-FA47-4CD8-BA45-F1BF882D3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E7F2-7C7D-4E8E-86A3-3AC690CE6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62ED-A332-4AF7-9736-5EE6DB165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945-AB05-47BC-BDDB-54863B0E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A23-6AC7-4B8C-AB26-E4568922E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C1B2-0246-4F0E-B728-75AA3F5F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6B7-DA3A-4EAC-8CDD-6E43F154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1D5-FFD2-4166-ACDA-653D6982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EA6-29CD-4AC9-B188-3A0FE8619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77F3-BC1A-4BEE-8023-389188EB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737-0DBA-4B8F-840D-D52DFE9C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649-376D-44C5-A510-261349572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6-</a:t>
            </a:r>
            <a:fld id="{19D9EB49-EB4E-4051-AFBB-851AB5F988DB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3429000"/>
            <a:ext cx="75945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ANCIAL OPERATIONS OF PRIVATE INSURER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hapter 2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e and expense stat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s revenues and expenses paid over a specified period of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ncipal sources of revenue are premiums and investment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rned premium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ose premiums for which the service for which the premiums were paid (insurance protection) has been rend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nses include the cost of adjusting claims, paying the insured losses that occurred, commissions to agents, premium taxes, and general insurance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ex07_02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ss rati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ratio of incurred losses and loss adjustment expenses to premiums 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xpens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pany’s underwriting expenses divided by written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um of the loss ratio and the expense ratio. A positive ratio indicates an underwriting lo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tio exceeds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1477800" y="2498760"/>
                <a:ext cx="6451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cur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ju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514600" y="4267080"/>
                <a:ext cx="3803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n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nderwri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ritt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ment incom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s net investment income to earned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all operating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bined ratio minus the investment income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atio measures the company’s total performance (underwriting and investm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 less than 100, this indicates that the company, overall, was profi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646280" y="2824200"/>
                <a:ext cx="5592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stm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o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e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life insurer have a longer duration, on average, than those of 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many life insurance policies have a savings element, life insurers keep an interest-bearing asset called “contract loans” or “policy loan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ance company may have separate accounts for assets backing interest-sensitive products, such as variable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 reser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legal reserves) are a liability item on the balance sheet that must be offset by assets equal to that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laws specify the minimum basis for calculating policy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erve for amounts held on depos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ability representing funds that are owed to policyholders and to benefici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 valuation reser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VR) is a statutory accounting account designed to absorb asset value fluctuations not caused by changing interes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holders’ surplus is less volatile in the life insurance industry than in the property and casualty insuranc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 payments, including death benefits paid to beneficiaries and annuity benefits paid to annuitants, are the life insurer’s major expens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er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t gain from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otal revenues less total expenses, policyowner dividends, and federal income t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measures can be used to gauge the performance of life insur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tax or after-tax net income vs. total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 of return on policyowners’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│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Laws Requir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oal is to protect the publi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adequate for paying all losses and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not be excessive, such that policyholders are paying more than the actual value of their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must not be unfairly discriminatory; exposures that are similar with respect to losses and expenses should not be charged significantly differen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║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Rate-Making Objectiv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mpli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stable over short periods of time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abilit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responsive to changing loss exposures and changing economic conditions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ponsivenes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encourage loss preven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ncouragement of loss contro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ice per unit of insur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xposure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unit of measurement used in insurance pricing, e.g., a car-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ure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ortion of the rate needed to pay losses and loss adjustment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ad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mount that must be added to the pure premium for other expenses, profit, and a margin for contin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sists of the pure premium and a loading e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id by the insured consists of the gross rate multiplied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hree basic rate making methods in property and casualty insu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Judgmen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ach exposure is individually evaluated, and the rate is determined largely by the judgment of the under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ass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xposures with similar characteristics are placed in the same underwriting class, and each is charged the sam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rates are determined using two basic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pure premium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pure premium can be determined by dividing the dollar amount of incurred losses and loss-adjustment expenses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loss ratio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actual loss ratio is compared with the expected loss ratio, and the rate is adjusted according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ri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ng plan by which class rates are adjusted upward or downward based on individual loss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chedule rating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, each exposure is individually r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sis rate is determined for each exposure, which is then modified by debits or credits depending on the physical characteristics of the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commercial property insurance, such as an industrial plant. Each building is individually rated based on several factors, including construction, occupancy, protection, exposure and mainten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xperienc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class or manual rate is adjusted upward or downward based on past loss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surer’s past loss experience is used to determine the premium for the next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loss experience is worse than the class average , the rate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trospectiv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lan, the insured’s loss experience during the current policy period determines the actual premium paid for tha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ovisional premium is paid at the beginning of the policy period; the final premium is calculated at the end of the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workers compensation 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actuaries use a mortality table or individual company experience to determine the probability of death at each attain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nual expected value of death claims equals the probability of death times the amount the insurer must pay if death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ent financial crisis has affected financial institutions in different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were more negatively impacted as they issued the sub prime mortgage lo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not heavily involved in sub prime l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did not securitize the bad mortgage loans and mortgage debt was not a significant share of insurers’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most affected by the sharp decline in the value of their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 She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ummary of what a company owns (assets) and what it owes (liabili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ssets = Total Liabilities + Owners’ 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ex07_01"/>
          <p:cNvPicPr/>
          <p:nvPr/>
        </p:nvPicPr>
        <p:blipFill>
          <a:blip r:embed="rId1"/>
          <a:stretch/>
        </p:blipFill>
        <p:spPr>
          <a:xfrm>
            <a:off x="609480" y="1981080"/>
            <a:ext cx="815976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mary assets for an insurance company are financia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ers’ liabilities include required  reser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eser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estimated amount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adjusted, but not yet 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filed, but not yet adju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incurred but not yet reported to the company (IBN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e reser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oss reserves that are established for each individual cla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for determining case reserv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judgment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laim reserve is established for each individual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x: computer program esti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average value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average value is assigned to each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arge number of claims &amp; small amou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tabular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loss reserves are determined for certain claims for which the amounts paid depend on data derived from mortality, morbidity, and remarriage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atio meth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ggregate loss reserves for a specific coverage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mula based on the expected loss ratio is used to estimate the loss 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curred-but-not-reported (IBNR) rese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eserve that must be established for claims that have already occurred but that have not yet been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earned premium rese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liability item that represents the unearned portion of gross premiums on all outstanding policies at the time of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purpose is to pay for losses that occur during the policy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needed so that refunds can be paid to policyholders that cancel their co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so serves as the basis for determining the amount that must be paid to a reinsurer for carrying reinsured pol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nual pro rata meth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one method of calculating the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holders’ surplu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difference between an insurance company’s assets and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onger a company’s surplus position, the greater is the security for its policy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1-24T18:32:40Z</dcterms:modified>
  <cp:revision>112</cp:revision>
  <dc:subject>Financial Operations of Insurers</dc:subject>
  <dc:title>Chapter 7</dc:title>
</cp:coreProperties>
</file>