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746B-02F3-4AB6-AACA-81D046A29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8D33-7B56-4C35-9765-9648EB93F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EE72-850F-4F69-9C74-CC606CB78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EB1F-D26C-45FC-ABC6-2BFB29211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11C8-C6C5-4314-964C-2579DF206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F010-3640-49CA-87BC-F9E45373E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17E2-C513-4EBE-9C21-D121A35DC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1CE3-B09C-4BBD-B443-689D4B34E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C35F-C4DA-4587-AE04-C786CE712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D78-DEAF-4A94-AFFE-AD47323E2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0935-F639-4295-BD77-7FBF06BDE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A197-086A-4228-BA85-E6A55AD1E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9EA0-3EB7-4D23-8EDB-C823A86CF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C728-F5C7-492B-919B-933320667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FB0-2B21-4EAD-914D-BF1BC1580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207E-162A-411B-B36C-81625BF95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609E-4C8D-4E58-86C2-629CD1727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92F6-43D9-4B94-99CE-F184130F1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D5D4-2DE8-4F03-AA1F-7C3B61E33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9881-4959-4C22-8CC5-53C1F5448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517A-953F-4BA2-8EB7-0EBCD281F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7D43-5A0B-46CC-9DF6-B024E7B98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3E64-23E0-411C-8F77-77D4E7675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5167-0ECD-4FB7-828C-B4B8E8B90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4EE7-A198-4164-AF5F-12EF7AC40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EAC3-7E2F-434B-AB21-5E449EA3F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1"/>
          <p:cNvSpPr/>
          <p:nvPr/>
        </p:nvSpPr>
        <p:spPr>
          <a:xfrm flipH="1">
            <a:off x="8229600" y="6172200"/>
            <a:ext cx="914400" cy="6858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991720" y="0"/>
            <a:ext cx="152280" cy="670572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3120" y="64594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11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305920" y="6324480"/>
            <a:ext cx="838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6-</a:t>
            </a:r>
            <a:fld id="{1B27EBDB-4883-4E70-BDE6-07885B10E060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066680" y="624060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11 Pearson Educ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29" descr="9780137029136"/>
          <p:cNvPicPr/>
          <p:nvPr/>
        </p:nvPicPr>
        <p:blipFill>
          <a:blip r:embed="rId2"/>
          <a:stretch/>
        </p:blipFill>
        <p:spPr>
          <a:xfrm>
            <a:off x="4427640" y="333360"/>
            <a:ext cx="4416480" cy="567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0" descr="PEA_c"/>
          <p:cNvPicPr/>
          <p:nvPr/>
        </p:nvPicPr>
        <p:blipFill>
          <a:blip r:embed="rId3"/>
          <a:stretch/>
        </p:blipFill>
        <p:spPr>
          <a:xfrm>
            <a:off x="179280" y="6350040"/>
            <a:ext cx="792360" cy="30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3429000"/>
            <a:ext cx="75945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INANCIAL OPERATIONS OF PRIVATE INSURER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1988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hapter 2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come and expense state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izes revenues and expenses paid over a specified period of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rincipal sources of revenue are premiums and investment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arned premium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ose premiums for which the service for which the premiums were paid (insurance protection) has been rende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nses include the cost of adjusting claims, paying the insured losses that occurred, commissions to agents, premium taxes, and general insurance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26.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ABC Insurance Compan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ex07_02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ss rati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ratio of incurred losses and loss adjustment expenses to premiums ear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xpense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equal to the company’s underwriting expenses divided by written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mbined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um of the loss ratio and the expense ratio. A positive ratio indicates an underwriting los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tio exceeds 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1"/>
              <p:cNvSpPr txBox="1"/>
              <p:nvPr/>
            </p:nvSpPr>
            <p:spPr>
              <a:xfrm>
                <a:off x="1477800" y="2498760"/>
                <a:ext cx="6451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curr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justm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ens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arne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8"/>
              <p:cNvSpPr txBox="1"/>
              <p:nvPr/>
            </p:nvSpPr>
            <p:spPr>
              <a:xfrm>
                <a:off x="2514600" y="4267080"/>
                <a:ext cx="3803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en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nderwrit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ens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ritt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vestment income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ares net investment income to earned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all operating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equal to the combined ratio minus the investment income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ratio measures the company’s total performance (underwriting and investme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it is less than 100, this indicates that the company, overall, was profit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646280" y="2824200"/>
                <a:ext cx="5592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stmen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co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vestm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co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rn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lance 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sse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 life insurer have a longer duration, on average, than those of property and casualty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many life insurance policies have a savings element, life insurers keep an interest-bearing asset called “contract loans” or “policy loans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fe insurance company may have separate accounts for assets backing interest-sensitive products, such as variable annu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e li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licy reserv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legal reserves) are a liability item on the balance sheet that must be offset by assets equal to that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laws specify the minimum basis for calculating policy reser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serve for amounts held on depos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liability representing funds that are owed to policyholders and to beneficia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sset valuation reser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VR) is a statutory accounting account designed to absorb asset value fluctuations not caused by changing interest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p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yholders’ surplus is less volatile in the life insurance industry than in the property and casualty insurance indus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 payments, including death benefits paid to beneficiaries and annuity benefits paid to annuitants, are the life insurer’s major expense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fe insurer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et gain from oper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quals total revenues less total expenses, policyowner dividends, and federal income tax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umber of measures can be used to gauge the performance of life insur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tax or after-tax net income vs. total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 of return on policyowners’ surp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│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Laws Require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goal is to protect the publi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adequate for paying all losses and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not be excessive, such that policyholders are paying more than the actual value of their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must not be unfairly discriminatory; exposures that are similar with respect to losses and expenses should not be charged significantly different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║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 Rate-Making Objectiv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easy to understand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implic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stable over short periods of time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ability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responsive to changing loss exposures and changing economic conditions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sponsivenes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encourage loss prevention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encouragement of loss contro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y and Casualty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 Insurance Compa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making in Life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nancial Crisis and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rice per unit of insur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xposure un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unit of measurement used in insurance pricing, e.g., a car-y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ure prem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ortion of the rate needed to pay losses and loss adjustment expe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oad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amount that must be added to the pure premium for other expenses, profit, and a margin for contin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ross r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sists of the pure premium and a loading el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ross prem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id by the insured consists of the gross rate multiplied by the number of exposure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hree basic rate making methods in property and casualty insur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Judgment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ans that each exposure is individually evaluated, and the rate is determined largely by the judgment of the underwri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lass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ans that exposures with similar characteristics are placed in the same underwriting class, and each is charged the same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rates are determined using two basic metho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th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pure premium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pure premium can be determined by dividing the dollar amount of incurred losses and loss-adjustment expenses by the number of exposure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th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loss ratio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actual loss ratio is compared with the expected loss ratio, and the rate is adjusted according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rit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ating plan by which class rates are adjusted upward or downward based on individual loss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43880" indent="-447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schedule rating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, each exposure is individually ra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7200" indent="-37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sis rate is determined for each exposure, which is then modified by debits or credits depending on the physical characteristics of the expo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17200" indent="-37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ly used in commercial property insurance, such as an industrial plant. Each building is individually rated based on several factors, including construction, occupancy, protection, exposure and mainten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27120" indent="-222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experience r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class or manual rate is adjusted upward or downward based on past loss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surer’s past loss experience is used to determine the premium for the next policy peri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loss experience is worse than the class average , the rate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627120" indent="-222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retrospective r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lan, the insured’s loss experience during the current policy period determines the actual premium paid for tha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rovisional premium is paid at the beginning of the policy period; the final premium is calculated at the end of the policy peri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ly used in workers compensation insu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temaking in Lif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 insurance actuaries use a mortality table or individual company experience to determine the probability of death at each attained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nnual expected value of death claims equals the probability of death times the amount the insurer must pay if death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inancial Crisis and Insur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cent financial crisis has affected financial institutions in different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were more negatively impacted as they issued the sub prime mortgage lo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were not heavily involved in sub prime l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did not securitize the bad mortgage loans and mortgage debt was not a significant share of insurers’ investment portfol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were most affected by the sharp decline in the value of their investment portfol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alance Shee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summary of what a company owns (assets) and what it owes (liabilit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Assets = Total Liabilities + Owners’ Equ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26.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ABC Insurance Compan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ex07_01"/>
          <p:cNvPicPr/>
          <p:nvPr/>
        </p:nvPicPr>
        <p:blipFill>
          <a:blip r:embed="rId1"/>
          <a:stretch/>
        </p:blipFill>
        <p:spPr>
          <a:xfrm>
            <a:off x="609480" y="1981080"/>
            <a:ext cx="8159760" cy="350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imary assets for an insurance company are financia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rers’ liabilities include required  reser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ss reser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n estimated amount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reported and adjusted, but not yet p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reported and filed, but not yet adju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incurred but not yet reported to the company (IBN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e reser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loss reserves that are established for each individual clai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s for determining case reserve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judgment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claim reserve is established for each individual clai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ex: computer program estim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average value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n average value is assigned to each clai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arge number of claims &amp; small amou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tabular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loss reserves are determined for certain claims for which the amounts paid depend on data derived from mortality, morbidity, and remarriage t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ss ratio metho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es aggregate loss reserves for a specific coverage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rmula based on the expected loss ratio is used to estimate the loss re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curred-but-not-reported (IBNR) reser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reserve that must be established for claims that have already occurred but that have not yet been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earned premium reserv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liability item that represents the unearned portion of gross premiums on all outstanding policies at the time of 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purpose is to pay for losses that occur during the policy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lso needed so that refunds can be paid to policyholders that cancel their cove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lso serves as the basis for determining the amount that must be paid to a reinsurer for carrying reinsured pol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nual pro rata metho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one method of calculating the rese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84464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licyholders’ surplu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difference between an insurance company’s assets and li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onger a company’s surplus position, the greater is the security for its policy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00:35Z</dcterms:created>
  <dc:creator>George E. Rejda</dc:creator>
  <dc:description/>
  <dc:language>en-US</dc:language>
  <cp:lastModifiedBy>Rewayda</cp:lastModifiedBy>
  <dcterms:modified xsi:type="dcterms:W3CDTF">2015-11-24T18:32:40Z</dcterms:modified>
  <cp:revision>112</cp:revision>
  <dc:subject>Financial Operations of Insurers</dc:subject>
  <dc:title>Chapter 7</dc:title>
</cp:coreProperties>
</file>