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6EA8-A7D4-4043-A3AB-E45138C35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AD96-FBAE-4523-A074-07ED14B8E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8C51-10E0-40DC-B376-B419E05A3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60F3-CDB3-4732-80E3-3EF1120BF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7EF7-B435-4271-BEFF-3EE0EC888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7D45-C890-42F4-9E3F-759870A21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3043-BCF7-462F-9C28-0BC267B80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205C-69B8-4C23-9E28-E2AD7A828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23AF-8217-4E4F-86DB-BC461673E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95FA-2049-45F9-AF86-286E092B3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B573-D9F8-4483-9006-C53D41221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C72A-0AE8-4E26-9709-5D6A4AF47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1905-60B1-427F-944E-6DA9C8F72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287F-CF7B-40B4-A38C-2EAFC7937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DF26-9F75-4BE2-BC32-291628240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EA85-2043-4F60-9C69-0674E1793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3766-244B-4349-9E14-3261B6843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0651-3E6B-4743-A47B-F42D21941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3DEB-9729-4CC8-9279-1941BB7C1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05A9-7794-4234-BD56-ED071B600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65D3-EF1E-4163-8986-23E292988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22F3-2751-4F84-813C-9C41A66F8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D730-1BDF-46A6-BE53-E0FC16CC8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B5E1-A7EA-456B-BC1D-E99610E30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F3D6-C4AC-4F76-8EF6-EEB9C1952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49BA-3B36-428D-96E2-5CA6D7D0F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1"/>
          <p:cNvSpPr/>
          <p:nvPr/>
        </p:nvSpPr>
        <p:spPr>
          <a:xfrm flipH="1">
            <a:off x="8229600" y="6172200"/>
            <a:ext cx="914400" cy="6858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991720" y="0"/>
            <a:ext cx="152280" cy="670572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3120" y="64594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11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305920" y="6324480"/>
            <a:ext cx="838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6-</a:t>
            </a:r>
            <a:fld id="{102A8CA2-8698-446A-A454-9E8DDFD58E25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1066680" y="624060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11 Pearson Educ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29" descr="9780137029136"/>
          <p:cNvPicPr/>
          <p:nvPr/>
        </p:nvPicPr>
        <p:blipFill>
          <a:blip r:embed="rId2"/>
          <a:stretch/>
        </p:blipFill>
        <p:spPr>
          <a:xfrm>
            <a:off x="4427640" y="333360"/>
            <a:ext cx="4416480" cy="567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0" descr="PEA_c"/>
          <p:cNvPicPr/>
          <p:nvPr/>
        </p:nvPicPr>
        <p:blipFill>
          <a:blip r:embed="rId3"/>
          <a:stretch/>
        </p:blipFill>
        <p:spPr>
          <a:xfrm>
            <a:off x="179280" y="6350040"/>
            <a:ext cx="792360" cy="30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3429000"/>
            <a:ext cx="75945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INANCIAL OPERATIONS OF PRIVATE INSURER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1988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hapter 2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come and expense statem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izes revenues and expenses paid over a specified period of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rincipal sources of revenue are premiums and investment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arned premium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ose premiums for which the service for which the premiums were paid (insurance protection) has been rende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nses include the cost of adjusting claims, paying the insured losses that occurred, commissions to agents, premium taxes, and general insurance exp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26.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ABC Insurance Compan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ex07_02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the Performance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ss rati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ratio of incurred losses and loss adjustment expenses to premiums ear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xpense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equal to the company’s underwriting expenses divided by written premi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mbined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sum of the loss ratio and the expense ratio. A positive ratio indicates an underwriting los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atio exceeds 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1"/>
              <p:cNvSpPr txBox="1"/>
              <p:nvPr/>
            </p:nvSpPr>
            <p:spPr>
              <a:xfrm>
                <a:off x="1477800" y="2498760"/>
                <a:ext cx="6451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curr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justm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ens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mium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arne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8"/>
              <p:cNvSpPr txBox="1"/>
              <p:nvPr/>
            </p:nvSpPr>
            <p:spPr>
              <a:xfrm>
                <a:off x="2514600" y="4267080"/>
                <a:ext cx="3803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en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nderwrit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ens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mium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ritt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the Performance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vestment income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pares net investment income to earned premi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all operating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equal to the combined ratio minus the investment income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ratio measures the company’s total performance (underwriting and investme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it is less than 100, this indicates that the company, overall, was profit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646280" y="2824200"/>
                <a:ext cx="5592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stmen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co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vestm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co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arn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emium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alance sh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sse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 life insurer have a longer duration, on average, than those of property and casualty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many life insurance policies have a savings element, life insurers keep an interest-bearing asset called “contract loans” or “policy loans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fe insurance company may have separate accounts for assets backing interest-sensitive products, such as variable annu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e li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licy reserv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legal reserves) are a liability item on the balance sheet that must be offset by assets equal to that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 laws specify the minimum basis for calculating policy reser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serve for amounts held on depos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liability representing funds that are owed to policyholders and to beneficia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sset valuation reser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VR) is a statutory accounting account designed to absorb asset value fluctuations not caused by changing interest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p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yholders’ surplus is less volatile in the life insurance industry than in the property and casualty insurance indus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ome Stat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 payments, including death benefits paid to beneficiaries and annuity benefits paid to annuitants, are the life insurer’s major expense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fe insurer’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et gain from oper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quals total revenues less total expenses, policyowner dividends, and federal income tax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the Performance of 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umber of measures can be used to gauge the performance of life insur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tax or after-tax net income vs. total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 of return on policyowners’ surp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│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Laws Require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goal is to protect the publi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adequate for paying all losses and exp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not be excessive, such that policyholders are paying more than the actual value of their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must not be unfairly discriminatory; exposures that are similar with respect to losses and expenses should not be charged significantly different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║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iness Rate-Making Objective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easy to understand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implic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stable over short periods of time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ability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responsive to changing loss exposures and changing economic conditions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esponsivenes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encourage loss prevention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encouragement of loss contro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y and Casualty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fe Insurance Compa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making in Life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nancial Crisis and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price per unit of insur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xposure un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unit of measurement used in insurance pricing, e.g., a car-y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ure prem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portion of the rate needed to pay losses and loss adjustment expen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Load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amount that must be added to the pure premium for other expenses, profit, and a margin for conting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ross r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sists of the pure premium and a loading el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ross prem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id by the insured consists of the gross rate multiplied by the number of exposure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hree basic rate making methods in property and casualty insuran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Judgment ra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ans that each exposure is individually evaluated, and the rate is determined largely by the judgment of the underwri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lass ra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ans that exposures with similar characteristics are placed in the same underwriting class, and each is charged the same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rates are determined using two basic metho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th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Verdana"/>
              </a:rPr>
              <a:t>pure premium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pure premium can be determined by dividing the dollar amount of incurred losses and loss-adjustment expenses by the number of exposure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th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Verdana"/>
              </a:rPr>
              <a:t>loss ratio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actual loss ratio is compared with the expected loss ratio, and the rate is adjusted according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rit ra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rating plan by which class rates are adjusted upward or downward based on individual loss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43880" indent="-447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schedule rating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, each exposure is individually ra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7200" indent="-37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sis rate is determined for each exposure, which is then modified by debits or credits depending on the physical characteristics of the expos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17200" indent="-37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only used in commercial property insurance, such as an industrial plant. Each building is individually rated based on several factors, including construction, occupancy, protection, exposure and mainten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27120" indent="-222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experience r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class or manual rate is adjusted upward or downward based on past loss exper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surer’s past loss experience is used to determine the premium for the next policy peri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loss experience is worse than the class average , the rate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627120" indent="-222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retrospective r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lan, the insured’s loss experience during the current policy period determines the actual premium paid for tha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rovisional premium is paid at the beginning of the policy period; the final premium is calculated at the end of the policy peri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only used in workers compensation insur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temaking in Lif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fe insurance actuaries use a mortality table or individual company experience to determine the probability of death at each attained 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nnual expected value of death claims equals the probability of death times the amount the insurer must pay if death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inancial Crisis and Insur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cent financial crisis has affected financial institutions in different 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were more negatively impacted as they issued the sub prime mortgage lo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ers were not heavily involved in sub prime l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ers did not securitize the bad mortgage loans and mortgage debt was not a significant share of insurers’ investment portfol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ers were most affected by the sharp decline in the value of their investment portfol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944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alance Shee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summary of what a company owns (assets) and what it owes (liabilit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Assets = Total Liabilities + Owners’ Equ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26.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ABC Insurance Compan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ex07_01"/>
          <p:cNvPicPr/>
          <p:nvPr/>
        </p:nvPicPr>
        <p:blipFill>
          <a:blip r:embed="rId1"/>
          <a:stretch/>
        </p:blipFill>
        <p:spPr>
          <a:xfrm>
            <a:off x="609480" y="1981080"/>
            <a:ext cx="8159760" cy="350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imary assets for an insurance company are financia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rers’ liabilities include required  reser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ss reser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n estimated amount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s reported and adjusted, but not yet p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s reported and filed, but not yet adju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s incurred but not yet reported to the company (IBN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se reser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loss reserves that are established for each individual clai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s for determining case reserves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e judgment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claim reserve is established for each individual clai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ex: computer program estim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e average value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n average value is assigned to each clai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arge number of claims &amp; small amou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e tabular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loss reserves are determined for certain claims for which the amounts paid depend on data derived from mortality, morbidity, and remarriage t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ss ratio metho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es aggregate loss reserves for a specific coverage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rmula based on the expected loss ratio is used to estimate the loss re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curred-but-not-reported (IBNR) reser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reserve that must be established for claims that have already occurred but that have not yet been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nearned premium reserv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liability item that represents the unearned portion of gross premiums on all outstanding policies at the time of 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purpose is to pay for losses that occur during the policy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lso needed so that refunds can be paid to policyholders that cancel their cove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also serves as the basis for determining the amount that must be paid to a reinsurer for carrying reinsured pol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nual pro rata metho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one method of calculating the rese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844640"/>
            <a:ext cx="82944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licyholders’ surplu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difference between an insurance company’s assets and li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onger a company’s surplus position, the greater is the security for its policyhol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00:35Z</dcterms:created>
  <dc:creator>George E. Rejda</dc:creator>
  <dc:description/>
  <dc:language>en-US</dc:language>
  <cp:lastModifiedBy>Rewayda</cp:lastModifiedBy>
  <dcterms:modified xsi:type="dcterms:W3CDTF">2015-11-24T18:32:40Z</dcterms:modified>
  <cp:revision>112</cp:revision>
  <dc:subject>Financial Operations of Insurers</dc:subject>
  <dc:title>Chapter 7</dc:title>
</cp:coreProperties>
</file>