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28F2-0D4E-4257-8AC2-36447EE36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AC66-BF65-40F1-A038-FD30A982D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2418-FB8B-45AF-A75A-1EB02D3FD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9F63-EF64-4AEE-83F7-AC8EAC3BF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0E9A-7D6A-4C48-918B-C0011A5BB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630E-490C-4DCD-9E31-1E5648298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D4CB-4775-499D-A742-A3E05DEDD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E011-0DE9-4FBB-97BC-F303E535C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5981-D878-4CBF-9854-269E16693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2A78D-9F05-48CF-8335-6304CA53B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arency Master 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FD31-2D7D-4831-A027-84FF1C55E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arency Master 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68F9-9D30-47AF-8A66-302380EAE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504D-6240-4A1F-A79A-224D2BDCF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1774-D35A-4096-8792-B764B99C9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5E6D-0B25-44C4-B55B-039796D4F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E07D-FBDB-4961-8E98-C18DAD658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943D-6896-4340-A767-C2CAE18FD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6142-25E9-4EA2-9A00-388D6C02E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47D0-77D8-4058-9EA6-E1D7496C1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8E9D-2ECB-4B0B-A531-7427F392B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D408-4042-44E6-8DD9-983820B00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5C63-6888-4ECE-AAD3-18E1120AD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FF6F-8B91-4EE0-88B2-1EC7F963F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B0FC-1440-49F1-A000-03DC48BF5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98AD-484A-4C17-B8AF-81893C5CF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4FB7-71B4-46CA-B3D9-AD75E6D50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093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49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093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1372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03120"/>
            <a:ext cx="861048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50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50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Rectangle 11"/>
          <p:cNvSpPr/>
          <p:nvPr/>
        </p:nvSpPr>
        <p:spPr>
          <a:xfrm flipH="1">
            <a:off x="8229600" y="6172200"/>
            <a:ext cx="914400" cy="685800"/>
          </a:xfrm>
          <a:prstGeom prst="rect">
            <a:avLst/>
          </a:prstGeom>
          <a:solidFill>
            <a:srgbClr val="fff5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fff5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8991720" y="0"/>
            <a:ext cx="152280" cy="6705720"/>
          </a:xfrm>
          <a:prstGeom prst="rect">
            <a:avLst/>
          </a:prstGeom>
          <a:solidFill>
            <a:srgbClr val="fff5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3120" y="645948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11 Pearson Education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8305920" y="6324480"/>
            <a:ext cx="8380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6-</a:t>
            </a:r>
            <a:fld id="{697033E0-ECA3-4E86-9CB3-731FA35227F4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5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1066680" y="624060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11 Pearson Educati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1029" descr="9780137029136"/>
          <p:cNvPicPr/>
          <p:nvPr/>
        </p:nvPicPr>
        <p:blipFill>
          <a:blip r:embed="rId2"/>
          <a:stretch/>
        </p:blipFill>
        <p:spPr>
          <a:xfrm>
            <a:off x="4427640" y="333360"/>
            <a:ext cx="4416480" cy="5678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30" descr="PEA_c"/>
          <p:cNvPicPr/>
          <p:nvPr/>
        </p:nvPicPr>
        <p:blipFill>
          <a:blip r:embed="rId3"/>
          <a:stretch/>
        </p:blipFill>
        <p:spPr>
          <a:xfrm>
            <a:off x="179280" y="6350040"/>
            <a:ext cx="792360" cy="306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0000" y="3429000"/>
            <a:ext cx="7594560" cy="23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FINANCIAL OPERATIONS OF PRIVATE INSURERS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198864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rIns="0" anchor="b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Chapter 26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nancial Statements of Property and Casualty Insurer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income and expense statemen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mmarizes revenues and expenses paid over a specified period of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wo principal sources of revenue are premiums and investment inco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Earned premium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e those premiums for which the service for which the premiums were paid (insurance protection) has been render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enses include the cost of adjusting claims, paying the insured losses that occurred, commissions to agents, premium taxes, and general insurance expen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xhibit 26.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ABC Insurance Company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5" descr="ex07_02"/>
          <p:cNvPicPr/>
          <p:nvPr/>
        </p:nvPicPr>
        <p:blipFill>
          <a:blip r:embed="rId1"/>
          <a:stretch/>
        </p:blipFill>
        <p:spPr>
          <a:xfrm>
            <a:off x="1600200" y="1371600"/>
            <a:ext cx="5943600" cy="48672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asuring the Performance of Property and Casualty Insurer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610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loss ratio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he ratio of incurred losses and loss adjustment expenses to premiums earn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expense rati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equal to the company’s underwriting expenses divided by written premiu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ombined rati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the sum of the loss ratio and the expense ratio. A positive ratio indicates an underwriting loss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ratio exceeds 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11"/>
              <p:cNvSpPr txBox="1"/>
              <p:nvPr/>
            </p:nvSpPr>
            <p:spPr>
              <a:xfrm>
                <a:off x="1477800" y="2498760"/>
                <a:ext cx="64519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s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ati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ncurre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osse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s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djustmen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pens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remium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arne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8"/>
              <p:cNvSpPr txBox="1"/>
              <p:nvPr/>
            </p:nvSpPr>
            <p:spPr>
              <a:xfrm>
                <a:off x="2514600" y="4267080"/>
                <a:ext cx="38037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pens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ati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Underwriting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pens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remium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ritte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asuring the Performance of Property and Casualty Insurer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investment income rati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mpares net investment income to earned premiu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verall operating rati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equal to the combined ratio minus the investment income rat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ratio measures the company’s total performance (underwriting and investment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it is less than 100, this indicates that the company, overall, was profitab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4"/>
              <p:cNvSpPr txBox="1"/>
              <p:nvPr/>
            </p:nvSpPr>
            <p:spPr>
              <a:xfrm>
                <a:off x="1646280" y="2824200"/>
                <a:ext cx="55926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vestmen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co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ati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e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vestmen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com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arne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emium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nancial Statements of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ife Insurer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balance she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sse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 life insurer have a longer duration, on average, than those of property and casualty insur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cause many life insurance policies have a savings element, life insurers keep an interest-bearing asset called “contract loans” or “policy loans”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life insurance company may have separate accounts for assets backing interest-sensitive products, such as variable annu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nancial Statements of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ife Insurer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The liabil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olicy reserv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legal reserves) are a liability item on the balance sheet that must be offset by assets equal to that amou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e laws specify the minimum basis for calculating policy reser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reserve for amounts held on deposi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liability representing funds that are owed to policyholders and to beneficia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sset valuation reserv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AVR) is a statutory accounting account designed to absorb asset value fluctuations not caused by changing interest r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nancial Statements of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ife Insurer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urpl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licyholders’ surplus is less volatile in the life insurance industry than in the property and casualty insurance indust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ome Stat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nefit payments, including death benefits paid to beneficiaries and annuity benefits paid to annuitants, are the life insurer’s major expense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life insurer’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net gain from operati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quals total revenues less total expenses, policyowner dividends, and federal income tax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asuring the Performance of Life Insurer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number of measures can be used to gauge the performance of life insur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-tax or after-tax net income vs. total ass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te of return on policyowners’ surpl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atemaking in Property and Casualty Insuranc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(│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e Laws Require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goal is to protect the publi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tes should be adequate for paying all losses and expen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tes should not be excessive, such that policyholders are paying more than the actual value of their prot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tes must not be unfairly discriminatory; exposures that are similar with respect to losses and expenses should not be charged significantly different r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atemaking in Property and Casualty Insuranc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║)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siness Rate-Making Objectives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12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tes should be easy to understand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simplicit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12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tes should be stable over short periods of time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stability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12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tes should be responsive to changing loss exposures and changing economic conditions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responsiveness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12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tes should encourage loss prevention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encouragement of loss contro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erty and Casualty Insur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fe Insurance Compan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temaking in Property and Casualty Insur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temaking in Life Insur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inancial Crisis and Insur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atemaking in Property and Casualty Insuranc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r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the price per unit of insura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exposure uni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the unit of measurement used in insurance pricing, e.g., a car-ye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pure premiu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the portion of the rate needed to pay losses and loss adjustment expen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Load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the amount that must be added to the pure premium for other expenses, profit, and a margin for contingen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gross r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nsists of the pure premium and a loading el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gross premiu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id by the insured consists of the gross rate multiplied by the number of exposure uni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atemaking in Property and Casualty Insuranc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are three basic rate making methods in property and casualty insuranc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Judgment rat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eans that each exposure is individually evaluated, and the rate is determined largely by the judgment of the underwri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lass rat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eans that exposures with similar characteristics are placed in the same underwriting class, and each is charged the same r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atemaking in Property and Casualty Insuranc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ass rates are determined using two basic method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der the </a:t>
            </a:r>
            <a:r>
              <a:rPr b="0" lang="en-US" sz="2000" spc="-1" strike="noStrike" u="sng">
                <a:solidFill>
                  <a:srgbClr val="0070c0"/>
                </a:solidFill>
                <a:uFillTx/>
                <a:latin typeface="Verdana"/>
              </a:rPr>
              <a:t>pure premium metho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the pure premium can be determined by dividing the dollar amount of incurred losses and loss-adjustment expenses by the number of exposure uni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der the </a:t>
            </a:r>
            <a:r>
              <a:rPr b="0" lang="en-US" sz="2000" spc="-1" strike="noStrike" u="sng">
                <a:solidFill>
                  <a:srgbClr val="0070c0"/>
                </a:solidFill>
                <a:uFillTx/>
                <a:latin typeface="Verdana"/>
              </a:rPr>
              <a:t>loss ratio metho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the actual loss ratio is compared with the expected loss ratio, and the rate is adjusted according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atemaking in Property and Casualty Insuranc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Verdan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erit rat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rating plan by which class rates are adjusted upward or downward based on individual loss experi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43880" indent="-4478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der a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schedule rating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n, each exposure is individually rate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717200" indent="-37296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sis rate is determined for each exposure, which is then modified by debits or credits depending on the physical characteristics of the exposu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717200" indent="-37296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monly used in commercial property insurance, such as an industrial plant. Each building is individually rated based on several factors, including construction, occupancy, protection, exposure and maintenanc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atemaking in Property and Casualty Insuranc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627120" indent="-222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der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experience rat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the class or manual rate is adjusted upward or downward based on past loss experi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insurer’s past loss experience is used to determine the premium for the next policy perio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the loss experience is worse than the class average , the rate increas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627120" indent="-222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der a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retrospective rat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lan, the insured’s loss experience during the current policy period determines the actual premium paid for that peri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provisional premium is paid at the beginning of the policy period; the final premium is calculated at the end of the policy perio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monly used in workers compensation insura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temaking in Life Insuranc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38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fe insurance actuaries use a mortality table or individual company experience to determine the probability of death at each attained 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nnual expected value of death claims equals the probability of death times the amount the insurer must pay if death occu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Financial Crisis and Insurer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ecent financial crisis has affected financial institutions in different way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nks were more negatively impacted as they issued the sub prime mortgage loa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urers were not heavily involved in sub prime l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urers did not securitize the bad mortgage loans and mortgage debt was not a significant share of insurers’ investment portfol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urers were most affected by the sharp decline in the value of their investment portfol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nancial Statements of Property and Casualty Insurer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294400" cy="38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Balance Shee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a summary of what a company owns (assets) and what it owes (liabiliti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tal Assets = Total Liabilities + Owners’ Equ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xhibit 26.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ABC Insurance Company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5" descr="ex07_01"/>
          <p:cNvPicPr/>
          <p:nvPr/>
        </p:nvPicPr>
        <p:blipFill>
          <a:blip r:embed="rId1"/>
          <a:stretch/>
        </p:blipFill>
        <p:spPr>
          <a:xfrm>
            <a:off x="609480" y="1981080"/>
            <a:ext cx="8159760" cy="3502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nancial Statements of Property and Casualty Insurer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rimary assets for an insurance company are financial ass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rers’ liabilities include required  reser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loss reserv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an estimated amount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s reported and adjusted, but not yet pa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s reported and filed, but not yet adjus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s incurred but not yet reported to the company (IBN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nancial Statements of Property and Casualty Insurer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640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ase reserv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re loss reserves that are established for each individual clai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thods for determining case reserves includ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The judgment metho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a claim reserve is established for each individual claim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ex: computer program estimat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The average value metho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an average value is assigned to each claim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large number of claims &amp; small amoun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The tabular metho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loss reserves are determined for certain claims for which the amounts paid depend on data derived from mortality, morbidity, and remarriage ta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nancial Statements of Property and Casualty Insurer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loss ratio method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es aggregate loss reserves for a specific coverage 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formula based on the expected loss ratio is used to estimate the loss reser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incurred-but-not-reported (IBNR) reserv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reserve that must be established for claims that have already occurred but that have not yet been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nancial Statements of Property and Casualty Insurer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unearned premium reserv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a liability item that represents the unearned portion of gross premiums on all outstanding policies at the time of valu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s purpose is to pay for losses that occur during the policy peri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is also needed so that refunds can be paid to policyholders that cancel their cover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also serves as the basis for determining the amount that must be paid to a reinsurer for carrying reinsured pol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nnual pro rata metho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one method of calculating the reser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303120"/>
            <a:ext cx="861048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nancial Statements of Property and Casualty Insurer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844640"/>
            <a:ext cx="8294400" cy="38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olicyholders’ surplu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he difference between an insurance company’s assets and liabil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tronger a company’s surplus position, the greater is the security for its policyhold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4T08:00:35Z</dcterms:created>
  <dc:creator>George E. Rejda</dc:creator>
  <dc:description/>
  <dc:language>en-US</dc:language>
  <cp:lastModifiedBy>Rewayda</cp:lastModifiedBy>
  <dcterms:modified xsi:type="dcterms:W3CDTF">2015-11-24T18:32:40Z</dcterms:modified>
  <cp:revision>112</cp:revision>
  <dc:subject>Financial Operations of Insurers</dc:subject>
  <dc:title>Chapter 7</dc:title>
</cp:coreProperties>
</file>