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614-E673-4443-983E-918A6DBA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C75-1C89-4C2C-8061-0CFC34BB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49BD-B2FA-49EF-98F2-E89B7E2D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0991-4A9E-475C-B8C6-3DAA17E31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712-B8CA-4337-9984-BD38D5034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AE0-81EE-4591-9F0F-32463A1F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02E3-C0B9-4DD2-9BA1-C44EBD1A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B81B-5C5B-40D7-A3EA-61BA21A4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23C5-9657-440F-9464-EC1BDDD6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49E-E455-40EB-B460-BEEC2DC7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030-E521-4481-B9D7-864E8E4A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1C9A-91E7-405F-A0EB-D2FE98990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1BF-D6F6-48EE-8F67-C9A76E985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D68-D021-4541-81A9-23C13A037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A106-1294-46EE-A83C-BD9F7B12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762-753E-49B1-9833-70FE43AF7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DBB8-939A-45EC-9126-E8437948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E25-12F7-4642-AC53-0B79A360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9E8-D475-4A73-A6DD-F080DD31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7AA7-C9AC-436F-969C-B434DFC8A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348F-2E3F-4C09-B89E-380C7D7D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-</a:t>
            </a:r>
            <a:fld id="{125C2622-EEFD-47FE-B5D5-87600906E90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3860280"/>
            <a:ext cx="777240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ADVANCED TOPICS IN RISK MANAGE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Chapter Fou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590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hibit 4.2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line of Events Related to the Financial Crisi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ex04_02"/>
          <p:cNvPicPr/>
          <p:nvPr/>
        </p:nvPicPr>
        <p:blipFill>
          <a:blip r:embed="rId1"/>
          <a:stretch/>
        </p:blipFill>
        <p:spPr>
          <a:xfrm>
            <a:off x="2895480" y="444600"/>
            <a:ext cx="5867640" cy="565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Enterprise Risk Manag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G mentions an active ERM program in its 2007 10-K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kiness of the Financial Products Division was not fully appreci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ision was issuing credit default swa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redit default swa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greement in which the risk of default of a financial instrument is transferred from the owner of the financial instrument to the issuer of the sw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rate on mortgages soared and the company did not have the capital to cover guarante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essons learned by risk managers from the financial crisis will influence ERM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s about whether to retain or transfer risks are influenced by conditions in the insurance market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1) The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Verdana"/>
              </a:rPr>
              <a:t>Underwriting Cycle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s to the cyclical pattern of underwriting stringency, premium levels, and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rd” mark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ight standards, high premiums, unfavorable insurance terms, more re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oft” mark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oose standards, low premiums, favorable insurance terms, less reten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indicator of the status of the cycle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990720" y="4876920"/>
          <a:ext cx="68864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876920"/>
                    <a:ext cx="6886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3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Ratio for All Lines of Property and Liability Insurance, 1956–2008*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ex04_03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88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factors affect property and liability insurance pricing and underwriting decis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) Insurance indust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relative level of surp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urpl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difference between an insurer’s assets and its liabiliti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erwriting losses reduce the surplus and some point, premiums must be raised and underwriting standards tightened to restore the depleted surpl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acity can be affected by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lash lo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occurs when several lines of insurance simultaneously experience large l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Investment returns may be used to offset underwriting losses, allowing insurers to set lower premium 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surers expect favorable investment results, they can sell their insurance coverages at lower premium rates, hoping to offset underwriting losses with investment income. This practice is known 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“cash flow underwriting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end toward consolidation in the financial services industry is continu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Verdana"/>
              </a:rPr>
              <a:t>(2) Consolidation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s to the combining of businesses through acquisitions or merg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ue 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rger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the market is populated by fewer, but larger independent insuranc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also fewer large national insuranc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roker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insurance brok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n intermediary who represents insurance purchas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oss-Industry Consolid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he boundaries between insurance companies and other financial institutions have been struck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Services Modernization Act of 199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financial services companies are diversifying their operations by expanding into new se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483920"/>
            <a:ext cx="85345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(3) Capital Market Risk Financing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ers are making increasing use of capital markets to assist in financing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) Securitization of ris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ans that insurable risk is transferred to the capital markets through creation of a financial instru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tastrophe bo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ermits the issue to skip or defer scheduled payments if a catastrophic loss occ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surance o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 option that derives value from specific insurance losses or from an index of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eather op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vides a payment if a specified weather contingency (e.g., high temperature) occ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pact of risk securitization is an increase in capacity for insurers and reinsur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provides access to the capital of many inves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4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atastrophe Bonds: Annual Number of Transactions and Issue Siz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ex04_04"/>
          <p:cNvPicPr/>
          <p:nvPr/>
        </p:nvPicPr>
        <p:blipFill>
          <a:blip r:embed="rId1"/>
          <a:stretch/>
        </p:blipFill>
        <p:spPr>
          <a:xfrm>
            <a:off x="1066680" y="1371600"/>
            <a:ext cx="6545520" cy="4944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sk manager can predict losses using several different techni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Probability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Regression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Forecasting based on loss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course, there is no guarantee that losses will follow past loss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37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Probability ana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risk manager can assign probabilities to individual and joint ev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bability of an event is equal to the number of events likely to occur (X) divided by the number of exposure units (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calculated with past loss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events are consi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dependent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does not affect the occurrence of the other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events are consi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pendent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affects the occurrence of the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utually exclus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precludes the occurrence of the second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studying this chapter, you should be able to kno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Analysis in Risk Management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Regression analysi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zes the relationship between two or more variables and then uses this characterization to predict values of a vari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, the number of physical damage claims for a fleet of vehicles is a function of the size of the fleet and the number of miles driven each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4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Relationship Between Payroll and Number of Workers Compensation Clai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ex04_05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0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) A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loss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robability distribution of losses that could occu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for forecasting if the history of losses tends to follow a specified distribution, and the sample size is l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isk manager needs to know the parameters of the loss distribution, such as the mean and standard dev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rmal distribution is widely used for loss foreca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Analysis in Risk Management Decision Mak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be considered when decisions involve cash flows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s the interest-earning capacity of mone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esent value is converted to a future valu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pou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future value is converted to a present valu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managers use the time value of money w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Analyzing insurance bi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Making loss control investment dec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t present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sum of the present values of the future cash flows minus the cost of the proj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nal rate of 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n a project is the average annual rate of return provided by investing in the proj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isk management information sys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MIS) is a computerized database that permits the risk manager to store and analyze risk manageme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base may include listing of properties, insurance policies, loss records, and status of legal clai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can be used to predict and attempt to control future loss lev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 Risk Management Intranets and Web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ntra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web site with search capabilities designed for a limited, internal aud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)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isk m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grid detailing the potential frequency and severity of risks faced by the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risk must be analyzed before placing it on the 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Value at risk (VAR) analy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volves calculating the worst probable loss likely to occur in a given time period under regular market conditions at some level of conf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VAR is determined using historical data or running a computer sim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applied to a portfolio of as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used to evaluate the solvency of insur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tastrophe model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computer-assisted method of estimating losses that could occur as a result of a catastrophic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inputs include seismic data, historical losses, and values exposed to losses (e.g., building characteristi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are used by insurers, brokers, and large companies with exposure to catastrophic l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, the risk manager’s job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s more than simply purchasing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limited in scope to pure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sk manager may be us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risk manag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nancial Risk Manag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identification, analysis, and treatment of speculative financial risk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modity pric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ing money if the price of a commodity changes (for producers &amp; use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nterest rat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s caused by adverse interest rate mo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urrency exchange rat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s of value caused by changes in the rate at which one nation's currency may be converted to another nation’s currenc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risks can be managed with capital market instr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naging Financial Risk—Two Examp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7" descr="ex04_01a"/>
          <p:cNvPicPr/>
          <p:nvPr/>
        </p:nvPicPr>
        <p:blipFill>
          <a:blip r:embed="rId1"/>
          <a:stretch/>
        </p:blipFill>
        <p:spPr>
          <a:xfrm>
            <a:off x="380880" y="1523880"/>
            <a:ext cx="8366400" cy="451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naging Financial Risk—Two Examp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ex04_01b"/>
          <p:cNvPicPr/>
          <p:nvPr/>
        </p:nvPicPr>
        <p:blipFill>
          <a:blip r:embed="rId1"/>
          <a:stretch/>
        </p:blipFill>
        <p:spPr>
          <a:xfrm>
            <a:off x="380880" y="2057400"/>
            <a:ext cx="836640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tegrated risk management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isk treatment technique that combines coverage for pure and speculative risks in the same 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ouble-trigger o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rovision that provides for payment only if two specified losses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rganizations have created a Chief Risk Officer (CRO)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hief risk offic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responsible for the treatment of pure and speculative risks faced by the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nterprise Risk Manag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RM) is a comprehensive risk management program that addresses the organization’s pure, speculative, strategic, and operational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risk refers to uncertainty regarding an organization’s goals and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al risks are risks that develop out of business operations, such as product manufactu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long as risks are not positively correlated, the combination of these risks in a single program reduces overall ris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ly half of all US firms have adopted some type of ERM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rriers to the implementation of ERM include organizational, culture and turf batt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Enterprise Risk Manag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S stock market dropped by more than fifty percent between October 2007 and 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ltdown raises questions about the use of ER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18 percent of executives surveyed said they had a well-formulated and fully-implemented ERM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0-05T19:02:56Z</dcterms:modified>
  <cp:revision>123</cp:revision>
  <dc:subject>Advanced Topics in Risk Management</dc:subject>
  <dc:title>Chapter 4</dc:title>
</cp:coreProperties>
</file>