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3009-36B8-42FC-B0DF-AE18937A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53D6-ED0C-4C9A-8048-B787D120D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B33-2D6E-4683-95D2-B2706764E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3682-461E-42BC-B996-BC107CD3B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276-F567-45DE-AE30-946C0178E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E5C0-FE92-4995-9CA6-AAB97E1B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4FF7-B566-4F15-B43A-A80DD5311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5B26-7051-4AF9-882A-581E0EFE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A8C8-902A-4EB8-8F51-B0F49540F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B6DF-0C3B-49A6-929F-2F8857CD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6CE-4DAF-40AB-BCBB-390097715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543-A788-4ACD-B79E-E3E24D95F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2A7A-DF1D-4676-AE5C-DA4BDB82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BEEA-87A3-4E9A-9A29-03ED4169E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67C5-BE55-4C57-8A5D-2D74BA7FA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8551-DBF5-44BC-A62E-BC7A21E1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A1FB-6031-4418-9459-D26588453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F15F-DE20-4370-BBAF-A62EBD70B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8663-D66D-45BB-A1DE-9C578931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00D0-BFD5-4FF7-A2EC-9AA613CDE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F4F6-3AB6-46B2-A339-C2055CA79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-</a:t>
            </a:r>
            <a:fld id="{D5C1E692-00A2-4B34-9765-A7E2CD89CFA6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3860280"/>
            <a:ext cx="7772400" cy="19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Verdana"/>
              </a:rPr>
              <a:t>ADVANCED TOPICS IN RISK MANAGEMEN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060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Verdana"/>
              </a:rPr>
              <a:t>Chapter Four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2590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hibit 4.2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line of Events Related to the Financial Crisi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6" descr="ex04_02"/>
          <p:cNvPicPr/>
          <p:nvPr/>
        </p:nvPicPr>
        <p:blipFill>
          <a:blip r:embed="rId1"/>
          <a:stretch/>
        </p:blipFill>
        <p:spPr>
          <a:xfrm>
            <a:off x="2895480" y="444600"/>
            <a:ext cx="5867640" cy="565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Enterprise Risk Manag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G mentions an active ERM program in its 2007 10-K Re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kiness of the Financial Products Division was not fully appreci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vision was issuing credit default swa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credit default swa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greement in which the risk of default of a financial instrument is transferred from the owner of the financial instrument to the issuer of the sw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efault rate on mortgages soared and the company did not have the capital to cover guarante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essons learned by risk managers from the financial crisis will influence ERM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s about whether to retain or transfer risks are influenced by conditions in the insurance market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(1) The </a:t>
            </a:r>
            <a:r>
              <a:rPr b="0" lang="en-US" sz="2000" spc="-1" strike="noStrike" u="sng">
                <a:solidFill>
                  <a:srgbClr val="c00000"/>
                </a:solidFill>
                <a:uFillTx/>
                <a:latin typeface="Verdana"/>
              </a:rPr>
              <a:t>Underwriting Cycle</a:t>
            </a:r>
            <a:r>
              <a:rPr b="0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s to the cyclical pattern of underwriting stringency, premium levels, and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Hard” mark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ight standards, high premiums, unfavorable insurance terms, more ret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oft” mark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loose standards, low premiums, favorable insurance terms, less retenti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indicator of the status of the cycle is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990720" y="4876920"/>
          <a:ext cx="68864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876920"/>
                    <a:ext cx="68864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3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Ratio for All Lines of Property and Liability Insurance, 1956–2008*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ex04_03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88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factors affect property and liability insurance pricing and underwriting decis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) Insurance indust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pac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relative level of surpl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urplu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difference between an insurer’s assets and its liabiliti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derwriting losses reduce the surplus and some point, premiums must be raised and underwriting standards tightened to restore the depleted surplu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acity can be affected by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lash los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which occurs when several lines of insurance simultaneously experience large l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Investment returns may be used to offset underwriting losses, allowing insurers to set lower premium 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surers expect favorable investment results, they can sell their insurance coverages at lower premium rates, hoping to offset underwriting losses with investment income. This practice is known a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“cash flow underwriting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rend toward consolidation in the financial services industry is continu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25"/>
              </a:spcBef>
              <a:buClr>
                <a:srgbClr val="c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Verdana"/>
              </a:rPr>
              <a:t>(2) Consolidation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s to the combining of businesses through acquisitions or merg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ue 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rger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the market is populated by fewer, but larger independent insurance organiz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also fewer large national insuranc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roker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insurance brok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n intermediary who represents insurance purchas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oss-Industry Consolida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 the boundaries between insurance companies and other financial institutions have been struck dow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Services Modernization Act of 199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financial services companies are diversifying their operations by expanding into new se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483920"/>
            <a:ext cx="85345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(3) Capital Market Risk Financing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ers are making increasing use of capital markets to assist in financing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) Securitization of ris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ans that insurable risk is transferred to the capital markets through creation of a financial instru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tastrophe bon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ermits the issue to skip or defer scheduled payments if a catastrophic loss occ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)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surance o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 option that derives value from specific insurance losses or from an index of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eather opti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vides a payment if a specified weather contingency (e.g., high temperature) occ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mpact of risk securitization is an increase in capacity for insurers and reinsur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provides access to the capital of many invest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4.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Catastrophe Bonds: Annual Number of Transactions and Issue Siz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7" descr="ex04_04"/>
          <p:cNvPicPr/>
          <p:nvPr/>
        </p:nvPicPr>
        <p:blipFill>
          <a:blip r:embed="rId1"/>
          <a:stretch/>
        </p:blipFill>
        <p:spPr>
          <a:xfrm>
            <a:off x="1066680" y="1371600"/>
            <a:ext cx="6545520" cy="4944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sk manager can predict losses using several different techniqu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Probability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) Regression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3) Forecasting based on loss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 course, there is no guarantee that losses will follow past loss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37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1)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Probability analy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the risk manager can assign probabilities to individual and joint ev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bability of an event is equal to the number of events likely to occur (X) divided by the number of exposure units (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y be calculated with past loss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events are consi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independent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does not affect the occurrence of the other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events are consider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pendent even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affects the occurrence of the 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s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utually exclus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occurrence of one event precludes the occurrence of the second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jectives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studying this chapter, you should be able to kno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ance Market Dynam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Analysis in Risk Management Decision Ma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2)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Regression analysi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zes the relationship between two or more variables and then uses this characterization to predict values of a vari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xample, the number of physical damage claims for a fleet of vehicles is a function of the size of the fleet and the number of miles driven each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hibit 4.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Relationship Between Payroll and Number of Workers Compensation Claim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ex04_05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05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ss Forecast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3) A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loss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probability distribution of losses that could occu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for forecasting if the history of losses tends to follow a specified distribution, and the sample size is l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isk manager needs to know the parameters of the loss distribution, such as the mean and standard dev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ormal distribution is widely used for loss foreca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Analysis in Risk Management Decision Mak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me value of mon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ust be considered when decisions involve cash flows over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s the interest-earning capacity of mone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esent value is converted to a future valu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pou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future value is converted to a present value through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is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managers use the time value of money w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) Analyzing insurance bid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) Making loss control investment deci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t present val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the sum of the present values of the future cash flows minus the cost of the proj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internal rate of retur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n a project is the average annual rate of return provided by investing in the projec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isk management information syste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RMIS) is a computerized database that permits the risk manager to store and analyze risk manageme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database may include listing of properties, insurance policies, loss records, and status of legal clai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can be used to predict and attempt to control future loss lev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 Risk Management Intranets and Web Si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ntrane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a web site with search capabilities designed for a limited, internal aud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)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isk ma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grid detailing the potential frequency and severity of risks faced by the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risk must be analyzed before placing it on the ma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ther Risk Management To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Value at risk (VAR) analys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volves calculating the worst probable loss likely to occur in a given time period under regular market conditions at some level of conf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VAR is determined using historical data or running a computer simu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ten applied to a portfolio of asse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be used to evaluate the solvency of insur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)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atastrophe model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computer-assisted method of estimating losses that could occur as a result of a catastrophic ev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 inputs include seismic data, historical losses, and values exposed to losses (e.g., building characteristic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s are used by insurers, brokers, and large companies with exposure to catastrophic lo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day, the risk manager’s job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olves more than simply purchasing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not limited in scope to pure ri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isk manager may be us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ncial risk manag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Financial Risk Manag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fers to the identification, analysis, and treatment of speculative financial risk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ommodity pric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ing money if the price of a commodity changes (for producers &amp; user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nterest rat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s caused by adverse interest rate move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urrency exchange rate ris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he risk of loss of value caused by changes in the rate at which one nation's currency may be converted to another nation’s currenc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risks can be managed with capital market instr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naging Financial Risk—Two Examp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7" descr="ex04_01a"/>
          <p:cNvPicPr/>
          <p:nvPr/>
        </p:nvPicPr>
        <p:blipFill>
          <a:blip r:embed="rId1"/>
          <a:stretch/>
        </p:blipFill>
        <p:spPr>
          <a:xfrm>
            <a:off x="380880" y="1523880"/>
            <a:ext cx="8366400" cy="451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4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anaging Financial Risk—Two Examp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ex04_01b"/>
          <p:cNvPicPr/>
          <p:nvPr/>
        </p:nvPicPr>
        <p:blipFill>
          <a:blip r:embed="rId1"/>
          <a:stretch/>
        </p:blipFill>
        <p:spPr>
          <a:xfrm>
            <a:off x="380880" y="2057400"/>
            <a:ext cx="8366400" cy="323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hanging Scope of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tegrated risk management progra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isk treatment technique that combines coverage for pure and speculative risks in the same contr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ouble-trigger op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rovision that provides for payment only if two specified losses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organizations have created a Chief Risk Officer (CRO)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hief risk offic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responsible for the treatment of pure and speculative risks faced by the organ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terprise Risk Manage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nterprise Risk Manag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ERM) is a comprehensive risk management program that addresses the organization’s pure, speculative, strategic, and operational ri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rategic risk refers to uncertainty regarding an organization’s goals and objectiv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onal risks are risks that develop out of business operations, such as product manufactu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 long as risks are not positively correlated, the combination of these risks in a single program reduces overall risk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arly half of all US firms have adopted some type of ERM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rriers to the implementation of ERM include organizational, culture and turf battl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Enterprise Risk Managemen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US stock market dropped by more than fifty percent between October 2007 and March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eltdown raises questions about the use of ER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ly 18 percent of executives surveyed said they had a well-formulated and fully-implemented ERM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0-05T19:02:56Z</dcterms:modified>
  <cp:revision>123</cp:revision>
  <dc:subject>Advanced Topics in Risk Management</dc:subject>
  <dc:title>Chapter 4</dc:title>
</cp:coreProperties>
</file>