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A6B-135E-4B51-B545-EE5DF330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D18B-1756-4193-B0F5-76267764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CA0C-F81C-4650-8692-5BE8C629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7BE-780D-4C4A-8BFE-6BDC01E2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2CA-E2AE-4BBE-B525-46400F83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74AC-8ABC-4567-BE01-E835D4CD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AACC-97ED-4B2B-8E25-F321F2E7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43DA-2FF9-40AB-BAEF-9BC8851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D909-0E3F-45E9-BC9D-8C2A1F73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5393-46B4-4906-9EB1-E24B9382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440F-73AD-409D-BC2A-1303CD62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F10-19F6-4D70-9D7F-4FB75BD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8CAD-B2B7-45C0-86BF-68F93C78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746-209E-4C5A-8B0F-E8483F0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DB65-3AF0-4022-92A7-BE8C0B09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A8C2-F310-406B-8F69-30C30E20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35F3-0F66-448A-A7F8-56F952832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D6D79-19B5-45DA-8A84-2D9FA9155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7AB90-735E-4325-8CD1-3F62AF5E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11F74-BE99-4AFB-8259-1E3DABB5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F45F-C348-47EF-88B8-05F8AB5A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578DF-77CF-46D7-9ED5-AD9599C4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EEE-BB19-4579-93AE-CBC3FCF9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9D1F-547F-4D21-BDF1-3BF0C5910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91B1-1B76-44AF-9623-3C41CD6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AEF2-6433-464F-8344-C5E83832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5632-D41D-4626-94E3-B980467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D9E7-2514-4F75-9D27-5D0C15D0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B787B-AB12-4A45-83EC-95259FE7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4C52C-3648-4BD7-B5E1-1968FB02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F86D8-2006-4269-9D53-DEB288ACE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3632-C6B0-4433-B423-318859CE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FAF3-9034-4E37-888A-19D7902A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05C-CDD6-46EB-9FCF-8362C50E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59FDC-A37C-42C0-B5F5-3747094E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50DD-6790-437D-8C56-4B744E09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C656-AA9E-4F88-8824-6EEB1B9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D0944-4B44-4512-B6F3-2EB22E39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37D6-249E-4942-A0CC-3F0586B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39032-C958-44EF-814F-F79A722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5BDDC-C7D2-4987-85AC-394EEA4D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4699-E1A5-42B6-9C51-47D2C96F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73FA-ABB9-4D23-9EBE-D5E1D389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55C-57FA-4CCE-9DF3-24E5081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E09-3C80-438E-88C8-FB02358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DC7-871E-4D87-975A-9F6312E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2E9-12CE-44C1-AC2F-3F32EC9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7DFE-B6C7-4791-945F-F9EE71A1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F4CF-82DF-47C1-94E7-4B60D92D6B8B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CD89-E456-437B-9147-203E21C29CF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37DD-54BB-4A04-BA01-C76597174107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4D9B-41AB-4035-88B6-2D886BDC78F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2BA8-6823-444C-85D3-1145A90086EC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C96-9E1A-4158-B25E-C0112110616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B34-DD57-407A-BB24-803AE3FA783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F880-A619-4C41-99D0-F7A64D950E2C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0" y="385092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c9e1f"/>
                </a:solidFill>
                <a:latin typeface="Arial"/>
              </a:rPr>
              <a:t>المدخل التقليدي لتحليل سلوك المستهلك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  <a:p>
            <a:pPr algn="ctr" rtl="1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 rtl="1">
              <a:lnSpc>
                <a:spcPct val="100000"/>
              </a:lnSpc>
              <a:spcBef>
                <a:spcPts val="1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dc9e1f"/>
                </a:solidFill>
                <a:latin typeface="Arial"/>
              </a:rPr>
              <a:t>(نظرية المنفعة الكمية)</a:t>
            </a:r>
            <a:endParaRPr b="0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200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فصل الخامس</a:t>
            </a: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إن تعظيم المنفعة يتطلب </a:t>
            </a:r>
            <a:r>
              <a:rPr b="1" lang="ar-SA" sz="3600" spc="-1" strike="noStrike" u="sng">
                <a:solidFill>
                  <a:srgbClr val="ff6600"/>
                </a:solidFill>
                <a:uFillTx/>
                <a:latin typeface="Arial"/>
              </a:rPr>
              <a:t>شرطين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ساوي المنفعة الحدية للريال المنفق على كل سلعة، أي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U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/ 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) = (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U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/ 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جمالي إنفاق المستهلك يساوي إجمالي الدخل، أي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M = (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X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. X) + (P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Y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. Y)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83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ffff"/>
                </a:solidFill>
                <a:latin typeface="Arial"/>
              </a:rPr>
              <a:t>شكراً لحضوركن</a:t>
            </a:r>
            <a:endParaRPr b="0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6002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100" spc="-1" strike="noStrike">
                <a:solidFill>
                  <a:srgbClr val="ffffff"/>
                </a:solidFill>
                <a:latin typeface="Arial"/>
              </a:rPr>
              <a:t>وشكراً لحسن استماعكن</a:t>
            </a:r>
            <a:endParaRPr b="0" lang="en-US" sz="6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31480"/>
            <a:ext cx="7925040" cy="59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09480" y="1153800"/>
            <a:ext cx="792504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في هذا الفصل سوف نركز على الأساسيات التي يقوم عليها منحنى الطلب، وندرس سلوك المستهلك الفرد أو الوحدة الاقتصادي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الوحدة الاقتصادية</a:t>
            </a: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: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هي الوحدة التي تقوم بالاستهلاك أو الانفاق ولديها ميزانية خاصة بها كأن تكون شخصاً أو مجموعة أشخاص أو عائلة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9040" indent="-32904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81160"/>
            <a:ext cx="79250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30040" y="1039320"/>
            <a:ext cx="8537760" cy="5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just" rtl="1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6600"/>
                </a:solidFill>
                <a:uFillTx/>
                <a:latin typeface="Arial"/>
              </a:rPr>
              <a:t>هناك مدخلان أو نظريتان رئيستان في تحليل سلوك المستهلك هما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30040" y="1596960"/>
          <a:ext cx="8537760" cy="4338720"/>
        </p:xfrm>
        <a:graphic>
          <a:graphicData uri="http://schemas.openxmlformats.org/drawingml/2006/table">
            <a:tbl>
              <a:tblPr/>
              <a:tblGrid>
                <a:gridCol w="3691080"/>
                <a:gridCol w="3668760"/>
                <a:gridCol w="1177920"/>
              </a:tblGrid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دخل الحديث لتحليل سلوك المستهل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نظرية المنفعة الترتيبية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Ordinal Utility Theor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دخل التقليدي لتحليل سلوك المستهل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نظرية المنفعة الكمية أو القياسية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Cardinal Utility Theor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pple Casual"/>
                        </a:rPr>
                        <a:t>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سمها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منحنيات السواء ويرمز لها بالرمز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U</a:t>
                      </a:r>
                      <a:r>
                        <a:rPr b="1" lang="en-US" sz="2400" spc="-1" strike="noStrike" baseline="-25000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, ….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المنفعة الكلية، ويرمز لها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ـ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 أو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T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  <a:ea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المنفعة الحدية، ويرمر لها بـ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أدواتها التحليلية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وجد لها وحدة قيا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حدة منفع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وحدة قياسها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792504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560" y="979200"/>
            <a:ext cx="8777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f6600"/>
                </a:solidFill>
                <a:uFillTx/>
                <a:latin typeface="Arial"/>
              </a:rPr>
              <a:t>ترجع نظرية المنفعة الكلية إلى بداية القرن التاسع عشر الميلادي، ومن أهم الافتراضات التي تقوم عليها هذه النظرية: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قابلية المنفعة للقياس الكمي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رشد الاقتصادي للمستهلك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ثبات المنفعة الحدية للنقود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تناقص المنفعة الحدية للسلع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9480" y="1400040"/>
            <a:ext cx="79250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دالة المنفعة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عبارة عن علاقة رياضية بين متغير تابع هو المنفعة الكلية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)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وعدد من المتغيرات المستقلة، أهمها كميات السلع المختلفة التي يقوم الشخص باستهلاكها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ctr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U = f (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1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2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3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…….. X</a:t>
            </a:r>
            <a:r>
              <a:rPr b="1" lang="en-US" sz="3200" spc="-1" strike="noStrike" baseline="-25000">
                <a:solidFill>
                  <a:srgbClr val="dc9e1f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dc9e1f"/>
                </a:solidFill>
                <a:latin typeface="Arial Narrow"/>
              </a:rPr>
              <a:t> , Other Thing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r" rtl="1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حيث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, ….. X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 Narrow"/>
                <a:ea typeface="Arial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عبارة عن عدد وكميات السلع المختلفة التي يختارها المستهلك.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68400"/>
            <a:ext cx="792504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52440" y="840960"/>
            <a:ext cx="8461440" cy="53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منفعة الكلي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Total Utility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) </a:t>
            </a:r>
            <a:r>
              <a:rPr b="1" lang="ar-SA" sz="3200" spc="-1" strike="noStrike">
                <a:solidFill>
                  <a:srgbClr val="ff6600"/>
                </a:solidFill>
                <a:latin typeface="Arial Narrow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إجمالي الإشباع أو الرضى الذي يحصل عليه المستهلك من استهلاك السلع والخدمات المختلف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المنفعة الحدية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(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Marginal Utility</a:t>
            </a:r>
            <a:r>
              <a:rPr b="1" lang="en-US" sz="3200" spc="-1" strike="noStrike">
                <a:solidFill>
                  <a:srgbClr val="ff6600"/>
                </a:solidFill>
                <a:latin typeface="Arial Narrow"/>
              </a:rPr>
              <a:t>) </a:t>
            </a:r>
            <a:r>
              <a:rPr b="1" lang="ar-SA" sz="3200" spc="-1" strike="noStrike">
                <a:solidFill>
                  <a:srgbClr val="ff6600"/>
                </a:solidFill>
                <a:latin typeface="Arial Narrow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لإشباع الإضافي الذي يحصل عليه المستهلك عند زيادة استهلاكه من السلعة بوحدة واحد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12120" indent="-31212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و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 التغير في المنفعة الكلية الناتج عن تغير الاستهلاك بوحدة واحدة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90160" y="1199880"/>
            <a:ext cx="8567640" cy="77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سلوك المنفعة الكلية والمنفعة الحدية بافتراض أن </a:t>
            </a:r>
            <a:r>
              <a:rPr b="1" lang="ar-SA" sz="3200" spc="-1" strike="noStrike" u="sng">
                <a:solidFill>
                  <a:srgbClr val="ff6600"/>
                </a:solidFill>
                <a:uFillTx/>
                <a:latin typeface="Arial"/>
              </a:rPr>
              <a:t>السلعة مجانية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90520" y="2073240"/>
          <a:ext cx="8567640" cy="3854520"/>
        </p:xfrm>
        <a:graphic>
          <a:graphicData uri="http://schemas.openxmlformats.org/drawingml/2006/table">
            <a:tbl>
              <a:tblPr/>
              <a:tblGrid>
                <a:gridCol w="2855880"/>
                <a:gridCol w="2622600"/>
                <a:gridCol w="3089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منفعة الحد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MU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منفعة الكلية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(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dc9e1f"/>
                          </a:solidFill>
                          <a:latin typeface="Arial Narrow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dc9e1f"/>
                          </a:solidFill>
                          <a:latin typeface="Arial"/>
                        </a:rPr>
                        <a:t>الوحدات المستهلكة من البرتقا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1224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1224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cc8e60"/>
                      </a:solidFill>
                    </a:lnL>
                    <a:lnR w="5760">
                      <a:solidFill>
                        <a:srgbClr val="cc8e60"/>
                      </a:solidFill>
                    </a:lnR>
                    <a:lnT w="5760">
                      <a:solidFill>
                        <a:srgbClr val="cc8e60"/>
                      </a:solidFill>
                    </a:lnT>
                    <a:lnB w="5760">
                      <a:solidFill>
                        <a:srgbClr val="cc8e60"/>
                      </a:solidFill>
                    </a:lnB>
                    <a:solidFill>
                      <a:srgbClr val="cc8e6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500120" y="28717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>
            <a:off x="1494000" y="330984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1494000" y="37432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"/>
          <p:cNvSpPr/>
          <p:nvPr/>
        </p:nvSpPr>
        <p:spPr>
          <a:xfrm>
            <a:off x="1494000" y="41878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1498680" y="460368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1487520" y="50371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9" name=""/>
          <p:cNvSpPr/>
          <p:nvPr/>
        </p:nvSpPr>
        <p:spPr>
          <a:xfrm>
            <a:off x="1368360" y="547056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- 2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566720"/>
            <a:ext cx="79250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6600"/>
                </a:solidFill>
                <a:latin typeface="Arial"/>
              </a:rPr>
              <a:t>قانون تناقص المنفعة الحدية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لما زادت الكميات المستهلكة من سلعة معينة قلّت منفعة الوحدة الإضافية من السلعة، أي أن المنفعة الحدية تتناقص مع زيادة الوحدات المستهلكة منها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91880"/>
            <a:ext cx="792504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23ded"/>
                </a:solidFill>
                <a:latin typeface="Arial"/>
              </a:rPr>
              <a:t>المدخل التقليدي لتحليل سلوك المستهلك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09480" y="1131840"/>
            <a:ext cx="79250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6600"/>
                </a:solidFill>
                <a:latin typeface="Arial"/>
              </a:rPr>
              <a:t>توازن المستهلك وتعظيم المنفعة: 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000" spc="-1" strike="noStrike">
                <a:solidFill>
                  <a:srgbClr val="ffffff"/>
                </a:solidFill>
                <a:latin typeface="Arial"/>
              </a:rPr>
              <a:t>يقصد بتعظيم المنفعة، عملية الحصول على أقصى مستوى من الإشباع أو الرضى عند القيام باستهلاك السلع والخدمات المختلفة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dc9e1f"/>
                </a:solidFill>
                <a:latin typeface="Arial"/>
              </a:rPr>
              <a:t>الآن وعلى افتراض أن </a:t>
            </a:r>
            <a:r>
              <a:rPr b="1" lang="ar-SA" sz="3200" spc="-1" strike="noStrike" u="sng">
                <a:solidFill>
                  <a:srgbClr val="dc9e1f"/>
                </a:solidFill>
                <a:uFillTx/>
                <a:latin typeface="Arial"/>
              </a:rPr>
              <a:t>السلعة غير مجانية</a:t>
            </a:r>
            <a:r>
              <a:rPr b="1" lang="ar-SA" sz="3200" spc="-1" strike="noStrike">
                <a:solidFill>
                  <a:srgbClr val="dc9e1f"/>
                </a:solidFill>
                <a:latin typeface="Arial"/>
              </a:rPr>
              <a:t> فإن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just" rtl="1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كل مستهلك يواجه قيوداً معينة لا بد من أن يأخذها بعين الاعتبار عند السعي لتعظيم المنفعة، من أهم هذه </a:t>
            </a:r>
            <a:r>
              <a:rPr b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القيود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284400" indent="-284400" algn="ctr" rtl="1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cc577"/>
                </a:solidFill>
                <a:latin typeface="Arial Narrow"/>
                <a:ea typeface="Arial"/>
              </a:rPr>
              <a:t>1</a:t>
            </a:r>
            <a:r>
              <a:rPr b="1" lang="ar-SA" sz="3200" spc="-1" strike="noStrike">
                <a:solidFill>
                  <a:srgbClr val="ecc577"/>
                </a:solidFill>
                <a:latin typeface="Arial Narrow"/>
                <a:ea typeface="Arial"/>
              </a:rPr>
              <a:t>-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</a:rPr>
              <a:t>قيد الدخل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.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	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2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  <a:ea typeface="Arial"/>
              </a:rPr>
              <a:t>- </a:t>
            </a:r>
            <a:r>
              <a:rPr b="1" lang="ar-SA" sz="3200" spc="-1" strike="noStrike">
                <a:solidFill>
                  <a:srgbClr val="ecc577"/>
                </a:solidFill>
                <a:latin typeface="Arial"/>
              </a:rPr>
              <a:t>قيد أسعار السلع والخدمات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1:33:51Z</dcterms:created>
  <dc:creator>Home</dc:creator>
  <dc:description/>
  <dc:language>en-US</dc:language>
  <cp:lastModifiedBy>Mashael</cp:lastModifiedBy>
  <dcterms:modified xsi:type="dcterms:W3CDTF">2005-07-16T23:38:14Z</dcterms:modified>
  <cp:revision>148</cp:revision>
  <dc:subject/>
  <dc:title>الفصل الثاني</dc:title>
</cp:coreProperties>
</file>