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E3A-A5A9-45DD-965A-04880D7E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320-8790-4A92-8F86-30C21A0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827-5054-4396-A9F2-22A56E07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8C4-58D0-44C9-9651-97D10A83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9996-EBDD-4393-8681-DA59FA0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920-500F-4C17-BA21-CA09C776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077-0EF0-41C5-A471-61E532C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FC02-42D1-4B01-B6FD-6FF0602F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2792-2130-4532-B298-90AAF46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4B39-68BA-4825-9DEC-C355105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F55-036E-4305-B58A-79B2F16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2D8-4973-4B7F-8782-B987ADFB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D4EB-2722-4DBC-A46B-B4924F8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F42-9593-43F9-9C79-F238273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102E-4479-42C3-8DD7-F043983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2F2F-7E61-43E8-A35C-AC76956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D61-C7FD-475F-A966-7B4264FD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4C06-97CA-4A91-898B-6169DA37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D1F8-7828-4D43-816A-C606443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770D-B783-49A2-A1A2-A83AD58C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3FD1-A5A7-4770-A011-9FB0E120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42F4-4570-4C7C-B5EB-520637F0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5A6-832F-4561-BDA1-D59C7A5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2279-EB7A-42AD-8614-3DC87A3C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5874-1D34-4BD8-8C07-0F615CA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3EAA-79D5-4394-A687-12D3A6B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5528-C4EA-4804-87DF-A9DA2DD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7096-D89D-4DAD-B295-134DDCA4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35A6-DBF1-4A93-8C40-8CBD8B61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1035-3BB8-43E2-A7A5-4059D03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4E5C-6D6F-4280-98B5-1D6B4512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87C3-8E20-4834-B069-6CA2C698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BD86-554A-45B1-AC89-8271318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AB5-1ED8-4BF6-8ABD-4BC24B3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A2E7-8572-44BF-B277-331AD94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7D9A-788E-4841-8F47-C4283834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DB20-B5ED-4524-9782-1A348AC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0433-52D8-4968-A698-00B72B5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4DBF-8D83-4907-B4EF-BAD88E9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BF0D-7167-4EA3-839B-95FBA01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F956-4F94-4F9B-A614-878A9352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0AE3-C45B-4D4B-8C2B-C411596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A7F7-8A0D-4ABC-9BE1-8F59723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5BE-12D6-4523-AF0B-6E57E4B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3E9-AC39-4495-97D3-A0E6DD9B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BC0-B23E-4131-A18A-DA03F45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FBB-054D-4AB4-84AA-217D87E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658-8039-44DB-9E2F-0A538BBE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C20-4163-4CE0-A31A-7417FB40F27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4E9-61D1-40B3-9970-426B8E258F0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4D01-B37A-422F-A170-CC7F36BE27A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B39-547B-4306-A0BE-979AF59AA06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E9E9-82B6-42D8-9276-E32C4AD0D9A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23F-EFCA-4A97-AD98-6BD6D16A5E3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E6F-0EFA-42F8-B4AC-916C8564E94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080-8FAD-49FB-90E7-22B858F9F3F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385092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c9e1f"/>
                </a:solidFill>
                <a:latin typeface="Arial"/>
              </a:rPr>
              <a:t>المدخل التقليدي لتحليل سلوك المستهلك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 rtl="1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 rtl="1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c9e1f"/>
                </a:solidFill>
                <a:latin typeface="Arial"/>
              </a:rPr>
              <a:t>(نظرية المنفعة الكمية)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خامس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إن تعظيم المنفعة يتطلب </a:t>
            </a:r>
            <a:r>
              <a:rPr b="1" lang="ar-SA" sz="3600" spc="-1" strike="noStrike" u="sng">
                <a:solidFill>
                  <a:srgbClr val="ff6600"/>
                </a:solidFill>
                <a:uFillTx/>
                <a:latin typeface="Arial"/>
              </a:rPr>
              <a:t>شرطين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ساوي المنفعة الحدية للريال المنفق على كل سلعة، أي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U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/ 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) = (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U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/ 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جمالي إنفاق المستهلك يساوي إجمالي الدخل، أي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 = (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. X) + (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. Y)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1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في هذا الفصل سوف نركز على الأساسيات التي يقوم عليها منحنى الطلب، وندرس سلوك المستهلك الفرد أو الوحدة الاقتصادي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الوحدة الاقتصادية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هي الوحدة التي تقوم بالاستهلاك أو الانفاق ولديها ميزانية خاصة بها كأن تكون شخصاً أو مجموعة أشخاص أو عائلة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30040" y="1039320"/>
            <a:ext cx="853776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just" rtl="1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هناك مدخلان أو نظريتان رئيستان في تحليل سلوك المستهلك هما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30040" y="1596960"/>
          <a:ext cx="8537760" cy="4338720"/>
        </p:xfrm>
        <a:graphic>
          <a:graphicData uri="http://schemas.openxmlformats.org/drawingml/2006/table">
            <a:tbl>
              <a:tblPr/>
              <a:tblGrid>
                <a:gridCol w="3691080"/>
                <a:gridCol w="3668760"/>
                <a:gridCol w="117792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دخل الحديث لتحليل سلوك المستهل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نظرية المنفعة الترتيبية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Ordinal Utility Theor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دخل التقليدي لتحليل سلوك المستهل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نظرية المنفعة الكمية أو القياسية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Cardinal Utility Theor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سمها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منحنيات السواء ويرمز لها بالرمز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….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المنفعة الكلية، ويرمز ل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ـ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أو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T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المنفعة الحدية، ويرمر لها بـ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أدواتها التحليلية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وجد لها وحدة قيا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حدة منف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وحدة قياسها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979200"/>
            <a:ext cx="8777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ترجع نظرية المنفعة الكلية إلى بداية القرن التاسع عشر الميلادي، ومن أهم الافتراضات التي تقوم عليها هذه النظرية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قابلية المنفعة للقياس الكمي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شد الاقتصادي للمستهلك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بات المنفعة الحدية للنقود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ناقص المنفعة الحدية للسلع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400040"/>
            <a:ext cx="79250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دالة المنفعة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عبارة عن علاقة رياضية بين متغير تابع هو المنفعة الكلية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دد من المتغيرات المستقلة، أهمها كميات السلع المختلفة التي يقوم الشخص باستهلاكها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ctr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U = f (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1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3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……..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Other Thing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r" rt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يث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, …..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عبارة عن عدد وكميات السلع المختلفة التي يختارها المستهلك.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68400"/>
            <a:ext cx="792504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2440" y="840960"/>
            <a:ext cx="846144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منفعة الكلي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Total Utility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) </a:t>
            </a:r>
            <a:r>
              <a:rPr b="1" lang="ar-SA" sz="3200" spc="-1" strike="noStrike">
                <a:solidFill>
                  <a:srgbClr val="ff6600"/>
                </a:solidFill>
                <a:latin typeface="Arial Narrow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جمالي الإشباع أو الرضى الذي يحصل عليه المستهلك من استهلاك السلع والخدمات المختلف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منفعة الحدي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Marginal Utility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) </a:t>
            </a:r>
            <a:r>
              <a:rPr b="1" lang="ar-SA" sz="3200" spc="-1" strike="noStrike">
                <a:solidFill>
                  <a:srgbClr val="ff6600"/>
                </a:solidFill>
                <a:latin typeface="Arial Narrow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إشباع الإضافي الذي يحصل عليه المستهلك عند زيادة استهلاكه من السلعة بوحدة واحد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 التغير في المنفعة الكلية الناتج عن تغير الاستهلاك بوحدة واحد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90160" y="1199880"/>
            <a:ext cx="85676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سلوك المنفعة الكلية والمنفعة الحدية بافتراض أن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السلعة مجان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0520" y="2073240"/>
          <a:ext cx="8567640" cy="3854520"/>
        </p:xfrm>
        <a:graphic>
          <a:graphicData uri="http://schemas.openxmlformats.org/drawingml/2006/table">
            <a:tbl>
              <a:tblPr/>
              <a:tblGrid>
                <a:gridCol w="2855880"/>
                <a:gridCol w="2622600"/>
                <a:gridCol w="308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منفعة الحد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MU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منفعة الكل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وحدات المستهلكة من البرتقا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500120" y="28717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1494000" y="330984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494000" y="37432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1494000" y="41878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498680" y="460368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1487520" y="50371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1368360" y="547056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قانون تناقص المنفعة الحدية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لما زادت الكميات المستهلكة من سلعة معينة قلّت منفعة الوحدة الإضافية من السلعة، أي أن المنفعة الحدية تتناقص مع زيادة الوحدات المستهلكة منها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480" y="1131840"/>
            <a:ext cx="79250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توازن المستهلك وتعظيم المنفعة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يقصد بتعظيم المنفعة، عملية الحصول على أقصى مستوى من الإشباع أو الرضى عند القيام باستهلاك السلع والخدمات المختلفة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c9e1f"/>
                </a:solidFill>
                <a:latin typeface="Arial"/>
              </a:rPr>
              <a:t>الآن وعلى افتراض أن </a:t>
            </a:r>
            <a:r>
              <a:rPr b="1" lang="ar-SA" sz="3200" spc="-1" strike="noStrike" u="sng">
                <a:solidFill>
                  <a:srgbClr val="dc9e1f"/>
                </a:solidFill>
                <a:uFillTx/>
                <a:latin typeface="Arial"/>
              </a:rPr>
              <a:t>السلعة غير مجانية</a:t>
            </a:r>
            <a:r>
              <a:rPr b="1" lang="ar-SA" sz="3200" spc="-1" strike="noStrike">
                <a:solidFill>
                  <a:srgbClr val="dc9e1f"/>
                </a:solidFill>
                <a:latin typeface="Arial"/>
              </a:rPr>
              <a:t> فإن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ل مستهلك يواجه قيوداً معينة لا بد من أن يأخذها بعين الاعتبار عند السعي لتعظيم المنفعة، من أهم هذه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يود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c577"/>
                </a:solidFill>
                <a:latin typeface="Arial Narrow"/>
                <a:ea typeface="Arial"/>
              </a:rPr>
              <a:t>1</a:t>
            </a:r>
            <a:r>
              <a:rPr b="1" lang="ar-SA" sz="3200" spc="-1" strike="noStrike">
                <a:solidFill>
                  <a:srgbClr val="ecc577"/>
                </a:solidFill>
                <a:latin typeface="Arial Narrow"/>
                <a:ea typeface="Arial"/>
              </a:rPr>
              <a:t>-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</a:rPr>
              <a:t>قيد الدخل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.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2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-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</a:rPr>
              <a:t>قيد أسعار السلع والخدمات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7-16T23:38:14Z</dcterms:modified>
  <cp:revision>148</cp:revision>
  <dc:subject/>
  <dc:title>الفصل الثاني</dc:title>
</cp:coreProperties>
</file>