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4960-27A8-4DF5-BEFF-D913BF6C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CB7-899A-45BC-9D39-AE6DD3E3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154-CBA3-4698-BE9A-54F47AA3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8A4B-BC52-4318-B46D-F639056D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7FDA-6557-4FFA-AF62-92108B0C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708D-4995-4AF6-86B8-57FAEA8D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2615-DC8E-4DD7-9790-406C647A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A54F-4EFD-469F-9BCD-7ED8F13B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38BA-F500-4D88-8846-6B5EF334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68DC-E45F-424D-8EEB-D21FC77F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BAE5-E2FA-498A-8D97-2B4B4C89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E950-9795-4480-A0DB-21925CAA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7B80-8B6A-4D56-9CC9-C045DFFD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DF7F-A646-4F7D-892E-95994F98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3556-AEA6-4FF2-A9C8-FA4C636B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A4F9-5057-4ADD-8C5C-B522922A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D60C-E8BC-47E4-9428-13708E76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DB4C1-3A03-4B58-95B1-E395423A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A75F5-9FF3-4511-8532-F9DEB4E2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8AC48-A118-4C81-AE88-43F44623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ACC75-556A-455B-89B6-2996EF95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37F6B-34CA-435A-A103-183E88F6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8708-EE54-4573-9329-78709BC8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4E508-34F6-4C65-A62F-5C508F29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32179-1439-41D2-9E08-2E67FFA6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EFDC2-7BC3-45FB-99DE-189C1348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7125A-D10A-48D3-B84B-27E54297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482E2-9ADD-48C7-9D2A-E4FAC397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36AFB-EF41-46F1-A233-F247C6BD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FEF1C-A394-4261-8F40-CD24A968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60E3B-DB16-4426-805D-8F8A0F1C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63BAB-8BA1-46DF-9A97-BEAB3EF5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019B8-63F7-482E-9295-74A9828A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3EAF-EFB9-4492-84BF-79F632C6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0D080-37E0-410C-81B7-6792A3BB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75386-6C89-4E94-B1C0-535FCC18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13EEE-28BF-4CD4-BE94-C3DB832F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60A63-D0FE-42F5-9E4F-CB339FD4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9ABD8-4BBB-4447-8A63-9DC32C65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73855-9485-4B30-B620-039751CE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BB77E-1DD5-42DB-8A40-ABED52BF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38BCF-AC1B-4CED-B974-78F72EAC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29415-B55E-4CF7-BE10-BE6781F0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DE2-6BBE-4972-9785-A3253E30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8C97-AB81-4D6F-A72C-B4F13D6E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90DE-D895-4E00-9C22-873DC8CD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A957-5965-487F-AC2B-BAA0EC9E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EFE5-8A5E-4B7D-B607-24F42D87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CAE8-E77B-4A9B-8E70-0DE781552DA9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A306-CD3F-4E93-94E7-19CF69A784E9}" type="slidenum">
              <a:rPr b="0" lang="ar-SA" sz="11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0817-2312-4DCA-863E-DE837FA1B5D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B5FE-6DE2-4F8B-A891-9162F8C95FE7}" type="slidenum">
              <a:rPr b="0" lang="ar-SA" sz="11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D7E4-4CCD-4736-B510-3537DB187FBC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7E0C-BDD6-46C0-B8C0-A1289FAA0533}" type="slidenum">
              <a:rPr b="0" lang="ar-SA" sz="11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A50C-3FF9-44FA-B6D4-634A42989777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C61C-BA08-4CE1-BDD1-340F9896C3B4}" type="slidenum">
              <a:rPr b="0" lang="ar-SA" sz="11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85800" y="3851280"/>
            <a:ext cx="7810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dc9e1f"/>
                </a:solidFill>
                <a:latin typeface="Arial"/>
              </a:rPr>
              <a:t>المرونات السعرية</a:t>
            </a:r>
            <a:endParaRPr b="0" lang="en-US" sz="8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فصل الثامن</a:t>
            </a:r>
            <a:endParaRPr b="0" lang="en-US" sz="7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31480"/>
            <a:ext cx="7925040" cy="59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رونات السعرية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480" y="1153800"/>
            <a:ext cx="792504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</a:rPr>
              <a:t>المرونة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يقصد بالمرونة بصفة عامة، درجة أو مدى الاستجابة.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277560" indent="-277560" algn="just" rtl="1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77560" indent="-27756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وتستخدم كمقياس للتغير النسبي في المتغير التابع الذي يحدث نتيجةً للتغير النسبي في المتغير المستقل.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277560" indent="-277560" algn="just" rtl="1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77560" indent="-27756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يتم قياسها باستخدام ما يعرف بمعامل المرونة </a:t>
            </a: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ε</a:t>
            </a:r>
            <a:r>
              <a:rPr b="1" lang="de-DE" sz="30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277560" indent="-277560" algn="just" rtl="1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77560" indent="-27756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كلما كانت قيمة المعامل </a:t>
            </a: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ε</a:t>
            </a:r>
            <a:r>
              <a:rPr b="1" lang="de-DE" sz="30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مرتفعة، كانت درجة استجابة </a:t>
            </a: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للتغيرات في </a:t>
            </a: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مرتفعة، والعكس صحيح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81160"/>
            <a:ext cx="79250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رونات السعرية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09480" y="1039680"/>
            <a:ext cx="79250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</a:rPr>
              <a:t>مرونة الطلب السعرية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هي مقياس لدرجة استجابة الكمية المطلوبة من سلعة للتغيرات في سعرها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Picture 3" descr="Screen shot 2014-02-01 at 7.24.57 PM.png"/>
          <p:cNvPicPr/>
          <p:nvPr/>
        </p:nvPicPr>
        <p:blipFill>
          <a:blip r:embed="rId1"/>
          <a:stretch/>
        </p:blipFill>
        <p:spPr>
          <a:xfrm>
            <a:off x="3116160" y="2249640"/>
            <a:ext cx="2721240" cy="1077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creen shot 2014-02-01 at 7.27.49 PM.png"/>
          <p:cNvPicPr/>
          <p:nvPr/>
        </p:nvPicPr>
        <p:blipFill>
          <a:blip r:embed="rId2"/>
          <a:stretch/>
        </p:blipFill>
        <p:spPr>
          <a:xfrm>
            <a:off x="1255680" y="3481560"/>
            <a:ext cx="6743880" cy="1231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Screen shot 2014-02-01 at 7.29.02 PM.png"/>
          <p:cNvPicPr/>
          <p:nvPr/>
        </p:nvPicPr>
        <p:blipFill>
          <a:blip r:embed="rId3"/>
          <a:stretch/>
        </p:blipFill>
        <p:spPr>
          <a:xfrm>
            <a:off x="2335320" y="4903920"/>
            <a:ext cx="470844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504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رونات السعرية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152640" y="979200"/>
            <a:ext cx="9180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</a:rPr>
              <a:t>ملاحظات أساسية حول مرونة الطلب السعرية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عامل مرونة الطلب 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ε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دائماً بالسالب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عامل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Arial"/>
              </a:rPr>
              <a:t>ال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رونة عبارة عن رقم مجرد، أي ليس له وحدة قياس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يل منحنى الطلب لا يمكن أن يقيس المرونة.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-163800"/>
            <a:ext cx="792504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رونات السعرية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" name="Content Placeholder 2"/>
          <p:cNvSpPr/>
          <p:nvPr/>
        </p:nvSpPr>
        <p:spPr>
          <a:xfrm>
            <a:off x="136440" y="301680"/>
            <a:ext cx="8891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  <a:cs typeface="Arial"/>
              </a:rPr>
              <a:t>الحالات المختلفة ل</a:t>
            </a: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</a:rPr>
              <a:t>مرونة الطلب السعرية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1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. </a:t>
            </a: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  <a:cs typeface="Arial"/>
              </a:rPr>
              <a:t>طلب أحادي المرونة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: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Arial"/>
              </a:rPr>
              <a:t>التغير النسبي (%) في الكمية المطلوبة يساوي التغير النسبي في السعر.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 أي أن: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4e6ff"/>
                </a:solidFill>
                <a:latin typeface="Times New Roman"/>
                <a:ea typeface="Times New Roman"/>
              </a:rPr>
              <a:t>ε</a:t>
            </a:r>
            <a:r>
              <a:rPr b="1" lang="en-US" sz="3000" spc="-1" strike="noStrike" baseline="-25000">
                <a:solidFill>
                  <a:srgbClr val="04e6ff"/>
                </a:solidFill>
                <a:latin typeface="Times New Roman"/>
                <a:ea typeface="Times New Roman"/>
              </a:rPr>
              <a:t>P</a:t>
            </a:r>
            <a:r>
              <a:rPr b="1" lang="en-US" sz="3000" spc="-1" strike="noStrike">
                <a:solidFill>
                  <a:srgbClr val="04e6ff"/>
                </a:solidFill>
                <a:latin typeface="Times New Roman"/>
                <a:ea typeface="Times New Roman"/>
              </a:rPr>
              <a:t> = -1</a:t>
            </a:r>
            <a:r>
              <a:rPr b="1" lang="en-US" sz="3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2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. </a:t>
            </a: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  <a:cs typeface="Arial"/>
              </a:rPr>
              <a:t>طلب مرن نسبياً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: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Arial"/>
              </a:rPr>
              <a:t>التغير النسبي (%) في الكمية المطلوبة أكبر من التغير النسبي في السعر.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 أي أن: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e6ff"/>
                </a:solidFill>
                <a:latin typeface="Arial"/>
                <a:ea typeface="Arial"/>
              </a:rPr>
              <a:t>- </a:t>
            </a:r>
            <a:r>
              <a:rPr b="1" lang="en-US" sz="3000" spc="-1" strike="noStrike">
                <a:solidFill>
                  <a:srgbClr val="04e6ff"/>
                </a:solidFill>
                <a:latin typeface="Verdana"/>
                <a:ea typeface="Arial"/>
              </a:rPr>
              <a:t>∞ &lt; </a:t>
            </a:r>
            <a:r>
              <a:rPr b="1" lang="el-GR" sz="3000" spc="-1" strike="noStrike">
                <a:solidFill>
                  <a:srgbClr val="04e6ff"/>
                </a:solidFill>
                <a:latin typeface="Times New Roman"/>
                <a:ea typeface="Times New Roman"/>
              </a:rPr>
              <a:t>ε</a:t>
            </a:r>
            <a:r>
              <a:rPr b="1" lang="en-US" sz="3000" spc="-1" strike="noStrike" baseline="-25000">
                <a:solidFill>
                  <a:srgbClr val="04e6ff"/>
                </a:solidFill>
                <a:latin typeface="Times New Roman"/>
                <a:ea typeface="Times New Roman"/>
              </a:rPr>
              <a:t>P</a:t>
            </a:r>
            <a:r>
              <a:rPr b="1" lang="en-US" sz="3000" spc="-1" strike="noStrike">
                <a:solidFill>
                  <a:srgbClr val="04e6ff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4e6ff"/>
                </a:solidFill>
                <a:latin typeface="Verdana"/>
                <a:ea typeface="Arial"/>
              </a:rPr>
              <a:t>&lt;</a:t>
            </a:r>
            <a:r>
              <a:rPr b="1" lang="en-US" sz="3000" spc="-1" strike="noStrike">
                <a:solidFill>
                  <a:srgbClr val="04e6ff"/>
                </a:solidFill>
                <a:latin typeface="Times New Roman"/>
                <a:ea typeface="Times New Roman"/>
              </a:rPr>
              <a:t> -1</a:t>
            </a:r>
            <a:r>
              <a:rPr b="1" lang="en-US" sz="3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3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. </a:t>
            </a: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  <a:cs typeface="Arial"/>
              </a:rPr>
              <a:t>طلب غير مرن نسبياً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: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Arial"/>
              </a:rPr>
              <a:t>التغير النسبي (%) في الكمية المطلوبة أقل من  التغير النسبي في السعر.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 أي أن: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e6ff"/>
                </a:solidFill>
                <a:latin typeface="Arial"/>
                <a:ea typeface="Arial"/>
              </a:rPr>
              <a:t>-1 </a:t>
            </a:r>
            <a:r>
              <a:rPr b="1" lang="en-US" sz="3000" spc="-1" strike="noStrike">
                <a:solidFill>
                  <a:srgbClr val="04e6ff"/>
                </a:solidFill>
                <a:latin typeface="Verdana"/>
                <a:ea typeface="Arial"/>
              </a:rPr>
              <a:t>&lt;</a:t>
            </a:r>
            <a:r>
              <a:rPr b="1" lang="en-US" sz="3000" spc="-1" strike="noStrike">
                <a:solidFill>
                  <a:srgbClr val="04e6ff"/>
                </a:solidFill>
                <a:latin typeface="Arial"/>
                <a:ea typeface="Arial"/>
              </a:rPr>
              <a:t> </a:t>
            </a:r>
            <a:r>
              <a:rPr b="1" lang="el-GR" sz="3000" spc="-1" strike="noStrike">
                <a:solidFill>
                  <a:srgbClr val="04e6ff"/>
                </a:solidFill>
                <a:latin typeface="Times New Roman"/>
                <a:ea typeface="Times New Roman"/>
              </a:rPr>
              <a:t>ε</a:t>
            </a:r>
            <a:r>
              <a:rPr b="1" lang="en-US" sz="3000" spc="-1" strike="noStrike" baseline="-25000">
                <a:solidFill>
                  <a:srgbClr val="04e6ff"/>
                </a:solidFill>
                <a:latin typeface="Times New Roman"/>
                <a:ea typeface="Times New Roman"/>
              </a:rPr>
              <a:t>P</a:t>
            </a:r>
            <a:r>
              <a:rPr b="1" lang="en-US" sz="3000" spc="-1" strike="noStrike">
                <a:solidFill>
                  <a:srgbClr val="04e6ff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4e6ff"/>
                </a:solidFill>
                <a:latin typeface="Verdana"/>
                <a:ea typeface="Arial"/>
              </a:rPr>
              <a:t>&lt;</a:t>
            </a:r>
            <a:r>
              <a:rPr b="1" lang="en-US" sz="3000" spc="-1" strike="noStrike">
                <a:solidFill>
                  <a:srgbClr val="04e6ff"/>
                </a:solidFill>
                <a:latin typeface="Times New Roman"/>
                <a:ea typeface="Times New Roman"/>
              </a:rPr>
              <a:t> 0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91880"/>
            <a:ext cx="792504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رونات السعرية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Content Placeholder 2"/>
          <p:cNvSpPr/>
          <p:nvPr/>
        </p:nvSpPr>
        <p:spPr>
          <a:xfrm>
            <a:off x="136440" y="979560"/>
            <a:ext cx="8891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  <a:cs typeface="Arial"/>
              </a:rPr>
              <a:t>الحالات المختلفة ل</a:t>
            </a: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</a:rPr>
              <a:t>مرونة الطلب السعرية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4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. </a:t>
            </a: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  <a:cs typeface="Arial"/>
              </a:rPr>
              <a:t>طلب تام المرونة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: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Arial"/>
              </a:rPr>
              <a:t>الكمية لا نهائية عند سعر معين، أي تتغير الكمية المطلوبة بأي نسبة بينما السعر ثابت. 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cs typeface="Arial"/>
              </a:rPr>
              <a:t>أي أن: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4e6ff"/>
                </a:solidFill>
                <a:latin typeface="Times New Roman"/>
                <a:ea typeface="Times New Roman"/>
              </a:rPr>
              <a:t>ε</a:t>
            </a:r>
            <a:r>
              <a:rPr b="1" lang="en-US" sz="3000" spc="-1" strike="noStrike" baseline="-25000">
                <a:solidFill>
                  <a:srgbClr val="04e6ff"/>
                </a:solidFill>
                <a:latin typeface="Times New Roman"/>
                <a:ea typeface="Times New Roman"/>
              </a:rPr>
              <a:t>P</a:t>
            </a:r>
            <a:r>
              <a:rPr b="1" lang="en-US" sz="3000" spc="-1" strike="noStrike">
                <a:solidFill>
                  <a:srgbClr val="04e6ff"/>
                </a:solidFill>
                <a:latin typeface="Times New Roman"/>
                <a:ea typeface="Times New Roman"/>
              </a:rPr>
              <a:t> = - </a:t>
            </a:r>
            <a:r>
              <a:rPr b="1" lang="en-US" sz="3000" spc="-1" strike="noStrike">
                <a:solidFill>
                  <a:srgbClr val="04e6ff"/>
                </a:solidFill>
                <a:latin typeface="Verdana"/>
                <a:ea typeface="Times New Roman"/>
              </a:rPr>
              <a:t>∞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5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. </a:t>
            </a: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  <a:cs typeface="Arial"/>
              </a:rPr>
              <a:t>طلب عديم المرونة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: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Arial"/>
              </a:rPr>
              <a:t>الكمية المطلوبة ثابتة ومحددة بصرف النظر عن السعر الذي يمكن أن يتغير بأي نسبة. 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cs typeface="Arial"/>
              </a:rPr>
              <a:t>أي أن: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4e6ff"/>
                </a:solidFill>
                <a:latin typeface="Times New Roman"/>
                <a:ea typeface="Times New Roman"/>
              </a:rPr>
              <a:t>ε</a:t>
            </a:r>
            <a:r>
              <a:rPr b="1" lang="en-US" sz="3000" spc="-1" strike="noStrike" baseline="-25000">
                <a:solidFill>
                  <a:srgbClr val="04e6ff"/>
                </a:solidFill>
                <a:latin typeface="Times New Roman"/>
                <a:ea typeface="Times New Roman"/>
              </a:rPr>
              <a:t>P</a:t>
            </a:r>
            <a:r>
              <a:rPr b="1" lang="en-US" sz="3000" spc="-1" strike="noStrike">
                <a:solidFill>
                  <a:srgbClr val="04e6ff"/>
                </a:solidFill>
                <a:latin typeface="Times New Roman"/>
                <a:ea typeface="Times New Roman"/>
              </a:rPr>
              <a:t> = 0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8320" y="-86040"/>
            <a:ext cx="792504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رونات السعرية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Content Placeholder 2"/>
          <p:cNvSpPr/>
          <p:nvPr/>
        </p:nvSpPr>
        <p:spPr>
          <a:xfrm>
            <a:off x="0" y="612720"/>
            <a:ext cx="9144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  <a:cs typeface="Arial"/>
              </a:rPr>
              <a:t>العوامل المؤثرة على مرونة الطلب السعرية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:</a:t>
            </a: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ar-SA" sz="3000" spc="-1" strike="noStrike">
                <a:solidFill>
                  <a:srgbClr val="04e6ff"/>
                </a:solidFill>
                <a:latin typeface="Arial"/>
                <a:cs typeface="Arial"/>
              </a:rPr>
              <a:t>هناك العديد من العوامل التي تؤثر على مرونة الطلب السعرية من أهمها: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c9e1f"/>
                </a:solidFill>
                <a:latin typeface="Arial"/>
                <a:cs typeface="Arial"/>
              </a:rPr>
              <a:t>أ.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 أهمية السلعة أو الخدمة بالنسبة للمستهلك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c9e1f"/>
                </a:solidFill>
                <a:latin typeface="Arial"/>
                <a:cs typeface="Arial"/>
              </a:rPr>
              <a:t>ب.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 مدى توفر بدائل للسلعة أو الخدمة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c9e1f"/>
                </a:solidFill>
                <a:latin typeface="Arial"/>
                <a:cs typeface="Arial"/>
              </a:rPr>
              <a:t>ج.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 نسبة سعر السلعة إلى دخل المستهلك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c9e1f"/>
                </a:solidFill>
                <a:latin typeface="Arial"/>
                <a:cs typeface="Arial"/>
              </a:rPr>
              <a:t>د.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 ديمومة السلعة.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3000" spc="-1" strike="noStrike">
                <a:solidFill>
                  <a:srgbClr val="dc9e1f"/>
                </a:solidFill>
                <a:latin typeface="Arial"/>
                <a:cs typeface="Arial"/>
              </a:rPr>
              <a:t>هـ.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 العادات والتقاليد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c9e1f"/>
                </a:solidFill>
                <a:latin typeface="Arial"/>
                <a:cs typeface="Arial"/>
              </a:rPr>
              <a:t>و.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 طول الفترة الزمنية أو قصرها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c9e1f"/>
                </a:solidFill>
                <a:latin typeface="Arial"/>
                <a:cs typeface="Arial"/>
              </a:rPr>
              <a:t>ز.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 موقع سعر السلعة من منحنى الطلب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833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شكراً لحضوركن</a:t>
            </a:r>
            <a:endParaRPr b="0" lang="en-US" sz="7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200" spc="-1" strike="noStrike">
                <a:solidFill>
                  <a:srgbClr val="ffffff"/>
                </a:solidFill>
                <a:latin typeface="Arial"/>
              </a:rPr>
              <a:t>وشكراً لحسن استماعكن</a:t>
            </a:r>
            <a:endParaRPr b="0" lang="en-US" sz="6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21:33:51Z</dcterms:created>
  <dc:creator>Home</dc:creator>
  <dc:description/>
  <dc:language>en-US</dc:language>
  <cp:lastModifiedBy>Home</cp:lastModifiedBy>
  <dcterms:modified xsi:type="dcterms:W3CDTF">2014-02-01T16:30:24Z</dcterms:modified>
  <cp:revision>123</cp:revision>
  <dc:subject/>
  <dc:title>الفصل الثاني</dc:title>
</cp:coreProperties>
</file>