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252-28E9-4C53-B642-1ABFD90F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50D-0E58-4FC1-98B8-588D6657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D43-FDA0-4EEA-9DC2-118D7DAC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E42-C365-4A27-A772-4B5384F2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9FDB-CBFC-434B-A437-F2EAFCA1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12A1-CEA0-48EE-B5B5-05A23AEA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9F-E45C-4458-A9DB-B6B3628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F60-BA4B-413E-BE25-6AF95889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80D-2F6C-49FD-8EB1-36BE5B7D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CAD-2504-42B5-B4E3-5CD22FC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8BC-B3FB-4A8D-832B-F86362C5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5F99-FBF7-4107-88D7-D65C6B3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1DBB-DB74-4B1D-AC31-A73688FF7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76680" y="609120"/>
            <a:ext cx="94489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660033"/>
                </a:solidFill>
                <a:latin typeface="Calibri"/>
                <a:cs typeface="Arial"/>
              </a:rPr>
              <a:t>الفصل السادس عشر</a:t>
            </a:r>
            <a:br>
              <a:rPr sz="6600"/>
            </a:br>
            <a:br>
              <a:rPr sz="6600"/>
            </a:br>
            <a:r>
              <a:rPr b="1" lang="ar-SA" sz="4400" spc="-1" strike="noStrike">
                <a:solidFill>
                  <a:srgbClr val="660033"/>
                </a:solidFill>
                <a:latin typeface="Calibri"/>
                <a:ea typeface="Arial"/>
              </a:rPr>
              <a:t> </a:t>
            </a:r>
            <a:r>
              <a:rPr b="1" lang="ar-SA" sz="54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2080" y="-27000"/>
            <a:ext cx="680688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71440" y="692280"/>
            <a:ext cx="8605800" cy="76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نظرية المنشأة من أهم المواضيع في النظرية الاقتصا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لماذا؟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لأنها تهتم بمعرفة سلوك وتفسير قرارات المنشات المختلفة وخاصة فيما يتعلق بمستوى الأسعار وحجم الإنتاج في مختلف أشكال السوق وأحياناً يطلق عليها </a:t>
            </a:r>
            <a:r>
              <a:rPr b="1" lang="ar-SA" sz="2800" spc="-1" strike="noStrike">
                <a:solidFill>
                  <a:srgbClr val="009900"/>
                </a:solidFill>
                <a:latin typeface="Arial"/>
                <a:cs typeface="Arial"/>
              </a:rPr>
              <a:t>نظرية الأسعار</a:t>
            </a:r>
            <a:r>
              <a:rPr b="1" lang="ar-SA" sz="3600" spc="-1" strike="noStrike">
                <a:solidFill>
                  <a:srgbClr val="c0504d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أشكال السو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يتم تقسيم الأسواق بناءً على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عدد البائعين في السو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درجة تجانس السوق أي مدى تماثلها عند البائعين في نظر 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منافسة الكامل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erfect Competition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حيث يوجد عدد كبير من البائعين وكذلك المشترين بحيث لا يستطيع أي منهم أن يؤثر على سعر السلعة أو الخدمة التي تتميز بكونها متجان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re 1"/>
          <p:cNvSpPr/>
          <p:nvPr/>
        </p:nvSpPr>
        <p:spPr>
          <a:xfrm>
            <a:off x="6660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33280" y="1090440"/>
            <a:ext cx="860580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خصائص المنافسة الكامل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c0504d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عدد كبير من البائعين و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وفر المعلومات الكاملة للبائعين والمشت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متع السوق بالحرية التامة من حيث الدخول والخروج - عدم وجود قي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4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تجانس السلعة المباعة (متماثلة عند البائعين وفي نظر المشتر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تسمى المنشأة هنا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Price Taker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(المتلقية للسعر) أي أنها تستطيع اختيار الكميات التي ترغب في بيعها ولكن لا تستطيع التحكم بالسع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احتكار التام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Pure Monopoly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سوق الذي يكون فيه منتج واحد فقط للسلعة، المنتج يتحكم في السعر لأنه الوحيد ولا يوجد بدائل للسلعة فالمحتكر يسمى بصانع السعر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price Maker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(الكهرباء، الماء، الهاتف، الغا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re 1"/>
          <p:cNvSpPr/>
          <p:nvPr/>
        </p:nvSpPr>
        <p:spPr>
          <a:xfrm>
            <a:off x="10944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95280" y="692280"/>
            <a:ext cx="86058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حتكار القل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Oligopoly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يكون فيه عدد قليل من المنتجين أو البائعين الذين يقومون بإنتاج سلعة معينة قد تكون السلعة متجانسة أو سلعة غير متجانس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4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المنافسة الاحتكارية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Arial"/>
              </a:rPr>
              <a:t>Monopolistic competition</a:t>
            </a:r>
            <a:r>
              <a:rPr b="1" lang="ar-SA" sz="2400" spc="-1" strike="noStrike">
                <a:solidFill>
                  <a:srgbClr val="cc0000"/>
                </a:solidFill>
                <a:latin typeface="Arial"/>
                <a:ea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	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وضع في السوق الذي يكون فيه عدد كبير من المنشآت التي تبيع سلع غير متجانسة تماماً (زيادة المبيعات أو تخفيضها عن طريق الأسعار التي يقررها المنتج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47920" y="4206960"/>
          <a:ext cx="6589440" cy="2193840"/>
        </p:xfrm>
        <a:graphic>
          <a:graphicData uri="http://schemas.openxmlformats.org/drawingml/2006/table">
            <a:tbl>
              <a:tblPr/>
              <a:tblGrid>
                <a:gridCol w="2197080"/>
                <a:gridCol w="2197080"/>
                <a:gridCol w="219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تجانس السل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عدد البائعي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شكل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السو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نافسة الكامل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غير 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كب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منافسة الاحتكار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ل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حتكار القلة المتجا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غير متجانس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قلي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حتكار القلة غير المتجان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لا يه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واحد فق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احتكار الت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114768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0" y="692280"/>
            <a:ext cx="9001080" cy="68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محددات الرئيسية للأربا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تعريف الأرباح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الفرق بين الإيراد الكلي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و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C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التكاليف الك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Arial"/>
                <a:ea typeface="Arial"/>
              </a:rPr>
              <a:t>╥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– 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1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محاسبي = الإيراد الكلي – التكاليف الصريح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2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اقتصادي = الإيراد الكلي – (التكاليف الصريحة + التكاليف الضمن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3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) الربح العادي = الربح الاقتصادي – الربح المحاس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دالة الأرباح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هدف تعظيم الأرباح/ الحصول على أقصى قدر من الأربا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╥ (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Q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)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(Q) – TC (Q)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ويتم وضع جميع مكونات معادلة الأرباح في الإنتاج، لأن كلاً منهما يعتمد على حجم الإنتا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7320" y="1066680"/>
            <a:ext cx="860580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Arial"/>
                <a:cs typeface="Arial"/>
              </a:rPr>
              <a:t>الإيراد الكلي وإيراد الوحد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كلي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Total Revenue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إجمالي المبالغ التي يحصل عليها المنشأة عند بيعها للسلعة التي تقوم بإنتاجها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TR = P *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حدي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Marginal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التغير في الإيراد الكلي الناتج عن تغير الإنتاج أو المبيعات بوحد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       ميل منحنى الإيراد الكلي =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MR = ∆TR / ∆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1500"/>
              </a:spcBef>
              <a:buClr>
                <a:srgbClr val="0099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9900"/>
                </a:solidFill>
                <a:latin typeface="Arial"/>
                <a:cs typeface="Arial"/>
              </a:rPr>
              <a:t>الإيراد المتوسط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Averag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009900"/>
                </a:solidFill>
                <a:latin typeface="Arial"/>
                <a:ea typeface="Arial"/>
              </a:rPr>
              <a:t>/</a:t>
            </a:r>
            <a:r>
              <a:rPr b="1" lang="ar-SA" sz="2400" spc="-1" strike="noStrike">
                <a:solidFill>
                  <a:srgbClr val="c0504d"/>
                </a:solidFill>
                <a:latin typeface="Arial"/>
                <a:ea typeface="Arial"/>
              </a:rPr>
              <a:t> إيراد الوحدة الواحد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AR = TR /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504d"/>
                </a:solidFill>
                <a:latin typeface="Arial"/>
                <a:cs typeface="Arial"/>
              </a:rPr>
              <a:t>في سوق المنافسة الكام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Arial"/>
              </a:rPr>
              <a:t>AR = MR =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09680" y="2286000"/>
            <a:ext cx="6629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Blackadder ITC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Blackadder ITC"/>
              </a:rPr>
              <a:t>The End </a:t>
            </a:r>
            <a:r>
              <a:rPr b="0" lang="ar-SA" sz="9600" spc="-1" strike="noStrike">
                <a:solidFill>
                  <a:srgbClr val="000000"/>
                </a:solidFill>
                <a:latin typeface="Blackadder ITC"/>
                <a:ea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495360" y="-27000"/>
            <a:ext cx="68072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Calibri"/>
                <a:cs typeface="Arial"/>
              </a:rPr>
              <a:t>مفاهيم أساسيات نظرية عرض المنشأ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5:27:57Z</dcterms:created>
  <dc:creator>Mashael</dc:creator>
  <dc:description/>
  <dc:language>en-US</dc:language>
  <cp:lastModifiedBy>Mashael</cp:lastModifiedBy>
  <dcterms:modified xsi:type="dcterms:W3CDTF">2010-05-21T21:33:07Z</dcterms:modified>
  <cp:revision>206</cp:revision>
  <dc:subject/>
  <dc:title>الفصل الأول ~ مقدمة عامة ~ </dc:title>
</cp:coreProperties>
</file>