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9B9-672F-47AB-A541-F86A223C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2B3-4B45-4222-9D05-C0BEB88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FCD-7EDA-4E85-B48D-6BC8AAAB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98C-8C72-4840-B504-AED88A80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080-59BA-4931-A62B-890CF88A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ABA-8FF5-44FC-BCC7-2C703B8D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8E9-63F5-4CFA-995C-63C4195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56C-80C6-4ED3-A847-07ADD43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0F6-0151-43CC-A329-57B55C09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77A-7D2A-42FC-906C-91C4A39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C49-082B-4316-BC44-2A39BFF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EB5-8BE5-411E-89A9-36B2621F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F4C-E87D-47ED-97D0-CC4CDA407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680" y="609120"/>
            <a:ext cx="94489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660033"/>
                </a:solidFill>
                <a:latin typeface="Calibri"/>
                <a:cs typeface="Arial"/>
              </a:rPr>
              <a:t>الفصل السادس عشر</a:t>
            </a: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660033"/>
                </a:solidFill>
                <a:latin typeface="Calibri"/>
                <a:ea typeface="Arial"/>
              </a:rPr>
              <a:t> </a:t>
            </a:r>
            <a:r>
              <a:rPr b="1" lang="ar-SA" sz="54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2080" y="-27000"/>
            <a:ext cx="68068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71440" y="692280"/>
            <a:ext cx="8605800" cy="76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نظرية المنشأة من أهم المواضيع في النظرية الاقتصا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لماذا؟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لأنها تهتم بمعرفة سلوك وتفسير قرارات المنشات المختلفة وخاصة فيما يتعلق بمستوى الأسعار وحجم الإنتاج في مختلف أشكال السوق وأحياناً يطلق عليها </a:t>
            </a:r>
            <a:r>
              <a:rPr b="1" lang="ar-SA" sz="2800" spc="-1" strike="noStrike">
                <a:solidFill>
                  <a:srgbClr val="009900"/>
                </a:solidFill>
                <a:latin typeface="Arial"/>
                <a:cs typeface="Arial"/>
              </a:rPr>
              <a:t>نظرية الأسعار</a:t>
            </a:r>
            <a:r>
              <a:rPr b="1" lang="ar-SA" sz="3600" spc="-1" strike="noStrike">
                <a:solidFill>
                  <a:srgbClr val="c0504d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Arial"/>
              </a:rPr>
              <a:t>أشكال السو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يتم تقسيم الأسواق بناءً ع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1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عدد البائعين في الس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درجة تجانس السوق أي مدى تماثلها عند البائعين في نظر المشت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لمنافسة الكاملة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erfect Competition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وضع في السوق حيث يوجد عدد كبير من البائعين وكذلك المشترين بحيث لا يستطيع أي منهم أن يؤثر على سعر السلعة أو الخدمة التي تتميز بكونها متجان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6660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33280" y="1090440"/>
            <a:ext cx="86058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Arial"/>
              </a:rPr>
              <a:t>خصائص المنافسة الكامل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عدد كبير من البائعين والمشت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توفر المعلومات الكاملة للبائعين والمشت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تمتع السوق بالحرية التامة من حيث الدخول والخروج - عدم وجود قي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4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تجانس السلعة المباعة (متماثلة عند البائعين وفي نظر المشتر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تسمى المنشأة هنا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Price Taker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(المتلقية للسعر) أي أنها تستطيع اختيار الكميات التي ترغب في بيعها ولكن لا تستطيع التحكم بالسع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لاحتكار التام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ure Monopoly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سوق الذي يكون فيه منتج واحد فقط للسلعة، المنتج يتحكم في السعر لأنه الوحيد ولا يوجد بدائل للسلعة فالمحتكر يسمى بصانع السعر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price Maker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(الكهرباء، الماء، الهاتف، الغا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10944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692280"/>
            <a:ext cx="8605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حتكار القلة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ligopoly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وضع في السوق يكون فيه عدد قليل من المنتجين أو البائعين الذين يقومون بإنتاج سلعة معينة قد تكون السلعة متجانسة أو سلعة غير متجان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4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لمنافسة الاحتكارية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onopolistic competition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وضع في السوق الذي يكون فيه عدد كبير من المنشآت التي تبيع سلع غير متجانسة تماماً (زيادة المبيعات أو تخفيضها عن طريق الأسعار التي يقررها المنت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47920" y="4206960"/>
          <a:ext cx="6589440" cy="219384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جانس السل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بائع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شك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س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ب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نافسة الكام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غير 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ب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نافسة الاحتكا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ل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حتكار القلة المتجا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غير 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لي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حتكار القلة غير المتجا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ا يه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حد فق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حتكار الت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14768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692280"/>
            <a:ext cx="9001080" cy="68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محددات الرئيسية للأربا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تعريف الأرباح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الفرق بين الإيراد الكلي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و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C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تكاليف الك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  <a:ea typeface="Arial"/>
              </a:rPr>
              <a:t>╥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 –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1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الربح المحاسبي = الإيراد الكلي – التكاليف الصريح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الربح الاقتصادي = الإيراد الكلي – (التكاليف الصريحة + التكاليف الضمن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الربح العادي = الربح الاقتصادي – الربح المحاس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دالة الأرباح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هدف تعظيم الأرباح/ الحصول على أقصى قدر من الأربا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╥ (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Q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) =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 (Q) – TC (Q)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ويتم وضع جميع مكونات معادلة الأرباح في الإنتاج، لأن كلاً منهما يعتمد على حجم الإنتا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7320" y="1066680"/>
            <a:ext cx="86058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Arial"/>
              </a:rPr>
              <a:t>الإيراد الكلي وإيراد الوحد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إيراد الكلي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otal Revenue</a:t>
            </a:r>
            <a:r>
              <a:rPr b="1" lang="ar-SA" sz="2400" spc="-1" strike="noStrike">
                <a:solidFill>
                  <a:srgbClr val="009900"/>
                </a:solidFill>
                <a:latin typeface="Arial"/>
                <a:ea typeface="Arial"/>
              </a:rPr>
              <a:t>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إجمالي المبالغ التي يحصل عليها المنشأة عند بيعها للسلعة التي تقوم بإنتاجها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 = P *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إيراد الحدي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Marginal</a:t>
            </a:r>
            <a:r>
              <a:rPr b="1" lang="ar-SA" sz="2400" spc="-1" strike="noStrike">
                <a:solidFill>
                  <a:srgbClr val="009900"/>
                </a:solidFill>
                <a:latin typeface="Arial"/>
                <a:ea typeface="Arial"/>
              </a:rPr>
              <a:t>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التغير في الإيراد الكلي الناتج عن تغير الإنتاج أو المبيعات بوحد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      ميل منحنى الإيراد الكلي =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MR = ∆TR / ∆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إيراد المتوسط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Averag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09900"/>
                </a:solidFill>
                <a:latin typeface="Arial"/>
                <a:ea typeface="Arial"/>
              </a:rPr>
              <a:t>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إيراد الوحدة الوا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AR = TR /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في سوق المنافسة ال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AR = MR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28600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Blackadder ITC"/>
              </a:rPr>
              <a:t>The End </a:t>
            </a:r>
            <a:r>
              <a:rPr b="0" lang="ar-SA" sz="9600" spc="-1" strike="noStrike">
                <a:solidFill>
                  <a:srgbClr val="000000"/>
                </a:solidFill>
                <a:latin typeface="Blackadder ITC"/>
                <a:ea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49536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27:57Z</dcterms:created>
  <dc:creator>Mashael</dc:creator>
  <dc:description/>
  <dc:language>en-US</dc:language>
  <cp:lastModifiedBy>Mashael</cp:lastModifiedBy>
  <dcterms:modified xsi:type="dcterms:W3CDTF">2010-05-21T21:33:07Z</dcterms:modified>
  <cp:revision>206</cp:revision>
  <dc:subject/>
  <dc:title>الفصل الأول ~ مقدمة عامة ~ </dc:title>
</cp:coreProperties>
</file>