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5B584-F9EB-4B07-BF24-48DE9F428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77D4A-3264-4B73-9CD5-38A42D6098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8B529-4DFC-4063-841B-ABDDE140EC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7200F-C460-4CED-94FC-76BC45EAF0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1EC1E-F22A-4A37-B35D-E23BC3E036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1FD80-B1CB-4F6A-8CE4-4D522404F5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23ABA-64D5-42DE-8343-F039B52052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FD5EA-0761-488C-ABD5-EB7C77FC41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D6295-3504-4C82-B0F9-6E8CD8197D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BDA6E-62CC-460E-95F2-3EF16AA4B8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clid’s algorithm is good for introducing the notion of an algorithm becaus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a clear separation from a program that implements the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one that is familiar to most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Khowarizmi (many spellings possible...) – “algorism” (originally) and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“algorithm” come from his n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B18EE-C8D1-4EC8-BB02-B9DFA1CBB0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4996C-DCA2-4D53-B353-1F58719800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562-4D82-4A9D-BF86-B05C2DE7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D05-9078-4325-98FD-132CA7E1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014-6EE2-40DD-A0D0-1338D6E6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AA1-DB10-4AAC-91A0-8C8B267A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A3B3-71B0-4F31-8ED7-FBCAB6CE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5588-89F9-47EC-A39B-0C706BE0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1751-82AF-4920-AC04-13CB85C1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C3F6-4A4E-428B-9AF7-3DF4E6AE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A2C5-2D42-43CA-BDF4-0E57304B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1120-F42F-4D33-B15A-8748D8DE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B676-4BA1-46D3-AC8B-BABD9C63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A25-9139-4313-B6C8-E3E799ED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D2CD-6916-4EE4-9F46-433B2A7B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EF1A-1405-425A-9964-48AE41BE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7E23-BDC6-4DC4-A418-AB7F7FFE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B53B-924A-45A8-B12F-9E86FDDF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978F-D319-4952-91C6-FAA09EC5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062-4FCD-40B4-AE97-24A2C9E8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A67-125A-4941-84E9-2F8B2714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988-2CFD-4240-9FD8-29657CBF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165-A698-48DA-BDF5-CE347293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B39-57DD-405B-B1DD-F984D96E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AAF-E6D2-4BBD-83F7-1A846F84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28A-F70F-4628-A358-500A5B65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360" cy="726840"/>
            <a:chOff x="77400" y="6040440"/>
            <a:chExt cx="53136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720" y="5883480"/>
              <a:ext cx="216720" cy="5302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2920" y="6142320"/>
              <a:ext cx="218160" cy="5302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2920" y="6392880"/>
              <a:ext cx="218160" cy="5302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E844-1EBA-47CF-94C7-63EA48CFE91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4640" y="5756760"/>
              <a:ext cx="2379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rd ed., Ch. 1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6635-148F-4CEB-BA33-784DDA9456E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529C-CF03-4185-8047-CD51C05125F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is an algorithm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lgorithm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is a sequence of unambiguous instructions for solving a problem, i.e., for obtaining a required output for any legitimate input in a finite amount of time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286080" y="5334120"/>
            <a:ext cx="2743200" cy="76176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omputer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581360" y="365760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4581360" y="48769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971880" y="312408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966120" y="426708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914400" y="548640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010280" y="54864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057400" y="579132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6019920" y="57913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4B83-C85B-48E9-9341-BC1A167A00C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ther methods for gcd(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m,n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) [cont.]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Middle-school procedure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Find the prime factorization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Find the prime factorization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Find all the common prime facto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Compute the product of all the  common prime factor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and return it as gcd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(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this an algorith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82B1-6843-4CAE-8787-D973941B067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ieve of Eratosthen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nput: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≥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utput: List of primes less than or equal t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← 2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o 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] ←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← 2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0" lang="pt-BR" sz="2400" spc="-1" strike="noStrike">
                <a:solidFill>
                  <a:srgbClr val="ffff99"/>
                </a:solidFill>
                <a:latin typeface="Symbol"/>
                <a:ea typeface="Symbol"/>
              </a:rPr>
              <a:t>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o</a:t>
            </a:r>
            <a:r>
              <a:rPr b="1" lang="pt-BR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0  //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sn’t been previously eliminated from the list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← </a:t>
            </a:r>
            <a:r>
              <a:rPr b="0" i="1" lang="pt-BR" sz="28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i="1" lang="en-US" sz="2800" spc="-1" strike="noStrike" baseline="-2000">
                <a:solidFill>
                  <a:srgbClr val="ffff99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← 0 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//mark element as eliminated</a:t>
            </a:r>
            <a:r>
              <a:rPr b="1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←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ff99"/>
                </a:solidFill>
                <a:latin typeface="Times New Roman"/>
              </a:rPr>
              <a:t>+ p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2  3  4  5  6  7  8  9 10  11  12  13  14  15  16  17  18  19 2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lgorithm design and analysis process.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CC59-9DBB-4AE6-BBAA-B7C6405142D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843200" y="919080"/>
            <a:ext cx="51210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5C12-4F96-4662-9D5C-714A317D904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wo main issues related to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ow to design algorithm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ow to analyze algorithm efficienc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lgorithm  design techniques/strategi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lgorithm design technique (or “strategy” or “paradigm”) is a general approach to solving problems algorithmically that is applicable to a variety of problems from different areas of computing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8C00-169C-4E10-A8F7-2F61C006B2B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55E-EC17-49BF-97A2-285A99E1B60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lgorithm  design techniques/strategi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rute for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vide and conqu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rease and conqu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nsform and conque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ace and time tradeoff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724280" y="1676520"/>
            <a:ext cx="4419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eedy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ynamic programm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erative improvemen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cktracking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ranch and b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lgorithm  design techniques/strategi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ute forc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 straightforward approach to solving a problem, usually directly based on the problem statement and definitions of the concepts involved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crease-and-conqu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echnique is based on reducing the size of the input instanc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ide-and-Conqu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problem is divided into several subproblems of the same type, ideally of about equal size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subproblems are solved  separately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solutions to the subproblems are combined to get a solution to the original problem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7E51-C9EA-447C-B521-27ADACAA521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lgorithm  design techniques/strategi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nsform-and-Conqu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 Firstly, the problem instance is modified to be more Appropriate to solution. Then, in the second or conquering stage, it is solved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ynamic programming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 technique for solving problems with overlapping subproblem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reedy approach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ggests constructing a solution through a sequence of steps until a complete solution to the problem is reached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erative improvement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rts with some feasible solution and proceeds to improve it by repeated applications of some simple step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AA6F-8993-422A-949C-4A9E6E6BEF8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89F6-3B1D-4E0F-9B91-5EAC411CD42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 good is the algorith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me 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ace 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es there exist a better algorith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wer boun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tima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3360" y="13788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roperties as important as performance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dular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intainabi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unctiona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bustness and Reliabi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er-friendline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BB9F-F2E6-4ED2-AA26-BE1C41A69A9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is an algorithm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s any well-defined computational procedure that takes some value, or set of values, as input and produces some value, or set of values, as output.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s thus a sequence of computational steps that transform the input into the output.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s a tool for solving a well - specified computational problem.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99"/>
                </a:solidFill>
                <a:latin typeface="Times New Roman"/>
              </a:rPr>
              <a:t>Any special method of solving a certain kind of problem (Webster Dictionary)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8726-D277-4D3E-A6DA-D35286BE729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914D-9F1C-4A65-9A29-A9641E1DAB3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mportant problem typ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rt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arrange the items of a given list in non-decreasing order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arc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als with f inding a given value, called a search key, in a given set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 process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Eg, string match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raph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raph-traversal algorithm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hortest-path algorithms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mportant problem typ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binatorial problem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a combinatorial object—such as a permutation, a combination, or a subset—that satisfies certain constraints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ometric problem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deal with geometric objects such as points, lines, and polygons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erical problem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involve mathematical objects of continuous nature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lving equations and systems of equations,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puting definite integrals,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valuating functions, and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.. so on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D5A9-36EE-4B22-9058-830D969A41A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DEC6-B2B5-4FB8-9F9E-266ADA71740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81518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ndamental data structur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32763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ist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rra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inked list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952880" y="1219320"/>
            <a:ext cx="4191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1268280" y="3962520"/>
            <a:ext cx="7369200" cy="1104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328680" y="5016600"/>
            <a:ext cx="92487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ndamental data structur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09120" y="1266840"/>
            <a:ext cx="40770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ority 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838760" y="1266840"/>
            <a:ext cx="407664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DEE4-5720-4EC5-BC92-AA58A0D8AA4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ndamental data structur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266480"/>
            <a:ext cx="834408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rap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jacency matrix                                         Adjacency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98" name="Content Placeholder 5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4076640" cy="110808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8BD1-7B36-4BDD-B04F-7667B35D283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404640" y="3206880"/>
            <a:ext cx="87393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ndamental data structur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120" y="1266840"/>
            <a:ext cx="80773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is a connected acyclic graph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oted Trees: for every two vertices in a tree, there always exists exactly one simple path from one of these vertices to the other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and dictionar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n unordered collection (possibly empty) of distinct items called elements of the set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operations we need to perform for a set often are searching for a given item, adding a new item, and deleting an item from the collection.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data structure that implements these three operations is called the dictionary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349F-70A1-4FE3-AFA5-381297FFEA2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is a problem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finition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apping/relation between a set of input instances (domain) and an output set (rang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roblem Specification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ecify what a typical input instance i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ecify what the output should be in terms of the input insta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Sorting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put: A sequence of N numbers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utput: the permutation (reordering) of the input sequence such that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…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DE1E-21CE-4912-8A35-2CB7618DB33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ypes of Proble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Search: find X in the input satisfying property Y</a:t>
            </a:r>
            <a:endParaRPr b="1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Structuring: Transform input X to satisfy property Y</a:t>
            </a:r>
            <a:endParaRPr b="1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Construction: Build X satisfying Y</a:t>
            </a:r>
            <a:endParaRPr b="1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Optimization: Find the best X satisfying property Y</a:t>
            </a:r>
            <a:endParaRPr b="1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Decision: Does X satisfy Y?</a:t>
            </a:r>
            <a:endParaRPr b="1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CE8C-FA7F-48B1-ABD0-1BD4530833E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ffff"/>
                </a:solidFill>
                <a:latin typeface="Times New Roman"/>
              </a:rPr>
              <a:t>What do we analyze about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0000"/>
                </a:solidFill>
                <a:latin typeface="Times New Roman"/>
              </a:rPr>
              <a:t>Correctnes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99"/>
                </a:solidFill>
                <a:latin typeface="Times New Roman"/>
              </a:rPr>
              <a:t>Does the input/output relation match algorithm requirement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0000"/>
                </a:solidFill>
                <a:latin typeface="Times New Roman"/>
              </a:rPr>
              <a:t>Amount of work done </a:t>
            </a:r>
            <a:r>
              <a:rPr b="1" lang="th-TH" sz="2800" spc="-1" strike="noStrike">
                <a:solidFill>
                  <a:srgbClr val="ffff99"/>
                </a:solidFill>
                <a:latin typeface="Times New Roman"/>
              </a:rPr>
              <a:t>(aka complexity)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99"/>
                </a:solidFill>
                <a:latin typeface="Times New Roman"/>
              </a:rPr>
              <a:t>Basic operations to do task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0000"/>
                </a:solidFill>
                <a:latin typeface="Times New Roman"/>
              </a:rPr>
              <a:t>Amount of space used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99"/>
                </a:solidFill>
                <a:latin typeface="Times New Roman"/>
              </a:rPr>
              <a:t>Memory used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B6A5-AF3E-4227-B307-3D9DA726C1D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ffff"/>
                </a:solidFill>
                <a:latin typeface="Times New Roman"/>
              </a:rPr>
              <a:t>What do we analyze about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0000"/>
                </a:solidFill>
                <a:latin typeface="Times New Roman"/>
              </a:rPr>
              <a:t>Simplicity, clarit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99"/>
                </a:solidFill>
                <a:latin typeface="Times New Roman"/>
              </a:rPr>
              <a:t>Verification and implementation.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0000"/>
                </a:solidFill>
                <a:latin typeface="Times New Roman"/>
              </a:rPr>
              <a:t>Optimalit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99"/>
                </a:solidFill>
                <a:latin typeface="Times New Roman"/>
              </a:rPr>
              <a:t>Is it impossible to do better?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9CB4-2FD8-4839-9A07-6BC4B93618D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B624-B3AC-49C5-B180-D8F566F8CB4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uclid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Find 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the greatest common divisor of two nonnegative, not both zero integer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  gcd(60,24) = 12,    gcd(60,0) = 60,    gcd(0,0) = ?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uclid’s algorithm is based on repeated application of equa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, 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til the second number becomes 0, which makes th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ivial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gcd(60,24) = gcd(24,12) = gcd(12,0) = 1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C0AF-B761-4B39-88A2-4BB42FDF871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wo descriptions of Euclid’s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If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= 0, return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and stop; otherwise go to Step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ivide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and assign the value fo the remainder to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Assign the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the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.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 to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Step 1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while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 ≠ 0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o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r ← m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mod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m← n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 ← r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return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9704-38B6-4705-8426-0DA42ADF24E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ther methods for computing gcd(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m,n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ecutive integer checking algorithm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Assign the value of min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Divide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t.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If the remainder is 0, go to Step 3;</a:t>
            </a:r>
            <a:br>
              <a:rPr sz="2400"/>
            </a:b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otherwise, go to Step 4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Divide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t.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If the remainder is 0, return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and stop;</a:t>
            </a:r>
            <a:br>
              <a:rPr sz="2400"/>
            </a:b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otherwise, go to Step 4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Decreas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1 and go to Step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OUAHID</cp:lastModifiedBy>
  <dcterms:modified xsi:type="dcterms:W3CDTF">2013-06-08T08:18:11Z</dcterms:modified>
  <cp:revision>88</cp:revision>
  <dc:subject/>
  <dc:title>Chapter 1:  Introduction </dc:title>
</cp:coreProperties>
</file>