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48F55-0401-41EF-BD1E-F84477E14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1C006-33CF-4A77-98F7-B2144B184C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63600" y="723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68E82-DE4D-4EA2-B27F-616A5A6CD2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4C987-CD35-4694-8728-18DFE83A41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B628D-C8B4-49B2-9C0E-2C7317101F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8113E-9E34-462E-8446-29F370FB12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BC7A2-11D4-4371-84A7-7345211834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058F1-D70A-4098-BDB7-B11A98BC66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5C16C-602E-4BA8-815A-64D2BE02DD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0CFC8-E3D2-448C-91A9-664C5A6515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clid’s algorithm is good for introducing the notion of an algorithm because 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s a clear separation from a program that implements the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so one that is familiar to most stu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 Khowarizmi (many spellings possible...) – “algorism” (originally) and 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“algorithm” come from his n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50295-4C16-43BE-A214-324090241F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B71210-F1AF-4096-BC99-BAE43FD317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8B0C-4086-4604-B508-EE2B5690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273-3148-4384-8D31-E2DDD95A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8B07-72B3-4393-8666-D718D519D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3B0B-4630-49DB-8DAC-BF0E5C28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8E20-3832-4DB8-B442-F5CAFBD8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5F7F-4D4A-4740-8688-F55EED06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AC98-A047-4630-A83D-5976DEF1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C2A8-7423-421E-B5DD-2B58A3D1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568E-D20D-4246-992A-B46CCA3A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758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F17B-80B1-4348-8C42-F3F66DF0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1CAB-9113-4BD8-8ECC-640C5A70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2366-BCBB-469F-BE70-0A0ED65C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3665-C4FD-4094-9349-85A9C6AB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1D46-FEE6-4893-8915-532F0CE5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9546-59E3-4B7E-9F21-EDFB72D6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F6EF-2BC2-4C4A-9D57-1C11B043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1820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26560" y="126684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0948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1820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26560" y="3829320"/>
            <a:ext cx="26744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B7B6-9A22-4F0A-B573-43A1B4AA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09B4-9AA8-4FC9-B211-47311933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02A-0C4C-4C5D-9241-462795C7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64C-5DAF-4F32-B288-BA60F48B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09120" y="151920"/>
            <a:ext cx="7588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D5C-40A0-46AE-AF99-30CF2829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63C-BBC5-4C59-B715-ADAE8FA7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865760" y="382932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4EC0-361F-4772-A86E-B7C8E876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65760" y="1266840"/>
            <a:ext cx="405324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480" y="3829320"/>
            <a:ext cx="8305920" cy="23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F89-DBE5-4E7E-901E-D0EB2F05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8329680" y="733320"/>
            <a:ext cx="720720" cy="532080"/>
            <a:chOff x="8329680" y="733320"/>
            <a:chExt cx="720720" cy="532080"/>
          </a:xfrm>
        </p:grpSpPr>
        <p:sp>
          <p:nvSpPr>
            <p:cNvPr id="1" name="AutoShape 4"/>
            <p:cNvSpPr/>
            <p:nvPr/>
          </p:nvSpPr>
          <p:spPr>
            <a:xfrm flipH="1" rot="10800000">
              <a:off x="8832960" y="733320"/>
              <a:ext cx="2174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5"/>
            <p:cNvSpPr/>
            <p:nvPr/>
          </p:nvSpPr>
          <p:spPr>
            <a:xfrm flipH="1" rot="10800000">
              <a:off x="8582400" y="733320"/>
              <a:ext cx="21924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6"/>
            <p:cNvSpPr/>
            <p:nvPr/>
          </p:nvSpPr>
          <p:spPr>
            <a:xfrm flipH="1" rot="10800000">
              <a:off x="8329680" y="733320"/>
              <a:ext cx="21888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" name="Group 7"/>
          <p:cNvGrpSpPr/>
          <p:nvPr/>
        </p:nvGrpSpPr>
        <p:grpSpPr>
          <a:xfrm>
            <a:off x="77400" y="6040440"/>
            <a:ext cx="531360" cy="726840"/>
            <a:chOff x="77400" y="6040440"/>
            <a:chExt cx="531360" cy="726840"/>
          </a:xfrm>
        </p:grpSpPr>
        <p:sp>
          <p:nvSpPr>
            <p:cNvPr id="5" name="AutoShape 8"/>
            <p:cNvSpPr/>
            <p:nvPr/>
          </p:nvSpPr>
          <p:spPr>
            <a:xfrm flipH="1" rot="5400000">
              <a:off x="234720" y="5883480"/>
              <a:ext cx="216720" cy="5302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9"/>
            <p:cNvSpPr/>
            <p:nvPr/>
          </p:nvSpPr>
          <p:spPr>
            <a:xfrm flipH="1" rot="5400000">
              <a:off x="232920" y="6142320"/>
              <a:ext cx="218160" cy="5302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0"/>
            <p:cNvSpPr/>
            <p:nvPr/>
          </p:nvSpPr>
          <p:spPr>
            <a:xfrm flipH="1" rot="5400000">
              <a:off x="232920" y="6392880"/>
              <a:ext cx="218160" cy="5302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1219320" y="63241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marL="457200" indent="-457200" algn="ctr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 Narrow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evitin “Introduction to the Design &amp; Analysis of Algorithms,”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ed., Ch. 1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3BC1-8E12-45BF-B368-328A026752C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22716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AutoShape 16"/>
          <p:cNvSpPr/>
          <p:nvPr/>
        </p:nvSpPr>
        <p:spPr>
          <a:xfrm flipH="1">
            <a:off x="304200" y="914400"/>
            <a:ext cx="8839080" cy="228600"/>
          </a:xfrm>
          <a:custGeom>
            <a:avLst/>
            <a:gdLst>
              <a:gd name="textAreaLeft" fmla="*/ -360 w 8839080"/>
              <a:gd name="textAreaRight" fmla="*/ 8839080 w 8839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1" y="0"/>
                </a:lnTo>
                <a:lnTo>
                  <a:pt x="21600" y="10800"/>
                </a:lnTo>
                <a:lnTo>
                  <a:pt x="2122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1981080" y="2179800"/>
            <a:ext cx="19080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Group 18"/>
          <p:cNvGrpSpPr/>
          <p:nvPr/>
        </p:nvGrpSpPr>
        <p:grpSpPr>
          <a:xfrm>
            <a:off x="77760" y="5903640"/>
            <a:ext cx="533520" cy="749160"/>
            <a:chOff x="77760" y="5903640"/>
            <a:chExt cx="533520" cy="749160"/>
          </a:xfrm>
        </p:grpSpPr>
        <p:sp>
          <p:nvSpPr>
            <p:cNvPr id="16" name="AutoShape 19"/>
            <p:cNvSpPr/>
            <p:nvPr/>
          </p:nvSpPr>
          <p:spPr>
            <a:xfrm rot="16200000">
              <a:off x="224640" y="5756760"/>
              <a:ext cx="2379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0"/>
            <p:cNvSpPr/>
            <p:nvPr/>
          </p:nvSpPr>
          <p:spPr>
            <a:xfrm rot="16200000">
              <a:off x="223560" y="6010200"/>
              <a:ext cx="239760" cy="5317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1"/>
            <p:cNvSpPr/>
            <p:nvPr/>
          </p:nvSpPr>
          <p:spPr>
            <a:xfrm rot="16200000">
              <a:off x="225360" y="6266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" name="Group 23"/>
          <p:cNvGrpSpPr/>
          <p:nvPr/>
        </p:nvGrpSpPr>
        <p:grpSpPr>
          <a:xfrm>
            <a:off x="8190000" y="731880"/>
            <a:ext cx="739800" cy="533520"/>
            <a:chOff x="8190000" y="731880"/>
            <a:chExt cx="739800" cy="533520"/>
          </a:xfrm>
        </p:grpSpPr>
        <p:sp>
          <p:nvSpPr>
            <p:cNvPr id="21" name="AutoShape 24"/>
            <p:cNvSpPr/>
            <p:nvPr/>
          </p:nvSpPr>
          <p:spPr>
            <a:xfrm>
              <a:off x="8691480" y="733320"/>
              <a:ext cx="23832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5"/>
            <p:cNvSpPr/>
            <p:nvPr/>
          </p:nvSpPr>
          <p:spPr>
            <a:xfrm>
              <a:off x="8442360" y="733320"/>
              <a:ext cx="239760" cy="53208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6"/>
            <p:cNvSpPr/>
            <p:nvPr/>
          </p:nvSpPr>
          <p:spPr>
            <a:xfrm>
              <a:off x="8190000" y="731880"/>
              <a:ext cx="237960" cy="533520"/>
            </a:xfrm>
            <a:prstGeom prst="parallelogram">
              <a:avLst>
                <a:gd name="adj" fmla="val 5295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Rectangle 1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12"/>
          <p:cNvSpPr/>
          <p:nvPr/>
        </p:nvSpPr>
        <p:spPr>
          <a:xfrm rot="16200000">
            <a:off x="4457520" y="-2934000"/>
            <a:ext cx="228600" cy="9144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Levitin “Introduction to the Design &amp; Analysis of Algorithms,” 3rd ed., Ch. 1 ©2012 Pearson Education, Inc. Upper Saddle River, NJ.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BD11-511B-4781-A796-1D28B61EE1A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94C5-445B-4297-BC69-DD92CAF54F0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What is an algorithm?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n </a:t>
            </a: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algorithm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is a sequence of unambiguous instructions for solving a problem, i.e., for obtaining a required output for any legitimate input in a finite amount of time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6" name="Rectangle 12"/>
          <p:cNvSpPr/>
          <p:nvPr/>
        </p:nvSpPr>
        <p:spPr>
          <a:xfrm>
            <a:off x="3286080" y="5334120"/>
            <a:ext cx="2743200" cy="761760"/>
          </a:xfrm>
          <a:prstGeom prst="rect">
            <a:avLst/>
          </a:prstGeom>
          <a:solidFill>
            <a:srgbClr val="99ffcc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omputer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4581360" y="365760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4581360" y="48769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3971880" y="3124080"/>
            <a:ext cx="11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966120" y="426708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914400" y="5486400"/>
            <a:ext cx="11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7010280" y="54864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057400" y="5791320"/>
            <a:ext cx="12193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6019920" y="57913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0354-7BA8-408E-94A8-C02D995FAAA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ther methods for gcd(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m,n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) [cont.]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Middle-school procedure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  Find the prime factorization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  Find the prime factorization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Find all the common prime factor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4  Compute the product of all the  common prime factors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and return it as gcd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(m,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this an algorithm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AB20-5381-4D98-AC5E-E399D19A74B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Sieve of Eratosthen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Input: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teger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≥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utput: List of primes less than or equal to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 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← 2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to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do 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] ←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or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 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← 2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to </a:t>
            </a:r>
            <a:r>
              <a:rPr b="0" lang="pt-BR" sz="2400" spc="-1" strike="noStrike">
                <a:solidFill>
                  <a:srgbClr val="ffff99"/>
                </a:solidFill>
                <a:latin typeface="Symbol"/>
                <a:ea typeface="Symbol"/>
              </a:rPr>
              <a:t>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0" lang="pt-BR" sz="2400" spc="-1" strike="noStrike">
                <a:solidFill>
                  <a:srgbClr val="ffff99"/>
                </a:solidFill>
                <a:latin typeface="Symbol"/>
                <a:ea typeface="Symbol"/>
              </a:rPr>
              <a:t>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do</a:t>
            </a:r>
            <a:r>
              <a:rPr b="1" lang="pt-BR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r>
              <a:rPr b="0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0  //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hasn’t been previously eliminated from the list</a:t>
            </a:r>
            <a:br>
              <a:rPr sz="2400"/>
            </a:b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j </a:t>
            </a:r>
            <a:r>
              <a:rPr b="0" lang="pt-BR" sz="2800" spc="-1" strike="noStrike">
                <a:solidFill>
                  <a:srgbClr val="ffff99"/>
                </a:solidFill>
                <a:latin typeface="Times New Roman"/>
              </a:rPr>
              <a:t>← </a:t>
            </a:r>
            <a:r>
              <a:rPr b="0" i="1" lang="pt-BR" sz="2800" spc="-1" strike="noStrike">
                <a:solidFill>
                  <a:srgbClr val="ffff99"/>
                </a:solidFill>
                <a:latin typeface="Times New Roman"/>
              </a:rPr>
              <a:t>p</a:t>
            </a:r>
            <a:r>
              <a:rPr b="0" i="1" lang="en-US" sz="2800" spc="-1" strike="noStrike" baseline="-2000">
                <a:solidFill>
                  <a:srgbClr val="ffff99"/>
                </a:solidFill>
                <a:latin typeface="Times New Roman"/>
                <a:ea typeface="Times New Roman"/>
              </a:rPr>
              <a:t>*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hile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≤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n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] </a:t>
            </a:r>
            <a:r>
              <a:rPr b="0" lang="pt-BR" sz="2800" spc="-1" strike="noStrike">
                <a:solidFill>
                  <a:srgbClr val="ffff99"/>
                </a:solidFill>
                <a:latin typeface="Times New Roman"/>
              </a:rPr>
              <a:t>← 0  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//mark element as eliminated</a:t>
            </a:r>
            <a:r>
              <a:rPr b="1" lang="pt-BR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j </a:t>
            </a:r>
            <a:r>
              <a:rPr b="0" lang="pt-BR" sz="2800" spc="-1" strike="noStrike">
                <a:solidFill>
                  <a:srgbClr val="ffff99"/>
                </a:solidFill>
                <a:latin typeface="Times New Roman"/>
              </a:rPr>
              <a:t>←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j</a:t>
            </a:r>
            <a:r>
              <a:rPr b="0" lang="pt-BR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ffff99"/>
                </a:solidFill>
                <a:latin typeface="Times New Roman"/>
              </a:rPr>
              <a:t>+ p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2  3  4  5  6  7  8  9 10  11  12  13  14  15  16  17  18  19 20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imes New Roman"/>
              </a:rPr>
              <a:t>Algorithm design and analysis process.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6A62-37C1-49D5-B203-BC94AAB27C7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843200" y="919080"/>
            <a:ext cx="512100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B807-F7D8-46F7-AC3A-23F1B3FACC0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wo main issues related to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How to design algorithm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How to analyze algorithm efficiency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lgorithm  design techniques/strategi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 algorithm design technique (or “strategy” or “paradigm”) is a general approach to solving problems algorithmically that is applicable to a variety of problems from different areas of computing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C997-803D-4EED-BD13-B3A914C4997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C2F9-A945-4DF9-97FD-F9D5E881D44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lgorithm  design techniques/strategi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rute for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ivide and conqu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ecrease and conqu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ansform and conquer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pace and time tradeoff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724280" y="1676520"/>
            <a:ext cx="4419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reedy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ynamic programming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terative improvement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cktracking 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ranch and b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lgorithm  design techniques/strategi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rute forc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a straightforward approach to solving a problem, usually directly based on the problem statement and definitions of the concepts involved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crease-and-conquer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echnique is based on reducing the size of the input instance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vide-and-Conque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problem is divided into several subproblems of the same type, ideally of about equal size.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subproblems are solved  separately.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solutions to the subproblems are combined to get a solution to the original problem.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4BC5-218B-4245-B660-DB816EE334A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lgorithm  design techniques/strategi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nsform-and-Conque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 Firstly, the problem instance is modified to be more Appropriate to solution. Then, in the second or conquering stage, it is solved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ynamic programming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s a technique for solving problems with overlapping subproblems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reedy approach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uggests constructing a solution through a sequence of steps until a complete solution to the problem is reached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erative improvement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arts with some feasible solution and proceeds to improve it by repeated applications of some simple step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EF3D-806F-4347-9554-2356D0E1E88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D677-0D0D-4D0E-97A0-CC96A983EF0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nalysis of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ow good is the algorithm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ime efficienc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pace efficienc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es there exist a better algorithm?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ower bound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ptimal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3360" y="13788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Properties as important as performance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dular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intainabil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unctional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Robustness and Reliabil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ser-friendlines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F781-4CC1-438B-8D4B-C3334AD5649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What is an algorithm?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s any well-defined computational procedure that takes some value, or set of values, as input and produces some value, or set of values, as output.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s thus a sequence of computational steps that transform the input into the output.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s a tool for solving a well - specified computational problem.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99"/>
                </a:solidFill>
                <a:latin typeface="Times New Roman"/>
              </a:rPr>
              <a:t>Any special method of solving a certain kind of problem (Webster Dictionary)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8E48-DCE2-44B6-A058-0AA7DB94E87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BDDB-D6A3-48DF-B9F9-B9D8BC8F05E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mportant problem typ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266840"/>
            <a:ext cx="830592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rt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earrange the items of a given list in non-decreasing order.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arching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deals with f inding a given value, called a search key, in a given set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 processing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Eg, string matching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raph problem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graph-traversal algorithms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hortest-path algorithms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Important problem typ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binatorial problem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find a combinatorial object—such as a permutation, a combination, or a subset—that satisfies certain constraints.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ometric problem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deal with geometric objects such as points, lines, and polygons.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merical problems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involve mathematical objects of continuous nature: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solving equations and systems of equations,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computing definite integrals,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evaluating functions, and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…</a:t>
            </a: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.. so on.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58DA-6538-430E-B192-6EA02B05DC2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6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65F5-B0E2-446D-A437-982B440FB7E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198000"/>
            <a:ext cx="81518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ndamental data structur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32763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list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rray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linked list</a:t>
            </a:r>
            <a:br>
              <a:rPr sz="2000"/>
            </a:b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952880" y="1219320"/>
            <a:ext cx="4191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1" descr=""/>
          <p:cNvPicPr/>
          <p:nvPr/>
        </p:nvPicPr>
        <p:blipFill>
          <a:blip r:embed="rId1"/>
          <a:stretch/>
        </p:blipFill>
        <p:spPr>
          <a:xfrm>
            <a:off x="1268280" y="3962520"/>
            <a:ext cx="7369200" cy="1104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328680" y="5016600"/>
            <a:ext cx="92487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ndamental data structur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09120" y="1266840"/>
            <a:ext cx="407700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ack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ue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iority queu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838760" y="1266840"/>
            <a:ext cx="407664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A2B2-3646-4A1E-8731-C7B510EF733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ndamental data structur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266480"/>
            <a:ext cx="834408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raph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djacency matrix                                         Adjacency lis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98" name="Content Placeholder 5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4076640" cy="1108080"/>
          </a:xfrm>
          <a:prstGeom prst="rect">
            <a:avLst/>
          </a:prstGeom>
          <a:ln w="0">
            <a:noFill/>
          </a:ln>
        </p:spPr>
      </p:pic>
      <p:sp>
        <p:nvSpPr>
          <p:cNvPr id="199" name="Slide Number Placeholder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6120-7E61-4ACD-8B2C-0A8B87CE74C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2"/>
          <a:stretch/>
        </p:blipFill>
        <p:spPr>
          <a:xfrm>
            <a:off x="404640" y="3206880"/>
            <a:ext cx="873936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Fundamental data structure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09120" y="1266840"/>
            <a:ext cx="80773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e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is a connected acyclic graph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Rooted Trees: for every two vertices in a tree, there always exists exactly one simple path from one of these vertices to the other.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t and dictionary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an unordered collection (possibly empty) of distinct items called elements of the set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The operations we need to perform for a set often are searching for a given item, adding a new item, and deleting an item from the collection.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imes New Roman"/>
              </a:rPr>
              <a:t>A data structure that implements these three operations is called the dictionary.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3EA3-4A94-4302-A818-B753D02267F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What is a problem?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finition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 mapping/relation between a set of input instances (domain) and an output set (range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roblem Specification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pecify what a typical input instance is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pecify what the output should be in terms of the input instance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Sorting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put: A sequence of N numbers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…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Output: the permutation (reordering) of the input sequence such that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… </a:t>
            </a:r>
            <a:r>
              <a:rPr b="1" lang="en-US" sz="2400" spc="-1" strike="noStrike">
                <a:solidFill>
                  <a:srgbClr val="ffff99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.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CC89-D76E-4D1D-92B5-FDE33630A8B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Types of Proble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24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Search: find X in the input satisfying property Y</a:t>
            </a:r>
            <a:endParaRPr b="1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Structuring: Transform input X to satisfy property Y</a:t>
            </a:r>
            <a:endParaRPr b="1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Construction: Build X satisfying Y</a:t>
            </a:r>
            <a:endParaRPr b="1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Optimization: Find the best X satisfying property Y</a:t>
            </a:r>
            <a:endParaRPr b="1" lang="en-US" sz="2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Decision: Does X satisfy Y?</a:t>
            </a:r>
            <a:endParaRPr b="1" lang="en-US" sz="2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F061-5EF0-4AC1-881A-9EBB5941D6A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ccffff"/>
                </a:solidFill>
                <a:latin typeface="Times New Roman"/>
              </a:rPr>
              <a:t>What do we analyze about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0000"/>
                </a:solidFill>
                <a:latin typeface="Times New Roman"/>
              </a:rPr>
              <a:t>Correctness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99"/>
                </a:solidFill>
                <a:latin typeface="Times New Roman"/>
              </a:rPr>
              <a:t>Does the input/output relation match algorithm requirement?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0000"/>
                </a:solidFill>
                <a:latin typeface="Times New Roman"/>
              </a:rPr>
              <a:t>Amount of work done </a:t>
            </a:r>
            <a:r>
              <a:rPr b="1" lang="th-TH" sz="2800" spc="-1" strike="noStrike">
                <a:solidFill>
                  <a:srgbClr val="ffff99"/>
                </a:solidFill>
                <a:latin typeface="Times New Roman"/>
              </a:rPr>
              <a:t>(aka complexity) 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99"/>
                </a:solidFill>
                <a:latin typeface="Times New Roman"/>
              </a:rPr>
              <a:t>Basic operations to do task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0000"/>
                </a:solidFill>
                <a:latin typeface="Times New Roman"/>
              </a:rPr>
              <a:t>Amount of space used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99"/>
                </a:solidFill>
                <a:latin typeface="Times New Roman"/>
              </a:rPr>
              <a:t>Memory used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95D6-F56C-47BF-B3A4-BDBCAE40C87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ccffff"/>
                </a:solidFill>
                <a:latin typeface="Times New Roman"/>
              </a:rPr>
              <a:t>What do we analyze about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 algorithms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266840"/>
            <a:ext cx="83059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0000"/>
                </a:solidFill>
                <a:latin typeface="Times New Roman"/>
              </a:rPr>
              <a:t>Simplicity, clarity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99"/>
                </a:solidFill>
                <a:latin typeface="Times New Roman"/>
              </a:rPr>
              <a:t>Verification and implementation.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0000"/>
                </a:solidFill>
                <a:latin typeface="Times New Roman"/>
              </a:rPr>
              <a:t>Optimality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ff99"/>
                </a:solidFill>
                <a:latin typeface="Times New Roman"/>
              </a:rPr>
              <a:t>Is it impossible to do better? </a:t>
            </a: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3A5A-5D38-495C-921A-75489D3766F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7494-8BEE-4940-8B15-FBEE1CDED99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Euclid’s Algorithm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oblem: Find gcd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,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, the greatest common divisor of two nonnegative, not both zero integers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n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s:  gcd(60,24) = 12,    gcd(60,0) = 60,    gcd(0,0) = ?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uclid’s algorithm is based on repeated application of equality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cd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,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 = gcd(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, m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d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until the second number becomes 0, which makes the proble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rivial.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ample: gcd(60,24) = gcd(24,12) = gcd(12,0) = 1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01BF-30EB-4C6A-B2A2-2CD0C803971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5884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imes New Roman"/>
              </a:rPr>
              <a:t>Two descriptions of Euclid’s algorithm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266840"/>
            <a:ext cx="85345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  If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= 0, return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and stop; otherwise go to Step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Divide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by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and assign the value fo the remainder to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r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Assign the valu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the value of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n.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o to</a:t>
            </a:r>
            <a:br>
              <a:rPr sz="2400"/>
            </a:b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Step 1.</a:t>
            </a:r>
            <a:br>
              <a:rPr sz="2400"/>
            </a:b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while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 ≠ 0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do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       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r ← m </a:t>
            </a:r>
            <a:r>
              <a:rPr b="0" lang="pt-BR" sz="2400" spc="-1" strike="noStrike">
                <a:solidFill>
                  <a:srgbClr val="ffff99"/>
                </a:solidFill>
                <a:latin typeface="Times New Roman"/>
              </a:rPr>
              <a:t>mod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m← n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n ← r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return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6224-BBC3-47B5-9EB9-2AA2B8F8225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Other methods for computing gcd(</a:t>
            </a:r>
            <a:r>
              <a:rPr b="1" i="1" lang="en-US" sz="3600" spc="-1" strike="noStrike">
                <a:solidFill>
                  <a:srgbClr val="ccffff"/>
                </a:solidFill>
                <a:latin typeface="Times New Roman"/>
              </a:rPr>
              <a:t>m,n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secutive integer checking algorithm</a:t>
            </a:r>
            <a:endParaRPr b="1" lang="en-US" sz="28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1  Assign the value of min{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m,n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} to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2 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Divide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m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by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t. 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If the remainder is 0, go to Step 3;</a:t>
            </a:r>
            <a:br>
              <a:rPr sz="2400"/>
            </a:b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       otherwise, go to Step 4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3 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Divide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n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by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t. 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If the remainder is 0, return </a:t>
            </a:r>
            <a:r>
              <a:rPr b="1" i="1" lang="pt-BR" sz="2400" spc="-1" strike="noStrike">
                <a:solidFill>
                  <a:srgbClr val="ffff99"/>
                </a:solidFill>
                <a:latin typeface="Times New Roman"/>
              </a:rPr>
              <a:t>t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and stop;</a:t>
            </a:r>
            <a:br>
              <a:rPr sz="2400"/>
            </a:b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       otherwise, go to Step 4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tep 4  Decrease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y 1 and go to Step 2</a:t>
            </a: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3T17:38:43Z</dcterms:created>
  <dc:creator>Anany Levitin</dc:creator>
  <dc:description/>
  <dc:language>en-US</dc:language>
  <cp:lastModifiedBy>OUAHID</cp:lastModifiedBy>
  <dcterms:modified xsi:type="dcterms:W3CDTF">2013-06-08T08:18:11Z</dcterms:modified>
  <cp:revision>88</cp:revision>
  <dc:subject/>
  <dc:title>Chapter 1:  Introduction </dc:title>
</cp:coreProperties>
</file>