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D81A-4E5E-42C6-BE59-C27CA59076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D642-052A-4791-AF38-ABA6C7C0679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028A-6DC6-41F1-8D93-5CBE1F20E35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18A5-7780-4712-BBCB-81608EAE61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1699-8DBF-47AD-B2DB-65FC1681CB8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F4BE-54C6-41D1-8358-B9FCF2A688B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DAA1-15B4-4939-B7F9-578524115D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839B-2058-432F-BA88-1006F0CD084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FE3-0704-4EA2-95A9-E2CA7F8000E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906B-801C-4804-9E6E-6842D21703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C536-6CAC-4280-8A2E-9E8CFB05AB6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D7B7-7AE1-4915-B4C8-81648183C56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BA1B-866E-4DC7-BB86-25B04F1C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9E97-8E67-49FB-80B5-B9FAEE37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7A450-D043-4679-A850-732F07A3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4390D-8B2F-41EB-B9A4-8A4CBB01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7C8B2-3100-4803-BA9E-17DE8738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7D416-44E0-458D-BDF7-E9340067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ECE1E-CF87-428F-A66A-CE90C4D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C76E9-8F58-462B-AF05-952B18A2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1790D-E7CB-4C9B-AED6-B4520FFB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B5EA9-F531-4D7C-99E8-56E8262D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1120A-939E-435B-AF2E-D86AB461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07755-88A7-4C12-89EA-A4AEB498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7701-7F63-478B-B5B2-D9706030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D7C26-5A46-4F09-BEDC-A184593A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2BD1C-073F-4ADE-AE3B-458915C4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3E075-4F96-49CC-BAC7-50612481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4DEAF-2DE4-48D1-9CAA-BA136B24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4F4C5-4D6D-4534-9C6D-3EA33BED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FF6DC-ADE6-40CC-B232-D726723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70CAF-8EB8-43A8-9D01-75C4CC26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515B8-13F8-4DFC-B347-BA0BB5E4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480A0-8075-4339-879F-E8CCD207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2B13C-FFAA-4460-9214-1EC95277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F4A8-84DE-4696-87AD-A0E264DB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641FA-8596-48C5-9BF4-53B26DE2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B14305-2ACC-4A84-AA5E-60871BF4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4BF03D-6FED-46C4-A2E1-8619FDE3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9539AA-99C8-4220-8B39-60195681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87BFB3-D45B-4A0F-BAC0-F2FFBF8F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5FB500-827D-4CA9-ACF4-AC3745C3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BABF9B-DFBE-4027-8DBC-C2A3ECAC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93D49C-9050-42FD-AFBF-53B427F1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A0D470-6571-4E80-8B81-75503F1D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068E10-70D5-464A-8401-E8C1E1D4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30DD-C2CD-4B51-B26A-A2669E49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412AD9-3853-4D06-A05D-5825D1B3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6AD017-87C1-4AD1-9619-C88C7002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C8E53D-8FE1-4F8E-9803-5548C008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9E7C4-DA3E-4E02-A269-1C895D1E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C0276-8FAD-44D1-8A2B-F5FDF1A2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A8398-3318-48FE-A4B3-65DE3E11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91B63-3DBC-440A-A382-43307A5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D748D-CEA8-4FD1-9452-17997EC4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BD3C8-6488-4147-AD92-57FAC164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196D1-59CE-4DAB-ACB5-A1DD01ED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6618-24BA-4BC0-A7B1-AEB9A1EB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48116-8DFE-4B28-A7BA-CF0C7E92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CC9C2-C24F-4892-8BD2-CCEAA40D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77A4F-D7A3-438C-AA5F-5C9196AE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2ECF5-BCEB-4EF7-8839-07A9A948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5A5A2-9020-4596-9812-22192AE0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B5AE-AD2C-43FC-9238-485D1B20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F6ED-BDA3-4098-8226-3A04590E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BCA0-C432-4F27-B247-FB31357C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7C7C-957D-427D-B64B-21731278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6935-1F66-4786-9D42-A5B63F35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E804-3545-4174-8AC7-1B6B657F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9FFC-C71E-4B49-B9F2-24B70D1B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8293-AE76-4EFE-A4D6-25E2164F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CA39-A4BA-4296-9F9B-93DAB206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F51B-6A8D-4F1B-8B13-69FECF06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716E-6822-4AE6-87BA-E13826EE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CA18B-3528-4E86-AA18-73CC3444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1EC02A-31DB-4C1B-B5DD-18D0B461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41A420-110B-4B9B-802E-8ACBADA2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24904-330D-41CC-A68B-9B8FA0CB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B0E02-7B82-46AA-8FA2-E7733FF6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3355-77AD-4901-BA66-641F2EDE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02D520-97B4-4AFD-A5CE-A20E7C49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6437A-5218-4805-ABCC-2C98FC81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963CE7-0111-4AAA-B9A3-2457FD75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19B88-9354-41B5-9752-5D1DEE96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0969F-293E-4553-B38E-1076C376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9FCA47-B292-4E9B-8E33-59D4C832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70557-E6B7-4BE6-8BF8-7AB3BC3F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8336EB-014A-496A-B385-74B609ED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47B53-7DBA-450A-9EAD-58EB901C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E5E59F-B24C-4786-B756-CCA4FACA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E0F6-E521-403C-946B-733A472F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C31632-7EFC-494D-89A3-9F6866A6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36479-2D0D-465B-9A60-C23E1715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EF5B1-211F-4A6D-9125-AF1086CA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A419F-BE70-4D1E-8AA9-6461A7C0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03948-0867-4C0F-901B-10241D77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21C93-292A-4944-B7A8-53FA3D9F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DBE0D-CF81-4749-BE25-869ED74F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00484-7EC9-4C41-A5DA-20F9210E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40100-08F3-4D07-A1E7-1A3DFC1E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DA24B0-F8A3-4B7C-A9C0-53AD35BD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C383-98EB-47C8-ABEF-5F2E1CAE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854289-BC97-4ACC-B712-69579F2E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5FF8DB-1F35-4641-9701-861F82CB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1F3A1E-A747-42B6-8737-73E04A2F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021E89-9B3E-4287-A778-A8B2CFAE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ADAA58-3A3F-42B8-B848-8B1AAD08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DBC5C5-9DB0-4D34-A683-140FF2A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3772E3-8B3F-49C7-82DD-39CDD67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861AC7-9E8E-4FA7-9A40-AAC8A667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5C20FE-D070-44FB-9BA3-9BA1EAB1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9629E8-61FB-4A1B-9789-1CD3E3E9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EFF1-C1BC-4749-BAE7-C0AAF117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97FDD7-6559-4769-974A-8AA3D930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434C80-DBDA-4F76-8429-90E68894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9E1C7E-6A55-42A0-A18C-90A201FC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1C92A6-CF40-4BD8-B5B7-B00A1604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E6F2F9-4A17-4F91-B443-9289E396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A2A5FE-82E2-4377-96A5-EB835E1B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370EEB-96F0-4686-B92F-F28AB3C9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A36250-D359-4B4B-988B-7253AF9F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D8FB8C-316E-45A2-8BC4-D815CFE1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3686EE-39CF-44BC-8D7A-9647659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4C99-6600-4328-ACF6-C3358399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252CA-D90D-4C3F-82B6-38185887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EEB305-C356-4229-8FD3-4766B8FD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D9FF66-3C86-4BDD-8399-62B97870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BE359B-96F1-4ECE-A899-E80423FB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09F1ED-A779-4A76-AF0E-A7A06431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61D99D-F38A-4898-B63B-F52E6D7A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3AC0E5-22B3-4799-9481-B9975911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191FF8-7E6D-4767-8783-9EF4FD9C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5D27BE-EE07-4592-ACD9-FB2B249D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649188-D773-4650-A838-BA56805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C2BC-A230-4007-B386-FB6AE2F5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7E57A6-549A-48B6-A183-2DB76933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0AF26E-B9B8-40BD-914D-B2BE89EB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CA9830-38D1-45CF-A32C-35A55662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4E567E-A9F1-4D93-BA1B-812960BF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879E20-0F9F-4674-B398-988BE118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64E866-AFFC-4791-ACB1-9C1DE4BF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5CCC7D-3E36-48B3-A054-1D1B1AB7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DB20D8-B310-4CE6-A7AF-590A1298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862427-8D30-4BF5-91FD-A7D3504B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4968DA-8C5D-43FD-B476-59722B7F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B74C-7FF7-403C-B842-ABAC59F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7EAA09-2F28-46B7-BA18-1ACA6F9B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536E19-9906-4FD5-B991-EDBB0AE6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2757BE-6D51-4DE1-82ED-0849E5B3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334A40-8758-43F4-AC63-EE97D26C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889182-1436-4594-B1BB-75326D81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9427B4-E696-4B35-A31C-9253BEE1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C5CAA5-9BEA-4EF1-A1FA-46CE754A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BEA99-2455-4853-949C-FFF09731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61C7C-CB3A-4D57-A9B9-2CB21B1E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68950-9B4E-4E05-A9F7-97741FA8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7056-ACC7-42DE-BF3E-702918DC53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221" name="Straight Connector 222" descr=""/>
          <p:cNvPicPr/>
          <p:nvPr/>
        </p:nvPicPr>
        <p:blipFill>
          <a:blip r:embed="rId8"/>
          <a:stretch/>
        </p:blipFill>
        <p:spPr>
          <a:xfrm>
            <a:off x="444600" y="1384200"/>
            <a:ext cx="8626320" cy="66600"/>
          </a:xfrm>
          <a:prstGeom prst="rect">
            <a:avLst/>
          </a:prstGeom>
          <a:ln w="0">
            <a:noFill/>
          </a:ln>
        </p:spPr>
      </p:pic>
      <p:sp>
        <p:nvSpPr>
          <p:cNvPr id="222" name="Straight Connector 223"/>
          <p:cNvSpPr/>
          <p:nvPr/>
        </p:nvSpPr>
        <p:spPr>
          <a:xfrm>
            <a:off x="8748720" y="981000"/>
            <a:ext cx="0" cy="551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EE62-E969-40FC-BFB1-61E1025631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9DC4-0E68-4CD3-B93A-353430E899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7F58-2D57-42DA-A6CA-F0B8EE2D0D1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dt" idx="3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ftr" idx="3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6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5" name="Straight Connector 440" descr=""/>
          <p:cNvPicPr/>
          <p:nvPr/>
        </p:nvPicPr>
        <p:blipFill>
          <a:blip r:embed="rId3"/>
          <a:stretch/>
        </p:blipFill>
        <p:spPr>
          <a:xfrm>
            <a:off x="444600" y="1384200"/>
            <a:ext cx="8626320" cy="66600"/>
          </a:xfrm>
          <a:prstGeom prst="rect">
            <a:avLst/>
          </a:prstGeom>
          <a:ln w="0">
            <a:noFill/>
          </a:ln>
        </p:spPr>
      </p:pic>
      <p:sp>
        <p:nvSpPr>
          <p:cNvPr id="476" name="Straight Connector 441"/>
          <p:cNvSpPr/>
          <p:nvPr/>
        </p:nvSpPr>
        <p:spPr>
          <a:xfrm>
            <a:off x="8748720" y="981000"/>
            <a:ext cx="0" cy="551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5A44-E293-498A-AEED-D8F1E99AFF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Straight Connector 224" descr=""/>
          <p:cNvPicPr/>
          <p:nvPr/>
        </p:nvPicPr>
        <p:blipFill>
          <a:blip r:embed="rId3"/>
          <a:stretch/>
        </p:blipFill>
        <p:spPr>
          <a:xfrm>
            <a:off x="444600" y="1384200"/>
            <a:ext cx="8626320" cy="66600"/>
          </a:xfrm>
          <a:prstGeom prst="rect">
            <a:avLst/>
          </a:prstGeom>
          <a:ln w="0">
            <a:noFill/>
          </a:ln>
        </p:spPr>
      </p:pic>
      <p:sp>
        <p:nvSpPr>
          <p:cNvPr id="519" name="Straight Connector 225"/>
          <p:cNvSpPr/>
          <p:nvPr/>
        </p:nvSpPr>
        <p:spPr>
          <a:xfrm>
            <a:off x="8748720" y="981000"/>
            <a:ext cx="0" cy="551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C080-3B77-46DC-B889-C041921CBD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424D-3E58-453D-86C1-EC6D4BB773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EA4B-1181-445A-9788-A737EF5C7C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CFBB-7E83-4F06-9CE7-A1B24E0492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0107-F9C2-46BA-A6DF-DB9220D17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7184-53DA-45DC-82F5-C170C2C6FD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2B4A-34DE-4324-A5D3-8E348184C9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d0dff"/>
                </a:solidFill>
                <a:latin typeface="Arial"/>
              </a:rPr>
              <a:t>مقدمة لقواعد البيانات</a:t>
            </a:r>
            <a:br>
              <a:rPr sz="5400"/>
            </a:br>
            <a:r>
              <a:rPr b="0" lang="ar-SA" sz="5400" spc="-1" strike="noStrike">
                <a:solidFill>
                  <a:srgbClr val="0d0dff"/>
                </a:solidFill>
                <a:latin typeface="Arial"/>
              </a:rPr>
              <a:t> (</a:t>
            </a:r>
            <a:r>
              <a:rPr b="0" lang="ar-SA" sz="5400" spc="-1" strike="noStrike">
                <a:solidFill>
                  <a:srgbClr val="0d0dff"/>
                </a:solidFill>
                <a:latin typeface="Arial"/>
              </a:rPr>
              <a:t>1203</a:t>
            </a:r>
            <a:r>
              <a:rPr b="0" lang="ar-SA" sz="5400" spc="-1" strike="noStrike">
                <a:solidFill>
                  <a:srgbClr val="0d0dff"/>
                </a:solidFill>
                <a:latin typeface="Arial"/>
              </a:rPr>
              <a:t> عال)</a:t>
            </a:r>
            <a:br>
              <a:rPr sz="5400"/>
            </a:br>
            <a:r>
              <a:rPr b="0" lang="en-US" sz="5400" spc="-1" strike="noStrike">
                <a:solidFill>
                  <a:srgbClr val="0d0dff"/>
                </a:solidFill>
                <a:latin typeface="Arial"/>
              </a:rPr>
              <a:t> </a:t>
            </a:r>
            <a:br>
              <a:rPr sz="5400"/>
            </a:br>
            <a:r>
              <a:rPr b="0" lang="ar-EG" sz="5400" spc="-1" strike="noStrike">
                <a:solidFill>
                  <a:srgbClr val="0d0dff"/>
                </a:solidFill>
                <a:latin typeface="Arial"/>
              </a:rPr>
              <a:t>الفصل الأول</a:t>
            </a:r>
            <a:br>
              <a:rPr sz="5400"/>
            </a:br>
            <a:r>
              <a:rPr b="0" lang="ar-SA" sz="5400" spc="-1" strike="noStrike">
                <a:solidFill>
                  <a:srgbClr val="0d0dff"/>
                </a:solidFill>
                <a:latin typeface="Arial"/>
              </a:rPr>
              <a:t>قواعد البيانات ومستخدميها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ميزات استخدام 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805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التحكم فى تكرار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فرض القيود على المستخدمين الذين ليس لهم صلاحيات معين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وفير بيئة تخزين لاتفقد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السماح باستنباط معلومات من البيانات المتواج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وفير واجهات متعددة لتعامل المستخدم مع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مثيل العلاقات المعقدة بين البيانات بسهول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فرض قيود التكامل بين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587D-9C35-4E31-92C1-CB095B71D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ميزات استخدام 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5720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وفير طرق متعددة للحصول على النسخ الاحتياطية و كذلك معالجة البيانات فى حالات الأعطال التى قد تحدث لقواعد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ساعد على وضع معايير قياسية للتعامل مع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قليل زمن تطوير البرام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المرونة الشديدة فى استخدام وتعديل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وفير بيانات على درجة عالية من التحدي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اقتصادية الاستخد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B10F-940E-483A-8F33-320FCF8D9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تى لا نستخدم 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إذا كانت تكلفة الإعداد عالية بالنسبة لحجم المشرو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إذا كانت قاعدة البيانات و التطبيقات بسيطة و سهل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إذا كان المشروع يحتاج لسرعة استجابة عالية جدا وبشكل ضرو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اذا كان العمل لا يحتاج الى بيئة ذات عدة مستخدم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467A-E614-4D73-A7E0-DA413D880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قدمة ل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قواعد البيانات هي مجموعة من البيانات المرتبط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خواص قواعد البيانات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مثل بعض مظاهر العالم الحقيقي. أي إنها تمثل حالة من حالات البيانات التي تصف موضوع حقيق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مثل مجموعة من البيانات المتلاصقة منطقيا وتحتوي على معنى ضمن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يتم تصميمها و تخزين البيانات بها من أجل غرض مع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44C5-D123-46F7-9BF9-C9456849D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خواص أخرى ل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805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يمكن أن تكون قاعدة البيانات في أي حجم فيمكن أن تحتوي على القليل من السجلات أو المئات منها ويمكن أن تحتوي على مئات الملايين من السجل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يمكن أن يتم إنشائها و التعامل معها يدويا أو باستخدام الحاسبات الآل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إذا تم استخدام الحاسب الآلي لإدارة قواعد البيانات فإن ذلك يتم عن طريق مجموعة من البرامج التي تصمم خصيصا لذلك أو عن طريق استخدام نظم إدارة قواعد البيانات </a:t>
            </a:r>
            <a:r>
              <a:rPr b="0" lang="en-US" sz="3200" spc="-1" strike="noStrike">
                <a:solidFill>
                  <a:srgbClr val="0d0dff"/>
                </a:solidFill>
                <a:latin typeface="Arial"/>
              </a:rPr>
              <a:t>        </a:t>
            </a: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d0dff"/>
                </a:solidFill>
                <a:latin typeface="Arial"/>
              </a:rPr>
              <a:t>Database Management System (DB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548E-D2EB-469E-8BE9-97BA95D3E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نظم إدارة قواعد البيانات</a:t>
            </a:r>
            <a:br>
              <a:rPr sz="4400"/>
            </a:b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d0dff"/>
                </a:solidFill>
                <a:latin typeface="Arial"/>
              </a:rPr>
              <a:t>Database Management System (DBMS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نظم إدارة قواعد البيانات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هي مجموعة من البرامج التي تمكن المستخدم من إنشاء ومعالجة قواعد البيان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يتم إنشاء هذه النظم لتساعد المستخدم في تعريف وبناء ومعالجة قواعد البيانات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 algn="r" rtl="1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d0dff"/>
                </a:solidFill>
                <a:uFillTx/>
                <a:latin typeface="Arial"/>
              </a:rPr>
              <a:t>تعريف البيانات</a:t>
            </a:r>
            <a:r>
              <a:rPr b="0" lang="ar-SA" sz="2000" spc="-1" strike="noStrike">
                <a:solidFill>
                  <a:srgbClr val="0d0dff"/>
                </a:solidFill>
                <a:latin typeface="Arial"/>
              </a:rPr>
              <a:t>: المقصود منه هو تعريف البيان ونوعه وبنائه ووصف القيود المفروضة عل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 algn="r" rtl="1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d0dff"/>
                </a:solidFill>
                <a:uFillTx/>
                <a:latin typeface="Arial"/>
              </a:rPr>
              <a:t>بناء البيانات</a:t>
            </a:r>
            <a:r>
              <a:rPr b="0" lang="ar-SA" sz="2000" spc="-1" strike="noStrike">
                <a:solidFill>
                  <a:srgbClr val="0d0dff"/>
                </a:solidFill>
                <a:latin typeface="Arial"/>
              </a:rPr>
              <a:t>: هو تحديد طريقة تخزينها وكيفية البناء وتنفيذ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 algn="r" rtl="1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d0dff"/>
                </a:solidFill>
                <a:uFillTx/>
                <a:latin typeface="Arial"/>
              </a:rPr>
              <a:t>معالجة البيانات</a:t>
            </a:r>
            <a:r>
              <a:rPr b="0" lang="ar-SA" sz="2000" spc="-1" strike="noStrike">
                <a:solidFill>
                  <a:srgbClr val="0d0dff"/>
                </a:solidFill>
                <a:latin typeface="Arial"/>
              </a:rPr>
              <a:t>: هو تعديل البيانات و إنشاء الاستفسارات و إنشاء التقاري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تسمى قواعد البيانات + نظم إدارة قواعد البيانات بنظم قواعد البيان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(قواعد البيانات + نظم إدارة قواعد البيانات </a:t>
            </a: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←</a:t>
            </a: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 نظم قواعد البيانات )</a:t>
            </a: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Database (DB)  +  DBMS  →   Database System (D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7CFE-6413-493D-AC1E-D9C0F4147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07BE-9911-4985-AEAE-CF1E50DB9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2"/>
          <p:cNvSpPr/>
          <p:nvPr/>
        </p:nvSpPr>
        <p:spPr>
          <a:xfrm>
            <a:off x="533520" y="457200"/>
            <a:ext cx="8001000" cy="4724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14"/>
          <p:cNvSpPr/>
          <p:nvPr/>
        </p:nvSpPr>
        <p:spPr>
          <a:xfrm>
            <a:off x="1828800" y="2057400"/>
            <a:ext cx="5257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3300"/>
                </a:solidFill>
                <a:latin typeface="Times New Roman"/>
              </a:rPr>
              <a:t>نظم إدا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3300"/>
                </a:solidFill>
                <a:latin typeface="Times New Roman"/>
              </a:rPr>
              <a:t>قواعد البيان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3"/>
          <p:cNvSpPr/>
          <p:nvPr/>
        </p:nvSpPr>
        <p:spPr>
          <a:xfrm>
            <a:off x="6400800" y="6094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نظم قواعد البيان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5" name="Group 22"/>
          <p:cNvGrpSpPr/>
          <p:nvPr/>
        </p:nvGrpSpPr>
        <p:grpSpPr>
          <a:xfrm>
            <a:off x="2666880" y="2286000"/>
            <a:ext cx="3505320" cy="1371600"/>
            <a:chOff x="2666880" y="2286000"/>
            <a:chExt cx="3505320" cy="1371600"/>
          </a:xfrm>
        </p:grpSpPr>
        <p:sp>
          <p:nvSpPr>
            <p:cNvPr id="956" name="Rectangle 5"/>
            <p:cNvSpPr/>
            <p:nvPr/>
          </p:nvSpPr>
          <p:spPr>
            <a:xfrm>
              <a:off x="3048120" y="2286000"/>
              <a:ext cx="274320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Times New Roman"/>
                </a:rPr>
                <a:t>برامج لتنفيذ التطبيقات والاستفسارات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6"/>
            <p:cNvSpPr/>
            <p:nvPr/>
          </p:nvSpPr>
          <p:spPr>
            <a:xfrm>
              <a:off x="2666880" y="3124080"/>
              <a:ext cx="350532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ffff"/>
                  </a:solidFill>
                  <a:latin typeface="Times New Roman"/>
                </a:rPr>
                <a:t>برامج للتعامل مع البيانات المخزن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58" name="AutoShape 11"/>
            <p:cNvCxnSpPr>
              <a:stCxn id="956" idx="2"/>
              <a:endCxn id="957" idx="0"/>
            </p:cNvCxnSpPr>
            <p:nvPr/>
          </p:nvCxnSpPr>
          <p:spPr>
            <a:xfrm>
              <a:off x="4419360" y="2819520"/>
              <a:ext cx="1080" cy="305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959" name="Group 20"/>
          <p:cNvGrpSpPr/>
          <p:nvPr/>
        </p:nvGrpSpPr>
        <p:grpSpPr>
          <a:xfrm>
            <a:off x="3048120" y="457200"/>
            <a:ext cx="2743200" cy="1829160"/>
            <a:chOff x="3048120" y="457200"/>
            <a:chExt cx="2743200" cy="1829160"/>
          </a:xfrm>
        </p:grpSpPr>
        <p:grpSp>
          <p:nvGrpSpPr>
            <p:cNvPr id="960" name="Group 19"/>
            <p:cNvGrpSpPr/>
            <p:nvPr/>
          </p:nvGrpSpPr>
          <p:grpSpPr>
            <a:xfrm>
              <a:off x="3048120" y="1219320"/>
              <a:ext cx="2743200" cy="1067040"/>
              <a:chOff x="3048120" y="1219320"/>
              <a:chExt cx="2743200" cy="1067040"/>
            </a:xfrm>
          </p:grpSpPr>
          <p:sp>
            <p:nvSpPr>
              <p:cNvPr id="961" name="Rectangle 4"/>
              <p:cNvSpPr/>
              <p:nvPr/>
            </p:nvSpPr>
            <p:spPr>
              <a:xfrm>
                <a:off x="3048120" y="1219320"/>
                <a:ext cx="2743200" cy="5331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400" spc="-1" strike="noStrike">
                    <a:solidFill>
                      <a:srgbClr val="ffffff"/>
                    </a:solidFill>
                    <a:latin typeface="Times New Roman"/>
                  </a:rPr>
                  <a:t>برامج تطبيقية/استفسارات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962" name="AutoShape 12"/>
              <p:cNvCxnSpPr>
                <a:stCxn id="961" idx="2"/>
                <a:endCxn id="956" idx="0"/>
              </p:cNvCxnSpPr>
              <p:nvPr/>
            </p:nvCxnSpPr>
            <p:spPr>
              <a:xfrm>
                <a:off x="4419360" y="1752480"/>
                <a:ext cx="1080" cy="53424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963" name="Line 13"/>
            <p:cNvSpPr/>
            <p:nvPr/>
          </p:nvSpPr>
          <p:spPr>
            <a:xfrm>
              <a:off x="4419720" y="8380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3124080" y="45720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مستخدمون / برام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5" name="Group 21"/>
          <p:cNvGrpSpPr/>
          <p:nvPr/>
        </p:nvGrpSpPr>
        <p:grpSpPr>
          <a:xfrm>
            <a:off x="2209680" y="3657600"/>
            <a:ext cx="4648320" cy="1447920"/>
            <a:chOff x="2209680" y="3657600"/>
            <a:chExt cx="4648320" cy="1447920"/>
          </a:xfrm>
        </p:grpSpPr>
        <p:sp>
          <p:nvSpPr>
            <p:cNvPr id="966" name="AutoShape 8"/>
            <p:cNvSpPr/>
            <p:nvPr/>
          </p:nvSpPr>
          <p:spPr>
            <a:xfrm>
              <a:off x="5867280" y="4191120"/>
              <a:ext cx="990720" cy="914400"/>
            </a:xfrm>
            <a:prstGeom prst="flowChartMagneticDisk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993300"/>
                  </a:solidFill>
                  <a:latin typeface="Times New Roman"/>
                  <a:cs typeface="Times New Roman"/>
                </a:rPr>
                <a:t>البيانات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67" name="AutoShape 9"/>
            <p:cNvCxnSpPr>
              <a:stCxn id="957" idx="2"/>
            </p:cNvCxnSpPr>
            <p:nvPr/>
          </p:nvCxnSpPr>
          <p:spPr>
            <a:xfrm flipH="1">
              <a:off x="2666160" y="3657600"/>
              <a:ext cx="1753560" cy="534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8" name="AutoShape 10"/>
            <p:cNvCxnSpPr>
              <a:stCxn id="957" idx="2"/>
              <a:endCxn id="966" idx="1"/>
            </p:cNvCxnSpPr>
            <p:nvPr/>
          </p:nvCxnSpPr>
          <p:spPr>
            <a:xfrm>
              <a:off x="4419360" y="3657600"/>
              <a:ext cx="1943640" cy="534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69" name="AutoShape 17"/>
            <p:cNvSpPr/>
            <p:nvPr/>
          </p:nvSpPr>
          <p:spPr>
            <a:xfrm>
              <a:off x="2209680" y="4191120"/>
              <a:ext cx="990720" cy="914400"/>
            </a:xfrm>
            <a:prstGeom prst="flowChartMagneticDisk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993300"/>
                  </a:solidFill>
                  <a:latin typeface="Times New Roman"/>
                  <a:cs typeface="Times New Roman"/>
                </a:rPr>
                <a:t>وصف البيانات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0" name="Text Box 18"/>
          <p:cNvSpPr/>
          <p:nvPr/>
        </p:nvSpPr>
        <p:spPr>
          <a:xfrm>
            <a:off x="1371600" y="54100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خطط يوضح قواعد البيانات ونظم إدارت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خواص تفرق بين قواعد البيانات ونظم الملفات التقليدية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228600" y="13525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يوجد العديد من الخواص التى تفرق بين قواعد البيانات ونظم الملفات التقليدية وه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الوصف الذاتي للبيانات (</a:t>
            </a:r>
            <a:r>
              <a:rPr b="1" lang="en-US" sz="2800" spc="-1" strike="noStrike" u="sng">
                <a:solidFill>
                  <a:srgbClr val="0d0dff"/>
                </a:solidFill>
                <a:uFillTx/>
                <a:latin typeface="Arial"/>
              </a:rPr>
              <a:t>Self-Description Nature</a:t>
            </a: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تحتوى قواعد البيانات علي البيانات ووصف البيانات وذلك عن طريق إنشاء فهرس البيانات والذى يحتوي على ما يسمى (</a:t>
            </a: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Meta-data</a:t>
            </a: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الفصل بين البرامج والبيانات(</a:t>
            </a:r>
            <a:r>
              <a:rPr b="1" lang="en-US" sz="2800" spc="-1" strike="noStrike" u="sng">
                <a:solidFill>
                  <a:srgbClr val="0d0dff"/>
                </a:solidFill>
                <a:uFillTx/>
                <a:latin typeface="Arial"/>
              </a:rPr>
              <a:t>Program/Data Insulation</a:t>
            </a: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لا تحتوى البرامج على وصف البيانات بل يوجد فصل بينهم مما يتيح إمكانية تعديل شكل البيانات بدون الحاجة لتعديل البرام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d0dff"/>
                </a:solidFill>
                <a:latin typeface="Arial"/>
              </a:rPr>
              <a:t>المشاركة فى البيانات والتعامل مع العديد من المستخدم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0dff"/>
                </a:solidFill>
                <a:latin typeface="Arial"/>
              </a:rPr>
              <a:t>	</a:t>
            </a: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0d0dff"/>
                </a:solidFill>
                <a:uFillTx/>
                <a:latin typeface="Arial"/>
              </a:rPr>
              <a:t>Data Sharing and Multi-user system</a:t>
            </a: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تتيح قواعد البيانات المشاركة في استخدام البيانات وكذلك تعطي إمكانية تعامل العديد من المستخدمين مع نفس قواعد البيانات في نفس الوقت بدون مشاك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0D02-826E-4D57-9DA8-0C245488C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ستخدم 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دير قواعد البيانات(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DBA</a:t>
            </a: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هو الذي يقوم بإدارة قواعد البيانات والتحكم في صلاحيات العمل ومراقبة النظام وتحسين أداء قواعد البي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صمم قواعد البيانات (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DB Designer</a:t>
            </a: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يقوم بتصميم قواعد البيانات ليتم إنشائها وبنائها بطريقة ذات كفاءة عالية طبقا لمتطلبات المستخد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ستخدم قواعد البيانات (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End User</a:t>
            </a: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بعض المستخدمين يكون لديهم الخبرة الكافية لإعداد الاستفسارات المطلوبة بلغة الاستفسارات، وبعض المستخدمين ليس لديهم الخبرة فيتم إنشاء برامج خاصة لهم يقومون بتشغيلها للحصول على المطل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69B8-4D68-4ED2-8E4B-3BA38A39C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ستخدم 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حلل النظم ومبرمج النظم(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Analyst &amp; Programmer</a:t>
            </a: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يقوم محلل النظم بتحديد متطلبات المستخدم وتطوير هذه المواصفات المطلوبة لتحديد المطلوب من قواعد البي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بينما يقوم مبرمج النظم بتنفيذ المتطلبات لإنشاء التطبيقات المناس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هندسة النظم هي عملية تحليل النظام بالإضافة لعملية إنشاء البرامج التطبيق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محلل النظم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 +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 مبرمج النظم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←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 مهندس النظم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( Analyst   +     Programmer  →    Software Engine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7033-AEB8-4209-80B0-3EAEDC2DC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أشخاص يتعاملون مع قواعد البيانات بطريقة غير مباشرة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76212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هؤلاء الأشخاص لا يهتمون بقواعد البيانات ذاتها ولكنهم يقدمون لمستخدم قواعد البيانات البيئة اللازمة لهم وهم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صمموا ومنفذوا نظم إدارة قواعد البيانات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هم الذين يقومون بتصميم وتنفيذ نظم إدارة قواعد البيانات نفس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طوروا البرامج المساعدة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الذين يقومون بتطوير البرامج المساعدة مثل برامج تحليل النظم، تصميم النظم، إنشاء وتطوير التطبيقات، إنشاء التقارير وواجهات التطبي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المشغلون وأفراد الصيانة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الذين يقومون بتشغيل النظم وإدارتها وصيانتها وكذلك صيانة البرامج والأجهزة المستخدمة في إنشاء وتطوير قواعد البيان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8E7E-CF6C-4702-BE7B-388B7EBAB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leh Al-Hammami, PhD.</dc:creator>
  <dc:description/>
  <dc:language>en-US</dc:language>
  <cp:lastModifiedBy>Saleh Al-Hammami, PhD.</cp:lastModifiedBy>
  <dcterms:modified xsi:type="dcterms:W3CDTF">2016-01-27T09:11:43Z</dcterms:modified>
  <cp:revision>82</cp:revision>
  <dc:subject/>
  <dc:title>PowerPoint Presentation</dc:title>
</cp:coreProperties>
</file>