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5CBB-E96D-44A0-8A6F-9EFB5BFF4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7FD-07E8-4DFB-8B1A-85847FE8AB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10C-5B6F-4E20-B92E-B5367878E1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F589-C8BD-4F98-97F6-EA9E030667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CEE-4005-4C62-BB44-7A1103225B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AD3-59CC-44B7-AE93-F7287F601F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7B2-912D-4BDC-8EE8-67FD155B6D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AE9-C1A3-4FD4-8088-89C497E851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9771-36BA-410B-AA5C-779ECE23F0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52DF-4C16-4469-8AF1-470B1AC9BF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3582-11F3-4B86-ACF5-38F99C28CE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CCF-52BB-49F0-8733-3A2BEB46BB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C9DA-3BDC-45DF-82EC-04119558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B1CD-4B19-47ED-80EA-EBABCD4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B4FE1-47F8-4623-90B1-1AC22C2E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EB679-9F14-48B1-84E6-9F8FB24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A9C43-EBC4-4349-B34C-7CA476EE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C88EA-20E5-436C-9C91-F40C135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65916-B38B-4B24-B589-F576E1D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7C86C-C948-4D63-A617-3EF33B9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AE92C-42A2-4942-AC64-DDA86F34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35148-7AB8-4F8B-9950-1397CD06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2BA96-DB8C-4E5B-80AE-7C848092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0FCF7-F248-4A5F-90D9-17F649C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8853-33F9-4B84-9360-E7120ABF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5D1B4-2317-486C-872E-BD13C97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2D175-23F7-432A-BEFD-1CE358FB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A2DA4-718E-459E-8309-6059E6F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5C17D-BB45-49B2-9D4E-8881841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6204F-B174-4D1A-A778-45F20C5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F6AAD-C14C-41E2-ABF5-400BA64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926C6-B2A1-461D-8B7B-16ED018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BF769-566C-4180-818E-6953FDBE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1EFB9-8391-443D-ABFA-FB020DB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0065E-844A-4378-BBCA-5F6E50A7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7D7B-176F-43BB-BFFD-7656CF47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B1A03-9575-4D10-A75E-39C526F9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218FFD-8CF8-476A-BB63-596D1B0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F19966-4556-470E-9C4C-41652779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E9B631-CAA9-4FB0-B079-B44476D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75ABFE-B69F-4935-9316-0B6DDE5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7F4A2E-4215-4AE0-8FC8-F01BD69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B56A43-6B23-4A57-BCA1-7F2879A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817B84-4DF7-4797-BC39-E765B81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388A58-22E5-4772-8FD3-D58504A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C9BFFF-33AA-4042-B95D-BE94F05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F4C-247D-4B06-9684-1C1E2E13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F187E5-A5C9-464B-A4C1-64EA486D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D026F6-0E01-46CD-BD77-01FA646E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D4CF04-F4EE-4447-A67D-E12B0B21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7F7D3-8B8F-4DBC-9736-FBBBD3FE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5FA58-638D-4B52-A226-E76B465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DF10C-1605-4D84-89FA-2B45DD4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1C7AD-FBE0-46A0-9E25-F5B9651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D32F1-067D-4619-BEBA-C6A7D8D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EE5E4-99A6-4C54-BBEE-2DEE934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666E1-2353-411E-848F-530C722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4BA1-F24A-4A5E-B93D-63F7688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344EE-F3BD-47FF-9749-D2AD525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E7D03-4DDA-490E-A9D8-C22672E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16D94-E488-4AF4-95E8-021813A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6E50E-DEE2-4F41-90BC-8569D6A4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7DC79-9AAB-4917-9C00-7656C35D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B0D-B9DF-4CBF-82E5-2DBFE72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CDD7-F004-4799-BC60-4BC8C7A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2613-9163-462E-80BC-A6BE438D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3555-1192-42FE-8C8D-41CC12A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4148-9D33-4A01-92BA-3A33011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94C3-2604-4D96-9170-0CBDF95B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B46A-6895-4F09-9D1F-5220332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B824-82B7-46FB-A489-87E2CB9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9D2-77EA-472E-B170-A4A640E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DEA3-4CF5-45D0-B794-4CC4BD3A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9AA7-9C87-4453-8B0D-1347B3A9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98454-2F5C-4F2C-9036-6E4E3C9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6F324-A82B-4B9E-B7E2-85BF461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855C8-56F2-42BE-ABF2-DD0BEB76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FFD4A-B347-48FC-96F5-F772DBE5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0ACBF-A96B-4444-9AEE-1130839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E8B-3A1C-4022-8560-83051FC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02CAA-E558-4439-BF7F-A5CA908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81C9C-CCB6-4CC7-B7C9-0EFDF45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9F037-9A76-4B9A-B2EB-F0B81F8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FE62A-61D5-413B-A12D-41DF4AA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A7A22-D76B-45E7-A5D9-F92E826C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199B5-67EF-4DFD-94F0-E1123B2F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D7D8A-BCB6-42E1-A685-6472EFD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A23A5-C466-4ECB-9471-6F3C2789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CBA37-61A7-4C88-9837-61602242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4B3FF-B411-48FC-A108-815EFE1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1630-0A91-481C-97E3-CA9ADE07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6288A-1286-46A9-93C9-26218DAB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8280B-53F8-4501-B768-7A516A7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B6A60-1A71-4B4F-8F01-2DFE99C0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77084-A73D-4C02-AB52-FEABA48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BEAC7-3EC4-4B5A-9F4C-C06B715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69A8E-AEA9-4A86-ABE5-49B9FC1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B0967-03A3-4F40-A720-CA48E148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CA3F9-F68F-4159-BA1A-6C6622F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5F8AA-E9CE-4D4B-9703-9BAB944F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528DB-0FCA-4EFE-8064-C51000A7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DFB3-776B-4825-BBDE-3F0349B7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9477D-FBE2-413B-89D2-3F5C231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E29B7-B974-4326-96AB-6C8418F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39BEF-F386-473B-A0B0-5EDD0E9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6AA21-779A-42F4-BFF6-7ABCF8E5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0DDDE-E8D4-4831-8C97-3281CC78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F6FA9-5541-407B-9FBC-9B439D8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576F5-C72C-4B43-9487-2652395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979A9-D3B9-4DE3-834E-5BBBBFB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236AA2-482D-4611-8A1E-BF2FA33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8F9CD-59E5-4857-990F-6FD1DC6B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6E57-3D04-40BC-A868-4EF6122D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55F8B-DA9A-4CF4-92EF-603FD36B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BB023C-6EBA-4F06-8B17-1FF44778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DD8C6-F1E5-4D66-ADC9-7BA42B8A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91BE2F-EBC1-4D17-96E5-AA21A39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84867-A153-43B8-A8C7-03151AA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E76ED-B273-4139-9AA4-AC037775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24960F-D189-491F-8490-D36DFB12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5FC1C-B2C6-43E1-B5D3-3EBEDC4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1BFDE-2CAD-4BEC-955C-7075EA7B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F2E22-4036-49B0-9353-8B85E00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6179-82A9-4032-9AD0-B4849AC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E6F4C-645D-4F14-A3D1-AF4020F7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45B86-B4F7-48C2-8614-59B0B768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2855C8-258A-47A1-8EC5-7EA9A5FC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75B87-F26C-4BDF-87B4-6AB7AA5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21C810-0DE8-4968-9444-61E452E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BCE76-56AC-4D9E-8311-6B50F0B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1830C-58A1-410B-B958-01656F0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B962DA-98CF-43DD-B275-1550BACA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505D0-1A9C-46CB-8335-8C5399D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8D22C8-AF66-4C45-A490-D4DC230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70F5-CC9E-4C1F-A6BA-7180AB9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9F644-E13C-4F80-A203-D4CD2DB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2B4DFE-2457-403E-B3D5-DD2C9A5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0C28B0-2EA1-4683-A906-0589614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6A9F2-9910-4FBE-80A0-9681D19A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070F3-14C0-405E-BF92-B2062CB9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41CE0D-6135-4A5E-9072-FAD3FBEF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37EC7-380F-4C3E-9F21-45FB1DD2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7494E-C09E-407E-B430-606FEE6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2F68ED-47F5-4E79-A20A-C903D95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AE9C0C-07B3-47BA-AD47-D3D9E49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2EA1-2683-4C11-9810-829BDD5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B7A350-EAC3-418B-95E3-EC1D440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BEC935-2059-450A-B10F-0EC777B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E207EA-2627-420C-8E37-5B4A946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A8CE6-64ED-4B73-9D8A-9393A66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7B0C6-31C6-4A65-87EB-D9803635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69159-A7B1-4204-9FE0-A4CF0F39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7217C-D04C-4418-B364-BEFCE728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67AAC-D5C1-48DD-87CB-6F87A6F4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E4F9D-E61A-4243-9C06-2945A1C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59D7A-0AC2-4765-9259-B31CE7D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622-205A-40F9-8CCC-1D7FADF7F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Straight Connector 222" descr=""/>
          <p:cNvPicPr/>
          <p:nvPr/>
        </p:nvPicPr>
        <p:blipFill>
          <a:blip r:embed="rId8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223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CD4-1A8F-403F-9502-4B213FFEA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73A-277A-4DC9-8AF1-B9EC90D10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65C-EC64-44E2-AFF6-A276F233B2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6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5" name="Straight Connector 440" descr=""/>
          <p:cNvPicPr/>
          <p:nvPr/>
        </p:nvPicPr>
        <p:blipFill>
          <a:blip r:embed="rId3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476" name="Straight Connector 441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014-90BE-4D72-B036-0A53A2F74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Straight Connector 224" descr=""/>
          <p:cNvPicPr/>
          <p:nvPr/>
        </p:nvPicPr>
        <p:blipFill>
          <a:blip r:embed="rId3"/>
          <a:stretch/>
        </p:blipFill>
        <p:spPr>
          <a:xfrm>
            <a:off x="444600" y="1384200"/>
            <a:ext cx="8626320" cy="66600"/>
          </a:xfrm>
          <a:prstGeom prst="rect">
            <a:avLst/>
          </a:prstGeom>
          <a:ln w="0">
            <a:noFill/>
          </a:ln>
        </p:spPr>
      </p:pic>
      <p:sp>
        <p:nvSpPr>
          <p:cNvPr id="519" name="Straight Connector 225"/>
          <p:cNvSpPr/>
          <p:nvPr/>
        </p:nvSpPr>
        <p:spPr>
          <a:xfrm>
            <a:off x="8748720" y="981000"/>
            <a:ext cx="0" cy="551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96E1-6FDA-4C5A-A95C-ADD679B2C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A158-5356-45BC-9C17-709D6B081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C42-E5DC-4A16-90F5-7A6224DB74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6DA-10EB-4B48-A0E1-491CBFA41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C45-6487-4D31-8712-96FCC5B45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ECD-C711-467E-B786-F4A55EC18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29B-431B-4D43-8458-6470D57ED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مقدمة لقواعد البيانات</a:t>
            </a:r>
            <a:br>
              <a:rPr sz="5400"/>
            </a:b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 (</a:t>
            </a: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1203</a:t>
            </a: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 عال)</a:t>
            </a:r>
            <a:br>
              <a:rPr sz="5400"/>
            </a:br>
            <a:r>
              <a:rPr b="0" lang="en-US" sz="5400" spc="-1" strike="noStrike">
                <a:solidFill>
                  <a:srgbClr val="0d0dff"/>
                </a:solidFill>
                <a:latin typeface="Arial"/>
              </a:rPr>
              <a:t> </a:t>
            </a:r>
            <a:br>
              <a:rPr sz="5400"/>
            </a:br>
            <a:r>
              <a:rPr b="0" lang="ar-EG" sz="5400" spc="-1" strike="noStrike">
                <a:solidFill>
                  <a:srgbClr val="0d0dff"/>
                </a:solidFill>
                <a:latin typeface="Arial"/>
              </a:rPr>
              <a:t>الفصل الأول</a:t>
            </a:r>
            <a:br>
              <a:rPr sz="5400"/>
            </a:br>
            <a:r>
              <a:rPr b="0" lang="ar-SA" sz="5400" spc="-1" strike="noStrike">
                <a:solidFill>
                  <a:srgbClr val="0d0dff"/>
                </a:solidFill>
                <a:latin typeface="Arial"/>
              </a:rPr>
              <a:t>قواعد البيانات ومستخدميها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ميزات استخدا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تحكم فى تكرار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فرض القيود على المستخدمين الذين ليس لهم صلاحيات معي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بيئة تخزين لاتفقد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سماح باستنباط معلومات من البيانات المتواج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واجهات متعددة لتعامل المستخدم مع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يل العلاقات المعقدة بين البيانات بسهو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فرض قيود التكامل بين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F71-1F78-4D67-96B5-A4176EEE7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ميزات استخدا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5720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طرق متعددة للحصول على النسخ الاحتياطية و كذلك معالجة البيانات فى حالات الأعطال التى قد تحدث لقواعد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ساعد على وضع معايير قياسية للتعامل مع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قليل زمن تطوير البرام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لمرونة الشديدة فى استخدام وتعديل البيان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وفير بيانات على درجة عالية من التحدي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قتصادية الاستخد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FEB-97B0-45D8-B47B-A56AFA1FC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تى لا ن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ت تكلفة الإعداد عالية بالنسبة لحجم المشرو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ت قاعدة البيانات و التطبيقات بسيطة و سه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كان المشروع يحتاج لسرعة استجابة عالية جدا وبشكل ضرو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اذا كان العمل لا يحتاج الى بيئة ذات عدة مستخدم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5DA-BFD3-41D4-B67C-6C59518B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قدمة ل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قواعد البيانات هي مجموعة من البيانات المرتبط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خواص قواعد البيان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ل بعض مظاهر العالم الحقيقي. أي إنها تمثل حالة من حالات البيانات التي تصف موضوع حقيق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تمثل مجموعة من البيانات المتلاصقة منطقيا وتحتوي على معنى ضم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تم تصميمها و تخزين البيانات بها من أجل غرض مع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808-391A-44AD-9C56-4B5D8BA2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خواص أخرى ل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05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مكن أن تكون قاعدة البيانات في أي حجم فيمكن أن تحتوي على القليل من السجلات أو المئات منها ويمكن أن تحتوي على مئات الملايين من السجل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يمكن أن يتم إنشائها و التعامل معها يدويا أو باستخدام الحاسبات الآل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إذا تم استخدام الحاسب الآلي لإدارة قواعد البيانات فإن ذلك يتم عن طريق مجموعة من البرامج التي تصمم خصيصا لذلك أو عن طريق استخدام نظم إدارة قواعد البيانات 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        </a:t>
            </a:r>
            <a:r>
              <a:rPr b="0" lang="ar-SA" sz="3200" spc="-1" strike="noStrike">
                <a:solidFill>
                  <a:srgbClr val="0d0d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Database Management System (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A1D7-3645-4BEC-9AFF-2D8FA76F5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نظم إدارة قواعد البيانات</a:t>
            </a:r>
            <a:br>
              <a:rPr sz="4400"/>
            </a:b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d0dff"/>
                </a:solidFill>
                <a:latin typeface="Arial"/>
              </a:rPr>
              <a:t>Database Management System (DBMS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نظم إدارة قواعد البيان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هي مجموعة من البرامج التي تمكن المستخدم من إنشاء ومعالجة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يتم إنشاء هذه النظم لتساعد المستخدم في تعريف وبناء ومعالجة قواعد البيان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تعريف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المقصود منه هو تعريف البيان ونوعه وبنائه ووصف القيود المفروضة عل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بناء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هو تحديد طريقة تخزينها وكيفية البناء وتنفيذ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 algn="r" rtl="1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ff"/>
                </a:solidFill>
                <a:uFillTx/>
                <a:latin typeface="Arial"/>
              </a:rPr>
              <a:t>معالجة البيانات</a:t>
            </a:r>
            <a:r>
              <a:rPr b="0" lang="ar-SA" sz="2000" spc="-1" strike="noStrike">
                <a:solidFill>
                  <a:srgbClr val="0d0dff"/>
                </a:solidFill>
                <a:latin typeface="Arial"/>
              </a:rPr>
              <a:t>: هو تعديل البيانات و إنشاء الاستفسارات و إنشاء التقاري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سمى قواعد البيانات + نظم إدارة قواعد البيانات بنظم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(قواعد البيانات + نظم إدارة قواعد البيانات 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←</a:t>
            </a: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 نظم قواعد البيانات )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Database (DB)  +  DBMS  →   Database System (D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35E-A832-449B-A32B-0637380D6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8253-AD9A-490B-A175-45C82ED35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533520" y="457200"/>
            <a:ext cx="8001000" cy="4724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4"/>
          <p:cNvSpPr/>
          <p:nvPr/>
        </p:nvSpPr>
        <p:spPr>
          <a:xfrm>
            <a:off x="1828800" y="2057400"/>
            <a:ext cx="5257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3300"/>
                </a:solidFill>
                <a:latin typeface="Times New Roman"/>
              </a:rPr>
              <a:t>نظم إدا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3300"/>
                </a:solidFill>
                <a:latin typeface="Times New Roman"/>
              </a:rPr>
              <a:t>قواعد البيان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3"/>
          <p:cNvSpPr/>
          <p:nvPr/>
        </p:nvSpPr>
        <p:spPr>
          <a:xfrm>
            <a:off x="6400800" y="609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نظم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2666880" y="2286000"/>
            <a:ext cx="3505320" cy="1371600"/>
            <a:chOff x="2666880" y="2286000"/>
            <a:chExt cx="3505320" cy="1371600"/>
          </a:xfrm>
        </p:grpSpPr>
        <p:sp>
          <p:nvSpPr>
            <p:cNvPr id="956" name="Rectangle 5"/>
            <p:cNvSpPr/>
            <p:nvPr/>
          </p:nvSpPr>
          <p:spPr>
            <a:xfrm>
              <a:off x="3048120" y="2286000"/>
              <a:ext cx="274320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</a:rPr>
                <a:t>برامج لتنفيذ التطبيقات والاستفسارا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6"/>
            <p:cNvSpPr/>
            <p:nvPr/>
          </p:nvSpPr>
          <p:spPr>
            <a:xfrm>
              <a:off x="2666880" y="3124080"/>
              <a:ext cx="35053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ff"/>
                  </a:solidFill>
                  <a:latin typeface="Times New Roman"/>
                </a:rPr>
                <a:t>برامج للتعامل مع البيانات المخزن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58" name="AutoShape 11"/>
            <p:cNvCxnSpPr>
              <a:stCxn id="956" idx="2"/>
              <a:endCxn id="957" idx="0"/>
            </p:cNvCxnSpPr>
            <p:nvPr/>
          </p:nvCxnSpPr>
          <p:spPr>
            <a:xfrm>
              <a:off x="4419360" y="2819520"/>
              <a:ext cx="1080" cy="305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59" name="Group 20"/>
          <p:cNvGrpSpPr/>
          <p:nvPr/>
        </p:nvGrpSpPr>
        <p:grpSpPr>
          <a:xfrm>
            <a:off x="3048120" y="457200"/>
            <a:ext cx="2743200" cy="1829160"/>
            <a:chOff x="3048120" y="457200"/>
            <a:chExt cx="2743200" cy="1829160"/>
          </a:xfrm>
        </p:grpSpPr>
        <p:grpSp>
          <p:nvGrpSpPr>
            <p:cNvPr id="960" name="Group 19"/>
            <p:cNvGrpSpPr/>
            <p:nvPr/>
          </p:nvGrpSpPr>
          <p:grpSpPr>
            <a:xfrm>
              <a:off x="3048120" y="1219320"/>
              <a:ext cx="2743200" cy="1067040"/>
              <a:chOff x="3048120" y="1219320"/>
              <a:chExt cx="2743200" cy="1067040"/>
            </a:xfrm>
          </p:grpSpPr>
          <p:sp>
            <p:nvSpPr>
              <p:cNvPr id="961" name="Rectangle 4"/>
              <p:cNvSpPr/>
              <p:nvPr/>
            </p:nvSpPr>
            <p:spPr>
              <a:xfrm>
                <a:off x="3048120" y="1219320"/>
                <a:ext cx="2743200" cy="5331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400" spc="-1" strike="noStrike">
                    <a:solidFill>
                      <a:srgbClr val="ffffff"/>
                    </a:solidFill>
                    <a:latin typeface="Times New Roman"/>
                  </a:rPr>
                  <a:t>برامج تطبيقية/استفسارات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962" name="AutoShape 12"/>
              <p:cNvCxnSpPr>
                <a:stCxn id="961" idx="2"/>
                <a:endCxn id="956" idx="0"/>
              </p:cNvCxnSpPr>
              <p:nvPr/>
            </p:nvCxnSpPr>
            <p:spPr>
              <a:xfrm>
                <a:off x="4419360" y="1752480"/>
                <a:ext cx="1080" cy="5342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963" name="Line 13"/>
            <p:cNvSpPr/>
            <p:nvPr/>
          </p:nvSpPr>
          <p:spPr>
            <a:xfrm>
              <a:off x="4419720" y="8380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3124080" y="45720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ستخدمون / برام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Group 21"/>
          <p:cNvGrpSpPr/>
          <p:nvPr/>
        </p:nvGrpSpPr>
        <p:grpSpPr>
          <a:xfrm>
            <a:off x="2209680" y="3657600"/>
            <a:ext cx="4648320" cy="1447920"/>
            <a:chOff x="2209680" y="3657600"/>
            <a:chExt cx="4648320" cy="1447920"/>
          </a:xfrm>
        </p:grpSpPr>
        <p:sp>
          <p:nvSpPr>
            <p:cNvPr id="966" name="AutoShape 8"/>
            <p:cNvSpPr/>
            <p:nvPr/>
          </p:nvSpPr>
          <p:spPr>
            <a:xfrm>
              <a:off x="5867280" y="4191120"/>
              <a:ext cx="990720" cy="914400"/>
            </a:xfrm>
            <a:prstGeom prst="flowChartMagneticDisk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البيانا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67" name="AutoShape 9"/>
            <p:cNvCxnSpPr>
              <a:stCxn id="957" idx="2"/>
            </p:cNvCxnSpPr>
            <p:nvPr/>
          </p:nvCxnSpPr>
          <p:spPr>
            <a:xfrm flipH="1">
              <a:off x="2666160" y="3657600"/>
              <a:ext cx="175356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8" name="AutoShape 10"/>
            <p:cNvCxnSpPr>
              <a:stCxn id="957" idx="2"/>
              <a:endCxn id="966" idx="1"/>
            </p:cNvCxnSpPr>
            <p:nvPr/>
          </p:nvCxnSpPr>
          <p:spPr>
            <a:xfrm>
              <a:off x="4419360" y="3657600"/>
              <a:ext cx="194364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69" name="AutoShape 17"/>
            <p:cNvSpPr/>
            <p:nvPr/>
          </p:nvSpPr>
          <p:spPr>
            <a:xfrm>
              <a:off x="2209680" y="4191120"/>
              <a:ext cx="990720" cy="914400"/>
            </a:xfrm>
            <a:prstGeom prst="flowChartMagneticDisk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وصف البيانات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Text Box 18"/>
          <p:cNvSpPr/>
          <p:nvPr/>
        </p:nvSpPr>
        <p:spPr>
          <a:xfrm>
            <a:off x="1371600" y="54100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طط يوضح قواعد البيانات ونظم إدار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خواص تفرق بين قواعد البيانات ونظم الملفات التقليدية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28600" y="13525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وجد العديد من الخواص التى تفرق بين قواعد البيانات ونظم الملفات التقليدية وه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الوصف الذاتي للبيانات 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Self-Description Nature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حتوى قواعد البيانات علي البيانات ووصف البيانات وذلك عن طريق إنشاء فهرس البيانات والذى يحتوي على ما يسمى (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Meta-data</a:t>
            </a: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الفصل بين البرامج والبيانات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Program/Data Insulation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لا تحتوى البرامج على وصف البيانات بل يوجد فصل بينهم مما يتيح إمكانية تعديل شكل البيانات بدون الحاجة لتعديل البرام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d0dff"/>
                </a:solidFill>
                <a:latin typeface="Arial"/>
              </a:rPr>
              <a:t>المشاركة فى البيانات والتعامل مع العديد من المستخدم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0dff"/>
                </a:solidFill>
                <a:latin typeface="Arial"/>
              </a:rPr>
              <a:t>	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d0dff"/>
                </a:solidFill>
                <a:uFillTx/>
                <a:latin typeface="Arial"/>
              </a:rPr>
              <a:t>Data Sharing and Multi-user system</a:t>
            </a:r>
            <a:r>
              <a:rPr b="1" lang="ar-SA" sz="28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تتيح قواعد البيانات المشاركة في استخدام البيانات وكذلك تعطي إمكانية تعامل العديد من المستخدمين مع نفس قواعد البيانات في نفس الوقت بدون مشاك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662-2CBC-47C8-A838-372A25B06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دير قواعد البيانات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DBA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و الذي يقوم بإدارة قواعد البيانات والتحكم في صلاحيات العمل ومراقبة النظام وتحسين أداء قواعد البي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صمم قواعد البيانات 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DB Design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قوم بتصميم قواعد البيانات ليتم إنشائها وبنائها بطريقة ذات كفاءة عالية طبقا لمتطلبات المستخد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ستخدم قواعد البيانات 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End Us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بعض المستخدمين يكون لديهم الخبرة الكافية لإعداد الاستفسارات المطلوبة بلغة الاستفسارات، وبعض المستخدمين ليس لديهم الخبرة فيتم إنشاء برامج خاصة لهم يقومون بتشغيلها للحصول على المطل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C7C-3A27-4AF8-A78B-6D8C30D4F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مستخدم قواعد البيانا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حلل النظم ومبرمج النظم(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Analyst &amp; Programmer</a:t>
            </a: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يقوم محلل النظم بتحديد متطلبات المستخدم وتطوير هذه المواصفات المطلوبة لتحديد المطلوب من قواعد البي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بينما يقوم مبرمج النظم بتنفيذ المتطلبات لإنشاء التطبيقات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ندسة النظم هي عملية تحليل النظام بالإضافة لعملية إنشاء البرامج التطبيق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محلل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مبرمج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←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مهندس النظم</a:t>
            </a: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( Analyst   +     Programmer  →    Software Engine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C25A-C0F8-4686-863A-53C2DF2D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ff"/>
                </a:solidFill>
                <a:latin typeface="Arial"/>
              </a:rPr>
              <a:t>أشخاص يتعاملون مع قواعد البيانات بطريقة غير مباشرة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هؤلاء الأشخاص لا يهتمون بقواعد البيانات ذاتها ولكنهم يقدمون لمستخدم قواعد البيانات البيئة اللازمة لهم وهم</a:t>
            </a:r>
            <a:r>
              <a:rPr b="0" lang="ar-SA" sz="2800" spc="-1" strike="noStrike">
                <a:solidFill>
                  <a:srgbClr val="0d0d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صمموا ومنفذوا نظم إدارة قواعد البيانات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هم الذين يقومون بتصميم وتنفيذ نظم إدارة قواعد البيانات نفس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مطوروا البرامج المساعدة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الذين يقومون بتطوير البرامج المساعدة مثل برامج تحليل النظم، تصميم النظم، إنشاء وتطوير التطبيقات، إنشاء التقارير وواجهات التطبي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d0dff"/>
                </a:solidFill>
                <a:uFillTx/>
                <a:latin typeface="Arial"/>
              </a:rPr>
              <a:t>المشغلون وأفراد الصيانة</a:t>
            </a:r>
            <a:r>
              <a:rPr b="1" lang="en-US" sz="3200" spc="-1" strike="noStrike" u="sng">
                <a:solidFill>
                  <a:srgbClr val="0d0d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ff"/>
                </a:solidFill>
                <a:latin typeface="Arial"/>
              </a:rPr>
              <a:t>الذين يقومون بتشغيل النظم وإدارتها وصيانتها وكذلك صيانة البرامج والأجهزة المستخدمة في إنشاء وتطوير قواعد البيان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0EED-8C16-4F26-BE6D-8E0EDF5C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leh Al-Hammami, PhD.</dc:creator>
  <dc:description/>
  <dc:language>en-US</dc:language>
  <cp:lastModifiedBy>Saleh Al-Hammami, PhD.</cp:lastModifiedBy>
  <dcterms:modified xsi:type="dcterms:W3CDTF">2016-01-27T09:11:43Z</dcterms:modified>
  <cp:revision>82</cp:revision>
  <dc:subject/>
  <dc:title>PowerPoint Presentation</dc:title>
</cp:coreProperties>
</file>