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21C7-5B23-44EB-8F97-6B742DBAF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8EB6-CEAD-4449-BFE2-CB355B4210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aper that Started the Study of Computer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began with Rand Report R-609, sponsored by the Department of Defense, which attempted to define multiple controls and mechanisms necessary for the protection of a multilevel compute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cope of computer security grew from physical security to include: </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fety of the data itself</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imiting of random and unauthorized access to that data</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volvement of personnel from multiple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stage, the concept of computer security evolved into the more sophisticated system we call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D2B4-5C45-4B0B-B6E9-1A20DD076E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aper that Started the Study of Computer Security (continu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began with Rand Report R-609, sponsored by the Department of Defense, which attempted to define multiple controls and mechanisms necessary for the protection of a multilevel compute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cope of computer security grew from physical security to include: </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fety of the data itself</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imiting of random and unauthorized access to that data</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volvement of personnel from multiple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stage, the concept of computer security evolved into the more sophisticated system we call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07F9-1DFF-44E4-89DB-265C4F72DD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90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e close of the 20th century, as networks of computers became more common, so too did the need to connect the networks to each oth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ave rise to the Internet, the first manifestation of a global network of network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has been a price for the phenomenal growth of the Internet, however.  When security was considered at all, early Internet deployment treated it as a low prior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the requirement for networked computers became the dominant style of computing, the ability to physically secure that physical computer was lost, and the stored information became more exposed to security threat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2217-13BE-4843-84AB-57E812D3D0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 the Internet has brought millions of unsecured computer networks into communication with each 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ur ability to secure each computer’s stored information is now influenced by the security on each computer to which it is conn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B740-A3C0-49FC-84D9-D533A3B560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general, security is “the quality or state of being secure--to be free from dan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means to be protected from adversaries--from those who would do harm, intentionally or otherw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successful organization should have the following multiple layers of security in place for the protection of its operations: </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ysical security – To protect the physical items, objects, or areas of an organization from unauthorized access and misuse.</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ersonal security – To protect the individual or group of individuals who are authorized to access the organization and its operations.</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perations security – To protect the details of a particular operation or series of activities.</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munications security – To protect an organization’s communications media, technology, and content.</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etwork security – To protect networking components, connections, and content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571D-BC4B-4008-857E-78C0112FB3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therefore, is the protection of information and its critical elements, including the systems and hardware that use, store, and transmit that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ut to protect the information and its related systems from danger, tools, such as policy, awareness, training, education, and technology are necessar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I.A. triangle has been considered the industry standard for computer security since the development of the mainframe. It was solely based on three characteristics that described the utility of information: confidentiality, integrity, and availabil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I.A. triangle has expanded into a list of critical characteristics of inform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2A3F-0863-4D9C-976A-8D3F5F8A68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6D3F-34A4-4C72-9018-948914F679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1"/>
          <p:cNvSpPr>
            <a:spLocks noGrp="1"/>
          </p:cNvSpPr>
          <p:nvPr>
            <p:ph type="body"/>
          </p:nvPr>
        </p:nvSpPr>
        <p:spPr>
          <a:xfrm>
            <a:off x="914400" y="4343040"/>
            <a:ext cx="5029200" cy="53182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Key Terms</a:t>
            </a:r>
            <a:r>
              <a:rPr b="1"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cess - a subject or object’s ability to use, manipulate, modify, or affect another subject or objec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set - the organizational resource that is being protect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tack - an act that is an intentional or unintentional attempt to cause damage or compromise to the information and/or the systems that support i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trol, Safeguard, or Countermeasure - security mechanisms, policies, or procedures that can successfully counter attacks, reduce risk, resolve vulnerabilities, and otherwise improve the security within an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ploit - to take advantage of weaknesses or vulnerability in a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posure - a single instance of being open to dama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ack - Good: to use computers or systems for enjoyment; Bad: to illegally gain access to a computer o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bject - a passive entity in the information system that receives or contains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isk - the probability that something can happe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Blueprint - the plan for the implementation of new security measures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Model - a collection of specific security rules that represents the implementation of a security polic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osture or Security Profile - a general label for the combination of all policies, procedures, technologies, and programs that make up the total security effort currently in plac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ubject - an active entity that interacts with an information system and causes information to move through the system for a specific end purpos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reats - a category of objects, persons, or other entities that represents a potential danger to an asse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reat Agent - a specific instance or component of a more general thre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ulnerability - weaknesses or faults in a system or protection mechanism that expose information to attack or dama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F7DB-C542-42C4-9CC6-EFEDE9626D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Key Information Security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onsidering the security of information systems components, it is important to understand the concept of the computer as the subject of an attack as opposed to the computer as the object of an att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 computer is the subject of an attack, it is used as an active tool to conduct the attack. When a computer is the object of an attack, it is the entity being attack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51D9-631E-4E92-AF9F-6527414A6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2A30-9A0D-4B45-A1AB-473022065C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important to note that the same computer can be both the subject and object of an attack, especially in multiuser system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7B16-2833-4DB6-A3C6-97B9D212D0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ritical Characteristics of Inform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alue of information comes from the characteristics it possess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vailability – Enables users who need to access information to do so without interference or obstruction and in the required format. The information is said to be available to an authorized user when and where needed and in the correct form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curacy – Free from mistake or error and having the value that the end user expects. If information contains a value different from the user’s expectations due to the intentional or unintentional modification of its content, it is no longer accurat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uthenticity –The quality or state of being genuine or original, rather than a reproduction or fabrication. Information is authentic when it is the information that was originally created, placed, stored, or transferr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fidentiality – The quality or state of preventing disclosure or exposure to unauthorized individuals or system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grity – The quality or state of being whole, complete, and uncorrupted.  The integrity of information is threatened when the information is exposed to corruption, damage, destruction, or other disruption of its authentic stat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tility – The quality or state of having value for some purpose or end. Information has value when it serves a particular purpose. This means that if information is available, but not in a format meaningful to the end user, it is not usefu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ossession – The quality or state of having ownership or control of some object or item. Information is said to be in possession if one obtains it, independent of format or other characteristic. While a breach of confidentiality always results in a breach of possession, a breach of possession does not always result in a breach of confidentialit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47C7-F2C9-456C-9C1E-B4143B69B3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raphic informs the fundamental approach of the chapter and can be used to illustrate the intersection of information states (x-axis), key objectives of C.I.A. (y-axis), and the three primary means to implement (policy, education, and technology).</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9ABB-CBB2-4BAE-9816-769E98B34F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ponents of an Information System</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fully understand the importance of information security, it is necessary to briefly review the elements of an information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information system (IS) is much more than computer hardware; it is the entire set of software, hardware, data, people, and procedures necessary to use information as a resource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8B13-965B-4E2F-A8D6-7E1DD87BA7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nd Access Balan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onsidering information security, it is important to realize that it is impossible to obtain perfect security. Security is not an absolute; it is a process not a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should be considered a balance between protection and avail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achieve balance, the level of security must allow reasonable access yet protect against thr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7F7B-236C-45E8-9C05-218DADD00D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raphic intends to show the trade-offs between security and acces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2F4C-74A2-472F-B9B0-B61C729C7C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ottom-up Approach to Security 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can begin as a grass-roots effort when systems administrators attempt to improve the security of their systems. This is referred to as the bottom-up approach.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key advantage of the bottom-up approach is the technical expertise of the individual administrator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nfortunately, this approach seldom works, as it lacks a number of critical features, such as participant support and organizational staying pow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75F1-3D24-4814-AD94-C4B545FD15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op-down Approach to Security 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alternative approach, which has a higher probability of success, is called the top-down approach. The project is initiated by upper management who issue policy, procedures, and processes; dictate the goals and expected outcomes of the project; and determine who is accountable for each of the required action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op-down approach has strong upper-management support, a dedicated champion, dedicated funding, clear planning, and the opportunity to influence organizational cultur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st successful top-down approach also involves a formal development strategy referred to as a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413D-D7A9-4EA7-847B-E1589A4D99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key concept here is the direction of the left and right side arrows to show where planning is sourced and from which direction the pressure for success is driv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C8B6-CE6F-4281-AA88-B6B3BC5F8E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Upon completion of this chapter you should be able to:</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what information security is and how it came to mean what it does today</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Comprehend the history of computer security and how it evolved into information security</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the key terms and critical concepts of information security as presented in the chapter</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Outline the phases of the security systems development life cycle</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the role of professionals involved in information security in an organizational structu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7C31-96F7-4331-B39A-C1E23183AD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must be managed in a manner similar to any other major system implemented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est approach for implementing an information security system in an organization with little or no formal security in place is to use a variation of the Systems Development Life Cycle (SDLC): the Security Systems Development Life Cycle (SecSDLC).</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DLC is a methodology for the design and implementation of an information system in an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methodology is a formal approach to solving a problem based on a structured sequence of procedur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ing a methodology ensures a rigorous process and avoids missing those steps that can lead to compromising the end goal.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goal is creating a comprehensive security postur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6C37-D8E8-4987-B116-E17A5EF003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ery much a traditional SDLC diagra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AE17-2A92-4499-BB22-1A64C6FA12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vestig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phase, investigation, is the most importan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is the problem the system is being developed to solv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begins with an examination of the event or plan that initiates the proces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bjectives, constraints, and scope of the project are specified. A preliminary cost/benefit analysis is developed to evaluate the perceived benefits and the appropriate levels of cost an organization is willing to expend to obtain those benefi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feasibility analysis is performed to assesses the economic, technical, and behavioral feasibilities of the process and to ensure that implementation is worth the organization’s time and effort.</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1A87-5C18-4850-8FE0-C685789F06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nalysis phase begins with the information learned during the investigation p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consists primarily of assessments of the organization, the status of current systems, and the capability to support the propos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alysts begin to determine what the new system is expected to do and how it will interact with existing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ends with the documentation of the findings and a feasibility analysis up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E5D8-D8BF-432C-AF33-3E6116AC84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ogical Desig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logical design phase, the information gained from the analysis phase is used to begin creating a solution system for a business probl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n, based on the business need, select applications capable of providing needed servic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sed on the applications needed, select data support and structures capable of providing the needed inpu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based on all of the above, select specific technologies to implement the physical solu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end, another feasibility analysis is perform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A220-1AA3-46A4-9583-7343526933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hysical Desig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physical design phase, specific technologies are selected to support the alternatives identified and evaluated in the logical desig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lected components are evaluated based on a make-or-buy decision (develop in-house or purchase from a vendo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 designs integrate various components and technologi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fter yet another feasibility analysis, the entire solution is presented to the end user representatives for approva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79E7-D50D-46BA-966A-1FA1F88380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mple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implementation phase, any needed software is created or purcha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onents are ordered, received, and t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fterwards, users are trained and supporting documentation is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gain a feasibility analysis is prepared, and the users are then presented with the system for a performance review and acceptance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3682-609A-4B19-8F6D-52C7A06139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intenance and Chang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intenance and change phase is the longest and most expensive phase of the proces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consists of the tasks necessary to support and modify the system for the remainder of its useful life cycl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ven though formal development may conclude during this phase, the life cycle of the project continues until it is determined that the process should begin again from the investigation phase. When the current system can no longer support the changed mission of the organization, the project is terminated and a new project is implement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378D-6E51-4C05-9FE0-B8356B03BA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Security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ame phases used in the traditional SDLC can be adapted to support the specialized implementation of a security projec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undamental process is the identification of specific threats and the creation of specific controls to counter those threa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SDLC unifies the process and makes it a coherent program rather than a series of random, seemingly unconnected action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1BAB-730D-47C1-B325-C476553EC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vestig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nvestigation of the SecSDLC begins with a directive from upper management, dictating the process, outcomes, and goals of the project, as well as the constraints placed on the activ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requently, this phase begins with a statement of program security policy that outlines the implementation of secur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eams of responsible managers, employees, and contractors are organized, problems are analyzed, and scope is defined, including goals, objectives, and constraints not covered in the program polic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an organizational feasibility analysis is performed to determine whether the organization has the resources and commitment necessary to conduct a successful security analysis and desig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BAF1-48DF-4946-91E9-A46964191B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in today’s enterprise is a “well-informed sense of assurance that the information risks and controls are in balance.” – Jim Anderson, Inovant (2002)</a:t>
            </a:r>
            <a:r>
              <a:rPr b="0" lang="ar-SA" sz="1200" spc="-1" strike="noStrike">
                <a:solidFill>
                  <a:srgbClr val="000000"/>
                </a:solidFill>
                <a:latin typeface="Calibri"/>
                <a:ea typeface="Arial"/>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fore we can begin analyzing the details of information security, it is necessary to review the origins of this field and its impact on our understanding of information security today.</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4C1E-5F74-4849-89E2-362D3216D6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analysis phase, the documents from the investigation phase are stud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evelopment team conducts a preliminary analysis of existing security policies or programs, along with documented current threats and associated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also includes an analysis of relevant legal issues that could impact the design of the security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risk management task – identifying, assessing and evaluating the levels of risk facing the organization – also begins in this s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A344-41A7-4927-8518-C733ADACDA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body"/>
          </p:nvPr>
        </p:nvSpPr>
        <p:spPr>
          <a:xfrm>
            <a:off x="914400" y="4343040"/>
            <a:ext cx="5029200" cy="515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ogical Design</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logical design phase creates and develops the blueprints for security, and it  examines and implements key policies that influence later deci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so at this stage, critical planning is developed for incident response actions to be taken in the event of partial or catastrophic lo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ext, a feasibility analysis determines whether or not the project should continue or should be outsourc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BFFD-2F0C-439B-9E38-36F72BEC15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hysical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physical design phase, the security technology needed to support the blueprint outlined in the logical design is evaluated, alternative solutions are  generated, and a final design is agreed up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urity blueprint may be revisited to keep it synchronized with the changes needed when the physical design is comple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riteria needed to determine the definition of successful solutions is also prepared during this p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cluded at this time are the designs for physical security measures to support the proposed technological 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e end of this phase, a feasibility study should determine the readiness of the organization for the proposed project, and then the champion and users are presented with the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time, all parties involved have a chance to approve the project before implementation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4D2D-9776-4416-B99E-E6DBCC6573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mplementation phase is similar to the traditional SDLC.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urity solutions are acquired (made or bought), tested, implemented, and tested agai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ersonnel issues are evaluated, and specific training and education programs are conduct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the entire tested package is presented to upper management for final approva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C8DA-967B-4B4C-8A8F-E6CC595D26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intenance and Chang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intenance and change phase, though last, is perhaps most important, given the high level of ingenuity in today’s threa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reparation and restoration of information is a constant duel with an often-unseen adversar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new threats emerge and old threats evolve, the information security profile of an organization requires constant adaptation to prevent threats from successfully penetrating sensitive data</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AA17-57BF-43E0-99A7-96D412D9A1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Professionals and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takes a wide range of professionals to support a diverse information security progra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develop and execute specific security policies and procedures, additional administrative support and technical expertise is requir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7C72-29BD-43D7-A9BA-E4DC9FFAF6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nior Managemen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hief Information Officer – The senior technology officer, although other titles such as Vice President of Information, VP of Information Technology, and VP of Systems may be used. The CIO is primarily responsible for advising the Chief Executive Officer, President, or company owner on the strategic planning that affects the management of information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hief Information Security Officer – The individual primarily responsible for the assessment, management, and implementation of securing the information in the organization. The CISO may also be referred to as the Manager for Security, the Security Administrator, or a similar titl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5AA6-DF78-4223-99C8-318AC23AFF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Project Tea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number of individuals who are experienced in one or multiple requirements of both the technical and nontechnical area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hampion: A senior executive who promotes the project and ensures its support, both financially and administratively, at the highest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am leader: A project manager, who may be a departmental line manager or staff unit manager, who understands project management, personnel management, and information security technical requirement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olicy developers: Individuals who understand the organizational culture, policies, and requirements for developing and implementing successful policie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isk assessment specialists: People who understand financial risk assessment techniques, the value of organizational assets, and the security methods to be used.</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rofessionals: Dedicated, trained, and well-educated specialists in all aspects of information security from both technical and nontechnical standpoints.  </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ystems administrators: People with the primary responsibility for administering the systems that house the information used by the organization.</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d users: Those whom the new system will most directly impact. Ideally, a selection of users from various departments, levels, and degrees of technical knowledge assist the team in focusing on the application of realistic controls applied in ways that do not disrupt the essential business activities they seek to safeguard.</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819D-D324-4ECB-AAF4-E64D156017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ata Responsibilitie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ow that you understand the responsibilities of both senior management and the security project team, we can define the roles of those who own and safeguard the data.</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Owner – Responsible for the security and use of a particular set of information. Data owners usually determine the level of data classification associated with the data, as well as changes to that classification required by organization chan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Custodian – Responsible for the storage, maintenance, and protection of the information. The duties of a data custodian often include overseeing data storage and backups, implementing the specific procedures and policies laid out in the security policies and plans, and reporting to the data own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Users – The end systems users who work with the information to perform their daily jobs supporting the mission of the organization. Everyone in the organization is responsible for the security of data, so data users are included here as individuals with an information security ro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15E9-B512-418F-BBE4-3C2F9FFF33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munities of Inte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ach organization develops and maintains its own unique culture and values. Within that corporate culture, there are communities of interest. 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formation Security Management and Professiona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formation Technology Management and Professiona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Organizational Management and Profess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8010-5431-4EC0-AF5A-093573621D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History Of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eed for computer security, or the need to secure the physical location of hardware from outside threats, began almost immediately after the first mainframes were develop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Groups developing code-breaking computations during World War II created the first modern computer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dges, keys, and facial recognition of authorized personnel controlled access to sensitive military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contrast, information security during these early years was rudimentary and mainly composed of simple document classification sche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were no application classification projects for computers or operating systems at this time, because the primary threats to security were physical theft of equipment, espionage against the products of the systems, and sabo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2E1E-1DDA-4730-AE7C-3DADEF9976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Security: Is It an Art or a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 the level of complexity in today’s information systems, the implementation of information security has often been described as a combination of art and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ncept of the security artesan  is based on the way individuals perceived systems technologists since computers became common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8475-D116-4B7A-8580-3C3971743A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no hard and fast rules regulating the installation of various security mechanis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or are there many universally accepted complete 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there are many manuals to support individual systems, once these systems are interconnected, there is no magic user’s manual for the security of the entire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is especially true with the complex levels of interaction between users, policy, and technolog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D07C-7BB8-4114-9BE1-1CA280EFF8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e are dealing with technology developed by computer scientists and engineers—technology designed to perform at rigorous levels of perform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ven with the complexity of the technology, most scientists would agree that specific scientific conditions cause virtually all actions that occur in computer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most every fault, security hole, and systems malfunction is a result of the interaction of specific hardware and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the developers had sufficient time, they could resolve and eliminate these fa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6D06-F624-4587-A36B-111FFC20E1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a Social Scienc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is a third view: security as a social scienc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cial science examines the behavior of individuals as they interact with systems, whether societal systems or in our case information system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begins and ends with the people inside the organization and the people that interact with the system planned or otherwis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d users that need the very information the security personnel are trying to protect may be the weakest link in the security chai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y understanding some of the behavioral aspects of organizational science and change management, security administrators can greatly reduce the levels of risk caused by end users and create more acceptable and supportable security profil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E895-C7EE-4845-BCD0-5BA14307A6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EFFE-FE9A-4598-9373-4151D54540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7C71-4091-427F-BDAE-13DFA6BD9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icture is not topical to the chapter except to show a high-visibility artifact associated with a subtopic of information security. More properly, this is an artifact that is part of the study of cryptography from Chapter 8 and the Appendix.</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3C66-06C8-4C9F-B03B-C55D8CBD42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6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1960s, the Department of Defense’s Advanced Research Procurement Agency (ARPA) began examining the feasibility of a redundant networked communications system designed to support the military’s need to exchang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rry Roberts, known as the founder of the Internet, developed the project from its in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64A4-F9CF-4E38-AE9A-DF43AC875C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unding document from the ARPANE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A196-9D3F-4DDE-8FC4-A3B460ED6F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914400" y="4343400"/>
            <a:ext cx="5029200" cy="4610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70s and 8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next decade, the ARPANET grew in popularity and use, and so did its potential for mis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December of 1973, Robert M. Metcalfe indicated that there were fundamental problems with ARPANET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dividual remote users’ sites did not have sufficient controls and safeguards to protect data against unauthorized remote us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were no safety procedures for dial-up connections to the ARPA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er identification and authorization to the system were nonexist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one numbers were widely distributed and openly publicized on the walls of rest rooms and phone booths, giving hackers easy access to ARPA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uch of the focus for research on computer security centered on a system called MULTICS (Multiplexed Information and Computing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mid-1969, not long after the restructuring of the MULTICS project, several of the key players created a new operating system called UNI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the MULTICS system had planned security with multiple security levels and passwords, the UNIX system did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late 1970s the microprocessor brought in a new age of computing capabilities and security threats as these microprocessors were networke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CD669C-5AC0-4AC4-B93C-34C929767F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57691A-C378-43C0-BAC1-9093E42AA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6611F9-3E0E-4B48-AACE-B2D360D4C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F2E2A5-B134-421B-9EAF-AE19DAACCA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75A8B6-2ADC-4E46-9630-935EA2F7EB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0025A6-CC94-4F6A-A445-6C8A656CCC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82D637-7297-462F-B3C0-2F366F1CD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46934-F867-4BE8-9DEE-866C02425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A76EC-33C2-40DE-A2BE-DB181A7D7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350D33-3F15-47C0-9AB3-4FA965F474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15BF8-7553-4868-8572-F0A457D3F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292AB-71E1-49B3-85A1-A48F31976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5884D-99DA-4359-9358-35CF1A7CC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C0803-9F3E-4130-AA47-85AE610CE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9187B-295E-43E0-9F9F-18C3DE8CC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F5D43-91C2-43BA-BC7A-1351B20CF7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EA2690-107A-4AAA-B813-23F447D3B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F8D24C-79D6-452A-8A3B-014471500F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0F18D1-ACBB-4865-95D1-7B28C4B85A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828C943-289E-48C0-B5A6-8C4FF757E1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F215F9-80EB-46B9-BB17-B7A6DB48F8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E5D13C-B9AF-4715-8AB0-E58D13FDB6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A798C1-0583-4FA8-B7C5-A13EF37AFD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BB78D8-F648-4773-A780-AE4954B8E5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6D4C88F-9A24-4DEA-99B4-5D97996721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A20A36-EC06-4AC3-BE1E-48F1F3C2C3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C1C8AA-DD00-4BE0-9596-24F1ADA68E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3A0146-B350-473F-A3CF-372A79AD50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A0B062-FE1B-4AF3-A3B4-C64E56C25F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BE426C-5288-47E5-903C-9F75653263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FED717-3757-4EEF-8CBD-8B960FA8802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1C801A-4AB3-4C1A-A3F0-E6CC2D3279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1040DA7-5333-42CB-B5D0-5F62882D47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3F50FA1-EA33-4CD6-B142-899BCD53F51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3E7940DC-FA14-4CDF-94C8-234259B61F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0DF29765-8826-4AAF-A6CF-8F86DFDB54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CF6EF631-48ED-486B-B1B5-BF735F65B62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15E49206-73D7-4D9D-BAFE-E51AFDB4A1E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390BDAC8-118D-4956-82DE-519380F4AEE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04AE3952-08A1-495C-97E5-A2253AE4C80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0D5E9E01-27DF-43BC-A9C1-A1FBFF02E97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67D1BD66-0F54-4053-A9A4-649F458138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8AB53-7997-4B41-A9DF-7FD7B49AB3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713FA0B1-15F4-43A8-A9AC-E965386E74A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A8A56A4A-C045-4A3B-8F36-BB27AEC9BDE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15B71B1D-81A4-4D1A-8634-B99F7AD617B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8F2FF53-F80E-4903-A5F7-49CD7F294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625E2F-74F9-4BEC-B808-5D38E6DEE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CD2F99-D081-49D7-9D78-3BF497A6C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2DDA043-0F53-48B2-B5A0-401B54A56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6ACC75-A689-4047-BADF-315782ED2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43AD8D-05C8-49EB-B495-C4EB79B6F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800706-3741-41D0-B4BA-9CA96350E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10143-96AA-4B1C-A056-AD94635212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F6EB8E-5F16-4D76-B37E-8DC3C835A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108427-A15E-40CF-8DB7-816134C5B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CE6E1B-BA23-4817-BB53-DAD50C31B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C30EEF-F6C1-4B6A-B0D9-8D305649B4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1E0469-2BF5-48C1-BE90-CA446DAA63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9D1C7-1940-4D48-9FD8-0268B9CC1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F4D4-32DD-42B4-9724-3B437D15B436}"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F0F9-7DDA-4FB0-8D5B-C5992A8F971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A7F4-1759-43C3-8D09-D47221EF78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81DC-5F34-4DB3-8E32-413190E55CE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1C2F-C70D-404C-A258-E3156A94EB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806A-23DB-4D0E-8B1D-B29296E30B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AFB1-4785-46E7-9D23-F332D0E056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bout the Presentations</a:t>
            </a:r>
            <a:endParaRPr b="0" lang="en-US" sz="3600" spc="-1" strike="noStrike">
              <a:solidFill>
                <a:srgbClr val="222222"/>
              </a:solidFill>
              <a:latin typeface="Arial"/>
            </a:endParaRPr>
          </a:p>
        </p:txBody>
      </p:sp>
      <p:sp>
        <p:nvSpPr>
          <p:cNvPr id="281" name=""/>
          <p:cNvSpPr txBox="1"/>
          <p:nvPr/>
        </p:nvSpPr>
        <p:spPr>
          <a:xfrm>
            <a:off x="533520" y="205740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presentations cover the objectives found in the opening of each chapt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ll chapter objectives are listed in the beginning of each present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You may customize the presentations to fit your class need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 figures from the chapters are included. A complete set of images from the book can be found on the Instructor Resources disc. </a:t>
            </a:r>
            <a:endParaRPr b="0" lang="en-US" sz="2600" spc="-1" strike="noStrike">
              <a:solidFill>
                <a:srgbClr val="222222"/>
              </a:solidFill>
              <a:latin typeface="Arial"/>
            </a:endParaRPr>
          </a:p>
        </p:txBody>
      </p:sp>
      <p:sp>
        <p:nvSpPr>
          <p:cNvPr id="28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BE74-9FA0-4FEB-92AA-7AB795597A1C}" type="slidenum">
              <a:rPr b="0" lang="en-US" sz="1800" spc="-1" strike="noStrike">
                <a:solidFill>
                  <a:srgbClr val="222222"/>
                </a:solidFill>
                <a:latin typeface="Times New Roman"/>
              </a:rPr>
              <a:t>&lt;number&gt;</a:t>
            </a:fld>
            <a:endParaRPr b="0" lang="en-US" sz="1800" spc="-1" strike="noStrike">
              <a:solidFill>
                <a:srgbClr val="000000"/>
              </a:solidFill>
              <a:latin typeface="Arial"/>
            </a:endParaRPr>
          </a:p>
        </p:txBody>
      </p:sp>
      <p:pic>
        <p:nvPicPr>
          <p:cNvPr id="283" name="Picture 3" descr="Cengage_1.jpg"/>
          <p:cNvPicPr/>
          <p:nvPr/>
        </p:nvPicPr>
        <p:blipFill>
          <a:blip r:embed="rId1"/>
          <a:stretch/>
        </p:blipFill>
        <p:spPr>
          <a:xfrm>
            <a:off x="0" y="0"/>
            <a:ext cx="366696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70s and 80s (cont’d.)</a:t>
            </a:r>
            <a:r>
              <a:rPr b="0" lang="ar-SA" sz="3600" spc="-1" strike="noStrike">
                <a:solidFill>
                  <a:srgbClr val="222222"/>
                </a:solidFill>
                <a:latin typeface="Arial"/>
                <a:ea typeface="Arial"/>
              </a:rPr>
              <a:t>‏</a:t>
            </a:r>
            <a:endParaRPr b="0" lang="en-US" sz="3600" spc="-1" strike="noStrike">
              <a:solidFill>
                <a:srgbClr val="222222"/>
              </a:solidFill>
              <a:latin typeface="Arial"/>
            </a:endParaRPr>
          </a:p>
        </p:txBody>
      </p:sp>
      <p:sp>
        <p:nvSpPr>
          <p:cNvPr id="319"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Information security began with Rand Report R-609 (paper that started the study of computer security)</a:t>
            </a:r>
            <a:r>
              <a:rPr b="0" lang="ar-SA" sz="2600" spc="-1" strike="noStrike">
                <a:solidFill>
                  <a:srgbClr val="222222"/>
                </a:solidFill>
                <a:latin typeface="Arial"/>
                <a:ea typeface="Arial"/>
              </a:rPr>
              <a:t>‏</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Scope of computer security grew from physical security to include: </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Safety of data</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Limiting unauthorized access to data</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Involvement of personnel from multiple levels of an organization</a:t>
            </a:r>
            <a:endParaRPr b="0" lang="en-US" sz="2400" spc="-1" strike="noStrike">
              <a:solidFill>
                <a:srgbClr val="222222"/>
              </a:solidFill>
              <a:latin typeface="Arial"/>
            </a:endParaRPr>
          </a:p>
        </p:txBody>
      </p:sp>
      <p:sp>
        <p:nvSpPr>
          <p:cNvPr id="32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D59E-0FFB-4A89-8B63-01A7D0224B36}"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2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ULTICS</a:t>
            </a:r>
            <a:endParaRPr b="0" lang="en-US" sz="3600" spc="-1" strike="noStrike">
              <a:solidFill>
                <a:srgbClr val="222222"/>
              </a:solidFill>
              <a:latin typeface="Arial"/>
            </a:endParaRPr>
          </a:p>
        </p:txBody>
      </p:sp>
      <p:sp>
        <p:nvSpPr>
          <p:cNvPr id="32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arly focus of computer security research was a system called Multiplexed Information and Computing Service (MULTICS)</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rst operating system created with security as its primary go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inframe, time-sharing OS developed in mid-1960s by General Electric (GE), Bell Labs, and Massachusetts Institute of Technology (MIT)</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veral MULTICS key players created UNIX</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mary purpose of UNIX was text processing</a:t>
            </a:r>
            <a:endParaRPr b="0" lang="en-US" sz="2600" spc="-1" strike="noStrike">
              <a:solidFill>
                <a:srgbClr val="222222"/>
              </a:solidFill>
              <a:latin typeface="Arial"/>
            </a:endParaRPr>
          </a:p>
        </p:txBody>
      </p:sp>
      <p:sp>
        <p:nvSpPr>
          <p:cNvPr id="32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1B27-1EF6-4B87-AA32-916015F839C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6A43-3991-47A7-B076-737FACFCAB84}"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8" name="Picture 2" descr=""/>
          <p:cNvPicPr/>
          <p:nvPr/>
        </p:nvPicPr>
        <p:blipFill>
          <a:blip r:embed="rId1"/>
          <a:stretch/>
        </p:blipFill>
        <p:spPr>
          <a:xfrm>
            <a:off x="182520" y="76320"/>
            <a:ext cx="8809200" cy="5811840"/>
          </a:xfrm>
          <a:prstGeom prst="rect">
            <a:avLst/>
          </a:prstGeom>
          <a:ln w="0">
            <a:noFill/>
          </a:ln>
        </p:spPr>
      </p:pic>
      <p:sp>
        <p:nvSpPr>
          <p:cNvPr id="329" name="Rectangle 6"/>
          <p:cNvSpPr/>
          <p:nvPr/>
        </p:nvSpPr>
        <p:spPr>
          <a:xfrm>
            <a:off x="1295280" y="595476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1-1 Key Dates for Seminal Works in Early Computer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1990s</a:t>
            </a:r>
            <a:endParaRPr b="0" lang="en-US" sz="3600" spc="-1" strike="noStrike">
              <a:solidFill>
                <a:srgbClr val="222222"/>
              </a:solidFill>
              <a:latin typeface="Arial"/>
            </a:endParaRPr>
          </a:p>
        </p:txBody>
      </p:sp>
      <p:sp>
        <p:nvSpPr>
          <p:cNvPr id="33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tworks of computers became more common; so too did the need to interconnect network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et became first manifestation of a global network of network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itially based on de facto standard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 early Internet deployments, security was treated as a low priority</a:t>
            </a:r>
            <a:endParaRPr b="0" lang="en-US" sz="2600" spc="-1" strike="noStrike">
              <a:solidFill>
                <a:srgbClr val="222222"/>
              </a:solidFill>
              <a:latin typeface="Arial"/>
            </a:endParaRPr>
          </a:p>
        </p:txBody>
      </p:sp>
      <p:sp>
        <p:nvSpPr>
          <p:cNvPr id="3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3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90C0-AFD0-41E1-B523-434470978EE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2000 to Present</a:t>
            </a:r>
            <a:endParaRPr b="0" lang="en-US" sz="3600" spc="-1" strike="noStrike">
              <a:solidFill>
                <a:srgbClr val="222222"/>
              </a:solidFill>
              <a:latin typeface="Arial"/>
            </a:endParaRPr>
          </a:p>
        </p:txBody>
      </p:sp>
      <p:sp>
        <p:nvSpPr>
          <p:cNvPr id="335" name=""/>
          <p:cNvSpPr txBox="1"/>
          <p:nvPr/>
        </p:nvSpPr>
        <p:spPr>
          <a:xfrm>
            <a:off x="533520" y="1676520"/>
            <a:ext cx="8076960" cy="4572000"/>
          </a:xfrm>
          <a:prstGeom prst="rect">
            <a:avLst/>
          </a:prstGeom>
          <a:noFill/>
          <a:ln w="0">
            <a:noFill/>
          </a:ln>
        </p:spPr>
        <p:txBody>
          <a:bodyPr anchor="t">
            <a:normAutofit/>
          </a:bodyPr>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The Internet brings millions of computer networks into communication with each other—many of them unsecured </a:t>
            </a:r>
            <a:endParaRPr b="0" lang="en-US" sz="2600" spc="-1" strike="noStrike">
              <a:solidFill>
                <a:srgbClr val="222222"/>
              </a:solidFill>
              <a:latin typeface="Arial"/>
            </a:endParaRPr>
          </a:p>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bility to secure a computer’s data influenced by the security of every computer to which it is connected</a:t>
            </a:r>
            <a:endParaRPr b="0" lang="en-US" sz="2600" spc="-1" strike="noStrike">
              <a:solidFill>
                <a:srgbClr val="222222"/>
              </a:solidFill>
              <a:latin typeface="Arial"/>
            </a:endParaRPr>
          </a:p>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Growing threat of cyber attacks has increased the need for improved security</a:t>
            </a:r>
            <a:endParaRPr b="0" lang="en-US" sz="2600" spc="-1" strike="noStrike">
              <a:solidFill>
                <a:srgbClr val="222222"/>
              </a:solidFill>
              <a:latin typeface="Arial"/>
            </a:endParaRPr>
          </a:p>
        </p:txBody>
      </p:sp>
      <p:sp>
        <p:nvSpPr>
          <p:cNvPr id="33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E3B6-7636-4502-95AF-CB134E1AC62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What is Security?</a:t>
            </a:r>
            <a:endParaRPr b="0" lang="en-US" sz="3600" spc="-1" strike="noStrike">
              <a:solidFill>
                <a:srgbClr val="222222"/>
              </a:solidFill>
              <a:latin typeface="Arial"/>
            </a:endParaRPr>
          </a:p>
        </p:txBody>
      </p:sp>
      <p:sp>
        <p:nvSpPr>
          <p:cNvPr id="339"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t>
            </a:r>
            <a:r>
              <a:rPr b="0" lang="en-GB" sz="2600" spc="-1" strike="noStrike">
                <a:solidFill>
                  <a:srgbClr val="222222"/>
                </a:solidFill>
                <a:latin typeface="Arial"/>
                <a:ea typeface="Arial"/>
              </a:rPr>
              <a:t>The quality or state of being secure—to be free from danger”  </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 successful organization should have multiple layers of security in place: </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Physical security</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Personal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Operations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Communications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etwork security</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Information security</a:t>
            </a:r>
            <a:endParaRPr b="0" lang="en-US" sz="2400" spc="-1" strike="noStrike">
              <a:solidFill>
                <a:srgbClr val="222222"/>
              </a:solidFill>
              <a:latin typeface="Arial"/>
            </a:endParaRPr>
          </a:p>
        </p:txBody>
      </p:sp>
      <p:sp>
        <p:nvSpPr>
          <p:cNvPr id="34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759A-606C-425D-9151-C3C5B26E1CD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What is Security?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4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protection of information and its critical elements, including systems and hardware that use, store, and transmit that inform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cessary tools: policy, awareness, training, education, technolog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I.A. triangl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as standard based on confidentiality, integrity, and availab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w expanded into list of critical characteristics of information</a:t>
            </a:r>
            <a:endParaRPr b="0" lang="en-US" sz="2400" spc="-1" strike="noStrike">
              <a:solidFill>
                <a:srgbClr val="222222"/>
              </a:solidFill>
              <a:latin typeface="Arial"/>
            </a:endParaRPr>
          </a:p>
        </p:txBody>
      </p:sp>
      <p:sp>
        <p:nvSpPr>
          <p:cNvPr id="3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4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5FBC-A023-401D-90E5-B24679D7980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2B29-BCE2-4717-A2ED-5E4E83160DB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48" name="Picture 5" descr=""/>
          <p:cNvPicPr/>
          <p:nvPr/>
        </p:nvPicPr>
        <p:blipFill>
          <a:blip r:embed="rId1"/>
          <a:stretch/>
        </p:blipFill>
        <p:spPr>
          <a:xfrm>
            <a:off x="136440" y="609480"/>
            <a:ext cx="8829720" cy="4724640"/>
          </a:xfrm>
          <a:prstGeom prst="rect">
            <a:avLst/>
          </a:prstGeom>
          <a:ln w="0">
            <a:noFill/>
          </a:ln>
        </p:spPr>
      </p:pic>
      <p:sp>
        <p:nvSpPr>
          <p:cNvPr id="349" name="Rectangle 5"/>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3 Components of Information Security</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Key Information Security Concepts</a:t>
            </a:r>
            <a:endParaRPr b="0" lang="en-US" sz="3600" spc="-1" strike="noStrike">
              <a:solidFill>
                <a:srgbClr val="222222"/>
              </a:solidFill>
              <a:latin typeface="Arial"/>
            </a:endParaRPr>
          </a:p>
        </p:txBody>
      </p:sp>
      <p:sp>
        <p:nvSpPr>
          <p:cNvPr id="351" name=""/>
          <p:cNvSpPr txBox="1"/>
          <p:nvPr/>
        </p:nvSpPr>
        <p:spPr>
          <a:xfrm>
            <a:off x="533160" y="1676520"/>
            <a:ext cx="4343400" cy="4572000"/>
          </a:xfrm>
          <a:prstGeom prst="rect">
            <a:avLst/>
          </a:prstGeom>
          <a:noFill/>
          <a:ln w="0">
            <a:noFill/>
          </a:ln>
        </p:spPr>
        <p:txBody>
          <a:bodyPr anchor="t">
            <a:normAutofit/>
          </a:bodyPr>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ccess</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sset</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ttack </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Control, Safeguard, or Countermeasure</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Exploit</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Exposure</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Loss</a:t>
            </a:r>
            <a:endParaRPr b="0" lang="en-US" sz="2600" spc="-1" strike="noStrike">
              <a:solidFill>
                <a:srgbClr val="222222"/>
              </a:solidFill>
              <a:latin typeface="Arial"/>
            </a:endParaRPr>
          </a:p>
        </p:txBody>
      </p:sp>
      <p:sp>
        <p:nvSpPr>
          <p:cNvPr id="35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E955-F2A9-4C98-A29B-3AB84B463536}"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53" name="Text Box 3"/>
          <p:cNvSpPr/>
          <p:nvPr/>
        </p:nvSpPr>
        <p:spPr>
          <a:xfrm>
            <a:off x="4648320" y="1676520"/>
            <a:ext cx="4228920" cy="48006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ea typeface="Arial"/>
              </a:rPr>
              <a:t>Protection Profile or Security Postur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Risk</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Subjects and Object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Threa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Threat Agen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Vulnerability</a:t>
            </a:r>
            <a:endParaRPr b="0" lang="en-US" sz="2800" spc="-1" strike="noStrike">
              <a:solidFill>
                <a:srgbClr val="000000"/>
              </a:solidFill>
              <a:latin typeface="Arial"/>
            </a:endParaRPr>
          </a:p>
        </p:txBody>
      </p:sp>
      <p:sp>
        <p:nvSpPr>
          <p:cNvPr id="35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Information Security Concepts (cont’d.)</a:t>
            </a:r>
            <a:endParaRPr b="0" lang="en-US" sz="3600" spc="-1" strike="noStrike">
              <a:solidFill>
                <a:srgbClr val="222222"/>
              </a:solidFill>
              <a:latin typeface="Arial"/>
            </a:endParaRPr>
          </a:p>
        </p:txBody>
      </p:sp>
      <p:sp>
        <p:nvSpPr>
          <p:cNvPr id="35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can be subject of an attack and/or the object of an attack</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the subject of an attack, computer is used as an active tool to conduct attac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the object of an attack, computer is the entity being attacked</a:t>
            </a:r>
            <a:endParaRPr b="0" lang="en-US" sz="2400" spc="-1" strike="noStrike">
              <a:solidFill>
                <a:srgbClr val="222222"/>
              </a:solidFill>
              <a:latin typeface="Arial"/>
            </a:endParaRPr>
          </a:p>
        </p:txBody>
      </p:sp>
      <p:sp>
        <p:nvSpPr>
          <p:cNvPr id="3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5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E6E6-A330-4797-93B2-E9BDC9ED59E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2222"/>
                </a:solidFill>
                <a:latin typeface="Arial"/>
              </a:rPr>
              <a:t>Principals of Information Security, </a:t>
            </a:r>
            <a:br>
              <a:rPr sz="3600"/>
            </a:br>
            <a:r>
              <a:rPr b="1" lang="en-US" sz="3600" spc="-1" strike="noStrike">
                <a:solidFill>
                  <a:srgbClr val="222222"/>
                </a:solidFill>
                <a:latin typeface="Arial"/>
              </a:rPr>
              <a:t>Fourth Edition</a:t>
            </a:r>
            <a:endParaRPr b="0" lang="en-US" sz="3600" spc="-1" strike="noStrike">
              <a:solidFill>
                <a:srgbClr val="222222"/>
              </a:solidFill>
              <a:latin typeface="Arial"/>
            </a:endParaRPr>
          </a:p>
        </p:txBody>
      </p:sp>
      <p:sp>
        <p:nvSpPr>
          <p:cNvPr id="285" name="PlaceHolder 2"/>
          <p:cNvSpPr>
            <a:spLocks noGrp="1"/>
          </p:cNvSpPr>
          <p:nvPr>
            <p:ph type="subTitle"/>
          </p:nvPr>
        </p:nvSpPr>
        <p:spPr>
          <a:xfrm>
            <a:off x="609120" y="3200400"/>
            <a:ext cx="8077320" cy="144792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1</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Introduction to Information Security</a:t>
            </a:r>
            <a:endParaRPr b="0" lang="en-US" sz="3400" spc="-1" strike="noStrike">
              <a:solidFill>
                <a:srgbClr val="222222"/>
              </a:solidFill>
              <a:latin typeface="Arial"/>
            </a:endParaRPr>
          </a:p>
        </p:txBody>
      </p:sp>
      <p:pic>
        <p:nvPicPr>
          <p:cNvPr id="286" name="Picture 3" descr="Cengage_1.jpg"/>
          <p:cNvPicPr/>
          <p:nvPr/>
        </p:nvPicPr>
        <p:blipFill>
          <a:blip r:embed="rId1"/>
          <a:stretch/>
        </p:blipFill>
        <p:spPr>
          <a:xfrm>
            <a:off x="0" y="0"/>
            <a:ext cx="3666960" cy="914400"/>
          </a:xfrm>
          <a:prstGeom prst="rect">
            <a:avLst/>
          </a:prstGeom>
          <a:ln w="0">
            <a:noFill/>
          </a:ln>
        </p:spPr>
      </p:pic>
      <p:pic>
        <p:nvPicPr>
          <p:cNvPr id="287" name="Picture 1" descr=""/>
          <p:cNvPicPr/>
          <p:nvPr/>
        </p:nvPicPr>
        <p:blipFill>
          <a:blip r:embed="rId2"/>
          <a:srcRect l="1557" t="4494" r="1557" b="5635"/>
          <a:stretch/>
        </p:blipFill>
        <p:spPr>
          <a:xfrm>
            <a:off x="4114800" y="4800600"/>
            <a:ext cx="5029200" cy="152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60"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B4B0-A936-4FB6-8D54-8CFE679CC695}"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61" name="Picture 2" descr=""/>
          <p:cNvPicPr/>
          <p:nvPr/>
        </p:nvPicPr>
        <p:blipFill>
          <a:blip r:embed="rId1"/>
          <a:stretch/>
        </p:blipFill>
        <p:spPr>
          <a:xfrm>
            <a:off x="990720" y="152280"/>
            <a:ext cx="7377120" cy="5658120"/>
          </a:xfrm>
          <a:prstGeom prst="rect">
            <a:avLst/>
          </a:prstGeom>
          <a:ln w="0">
            <a:noFill/>
          </a:ln>
        </p:spPr>
      </p:pic>
      <p:sp>
        <p:nvSpPr>
          <p:cNvPr id="362" name="Rectangle 6"/>
          <p:cNvSpPr/>
          <p:nvPr/>
        </p:nvSpPr>
        <p:spPr>
          <a:xfrm>
            <a:off x="2558880" y="5878440"/>
            <a:ext cx="40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Information Security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5BFB-949F-4E8E-8B20-C64A68B5E66B}"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6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5 – Subject and Object of Attack</a:t>
            </a:r>
            <a:endParaRPr b="0" lang="en-US" sz="3600" spc="-1" strike="noStrike">
              <a:solidFill>
                <a:srgbClr val="222222"/>
              </a:solidFill>
              <a:latin typeface="Arial"/>
            </a:endParaRPr>
          </a:p>
        </p:txBody>
      </p:sp>
      <p:sp>
        <p:nvSpPr>
          <p:cNvPr id="3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66" name="Picture 6" descr=""/>
          <p:cNvPicPr/>
          <p:nvPr/>
        </p:nvPicPr>
        <p:blipFill>
          <a:blip r:embed="rId1"/>
          <a:stretch/>
        </p:blipFill>
        <p:spPr>
          <a:xfrm>
            <a:off x="111240" y="1066680"/>
            <a:ext cx="8921520" cy="3962520"/>
          </a:xfrm>
          <a:prstGeom prst="rect">
            <a:avLst/>
          </a:prstGeom>
          <a:ln w="0">
            <a:noFill/>
          </a:ln>
        </p:spPr>
      </p:pic>
      <p:sp>
        <p:nvSpPr>
          <p:cNvPr id="367" name="Rectangle 6"/>
          <p:cNvSpPr/>
          <p:nvPr/>
        </p:nvSpPr>
        <p:spPr>
          <a:xfrm>
            <a:off x="1676520" y="526896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5 Computer as the Subject and Object of an Attack</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ritical Characteristics of Information</a:t>
            </a:r>
            <a:endParaRPr b="0" lang="en-US" sz="3600" spc="-1" strike="noStrike">
              <a:solidFill>
                <a:srgbClr val="222222"/>
              </a:solidFill>
              <a:latin typeface="Arial"/>
            </a:endParaRPr>
          </a:p>
        </p:txBody>
      </p:sp>
      <p:sp>
        <p:nvSpPr>
          <p:cNvPr id="36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value of information comes from the characteristics it possess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vailab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urac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uthentic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fidentia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g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t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ssession</a:t>
            </a:r>
            <a:endParaRPr b="0" lang="en-US" sz="2400" spc="-1" strike="noStrike">
              <a:solidFill>
                <a:srgbClr val="222222"/>
              </a:solidFill>
              <a:latin typeface="Arial"/>
            </a:endParaRPr>
          </a:p>
        </p:txBody>
      </p:sp>
      <p:sp>
        <p:nvSpPr>
          <p:cNvPr id="37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0739-87D9-43A3-A479-BEF366AC1A9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NSS Security Model</a:t>
            </a:r>
            <a:endParaRPr b="0" lang="en-US" sz="3600" spc="-1" strike="noStrike">
              <a:solidFill>
                <a:srgbClr val="222222"/>
              </a:solidFill>
              <a:latin typeface="Arial"/>
            </a:endParaRPr>
          </a:p>
        </p:txBody>
      </p:sp>
      <p:sp>
        <p:nvSpPr>
          <p:cNvPr id="37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DF1A-D2F9-453A-B870-085173B346E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5" name="Picture 6" descr=""/>
          <p:cNvPicPr/>
          <p:nvPr/>
        </p:nvPicPr>
        <p:blipFill>
          <a:blip r:embed="rId1"/>
          <a:stretch/>
        </p:blipFill>
        <p:spPr>
          <a:xfrm>
            <a:off x="76320" y="1600200"/>
            <a:ext cx="9009000" cy="3733920"/>
          </a:xfrm>
          <a:prstGeom prst="rect">
            <a:avLst/>
          </a:prstGeom>
          <a:ln w="0">
            <a:noFill/>
          </a:ln>
        </p:spPr>
      </p:pic>
      <p:sp>
        <p:nvSpPr>
          <p:cNvPr id="376" name="Rectangle 6"/>
          <p:cNvSpPr/>
          <p:nvPr/>
        </p:nvSpPr>
        <p:spPr>
          <a:xfrm>
            <a:off x="2609280" y="5562720"/>
            <a:ext cx="34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6 The McCumber Cube</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ponents of an Information System</a:t>
            </a:r>
            <a:endParaRPr b="0" lang="en-US" sz="3600" spc="-1" strike="noStrike">
              <a:solidFill>
                <a:srgbClr val="222222"/>
              </a:solidFill>
              <a:latin typeface="Arial"/>
            </a:endParaRPr>
          </a:p>
        </p:txBody>
      </p:sp>
      <p:sp>
        <p:nvSpPr>
          <p:cNvPr id="37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 (IS) is entire set of components necessary to use information as a resource in the organization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ard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at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eop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cedur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etworks</a:t>
            </a:r>
            <a:endParaRPr b="0" lang="en-US" sz="2400" spc="-1" strike="noStrike">
              <a:solidFill>
                <a:srgbClr val="222222"/>
              </a:solidFill>
              <a:latin typeface="Arial"/>
            </a:endParaRPr>
          </a:p>
        </p:txBody>
      </p:sp>
      <p:sp>
        <p:nvSpPr>
          <p:cNvPr id="37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8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D6CA-A09B-4FC1-91AD-3CE0BF496D1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alancing Information Security and Access</a:t>
            </a:r>
            <a:endParaRPr b="0" lang="en-US" sz="3600" spc="-1" strike="noStrike">
              <a:solidFill>
                <a:srgbClr val="222222"/>
              </a:solidFill>
              <a:latin typeface="Arial"/>
            </a:endParaRPr>
          </a:p>
        </p:txBody>
      </p:sp>
      <p:sp>
        <p:nvSpPr>
          <p:cNvPr id="38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ossible to obtain perfect security—it is a process, not an absolu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hould be considered balance between protection and avail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o achieve balance, level of security must allow reasonable access, yet protect against threats</a:t>
            </a:r>
            <a:endParaRPr b="0" lang="en-US" sz="2600" spc="-1" strike="noStrike">
              <a:solidFill>
                <a:srgbClr val="222222"/>
              </a:solidFill>
              <a:latin typeface="Arial"/>
            </a:endParaRPr>
          </a:p>
        </p:txBody>
      </p:sp>
      <p:sp>
        <p:nvSpPr>
          <p:cNvPr id="38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8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7C70-A6B7-4985-B92C-545AD998781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849E-6BE3-4572-99C5-89D41D1AAE37}"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8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6 – Balancing Security and Access</a:t>
            </a:r>
            <a:endParaRPr b="0" lang="en-US" sz="3600" spc="-1" strike="noStrike">
              <a:solidFill>
                <a:srgbClr val="222222"/>
              </a:solidFill>
              <a:latin typeface="Arial"/>
            </a:endParaRPr>
          </a:p>
        </p:txBody>
      </p:sp>
      <p:sp>
        <p:nvSpPr>
          <p:cNvPr id="38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88" name="Picture 6" descr=""/>
          <p:cNvPicPr/>
          <p:nvPr/>
        </p:nvPicPr>
        <p:blipFill>
          <a:blip r:embed="rId1"/>
          <a:stretch/>
        </p:blipFill>
        <p:spPr>
          <a:xfrm>
            <a:off x="380880" y="216000"/>
            <a:ext cx="8305920" cy="5270400"/>
          </a:xfrm>
          <a:prstGeom prst="rect">
            <a:avLst/>
          </a:prstGeom>
          <a:ln w="0">
            <a:noFill/>
          </a:ln>
        </p:spPr>
      </p:pic>
      <p:sp>
        <p:nvSpPr>
          <p:cNvPr id="389" name="Rectangle 6"/>
          <p:cNvSpPr/>
          <p:nvPr/>
        </p:nvSpPr>
        <p:spPr>
          <a:xfrm>
            <a:off x="1676520" y="5726160"/>
            <a:ext cx="563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8 Balancing Information Security and Acces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pproaches to Information Security Implementation: Bottom-Up Approach</a:t>
            </a:r>
            <a:endParaRPr b="0" lang="en-US" sz="3600" spc="-1" strike="noStrike">
              <a:solidFill>
                <a:srgbClr val="222222"/>
              </a:solidFill>
              <a:latin typeface="Arial"/>
            </a:endParaRPr>
          </a:p>
        </p:txBody>
      </p:sp>
      <p:sp>
        <p:nvSpPr>
          <p:cNvPr id="39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rassroots effort: systems administrators attempt to improve security of their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Key advantage: technical expertise of individual administrato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ldom works, as it lacks a number of critical featur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articipant support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al staying power</a:t>
            </a:r>
            <a:endParaRPr b="0" lang="en-US" sz="2400" spc="-1" strike="noStrike">
              <a:solidFill>
                <a:srgbClr val="222222"/>
              </a:solidFill>
              <a:latin typeface="Arial"/>
            </a:endParaRPr>
          </a:p>
        </p:txBody>
      </p:sp>
      <p:sp>
        <p:nvSpPr>
          <p:cNvPr id="39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9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9B9C-735C-496B-ADB3-B7C5A53FDA2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pproaches to Information Security Implementation: Top-Down Approach</a:t>
            </a:r>
            <a:endParaRPr b="0" lang="en-US" sz="3600" spc="-1" strike="noStrike">
              <a:solidFill>
                <a:srgbClr val="222222"/>
              </a:solidFill>
              <a:latin typeface="Arial"/>
            </a:endParaRPr>
          </a:p>
        </p:txBody>
      </p:sp>
      <p:sp>
        <p:nvSpPr>
          <p:cNvPr id="39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itiated by upper manage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sue policy, procedures, and proc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ctate goals and expected outcomes of proje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termine accountability for each required ac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most successful also involve formal development strategy referred to as systems development life cycle</a:t>
            </a:r>
            <a:endParaRPr b="0" lang="en-US" sz="2600" spc="-1" strike="noStrike">
              <a:solidFill>
                <a:srgbClr val="222222"/>
              </a:solidFill>
              <a:latin typeface="Arial"/>
            </a:endParaRPr>
          </a:p>
        </p:txBody>
      </p:sp>
      <p:sp>
        <p:nvSpPr>
          <p:cNvPr id="39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F9F1-1C1F-4DF3-83E8-2D7C9100F06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79F8-BAAC-41E9-A969-2354C9F8092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400" name="Picture 5" descr=""/>
          <p:cNvPicPr/>
          <p:nvPr/>
        </p:nvPicPr>
        <p:blipFill>
          <a:blip r:embed="rId1"/>
          <a:stretch/>
        </p:blipFill>
        <p:spPr>
          <a:xfrm>
            <a:off x="208080" y="533520"/>
            <a:ext cx="8783640" cy="4724280"/>
          </a:xfrm>
          <a:prstGeom prst="rect">
            <a:avLst/>
          </a:prstGeom>
          <a:ln w="0">
            <a:noFill/>
          </a:ln>
        </p:spPr>
      </p:pic>
      <p:sp>
        <p:nvSpPr>
          <p:cNvPr id="401" name="Rectangle 5"/>
          <p:cNvSpPr/>
          <p:nvPr/>
        </p:nvSpPr>
        <p:spPr>
          <a:xfrm>
            <a:off x="1371600" y="556272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9 Approaches to Information Security Implementat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ine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count the history of computer security and how it evolved into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ine key terms and critical concepts of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numerate the phases of the security systems development life cyc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scribe the information security roles of professionals within an organiz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9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E786-B9E0-4908-AF25-2E8D1E8B50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Systems Development Life Cycle</a:t>
            </a:r>
            <a:endParaRPr b="0" lang="en-US" sz="3600" spc="-1" strike="noStrike">
              <a:solidFill>
                <a:srgbClr val="222222"/>
              </a:solidFill>
              <a:latin typeface="Arial"/>
            </a:endParaRPr>
          </a:p>
        </p:txBody>
      </p:sp>
      <p:sp>
        <p:nvSpPr>
          <p:cNvPr id="40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ystems Development Life Cycle (SDLC): methodology for design and implementation of information system within an organiz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ethodology: formal approach to problem solving based on structured sequence of procedur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ing a methodolog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sures a rigorous pro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reases probability of succes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raditional SDLC consists of six general phases</a:t>
            </a:r>
            <a:endParaRPr b="0" lang="en-US" sz="2600" spc="-1" strike="noStrike">
              <a:solidFill>
                <a:srgbClr val="222222"/>
              </a:solidFill>
              <a:latin typeface="Arial"/>
            </a:endParaRPr>
          </a:p>
        </p:txBody>
      </p:sp>
      <p:sp>
        <p:nvSpPr>
          <p:cNvPr id="40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0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141C-CD3A-442E-A59F-99AD307D3A6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6BCB-0BD3-41E2-B7CA-101B7EF83262}"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408" name="Picture 5" descr=""/>
          <p:cNvPicPr/>
          <p:nvPr/>
        </p:nvPicPr>
        <p:blipFill>
          <a:blip r:embed="rId1"/>
          <a:stretch/>
        </p:blipFill>
        <p:spPr>
          <a:xfrm>
            <a:off x="306360" y="363600"/>
            <a:ext cx="8456760" cy="5046480"/>
          </a:xfrm>
          <a:prstGeom prst="rect">
            <a:avLst/>
          </a:prstGeom>
          <a:ln w="0">
            <a:noFill/>
          </a:ln>
        </p:spPr>
      </p:pic>
      <p:sp>
        <p:nvSpPr>
          <p:cNvPr id="409" name="Rectangle 5"/>
          <p:cNvSpPr/>
          <p:nvPr/>
        </p:nvSpPr>
        <p:spPr>
          <a:xfrm>
            <a:off x="2255400" y="5573880"/>
            <a:ext cx="43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0 SDLC Waterfall Methodology</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vestigation</a:t>
            </a:r>
            <a:endParaRPr b="0" lang="en-US" sz="3600" spc="-1" strike="noStrike">
              <a:solidFill>
                <a:srgbClr val="222222"/>
              </a:solidFill>
              <a:latin typeface="Arial"/>
            </a:endParaRPr>
          </a:p>
        </p:txBody>
      </p:sp>
      <p:sp>
        <p:nvSpPr>
          <p:cNvPr id="41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at problem is the system being developed to solve?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bjectives, constraints, and scope of project are specif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eliminary cost-benefit analysis is develop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the end, feasibility analysis is performed to assess economic, technical, and behavioral feasibilities of the process</a:t>
            </a:r>
            <a:endParaRPr b="0" lang="en-US" sz="2600" spc="-1" strike="noStrike">
              <a:solidFill>
                <a:srgbClr val="222222"/>
              </a:solidFill>
              <a:latin typeface="Arial"/>
            </a:endParaRPr>
          </a:p>
        </p:txBody>
      </p:sp>
      <p:sp>
        <p:nvSpPr>
          <p:cNvPr id="41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1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D4C8-E147-4A25-92B8-7EB0EEA8A57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nalysis</a:t>
            </a:r>
            <a:endParaRPr b="0" lang="en-US" sz="3600" spc="-1" strike="noStrike">
              <a:solidFill>
                <a:srgbClr val="222222"/>
              </a:solidFill>
              <a:latin typeface="Arial"/>
            </a:endParaRPr>
          </a:p>
        </p:txBody>
      </p:sp>
      <p:sp>
        <p:nvSpPr>
          <p:cNvPr id="41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sists of assessments of: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he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urrent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apability to support proposed system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alysts determine what new system is expected to do and how it will interact with existing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ds with documentation of findings and update of feasibility analysis</a:t>
            </a:r>
            <a:endParaRPr b="0" lang="en-US" sz="2600" spc="-1" strike="noStrike">
              <a:solidFill>
                <a:srgbClr val="222222"/>
              </a:solidFill>
              <a:latin typeface="Arial"/>
            </a:endParaRPr>
          </a:p>
        </p:txBody>
      </p:sp>
      <p:sp>
        <p:nvSpPr>
          <p:cNvPr id="41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1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639B-1252-4025-AAE8-9FAE193CFCF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ogical Design</a:t>
            </a:r>
            <a:endParaRPr b="0" lang="en-US" sz="3600" spc="-1" strike="noStrike">
              <a:solidFill>
                <a:srgbClr val="222222"/>
              </a:solidFill>
              <a:latin typeface="Arial"/>
            </a:endParaRPr>
          </a:p>
        </p:txBody>
      </p:sp>
      <p:sp>
        <p:nvSpPr>
          <p:cNvPr id="41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in factor is business ne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ications capable of providing needed services are selected</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support and structures capable of providing the needed inputs are identif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echnologies to implement physical solution are determined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erformed at the end</a:t>
            </a:r>
            <a:endParaRPr b="0" lang="en-US" sz="2600" spc="-1" strike="noStrike">
              <a:solidFill>
                <a:srgbClr val="222222"/>
              </a:solidFill>
              <a:latin typeface="Arial"/>
            </a:endParaRPr>
          </a:p>
        </p:txBody>
      </p:sp>
      <p:sp>
        <p:nvSpPr>
          <p:cNvPr id="42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4B35-494D-420A-A4D0-1C531D1BDA2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hysical Design</a:t>
            </a:r>
            <a:endParaRPr b="0" lang="en-US" sz="3600" spc="-1" strike="noStrike">
              <a:solidFill>
                <a:srgbClr val="222222"/>
              </a:solidFill>
              <a:latin typeface="Arial"/>
            </a:endParaRPr>
          </a:p>
        </p:txBody>
      </p:sp>
      <p:sp>
        <p:nvSpPr>
          <p:cNvPr id="42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echnologies to support the alternatives identified and evaluated in the logical design are sel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onents evaluated on make-or-buy decis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erform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tire solution presented to end-user representatives for approval</a:t>
            </a:r>
            <a:endParaRPr b="0" lang="en-US" sz="2400" spc="-1" strike="noStrike">
              <a:solidFill>
                <a:srgbClr val="222222"/>
              </a:solidFill>
              <a:latin typeface="Arial"/>
            </a:endParaRPr>
          </a:p>
        </p:txBody>
      </p:sp>
      <p:sp>
        <p:nvSpPr>
          <p:cNvPr id="42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D4E0-AD43-4350-AC6B-86AAC39E8E0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mplementation</a:t>
            </a:r>
            <a:endParaRPr b="0" lang="en-US" sz="3600" spc="-1" strike="noStrike">
              <a:solidFill>
                <a:srgbClr val="222222"/>
              </a:solidFill>
              <a:latin typeface="Arial"/>
            </a:endParaRPr>
          </a:p>
        </p:txBody>
      </p:sp>
      <p:sp>
        <p:nvSpPr>
          <p:cNvPr id="42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eded software crea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onents ordered, received, and tes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ers trained and documentation crea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repar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rs presented with system for performance review and acceptance test</a:t>
            </a:r>
            <a:endParaRPr b="0" lang="en-US" sz="2400" spc="-1" strike="noStrike">
              <a:solidFill>
                <a:srgbClr val="222222"/>
              </a:solidFill>
              <a:latin typeface="Arial"/>
            </a:endParaRPr>
          </a:p>
        </p:txBody>
      </p:sp>
      <p:sp>
        <p:nvSpPr>
          <p:cNvPr id="42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E166-C948-47F1-972D-2BBE492DC86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aintenance and Change</a:t>
            </a:r>
            <a:endParaRPr b="0" lang="en-US" sz="3600" spc="-1" strike="noStrike">
              <a:solidFill>
                <a:srgbClr val="222222"/>
              </a:solidFill>
              <a:latin typeface="Arial"/>
            </a:endParaRPr>
          </a:p>
        </p:txBody>
      </p:sp>
      <p:sp>
        <p:nvSpPr>
          <p:cNvPr id="43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ongest and most expensive ph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sists of tasks necessary to support and modify system for remainder of its useful lif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ife cycle continues until the process begins again from the investigation ph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en current system can no longer support the organization’s mission, a new project is implemented</a:t>
            </a:r>
            <a:endParaRPr b="0" lang="en-US" sz="2600" spc="-1" strike="noStrike">
              <a:solidFill>
                <a:srgbClr val="222222"/>
              </a:solidFill>
              <a:latin typeface="Arial"/>
            </a:endParaRPr>
          </a:p>
        </p:txBody>
      </p:sp>
      <p:sp>
        <p:nvSpPr>
          <p:cNvPr id="4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3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2126-6DF1-4BA1-B691-7E18341F8A9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Security Systems Development Life Cycle</a:t>
            </a:r>
            <a:endParaRPr b="0" lang="en-US" sz="3600" spc="-1" strike="noStrike">
              <a:solidFill>
                <a:srgbClr val="222222"/>
              </a:solidFill>
              <a:latin typeface="Arial"/>
            </a:endParaRPr>
          </a:p>
        </p:txBody>
      </p:sp>
      <p:sp>
        <p:nvSpPr>
          <p:cNvPr id="43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same phases used in traditional SDLC may be adapted to support specialized implementation of an IS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fication of specific threats and creating controls to counter th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SDLC is a coherent program rather than a series of random, seemingly unconnected actions</a:t>
            </a:r>
            <a:endParaRPr b="0" lang="en-US" sz="2600" spc="-1" strike="noStrike">
              <a:solidFill>
                <a:srgbClr val="222222"/>
              </a:solidFill>
              <a:latin typeface="Arial"/>
            </a:endParaRPr>
          </a:p>
        </p:txBody>
      </p:sp>
      <p:sp>
        <p:nvSpPr>
          <p:cNvPr id="43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3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EBB5-CC1C-4AB3-9113-B68BCEF32F2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vestigation</a:t>
            </a:r>
            <a:endParaRPr b="0" lang="en-US" sz="3600" spc="-1" strike="noStrike">
              <a:solidFill>
                <a:srgbClr val="222222"/>
              </a:solidFill>
              <a:latin typeface="Arial"/>
            </a:endParaRPr>
          </a:p>
        </p:txBody>
      </p:sp>
      <p:sp>
        <p:nvSpPr>
          <p:cNvPr id="43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fies process, outcomes, goals, and constraints of the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gins with Enterprise Information Security Policy (EISP)</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al feasibility analysis is performed</a:t>
            </a:r>
            <a:endParaRPr b="0" lang="en-US" sz="2600" spc="-1" strike="noStrike">
              <a:solidFill>
                <a:srgbClr val="222222"/>
              </a:solidFill>
              <a:latin typeface="Arial"/>
            </a:endParaRPr>
          </a:p>
        </p:txBody>
      </p:sp>
      <p:sp>
        <p:nvSpPr>
          <p:cNvPr id="44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4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A18C-E822-4F94-9DE8-423C346356F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a “well-informed sense of assurance that the information risks and controls are in balance.” — Jim Anderson, Inovant (2002)</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professionals must review the origins of this field to understand its impact on our understanding of information security today</a:t>
            </a:r>
            <a:endParaRPr b="0" lang="en-US" sz="2600" spc="-1" strike="noStrike">
              <a:solidFill>
                <a:srgbClr val="222222"/>
              </a:solidFill>
              <a:latin typeface="Arial"/>
            </a:endParaRPr>
          </a:p>
        </p:txBody>
      </p:sp>
      <p:sp>
        <p:nvSpPr>
          <p:cNvPr id="29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5"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A2B9-5C77-4057-B407-561BCAD8541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nalysis</a:t>
            </a:r>
            <a:endParaRPr b="0" lang="en-US" sz="3600" spc="-1" strike="noStrike">
              <a:solidFill>
                <a:srgbClr val="222222"/>
              </a:solidFill>
              <a:latin typeface="Arial"/>
            </a:endParaRPr>
          </a:p>
        </p:txBody>
      </p:sp>
      <p:sp>
        <p:nvSpPr>
          <p:cNvPr id="44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ocuments from investigation phase are stud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alysis of existing security policies or programs, along with documented current threats and associated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nalysis of relevant legal issues that could impact design of the security solu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management task begins</a:t>
            </a:r>
            <a:endParaRPr b="0" lang="en-US" sz="2600" spc="-1" strike="noStrike">
              <a:solidFill>
                <a:srgbClr val="222222"/>
              </a:solidFill>
              <a:latin typeface="Arial"/>
            </a:endParaRPr>
          </a:p>
        </p:txBody>
      </p:sp>
      <p:sp>
        <p:nvSpPr>
          <p:cNvPr id="4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4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28A9-7DBF-4396-A9B3-DD2E0FEEF8C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ogical Design  </a:t>
            </a:r>
            <a:endParaRPr b="0" lang="en-US" sz="3600" spc="-1" strike="noStrike">
              <a:solidFill>
                <a:srgbClr val="222222"/>
              </a:solidFill>
              <a:latin typeface="Arial"/>
            </a:endParaRPr>
          </a:p>
        </p:txBody>
      </p:sp>
      <p:sp>
        <p:nvSpPr>
          <p:cNvPr id="44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eates and develops blueprints for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ident response actions plann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tinuity plann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ident respon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aster recover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to determine whether project should be continued or outsourced</a:t>
            </a:r>
            <a:endParaRPr b="0" lang="en-US" sz="2600" spc="-1" strike="noStrike">
              <a:solidFill>
                <a:srgbClr val="222222"/>
              </a:solidFill>
              <a:latin typeface="Arial"/>
            </a:endParaRPr>
          </a:p>
        </p:txBody>
      </p:sp>
      <p:sp>
        <p:nvSpPr>
          <p:cNvPr id="44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4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75C0-F972-4095-9E13-70D5344EC1A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hysical Design</a:t>
            </a:r>
            <a:endParaRPr b="0" lang="en-US" sz="3600" spc="-1" strike="noStrike">
              <a:solidFill>
                <a:srgbClr val="222222"/>
              </a:solidFill>
              <a:latin typeface="Arial"/>
            </a:endParaRPr>
          </a:p>
        </p:txBody>
      </p:sp>
      <p:sp>
        <p:nvSpPr>
          <p:cNvPr id="45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eded security technology is evaluated, alternatives are generated, and final design is sel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end of phase, feasibility study determines readiness of organization for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5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402D-9E15-46B0-B779-D858CAEA826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mplementation</a:t>
            </a:r>
            <a:endParaRPr b="0" lang="en-US" sz="3600" spc="-1" strike="noStrike">
              <a:solidFill>
                <a:srgbClr val="222222"/>
              </a:solidFill>
              <a:latin typeface="Arial"/>
            </a:endParaRPr>
          </a:p>
        </p:txBody>
      </p:sp>
      <p:sp>
        <p:nvSpPr>
          <p:cNvPr id="45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olutions are acquired, tested, implemented, and tested agai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rsonnel issues evaluated; specific training and education programs condu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tire tested package is presented to management for final approval</a:t>
            </a:r>
            <a:endParaRPr b="0" lang="en-US" sz="2600" spc="-1" strike="noStrike">
              <a:solidFill>
                <a:srgbClr val="222222"/>
              </a:solidFill>
              <a:latin typeface="Arial"/>
            </a:endParaRPr>
          </a:p>
        </p:txBody>
      </p:sp>
      <p:sp>
        <p:nvSpPr>
          <p:cNvPr id="45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5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04C8-EEC5-4FD8-A16F-D7629408614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aintenance and Change</a:t>
            </a:r>
            <a:endParaRPr b="0" lang="en-US" sz="3600" spc="-1" strike="noStrike">
              <a:solidFill>
                <a:srgbClr val="222222"/>
              </a:solidFill>
              <a:latin typeface="Arial"/>
            </a:endParaRPr>
          </a:p>
        </p:txBody>
      </p:sp>
      <p:sp>
        <p:nvSpPr>
          <p:cNvPr id="45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rhaps the most important phase, given the ever-changing threat environ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ften, repairing damage and restoring information is a constant duel with an unseen adversary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rofile of an organization requires constant adaptation as new threats emerge and old threats evolve</a:t>
            </a:r>
            <a:endParaRPr b="0" lang="en-US" sz="2600" spc="-1" strike="noStrike">
              <a:solidFill>
                <a:srgbClr val="222222"/>
              </a:solidFill>
              <a:latin typeface="Arial"/>
            </a:endParaRPr>
          </a:p>
        </p:txBody>
      </p:sp>
      <p:sp>
        <p:nvSpPr>
          <p:cNvPr id="46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5924-A88B-4095-9143-D7FFB4FAA12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Professionals and the Organization</a:t>
            </a:r>
            <a:endParaRPr b="0" lang="en-US" sz="3600" spc="-1" strike="noStrike">
              <a:solidFill>
                <a:srgbClr val="222222"/>
              </a:solidFill>
              <a:latin typeface="Arial"/>
            </a:endParaRPr>
          </a:p>
        </p:txBody>
      </p:sp>
      <p:sp>
        <p:nvSpPr>
          <p:cNvPr id="46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ide range of professionals required to support a diverse information security progra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nior management is key compon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dditional administrative support and technical expertise are required to implement details of IS program</a:t>
            </a:r>
            <a:endParaRPr b="0" lang="en-US" sz="2600" spc="-1" strike="noStrike">
              <a:solidFill>
                <a:srgbClr val="222222"/>
              </a:solidFill>
              <a:latin typeface="Arial"/>
            </a:endParaRPr>
          </a:p>
        </p:txBody>
      </p:sp>
      <p:sp>
        <p:nvSpPr>
          <p:cNvPr id="46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183C-7481-4F69-9CAB-F1FD608A09B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nior Management </a:t>
            </a:r>
            <a:endParaRPr b="0" lang="en-US" sz="3600" spc="-1" strike="noStrike">
              <a:solidFill>
                <a:srgbClr val="222222"/>
              </a:solidFill>
              <a:latin typeface="Arial"/>
            </a:endParaRPr>
          </a:p>
        </p:txBody>
      </p:sp>
      <p:sp>
        <p:nvSpPr>
          <p:cNvPr id="46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hief Information Officer (CIO)</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nior technology offic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ily responsible for advising senior executives on strategic planning </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hief Information Security Officer (CISO)</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ily responsible for assessment, management, and implementation of IS in the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ually reports directly to the CIO</a:t>
            </a:r>
            <a:endParaRPr b="0" lang="en-US" sz="2400" spc="-1" strike="noStrike">
              <a:solidFill>
                <a:srgbClr val="222222"/>
              </a:solidFill>
              <a:latin typeface="Arial"/>
            </a:endParaRPr>
          </a:p>
        </p:txBody>
      </p:sp>
      <p:sp>
        <p:nvSpPr>
          <p:cNvPr id="46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E413-BC4C-48E9-978E-14FBF67FC05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Security Project Team </a:t>
            </a:r>
            <a:endParaRPr b="0" lang="en-US" sz="3600" spc="-1" strike="noStrike">
              <a:solidFill>
                <a:srgbClr val="222222"/>
              </a:solidFill>
              <a:latin typeface="Arial"/>
            </a:endParaRPr>
          </a:p>
        </p:txBody>
      </p:sp>
      <p:sp>
        <p:nvSpPr>
          <p:cNvPr id="47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 number of individuals who are experienced in one or more facets of required technical and nontechnical area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hamp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eam lead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curity policy develop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isk assessment specialis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curity professional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ystems administrato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d users</a:t>
            </a:r>
            <a:endParaRPr b="0" lang="en-US" sz="2400" spc="-1" strike="noStrike">
              <a:solidFill>
                <a:srgbClr val="222222"/>
              </a:solidFill>
              <a:latin typeface="Arial"/>
            </a:endParaRPr>
          </a:p>
        </p:txBody>
      </p:sp>
      <p:sp>
        <p:nvSpPr>
          <p:cNvPr id="47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7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5131-EEEC-4517-9AFB-1E9EC9464B8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ata Responsibilities</a:t>
            </a:r>
            <a:endParaRPr b="0" lang="en-US" sz="3600" spc="-1" strike="noStrike">
              <a:solidFill>
                <a:srgbClr val="222222"/>
              </a:solidFill>
              <a:latin typeface="Arial"/>
            </a:endParaRPr>
          </a:p>
        </p:txBody>
      </p:sp>
      <p:sp>
        <p:nvSpPr>
          <p:cNvPr id="47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owner: responsible for the security and use of a particular set of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custodian: responsible for storage, maintenance, and protection of inform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users: end users who work with information to perform their daily jobs supporting the mission of the organization</a:t>
            </a:r>
            <a:endParaRPr b="0" lang="en-US" sz="2600" spc="-1" strike="noStrike">
              <a:solidFill>
                <a:srgbClr val="222222"/>
              </a:solidFill>
              <a:latin typeface="Arial"/>
            </a:endParaRPr>
          </a:p>
        </p:txBody>
      </p:sp>
      <p:sp>
        <p:nvSpPr>
          <p:cNvPr id="47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7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832F-2A25-4FB2-A86D-1460180D420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munities of Interest</a:t>
            </a:r>
            <a:endParaRPr b="0" lang="en-US" sz="3600" spc="-1" strike="noStrike">
              <a:solidFill>
                <a:srgbClr val="222222"/>
              </a:solidFill>
              <a:latin typeface="Arial"/>
            </a:endParaRPr>
          </a:p>
        </p:txBody>
      </p:sp>
      <p:sp>
        <p:nvSpPr>
          <p:cNvPr id="47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roup of individuals united by similar interests/values within an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security management and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technology management and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al management and professionals</a:t>
            </a:r>
            <a:endParaRPr b="0" lang="en-US" sz="2400" spc="-1" strike="noStrike">
              <a:solidFill>
                <a:srgbClr val="222222"/>
              </a:solidFill>
              <a:latin typeface="Arial"/>
            </a:endParaRPr>
          </a:p>
        </p:txBody>
      </p:sp>
      <p:sp>
        <p:nvSpPr>
          <p:cNvPr id="48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5984-FF22-4502-8825-1E4E5F69D04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History of Information Security</a:t>
            </a:r>
            <a:endParaRPr b="0" lang="en-US" sz="3600" spc="-1" strike="noStrike">
              <a:solidFill>
                <a:srgbClr val="222222"/>
              </a:solidFill>
              <a:latin typeface="Arial"/>
            </a:endParaRPr>
          </a:p>
        </p:txBody>
      </p:sp>
      <p:sp>
        <p:nvSpPr>
          <p:cNvPr id="297" name=""/>
          <p:cNvSpPr txBox="1"/>
          <p:nvPr/>
        </p:nvSpPr>
        <p:spPr>
          <a:xfrm>
            <a:off x="533520" y="1676520"/>
            <a:ext cx="8076960" cy="4572000"/>
          </a:xfrm>
          <a:prstGeom prst="rect">
            <a:avLst/>
          </a:prstGeom>
          <a:noFill/>
          <a:ln w="0">
            <a:noFill/>
          </a:ln>
        </p:spPr>
        <p:txBody>
          <a:bodyPr anchor="t">
            <a:normAutofit/>
          </a:bodyPr>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Computer security began immediately after the first mainframes were developed </a:t>
            </a:r>
            <a:endParaRPr b="0" lang="en-US" sz="2600" spc="-1" strike="noStrike">
              <a:solidFill>
                <a:srgbClr val="222222"/>
              </a:solidFill>
              <a:latin typeface="Arial"/>
            </a:endParaRPr>
          </a:p>
          <a:p>
            <a:pPr lvl="1" marL="738360" indent="-31932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400" spc="-1" strike="noStrike">
                <a:solidFill>
                  <a:srgbClr val="222222"/>
                </a:solidFill>
                <a:latin typeface="Arial"/>
                <a:ea typeface="Arial"/>
              </a:rPr>
              <a:t>Groups developing code-breaking computations during World War II created the first modern computers</a:t>
            </a:r>
            <a:endParaRPr b="0" lang="en-US" sz="2400" spc="-1" strike="noStrike">
              <a:solidFill>
                <a:srgbClr val="222222"/>
              </a:solidFill>
              <a:latin typeface="Arial"/>
            </a:endParaRPr>
          </a:p>
          <a:p>
            <a:pPr lvl="1" marL="738360" indent="-31932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400" spc="-1" strike="noStrike">
                <a:solidFill>
                  <a:srgbClr val="222222"/>
                </a:solidFill>
                <a:latin typeface="Arial"/>
                <a:ea typeface="Arial"/>
              </a:rPr>
              <a:t>Multiple levels of security were implemented</a:t>
            </a:r>
            <a:endParaRPr b="0" lang="en-US" sz="2400" spc="-1" strike="noStrike">
              <a:solidFill>
                <a:srgbClr val="222222"/>
              </a:solidFill>
              <a:latin typeface="Arial"/>
            </a:endParaRPr>
          </a:p>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Physical controls to limit access to sensitive military locations to authorized personnel</a:t>
            </a:r>
            <a:endParaRPr b="0" lang="en-US" sz="2600" spc="-1" strike="noStrike">
              <a:solidFill>
                <a:srgbClr val="222222"/>
              </a:solidFill>
              <a:latin typeface="Arial"/>
            </a:endParaRPr>
          </a:p>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Rudimentary in defending against physical theft, espionage, and sabotage</a:t>
            </a:r>
            <a:endParaRPr b="0" lang="en-US" sz="2600" spc="-1" strike="noStrike">
              <a:solidFill>
                <a:srgbClr val="222222"/>
              </a:solidFill>
              <a:latin typeface="Arial"/>
            </a:endParaRPr>
          </a:p>
        </p:txBody>
      </p:sp>
      <p:sp>
        <p:nvSpPr>
          <p:cNvPr id="29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9013-9C42-465E-8ACF-A50724855BC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Security: Is it an Art or a Science?</a:t>
            </a:r>
            <a:endParaRPr b="0" lang="en-US" sz="3600" spc="-1" strike="noStrike">
              <a:solidFill>
                <a:srgbClr val="222222"/>
              </a:solidFill>
              <a:latin typeface="Arial"/>
            </a:endParaRPr>
          </a:p>
        </p:txBody>
      </p:sp>
      <p:sp>
        <p:nvSpPr>
          <p:cNvPr id="48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often described as combination of art and sci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a:r>
            <a:r>
              <a:rPr b="0" lang="en-GB" sz="2600" spc="-1" strike="noStrike">
                <a:solidFill>
                  <a:srgbClr val="222222"/>
                </a:solidFill>
                <a:latin typeface="Arial"/>
              </a:rPr>
              <a:t>Security artesan” idea: based on the way individuals perceive systems technologists since computers became commonplace</a:t>
            </a:r>
            <a:endParaRPr b="0" lang="en-US" sz="2600" spc="-1" strike="noStrike">
              <a:solidFill>
                <a:srgbClr val="222222"/>
              </a:solidFill>
              <a:latin typeface="Arial"/>
            </a:endParaRPr>
          </a:p>
        </p:txBody>
      </p:sp>
      <p:sp>
        <p:nvSpPr>
          <p:cNvPr id="48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79B0-D949-492B-8A3C-D8D01262033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Art</a:t>
            </a:r>
            <a:endParaRPr b="0" lang="en-US" sz="3600" spc="-1" strike="noStrike">
              <a:solidFill>
                <a:srgbClr val="222222"/>
              </a:solidFill>
              <a:latin typeface="Arial"/>
            </a:endParaRPr>
          </a:p>
        </p:txBody>
      </p:sp>
      <p:sp>
        <p:nvSpPr>
          <p:cNvPr id="48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o hard and fast rules nor many universally accepted complete solu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o manual for implementing security through entire system</a:t>
            </a:r>
            <a:endParaRPr b="0" lang="en-US" sz="2600" spc="-1" strike="noStrike">
              <a:solidFill>
                <a:srgbClr val="222222"/>
              </a:solidFill>
              <a:latin typeface="Arial"/>
            </a:endParaRPr>
          </a:p>
        </p:txBody>
      </p:sp>
      <p:sp>
        <p:nvSpPr>
          <p:cNvPr id="48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E4D2-B433-4895-8EBD-9559972C620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Science</a:t>
            </a:r>
            <a:endParaRPr b="0" lang="en-US" sz="3600" spc="-1" strike="noStrike">
              <a:solidFill>
                <a:srgbClr val="222222"/>
              </a:solidFill>
              <a:latin typeface="Arial"/>
            </a:endParaRPr>
          </a:p>
        </p:txBody>
      </p:sp>
      <p:sp>
        <p:nvSpPr>
          <p:cNvPr id="49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aling with technology designed to operate at high levels of perform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pecific conditions cause virtually all actions that occur in computer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arly every fault, security hole, and systems malfunction are a result of interaction of specific hardware and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f developers had sufficient time, they could resolve and eliminate faults</a:t>
            </a:r>
            <a:endParaRPr b="0" lang="en-US" sz="2600" spc="-1" strike="noStrike">
              <a:solidFill>
                <a:srgbClr val="222222"/>
              </a:solidFill>
              <a:latin typeface="Arial"/>
            </a:endParaRPr>
          </a:p>
        </p:txBody>
      </p:sp>
      <p:sp>
        <p:nvSpPr>
          <p:cNvPr id="49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9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C812-8B64-430A-86A6-3A5E6C514D5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a Social Science</a:t>
            </a:r>
            <a:endParaRPr b="0" lang="en-US" sz="3600" spc="-1" strike="noStrike">
              <a:solidFill>
                <a:srgbClr val="222222"/>
              </a:solidFill>
              <a:latin typeface="Arial"/>
            </a:endParaRPr>
          </a:p>
        </p:txBody>
      </p:sp>
      <p:sp>
        <p:nvSpPr>
          <p:cNvPr id="49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cial science examines the behavior of individuals interacting with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begins and ends with the people that interact with the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administrators can greatly reduce levels of risk caused by end users, and  create more acceptable and supportable security profiles</a:t>
            </a:r>
            <a:endParaRPr b="0" lang="en-US" sz="2600" spc="-1" strike="noStrike">
              <a:solidFill>
                <a:srgbClr val="222222"/>
              </a:solidFill>
              <a:latin typeface="Arial"/>
            </a:endParaRPr>
          </a:p>
        </p:txBody>
      </p:sp>
      <p:sp>
        <p:nvSpPr>
          <p:cNvPr id="49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F4F6-4C40-4D95-B7B5-3ED2A5851CD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49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is a “well-informed sense of assurance that the information risks and controls are in bal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security began immediately after first mainframes were developed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uccessful organizations have multiple layers of security in place: physical, personal, operations, communications, network, and information</a:t>
            </a:r>
            <a:endParaRPr b="0" lang="en-US" sz="2600" spc="-1" strike="noStrike">
              <a:solidFill>
                <a:srgbClr val="222222"/>
              </a:solidFill>
              <a:latin typeface="Arial"/>
            </a:endParaRPr>
          </a:p>
        </p:txBody>
      </p:sp>
      <p:sp>
        <p:nvSpPr>
          <p:cNvPr id="50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50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550F-81A1-47DF-A55C-408CDDD436E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50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hould be considered a balance between protection and avail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must be managed similarly to any major system implemented in an organization using a methodology like SecSDLC</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often described as a combination of art and science</a:t>
            </a:r>
            <a:endParaRPr b="0" lang="en-US" sz="2600" spc="-1" strike="noStrike">
              <a:solidFill>
                <a:srgbClr val="222222"/>
              </a:solidFill>
              <a:latin typeface="Arial"/>
            </a:endParaRPr>
          </a:p>
        </p:txBody>
      </p:sp>
      <p:sp>
        <p:nvSpPr>
          <p:cNvPr id="50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50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2A1F-BC55-437D-8718-A5981DA1CF8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F926-72AD-4FBC-BB7E-90CE4864D6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1 – The Enigma</a:t>
            </a:r>
            <a:endParaRPr b="0" lang="en-US" sz="3600" spc="-1" strike="noStrike">
              <a:solidFill>
                <a:srgbClr val="222222"/>
              </a:solidFill>
              <a:latin typeface="Arial"/>
            </a:endParaRPr>
          </a:p>
        </p:txBody>
      </p:sp>
      <p:sp>
        <p:nvSpPr>
          <p:cNvPr id="30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03" name="Picture 6" descr=""/>
          <p:cNvPicPr/>
          <p:nvPr/>
        </p:nvPicPr>
        <p:blipFill>
          <a:blip r:embed="rId1"/>
          <a:stretch/>
        </p:blipFill>
        <p:spPr>
          <a:xfrm>
            <a:off x="228600" y="252360"/>
            <a:ext cx="8610480" cy="5211720"/>
          </a:xfrm>
          <a:prstGeom prst="rect">
            <a:avLst/>
          </a:prstGeom>
          <a:ln w="0">
            <a:noFill/>
          </a:ln>
        </p:spPr>
      </p:pic>
      <p:sp>
        <p:nvSpPr>
          <p:cNvPr id="304" name="Rectangle 6"/>
          <p:cNvSpPr/>
          <p:nvPr/>
        </p:nvSpPr>
        <p:spPr>
          <a:xfrm>
            <a:off x="2209680" y="55627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 The Enig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urtesy of National Security Agency</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60s</a:t>
            </a:r>
            <a:endParaRPr b="0" lang="en-US" sz="3600" spc="-1" strike="noStrike">
              <a:solidFill>
                <a:srgbClr val="222222"/>
              </a:solidFill>
              <a:latin typeface="Arial"/>
            </a:endParaRPr>
          </a:p>
        </p:txBody>
      </p:sp>
      <p:sp>
        <p:nvSpPr>
          <p:cNvPr id="30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ea typeface="Arial"/>
              </a:rPr>
              <a:t>Advanced Research Project Agency (ARPA) began to examine feasibility of redundant networked communic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ea typeface="Arial"/>
              </a:rPr>
              <a:t>Larry Roberts developed ARPANET from its inception</a:t>
            </a:r>
            <a:endParaRPr b="0" lang="en-US" sz="2600" spc="-1" strike="noStrike">
              <a:solidFill>
                <a:srgbClr val="222222"/>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0C34-9838-4E60-86A3-F3C469091A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0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2 - ARPANET</a:t>
            </a:r>
            <a:endParaRPr b="0" lang="en-US" sz="3600" spc="-1" strike="noStrike">
              <a:solidFill>
                <a:srgbClr val="222222"/>
              </a:solidFill>
              <a:latin typeface="Arial"/>
            </a:endParaRPr>
          </a:p>
        </p:txBody>
      </p:sp>
      <p:sp>
        <p:nvSpPr>
          <p:cNvPr id="31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DFA6-B190-4C0B-9A4E-B0C960CC41AF}"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1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12" name="Picture 6" descr=""/>
          <p:cNvPicPr/>
          <p:nvPr/>
        </p:nvPicPr>
        <p:blipFill>
          <a:blip r:embed="rId1"/>
          <a:stretch/>
        </p:blipFill>
        <p:spPr>
          <a:xfrm>
            <a:off x="380880" y="0"/>
            <a:ext cx="8534520" cy="5638680"/>
          </a:xfrm>
          <a:prstGeom prst="rect">
            <a:avLst/>
          </a:prstGeom>
          <a:ln w="0">
            <a:noFill/>
          </a:ln>
        </p:spPr>
      </p:pic>
      <p:sp>
        <p:nvSpPr>
          <p:cNvPr id="313" name="Rectangle 6"/>
          <p:cNvSpPr/>
          <p:nvPr/>
        </p:nvSpPr>
        <p:spPr>
          <a:xfrm>
            <a:off x="1523880" y="552600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 Development of the ARPANET Program Plan</a:t>
            </a:r>
            <a:r>
              <a:rPr b="0" lang="en-US" sz="1800" spc="-1" strike="noStrike" baseline="30000">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urtesy of Dr. Lawrence Robert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70s and 80s</a:t>
            </a:r>
            <a:endParaRPr b="0" lang="en-US" sz="3600" spc="-1" strike="noStrike">
              <a:solidFill>
                <a:srgbClr val="222222"/>
              </a:solidFill>
              <a:latin typeface="Arial"/>
            </a:endParaRPr>
          </a:p>
        </p:txBody>
      </p:sp>
      <p:sp>
        <p:nvSpPr>
          <p:cNvPr id="315"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RPANET grew in popularity as did its potential for misuse</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Fundamental problems with ARPANET security were identified</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o safety procedures for dial-up connections to ARPANET</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onexistent user identification and authorization to system</a:t>
            </a:r>
            <a:endParaRPr b="0" lang="en-US" sz="24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Late 1970s: microprocessor expanded computing capabilities and security threats</a:t>
            </a:r>
            <a:endParaRPr b="0" lang="en-US" sz="2600" spc="-1" strike="noStrike">
              <a:solidFill>
                <a:srgbClr val="222222"/>
              </a:solidFill>
              <a:latin typeface="Arial"/>
            </a:endParaRPr>
          </a:p>
        </p:txBody>
      </p:sp>
      <p:sp>
        <p:nvSpPr>
          <p:cNvPr id="31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0F9C-B4D4-43A9-9245-625B8E819AC6}"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1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21:56:01Z</dcterms:created>
  <dc:creator/>
  <dc:description/>
  <dc:language>en-US</dc:language>
  <cp:lastModifiedBy>Tim Walker</cp:lastModifiedBy>
  <dcterms:modified xsi:type="dcterms:W3CDTF">2010-11-21T03:03:33Z</dcterms:modified>
  <cp:revision>367</cp:revision>
  <dc:subject/>
  <dc:title>About the Presentations</dc:title>
</cp:coreProperties>
</file>