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D51-5CF7-4130-9BD6-AC74D287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9B2-3E12-45F2-BB14-2C300C40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1AA-20AB-43E2-B570-21B72082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705D-763F-426B-BF75-96077C81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3EE9-647A-43B8-86C1-B8FBA7F4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6D11-F7EA-4F22-A1BA-FD491223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151E-3BEC-47B9-B5C8-FCF50A0A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A028-AB8B-41E9-8A23-CF0ECEC8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638C-13C0-42F0-A90B-ACA0A8F6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E43F-11A9-43A1-AFE6-4BBFF850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1A10-9EC3-4601-A83A-3B1AA7F8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FCE5-AABD-49A1-B6F6-27E36559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F8C2-6416-42FE-BEDD-A0636BC1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37A3-B136-4542-B705-E9D8D05A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B2E7-B294-4920-BD3D-976FAA36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C66D-A3C4-4ADC-88EE-E09BE4CE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72E9-21EE-425A-91C7-E03725BC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0E0-6C1D-46C0-87A3-16E366E6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A91B-18F1-4438-A219-B1476A43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59C3-EA0A-4B5D-B979-31636E06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1E5C-A890-461D-8847-56992185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AA5-90F5-4BB5-BA66-CF68E158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1242-D89F-42A5-BE77-E9F3E5B1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9930-267E-4B37-861A-0CF6E1CD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3F08-6639-4AF8-AAB7-361191EFE9F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F2C7-AE6F-4A4B-82A3-4D9971EA230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1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Role of Business Resear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Applied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ducted when a decision must be made about a specific real-life probl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Applied Research Exampl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ould McDonalds add Italian pasta dinners to its menu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siness research told McDonald’s it should no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ould Procter &amp; Gamble add a high-priced home teeth bleaching kit to its product lin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earch showed Crest Whitestrips would sell well at a retail price of $4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cientific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Method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343400" y="3657600"/>
            <a:ext cx="2984400" cy="2870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analysis and interpretation of empirical evidence (facts from observation or experimentation) to confirm or disprove prior concep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The Decision-making Process Associated with the Development and Implementation of a Strategy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dentifying problems and opportun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agnosis and assess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lecting and implementing a course of 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valuating the course of 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Evaluation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valuation research is the formal, objective measurement and appraisal of the extent to which a given activity, project, or program has achieved its objectiv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erformance-monitoring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earch that regularly provides feedback for evaluation and contr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dicates things are or are not going as plann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earch may be required to explain why something “went wrong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Total Quality Management</a:t>
            </a: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 (TQM)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2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 business philosophy that embodies the belief  that the management process must focus on integrating customer-driven quality throughout the organization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QM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esses continuous improvement of product quality and servi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agers improve durability and enhance features as the product ag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agers strive to improve delivery and other services to keep their companies competi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etermining When to Conduct Business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me constrai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ailability of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ture of the deci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nefits versus co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9640" y="2139840"/>
            <a:ext cx="1130400" cy="144144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Is sufficient time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available before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a managerial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decision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must be made?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16160" y="2139840"/>
            <a:ext cx="1130400" cy="144144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Is the infor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mation already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on han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inadequa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for makin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the decision?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92680" y="2139840"/>
            <a:ext cx="1130040" cy="144144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Is the decision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of considerable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strategic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or tactic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importance?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92880" y="2139840"/>
            <a:ext cx="1130040" cy="144144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Does the valu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of the research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informat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exceed the cos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of conducting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research?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45360" y="1676520"/>
            <a:ext cx="1289160" cy="2209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 Narrow"/>
              </a:rPr>
              <a:t>Conduc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 Narrow"/>
              </a:rPr>
              <a:t>Busines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 Narrow"/>
              </a:rPr>
              <a:t>Researc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4572000"/>
            <a:ext cx="6083280" cy="7491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 Narrow"/>
              </a:rPr>
              <a:t>Do Not Conduct Business Resear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2240" y="1752480"/>
            <a:ext cx="189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Time Constrai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19360" y="1447920"/>
            <a:ext cx="2044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Availability of Da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5400" y="1752480"/>
            <a:ext cx="2402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Nature of the Decis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1447920"/>
            <a:ext cx="1270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Benefits vs. Cos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87680" y="2666880"/>
            <a:ext cx="52200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40560" y="2666880"/>
            <a:ext cx="59832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0360" y="2666880"/>
            <a:ext cx="44604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63840" y="2666880"/>
            <a:ext cx="52236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02440" y="2408400"/>
            <a:ext cx="40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 Narrow"/>
              </a:rPr>
              <a:t>Y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79000" y="2408400"/>
            <a:ext cx="40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 Narrow"/>
              </a:rPr>
              <a:t>Y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78800" y="2408400"/>
            <a:ext cx="40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 Narrow"/>
              </a:rPr>
              <a:t>Y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78600" y="2408400"/>
            <a:ext cx="40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 Narrow"/>
              </a:rPr>
              <a:t>Y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816360"/>
            <a:ext cx="0" cy="29376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3816360"/>
            <a:ext cx="0" cy="29376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19720" y="3816360"/>
            <a:ext cx="0" cy="29376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3816360"/>
            <a:ext cx="0" cy="29376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1160" y="4114800"/>
            <a:ext cx="35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 Narrow"/>
              </a:rPr>
              <a:t>N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4114800"/>
            <a:ext cx="35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 Narrow"/>
              </a:rPr>
              <a:t>N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4200" y="4114800"/>
            <a:ext cx="35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 Narrow"/>
              </a:rPr>
              <a:t>N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35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 Narrow"/>
              </a:rPr>
              <a:t>N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etermining When to Conduct Business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27160" y="2666880"/>
            <a:ext cx="74073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Business research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is defined as  the systematic and objective process of generating information for aid in making business decisions.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 Research Defined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Value versus Cos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tential Value of a Business Research Effort Should Exceed Its Estimated Co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225440" y="1987560"/>
            <a:ext cx="2806920" cy="3111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40840" y="2087640"/>
            <a:ext cx="86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79440" y="2567160"/>
            <a:ext cx="260676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Decreased certaint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Increased likelihood of a correct decis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Improved business performance and resulting higher profi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7080" y="1682640"/>
            <a:ext cx="2806560" cy="3111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73680" y="1782720"/>
            <a:ext cx="893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37040" y="2133720"/>
            <a:ext cx="25304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Research expenditur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Delay of business decision and possible disclosure of information to rival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Possible erroneous research resul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8640" y="5416560"/>
            <a:ext cx="825480" cy="673200"/>
          </a:xfrm>
          <a:prstGeom prst="triangle">
            <a:avLst>
              <a:gd name="adj" fmla="val 49931"/>
            </a:avLst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521080" y="5187960"/>
            <a:ext cx="3722400" cy="293760"/>
          </a:xfrm>
          <a:prstGeom prst="line">
            <a:avLst/>
          </a:prstGeom>
          <a:ln w="127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14600" y="5187960"/>
            <a:ext cx="0" cy="293760"/>
          </a:xfrm>
          <a:prstGeom prst="line">
            <a:avLst/>
          </a:prstGeom>
          <a:ln w="1015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248520" y="4883040"/>
            <a:ext cx="0" cy="293760"/>
          </a:xfrm>
          <a:prstGeom prst="line">
            <a:avLst/>
          </a:prstGeom>
          <a:ln w="1015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Value Should Exceed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Estimated Cos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Major Topics for Research in Busines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eneral Business Conditions and Corporate Resear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nancial and Accounting Resear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agement and Organizational Behavior Resear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les and Marketing Resear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formation Systems Resear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rporate Responsibility Resear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ross-functional Team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ross-functional team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re composed of individuals from various organizational departments such as engineering, production, finance, and marketing who share a common purpo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 Research in the 21st Century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reased globaliz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owth of the Internet and other information technolog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Global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siness Research is increasingly glob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rket knowledge is essent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.C. Nielsen - more that 67% international busin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876920" y="3809880"/>
          <a:ext cx="2324160" cy="23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809880"/>
                    <a:ext cx="232416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Global Business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eral information about country - economic conditions and political clim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ltural and consumer fac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rket and competitive conditions - demand esti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924680" y="1828800"/>
            <a:ext cx="952560" cy="37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 Internet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s Transforming Society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me is collapsing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tance is no longer an obstacl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ossing oceans is only a mouse click away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are connected 24 hours a day, seven days a week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"Instantaneous" has a new meaning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ternet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eking facts and figures about an issu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veys on Web sit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27160" y="1279440"/>
            <a:ext cx="7407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earch information is neither intuitive nor haphazardly gathere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terally, research (re-search) -“search again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siness research must be objec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tached and impersonal rather than bi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facilitates the managerial decision process for all aspects of a busi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4724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Information</a:t>
            </a: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Reduces</a:t>
            </a: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Uncertainty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2232000" cy="3375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248520" y="304920"/>
            <a:ext cx="2898720" cy="3584520"/>
          </a:xfrm>
          <a:custGeom>
            <a:avLst/>
            <a:gdLst/>
            <a:ahLst/>
            <a:rect l="l" t="t" r="r" b="b"/>
            <a:pathLst>
              <a:path w="1826" h="2258">
                <a:moveTo>
                  <a:pt x="147" y="1650"/>
                </a:moveTo>
                <a:lnTo>
                  <a:pt x="101" y="1524"/>
                </a:lnTo>
                <a:lnTo>
                  <a:pt x="74" y="1395"/>
                </a:lnTo>
                <a:lnTo>
                  <a:pt x="55" y="1262"/>
                </a:lnTo>
                <a:lnTo>
                  <a:pt x="46" y="1129"/>
                </a:lnTo>
                <a:lnTo>
                  <a:pt x="55" y="1015"/>
                </a:lnTo>
                <a:lnTo>
                  <a:pt x="64" y="901"/>
                </a:lnTo>
                <a:lnTo>
                  <a:pt x="83" y="792"/>
                </a:lnTo>
                <a:lnTo>
                  <a:pt x="120" y="690"/>
                </a:lnTo>
                <a:lnTo>
                  <a:pt x="157" y="592"/>
                </a:lnTo>
                <a:lnTo>
                  <a:pt x="193" y="498"/>
                </a:lnTo>
                <a:lnTo>
                  <a:pt x="249" y="411"/>
                </a:lnTo>
                <a:lnTo>
                  <a:pt x="304" y="329"/>
                </a:lnTo>
                <a:lnTo>
                  <a:pt x="369" y="259"/>
                </a:lnTo>
                <a:lnTo>
                  <a:pt x="442" y="192"/>
                </a:lnTo>
                <a:lnTo>
                  <a:pt x="516" y="137"/>
                </a:lnTo>
                <a:lnTo>
                  <a:pt x="590" y="90"/>
                </a:lnTo>
                <a:lnTo>
                  <a:pt x="673" y="51"/>
                </a:lnTo>
                <a:lnTo>
                  <a:pt x="756" y="24"/>
                </a:lnTo>
                <a:lnTo>
                  <a:pt x="848" y="8"/>
                </a:lnTo>
                <a:lnTo>
                  <a:pt x="940" y="0"/>
                </a:lnTo>
                <a:lnTo>
                  <a:pt x="1032" y="8"/>
                </a:lnTo>
                <a:lnTo>
                  <a:pt x="1115" y="24"/>
                </a:lnTo>
                <a:lnTo>
                  <a:pt x="1207" y="51"/>
                </a:lnTo>
                <a:lnTo>
                  <a:pt x="1281" y="90"/>
                </a:lnTo>
                <a:lnTo>
                  <a:pt x="1364" y="137"/>
                </a:lnTo>
                <a:lnTo>
                  <a:pt x="1438" y="192"/>
                </a:lnTo>
                <a:lnTo>
                  <a:pt x="1502" y="259"/>
                </a:lnTo>
                <a:lnTo>
                  <a:pt x="1567" y="329"/>
                </a:lnTo>
                <a:lnTo>
                  <a:pt x="1622" y="411"/>
                </a:lnTo>
                <a:lnTo>
                  <a:pt x="1678" y="498"/>
                </a:lnTo>
                <a:lnTo>
                  <a:pt x="1714" y="592"/>
                </a:lnTo>
                <a:lnTo>
                  <a:pt x="1751" y="690"/>
                </a:lnTo>
                <a:lnTo>
                  <a:pt x="1788" y="792"/>
                </a:lnTo>
                <a:lnTo>
                  <a:pt x="1807" y="901"/>
                </a:lnTo>
                <a:lnTo>
                  <a:pt x="1825" y="1015"/>
                </a:lnTo>
                <a:lnTo>
                  <a:pt x="1825" y="1129"/>
                </a:lnTo>
                <a:lnTo>
                  <a:pt x="1825" y="1242"/>
                </a:lnTo>
                <a:lnTo>
                  <a:pt x="1807" y="1356"/>
                </a:lnTo>
                <a:lnTo>
                  <a:pt x="1788" y="1465"/>
                </a:lnTo>
                <a:lnTo>
                  <a:pt x="1751" y="1567"/>
                </a:lnTo>
                <a:lnTo>
                  <a:pt x="1714" y="1665"/>
                </a:lnTo>
                <a:lnTo>
                  <a:pt x="1678" y="1759"/>
                </a:lnTo>
                <a:lnTo>
                  <a:pt x="1622" y="1846"/>
                </a:lnTo>
                <a:lnTo>
                  <a:pt x="1567" y="1928"/>
                </a:lnTo>
                <a:lnTo>
                  <a:pt x="1502" y="1998"/>
                </a:lnTo>
                <a:lnTo>
                  <a:pt x="1438" y="2065"/>
                </a:lnTo>
                <a:lnTo>
                  <a:pt x="1364" y="2120"/>
                </a:lnTo>
                <a:lnTo>
                  <a:pt x="1281" y="2167"/>
                </a:lnTo>
                <a:lnTo>
                  <a:pt x="1207" y="2206"/>
                </a:lnTo>
                <a:lnTo>
                  <a:pt x="1115" y="2233"/>
                </a:lnTo>
                <a:lnTo>
                  <a:pt x="1032" y="2253"/>
                </a:lnTo>
                <a:lnTo>
                  <a:pt x="940" y="2257"/>
                </a:lnTo>
                <a:lnTo>
                  <a:pt x="857" y="2253"/>
                </a:lnTo>
                <a:lnTo>
                  <a:pt x="783" y="2237"/>
                </a:lnTo>
                <a:lnTo>
                  <a:pt x="700" y="2218"/>
                </a:lnTo>
                <a:lnTo>
                  <a:pt x="627" y="2186"/>
                </a:lnTo>
                <a:lnTo>
                  <a:pt x="553" y="2147"/>
                </a:lnTo>
                <a:lnTo>
                  <a:pt x="488" y="2100"/>
                </a:lnTo>
                <a:lnTo>
                  <a:pt x="424" y="2049"/>
                </a:lnTo>
                <a:lnTo>
                  <a:pt x="359" y="1987"/>
                </a:lnTo>
                <a:lnTo>
                  <a:pt x="0" y="2073"/>
                </a:lnTo>
                <a:lnTo>
                  <a:pt x="147" y="1650"/>
                </a:lnTo>
              </a:path>
            </a:pathLst>
          </a:custGeom>
          <a:solidFill>
            <a:srgbClr val="ff9933"/>
          </a:solidFill>
          <a:ln cap="rnd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07240" y="866880"/>
            <a:ext cx="185400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 don’t kn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f w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hou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ffer on-si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ild car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65530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t ain’t the things we don’t know that gets us in trouble. It’s the things we know that ain’t so.”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emus Wa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76320" y="6699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3840" y="1706400"/>
            <a:ext cx="767988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asic researc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pplied researc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3899160" cy="3208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 Research Typ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asic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tempts to expand the limits of knowled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directly involved in the solution to a pragmatic probl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asic Research Exampl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executive success correlated with high need for achievemen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e members of highly cohesive work groups  more satisfied than members of less cohesive work group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 consumers experience cognitive dissonance in low-involvement situation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"The secret of success is to know something nobody else knows. "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istotle Onassi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6:47:22Z</dcterms:created>
  <dc:creator>zikmund</dc:creator>
  <dc:description/>
  <dc:language>en-US</dc:language>
  <cp:lastModifiedBy>zikmund</cp:lastModifiedBy>
  <dcterms:modified xsi:type="dcterms:W3CDTF">2002-02-09T15:06:09Z</dcterms:modified>
  <cp:revision>32</cp:revision>
  <dc:subject>Chapter 1</dc:subject>
  <dc:title>Business Research Methods  William G. Zikmund </dc:title>
</cp:coreProperties>
</file>