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6176-9970-41E2-A349-1BEDEB223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7A44-BC21-4C36-AC9A-3A3072990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AF67-631E-4C24-AC3D-F6A50044B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A8C7-FEE2-4819-B5C0-811ED2119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9AE8-BC3A-4476-85BF-BB07BBF8A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8DC0-8ECD-45D9-9DC8-7556B094E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187-F704-40FB-9FDB-82908670B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3418-6206-49DC-87BF-16336ECD8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D86B-0B60-4438-BD1F-E9E2C63B4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DD9B-233F-494E-A6D5-7958D1E20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7CCE-9027-4D56-8B2C-078AABBF9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8746-D0F0-4FB2-8709-9441D006A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5D4E-E8A7-4C31-AF66-EDE16C4E2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56AA-CF3C-47F9-8C2E-2013FD59E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69A5-CD78-4463-98C0-BC4BCDC3D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46FC-8B46-4B77-A244-DBA70A933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F285-F8F1-4B05-8055-1B5A482DB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8858-6C16-41D9-A4A2-194EAF380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ADF0-1C39-4904-8D76-9141E72E0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2999-8347-4349-9F5E-B184C0171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EA48-17C4-4F0A-AB16-B7DADFB88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5344-B429-4659-AF3B-ECFA56EBA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9049-D709-4DEE-B3B0-074BE466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F4BC-13AB-455A-98AD-93C399AB1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2017-6EC4-43DA-B4D4-80709EFFA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82E1-60EC-4FE4-953D-4C9893629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77DB-D867-4E41-9BCB-E55C5F54E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4F54-6FCC-4E67-A8A2-74E564143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4115-05C2-4DB8-A3BB-4ED2E7AD5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26F5-3D53-4551-8F90-89CAE9C92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3B84-B6B4-44F0-A477-C747989F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E39B-03C5-4CD2-A7CA-CE2B1B8A7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44B9-84A1-4240-92EE-147BEF925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65F6-D5CB-4E67-BD48-6BF2A6622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2C79-CA84-4D8B-9CA0-BF9CEF678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EB77-A983-431E-A0C6-0A0DFD586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CD60-9AE7-4D16-ABDE-D870D1E26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0716-4294-4E99-962D-5C2F3F931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7320-2F12-4024-BE28-BD5F9F9B8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E658-CD00-43BD-9AD0-6B478C3A8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85C9-77BF-4625-879C-906306582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2668-3525-4256-9C02-CF6EF1DE8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C931-063A-4B66-AAF5-3B13F6942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C1A3-CE93-4424-9A8A-21A963787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60B2-E478-4632-8E4C-B35FF7F1A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C33B-E0CD-4805-809A-5705BBC49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6050A-F7AC-43B3-A666-3902829AD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F359-7AB4-4D4C-87F6-306F8DEF3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4C1E-EF01-428E-AD6F-EFC41E59E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9872-8B90-4404-A8F2-E95594DB3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070CC-49EC-47B8-A6E0-354708EE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5CCD3-3CCA-4246-AEC1-974E14B0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9AACE-9F66-4F5D-B9A9-D1C5523D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1C7A0-710F-45C2-AC29-01ED3526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05107-3BF0-42F4-9C19-49D7E00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98BF8-CF00-43E3-A120-60E91508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800FE-9597-4395-9C2C-7B26E63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D1DC6-515F-4714-839B-5382C2A2E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FDE08-FBD1-4F89-B90A-9FF3662C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612A5-D275-4F88-90F8-DB2CB1E5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5C1FA-4A97-48F0-BAAA-81C71F71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79BD7-9EA7-4D3B-A5AF-4B2C0AB2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2E40F-DA53-4713-8F0F-7E6F0B2C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28A8B-873C-4A0E-9882-81D5C3FE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8BB41-13B5-4C57-9B79-E4C4F5C7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0C00F-126D-462C-82B0-B1728BAB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CD33D-7B1A-49ED-B721-E70E091D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D1FB1-32C9-4826-974A-3940BB8C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7F74-DBF9-49A5-8155-4C22521DA5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E5CE3-8BE6-46B5-9F47-7095B3D4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1B7FC-361A-48F4-8D44-0D6A2AF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205DE-5F18-410F-8569-741C73B5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473F6-B8AD-46F6-88E2-93EB35F3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E42D5-BACE-4799-9111-46F37885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6BE28-4396-4F87-9321-6EEABB69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55738-89A9-48BC-AB2C-1A50A24B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E0D7-1954-4FE9-89AE-B95E42F6D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F8D8-8113-4CF1-979F-10DD06D50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46CD-CDCC-4CD0-A900-1DA71BABA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5A44-2A98-4AFF-92A0-0554E65CE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16B8-1A26-4B60-A15C-CC5417394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FBD1-FC90-4BBD-8859-DD18A986A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29BF-6AFF-4FC0-8173-BCBFAC5129B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EFAF-7823-4A0D-9C16-CFBBA99610AE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8887-14D4-4C9C-9D4B-10FAB7BC19F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2FA0-88B0-4CAA-88BF-E0596DEC8EA8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4F0D-FAB4-4283-8DDB-C70CE80C84A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ervice_blueprint#cite_note-2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bout the Present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20574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presentations cover the objectives found in the opening of each chapter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l chapter objectives are listed in the beginning of each presentation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may customize the presentations to fit your class needs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figures from the chapters are included. A complete set of images from the book can be found on the Instructor Resources disc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9633-B57C-4F97-89BD-0C927D8A552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Z:\Chimborazo\ERP Project\Art\Cengage Icon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FA03-8CCB-45EB-B338-B1ED1A59C46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90720" y="4952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2  Sample business processes related to the sale of a personal smartph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7" descr="Z:\Chimborazo\ERP Project\Art\C8084_01\C8084_ch01_f02.bmp"/>
          <p:cNvPicPr/>
          <p:nvPr/>
        </p:nvPicPr>
        <p:blipFill>
          <a:blip r:embed="rId1"/>
          <a:stretch/>
        </p:blipFill>
        <p:spPr>
          <a:xfrm>
            <a:off x="419040" y="1447920"/>
            <a:ext cx="8420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4D5-DC2E-44AA-8AD5-16FC88BE876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must always consider customer’s viewpoint in any trans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customer inter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(either internal or external) is not required to interact with each business function involved in the pro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business managers view business operations from the perspective of a satisfied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03E3-0B10-4E94-9F87-B375DB30F97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ing data effectively and efficiently between and within functional areas leads to more efficient business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tegrated information system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Systems in which functional areas shar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rvice Blueprint: </a:t>
            </a:r>
            <a:br>
              <a:rPr sz="3600"/>
            </a:b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A Technique to an Integrated Process</a:t>
            </a:r>
            <a:endParaRPr b="0" lang="en-US" sz="2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520" y="163836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service blueprint is always constructed from the customer's perspective. A typical service blueprint identifies: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  <a:hlinkClick r:id="rId1"/>
              </a:rPr>
              <a:t>[2]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Customer Action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 The steps that customers take as part of the service delivery process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Front-stage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(Visible Contact Employee) Actions: Steps taken by contact employees as part of the face-to-face service encounter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Back-stage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(Invisible Contact Employee) Actions: (The ‘line of visibility’ separates the front-stage and back-stage actions). Non-visible steps taken by contact employees behind the line of visibility.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EDF3-F63D-4C7E-8BAF-12F1762EF08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Support Processes: Activities carried out by employees who are not contact employees, but whose actions are required for the service to be delivered.</a:t>
            </a:r>
            <a:endParaRPr b="0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Physical Evidence: Tangible elements associated with each step that has the poential to influence customer perceptions of the service encounter e.g. uniforms, delivery vans</a:t>
            </a:r>
            <a:endParaRPr b="0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AD9D-BB9A-4B58-8B6C-A1F7BD37ECE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 class exercise::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fine the service blueprint 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87" name="Content Placeholder 5" descr=""/>
          <p:cNvPicPr/>
          <p:nvPr/>
        </p:nvPicPr>
        <p:blipFill>
          <a:blip r:embed="rId1"/>
          <a:srcRect l="0" t="0" r="81382" b="0"/>
          <a:stretch/>
        </p:blipFill>
        <p:spPr>
          <a:xfrm>
            <a:off x="609480" y="1600200"/>
            <a:ext cx="1447920" cy="472428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CF53-6AB9-4259-9AED-FFDDBC3F722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0" name="Straight Arrow Connector 13"/>
          <p:cNvCxnSpPr/>
          <p:nvPr/>
        </p:nvCxnSpPr>
        <p:spPr>
          <a:xfrm flipV="1">
            <a:off x="533520" y="2462040"/>
            <a:ext cx="7773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Straight Arrow Connector 20"/>
          <p:cNvCxnSpPr/>
          <p:nvPr/>
        </p:nvCxnSpPr>
        <p:spPr>
          <a:xfrm flipV="1">
            <a:off x="533520" y="3542760"/>
            <a:ext cx="7773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Straight Arrow Connector 21"/>
          <p:cNvCxnSpPr/>
          <p:nvPr/>
        </p:nvCxnSpPr>
        <p:spPr>
          <a:xfrm flipV="1">
            <a:off x="681120" y="4419000"/>
            <a:ext cx="7773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Straight Arrow Connector 22"/>
          <p:cNvCxnSpPr/>
          <p:nvPr/>
        </p:nvCxnSpPr>
        <p:spPr>
          <a:xfrm flipV="1">
            <a:off x="685800" y="5333400"/>
            <a:ext cx="7773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rvice Blueprint Example 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5" name="Content Placeholder 5" descr=""/>
          <p:cNvPicPr/>
          <p:nvPr/>
        </p:nvPicPr>
        <p:blipFill>
          <a:blip r:embed="rId1"/>
          <a:srcRect l="3572" t="16271" r="7145" b="40000"/>
          <a:stretch/>
        </p:blipFill>
        <p:spPr>
          <a:xfrm>
            <a:off x="228600" y="1523880"/>
            <a:ext cx="8610480" cy="4648320"/>
          </a:xfrm>
          <a:prstGeom prst="rect">
            <a:avLst/>
          </a:prstGeom>
          <a:ln w="0">
            <a:noFill/>
          </a:ln>
        </p:spPr>
      </p:pic>
      <p:sp>
        <p:nvSpPr>
          <p:cNvPr id="19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51FD-0134-4354-B7C3-D07D51BCBA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7A52-5C70-4DD9-92CA-027BFE58407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362320" y="55627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3  A process view of 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8" descr="Z:\Chimborazo\ERP Project\Art\C8084_01\C8084_ch01_f03.bmp"/>
          <p:cNvPicPr/>
          <p:nvPr/>
        </p:nvPicPr>
        <p:blipFill>
          <a:blip r:embed="rId1"/>
          <a:stretch/>
        </p:blipFill>
        <p:spPr>
          <a:xfrm>
            <a:off x="990720" y="1455840"/>
            <a:ext cx="739116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1630-CFBA-4662-BCFD-2C47811B9D5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take inputs (resources) and transform these inputs into goods and services for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puts: Material, people, equi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ing inputs and business processes effectively requires accurate and up-to-date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711F-9097-4421-BB6F-EB4D9B625F2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 of a Very Small Busin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ample: A fictitious coffee sh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ine business processes of the coffee sho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why coordination of functional areas helps achieve efficient and effectiv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ok at how integration of the information system improves the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our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On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Business Functions and Business Processe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5" name="Picture 4" descr="Z:\Chimborazo\ERP Project\Art\Cengage Icon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E4BF-20DD-49E1-84B8-E0DD0989564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ing produ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ing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moting products to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ing customers’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ing create a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A7F3-F016-4151-8B42-50EBE2D71F9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tasks for the coffee sh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mal recordkeeping not requir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keep track of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development can be done inform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ood repeat customers allowed to charge purchases—up to a poi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cords must show how much each customer owes and his or her available credi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E309-DBA4-4B9F-889D-425198ED0D9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ing the coffee (manufacturing/production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ying raw materials (purchasing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ning requires sales forecasts from M/S functional are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ales forecas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alyses that attempt to predict the future sales of a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2F09-01C9-42C2-913A-F616737D0A0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used to develop requirements for raw materials and packag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s: Bottled spring water, fresh lemons, artificial sweetener, raw sug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: Cups, straws, napki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CM and M/S must choose a recipe for each coffee product so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6F46-0643-457E-9961-F1C4A35D4C8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Accounting and Fina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ing raw data about transactions (including sales), raw material purchases, payroll, and receipt of cash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aw data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umbers collected from sales, manufacturing and other operations, without any manipulation, calculation, or arrangement for present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2109-6EA2-425B-A01D-70500E34E0F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from Accounting and Finance used by Marketing and Sales and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records are important component of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forecast is used in making staffing decisions and in production plan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s from accounts receivable used to monitor the overall credit-granting policy of the coffee sho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D4E4-D87A-42F8-8589-6C39C67CA55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ruit, train, evaluate, and compensate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uses sales forecasts developed by the individual departments to plan personnel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ystems integrated using ERP software provide the data sharing necessary between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4CE7-F15E-4E7A-A87F-CA137CDA100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 Informat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otential inputs and outputs for each functional area described nex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e the kinds of data needed by each area and how people use th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maintain relationships between all functional areas and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D911-2D43-45C2-9075-94CBB38959A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stomers communicate orders to M/S in person or by telephone, e-mail, fax, the Web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has a role in determining product pr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cing might be determined based on a product’s unit cost, plus some percentage mark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quires information from Accounting and Finance, and Supply Chain Managemen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DD2A-F0CB-435C-945C-AB101B99719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457200" y="5334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Figure 1-4 The Marketing and Sales functional area exchanges data with customers and with the Human Resources, Accounting and Finance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7" descr="Z:\Chimborazo\ERP Project\Art\C8084_01\C8084_ch01_f04.bmp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BDB7-6F88-427E-876D-49B5B8D496E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ame the main functional areas of operation used in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erentiate between a business process and a business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dentify the kinds of data each main functional area produ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dentify the kinds of data each main functional area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fine integrated information systems, and explain why they are essential in today’s globally competitive business environ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09C4-E471-47E2-8B03-C8D90AA0739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needs to interact with Human Resources to exchange information on hiring needs, legal requirements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d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trend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-unit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y travel expense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A1CA-F749-499B-B81D-1CF534011DF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strateg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ment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52B0-D2C9-4C0D-8217-28BBD924040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various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based on information about product sales (actual and projected) that comes from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accurate data about required production level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and packaging can be ordered as need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 can be kept low, saving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F4A0-305D-4759-8312-65D5D5A6A67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data and records ca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data needed by Accounting and Finance to determine how much of each resource was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pport the M/S function by providing information about what has been produced and ship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interacts in some ways with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E037-3127-498D-974E-B74A4466848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5  The Supply Chain Management functional area exchanges data with suppliers and with the Human Resources, Marketing and Sales, and Accounting and Finance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7" descr="Z:\Chimborazo\ERP Project\Art\C8084_01\C8084_ch01_f05.bmp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83AD-B5B9-47CA-9A49-CC4B8AA3D9D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yoff and recall company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883D-188D-411C-907B-63453D640DD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source expenditur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ring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E64F-A07F-4974-B8D8-F9A97CE21C9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/F personnel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company’s transactions in the books of acc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accounts payable when raw materials are purchased and cash outflows when they pay for materi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mmarize transaction data to prepare reports about company’s financial position and profit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F4AB-56DB-439A-B853-D28941DC673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ople in other functional areas provide data to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/S provides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CM provides 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R provides payroll and benefit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personnel require data from A/F to evaluate customer cred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E252-88F2-49A6-B193-35C6F563EA6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6  The Accounting and Finance functional area exchanges data with customers and with the Human Resources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7" descr="Z:\Chimborazo\ERP Project\Art\C8084_01\C8084_ch01_f06.bmp"/>
          <p:cNvPicPr/>
          <p:nvPr/>
        </p:nvPicPr>
        <p:blipFill>
          <a:blip r:embed="rId1"/>
          <a:stretch/>
        </p:blipFill>
        <p:spPr>
          <a:xfrm>
            <a:off x="762120" y="1371600"/>
            <a:ext cx="78483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5645-54E9-4D63-BB46-152E5AF976C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nterprise Resource Planning (ERP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programs: Core software used by companies to coordinate information in every area of busi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 manage companywid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common database and shared management reporting t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proces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some input and creates an output that is of value to the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CE76-CD19-4AF3-865D-60C35F88939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receiv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pay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roll and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C726-36EF-4250-9328-8BDB6B6BBE0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to suppli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redi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16A6-1941-4423-BD70-09BE355F44D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information from the other depart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sks related to employee hiring, benefits, training, and government compliance are all responsibilities of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accurate forecasts of personnel needs from all functional uni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to know what skills are needed to perform a particular job and how much the company can afford to pay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49F9-2128-402E-856E-1BEDF8882A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7  The Human Resources functional area exchanges data with the Accounting and Finance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7" descr="Z:\Chimborazo\ERP Project\Art\C8084_01\C8084_ch01_f07.bmp"/>
          <p:cNvPicPr/>
          <p:nvPr/>
        </p:nvPicPr>
        <p:blipFill>
          <a:blip r:embed="rId1"/>
          <a:stretch/>
        </p:blipFill>
        <p:spPr>
          <a:xfrm>
            <a:off x="838080" y="1371600"/>
            <a:ext cx="77724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C0A2-D2B1-40A3-A5FB-A5CD19F7066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bserving governmental regulations in recruiting, training, compensating, promoting, and terminating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sonnel forecas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83B1-0F41-4FC4-9202-E5A89D9683C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gulation compli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training and certific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evaluation and compens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88C1-3978-4941-BE08-EA42CEFFF9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gnificant amount of data is maintained by and shared among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liness and accuracy of these data critical to each area’s success and to company’s ability to make a profit and generate future growt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oftware allows all functional areas to share a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accurate, real-time information to be avai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8307-E8F2-4492-8685-C7064AA0CCB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asic functional areas: Marketing and Sales, Supply Chain Management, Accounting and Finance, and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: Sets product prices, promotes products through advertising and marketing, takes customer orders, supports customers, and creates sales forecas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: Develops production plans, orders raw materials from suppliers, receives raw material, manufactures products, maintains facilities, and ships products to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9958-D389-4DC0-A829-E6AA3E48A8D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: Financial accounting to provide summaries of operational data in managerial reports, controlling accounts, planning and budgeting, and cash-flow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: Recruits, hires, trains, and compensates employees, ensures compliance with government regulations, and oversees the evaluation of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capture, process, and store data to provide information needed for decision mak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9A85-B107-4A63-9F04-5B9E8DE9168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mployees working in one functional area need data from employees in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 information systems should be integrated, so shared data are accurate and time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rs think in terms of business processes that integrate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share information between functions and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software provides this capability by means of a single common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understand ERP, you must understand how a business 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BB5F-5921-4750-A143-276672A9104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8DF2-DA44-4A16-8E07-FDC99B3504E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(M/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(SCM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 (A/F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(HR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function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Activities specific to a functional area of ope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D936-2F0F-4298-A751-5E85B15B992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80880" y="56386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1  Examples of functional areas of operation and their 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7" descr="Z:\Chimborazo\ERP Project\Art\C8084_01\C8084_ch01_f01.bmp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894B-2725-44C6-A286-E5C7572B769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al areas are interdepend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requires data from the oth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tter integration of functional areas leads to improvements in communication, workflow, and success of compan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formation system (IS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uters, people, procedures, and software that store, organize, and deliver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1365-1418-4732-A54A-C50167009B6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one or more kinds of input and creates an output that is of value to 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an be traditional external customer or internal custom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nking in terms of business processes helps managers to look at their organization from the customer’s perspect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7-02-14T04:01:37Z</dcterms:modified>
  <cp:revision>558</cp:revision>
  <dc:subject/>
  <dc:title/>
</cp:coreProperties>
</file>