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D97F-53F0-4701-ADC1-AF5DA251A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0B72-028D-49EF-9492-F2CFA13B7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1054-C167-469E-B318-F735637BF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BA7D-8B62-423A-8918-689352AE6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AE1F-874A-4F90-B092-1E5F12E43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80FB-4ED0-43C2-8FAD-419B7909F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54B0-A21E-46BB-B6B8-2C9C17C2E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5652-FFA2-4509-9103-B7FCE1D74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534B-9ADB-4C2E-8318-B1A39FD6F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A4B6-EEA0-4976-925A-BAA01B7E8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0361-0E60-455F-BB08-6C4E14331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3A60-6EF4-4738-9978-65D4F6B3A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EBCA-85CC-4C4E-9A26-E26865277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57C8-B307-4521-9988-4401BBF2F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A47B-6A31-477D-B7FF-71037A224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1BDF-53A0-4389-A9F4-A315636F2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A122-D508-433D-B148-1C7B3E4EC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E1F3-C7DB-4851-A84C-71CBFCA3F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2D5C-153B-467E-8529-FA9D0CF3F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77E3-8ECC-4CCF-A3C3-0914215A4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4536-4485-42D6-A4EA-70C706EEA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58E9-1C18-4E51-BF3C-45EDA0867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78C4-996C-412A-AA4A-220B806B0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87E4-CA53-4FF3-AC5C-EF70F9BAE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91E9-470D-46FA-BED8-36EAFA1E2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849D-BCA1-41BD-9FE3-2AA191312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7687-152B-4D3F-BE6A-6C43F54D4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6712-67D8-4517-A107-D0E297848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FE3A-2DA0-40CD-A07A-05222BC7B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E053-2544-459F-9A92-3CB5C519B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C2EB-051B-425C-BCF7-14FBBF8FB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ECC4-300B-41D1-9950-AB81B77C6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85B5-8BEC-44CB-BB7E-3818887F7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1C47-0A75-46C1-B478-E6AC7398A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8A83-5802-4D52-9851-220987A01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CF62-73AA-4134-A06E-4EE8DD7A2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121B-005C-4336-A095-0CA5E4334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2131-FA26-4E40-A2B4-585A6B5AE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6FBA-9768-4633-9997-DC2817E2C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F8E3-C524-4908-AE00-F28EE992B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4E8F-672B-4102-AA3A-EDA947E28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DCFD-F174-423D-96BA-FC35FF8B6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8F35-0AD7-4DB9-A7A0-48BD5A0C6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16F5-A776-4FCA-8289-C8E9E42D8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3EF4-D0A0-44E3-81A0-9CA84D9CB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0B8E-5D3E-485D-A3B7-3FCD3E704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C6A7A-4E5A-477C-A69A-FB1B6C5F6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80897-80B2-4BC0-9469-C3B04FE55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CCDB1-4173-4264-B7AB-929ED4406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614B3-5CA6-4A78-8358-5268B43A37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62161-5BC4-44DE-8B2E-9B08D220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1A101-4A64-4168-BD2C-689A75B7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DE677-77D3-4EF8-95D4-EB05323A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9DAB1-E312-496E-A339-88471080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29F6A-584D-4841-91C9-90B5F403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11D71-1577-4567-95E6-2CB81A36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58114-4ABD-4B89-B0B2-1EA0C68C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5D856-7A23-43D8-9981-711941687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2C3A4-40E5-4443-86C6-B8C8AADC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3F43D-236A-4497-8870-543FB586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E15D8-DD86-4372-B17F-4E2984B1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B2FE8-31F0-4E37-9E33-904C1B94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0AF09-02C9-40CA-8BBB-7D95D13C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F6EB6B-7A19-454E-82F7-1835F062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534494-7C58-4900-8BC3-98C3B0AE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F11B99-8888-4AAA-AF0A-5E60C029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ECE1F-4047-4943-9A05-9A7B0C85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67AA7-DD31-4FD8-B60C-6B57708F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A9067-705E-46B7-982F-0B2E9FFFD7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7D5CE-D46B-488B-8CDE-CA94DF8E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F38CA6-46EB-410E-A4C4-96E4EAB0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F6DE30-8B37-4632-935D-6DE1506D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14154-4F07-423E-ABE2-A028CD5E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3A99B-B1D4-4515-B3DE-68791D98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0CB742-E2FA-4B00-B1A2-6582F928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25E50A-234D-457F-A6FF-1BC0EBC7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45A57-08FF-4BF5-A6AA-56ADC9C84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F0987-176E-41EB-9319-D383BC180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F5CE0-5862-4D84-B7D6-7C2AF3682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ECA70-A8D6-4B71-9019-727CBAC49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1202E-0ACA-4DC2-B666-D8432BA63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8749A-18AE-4A1F-98F4-5B038389F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BF18-63A7-43D4-9530-436023E1F6D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5E5C-0C97-4D40-9B62-E41858C53B9D}" type="datetime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4D4D-6ECD-49F1-BF48-58D93F01D66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51C6-BEC3-4F96-A7F5-9BC7974DE917}" type="datetime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DD46-B779-4653-9527-AE69561E778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Service_blueprint#cite_note-2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bout the Presenta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20574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e presentations cover the objectives found in the opening of each chapter.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ll chapter objectives are listed in the beginning of each presentation.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You may customize the presentations to fit your class needs.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ome figures from the chapters are included. A complete set of images from the book can be found on the Instructor Resources disc.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AC4F-F180-4712-B1F6-A84E56C9B5AB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5" descr="Z:\Chimborazo\ERP Project\Art\Cengage Icon.jpg"/>
          <p:cNvPicPr/>
          <p:nvPr/>
        </p:nvPicPr>
        <p:blipFill>
          <a:blip r:embed="rId1"/>
          <a:stretch/>
        </p:blipFill>
        <p:spPr>
          <a:xfrm>
            <a:off x="0" y="0"/>
            <a:ext cx="366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22D1-5D11-438C-817D-F16A4ED9407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90720" y="4952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2  Sample business processes related to the sale of a personal smartph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7" descr="Z:\Chimborazo\ERP Project\Art\C8084_01\C8084_ch01_f02.bmp"/>
          <p:cNvPicPr/>
          <p:nvPr/>
        </p:nvPicPr>
        <p:blipFill>
          <a:blip r:embed="rId1"/>
          <a:stretch/>
        </p:blipFill>
        <p:spPr>
          <a:xfrm>
            <a:off x="419040" y="1447920"/>
            <a:ext cx="8420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67A9-2AAA-4A57-9D5D-CB482D6686D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usinesses must always consider customer’s viewpoint in any transa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ccessful customer intera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er (either internal or external) is not required to interact with each business function involved in the proc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ccessful business managers view business operations from the perspective of a satisfied custom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BDED-217B-459D-B3DD-D65721982B2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haring data effectively and efficiently between and within functional areas leads to more efficient business process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Integrated information system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 Systems in which functional areas share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rvice Blueprint: </a:t>
            </a:r>
            <a:br>
              <a:rPr sz="3600"/>
            </a:br>
            <a:r>
              <a:rPr b="0" lang="en-US" sz="2800" spc="-1" strike="noStrike">
                <a:solidFill>
                  <a:srgbClr val="222222"/>
                </a:solidFill>
                <a:latin typeface="Arial"/>
              </a:rPr>
              <a:t>A Technique to an Integrated Process</a:t>
            </a:r>
            <a:endParaRPr b="0" lang="en-US" sz="28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0520" y="163836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 service blueprint is always constructed from the customer's perspective. A typical service blueprint identifies: </a:t>
            </a:r>
            <a:r>
              <a:rPr b="0" lang="en-US" sz="2400" spc="-1" strike="noStrike" u="sng" baseline="30000">
                <a:solidFill>
                  <a:srgbClr val="ffffff"/>
                </a:solidFill>
                <a:uFillTx/>
                <a:latin typeface="Arial"/>
                <a:hlinkClick r:id="rId1"/>
              </a:rPr>
              <a:t>[2]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Customer Actions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 The steps that customers take as part of the service delivery process.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Front-stage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(Visible Contact Employee) Actions: Steps taken by contact employees as part of the face-to-face service encounter.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Back-stage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(Invisible Contact Employee) Actions: (The ‘line of visibility’ separates the front-stage and back-stage actions). Non-visible steps taken by contact employees behind the line of visibility. 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2A65-A262-4163-9991-D7D5A71FFE3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22"/>
                </a:solidFill>
                <a:latin typeface="Arial"/>
              </a:rPr>
              <a:t>Support Processes: Activities carried out by employees who are not contact employees, but whose actions are required for the service to be delivered.</a:t>
            </a:r>
            <a:endParaRPr b="0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22"/>
                </a:solidFill>
                <a:latin typeface="Arial"/>
              </a:rPr>
              <a:t>Physical Evidence: Tangible elements associated with each step that has the poential to influence customer perceptions of the service encounter e.g. uniforms, delivery vans</a:t>
            </a:r>
            <a:endParaRPr b="0" lang="en-US" sz="2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C090-D073-4C2E-B2A1-D052DD76EF4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 class exercise::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fine the service blueprint 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87" name="Content Placeholder 5" descr=""/>
          <p:cNvPicPr/>
          <p:nvPr/>
        </p:nvPicPr>
        <p:blipFill>
          <a:blip r:embed="rId1"/>
          <a:srcRect l="0" t="0" r="81382" b="0"/>
          <a:stretch/>
        </p:blipFill>
        <p:spPr>
          <a:xfrm>
            <a:off x="609480" y="1600200"/>
            <a:ext cx="1447920" cy="4724280"/>
          </a:xfrm>
          <a:prstGeom prst="rect">
            <a:avLst/>
          </a:prstGeom>
          <a:ln w="0">
            <a:noFill/>
          </a:ln>
        </p:spPr>
      </p:pic>
      <p:sp>
        <p:nvSpPr>
          <p:cNvPr id="18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C5B4-7C6E-4F8B-AFAE-977B066281C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0" name="Straight Arrow Connector 13"/>
          <p:cNvCxnSpPr/>
          <p:nvPr/>
        </p:nvCxnSpPr>
        <p:spPr>
          <a:xfrm flipV="1">
            <a:off x="533520" y="2462040"/>
            <a:ext cx="77731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" name="Straight Arrow Connector 20"/>
          <p:cNvCxnSpPr/>
          <p:nvPr/>
        </p:nvCxnSpPr>
        <p:spPr>
          <a:xfrm flipV="1">
            <a:off x="533520" y="3542760"/>
            <a:ext cx="77731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" name="Straight Arrow Connector 21"/>
          <p:cNvCxnSpPr/>
          <p:nvPr/>
        </p:nvCxnSpPr>
        <p:spPr>
          <a:xfrm flipV="1">
            <a:off x="681120" y="4419000"/>
            <a:ext cx="77731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" name="Straight Arrow Connector 22"/>
          <p:cNvCxnSpPr/>
          <p:nvPr/>
        </p:nvCxnSpPr>
        <p:spPr>
          <a:xfrm flipV="1">
            <a:off x="685800" y="5333400"/>
            <a:ext cx="77731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ervice Blueprint Example 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95" name="Content Placeholder 5" descr=""/>
          <p:cNvPicPr/>
          <p:nvPr/>
        </p:nvPicPr>
        <p:blipFill>
          <a:blip r:embed="rId1"/>
          <a:srcRect l="3572" t="16271" r="7145" b="40000"/>
          <a:stretch/>
        </p:blipFill>
        <p:spPr>
          <a:xfrm>
            <a:off x="228600" y="1523880"/>
            <a:ext cx="8610480" cy="4648320"/>
          </a:xfrm>
          <a:prstGeom prst="rect">
            <a:avLst/>
          </a:prstGeom>
          <a:ln w="0">
            <a:noFill/>
          </a:ln>
        </p:spPr>
      </p:pic>
      <p:sp>
        <p:nvSpPr>
          <p:cNvPr id="19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BC1B-526B-450B-BEB1-3EADA6D5A0C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6A79-1A4E-4252-AD18-93D12D75751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362320" y="556272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3  A process view of busi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8" descr="Z:\Chimborazo\ERP Project\Art\C8084_01\C8084_ch01_f03.bmp"/>
          <p:cNvPicPr/>
          <p:nvPr/>
        </p:nvPicPr>
        <p:blipFill>
          <a:blip r:embed="rId1"/>
          <a:stretch/>
        </p:blipFill>
        <p:spPr>
          <a:xfrm>
            <a:off x="990720" y="1455840"/>
            <a:ext cx="739116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F4D9-14A6-4D32-BDDE-BAA1604D08A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usinesses take inputs (resources) and transform these inputs into goods and services for custom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puts: Material, people, equip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aging inputs and business processes effectively requires accurate and up-to-date inform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59F2-770B-44F3-A9C6-6C08FA01E78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and Business Processes of a Very Small Busine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xample: A fictitious coffee sho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amine business processes of the coffee sho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e why coordination of functional areas helps achieve efficient and effective business proces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ook at how integration of the information system improves the busin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Concepts in Enterprise Resource Planning</a:t>
            </a:r>
            <a:br>
              <a:rPr sz="4400"/>
            </a:br>
            <a:r>
              <a:rPr b="0" i="1" lang="en-US" sz="4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Four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One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Business Functions and Business Processes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5" name="Picture 4" descr="Z:\Chimborazo\ERP Project\Art\Cengage Icon.jpg"/>
          <p:cNvPicPr/>
          <p:nvPr/>
        </p:nvPicPr>
        <p:blipFill>
          <a:blip r:embed="rId1"/>
          <a:stretch/>
        </p:blipFill>
        <p:spPr>
          <a:xfrm>
            <a:off x="0" y="0"/>
            <a:ext cx="366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D01B-A515-415E-8C55-E3870284F28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of Marketing and Sa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veloping produc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termining pric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moting products to custom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aking customers’ or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elping create a sales foreca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0D21-9048-4CB7-8D59-380FDA23AC5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rketing and Sales tasks for the coffee sho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rmal recordkeeping not requir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eed to keep track of custom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 development can be done informal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Good repeat customers allowed to charge purchases—up to a poi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Records must show how much each customer owes and his or her available credi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B1AF-3F3C-434C-8114-4599C5764C0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within Supply Chain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king the coffee (manufacturing/production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uying raw materials (purchasing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duction planning requires sales forecasts from M/S functional are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Sales forecasts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alyses that attempt to predict the future sales of a produc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DB4B-2014-487E-B3EC-7C230649087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duction plans used to develop requirements for raw materials and packag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aw materials: Bottled spring water, fresh lemons, artificial sweetener, raw suga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ckaging: Cups, straws, napki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CM and M/S must choose a recipe for each coffee product sol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ECA8-D11D-4976-9FA0-FB1F0DA5A85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within Accounting and Finan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ing raw data about transactions (including sales), raw material purchases, payroll, and receipt of cash from custom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aw data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umbers collected from sales, manufacturing and other operations, without any manipulation, calculation, or arrangement for present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7222-8BC9-43B9-9B4D-DDE5D0B6272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ata from Accounting and Finance used by Marketing and Sales and Supply Chain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records are important component of sales foreca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forecast is used in making staffing decisions and in production plann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s from accounts receivable used to monitor the overall credit-granting policy of the coffee sho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E8C6-C621-4041-A06D-8A359936E7F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of Human Resour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ruit, train, evaluate, and compensate employe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uses sales forecasts developed by the individual departments to plan personnel need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ystems integrated using ERP software provide the data sharing necessary between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9CAD-EE4D-4873-AB16-F2A872DF3E3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 Information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otential inputs and outputs for each functional area described nex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ote the kinds of data needed by each area and how people use the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formation systems maintain relationships between all functional areas and process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7365-1845-42EA-80CB-CEDFE4217BD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eds information from all other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ustomers communicate orders to M/S in person or by telephone, e-mail, fax, the Web, etc.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/S has a role in determining product pri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icing might be determined based on a product’s unit cost, plus some percentage marku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quires information from Accounting and Finance, and Supply Chain Management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B221-B9E8-451F-BFFC-19D1E3BCF6E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457200" y="53341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Figure 1-4 The Marketing and Sales functional area exchanges data with customers and with the Human Resources, Accounting and Finance, and Supply Chain Management functional ar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7" descr="Z:\Chimborazo\ERP Project\Art\C8084_01\C8084_ch01_f04.bmp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1C2D-96DD-4CA2-B3C5-8F777791C9A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completing this chapter, you will be able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ame the main functional areas of operation used in busin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fferentiate between a business process and a business func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dentify the kinds of data each main functional area produ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dentify the kinds of data each main functional area nee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fine integrated information systems, and explain why they are essential in today’s globally competitive business environ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C4F9-41C3-47AE-B80E-0FB713BDE10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/S needs to interact with Human Resources to exchange information on hiring needs, legal requirements, etc.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puts for M/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er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rder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trend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er-unit co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any travel expense polic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0C4F-918F-4279-87F2-218EF8A4F05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utputs for M/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strateg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 pric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mployment nee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AAFF-D83E-4601-AF43-24077C2202B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eds information from various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duction plans based on information about product sales (actual and projected) that comes from Marketing and Sa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th accurate data about required production level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aw material and packaging can be ordered as need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ventory levels can be kept low, saving mone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B20A-AEBA-48CC-B961-E51895E0D5B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ly Chain Management data and records can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e data needed by Accounting and Finance to determine how much of each resource was us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upport the M/S function by providing information about what has been produced and shipp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ly Chain Management interacts in some ways with Human Resour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5A52-B44A-4928-803D-8AECC4F2D2D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457200" y="52578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5  The Supply Chain Management functional area exchanges data with suppliers and with the Human Resources, Marketing and Sales, and Accounting and Finance functional ar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7" descr="Z:\Chimborazo\ERP Project\Art\C8084_01\C8084_ch01_f05.bmp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2478-7262-422F-9B27-3DC460CFA09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puts for SC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 sales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ion pla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ventory leve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ayoff and recall company polic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3078-2D6D-4148-9061-85EF251516F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utputs for SC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aw material or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ckaging or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source expenditur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ion and inventory repor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iring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6CF1-BB0D-4445-BDF3-3E36402147F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eds information from all other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/F personnel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 company’s transactions in the books of accou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 accounts payable when raw materials are purchased and cash outflows when they pay for materia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ummarize transaction data to prepare reports about company’s financial position and profitabil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41B0-F6D7-42B4-A579-FA7F4363FD0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eople in other functional areas provide data to A/F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/S provides sales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CM provides production and inventory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R provides payroll and benefit expens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/S personnel require data from A/F to evaluate customer credi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0412-E7ED-404E-ADF8-BC517B039E6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457200" y="52578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6  The Accounting and Finance functional area exchanges data with customers and with the Human Resources, Marketing and Sales, and Supply Chain Management functional ar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Picture 7" descr="Z:\Chimborazo\ERP Project\Art\C8084_01\C8084_ch01_f06.bmp"/>
          <p:cNvPicPr/>
          <p:nvPr/>
        </p:nvPicPr>
        <p:blipFill>
          <a:blip r:embed="rId1"/>
          <a:stretch/>
        </p:blipFill>
        <p:spPr>
          <a:xfrm>
            <a:off x="762120" y="1371600"/>
            <a:ext cx="784836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5F9D-27A6-444D-83AF-9F2E4ABABC7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Enterprise Resource Planning (ERP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programs: Core software used by companies to coordinate information in every area of busines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elp manage companywide business proces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 common database and shared management reporting too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Business proces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llection of activities that takes some input and creates an output that is of value to the custom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153B-60C7-4A13-B32C-1B38264956D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puts for A/F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yments from custom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ounts receivabl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ounts payabl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ion and inventory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yroll and expens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98A4-AE7D-49A1-901A-CB86774ECC8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utputs for A/F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yments to suppli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nancial repor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er credit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A76A-20E6-44B0-81A3-1EAA2506B9B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needs information from the other departmen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asks related to employee hiring, benefits, training, and government compliance are all responsibilities of H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needs accurate forecasts of personnel needs from all functional uni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needs to know what skills are needed to perform a particular job and how much the company can afford to pay employ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9544-3602-49BA-8FA6-C0F21D672B8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457200" y="52578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7  The Human Resources functional area exchanges data with the Accounting and Finance, Marketing and Sales, and Supply Chain Management functional ar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Picture 7" descr="Z:\Chimborazo\ERP Project\Art\C8084_01\C8084_ch01_f07.bmp"/>
          <p:cNvPicPr/>
          <p:nvPr/>
        </p:nvPicPr>
        <p:blipFill>
          <a:blip r:embed="rId1"/>
          <a:stretch/>
        </p:blipFill>
        <p:spPr>
          <a:xfrm>
            <a:off x="838080" y="1371600"/>
            <a:ext cx="777240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7841-0779-4EB0-8797-CD706B95CAC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bserving governmental regulations in recruiting, training, compensating, promoting, and terminating employ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puts for H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ersonnel forecas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kills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219F-9A3E-483E-8E2D-4C3A10CD912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utputs for H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gulation complian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mployee training and certific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kills databas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mployee evaluation and compens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482D-A002-4677-9D1D-FD120F8B9B3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gnificant amount of data is maintained by and shared among the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imeliness and accuracy of these data critical to each area’s success and to company’s ability to make a profit and generate future growth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oftware allows all functional areas to share a common databas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ows accurate, real-time information to be availab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9F45-E186-419B-BF2D-6E450A7922D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asic functional areas: Marketing and Sales, Supply Chain Management, Accounting and Finance, and Human Resour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rketing and Sales: Sets product prices, promotes products through advertising and marketing, takes customer orders, supports customers, and creates sales forecas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ly Chain Management: Develops production plans, orders raw materials from suppliers, receives raw material, manufactures products, maintains facilities, and ships products to custom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6567-B51B-4E8C-B93B-611460D1ED6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counting and Finance: Financial accounting to provide summaries of operational data in managerial reports, controlling accounts, planning and budgeting, and cash-flow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uman Resources: Recruits, hires, trains, and compensates employees, ensures compliance with government regulations, and oversees the evaluation of employ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formation systems capture, process, and store data to provide information needed for decision mak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6B7B-4C9F-4FD6-8064-1DA468359FD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mployees working in one functional area need data from employees in other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al area information systems should be integrated, so shared data are accurate and time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agers think in terms of business processes that integrate the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eed to share information between functions and functional area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RP software provides this capability by means of a single common databas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and Business Process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understand ERP, you must understand how a business work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al areas of oper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usiness proces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B024-5D38-4365-BD55-0D28CB57E73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2D36-4A06-4488-BB46-188762B9F4D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of Opera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rketing and Sales (M/S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ly Chain Management (SCM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counting and Finance (A/F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uman Resources (HR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Business function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 Activities specific to a functional area of oper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B75B-7E1F-4678-9109-673000B9888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380880" y="56386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1  Examples of functional areas of operation and their 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533520" y="2286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of Operation (cont’d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7" descr="Z:\Chimborazo\ERP Project\Art\C8084_01\C8084_ch01_f01.bmp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CF9C-66FC-4B19-835F-7AD23B413F7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of Opera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al areas are interdepend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ach requires data from the oth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etter integration of functional areas leads to improvements in communication, workflow, and success of compan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Information system (IS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uters, people, procedures, and software that store, organize, and deliver inform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4C9F-41DE-4692-A36D-4589E8951A1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llection of activities that takes one or more kinds of input and creates an output that is of value to  custom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er can be traditional external customer or internal custom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nking in terms of business processes helps managers to look at their organization from the customer’s perspectiv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7-02-14T04:01:37Z</dcterms:modified>
  <cp:revision>558</cp:revision>
  <dc:subject/>
  <dc:title/>
</cp:coreProperties>
</file>