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635DB-9436-45EA-8F04-833821873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C230B-C3C8-44B5-B96E-9990B3D50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1FB38-2AB5-4A99-BCC0-10A3342B7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4A2F5-D648-4368-ACC2-39A1619C3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83821-4CF0-43B4-AD7E-D5222EEF2F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E7BDB-5B7E-4E28-9AEC-D0F424E313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353BD-60BD-4D5A-B925-48AC4FBDA6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DE83C-3C05-48BE-9185-F91C877426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6D83E-1D17-4444-9E65-B35AB98F13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B8618-73B5-46DF-8ECE-38362C3B27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BBF7B-4912-4795-B093-E299E693E3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4E6D3-107C-4F38-A8DC-913F1D59D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70B98-89D8-4A10-8873-FAD47C5E6E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F4868-E82A-4569-861B-8494F92CD2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35F49-34A1-4703-987F-01391DA9F0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C8D38-8779-4330-87EC-886025986E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95FA7-EFD2-45FB-B5A5-623D0825ED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530E-8876-4272-AADE-9B22B7197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65113-6092-4C11-A200-2FB5FE601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BCAD4-7151-44F5-974C-1672688FC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336DF-9F06-4F41-B6D1-01C03931F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239B6-1F45-485D-8956-725B4E645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21961-5347-4EB3-832A-39057B417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11976-2E1D-4D91-94B1-C0CA997DB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94B01FFE-050D-4CE9-B53D-1B7786B6F3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00992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DA3BE09C-A004-4C9B-B50F-053F5E2786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learner.org/resources/series65.html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tattrek.com/videos/ap/lessons/variables/1a/types-of-variables.aspx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tattrek.com/videos/ap/lessons/regression/3a/ap-3a.aspx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earner.org/resources/series65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010280" y="653724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A4BDCDB-ED37-4ADC-BCC0-7FBE63C8F1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here, Why, and How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32187BC-5B69-4280-87C4-B2AA46EDD0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Why Sample?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s time consu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a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s cos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dminister than a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ossible to obtain statistical results of a sufficiently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igh prec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ed on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4876920"/>
            <a:ext cx="80010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trive for representative samples to reflect the population of interest accurate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60F3EC0-7CC0-49E2-9029-B3297A7BD4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4419720" y="2286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4"/>
          <p:cNvSpPr/>
          <p:nvPr/>
        </p:nvSpPr>
        <p:spPr>
          <a:xfrm>
            <a:off x="8381880" y="3733920"/>
            <a:ext cx="0" cy="153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"/>
          <p:cNvSpPr/>
          <p:nvPr/>
        </p:nvSpPr>
        <p:spPr>
          <a:xfrm>
            <a:off x="6172200" y="37339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Techniqu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11430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162920" y="373392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"/>
          <p:cNvSpPr/>
          <p:nvPr/>
        </p:nvSpPr>
        <p:spPr>
          <a:xfrm>
            <a:off x="5410080" y="3733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2743200" y="38862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80880" y="4419720"/>
            <a:ext cx="1979640" cy="453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ven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2666880" y="1828800"/>
            <a:ext cx="358164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ampl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1905120" y="2819520"/>
            <a:ext cx="541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1905120" y="2819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609480" y="3429000"/>
            <a:ext cx="373392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nstatistical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057400" y="5105520"/>
            <a:ext cx="182880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u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7"/>
          <p:cNvSpPr/>
          <p:nvPr/>
        </p:nvSpPr>
        <p:spPr>
          <a:xfrm>
            <a:off x="7315200" y="2819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5181480" y="3429000"/>
            <a:ext cx="342900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tistical Samp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4495680" y="4343400"/>
            <a:ext cx="1524240" cy="75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1"/>
          <p:cNvSpPr/>
          <p:nvPr/>
        </p:nvSpPr>
        <p:spPr>
          <a:xfrm>
            <a:off x="6400800" y="4419720"/>
            <a:ext cx="182880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yst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5486400" y="5486400"/>
            <a:ext cx="152388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ra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3"/>
          <p:cNvSpPr/>
          <p:nvPr/>
        </p:nvSpPr>
        <p:spPr>
          <a:xfrm>
            <a:off x="7620120" y="5257800"/>
            <a:ext cx="129528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2EC297D-560E-483A-8022-0AED9FA534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Nonstatistical Sampling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ed in the most convenient manner for the resear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judgments about who in the population would be most likely to provide the need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ADC650F-9852-46BD-AD45-D786DCC1DA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tatistical Sampling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of the sample are chosen based on known or calculable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1600200" y="4343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8001000" y="4343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4876920" y="4038480"/>
            <a:ext cx="0" cy="30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600200" y="43434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819520" y="3048120"/>
            <a:ext cx="3886200" cy="9957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atistical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robability Samp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6095880" y="4343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5181480" y="4800600"/>
            <a:ext cx="167652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3809880" y="4343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0400" y="4800600"/>
            <a:ext cx="144792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7391520" y="4800600"/>
            <a:ext cx="121896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609480" y="4800600"/>
            <a:ext cx="221004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A405A07-F3F2-4271-AE27-4B4D866FAE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imple Random Sampling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ossible sample of a given size has a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qual ch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eing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may be with replacement or without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ple can be obtained using a table of random numbers or computer random numb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4"/>
          <p:cNvGraphicFramePr/>
          <p:nvPr/>
        </p:nvGraphicFramePr>
        <p:xfrm>
          <a:off x="4952880" y="5181480"/>
          <a:ext cx="19814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5181480"/>
                    <a:ext cx="19814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8A643E8-BA9F-487A-A806-7AC472D212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marL="343080"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tratified Random Sampling</a:t>
            </a:r>
            <a:br>
              <a:rPr sz="41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Please Watch Video Clip #14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Samples and Survey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 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population into subgroups (called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str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ccording to some common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gender, incom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simple random sample from each sub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samples from subgroups into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8305920" y="4952880"/>
            <a:ext cx="759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4" descr=""/>
          <p:cNvPicPr/>
          <p:nvPr/>
        </p:nvPicPr>
        <p:blipFill>
          <a:blip r:embed="rId2"/>
          <a:stretch/>
        </p:blipFill>
        <p:spPr>
          <a:xfrm>
            <a:off x="2743200" y="4343400"/>
            <a:ext cx="3657600" cy="216684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4"/>
          <p:cNvSpPr/>
          <p:nvPr/>
        </p:nvSpPr>
        <p:spPr>
          <a:xfrm>
            <a:off x="6248520" y="5181480"/>
            <a:ext cx="900000" cy="304920"/>
          </a:xfrm>
          <a:prstGeom prst="rightArrow">
            <a:avLst>
              <a:gd name="adj1" fmla="val 50000"/>
              <a:gd name="adj2" fmla="val 746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457200" y="4800600"/>
            <a:ext cx="1447920" cy="1211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ivi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to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tr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7162920" y="6095880"/>
            <a:ext cx="13716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Sam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0"/>
          <p:cNvSpPr/>
          <p:nvPr/>
        </p:nvSpPr>
        <p:spPr>
          <a:xfrm flipV="1">
            <a:off x="1905120" y="480024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1"/>
          <p:cNvSpPr/>
          <p:nvPr/>
        </p:nvSpPr>
        <p:spPr>
          <a:xfrm flipV="1">
            <a:off x="1905120" y="51814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2"/>
          <p:cNvSpPr/>
          <p:nvPr/>
        </p:nvSpPr>
        <p:spPr>
          <a:xfrm>
            <a:off x="1905120" y="5410080"/>
            <a:ext cx="8380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3"/>
          <p:cNvSpPr/>
          <p:nvPr/>
        </p:nvSpPr>
        <p:spPr>
          <a:xfrm>
            <a:off x="1905120" y="5638680"/>
            <a:ext cx="7617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4" descr=""/>
          <p:cNvPicPr/>
          <p:nvPr/>
        </p:nvPicPr>
        <p:blipFill>
          <a:blip r:embed="rId3"/>
          <a:stretch/>
        </p:blipFill>
        <p:spPr>
          <a:xfrm>
            <a:off x="7162920" y="4724280"/>
            <a:ext cx="9525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41D28A1-F159-4410-B31F-9C60FEDBD6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sample size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ordered (e.g., alphabetical) frame of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s into groups of </a:t>
            </a:r>
            <a:r>
              <a:rPr b="0" lang="en-US" sz="2800" spc="-1" strike="noStrike">
                <a:solidFill>
                  <a:srgbClr val="dcb2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s:  </a:t>
            </a:r>
            <a:r>
              <a:rPr b="0" lang="en-US" sz="2800" spc="-1" strike="noStrike">
                <a:solidFill>
                  <a:srgbClr val="dcb2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select one individual from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every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 there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ystematic Random Sampling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5270400" y="4727520"/>
            <a:ext cx="3187800" cy="1677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6"/>
          <p:cNvGraphicFramePr/>
          <p:nvPr/>
        </p:nvGraphicFramePr>
        <p:xfrm>
          <a:off x="7086600" y="3581280"/>
          <a:ext cx="205740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581280"/>
                    <a:ext cx="20574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Picture 7" descr="pop-sam"/>
          <p:cNvPicPr/>
          <p:nvPr/>
        </p:nvPicPr>
        <p:blipFill>
          <a:blip r:embed="rId3"/>
          <a:stretch/>
        </p:blipFill>
        <p:spPr>
          <a:xfrm>
            <a:off x="5410080" y="4800600"/>
            <a:ext cx="2900520" cy="1522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8"/>
          <p:cNvSpPr/>
          <p:nvPr/>
        </p:nvSpPr>
        <p:spPr>
          <a:xfrm>
            <a:off x="2362320" y="4876920"/>
            <a:ext cx="1131840" cy="156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 =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k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3565440" y="5533920"/>
            <a:ext cx="1798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0"/>
          <p:cNvSpPr/>
          <p:nvPr/>
        </p:nvSpPr>
        <p:spPr>
          <a:xfrm flipH="1">
            <a:off x="6019560" y="4191120"/>
            <a:ext cx="152388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"/>
          <p:cNvSpPr/>
          <p:nvPr/>
        </p:nvSpPr>
        <p:spPr>
          <a:xfrm flipV="1">
            <a:off x="4343400" y="5105520"/>
            <a:ext cx="1143000" cy="4572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61BD680-9F7A-47E0-9354-C13F925F81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uster Sampling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population into several “clusters,” each representative of the population (e.g., coun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simple random sample of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tems in the selected clusters can be used, or items can be chosen from a cluster using another probability sampling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228600" y="4952880"/>
            <a:ext cx="1981080" cy="118620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divided into 16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 flipH="1" flipV="1">
            <a:off x="4191120" y="5409720"/>
            <a:ext cx="304560" cy="3049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 flipV="1">
            <a:off x="4876920" y="5334120"/>
            <a:ext cx="0" cy="3808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2209680" y="5105520"/>
            <a:ext cx="533520" cy="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 flipV="1">
            <a:off x="6248520" y="5409720"/>
            <a:ext cx="457200" cy="2286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743200" y="4876920"/>
          <a:ext cx="6095880" cy="45072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450720"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480" bIns="424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Rectangle 49"/>
          <p:cNvSpPr/>
          <p:nvPr/>
        </p:nvSpPr>
        <p:spPr>
          <a:xfrm>
            <a:off x="4267080" y="5638680"/>
            <a:ext cx="2590920" cy="69876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ly selected clusters for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0F47691-4CA8-4F3C-885E-FF9A85CA04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ata Types</a:t>
            </a:r>
            <a:br>
              <a:rPr sz="41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Please see the Video Clip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Introduction to Variable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45" name="Organization Chart 37"/>
          <p:cNvGrpSpPr/>
          <p:nvPr/>
        </p:nvGrpSpPr>
        <p:grpSpPr>
          <a:xfrm>
            <a:off x="1981080" y="1673280"/>
            <a:ext cx="6019920" cy="3505320"/>
            <a:chOff x="1981080" y="1673280"/>
            <a:chExt cx="6019920" cy="3505320"/>
          </a:xfrm>
        </p:grpSpPr>
        <p:cxnSp>
          <p:nvCxnSpPr>
            <p:cNvPr id="246" name="_s1028"/>
            <p:cNvCxnSpPr>
              <a:stCxn id="247" idx="0"/>
              <a:endCxn id="248" idx="2"/>
            </p:cNvCxnSpPr>
            <p:nvPr/>
          </p:nvCxnSpPr>
          <p:spPr>
            <a:xfrm flipV="1" rot="16200000">
              <a:off x="6476760" y="3844080"/>
              <a:ext cx="381600" cy="1067760"/>
            </a:xfrm>
            <a:prstGeom prst="bentConnector3">
              <a:avLst>
                <a:gd name="adj1" fmla="val 29933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49" name="_s1029"/>
            <p:cNvCxnSpPr>
              <a:stCxn id="250" idx="0"/>
              <a:endCxn id="248" idx="2"/>
            </p:cNvCxnSpPr>
            <p:nvPr/>
          </p:nvCxnSpPr>
          <p:spPr>
            <a:xfrm flipH="1" flipV="1" rot="5400000">
              <a:off x="5471640" y="3906360"/>
              <a:ext cx="381600" cy="943560"/>
            </a:xfrm>
            <a:prstGeom prst="bentConnector3">
              <a:avLst>
                <a:gd name="adj1" fmla="val 29933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51" name="_s1030"/>
            <p:cNvCxnSpPr>
              <a:stCxn id="248" idx="0"/>
              <a:endCxn id="252" idx="2"/>
            </p:cNvCxnSpPr>
            <p:nvPr/>
          </p:nvCxnSpPr>
          <p:spPr>
            <a:xfrm flipV="1" rot="16200000">
              <a:off x="5162760" y="2073600"/>
              <a:ext cx="418320" cy="1524600"/>
            </a:xfrm>
            <a:prstGeom prst="bentConnector3">
              <a:avLst>
                <a:gd name="adj1" fmla="val 27304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53" name="_s1031"/>
            <p:cNvCxnSpPr>
              <a:stCxn id="254" idx="0"/>
              <a:endCxn id="252" idx="2"/>
            </p:cNvCxnSpPr>
            <p:nvPr/>
          </p:nvCxnSpPr>
          <p:spPr>
            <a:xfrm flipH="1" flipV="1" rot="5400000">
              <a:off x="3588840" y="2023560"/>
              <a:ext cx="418320" cy="1624680"/>
            </a:xfrm>
            <a:prstGeom prst="bentConnector3">
              <a:avLst>
                <a:gd name="adj1" fmla="val 27304"/>
              </a:avLst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252" name="_s1032"/>
            <p:cNvSpPr/>
            <p:nvPr/>
          </p:nvSpPr>
          <p:spPr>
            <a:xfrm>
              <a:off x="3657600" y="1673280"/>
              <a:ext cx="1905120" cy="954000"/>
            </a:xfrm>
            <a:prstGeom prst="rect">
              <a:avLst/>
            </a:prstGeom>
            <a:solidFill>
              <a:srgbClr val="fdd29f">
                <a:alpha val="50000"/>
              </a:srgbClr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33"/>
            <p:cNvSpPr/>
            <p:nvPr/>
          </p:nvSpPr>
          <p:spPr>
            <a:xfrm>
              <a:off x="1981080" y="3044880"/>
              <a:ext cx="2008440" cy="1143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ualita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Categorica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34"/>
            <p:cNvSpPr/>
            <p:nvPr/>
          </p:nvSpPr>
          <p:spPr>
            <a:xfrm>
              <a:off x="5105520" y="3044880"/>
              <a:ext cx="2057400" cy="114300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74747"/>
                  </a:solidFill>
                  <a:latin typeface="Arial"/>
                </a:rPr>
                <a:t>Quantitativ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74747"/>
                  </a:solidFill>
                  <a:latin typeface="Arial"/>
                </a:rPr>
                <a:t>(Numerica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1035"/>
            <p:cNvSpPr/>
            <p:nvPr/>
          </p:nvSpPr>
          <p:spPr>
            <a:xfrm>
              <a:off x="4419720" y="4568760"/>
              <a:ext cx="1542960" cy="60984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74747"/>
                  </a:solidFill>
                  <a:latin typeface="Arial"/>
                </a:rPr>
                <a:t>Discr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36"/>
            <p:cNvSpPr/>
            <p:nvPr/>
          </p:nvSpPr>
          <p:spPr>
            <a:xfrm>
              <a:off x="6400800" y="4568760"/>
              <a:ext cx="1600200" cy="60984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74747"/>
                  </a:solidFill>
                  <a:latin typeface="Arial"/>
                </a:rPr>
                <a:t>Continuo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47"/>
          <p:cNvSpPr/>
          <p:nvPr/>
        </p:nvSpPr>
        <p:spPr>
          <a:xfrm>
            <a:off x="1371600" y="4267080"/>
            <a:ext cx="25146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rital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olitical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ye 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283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Defined catego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8"/>
          <p:cNvSpPr/>
          <p:nvPr/>
        </p:nvSpPr>
        <p:spPr>
          <a:xfrm>
            <a:off x="4114800" y="5181480"/>
            <a:ext cx="228600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umber of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efects per h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83c1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unted ite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9"/>
          <p:cNvSpPr/>
          <p:nvPr/>
        </p:nvSpPr>
        <p:spPr>
          <a:xfrm>
            <a:off x="6553080" y="5181480"/>
            <a:ext cx="2286000" cy="13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83c1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eas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989B108-F510-478F-AB8F-7A4C0A7636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me Serie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ed data values observed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oss Secti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values observed at a single point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D7C740F-C11A-4328-AEB5-7B3B195BD9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7000"/>
          </a:bodyPr>
          <a:p>
            <a:pPr marL="311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key data colle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key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vs. Secondary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 vs. Qualitative data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vs. Cross-Sect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difference between descriptiv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tial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ifferent samp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nd interpret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288EF88-ECD7-4C8E-8172-66CFBC83A6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90720" y="1981080"/>
          <a:ext cx="6400800" cy="2979720"/>
        </p:xfrm>
        <a:graphic>
          <a:graphicData uri="http://schemas.openxmlformats.org/drawingml/2006/table">
            <a:tbl>
              <a:tblPr/>
              <a:tblGrid>
                <a:gridCol w="1600200"/>
                <a:gridCol w="1218960"/>
                <a:gridCol w="1219320"/>
                <a:gridCol w="1219320"/>
                <a:gridCol w="114300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(in $1000’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la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o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leve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n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Oval 79"/>
          <p:cNvSpPr/>
          <p:nvPr/>
        </p:nvSpPr>
        <p:spPr>
          <a:xfrm>
            <a:off x="609480" y="2895480"/>
            <a:ext cx="7010640" cy="6098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0"/>
          <p:cNvSpPr/>
          <p:nvPr/>
        </p:nvSpPr>
        <p:spPr>
          <a:xfrm>
            <a:off x="2666880" y="2133720"/>
            <a:ext cx="1067040" cy="3124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1"/>
          <p:cNvSpPr/>
          <p:nvPr/>
        </p:nvSpPr>
        <p:spPr>
          <a:xfrm>
            <a:off x="7696080" y="25909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ime Serie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2"/>
          <p:cNvSpPr/>
          <p:nvPr/>
        </p:nvSpPr>
        <p:spPr>
          <a:xfrm>
            <a:off x="2133720" y="5334120"/>
            <a:ext cx="25905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 Se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2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465CD8C-EAD1-4916-BB62-E528120949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ata Measurement Levels</a:t>
            </a:r>
            <a:br>
              <a:rPr sz="41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Please see the Video Clip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Scales of Measureme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743200" y="2057400"/>
            <a:ext cx="374652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895480" y="2133720"/>
            <a:ext cx="351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io/Interv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2527200" y="3422520"/>
            <a:ext cx="409104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2644920" y="3494160"/>
            <a:ext cx="385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i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2362320" y="4870440"/>
            <a:ext cx="449568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2301840" y="4941720"/>
            <a:ext cx="454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6553080" y="1981080"/>
            <a:ext cx="2133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0"/>
          <p:cNvSpPr/>
          <p:nvPr/>
        </p:nvSpPr>
        <p:spPr>
          <a:xfrm>
            <a:off x="6705720" y="3352680"/>
            <a:ext cx="21333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leve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6858000" y="4800600"/>
            <a:ext cx="2133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0" y="4876920"/>
            <a:ext cx="24382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ical Codes </a:t>
            </a: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e.g., ID Numbers, gend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380880" y="3352680"/>
            <a:ext cx="22860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ed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e.g., age range 25-3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533520" y="2133720"/>
            <a:ext cx="21333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e.g., temperat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5"/>
          <p:cNvSpPr/>
          <p:nvPr/>
        </p:nvSpPr>
        <p:spPr>
          <a:xfrm>
            <a:off x="4419720" y="403848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6"/>
          <p:cNvSpPr/>
          <p:nvPr/>
        </p:nvSpPr>
        <p:spPr>
          <a:xfrm>
            <a:off x="4419720" y="266688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4B55373-1672-4681-A884-4A46BCF74D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teps to Categorizing Data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each factor in the data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f the data are time-series or     cross-se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ich factors are quantitative and which are quali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level of data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272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nominal, ord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AutoShape 4"/>
          <p:cNvCxnSpPr/>
          <p:nvPr/>
        </p:nvCxnSpPr>
        <p:spPr>
          <a:xfrm flipV="1">
            <a:off x="5714640" y="6019200"/>
            <a:ext cx="1220040" cy="5338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pic>
        <p:nvPicPr>
          <p:cNvPr id="292" name="Picture 5" descr="MCj04418900000[1]"/>
          <p:cNvPicPr/>
          <p:nvPr/>
        </p:nvPicPr>
        <p:blipFill>
          <a:blip r:embed="rId1"/>
          <a:stretch/>
        </p:blipFill>
        <p:spPr>
          <a:xfrm>
            <a:off x="7696080" y="1905120"/>
            <a:ext cx="11718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A8F86F0-AA75-411C-803A-1AD2580E6D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6108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data collec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key defin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vs. Secondary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 vs. Quantitative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vs. Cross-Sect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d descriptive vs. inferential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different sampl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data types and measurement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1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2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B7972AA-C562-4F83-B272-ACB22D1A53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1828800" y="3486240"/>
            <a:ext cx="54864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828800" y="3486240"/>
            <a:ext cx="54864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7" descr="copyright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28576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8"/>
          <p:cNvSpPr/>
          <p:nvPr/>
        </p:nvSpPr>
        <p:spPr>
          <a:xfrm>
            <a:off x="762120" y="4649400"/>
            <a:ext cx="838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l rights reserved. No part of this publication may be reproduced, stored in a retrieval system, or transmitted, in any form or by any means, electronic, mechanical, photocopying, recording, or otherwise, without the prior written permission of the publish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nted in the United States of Amer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479E691-66D6-4F49-B6B5-7E87CA528C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ptive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ng, presenting, and describ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22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erentia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conclusions and/or making decisions concerning a population based only on samp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rocedures of Statistic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7200" y="5334120"/>
            <a:ext cx="8381880" cy="5126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Goal:  Convert data into meaningful informatio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DF05AFD-4858-42D2-9B21-75525FDE2E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escriptive Procedur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llect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, Survey, Observation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110000"/>
              </a:lnSpc>
              <a:spcBef>
                <a:spcPts val="236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esent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, Charts and grap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110000"/>
              </a:lnSpc>
              <a:spcBef>
                <a:spcPts val="236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escribe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, Sample mean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BD05590_[1]"/>
          <p:cNvPicPr/>
          <p:nvPr/>
        </p:nvPicPr>
        <p:blipFill>
          <a:blip r:embed="rId1"/>
          <a:stretch/>
        </p:blipFill>
        <p:spPr>
          <a:xfrm>
            <a:off x="6324480" y="1600200"/>
            <a:ext cx="1158840" cy="1295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BS01990_[1]"/>
          <p:cNvPicPr/>
          <p:nvPr/>
        </p:nvPicPr>
        <p:blipFill>
          <a:blip r:embed="rId2"/>
          <a:stretch/>
        </p:blipFill>
        <p:spPr>
          <a:xfrm>
            <a:off x="5867280" y="3581280"/>
            <a:ext cx="1600200" cy="125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Object 13"/>
              <p:cNvSpPr txBox="1"/>
              <p:nvPr/>
            </p:nvSpPr>
            <p:spPr>
              <a:xfrm>
                <a:off x="4952880" y="5257800"/>
                <a:ext cx="739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67FEA1D-D618-4E9B-80E1-45586C0ABB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statements about a population by examining sampl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Sample statistic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Population paramet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known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nknown, but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e estima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ample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819520" y="3809880"/>
          <a:ext cx="5486400" cy="25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809880"/>
                    <a:ext cx="5486400" cy="25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nferential Procedur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3581280" y="2895480"/>
            <a:ext cx="9144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5943600" y="3048120"/>
            <a:ext cx="2286000" cy="990360"/>
          </a:xfrm>
          <a:prstGeom prst="bracketPair">
            <a:avLst>
              <a:gd name="adj" fmla="val 1712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6019920" y="3200400"/>
            <a:ext cx="2209680" cy="8380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BE74045-A619-4484-9D1B-F98867F9C8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chniques for Inferential Procedures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5791320" cy="4227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Estimate the population mean weight using the sample mean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Use sample evidence to test the claim that the population mean weight is 120 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219320" y="1523880"/>
            <a:ext cx="7467480" cy="673560"/>
          </a:xfrm>
          <a:prstGeom prst="rect">
            <a:avLst/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rawing conclusions and/or making decisions concerning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pulatio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sed 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3124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8D302C1-CD7C-4151-B5B7-C9ABB354D7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267080" y="2362320"/>
            <a:ext cx="0" cy="53316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9080" y="3808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rocedures for Collecting Data</a:t>
            </a:r>
            <a:br>
              <a:rPr sz="41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MKTG 300 course and Video Clip #14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Samples and Survey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4419720" y="2895480"/>
            <a:ext cx="0" cy="53352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7010280" y="2895480"/>
            <a:ext cx="0" cy="15242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52480" y="1828800"/>
            <a:ext cx="5105520" cy="575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Collection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1600200" y="2895480"/>
            <a:ext cx="541008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1600200" y="2895480"/>
            <a:ext cx="0" cy="50796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3429000" y="3429000"/>
            <a:ext cx="2438280" cy="820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ritten question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2819520" y="2895480"/>
            <a:ext cx="0" cy="152424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228600" y="3429000"/>
            <a:ext cx="2057400" cy="454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752480" y="4425840"/>
            <a:ext cx="1752840" cy="820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elephone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5181480" y="4419720"/>
            <a:ext cx="3505320" cy="8204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rect observation and personal interview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27"/>
          <p:cNvGraphicFramePr/>
          <p:nvPr/>
        </p:nvGraphicFramePr>
        <p:xfrm>
          <a:off x="4114800" y="4343400"/>
          <a:ext cx="83808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4343400"/>
                    <a:ext cx="838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Picture 30" descr="hh01196a[1]"/>
          <p:cNvPicPr/>
          <p:nvPr/>
        </p:nvPicPr>
        <p:blipFill>
          <a:blip r:embed="rId4"/>
          <a:stretch/>
        </p:blipFill>
        <p:spPr>
          <a:xfrm>
            <a:off x="7162920" y="5334120"/>
            <a:ext cx="761760" cy="579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6" descr="Picture5"/>
          <p:cNvPicPr/>
          <p:nvPr/>
        </p:nvPicPr>
        <p:blipFill>
          <a:blip r:embed="rId5"/>
          <a:stretch/>
        </p:blipFill>
        <p:spPr>
          <a:xfrm>
            <a:off x="152280" y="3886200"/>
            <a:ext cx="1063800" cy="115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7" descr="j0290046"/>
          <p:cNvPicPr/>
          <p:nvPr/>
        </p:nvPicPr>
        <p:blipFill>
          <a:blip r:embed="rId6"/>
          <a:stretch/>
        </p:blipFill>
        <p:spPr>
          <a:xfrm>
            <a:off x="2057400" y="5340240"/>
            <a:ext cx="83808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44DEAAA-DF71-41D1-A28A-26176F78EE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opulation vs. S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990720" y="2590920"/>
            <a:ext cx="3581280" cy="26668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4267080" y="2774880"/>
            <a:ext cx="4508640" cy="27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5638680" y="2895480"/>
            <a:ext cx="2286000" cy="213372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1371600" y="281952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b     c 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   gh i  jk l   m 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 p q   rs  t  u v 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y     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1905120" y="1905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095880" y="1905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5715000" y="289548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     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 i        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      r    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9438C03-2B34-49E6-B920-E07B78C274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opulations and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entire collection of things under consideration and referred to as th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pling unit is each object or individual in the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ame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ummary measure computed to describe a characteristic of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bset of the population selected f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ti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ummary measure computed to describe a characteristic of the sample drawn from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Dr. Mohammed Alahmed</cp:lastModifiedBy>
  <cp:lastPrinted>1998-11-22T23:37:53Z</cp:lastPrinted>
  <dcterms:modified xsi:type="dcterms:W3CDTF">2017-09-26T12:24:24Z</dcterms:modified>
  <cp:revision>84</cp:revision>
  <dc:subject>Chapter 1</dc:subject>
  <dc:title>Business Statistics: A Decision-Making Approach, 7th edition</dc:title>
</cp:coreProperties>
</file>