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6BA22-531C-4F9F-B1FA-9238F3FF3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5AA8-7964-4EED-B484-41C90ECAA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DBF0-88C5-45D1-876A-474FDDC0A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A5D3-98CD-4D84-92B9-488A79A5F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CE369-340C-4B64-958B-B4AEB3F91B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0F649-A3A8-4003-8BB6-04F06CFB8E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361DC-553D-476F-A56E-37CC6F8603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DDDEA-8376-4429-A919-D30C88FACD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783BF-0E54-4705-80DA-F18308192A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7272B-2814-4311-8068-2EFCB5172C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421B4-C94E-4943-B406-2AEFC71E8B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99BC-5DDB-469E-8EE4-EA86F94AA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496EA-48C6-4A24-B932-6943244897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E45F6-2098-4E8C-AD4A-A7C4DD03E3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A9DD9-8563-4F1F-9FDF-2B2579994E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63E1F-034A-4B9C-A4F2-F11E220A67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15D8B-273C-4F1A-9B14-8B75C7BB22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97F1-E064-4B71-B88D-658B63A1F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59D5-5017-4CEA-A59C-B700C0955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DA9A-8949-4FE8-9645-6F9DB5C22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7D77-AC08-48DB-89F5-4D0919C8C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EF8ED-6255-4C2C-A27D-87B8B0F61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FEEE-726D-4DB6-845E-0D3170619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9F28-9F78-4CB6-AC83-032845010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A58DFD54-DAB3-421B-A4D7-210A3D7625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00992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3FFD9DB-5EFB-400C-9ECD-ED26211D0C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earner.org/resources/series65.html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tattrek.com/videos/ap/lessons/variables/1a/types-of-variables.aspx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tattrek.com/videos/ap/lessons/regression/3a/ap-3a.aspx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arner.org/resources/series65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010280" y="653724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07A7801-EB72-4CB7-B580-D513125BE9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here, Why, and How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7A95B15-4FBE-44FD-858C-C93F832CD8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Why Sample?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time consu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cos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dminister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obtain statistical results of a sufficientl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 pr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4876920"/>
            <a:ext cx="80010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trive for representative samples to reflect the population of interest accurate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D20E2CD-A482-4C28-92B6-A70BC058DC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441972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4"/>
          <p:cNvSpPr/>
          <p:nvPr/>
        </p:nvSpPr>
        <p:spPr>
          <a:xfrm>
            <a:off x="8381880" y="3733920"/>
            <a:ext cx="0" cy="153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6172200" y="37339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Techniqu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11430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162920" y="373392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541008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743200" y="38862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80880" y="4419720"/>
            <a:ext cx="1979640" cy="453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666880" y="1828800"/>
            <a:ext cx="358164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ampl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905120" y="28195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190512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09480" y="3429000"/>
            <a:ext cx="37339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nstatistical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057400" y="5105520"/>
            <a:ext cx="182880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731520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5181480" y="3429000"/>
            <a:ext cx="342900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tistical Samp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4495680" y="4343400"/>
            <a:ext cx="1524240" cy="75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6400800" y="4419720"/>
            <a:ext cx="182880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5486400" y="5486400"/>
            <a:ext cx="15238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3"/>
          <p:cNvSpPr/>
          <p:nvPr/>
        </p:nvSpPr>
        <p:spPr>
          <a:xfrm>
            <a:off x="7620120" y="5257800"/>
            <a:ext cx="12952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940C673-AD82-4429-B807-03E7B4B01A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Nonstatistical Sampling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ed in the most convenient manner for the resea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judgments about who in the population would be most likely to provide the need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D7C7353-6301-4D2B-8C7D-E596405733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tistical Sampling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of the sample are chosen based on known or calculable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160020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8001000" y="4343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4876920" y="4038480"/>
            <a:ext cx="0" cy="30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600200" y="4343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819520" y="3048120"/>
            <a:ext cx="3886200" cy="995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tistical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robability Samp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6095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5181480" y="4800600"/>
            <a:ext cx="167652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3809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0400" y="4800600"/>
            <a:ext cx="144792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7391520" y="4800600"/>
            <a:ext cx="12189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609480" y="4800600"/>
            <a:ext cx="221004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A226428-ED99-433B-9922-A8D8C48531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imple Random Sampling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ossible sample of a given size has a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qual ch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eing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may be with replacement or withou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can be obtained using a table of random numbers or computer random numb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4"/>
          <p:cNvGraphicFramePr/>
          <p:nvPr/>
        </p:nvGraphicFramePr>
        <p:xfrm>
          <a:off x="4952880" y="5181480"/>
          <a:ext cx="19814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5181480"/>
                    <a:ext cx="1981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3BC9391-A1CA-439E-92A3-4460562EDE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marL="343080"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ratified Random Sampling</a:t>
            </a:r>
            <a:br>
              <a:rPr sz="41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Please Watch Video Clip #14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Samples and Survey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 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population into subgroups (called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str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ccording to some common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gender, incom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simple random sample from each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amples from subgroups into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8305920" y="4952880"/>
            <a:ext cx="759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4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3657600" cy="216684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4"/>
          <p:cNvSpPr/>
          <p:nvPr/>
        </p:nvSpPr>
        <p:spPr>
          <a:xfrm>
            <a:off x="6248520" y="5181480"/>
            <a:ext cx="900000" cy="304920"/>
          </a:xfrm>
          <a:prstGeom prst="rightArrow">
            <a:avLst>
              <a:gd name="adj1" fmla="val 50000"/>
              <a:gd name="adj2" fmla="val 746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457200" y="4800600"/>
            <a:ext cx="1447920" cy="121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i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t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tr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7162920" y="6095880"/>
            <a:ext cx="13716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Sam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 flipV="1">
            <a:off x="1905120" y="480024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1"/>
          <p:cNvSpPr/>
          <p:nvPr/>
        </p:nvSpPr>
        <p:spPr>
          <a:xfrm flipV="1">
            <a:off x="1905120" y="51814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2"/>
          <p:cNvSpPr/>
          <p:nvPr/>
        </p:nvSpPr>
        <p:spPr>
          <a:xfrm>
            <a:off x="1905120" y="5410080"/>
            <a:ext cx="8380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1905120" y="5638680"/>
            <a:ext cx="7617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4" descr=""/>
          <p:cNvPicPr/>
          <p:nvPr/>
        </p:nvPicPr>
        <p:blipFill>
          <a:blip r:embed="rId3"/>
          <a:stretch/>
        </p:blipFill>
        <p:spPr>
          <a:xfrm>
            <a:off x="7162920" y="4724280"/>
            <a:ext cx="9525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4948696-0193-4435-B342-FD6A4105BB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sample siz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ordered (e.g., alphabetical) frame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 into groups of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: 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elect one individual from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every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 there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ystematic Random Sampling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5270400" y="4727520"/>
            <a:ext cx="3187800" cy="167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6"/>
          <p:cNvGraphicFramePr/>
          <p:nvPr/>
        </p:nvGraphicFramePr>
        <p:xfrm>
          <a:off x="7086600" y="3581280"/>
          <a:ext cx="20574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581280"/>
                    <a:ext cx="2057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Picture 7" descr="pop-sam"/>
          <p:cNvPicPr/>
          <p:nvPr/>
        </p:nvPicPr>
        <p:blipFill>
          <a:blip r:embed="rId3"/>
          <a:stretch/>
        </p:blipFill>
        <p:spPr>
          <a:xfrm>
            <a:off x="5410080" y="4800600"/>
            <a:ext cx="2900520" cy="1522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8"/>
          <p:cNvSpPr/>
          <p:nvPr/>
        </p:nvSpPr>
        <p:spPr>
          <a:xfrm>
            <a:off x="2362320" y="4876920"/>
            <a:ext cx="1131840" cy="156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 =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k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565440" y="5533920"/>
            <a:ext cx="1798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"/>
          <p:cNvSpPr/>
          <p:nvPr/>
        </p:nvSpPr>
        <p:spPr>
          <a:xfrm flipH="1">
            <a:off x="6019560" y="4191120"/>
            <a:ext cx="152388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 flipV="1">
            <a:off x="4343400" y="5105520"/>
            <a:ext cx="1143000" cy="4572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815A873-B5AE-462A-9D43-DD72A308DC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uster Sampling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population into several “clusters,” each representative of the population (e.g., coun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simple random sample of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tems in the selected clusters can be used, or items can be chosen from a cluster using another probability sampl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28600" y="4952880"/>
            <a:ext cx="1981080" cy="118620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divided into 16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 flipV="1">
            <a:off x="4191120" y="5409720"/>
            <a:ext cx="304560" cy="3049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 flipV="1">
            <a:off x="4876920" y="5334120"/>
            <a:ext cx="0" cy="380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209680" y="5105520"/>
            <a:ext cx="53352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 flipV="1">
            <a:off x="6248520" y="5409720"/>
            <a:ext cx="457200" cy="2286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743200" y="4876920"/>
          <a:ext cx="6095880" cy="45072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450720"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tangle 49"/>
          <p:cNvSpPr/>
          <p:nvPr/>
        </p:nvSpPr>
        <p:spPr>
          <a:xfrm>
            <a:off x="4267080" y="5638680"/>
            <a:ext cx="2590920" cy="69876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ly selected clusters for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82C9DC4-8676-47BE-B49D-A92AF4E67C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ata Types</a:t>
            </a:r>
            <a:br>
              <a:rPr sz="41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Please see the Video Clip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Introduction to Variable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45" name="Organization Chart 37"/>
          <p:cNvGrpSpPr/>
          <p:nvPr/>
        </p:nvGrpSpPr>
        <p:grpSpPr>
          <a:xfrm>
            <a:off x="1981080" y="1673280"/>
            <a:ext cx="6019920" cy="3505320"/>
            <a:chOff x="1981080" y="1673280"/>
            <a:chExt cx="6019920" cy="3505320"/>
          </a:xfrm>
        </p:grpSpPr>
        <p:cxnSp>
          <p:nvCxnSpPr>
            <p:cNvPr id="246" name="_s1028"/>
            <p:cNvCxnSpPr>
              <a:stCxn id="247" idx="0"/>
              <a:endCxn id="248" idx="2"/>
            </p:cNvCxnSpPr>
            <p:nvPr/>
          </p:nvCxnSpPr>
          <p:spPr>
            <a:xfrm flipV="1" rot="16200000">
              <a:off x="6476760" y="3844080"/>
              <a:ext cx="381600" cy="10677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49" name="_s1029"/>
            <p:cNvCxnSpPr>
              <a:stCxn id="250" idx="0"/>
              <a:endCxn id="248" idx="2"/>
            </p:cNvCxnSpPr>
            <p:nvPr/>
          </p:nvCxnSpPr>
          <p:spPr>
            <a:xfrm flipH="1" flipV="1" rot="5400000">
              <a:off x="5471640" y="3906360"/>
              <a:ext cx="381600" cy="9435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51" name="_s1030"/>
            <p:cNvCxnSpPr>
              <a:stCxn id="248" idx="0"/>
              <a:endCxn id="252" idx="2"/>
            </p:cNvCxnSpPr>
            <p:nvPr/>
          </p:nvCxnSpPr>
          <p:spPr>
            <a:xfrm flipV="1" rot="16200000">
              <a:off x="5162760" y="2073600"/>
              <a:ext cx="418320" cy="152460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53" name="_s1031"/>
            <p:cNvCxnSpPr>
              <a:stCxn id="254" idx="0"/>
              <a:endCxn id="252" idx="2"/>
            </p:cNvCxnSpPr>
            <p:nvPr/>
          </p:nvCxnSpPr>
          <p:spPr>
            <a:xfrm flipH="1" flipV="1" rot="5400000">
              <a:off x="3588840" y="2023560"/>
              <a:ext cx="418320" cy="162468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252" name="_s1032"/>
            <p:cNvSpPr/>
            <p:nvPr/>
          </p:nvSpPr>
          <p:spPr>
            <a:xfrm>
              <a:off x="3657600" y="1673280"/>
              <a:ext cx="1905120" cy="954000"/>
            </a:xfrm>
            <a:prstGeom prst="rect">
              <a:avLst/>
            </a:prstGeom>
            <a:solidFill>
              <a:srgbClr val="fdd29f">
                <a:alpha val="50000"/>
              </a:srgbClr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33"/>
            <p:cNvSpPr/>
            <p:nvPr/>
          </p:nvSpPr>
          <p:spPr>
            <a:xfrm>
              <a:off x="1981080" y="3044880"/>
              <a:ext cx="2008440" cy="1143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alita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ategorica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34"/>
            <p:cNvSpPr/>
            <p:nvPr/>
          </p:nvSpPr>
          <p:spPr>
            <a:xfrm>
              <a:off x="5105520" y="3044880"/>
              <a:ext cx="2057400" cy="114300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74747"/>
                  </a:solidFill>
                  <a:latin typeface="Arial"/>
                </a:rPr>
                <a:t>Quantitativ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74747"/>
                  </a:solidFill>
                  <a:latin typeface="Arial"/>
                </a:rPr>
                <a:t>(Numerica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1035"/>
            <p:cNvSpPr/>
            <p:nvPr/>
          </p:nvSpPr>
          <p:spPr>
            <a:xfrm>
              <a:off x="4419720" y="4568760"/>
              <a:ext cx="154296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74747"/>
                  </a:solidFill>
                  <a:latin typeface="Arial"/>
                </a:rPr>
                <a:t>Discr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36"/>
            <p:cNvSpPr/>
            <p:nvPr/>
          </p:nvSpPr>
          <p:spPr>
            <a:xfrm>
              <a:off x="6400800" y="4568760"/>
              <a:ext cx="160020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74747"/>
                  </a:solidFill>
                  <a:latin typeface="Arial"/>
                </a:rPr>
                <a:t>Continuo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47"/>
          <p:cNvSpPr/>
          <p:nvPr/>
        </p:nvSpPr>
        <p:spPr>
          <a:xfrm>
            <a:off x="1371600" y="4267080"/>
            <a:ext cx="25146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rital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olitical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ye 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283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efined catego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8"/>
          <p:cNvSpPr/>
          <p:nvPr/>
        </p:nvSpPr>
        <p:spPr>
          <a:xfrm>
            <a:off x="4114800" y="5181480"/>
            <a:ext cx="22860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umber of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efects per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unted ite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9"/>
          <p:cNvSpPr/>
          <p:nvPr/>
        </p:nvSpPr>
        <p:spPr>
          <a:xfrm>
            <a:off x="6553080" y="5181480"/>
            <a:ext cx="2286000" cy="13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eas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474B5CE-71D3-496B-A283-5B5435D711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Seri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data values observed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oss Sec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alues observed at a single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47F8A08-61BF-47FE-A3E2-73545D0A21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key data coll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key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difference between descriptiv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tia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ifferent samp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d interpret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518FCC6-423C-4832-AC71-6B755B1551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90720" y="1981080"/>
          <a:ext cx="6400800" cy="297972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219320"/>
                <a:gridCol w="1219320"/>
                <a:gridCol w="114300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in $1000’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la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eve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n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Oval 79"/>
          <p:cNvSpPr/>
          <p:nvPr/>
        </p:nvSpPr>
        <p:spPr>
          <a:xfrm>
            <a:off x="609480" y="2895480"/>
            <a:ext cx="7010640" cy="6098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0"/>
          <p:cNvSpPr/>
          <p:nvPr/>
        </p:nvSpPr>
        <p:spPr>
          <a:xfrm>
            <a:off x="2666880" y="2133720"/>
            <a:ext cx="106704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1"/>
          <p:cNvSpPr/>
          <p:nvPr/>
        </p:nvSpPr>
        <p:spPr>
          <a:xfrm>
            <a:off x="7696080" y="2590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ime Serie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2"/>
          <p:cNvSpPr/>
          <p:nvPr/>
        </p:nvSpPr>
        <p:spPr>
          <a:xfrm>
            <a:off x="2133720" y="5334120"/>
            <a:ext cx="25905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 S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2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384F680-42B3-4EB7-A8F7-759E01BE82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ata Measurement Levels</a:t>
            </a:r>
            <a:br>
              <a:rPr sz="41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Please see the Video Clip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Scales of Measureme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743200" y="2057400"/>
            <a:ext cx="374652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895480" y="2133720"/>
            <a:ext cx="351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/Interv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2527200" y="3422520"/>
            <a:ext cx="409104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2644920" y="3494160"/>
            <a:ext cx="385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2362320" y="4870440"/>
            <a:ext cx="449568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2301840" y="4941720"/>
            <a:ext cx="454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6553080" y="198108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6705720" y="3352680"/>
            <a:ext cx="21333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leve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6858000" y="480060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0" y="4876920"/>
            <a:ext cx="24382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 Codes 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e.g., ID Numbers, gen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380880" y="3352680"/>
            <a:ext cx="22860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e.g., age range 25-3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533520" y="2133720"/>
            <a:ext cx="21333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e.g., tempera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5"/>
          <p:cNvSpPr/>
          <p:nvPr/>
        </p:nvSpPr>
        <p:spPr>
          <a:xfrm>
            <a:off x="4419720" y="403848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4419720" y="266688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181E3B4-B490-47AE-B08D-F91EA5A2B7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eps to Categorizing Data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each factor in the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the data are time-series or     cross-se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ich factors are quantitative and which are qual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level of data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272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nominal, ord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4"/>
          <p:cNvCxnSpPr/>
          <p:nvPr/>
        </p:nvCxnSpPr>
        <p:spPr>
          <a:xfrm flipV="1">
            <a:off x="5714640" y="6019200"/>
            <a:ext cx="1220040" cy="5338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pic>
        <p:nvPicPr>
          <p:cNvPr id="292" name="Picture 5" descr="MCj04418900000[1]"/>
          <p:cNvPicPr/>
          <p:nvPr/>
        </p:nvPicPr>
        <p:blipFill>
          <a:blip r:embed="rId1"/>
          <a:stretch/>
        </p:blipFill>
        <p:spPr>
          <a:xfrm>
            <a:off x="7696080" y="1905120"/>
            <a:ext cx="1171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4258674-2E00-466F-904C-BB4A93A55A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ata coll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key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ntitativ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escriptive vs. inferential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different sampl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data types and measurem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1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2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C073C70-3C54-44D1-AE7F-A60403140C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1828800" y="3486240"/>
            <a:ext cx="54864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828800" y="3486240"/>
            <a:ext cx="54864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copyright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8576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8"/>
          <p:cNvSpPr/>
          <p:nvPr/>
        </p:nvSpPr>
        <p:spPr>
          <a:xfrm>
            <a:off x="762120" y="4649400"/>
            <a:ext cx="838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l rights reserved. No part of this publication may be reproduced, stored in a retrieval system, or transmitted, in any form or by any means, electronic, mechanical, photocopying, recording, or otherwise, without the prior written permission of the publish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nted in the United States of Ame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0C59B34-1483-4A20-A051-1AC1E8827C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ve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, presenting, and describ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2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enti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conclusions and/or making decisions concerning a population based only on samp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rocedures of Statistic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5334120"/>
            <a:ext cx="8381880" cy="512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Goal:  Convert data into meaningful informati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106BDD9-E99B-460F-AB91-2B81E3D428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scriptive Procedur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lec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Survey, Observation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esen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Charts and grap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escribe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Sample mean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BD05590_[1]"/>
          <p:cNvPicPr/>
          <p:nvPr/>
        </p:nvPicPr>
        <p:blipFill>
          <a:blip r:embed="rId1"/>
          <a:stretch/>
        </p:blipFill>
        <p:spPr>
          <a:xfrm>
            <a:off x="6324480" y="1600200"/>
            <a:ext cx="1158840" cy="1295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BS01990_[1]"/>
          <p:cNvPicPr/>
          <p:nvPr/>
        </p:nvPicPr>
        <p:blipFill>
          <a:blip r:embed="rId2"/>
          <a:stretch/>
        </p:blipFill>
        <p:spPr>
          <a:xfrm>
            <a:off x="5867280" y="3581280"/>
            <a:ext cx="1600200" cy="125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Object 13"/>
              <p:cNvSpPr txBox="1"/>
              <p:nvPr/>
            </p:nvSpPr>
            <p:spPr>
              <a:xfrm>
                <a:off x="4952880" y="5257800"/>
                <a:ext cx="739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4C1051C-E213-4499-9AC3-DEC4BC422D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tatements about a population by examining samp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ample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opulation paramet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known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nknown, but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 estima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mple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819520" y="3809880"/>
          <a:ext cx="5486400" cy="25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09880"/>
                    <a:ext cx="5486400" cy="25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nferential Procedur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581280" y="2895480"/>
            <a:ext cx="9144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943600" y="3048120"/>
            <a:ext cx="2286000" cy="990360"/>
          </a:xfrm>
          <a:prstGeom prst="bracketPair">
            <a:avLst>
              <a:gd name="adj" fmla="val 171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6019920" y="3200400"/>
            <a:ext cx="2209680" cy="838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9C6EEB0-BC04-4178-8FF0-432636AAB1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chniques for Inferential Procedures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5791320" cy="4227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Estimate the population mean weight using the sample mean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Use sample evidence to test the claim that the population mean weight is 120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219320" y="1523880"/>
            <a:ext cx="7467480" cy="673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rawing conclusions and/or making decisions concerning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sed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3124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CC3CA64-9D0B-4D13-BD0F-82EAADB783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267080" y="2362320"/>
            <a:ext cx="0" cy="5331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9080" y="3808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rocedures for Collecting Data</a:t>
            </a:r>
            <a:br>
              <a:rPr sz="41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MKTG 300 course and Video Clip #14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Samples and Survey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4419720" y="2895480"/>
            <a:ext cx="0" cy="53352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7010280" y="2895480"/>
            <a:ext cx="0" cy="15242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52480" y="1828800"/>
            <a:ext cx="5105520" cy="575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Collection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1600200" y="2895480"/>
            <a:ext cx="541008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1600200" y="2895480"/>
            <a:ext cx="0" cy="5079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429000" y="3429000"/>
            <a:ext cx="2438280" cy="820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ritten 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2819520" y="2895480"/>
            <a:ext cx="0" cy="15242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228600" y="3429000"/>
            <a:ext cx="2057400" cy="454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752480" y="4425840"/>
            <a:ext cx="1752840" cy="820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elephone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5181480" y="4419720"/>
            <a:ext cx="3505320" cy="820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rect observation and personal inter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27"/>
          <p:cNvGraphicFramePr/>
          <p:nvPr/>
        </p:nvGraphicFramePr>
        <p:xfrm>
          <a:off x="4114800" y="4343400"/>
          <a:ext cx="83808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4343400"/>
                    <a:ext cx="838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30" descr="hh01196a[1]"/>
          <p:cNvPicPr/>
          <p:nvPr/>
        </p:nvPicPr>
        <p:blipFill>
          <a:blip r:embed="rId4"/>
          <a:stretch/>
        </p:blipFill>
        <p:spPr>
          <a:xfrm>
            <a:off x="7162920" y="5334120"/>
            <a:ext cx="761760" cy="579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6" descr="Picture5"/>
          <p:cNvPicPr/>
          <p:nvPr/>
        </p:nvPicPr>
        <p:blipFill>
          <a:blip r:embed="rId5"/>
          <a:stretch/>
        </p:blipFill>
        <p:spPr>
          <a:xfrm>
            <a:off x="152280" y="3886200"/>
            <a:ext cx="1063800" cy="115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j0290046"/>
          <p:cNvPicPr/>
          <p:nvPr/>
        </p:nvPicPr>
        <p:blipFill>
          <a:blip r:embed="rId6"/>
          <a:stretch/>
        </p:blipFill>
        <p:spPr>
          <a:xfrm>
            <a:off x="2057400" y="5340240"/>
            <a:ext cx="83808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F0916F6-AC54-440D-A021-0D1A79DA23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opulation vs. S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990720" y="2590920"/>
            <a:ext cx="3581280" cy="26668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4267080" y="2774880"/>
            <a:ext cx="450864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5638680" y="2895480"/>
            <a:ext cx="2286000" cy="213372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1371600" y="281952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b     c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   gh i  jk l   m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p q   rs  t  u v 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y     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1905120" y="1905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095880" y="1905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5715000" y="28954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    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 i       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      r    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C65345A-1456-498E-8721-B669C918A0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opulations and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entire collection of things under consideration and referred to as th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pling unit is each object or individual in th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bset of the population selected f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ti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sample drawn from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6T12:24:24Z</dcterms:modified>
  <cp:revision>84</cp:revision>
  <dc:subject>Chapter 1</dc:subject>
  <dc:title>Business Statistics: A Decision-Making Approach, 7th edition</dc:title>
</cp:coreProperties>
</file>