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1447-1A97-4733-ACF0-BCA4A62F4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1E71-2938-4536-BF1A-CF8BDBD62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0B70-3C70-4FF2-9D80-94C75E06F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29F2-0260-4D25-AB88-56D074CE1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61B4-FB09-4128-B26F-F8926B3094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8928B-AF28-4CC8-9D29-978F87607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18E3-9ECB-4C8B-9449-1D693DFB2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86044-0D07-4CA9-AA12-DF3961465F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9506-8F83-40AA-A866-3A90AA3D03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C1E09-1EDE-4662-8D70-A2A365152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60970-9357-4542-A444-CF1724A76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FFC5-B192-4930-A78A-323ED4D85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63C14-146C-4D7F-BC5C-7FCB30F74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F359-16BB-40D5-89C5-5DC46797E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9F5E1-854F-4D74-ACAA-AB0D054399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B7878-F9F9-4315-89EB-9A5E23FA3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A3080-6E7F-4AF7-A1AC-5897F99A2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B226-BFD4-41B7-814C-E34C18BFF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DA76-E0DE-4773-ADBC-5394477FA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9F1A-2E61-41B6-86C0-3CE152962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DDD3-9B8D-4C63-A1AB-04DA45C5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85BC-593D-4508-A2A1-E8FAEA1C0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BE2-27E0-41E4-911F-51DBA9F2B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A47B-E3B5-45C5-A1AC-E0E0DC21C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7D7A93B2-82C4-49FC-A2D7-F59D06A055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6F3C7397-C80A-45EB-A917-4FAD0DD7D7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0EDC0991-2391-4431-8208-462376913F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44F4E47C-D62C-446E-81CD-6CB3986382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BA53420-7E49-42FB-BC37-80B0F5E9F5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1300717D-5406-402E-88B7-65ECD90C9B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6" name="Organization Chart 37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2" name="_s1030"/>
            <p:cNvCxnSpPr>
              <a:stCxn id="169" idx="0"/>
              <a:endCxn id="173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3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73" name="_s1032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7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8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4F01F701-5030-40B6-889D-7B16B8AD2AC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23179BA2-BAC3-437A-B0F2-EB33215EA7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219320"/>
                <a:gridCol w="1219320"/>
                <a:gridCol w="1143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Oval 79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0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1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2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860A0CC3-928C-4B74-84AC-E84125E2A1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B82FEFA-1C65-4EEB-9564-2210BDBD2A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2D716C37-B803-43C2-97B9-C496AB89C9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5CECCA6C-1DE7-4926-8F87-36A30B2387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BD05590_[1]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BS01990_[1]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884EE4B2-682C-4D59-854F-6264D4D680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6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7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8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30" descr="hh01196a[1]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Picture5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C5B2F50D-9E07-4CA5-97F7-C269F26A1C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C6089038-DA22-4627-B008-58351FF860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B120C667-E994-43C7-BDAF-A614B0FFD1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3379B6E5-5940-49FB-A13E-888C45AD25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7-02-05T17:34:20Z</dcterms:modified>
  <cp:revision>62</cp:revision>
  <dc:subject>Chapter 1</dc:subject>
  <dc:title>Business Statistics: A Decision-Making Approach, 6th edition</dc:title>
</cp:coreProperties>
</file>