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8243-DBBD-468B-B48B-1C546A067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8AAD-5EB8-440B-9AFC-5C2EE06D3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C2BE-453D-4C79-83B0-459FDE1EC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AE6D-8D7A-4028-AFC3-67CD58F9D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C855C-5E6C-4A98-B9A9-EA85F54FC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1D602-1D34-46A7-8638-9D60AD01EB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7939D-BCEB-47B0-8FEA-7071A24A5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274D9-A2A2-477B-8678-C1EF00AF5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4174A-61F4-4C7B-BA6A-123821D7E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CCB46-AC5C-459A-8E96-67476CDFD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DF9B0-7492-4460-B162-989863DDD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DF95-0369-456F-B02B-6A1740207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09CC-2F5A-40B7-B3AD-7DC1460669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44FD-4369-45FA-95F5-51859C0DF3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32E3-A6B6-4448-AB7A-A415432AE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4BFB-2A29-4474-8DE6-B15A3DA0A3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2EDA-F277-4F93-94CE-3766011BA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9494-051E-4D40-B625-26C498F1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F5EE-7D2B-4F36-9CD8-D1D1E97DB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A705-BDCE-492E-B5EA-611D1F203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710E-DCE0-4C99-B06E-E9D6472A0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B291-AABC-4241-9E7C-7D5940262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E77A-2817-4589-A705-17AB52762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61B4-03CE-431F-BAD1-CEC8E0762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7A427E8-2C31-48BB-BCC8-AED380D3CB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234DDD13-FA9F-41C4-8E69-74B1E08057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77495F2-AB4B-459E-9C3D-652C074DF1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69E03CD9-EEEF-48B2-94E4-1AE8F9569B0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840C8BC-EEEA-49E2-9FCD-257CD7D18E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00D835A-A493-4B6C-9056-27FEFD17CF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6" name="Organization Chart 37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2" name="_s1030"/>
            <p:cNvCxnSpPr>
              <a:stCxn id="169" idx="0"/>
              <a:endCxn id="173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3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73" name="_s1032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7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8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723FA01-B0AB-456D-8BF1-2AFEF7EF3C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721B0A7D-F636-47B9-90A7-CBE73E9D52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219320"/>
                <a:gridCol w="1219320"/>
                <a:gridCol w="1143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Oval 79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0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1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2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DA55410-2742-4C88-ADBA-9CB109DEAB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D8B6E812-0776-442A-AEAB-9CA4959795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D44B8A80-5C75-4322-B788-8345CC78AC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59DC0D7C-9393-4DA9-A58C-00F64F3E91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D05590_[1]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BS01990_[1]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9F73F94C-A38B-4064-A740-193702A243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6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7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8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30" descr="hh01196a[1]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Picture5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B9EB5E92-6EDF-494B-B5B9-88C7D70EC1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24D40161-0549-44E8-A98F-04E85F06F3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EEA4AAA4-094E-4584-AC40-8CF76569B7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6C7D70A1-0546-4751-9358-C9D4B46A253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7-02-05T17:34:20Z</dcterms:modified>
  <cp:revision>62</cp:revision>
  <dc:subject>Chapter 1</dc:subject>
  <dc:title>Business Statistics: A Decision-Making Approach, 6th edition</dc:title>
</cp:coreProperties>
</file>