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545E1-174A-4488-8790-E1AE15D957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5664A-99AD-4E65-9EB9-B3ED61C450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F5C6F-04BC-40C9-A983-E2D8A9D1A3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FEE4F-FCE3-4694-ABC5-15DAB60B07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C6F0B-2E0C-4820-B8EF-4C15BF55BD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22A13A-34C6-4BE6-BEF8-2338785884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BB32D-66C3-48C5-8063-A0CF29FDA4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3EFF57-DA3B-42A0-B548-4684E4B96A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04072-7AEB-4B27-A184-D961AE3E42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611F5-3208-402D-8EA7-2AA08C79AA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2011CC-37A0-40BF-AAEE-F485607BD2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24882-9F70-48DD-9C31-229F12ABA0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F4EA71-D0F2-4763-BD2B-BEE0F8C48D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B436C-4EA2-4FDA-A05C-0A2A3B42C7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C6EE2-331C-4A21-ACCF-FCF8EEE1B6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FBE48-7114-4266-AAC4-E51691669D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A0997-3CFF-4D3B-9EC2-A7C4883CD6F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78A5-721F-4536-AB54-8EA2751878A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9BCE-0EB2-4E45-91FC-D26F306A009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F34F-7BB3-4E98-A4CA-34DFFA43453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2049-6090-496A-9625-342F8FA103B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0D48-6EAA-4578-8566-CE546B4A26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FDAF5-DADB-46A6-9269-07BE750A784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4E61-E5F2-424C-8FF2-CF389B5EC17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6B69-0CE6-4C10-8C07-9C0D4341E59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8A48-E97E-47F9-86C7-1EFA04ED495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6780-BC05-4EBC-9913-9AA109F1E30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AA64-AEA4-445A-B541-10CDF5A3F08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7D50-7121-40C5-A54D-A5C6DC02384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F3E3-DC43-46C1-8D3C-866D440EC2A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959B25-6E0E-4C1F-9113-77254AA94D1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7189B0-98AE-47E9-98AD-A1C9D3FEE2D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4BB02F-5BDC-486F-AB67-B46840C580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33057-0668-4E81-A783-C161883F882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E17DA5-BD0F-4000-AFA7-98C79BBAD93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D89AB5-1A32-4F36-815E-DE48B66EE56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BEF6ED-E9E1-43A1-9606-6D44E7D6AB4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B09D0F-F1B1-4187-81C8-997D9616E8A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F4686F-440B-471F-BF68-AF4A76FFF15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56D89E-8C63-4377-B8AC-1DCEEAEF132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62867E-F164-4493-A4F0-06F385125F5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908F40-39FA-40A9-BA6E-AAAA6CB7A2D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E363C4-4BD2-4875-B565-A4CD3E8B2A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24270-80C7-416D-A512-169BF3906B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8201B-D200-4405-844C-15516822DB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3E2D5-BF27-4ABE-A8C8-AB06C34108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0D7A2-3B59-4169-A0A4-7BE6117B7F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66D3D-64CA-4903-BEC0-77E07EA734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40044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2-</a:t>
            </a:r>
            <a:fld id="{8D1F9880-139B-4B8D-9136-65352D604B4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3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152280" y="640044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C19EAD70-A2D1-4CBE-88A7-407CE45E97F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3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7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8576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2-</a:t>
            </a:r>
            <a:fld id="{50C38997-8539-40A2-B4C1-F10996D191C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7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7"/>
          </p:nvPr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8"/>
          </p:nvPr>
        </p:nvSpPr>
        <p:spPr>
          <a:xfrm>
            <a:off x="68576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655EB084-14D7-45CA-B4D4-EA59C33397E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68580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2-</a:t>
            </a:r>
            <a:fld id="{7F7A8442-D7A6-4707-9F79-368CA033D31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Business Statistics: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A Decision-Making Approach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6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3200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hapter 1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Graphs, Charts, and Tables – Describing Your Da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26666E25-6BE5-484A-ADEF-E0EBB60745A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easonal Data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57200" y="1828800"/>
          <a:ext cx="2057400" cy="440676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</a:tblGrid>
              <a:tr h="3661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</a:tr>
              <a:tr h="40406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c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1" name="Object 121"/>
          <p:cNvGraphicFramePr/>
          <p:nvPr/>
        </p:nvGraphicFramePr>
        <p:xfrm>
          <a:off x="2895480" y="1752480"/>
          <a:ext cx="5896080" cy="369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2" name="Object 1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752480"/>
                    <a:ext cx="589608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534520" y="2819160"/>
            <a:ext cx="45720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27"/>
          <p:cNvSpPr/>
          <p:nvPr/>
        </p:nvSpPr>
        <p:spPr>
          <a:xfrm>
            <a:off x="8534520" y="4191120"/>
            <a:ext cx="457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2-</a:t>
            </a:r>
            <a:fld id="{272F2AF4-8E5B-481F-9897-EA35C065413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01064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ata in raw form are usually not easy to use for decision making -- Some type of organization is need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e4a8"/>
                </a:solidFill>
                <a:latin typeface="Symbol"/>
                <a:ea typeface="Symbol"/>
              </a:rPr>
              <a:t>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techniques reviewed in this chapter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ne Charts and Scatter Diagra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2-</a:t>
            </a:r>
            <a:fld id="{D253CABD-0022-4D21-8C67-C78A807803D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305920" cy="4532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05000"/>
              </a:lnSpc>
              <a:spcBef>
                <a:spcPts val="14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5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and interpret data in line charts and scatter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2-</a:t>
            </a:r>
            <a:fld id="{B4BF1929-D6C3-4E0D-9747-2B694D18523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2193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ine char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 values of one variable vs.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ime is traditionally shown on the horizontal ax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catter Diagra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 points for bivariate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ne variable is measured on the vertical axis and the other variable is measured on the horizontal ax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990720" y="228600"/>
            <a:ext cx="7792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Line Charts and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catter Diagram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2-</a:t>
            </a:r>
            <a:fld id="{72E5EE98-E2AB-4820-9AF3-E3B1EDB016E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Line Chart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1" name="Object 5"/>
          <p:cNvGraphicFramePr/>
          <p:nvPr/>
        </p:nvGraphicFramePr>
        <p:xfrm>
          <a:off x="1981080" y="1828800"/>
          <a:ext cx="6867720" cy="403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828800"/>
                    <a:ext cx="686772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304920" y="1828800"/>
          <a:ext cx="1600200" cy="4365720"/>
        </p:xfrm>
        <a:graphic>
          <a:graphicData uri="http://schemas.openxmlformats.org/drawingml/2006/table">
            <a:tbl>
              <a:tblPr/>
              <a:tblGrid>
                <a:gridCol w="799920"/>
                <a:gridCol w="800280"/>
              </a:tblGrid>
              <a:tr h="4665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2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lation 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462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60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2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60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2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60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2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2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5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56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5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2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60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2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2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5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56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5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2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2-</a:t>
            </a:r>
            <a:fld id="{E8DBB403-5A73-4D50-8955-320D2EA7167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catter Diagram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7" name="Object 4"/>
          <p:cNvGraphicFramePr/>
          <p:nvPr/>
        </p:nvGraphicFramePr>
        <p:xfrm>
          <a:off x="2057400" y="1752480"/>
          <a:ext cx="6934320" cy="449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752480"/>
                    <a:ext cx="693432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152280" y="2133720"/>
          <a:ext cx="1905120" cy="3597120"/>
        </p:xfrm>
        <a:graphic>
          <a:graphicData uri="http://schemas.openxmlformats.org/drawingml/2006/table">
            <a:tbl>
              <a:tblPr/>
              <a:tblGrid>
                <a:gridCol w="939960"/>
                <a:gridCol w="965160"/>
              </a:tblGrid>
              <a:tr h="5788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ume per 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st per 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62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62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2-</a:t>
            </a:r>
            <a:fld id="{0D5F461D-6890-41DA-8C0B-29848B8161D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ypes of Relationship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Object 6"/>
          <p:cNvGraphicFramePr/>
          <p:nvPr/>
        </p:nvGraphicFramePr>
        <p:xfrm>
          <a:off x="466560" y="2362320"/>
          <a:ext cx="844884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362320"/>
                    <a:ext cx="844884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Rectangle 7"/>
          <p:cNvSpPr/>
          <p:nvPr/>
        </p:nvSpPr>
        <p:spPr>
          <a:xfrm>
            <a:off x="1066680" y="5562720"/>
            <a:ext cx="3733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2-</a:t>
            </a:r>
            <a:fld id="{ADD6B2DE-1598-4129-B747-D3FD09A89F1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vilinear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1066680" y="5562720"/>
            <a:ext cx="3733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Object 6"/>
          <p:cNvGraphicFramePr/>
          <p:nvPr/>
        </p:nvGraphicFramePr>
        <p:xfrm>
          <a:off x="533520" y="2362320"/>
          <a:ext cx="844848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362320"/>
                    <a:ext cx="844848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ypes of Relationship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2-</a:t>
            </a:r>
            <a:fld id="{C21D1577-E276-4017-9707-B41A106E1B0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066680" y="5562720"/>
            <a:ext cx="3733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6"/>
          <p:cNvGraphicFramePr/>
          <p:nvPr/>
        </p:nvGraphicFramePr>
        <p:xfrm>
          <a:off x="457200" y="2362320"/>
          <a:ext cx="844884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44884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ypes of Relationship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8076960" cy="4114800"/>
          </a:xfrm>
          <a:prstGeom prst="rect">
            <a:avLst/>
          </a:prstGeom>
          <a:ln w="0">
            <a:noFill/>
          </a:ln>
        </p:spPr>
      </p:pic>
      <p:sp>
        <p:nvSpPr>
          <p:cNvPr id="21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2-</a:t>
            </a:r>
            <a:fld id="{DC2295E1-D106-4E8C-9EAA-AA54D67D3EC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cp:keywords/>
  <dc:language>en-US</dc:language>
  <cp:lastModifiedBy>user</cp:lastModifiedBy>
  <cp:lastPrinted>1998-11-22T23:37:53Z</cp:lastPrinted>
  <dcterms:modified xsi:type="dcterms:W3CDTF">2017-02-05T21:50:37Z</dcterms:modified>
  <cp:revision>64</cp:revision>
  <dc:subject>Chapter 2</dc:subject>
  <dc:title>Business Statistics: A Decision-Making Approach, 6th edition</dc:title>
</cp:coreProperties>
</file>