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89D2-AEA7-4041-81CD-200377AAD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91F6-3E64-4A93-9192-B5D4FC584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0AB3-113B-44D5-9E90-0E6BECD99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D778-940F-42DC-8209-8543D00BD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9F202-E909-4A59-B3CC-A2BA70DE9F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7E3C3-8D77-46C1-95EC-4F2A4F2AD6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7F76F-99CC-4669-A299-893E966EC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636A8-F202-448F-A64D-F5005C0775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F511B-5FCF-4696-BC8B-16822FA50C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59C2-3710-4ADA-8322-9F33FA235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BB0A8-D840-42E2-B59F-6D5864E07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E95B-614F-4BC8-BAB1-0CA77F04D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3D4F-6D42-4B78-B9FA-495D645E19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C82F8-D325-4D03-A3F5-392057ED74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79510-0375-4167-B068-C3106EACA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7B6A7-FC75-47FC-8BC5-22916B7CA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98350-E5F3-4523-9215-4F76A3B015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1FE3-9975-4BA9-B7C1-2764F74669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E551-F9F9-4DB8-B269-48B7B1DD0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75B3-AE4B-4D0F-8C93-37A038C061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E4D8-8EEB-4469-B2A5-F3FD68CC82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9A05-7DC2-401E-8497-09CA817CE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ED12-D418-4C92-8904-6348B3517C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07D2-785F-448A-ACC3-DF1167B67D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24C-C4A3-4EBE-87FB-426919B220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C299-AE07-49DC-AFCC-65A5861DC1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0D42-1B5E-4B56-88D9-E84CCFF298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A2D-03C0-41E5-A697-73A1723B58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6DE-2195-4541-AA96-EF569FC831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35B1-04A9-415C-8D63-EDD9D8557D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C6D71-2296-444C-AC45-52E8D80CED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CEA1D-11D0-4A13-B111-0364F29922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8F837-EA49-4F66-ABE9-E049EBF3C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EF8E-27C4-4F16-85C5-C0597F48E1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AEB40-283C-4CB7-B800-39D9F04AD8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800F9-0883-443D-8024-AADB7524B7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2E20B-C83B-4628-BEF9-7A2D7D0C71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DFE7F-1F05-45A3-9AF5-ED4B464E3C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02800-1D15-48B8-82A9-844ABB83BF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6C7B9-47E5-40A4-A90E-D2B9764D39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B814B-F91E-47C0-B4DE-F0FF09B0E0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C4EF6-6236-4DBC-8192-D2452292EC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10D60-A120-402A-AF5D-D2A53A34D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ED04-4A45-42E3-A7AE-826FA446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495A-9AF4-41C2-B447-67D4FAEF8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4053-7FA0-49CA-A54D-C8E16BBD7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6044-7361-437C-AF8F-FC0083CA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C5EC-8278-4E60-8F62-E1CFF24B2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C6BC7C21-C058-44ED-87A6-687ADDF88E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FC87735-7EA3-40A4-9B77-730BB9A1A2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CFEBB8BE-D9BF-402F-BA8C-21C9C5B58F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BD7C394-DEF1-4ED4-9DA0-19E8A67146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6D9E4D9B-7A84-474D-9629-8B979B96AA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92BC89E9-A20F-4D26-A9E2-AA53FB6CDE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ason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828800"/>
          <a:ext cx="2057400" cy="440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0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Object 121"/>
          <p:cNvGraphicFramePr/>
          <p:nvPr/>
        </p:nvGraphicFramePr>
        <p:xfrm>
          <a:off x="2895480" y="1752480"/>
          <a:ext cx="589608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58960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34520" y="281916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8534520" y="41911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E3BF552A-7E32-44E9-9C1A-9A526418F1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903F9905-F0CC-4A72-9793-3E7E44B6C8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F05062C5-BD6E-4299-AB20-5F88B179A8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814B83E7-A67F-488E-B76F-D7DED841B0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4920" y="1828800"/>
          <a:ext cx="1600200" cy="43657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F1D53B33-2E98-4E0E-84DA-1364935316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52280" y="2133720"/>
          <a:ext cx="1905120" cy="359712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788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55486BB4-E445-4801-A80E-89B2FB2DAE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7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F4DCBE11-FB59-4F33-B152-9EA2BD903E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02961447-B800-4CC5-851F-807D2201F7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769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EBD4F694-CEC4-4120-AB6B-B07CDB3F44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7-02-05T21:50:37Z</dcterms:modified>
  <cp:revision>64</cp:revision>
  <dc:subject>Chapter 2</dc:subject>
  <dc:title>Business Statistics: A Decision-Making Approach, 6th edition</dc:title>
</cp:coreProperties>
</file>