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11.jpeg" ContentType="image/jpeg"/>
  <Override PartName="/ppt/media/image17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53B4-5DE9-4A4B-BB66-2CA276BA5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6F8F-3B90-4415-AFD2-A658CB34D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E103-81A2-4CE3-93A9-55F6EF40B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4E98-58AD-4163-BEBF-58634953B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4AA31-0AD6-4D17-9F39-A3D6578C57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A563B-1B0D-492B-B080-F5C7EAA37B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67448-4E03-4790-9F72-3B603A7F6B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3D251-557B-4AA3-95F0-704FC182CC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BB438-68B6-46C4-9548-F196864C26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39171-1F4C-40AA-88D4-A9526738C8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6B40A-2F7B-41FE-A4D4-28614BCBB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2B7F-0FB3-4BE9-86A3-3A0BD6738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BD0A4-E7DF-470F-90EF-1DE271AAF6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0E340-36D5-43E6-B62D-62B11CC37C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F61E1-272C-45A9-B0D0-2B7E55EDE0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96AD0-F8C9-4045-9BE5-3FD01BDB9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17852-442A-40D5-9550-431BCDBAE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9545-8B34-4D24-92F7-9D346E595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EEE4-D926-4A73-B13F-6CCCC0DA5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C49D-F91A-47CF-B27B-8D81F5404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9465-F507-45CF-BE69-9774C5211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60AE-5056-4E2D-B96C-03603EBC3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276D-6889-42AC-8385-6AB116A93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6205-7703-420A-BC6F-A931AEC3E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81CF0583-A83B-481B-A396-262C38A1910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6D189547-7825-47B6-87B8-068EB4116D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Where, Why, and Ho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34DDD-F599-4E69-84D4-66DD58FA4F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vs. S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DF4E-3147-4862-8695-E7E82EAE24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y Sample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time consu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cos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obtain statistical results of a sufficientl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8208-293C-486E-B512-EAA0363F83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197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3733920"/>
            <a:ext cx="0" cy="15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7339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ampling Techniq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37339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114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334120"/>
            <a:ext cx="1979640" cy="453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828800"/>
            <a:ext cx="16002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8195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429000"/>
            <a:ext cx="3124440" cy="673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n-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648320"/>
            <a:ext cx="182880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819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352680"/>
            <a:ext cx="335304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343400"/>
            <a:ext cx="1524240" cy="75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4419720"/>
            <a:ext cx="18288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486400"/>
            <a:ext cx="15238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257800"/>
            <a:ext cx="12952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C70C-839F-4AE9-AD88-A089B7977C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tistical Sampl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f the sample are chosen based on known or calculable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581280"/>
            <a:ext cx="0" cy="75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343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3048120"/>
            <a:ext cx="3657600" cy="515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00600"/>
            <a:ext cx="1371600" cy="73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4800600"/>
            <a:ext cx="167652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4800600"/>
            <a:ext cx="14475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4800600"/>
            <a:ext cx="12189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1E7B-3FFA-4679-9560-6B1AD6C022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mple Random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dividual or item from the population has 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qual ch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eing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may be with replacement or 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can be obtained from a table of random numbers or computer random number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952880" y="5181480"/>
          <a:ext cx="19814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181480"/>
                    <a:ext cx="1981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60D1-832D-495F-B848-79A25E706F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7086600" y="3225960"/>
          <a:ext cx="18032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225960"/>
                    <a:ext cx="18032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ratifie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divided into subgroups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cording to some common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e selected from each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from subgroups are combined int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4952880"/>
            <a:ext cx="75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657600" cy="2166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248520" y="5181480"/>
            <a:ext cx="900000" cy="304920"/>
          </a:xfrm>
          <a:prstGeom prst="rightArrow">
            <a:avLst>
              <a:gd name="adj1" fmla="val 50000"/>
              <a:gd name="adj2" fmla="val 746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800600"/>
            <a:ext cx="1447920" cy="121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Divi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nto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t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6095880"/>
            <a:ext cx="10666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Tahoma"/>
              </a:rPr>
              <a:t>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5120" y="480024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05120" y="51814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4100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638680"/>
            <a:ext cx="7617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162920" y="4724280"/>
            <a:ext cx="95256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1936-39FF-416A-ACF0-9E82F6E3A9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sample siz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frame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 into groups of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: 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 one individual from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ever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there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ystematic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270400" y="4727520"/>
            <a:ext cx="3187800" cy="167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48120" y="3581280"/>
          <a:ext cx="2057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581280"/>
                    <a:ext cx="2057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410080" y="4800600"/>
            <a:ext cx="2900520" cy="1522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362320" y="4876920"/>
            <a:ext cx="1131840" cy="156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65440" y="5533920"/>
            <a:ext cx="179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191120"/>
            <a:ext cx="144756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5105160"/>
            <a:ext cx="990720" cy="5331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69B5-036A-4F77-8300-C5F596B1CD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uster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divided into several “clusters,” each representative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random sample of clusters i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tems in the selected clusters can be used, or items can be chosen from a cluster using another probability sampl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81480" y="4038480"/>
          <a:ext cx="16099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038480"/>
                    <a:ext cx="16099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8600" y="4952880"/>
            <a:ext cx="1981080" cy="118620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divided into 16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191120" y="5409720"/>
            <a:ext cx="304560" cy="3049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76920" y="5334120"/>
            <a:ext cx="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105520"/>
            <a:ext cx="53352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248520" y="5409720"/>
            <a:ext cx="457200" cy="228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43200" y="4876920"/>
          <a:ext cx="6095880" cy="46512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46512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4267080" y="5638680"/>
            <a:ext cx="2590920" cy="6987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ly selected clusters for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9295-6200-41A0-9B0D-BFB7A67BFD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Key Defini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ntire collection of things und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rtion of the population selected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F952-4D10-4AC9-A740-20F28B5978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tatements about a population by examining samp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ample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opulation parame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known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unknown, bu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estima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v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14600" y="3733920"/>
          <a:ext cx="54864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733920"/>
                    <a:ext cx="54864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2895480"/>
            <a:ext cx="9144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8A14-A11B-4903-807B-FCBCDC926D8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descrip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samp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B445-44E1-4684-BDD9-FCAB9CCD6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791320" cy="4227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Estimate the population mean weight using the sample mea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Use sample evidence to test the claim that the population mean weight is 120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523880"/>
            <a:ext cx="7467480" cy="673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FE0D-C7D2-43C1-9E83-89A595CDAD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81080" y="1673280"/>
            <a:ext cx="6019920" cy="3505320"/>
            <a:chOff x="1981080" y="1673280"/>
            <a:chExt cx="6019920" cy="3505320"/>
          </a:xfrm>
        </p:grpSpPr>
        <p:cxnSp>
          <p:nvCxnSpPr>
            <p:cNvPr id="226" name="_s137262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6476760" y="3844080"/>
              <a:ext cx="381600" cy="10677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9" name="_s137260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547164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1" name="_s137258"/>
            <p:cNvCxnSpPr>
              <a:stCxn id="228" idx="0"/>
              <a:endCxn id="232" idx="2"/>
            </p:cNvCxnSpPr>
            <p:nvPr/>
          </p:nvCxnSpPr>
          <p:spPr>
            <a:xfrm flipV="1" rot="16200000">
              <a:off x="5162760" y="2073600"/>
              <a:ext cx="418320" cy="152460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3" name="_s137256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3588840" y="2023560"/>
              <a:ext cx="418320" cy="162468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32" name="_s137254"/>
            <p:cNvSpPr/>
            <p:nvPr/>
          </p:nvSpPr>
          <p:spPr>
            <a:xfrm>
              <a:off x="3657600" y="1673280"/>
              <a:ext cx="1905120" cy="954000"/>
            </a:xfrm>
            <a:prstGeom prst="rect">
              <a:avLst/>
            </a:prstGeom>
            <a:solidFill>
              <a:srgbClr val="fdd29f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137255"/>
            <p:cNvSpPr/>
            <p:nvPr/>
          </p:nvSpPr>
          <p:spPr>
            <a:xfrm>
              <a:off x="1981080" y="3044880"/>
              <a:ext cx="2008440" cy="1143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lit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atego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_s137257"/>
            <p:cNvSpPr/>
            <p:nvPr/>
          </p:nvSpPr>
          <p:spPr>
            <a:xfrm>
              <a:off x="5105520" y="3044880"/>
              <a:ext cx="2057400" cy="114300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Quantitati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(Nume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_s137259"/>
            <p:cNvSpPr/>
            <p:nvPr/>
          </p:nvSpPr>
          <p:spPr>
            <a:xfrm>
              <a:off x="4419720" y="4568760"/>
              <a:ext cx="154296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_s137261"/>
            <p:cNvSpPr/>
            <p:nvPr/>
          </p:nvSpPr>
          <p:spPr>
            <a:xfrm>
              <a:off x="6400800" y="4568760"/>
              <a:ext cx="160020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37160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5181480"/>
            <a:ext cx="22860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 characterist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8CCB-8935-4677-9072-CA88290915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ata values observ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ss Sec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observed at a fixed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D9C2-7BEE-4A8E-A73F-719569F0A1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90720" y="1981080"/>
          <a:ext cx="6400800" cy="297972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219320"/>
                <a:gridCol w="1218960"/>
                <a:gridCol w="11430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in $1000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la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ev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n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609480" y="2895480"/>
            <a:ext cx="7010640" cy="6098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2133720"/>
            <a:ext cx="10670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ime Seri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5334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oss Se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4DD0-E5A6-404B-94C8-A144233BC6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Measurement Leve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057400"/>
            <a:ext cx="374652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133720"/>
            <a:ext cx="35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/Interv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27200" y="3422520"/>
            <a:ext cx="409104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4920" y="3494160"/>
            <a:ext cx="385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4870440"/>
            <a:ext cx="449568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01840" y="4941720"/>
            <a:ext cx="454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198108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3352680"/>
            <a:ext cx="2133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leve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480060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724280"/>
            <a:ext cx="2133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Codes ID Numbers                 Category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352680"/>
            <a:ext cx="228600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13372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40384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ata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different sampl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ata types and measurem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7A0C-DB28-46C6-BC45-0B8577F2F4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, presenting, and describ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ools of Business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8B08-EA07-4AE9-A839-B57B00A694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urvey, Observatio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Chart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aracteriz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ample mean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16002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2880" y="5257800"/>
                <a:ext cx="739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0A1B-FE64-4367-80BC-2FD9BCA7B5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Sour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276720"/>
            <a:ext cx="0" cy="60948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2590920"/>
            <a:ext cx="0" cy="5461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752480"/>
            <a:ext cx="2819520" cy="91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752480"/>
            <a:ext cx="2743200" cy="87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698920"/>
            <a:ext cx="0" cy="57780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3440" y="3276720"/>
            <a:ext cx="275256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276720"/>
            <a:ext cx="0" cy="5079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09880"/>
            <a:ext cx="236196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276720"/>
            <a:ext cx="0" cy="19047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181480"/>
            <a:ext cx="32767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886200"/>
            <a:ext cx="14479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124080"/>
            <a:ext cx="381024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int or Electron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1680" y="3733920"/>
          <a:ext cx="1752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733920"/>
                    <a:ext cx="1752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52880" y="4267080"/>
          <a:ext cx="8384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670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72400" y="4419720"/>
          <a:ext cx="9907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419720"/>
                    <a:ext cx="990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52280" y="3200400"/>
            <a:ext cx="762120" cy="579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505320" y="4876920"/>
            <a:ext cx="1063440" cy="115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A0F8-E61D-4214-893C-EBEDCF420D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urpose and objectives of the surv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opulation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surv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questions clear and unamb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niversally-accepte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number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0FD3-5831-4113-83BC-0A5A3D52C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 with a small group o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larity and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ample size and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ample and administer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DADD-6939-4BBF-B10C-C80942601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Ques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from a short list of defin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jor:   __bu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liberal ar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o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s are free to respond with any value, words, or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did you like best about this cou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about the respondents’ person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 __Female   __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438280"/>
            <a:ext cx="6934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191120"/>
            <a:ext cx="7010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791320"/>
            <a:ext cx="6934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5AB2-196B-4B1A-849C-25D7C19702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all items or individual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ikely voters in the next election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rts produc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ales receipts for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t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voters selected at random for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parts selected for destructiv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pt selected for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s an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19520"/>
            <a:ext cx="7848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724280"/>
            <a:ext cx="7848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B9AD-7998-4A69-B99C-E10C5907D7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2:19Z</dcterms:modified>
  <cp:revision>60</cp:revision>
  <dc:subject>Chapter 1</dc:subject>
  <dc:title>Business Statistics: A Decision-Making Approach, 6th edition</dc:title>
</cp:coreProperties>
</file>